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2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988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4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2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988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2320" y="210600"/>
            <a:ext cx="6834240" cy="28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6556320"/>
            <a:ext cx="776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ctr" pos="36576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NP WG1/14 W1WP140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- </a:t>
            </a:r>
            <a:fld id="{F766165D-65AC-40B0-B40C-092979BDC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27 January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480" y="14400"/>
            <a:ext cx="9077040" cy="6824520"/>
            <a:chOff x="6480" y="14400"/>
            <a:chExt cx="9077040" cy="6824520"/>
          </a:xfrm>
        </p:grpSpPr>
        <p:grpSp>
          <p:nvGrpSpPr>
            <p:cNvPr id="4" name=""/>
            <p:cNvGrpSpPr/>
            <p:nvPr/>
          </p:nvGrpSpPr>
          <p:grpSpPr>
            <a:xfrm>
              <a:off x="6480" y="14400"/>
              <a:ext cx="661680" cy="6824520"/>
              <a:chOff x="6480" y="14400"/>
              <a:chExt cx="661680" cy="68245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6480" y="3427560"/>
                <a:ext cx="661680" cy="1699920"/>
                <a:chOff x="6480" y="3427560"/>
                <a:chExt cx="661680" cy="1699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6480" y="3427560"/>
                  <a:ext cx="661680" cy="841320"/>
                  <a:chOff x="6480" y="3427560"/>
                  <a:chExt cx="661680" cy="841320"/>
                </a:xfrm>
              </p:grpSpPr>
              <p:sp>
                <p:nvSpPr>
                  <p:cNvPr id="7" name=""/>
                  <p:cNvSpPr/>
                  <p:nvPr/>
                </p:nvSpPr>
                <p:spPr>
                  <a:xfrm>
                    <a:off x="7920" y="38559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6480" y="39639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20" y="40705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480" y="41781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920" y="34275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6480" y="35352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920" y="36417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480" y="37497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" name=""/>
                <p:cNvGrpSpPr/>
                <p:nvPr/>
              </p:nvGrpSpPr>
              <p:grpSpPr>
                <a:xfrm>
                  <a:off x="6480" y="4286160"/>
                  <a:ext cx="661680" cy="841320"/>
                  <a:chOff x="6480" y="4286160"/>
                  <a:chExt cx="661680" cy="8413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>
                    <a:off x="7920" y="47131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6480" y="48229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7920" y="49276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6480" y="50371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920" y="42861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480" y="439416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920" y="44989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480" y="46083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" name=""/>
              <p:cNvGrpSpPr/>
              <p:nvPr/>
            </p:nvGrpSpPr>
            <p:grpSpPr>
              <a:xfrm>
                <a:off x="6480" y="5141880"/>
                <a:ext cx="661680" cy="843120"/>
                <a:chOff x="6480" y="5141880"/>
                <a:chExt cx="661680" cy="843120"/>
              </a:xfrm>
            </p:grpSpPr>
            <p:sp>
              <p:nvSpPr>
                <p:cNvPr id="25" name=""/>
                <p:cNvSpPr/>
                <p:nvPr/>
              </p:nvSpPr>
              <p:spPr>
                <a:xfrm>
                  <a:off x="7920" y="55706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6480" y="567864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920" y="57848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480" y="58928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920" y="514188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480" y="52498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920" y="535608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6480" y="54640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6480" y="5997600"/>
                <a:ext cx="661680" cy="841320"/>
                <a:chOff x="6480" y="5997600"/>
                <a:chExt cx="661680" cy="8413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20" y="64245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6480" y="653400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920" y="66387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6480" y="674856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7920" y="5997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480" y="61056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920" y="621036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480" y="63198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6480" y="14400"/>
                <a:ext cx="661680" cy="1697040"/>
                <a:chOff x="6480" y="14400"/>
                <a:chExt cx="661680" cy="1697040"/>
              </a:xfrm>
            </p:grpSpPr>
            <p:grpSp>
              <p:nvGrpSpPr>
                <p:cNvPr id="43" name=""/>
                <p:cNvGrpSpPr/>
                <p:nvPr/>
              </p:nvGrpSpPr>
              <p:grpSpPr>
                <a:xfrm>
                  <a:off x="6480" y="14400"/>
                  <a:ext cx="661680" cy="841320"/>
                  <a:chOff x="6480" y="14400"/>
                  <a:chExt cx="661680" cy="84132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7920" y="4428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6480" y="5508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7920" y="6573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480" y="76500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7920" y="144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80" y="122400"/>
                    <a:ext cx="660240" cy="9180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7920" y="2286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6480" y="3366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480" y="870120"/>
                  <a:ext cx="661680" cy="841320"/>
                  <a:chOff x="6480" y="870120"/>
                  <a:chExt cx="661680" cy="84132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920" y="12970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6480" y="14065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7920" y="151128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480" y="162072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920" y="8701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480" y="9777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7920" y="10825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480" y="11923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6480" y="1722600"/>
                <a:ext cx="661680" cy="842760"/>
                <a:chOff x="6480" y="1722600"/>
                <a:chExt cx="661680" cy="8427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7920" y="21510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480" y="22590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920" y="236520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480" y="24732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20" y="1722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480" y="18302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920" y="19368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480" y="204480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6480" y="2577960"/>
                <a:ext cx="661680" cy="841680"/>
                <a:chOff x="6480" y="2577960"/>
                <a:chExt cx="661680" cy="8416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920" y="300528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480" y="31147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920" y="321948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480" y="332892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920" y="257796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480" y="268596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920" y="279072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80" y="29005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7483320" y="647640"/>
              <a:ext cx="1600200" cy="395280"/>
              <a:chOff x="7483320" y="647640"/>
              <a:chExt cx="1600200" cy="3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7553160" y="647640"/>
                <a:ext cx="1530360" cy="395280"/>
              </a:xfrm>
              <a:custGeom>
                <a:avLst/>
                <a:gdLst/>
                <a:ahLst/>
                <a:rect l="l" t="t" r="r" b="b"/>
                <a:pathLst>
                  <a:path w="964" h="249">
                    <a:moveTo>
                      <a:pt x="0" y="41"/>
                    </a:moveTo>
                    <a:lnTo>
                      <a:pt x="37" y="30"/>
                    </a:lnTo>
                    <a:lnTo>
                      <a:pt x="187" y="135"/>
                    </a:lnTo>
                    <a:lnTo>
                      <a:pt x="197" y="141"/>
                    </a:lnTo>
                    <a:lnTo>
                      <a:pt x="206" y="144"/>
                    </a:lnTo>
                    <a:lnTo>
                      <a:pt x="212" y="144"/>
                    </a:lnTo>
                    <a:lnTo>
                      <a:pt x="218" y="144"/>
                    </a:lnTo>
                    <a:lnTo>
                      <a:pt x="225" y="144"/>
                    </a:lnTo>
                    <a:lnTo>
                      <a:pt x="242" y="140"/>
                    </a:lnTo>
                    <a:lnTo>
                      <a:pt x="766" y="15"/>
                    </a:lnTo>
                    <a:lnTo>
                      <a:pt x="793" y="10"/>
                    </a:lnTo>
                    <a:lnTo>
                      <a:pt x="817" y="5"/>
                    </a:lnTo>
                    <a:lnTo>
                      <a:pt x="832" y="3"/>
                    </a:lnTo>
                    <a:lnTo>
                      <a:pt x="853" y="2"/>
                    </a:lnTo>
                    <a:lnTo>
                      <a:pt x="870" y="0"/>
                    </a:lnTo>
                    <a:lnTo>
                      <a:pt x="886" y="2"/>
                    </a:lnTo>
                    <a:lnTo>
                      <a:pt x="909" y="5"/>
                    </a:lnTo>
                    <a:lnTo>
                      <a:pt x="925" y="9"/>
                    </a:lnTo>
                    <a:lnTo>
                      <a:pt x="939" y="16"/>
                    </a:lnTo>
                    <a:lnTo>
                      <a:pt x="955" y="24"/>
                    </a:lnTo>
                    <a:lnTo>
                      <a:pt x="963" y="40"/>
                    </a:lnTo>
                    <a:lnTo>
                      <a:pt x="958" y="54"/>
                    </a:lnTo>
                    <a:lnTo>
                      <a:pt x="948" y="65"/>
                    </a:lnTo>
                    <a:lnTo>
                      <a:pt x="935" y="75"/>
                    </a:lnTo>
                    <a:lnTo>
                      <a:pt x="912" y="88"/>
                    </a:lnTo>
                    <a:lnTo>
                      <a:pt x="883" y="100"/>
                    </a:lnTo>
                    <a:lnTo>
                      <a:pt x="866" y="107"/>
                    </a:lnTo>
                    <a:lnTo>
                      <a:pt x="847" y="113"/>
                    </a:lnTo>
                    <a:lnTo>
                      <a:pt x="812" y="121"/>
                    </a:lnTo>
                    <a:lnTo>
                      <a:pt x="763" y="132"/>
                    </a:lnTo>
                    <a:lnTo>
                      <a:pt x="352" y="225"/>
                    </a:lnTo>
                    <a:lnTo>
                      <a:pt x="310" y="233"/>
                    </a:lnTo>
                    <a:lnTo>
                      <a:pt x="282" y="238"/>
                    </a:lnTo>
                    <a:lnTo>
                      <a:pt x="201" y="245"/>
                    </a:lnTo>
                    <a:lnTo>
                      <a:pt x="138" y="248"/>
                    </a:lnTo>
                    <a:lnTo>
                      <a:pt x="71" y="246"/>
                    </a:lnTo>
                    <a:lnTo>
                      <a:pt x="51" y="240"/>
                    </a:lnTo>
                    <a:lnTo>
                      <a:pt x="56" y="237"/>
                    </a:lnTo>
                    <a:lnTo>
                      <a:pt x="53" y="234"/>
                    </a:lnTo>
                    <a:lnTo>
                      <a:pt x="49" y="234"/>
                    </a:lnTo>
                    <a:lnTo>
                      <a:pt x="45" y="230"/>
                    </a:lnTo>
                    <a:lnTo>
                      <a:pt x="45" y="227"/>
                    </a:lnTo>
                    <a:lnTo>
                      <a:pt x="48" y="223"/>
                    </a:lnTo>
                    <a:lnTo>
                      <a:pt x="53" y="218"/>
                    </a:lnTo>
                    <a:lnTo>
                      <a:pt x="66" y="208"/>
                    </a:lnTo>
                    <a:lnTo>
                      <a:pt x="80" y="202"/>
                    </a:lnTo>
                    <a:lnTo>
                      <a:pt x="84" y="200"/>
                    </a:lnTo>
                    <a:lnTo>
                      <a:pt x="0" y="4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353440" y="884160"/>
                <a:ext cx="314280" cy="10944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0" y="42"/>
                    </a:moveTo>
                    <a:lnTo>
                      <a:pt x="166" y="68"/>
                    </a:lnTo>
                    <a:lnTo>
                      <a:pt x="197" y="51"/>
                    </a:lnTo>
                    <a:lnTo>
                      <a:pt x="179" y="0"/>
                    </a:lnTo>
                    <a:lnTo>
                      <a:pt x="0" y="42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83320" y="947880"/>
                <a:ext cx="319320" cy="42840"/>
              </a:xfrm>
              <a:custGeom>
                <a:avLst/>
                <a:gdLst/>
                <a:ahLst/>
                <a:rect l="l" t="t" r="r" b="b"/>
                <a:pathLst>
                  <a:path w="201" h="27">
                    <a:moveTo>
                      <a:pt x="200" y="11"/>
                    </a:moveTo>
                    <a:lnTo>
                      <a:pt x="198" y="13"/>
                    </a:lnTo>
                    <a:lnTo>
                      <a:pt x="198" y="14"/>
                    </a:lnTo>
                    <a:lnTo>
                      <a:pt x="194" y="16"/>
                    </a:lnTo>
                    <a:lnTo>
                      <a:pt x="189" y="19"/>
                    </a:lnTo>
                    <a:lnTo>
                      <a:pt x="181" y="22"/>
                    </a:lnTo>
                    <a:lnTo>
                      <a:pt x="172" y="23"/>
                    </a:lnTo>
                    <a:lnTo>
                      <a:pt x="157" y="25"/>
                    </a:lnTo>
                    <a:lnTo>
                      <a:pt x="139" y="26"/>
                    </a:lnTo>
                    <a:lnTo>
                      <a:pt x="124" y="26"/>
                    </a:lnTo>
                    <a:lnTo>
                      <a:pt x="118" y="25"/>
                    </a:lnTo>
                    <a:lnTo>
                      <a:pt x="102" y="24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30" y="1"/>
                    </a:lnTo>
                    <a:lnTo>
                      <a:pt x="43" y="0"/>
                    </a:lnTo>
                    <a:lnTo>
                      <a:pt x="200" y="1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1280" y="731880"/>
                <a:ext cx="691920" cy="149040"/>
              </a:xfrm>
              <a:custGeom>
                <a:avLst/>
                <a:gdLst/>
                <a:ahLst/>
                <a:rect l="l" t="t" r="r" b="b"/>
                <a:pathLst>
                  <a:path w="436" h="94">
                    <a:moveTo>
                      <a:pt x="435" y="61"/>
                    </a:moveTo>
                    <a:lnTo>
                      <a:pt x="39" y="0"/>
                    </a:lnTo>
                    <a:lnTo>
                      <a:pt x="0" y="12"/>
                    </a:lnTo>
                    <a:lnTo>
                      <a:pt x="157" y="57"/>
                    </a:lnTo>
                    <a:lnTo>
                      <a:pt x="249" y="93"/>
                    </a:lnTo>
                    <a:lnTo>
                      <a:pt x="435" y="6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2560" y="977760"/>
              <a:ext cx="6777000" cy="93960"/>
            </a:xfrm>
            <a:prstGeom prst="rect">
              <a:avLst/>
            </a:prstGeom>
            <a:solidFill>
              <a:srgbClr val="07015e"/>
            </a:solidFill>
            <a:ln w="12600">
              <a:solidFill>
                <a:srgbClr val="070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5680" y="1166760"/>
            <a:ext cx="701640" cy="579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" y="1166760"/>
                      <a:ext cx="70164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TN ROU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PTIONS AND VALUE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IRLINE HOST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Hennig, United Airli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847-700-4312  paulhennig@aol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ervice Provider gateway solution still requires the 4096-byte message size limitations, while host-to/from-aircraft (end-to-end) data link infrastructure permits virtually unlimited message sizes (e.g., uplink flight plans and weather graphics, and downlink engine data, etc.)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connection oriented infrastructure permits elimination of AOC message acknowledgement exchang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MORE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Ground-Groun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N Fre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nent New Functionality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Reconcil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.S. Airline Business Driv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RS Saturation  (Now =&gt;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Airport Gridlock (Now =&gt;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Link Products to 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N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M2 Operational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S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RRI Software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ed Airlines DAY-1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AL II  1999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DLC Builds I - IA MIA 2Q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SI RRI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1960" y="1911240"/>
            <a:ext cx="35686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0560" y="4273560"/>
            <a:ext cx="31114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4560" y="2292480"/>
            <a:ext cx="143496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4730760"/>
            <a:ext cx="15112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8160" y="4730760"/>
            <a:ext cx="128268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5360" y="1897200"/>
            <a:ext cx="3273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/Ground Sub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43480" y="4944960"/>
            <a:ext cx="2374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/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53200" y="5326200"/>
            <a:ext cx="941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9560" y="2201760"/>
            <a:ext cx="114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26760" y="3162240"/>
            <a:ext cx="910080" cy="609840"/>
            <a:chOff x="1526760" y="3162240"/>
            <a:chExt cx="910080" cy="609840"/>
          </a:xfrm>
        </p:grpSpPr>
        <p:sp>
          <p:nvSpPr>
            <p:cNvPr id="138" name=""/>
            <p:cNvSpPr/>
            <p:nvPr/>
          </p:nvSpPr>
          <p:spPr>
            <a:xfrm>
              <a:off x="1562040" y="3162240"/>
              <a:ext cx="83844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676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573280" y="480060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83160" y="4724280"/>
            <a:ext cx="2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73280" y="350532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46680" y="3411000"/>
            <a:ext cx="74772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22960" y="2857680"/>
            <a:ext cx="1140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TN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5040" y="1933560"/>
            <a:ext cx="1162080" cy="1695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6760" y="4381560"/>
            <a:ext cx="910080" cy="609480"/>
            <a:chOff x="1526760" y="4381560"/>
            <a:chExt cx="910080" cy="609480"/>
          </a:xfrm>
        </p:grpSpPr>
        <p:sp>
          <p:nvSpPr>
            <p:cNvPr id="147" name=""/>
            <p:cNvSpPr/>
            <p:nvPr/>
          </p:nvSpPr>
          <p:spPr>
            <a:xfrm>
              <a:off x="1562040" y="43815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6760" y="44355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746080" y="3162240"/>
            <a:ext cx="910080" cy="609840"/>
            <a:chOff x="2746080" y="3162240"/>
            <a:chExt cx="910080" cy="609840"/>
          </a:xfrm>
        </p:grpSpPr>
        <p:sp>
          <p:nvSpPr>
            <p:cNvPr id="150" name=""/>
            <p:cNvSpPr/>
            <p:nvPr/>
          </p:nvSpPr>
          <p:spPr>
            <a:xfrm>
              <a:off x="27813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0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17880" y="3162240"/>
            <a:ext cx="910080" cy="609840"/>
            <a:chOff x="5717880" y="3162240"/>
            <a:chExt cx="910080" cy="609840"/>
          </a:xfrm>
        </p:grpSpPr>
        <p:sp>
          <p:nvSpPr>
            <p:cNvPr id="153" name=""/>
            <p:cNvSpPr/>
            <p:nvPr/>
          </p:nvSpPr>
          <p:spPr>
            <a:xfrm>
              <a:off x="57531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78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9960" y="4152960"/>
            <a:ext cx="910080" cy="609480"/>
            <a:chOff x="4269960" y="4152960"/>
            <a:chExt cx="910080" cy="609480"/>
          </a:xfrm>
        </p:grpSpPr>
        <p:sp>
          <p:nvSpPr>
            <p:cNvPr id="156" name=""/>
            <p:cNvSpPr/>
            <p:nvPr/>
          </p:nvSpPr>
          <p:spPr>
            <a:xfrm>
              <a:off x="4305240" y="41529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9960" y="42069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708240" y="4305240"/>
            <a:ext cx="910080" cy="609840"/>
            <a:chOff x="6708240" y="4305240"/>
            <a:chExt cx="910080" cy="609840"/>
          </a:xfrm>
        </p:grpSpPr>
        <p:sp>
          <p:nvSpPr>
            <p:cNvPr id="159" name=""/>
            <p:cNvSpPr/>
            <p:nvPr/>
          </p:nvSpPr>
          <p:spPr>
            <a:xfrm>
              <a:off x="6743880" y="4305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8240" y="4359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41760" y="2171880"/>
            <a:ext cx="910080" cy="609480"/>
            <a:chOff x="7241760" y="2171880"/>
            <a:chExt cx="910080" cy="609480"/>
          </a:xfrm>
        </p:grpSpPr>
        <p:sp>
          <p:nvSpPr>
            <p:cNvPr id="162" name=""/>
            <p:cNvSpPr/>
            <p:nvPr/>
          </p:nvSpPr>
          <p:spPr>
            <a:xfrm>
              <a:off x="7277040" y="217188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1760" y="221940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30880" y="5173560"/>
            <a:ext cx="1251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lin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RI SERVICE INTERFA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20240" y="5416560"/>
            <a:ext cx="5335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bnetwork Acces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NDCF/Mobile SNDCF/ISO 8208 (X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4920" y="4730760"/>
            <a:ext cx="3886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networking/Routing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NP/ES-IS/ID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7480" y="4044960"/>
            <a:ext cx="2342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nsport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36360" y="3359160"/>
            <a:ext cx="370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per Layer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E/Fast Byte COPP and CO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040" y="2368440"/>
            <a:ext cx="500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 Service Element (ASE)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/CPDLC/ADS-A/F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2640" y="3359160"/>
            <a:ext cx="5778720" cy="28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82640" y="2292480"/>
            <a:ext cx="577872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4560" y="2246400"/>
            <a:ext cx="401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2120" y="3313080"/>
            <a:ext cx="384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4440" y="22860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4440" y="335268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4440" y="41148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3880" y="4800600"/>
            <a:ext cx="7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26080" y="1704960"/>
            <a:ext cx="165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27160" y="27716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27160" y="3533760"/>
            <a:ext cx="1071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0240" y="4775040"/>
            <a:ext cx="103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ork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4440" y="61722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27880" y="559116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5840" y="40892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TED DAY-1 ATN/VM2 PG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ward-Fit Program for 52 new A319 &amp; A320 Aircraft beginning with First Aircraft Delivery in January 2000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ATN/VM2 Services Agreement with ARINC for these A319 &amp; A320 Aircraf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chnical Services Agreement with Boeing for the Forward-Fit of 20 new 747-400, 767 &amp; 777 Aircraft beginning July 2000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ted Ground System Implementation Project to begin 1Q2000 (Operational by 1Q2001) for those First A319/320 Airc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IONICS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5040" y="4890960"/>
            <a:ext cx="1843200" cy="33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bile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5040" y="5272200"/>
            <a:ext cx="1530360" cy="33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5 P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2040" y="4890960"/>
            <a:ext cx="2803680" cy="33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xed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5040" y="4510080"/>
            <a:ext cx="1177920" cy="33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43480" y="4510080"/>
            <a:ext cx="1131840" cy="33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8280" y="4510080"/>
            <a:ext cx="1201680" cy="332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733920"/>
            <a:ext cx="4646520" cy="332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352680"/>
            <a:ext cx="4641840" cy="332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971800"/>
            <a:ext cx="5407200" cy="33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981080"/>
            <a:ext cx="858960" cy="702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53080" y="1981080"/>
            <a:ext cx="990720" cy="702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F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4280" y="1981080"/>
            <a:ext cx="920880" cy="70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38680" y="1981080"/>
            <a:ext cx="920880" cy="70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P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00200"/>
            <a:ext cx="3672000" cy="332280"/>
          </a:xfrm>
          <a:prstGeom prst="rect">
            <a:avLst/>
          </a:prstGeom>
          <a:gradFill rotWithShape="0">
            <a:gsLst>
              <a:gs pos="0">
                <a:srgbClr val="dbffb8"/>
              </a:gs>
              <a:gs pos="100000">
                <a:srgbClr val="c3e4a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NS/ATM-1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7960" y="1981080"/>
            <a:ext cx="992160" cy="702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6160" y="1593720"/>
            <a:ext cx="993960" cy="332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N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8920" y="5272200"/>
            <a:ext cx="1413000" cy="332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L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8920" y="5653080"/>
            <a:ext cx="1413000" cy="70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5040" y="5653080"/>
            <a:ext cx="1530360" cy="332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5040" y="6033960"/>
            <a:ext cx="1530360" cy="332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1 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4840" y="4129200"/>
            <a:ext cx="4173480" cy="332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07240" y="5272200"/>
            <a:ext cx="1693800" cy="332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7240" y="5653080"/>
            <a:ext cx="1693800" cy="702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9000" y="412920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69200" y="4510080"/>
            <a:ext cx="1131840" cy="332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590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733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4320" y="2585880"/>
            <a:ext cx="38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62064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343400" y="5437080"/>
            <a:ext cx="69516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05120" y="2133720"/>
            <a:ext cx="1139760" cy="7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H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2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200400"/>
            <a:ext cx="10670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03200" y="1371600"/>
            <a:ext cx="519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60812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60812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73520" y="1684440"/>
            <a:ext cx="157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1760" y="4216320"/>
            <a:ext cx="120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276720"/>
            <a:ext cx="1143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Data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S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8320" y="274320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89000" y="3119400"/>
            <a:ext cx="1662120" cy="773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32209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52000" y="6121440"/>
            <a:ext cx="140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889760" y="2465280"/>
            <a:ext cx="695520" cy="785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65600" y="27432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39960" y="114300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DL2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8320" y="4897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1722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886200" y="2206800"/>
            <a:ext cx="1574640" cy="1044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4218120" y="3962520"/>
            <a:ext cx="938160" cy="1041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6199200" y="2362320"/>
            <a:ext cx="938160" cy="1041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242120" y="2743200"/>
            <a:ext cx="466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54960" y="1792440"/>
            <a:ext cx="158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720" y="3284640"/>
            <a:ext cx="1854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Legacy  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76800" y="3678120"/>
            <a:ext cx="2219400" cy="209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2240" y="1531800"/>
            <a:ext cx="1128600" cy="82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35640" y="1219320"/>
            <a:ext cx="132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ARS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6520" y="4800600"/>
            <a:ext cx="157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170172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800" y="586728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3800" y="601992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1600" y="5764320"/>
            <a:ext cx="1299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ARS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DL2 Environm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562720"/>
            <a:ext cx="2057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720" y="5611680"/>
            <a:ext cx="68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0560" y="190512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AL ROUTER DETAI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5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6760" y="1677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51200" y="4444920"/>
            <a:ext cx="1419480" cy="1625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506760" y="1297080"/>
            <a:ext cx="1978200" cy="37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2600" y="1335240"/>
            <a:ext cx="138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334680" y="2088720"/>
            <a:ext cx="73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080000">
            <a:off x="2876760" y="3166920"/>
            <a:ext cx="73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30640" y="1677960"/>
            <a:ext cx="45432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60000">
            <a:off x="4757400" y="201636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H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33560" y="3562200"/>
            <a:ext cx="85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1600200"/>
            <a:ext cx="144792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1143000"/>
            <a:ext cx="220968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8520" y="2209680"/>
            <a:ext cx="1527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or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rom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3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60640" y="4876920"/>
            <a:ext cx="1527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42640" y="1676520"/>
            <a:ext cx="3284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velop code and unit/integrate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6280" y="548640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dient to package host changes in initial avionics/aircraft purchase versus justification of ground resources and capital at a later date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get host-to/from-aircraft (end-to-end) infrastructure in place quickly to enable enhanced functions (e.g., encryption), new applications in the cockpit, and conversion of all/part of legacy ACARS messaging to bit oriented technology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5T12:41:16Z</dcterms:created>
  <dc:creator>John Wright - SFOUS</dc:creator>
  <dc:description/>
  <dc:language>en-US</dc:language>
  <cp:lastModifiedBy>Paul Hennig</cp:lastModifiedBy>
  <cp:lastPrinted>1999-01-04T18:36:56Z</cp:lastPrinted>
  <dcterms:modified xsi:type="dcterms:W3CDTF">1999-01-21T02:09:59Z</dcterms:modified>
  <cp:revision>2</cp:revision>
  <dc:subject/>
  <dc:title>ATN IMPLEMENTATION PROGRESS VIEWS OF ATN SYSTEMS, INC.</dc:title>
</cp:coreProperties>
</file>