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610480" y="217440"/>
            <a:ext cx="438120" cy="480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134280" y="88920"/>
            <a:ext cx="312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D37C-099F-4F44-A1BE-2EF39B5EC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ATNP WGs Jan 99 - Hawa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ink2000+ Program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Adn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martin.adnams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ny Van Roosbro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danny.van-roosbroek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s and Base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612800"/>
            <a:ext cx="8305560" cy="4834800"/>
            <a:chOff x="533520" y="1612800"/>
            <a:chExt cx="8305560" cy="4834800"/>
          </a:xfrm>
        </p:grpSpPr>
        <p:sp>
          <p:nvSpPr>
            <p:cNvPr id="96" name=""/>
            <p:cNvSpPr/>
            <p:nvPr/>
          </p:nvSpPr>
          <p:spPr>
            <a:xfrm>
              <a:off x="533520" y="4433040"/>
              <a:ext cx="8229600" cy="201456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-II Spec’s v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</a:rPr>
                <a:t>exten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00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s 1 &amp; 1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9000" y="5840280"/>
              <a:ext cx="243828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1612800"/>
              <a:ext cx="8229600" cy="19843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Tw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k2000+ Spec’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47176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Link2000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57400" y="3429000"/>
              <a:ext cx="380880" cy="1981080"/>
              <a:chOff x="2057400" y="3429000"/>
              <a:chExt cx="380880" cy="198108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0574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382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86600" y="3429000"/>
              <a:ext cx="380880" cy="1981080"/>
              <a:chOff x="7086600" y="3429000"/>
              <a:chExt cx="380880" cy="19810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70866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674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91320" y="2438280"/>
              <a:ext cx="2971800" cy="106704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 2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3005280"/>
              <a:ext cx="243828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 flipV="1">
            <a:off x="1599840" y="4648320"/>
            <a:ext cx="6095880" cy="83808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99840" y="2895480"/>
            <a:ext cx="6095880" cy="68580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81952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4360" y="434340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88080" y="243828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P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080" y="469116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B2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4268880"/>
            <a:ext cx="863640" cy="15224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9720" y="3415680"/>
            <a:ext cx="7902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7080" y="2516040"/>
            <a:ext cx="863640" cy="1522440"/>
          </a:xfrm>
          <a:prstGeom prst="rect">
            <a:avLst/>
          </a:prstGeom>
          <a:solidFill>
            <a:srgbClr val="99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4660920"/>
            <a:ext cx="99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2200" y="290844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590920"/>
            <a:ext cx="1371600" cy="3200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-247680" y="3828960"/>
            <a:ext cx="26668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EG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 rot="16273200">
            <a:off x="-457200" y="3885840"/>
            <a:ext cx="240048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MPLE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54440" y="57974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2000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590600" y="1905120"/>
            <a:ext cx="1476720" cy="4495680"/>
            <a:chOff x="7590600" y="1905120"/>
            <a:chExt cx="1476720" cy="4495680"/>
          </a:xfrm>
        </p:grpSpPr>
        <p:sp>
          <p:nvSpPr>
            <p:cNvPr id="127" name=""/>
            <p:cNvSpPr/>
            <p:nvPr/>
          </p:nvSpPr>
          <p:spPr>
            <a:xfrm>
              <a:off x="7705800" y="1905120"/>
              <a:ext cx="1295280" cy="44956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5400000">
              <a:off x="6997320" y="3873600"/>
              <a:ext cx="3616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3300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Arial Black"/>
                </a:rPr>
                <a:t>Requirement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7696080" y="304812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DIA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2931600">
              <a:off x="7733880" y="487656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DS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5720" y="2897280"/>
            <a:ext cx="911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0" y="60958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A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3" idx="0"/>
          </p:cNvCxnSpPr>
          <p:nvPr/>
        </p:nvCxnSpPr>
        <p:spPr>
          <a:xfrm flipH="1" flipV="1" rot="5400000">
            <a:off x="5023080" y="1263960"/>
            <a:ext cx="991440" cy="2120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15" idx="0"/>
            <a:endCxn id="127" idx="0"/>
          </p:cNvCxnSpPr>
          <p:nvPr/>
        </p:nvCxnSpPr>
        <p:spPr>
          <a:xfrm flipH="1" flipV="1" rot="5400000">
            <a:off x="7204680" y="1289160"/>
            <a:ext cx="533880" cy="1764360"/>
          </a:xfrm>
          <a:prstGeom prst="bentConnector3">
            <a:avLst>
              <a:gd name="adj1" fmla="val 142847"/>
            </a:avLst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642080" y="9144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REQU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8600" y="930240"/>
            <a:ext cx="15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32960" y="9144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END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760" y="91440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I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2" idx="0"/>
          </p:cNvCxnSpPr>
          <p:nvPr/>
        </p:nvCxnSpPr>
        <p:spPr>
          <a:xfrm flipH="1" flipV="1" rot="5400000">
            <a:off x="2399760" y="570960"/>
            <a:ext cx="534240" cy="3506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>
            <a:stCxn id="113" idx="7"/>
            <a:endCxn id="115" idx="1"/>
          </p:cNvCxnSpPr>
          <p:nvPr/>
        </p:nvCxnSpPr>
        <p:spPr>
          <a:xfrm flipH="1" flipV="1" rot="5400000">
            <a:off x="5333400" y="2302920"/>
            <a:ext cx="381600" cy="997560"/>
          </a:xfrm>
          <a:prstGeom prst="curvedConnector5">
            <a:avLst>
              <a:gd name="adj1" fmla="val 205382"/>
              <a:gd name="adj2" fmla="val 50000"/>
              <a:gd name="adj3" fmla="val 205382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>
            <a:stCxn id="115" idx="7"/>
            <a:endCxn id="127" idx="0"/>
          </p:cNvCxnSpPr>
          <p:nvPr/>
        </p:nvCxnSpPr>
        <p:spPr>
          <a:xfrm flipH="1" flipV="1" rot="5400000">
            <a:off x="7400880" y="165960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14" idx="5"/>
            <a:endCxn id="116" idx="3"/>
          </p:cNvCxnSpPr>
          <p:nvPr/>
        </p:nvCxnSpPr>
        <p:spPr>
          <a:xfrm flipH="1" rot="16200000">
            <a:off x="5348880" y="5020200"/>
            <a:ext cx="348480" cy="1000800"/>
          </a:xfrm>
          <a:prstGeom prst="curvedConnector5">
            <a:avLst>
              <a:gd name="adj1" fmla="val 215511"/>
              <a:gd name="adj2" fmla="val 49982"/>
              <a:gd name="adj3" fmla="val 215511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16" idx="5"/>
            <a:endCxn id="127" idx="2"/>
          </p:cNvCxnSpPr>
          <p:nvPr/>
        </p:nvCxnSpPr>
        <p:spPr>
          <a:xfrm flipH="1" rot="16200000">
            <a:off x="7400520" y="544896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line 2 Development Team (B2T) start 1Q 99 “on the back” of the PII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an  LINK2000+ programme developed in parallel with Airline Chair, Eurocontrol and Member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2000+ approved 4Q 99 and takes Baseline 1 and Baseline 2 as input for Europea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3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2T follows same philosophy as PIIe i.e. Develop the End to End Specs (Baseline 2) and inject into International Group recognised by CERT auth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minated International group is RTCA/EUROC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oup exists and is recognised by CERT auth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already doing such work for FANS and PIIe is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781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887480" y="1981080"/>
            <a:ext cx="5446800" cy="4191120"/>
            <a:chOff x="1887480" y="1981080"/>
            <a:chExt cx="5446800" cy="41911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719440" y="5559480"/>
              <a:ext cx="371628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773760" y="3147840"/>
              <a:ext cx="56052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887480" y="2984400"/>
              <a:ext cx="623880" cy="23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147840" y="1981080"/>
              <a:ext cx="28623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602160" y="3073320"/>
              <a:ext cx="1942920" cy="19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ation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Requirements for Data Link are stabilising (ADSP, ODT/ODIA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Data Link for AOC is increa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 2000+: most important enabler is data-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control Communication strategy: Mobile data link from 2003 on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line investment in data link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rtunities for implementation, AOC develo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d ATN Standards have been publ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TAL IIe as Bootstrap for early implementation (En-route CPDLC with commercial aircra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N Infrastructure is real and works, pre-operational systems from EOLIA/ProAT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ional ATN Systems from ATNSI/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A has decided to implement datalink services based on ATN (JRC 30/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Con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1120" y="6018120"/>
            <a:ext cx="821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305000" y="1219320"/>
            <a:ext cx="1440" cy="480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98160" y="3451320"/>
            <a:ext cx="232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98160" y="1911240"/>
            <a:ext cx="464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11120" y="6702480"/>
            <a:ext cx="7858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2320" y="6431040"/>
            <a:ext cx="51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06520" y="5326200"/>
            <a:ext cx="1440" cy="61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5000" y="5943600"/>
            <a:ext cx="1226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77280" y="4478400"/>
            <a:ext cx="1539000" cy="1531800"/>
            <a:chOff x="1277280" y="4478400"/>
            <a:chExt cx="1539000" cy="1531800"/>
          </a:xfrm>
        </p:grpSpPr>
        <p:sp>
          <p:nvSpPr>
            <p:cNvPr id="63" name=""/>
            <p:cNvSpPr/>
            <p:nvPr/>
          </p:nvSpPr>
          <p:spPr>
            <a:xfrm>
              <a:off x="1311120" y="4484520"/>
              <a:ext cx="1505160" cy="1525680"/>
            </a:xfrm>
            <a:prstGeom prst="ellipse">
              <a:avLst/>
            </a:prstGeom>
            <a:solidFill>
              <a:srgbClr val="99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98160" y="4478400"/>
              <a:ext cx="7318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7280" y="5092560"/>
              <a:ext cx="15271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tandardis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ri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4216320"/>
            <a:ext cx="114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Standards valid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8520" y="3265560"/>
            <a:ext cx="1505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re-oper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hase Completed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680" y="1639800"/>
            <a:ext cx="1514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First phase Europ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Implemen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964200" y="1186200"/>
            <a:ext cx="2578320" cy="2391480"/>
            <a:chOff x="6964200" y="1186200"/>
            <a:chExt cx="2578320" cy="2391480"/>
          </a:xfrm>
        </p:grpSpPr>
        <p:sp>
          <p:nvSpPr>
            <p:cNvPr id="70" name=""/>
            <p:cNvSpPr/>
            <p:nvPr/>
          </p:nvSpPr>
          <p:spPr>
            <a:xfrm rot="19920000">
              <a:off x="7221600" y="1576080"/>
              <a:ext cx="2063520" cy="1611360"/>
            </a:xfrm>
            <a:prstGeom prst="rightArrow">
              <a:avLst>
                <a:gd name="adj1" fmla="val 75000"/>
                <a:gd name="adj2" fmla="val 64036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040000">
              <a:off x="7081200" y="1969560"/>
              <a:ext cx="20365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wards Full Regio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5104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01920" y="3451320"/>
            <a:ext cx="2301840" cy="2558880"/>
            <a:chOff x="2401920" y="3451320"/>
            <a:chExt cx="2301840" cy="2558880"/>
          </a:xfrm>
        </p:grpSpPr>
        <p:sp>
          <p:nvSpPr>
            <p:cNvPr id="74" name=""/>
            <p:cNvSpPr/>
            <p:nvPr/>
          </p:nvSpPr>
          <p:spPr>
            <a:xfrm>
              <a:off x="3962520" y="36291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01920" y="3451320"/>
              <a:ext cx="2301840" cy="220968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3840" y="3622680"/>
              <a:ext cx="15271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e-operation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Develop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nd evalu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0033"/>
                  </a:solidFill>
                  <a:latin typeface="Arial"/>
                </a:rPr>
                <a:t>PETAL I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TIF/PROAT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URO VD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OL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69108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2480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51200" y="60372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267080" y="1905120"/>
            <a:ext cx="3348000" cy="4092480"/>
            <a:chOff x="4267080" y="1905120"/>
            <a:chExt cx="3348000" cy="4092480"/>
          </a:xfrm>
        </p:grpSpPr>
        <p:sp>
          <p:nvSpPr>
            <p:cNvPr id="81" name=""/>
            <p:cNvSpPr/>
            <p:nvPr/>
          </p:nvSpPr>
          <p:spPr>
            <a:xfrm>
              <a:off x="6095880" y="36165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5080" y="3444840"/>
              <a:ext cx="0" cy="255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267080" y="1905120"/>
              <a:ext cx="3340080" cy="3408480"/>
              <a:chOff x="4267080" y="1905120"/>
              <a:chExt cx="3340080" cy="3408480"/>
            </a:xfrm>
          </p:grpSpPr>
          <p:sp>
            <p:nvSpPr>
              <p:cNvPr id="84" name=""/>
              <p:cNvSpPr/>
              <p:nvPr/>
            </p:nvSpPr>
            <p:spPr>
              <a:xfrm>
                <a:off x="4267080" y="1905120"/>
                <a:ext cx="3340080" cy="340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86600" y="3021120"/>
                <a:ext cx="2990160" cy="14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First Phas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European Implemen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and Oper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ff0033"/>
                    </a:solidFill>
                    <a:latin typeface="Arial"/>
                  </a:rPr>
                  <a:t>LINK2000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Pla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and justify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d mi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ve interested stakeholders in definition and justifica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end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formal approval and programme commitment from all parties inv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al for Air Navigation Plan Amendments to EANP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Head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plementation to 20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vices ATM and A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Geographical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pean Core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 link to US Reg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vol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stakeholders (Airlines, ATSOs, Service providers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 2000 + Program Cont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scenario including as main elements the operational concep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link service definition and time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s infrastructure and systems (Airline, ATSO, ISP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structures and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Management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and Certification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aselines for Implementation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dures / Operational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d - to -End Specs for ATS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C Comms Infrastructure : ATN SARPS 97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OC Comms Infrastructure : AEEC ATN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-ordination between baselines + freez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6:15:21Z</dcterms:created>
  <dc:creator>Danny Van Roosbroek</dc:creator>
  <dc:description/>
  <dc:language>en-US</dc:language>
  <cp:lastModifiedBy>Martin Adnams</cp:lastModifiedBy>
  <cp:lastPrinted>1999-01-08T09:19:15Z</cp:lastPrinted>
  <dcterms:modified xsi:type="dcterms:W3CDTF">1999-01-11T12:44:25Z</dcterms:modified>
  <cp:revision>19</cp:revision>
  <dc:subject/>
  <dc:title>Overall Status</dc:title>
</cp:coreProperties>
</file>