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4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610480" y="217440"/>
            <a:ext cx="438120" cy="4809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-134280" y="88920"/>
            <a:ext cx="3121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31C5-C328-4FFA-A99A-75EE369313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ATNP WGs Jan 99 - Hawa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Link2000+ Program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URO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tin Adn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martin.adnams@eurocontrol.b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nny Van Roosbro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danny.van-roosbroek@eurocontrol.b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grams and Baselin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33520" y="1612800"/>
            <a:ext cx="8305560" cy="4834800"/>
            <a:chOff x="533520" y="1612800"/>
            <a:chExt cx="8305560" cy="4834800"/>
          </a:xfrm>
        </p:grpSpPr>
        <p:sp>
          <p:nvSpPr>
            <p:cNvPr id="96" name=""/>
            <p:cNvSpPr/>
            <p:nvPr/>
          </p:nvSpPr>
          <p:spPr>
            <a:xfrm>
              <a:off x="533520" y="4433040"/>
              <a:ext cx="8229600" cy="201456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Baseline O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CAO Doc 9705 (ATN)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RTCA/Eurocae 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-II Spec’s v.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9480" y="5307120"/>
              <a:ext cx="297180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PETAL-II</a:t>
              </a:r>
              <a:br>
                <a:rPr sz="3200"/>
              </a:br>
              <a:r>
                <a:rPr b="1" lang="en-US" sz="2800" spc="-1" strike="noStrike">
                  <a:solidFill>
                    <a:srgbClr val="492395"/>
                  </a:solidFill>
                  <a:latin typeface="Arial"/>
                </a:rPr>
                <a:t>extens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15000" y="5307120"/>
              <a:ext cx="297180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FAA</a:t>
              </a:r>
              <a:br>
                <a:rPr sz="3200"/>
              </a:br>
              <a:r>
                <a:rPr b="1" lang="en-US" sz="2700" spc="-1" strike="noStrike">
                  <a:solidFill>
                    <a:srgbClr val="492395"/>
                  </a:solidFill>
                  <a:latin typeface="Arial"/>
                </a:rPr>
                <a:t>Builds 1 &amp; 1A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29000" y="5840280"/>
              <a:ext cx="2438280" cy="18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9480" y="1612800"/>
              <a:ext cx="8229600" cy="19843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Baseline Tw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CAO Doc 9705 (ATN)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RTCA/Eurocae 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ink2000+ Spec’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5800" y="2471760"/>
              <a:ext cx="2971800" cy="106668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Link2000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2057400" y="3429000"/>
              <a:ext cx="380880" cy="1981080"/>
              <a:chOff x="2057400" y="3429000"/>
              <a:chExt cx="380880" cy="1981080"/>
            </a:xfrm>
          </p:grpSpPr>
          <p:sp>
            <p:nvSpPr>
              <p:cNvPr id="103" name=""/>
              <p:cNvSpPr/>
              <p:nvPr/>
            </p:nvSpPr>
            <p:spPr>
              <a:xfrm flipV="1">
                <a:off x="2057400" y="3429000"/>
                <a:ext cx="0" cy="1752480"/>
              </a:xfrm>
              <a:prstGeom prst="line">
                <a:avLst/>
              </a:prstGeom>
              <a:ln w="142920">
                <a:solidFill>
                  <a:srgbClr val="c0c0c0"/>
                </a:solidFill>
                <a:miter/>
                <a:headEnd len="med" type="oval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438280" y="3429000"/>
                <a:ext cx="0" cy="1981080"/>
              </a:xfrm>
              <a:prstGeom prst="line">
                <a:avLst/>
              </a:prstGeom>
              <a:ln w="57240">
                <a:solidFill>
                  <a:srgbClr val="c0c0c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7086600" y="3429000"/>
              <a:ext cx="380880" cy="1981080"/>
              <a:chOff x="7086600" y="3429000"/>
              <a:chExt cx="380880" cy="1981080"/>
            </a:xfrm>
          </p:grpSpPr>
          <p:sp>
            <p:nvSpPr>
              <p:cNvPr id="106" name=""/>
              <p:cNvSpPr/>
              <p:nvPr/>
            </p:nvSpPr>
            <p:spPr>
              <a:xfrm flipV="1">
                <a:off x="7086600" y="3429000"/>
                <a:ext cx="0" cy="1752480"/>
              </a:xfrm>
              <a:prstGeom prst="line">
                <a:avLst/>
              </a:prstGeom>
              <a:ln w="142920">
                <a:solidFill>
                  <a:srgbClr val="c0c0c0"/>
                </a:solidFill>
                <a:miter/>
                <a:headEnd len="med" type="oval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467480" y="3429000"/>
                <a:ext cx="0" cy="1981080"/>
              </a:xfrm>
              <a:prstGeom prst="line">
                <a:avLst/>
              </a:prstGeom>
              <a:ln w="57240">
                <a:solidFill>
                  <a:srgbClr val="c0c0c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791320" y="2438280"/>
              <a:ext cx="2971800" cy="106704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FAA</a:t>
              </a:r>
              <a:br>
                <a:rPr sz="3200"/>
              </a:br>
              <a:r>
                <a:rPr b="1" lang="en-US" sz="2700" spc="-1" strike="noStrike">
                  <a:solidFill>
                    <a:srgbClr val="492395"/>
                  </a:solidFill>
                  <a:latin typeface="Arial"/>
                </a:rPr>
                <a:t>Build 2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05320" y="3005280"/>
              <a:ext cx="2438280" cy="1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flipH="1" flipV="1">
            <a:off x="1599840" y="4648320"/>
            <a:ext cx="6095880" cy="838080"/>
          </a:xfrm>
          <a:prstGeom prst="line">
            <a:avLst/>
          </a:prstGeom>
          <a:ln w="7632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599840" y="2895480"/>
            <a:ext cx="6095880" cy="685800"/>
          </a:xfrm>
          <a:prstGeom prst="line">
            <a:avLst/>
          </a:prstGeom>
          <a:ln w="7632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seline Development (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57600" y="2819520"/>
            <a:ext cx="1603440" cy="11761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RT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UROC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4360" y="4343400"/>
            <a:ext cx="1603440" cy="11764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RT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UROC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88080" y="2438280"/>
            <a:ext cx="1603440" cy="11764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P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88080" y="4691160"/>
            <a:ext cx="1603440" cy="11761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B2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27080" y="4268880"/>
            <a:ext cx="863640" cy="152244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29720" y="3415680"/>
            <a:ext cx="79020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PO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ASE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27080" y="2516040"/>
            <a:ext cx="863640" cy="1522440"/>
          </a:xfrm>
          <a:prstGeom prst="rect">
            <a:avLst/>
          </a:prstGeom>
          <a:solidFill>
            <a:srgbClr val="99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52200" y="4660920"/>
            <a:ext cx="994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Base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52200" y="2908440"/>
            <a:ext cx="9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Base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2590920"/>
            <a:ext cx="1371600" cy="32004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 rot="5400000">
            <a:off x="-247680" y="3828960"/>
            <a:ext cx="26668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 vert="eaVert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REGION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 rot="16273200">
            <a:off x="-457200" y="3885840"/>
            <a:ext cx="2400480" cy="571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IMPLE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154440" y="579744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2000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590600" y="1905120"/>
            <a:ext cx="1476720" cy="4495680"/>
            <a:chOff x="7590600" y="1905120"/>
            <a:chExt cx="1476720" cy="4495680"/>
          </a:xfrm>
        </p:grpSpPr>
        <p:sp>
          <p:nvSpPr>
            <p:cNvPr id="127" name=""/>
            <p:cNvSpPr/>
            <p:nvPr/>
          </p:nvSpPr>
          <p:spPr>
            <a:xfrm>
              <a:off x="7705800" y="1905120"/>
              <a:ext cx="1295280" cy="449568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 rot="5400000">
              <a:off x="6997320" y="3873600"/>
              <a:ext cx="3616200" cy="5238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Wave4">
                <a:avLst>
                  <a:gd name="adj1" fmla="val 13005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ff00"/>
                      </a:gs>
                      <a:gs pos="100000">
                        <a:srgbClr val="ff3300"/>
                      </a:gs>
                    </a:gsLst>
                    <a:lin ang="5400000"/>
                  </a:gradFill>
                  <a:effectLst>
                    <a:outerShdw dist="99192" dir="7781944" blurRad="0" rotWithShape="0">
                      <a:srgbClr val="000080"/>
                    </a:outerShdw>
                  </a:effectLst>
                  <a:latin typeface="Arial Black"/>
                </a:rPr>
                <a:t>Requirements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7696080" y="3048120"/>
              <a:ext cx="8384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ODIAC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 rot="2931600">
              <a:off x="7733880" y="4876560"/>
              <a:ext cx="8384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ADSP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745720" y="2897280"/>
            <a:ext cx="91188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A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E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60" y="6095880"/>
            <a:ext cx="19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A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13" idx="0"/>
          </p:cNvCxnSpPr>
          <p:nvPr/>
        </p:nvCxnSpPr>
        <p:spPr>
          <a:xfrm flipH="1" flipV="1" rot="5400000">
            <a:off x="5023080" y="1263960"/>
            <a:ext cx="991440" cy="2120040"/>
          </a:xfrm>
          <a:prstGeom prst="bentConnector2">
            <a:avLst/>
          </a:prstGeom>
          <a:ln w="12600">
            <a:solidFill>
              <a:srgbClr val="96969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4" name=""/>
          <p:cNvCxnSpPr>
            <a:stCxn id="115" idx="0"/>
            <a:endCxn id="127" idx="0"/>
          </p:cNvCxnSpPr>
          <p:nvPr/>
        </p:nvCxnSpPr>
        <p:spPr>
          <a:xfrm flipH="1" flipV="1" rot="5400000">
            <a:off x="7204680" y="1289160"/>
            <a:ext cx="533880" cy="1764360"/>
          </a:xfrm>
          <a:prstGeom prst="bentConnector3">
            <a:avLst>
              <a:gd name="adj1" fmla="val 142847"/>
            </a:avLst>
          </a:prstGeom>
          <a:ln w="12600">
            <a:solidFill>
              <a:srgbClr val="96969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7642080" y="914400"/>
            <a:ext cx="14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REQU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18600" y="930240"/>
            <a:ext cx="156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DEVEL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base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32960" y="91440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END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0760" y="91440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IMPL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22" idx="0"/>
          </p:cNvCxnSpPr>
          <p:nvPr/>
        </p:nvCxnSpPr>
        <p:spPr>
          <a:xfrm flipH="1" flipV="1" rot="5400000">
            <a:off x="2399760" y="570960"/>
            <a:ext cx="534240" cy="3506040"/>
          </a:xfrm>
          <a:prstGeom prst="bentConnector2">
            <a:avLst/>
          </a:prstGeom>
          <a:ln w="12600">
            <a:solidFill>
              <a:srgbClr val="96969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0" name=""/>
          <p:cNvCxnSpPr>
            <a:stCxn id="113" idx="7"/>
            <a:endCxn id="115" idx="1"/>
          </p:cNvCxnSpPr>
          <p:nvPr/>
        </p:nvCxnSpPr>
        <p:spPr>
          <a:xfrm flipH="1" flipV="1" rot="5400000">
            <a:off x="5333400" y="2302920"/>
            <a:ext cx="381600" cy="997560"/>
          </a:xfrm>
          <a:prstGeom prst="curvedConnector5">
            <a:avLst>
              <a:gd name="adj1" fmla="val 205382"/>
              <a:gd name="adj2" fmla="val 50000"/>
              <a:gd name="adj3" fmla="val 205382"/>
            </a:avLst>
          </a:prstGeom>
          <a:ln w="1260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1" name=""/>
          <p:cNvCxnSpPr>
            <a:stCxn id="115" idx="7"/>
            <a:endCxn id="127" idx="0"/>
          </p:cNvCxnSpPr>
          <p:nvPr/>
        </p:nvCxnSpPr>
        <p:spPr>
          <a:xfrm flipH="1" flipV="1" rot="5400000">
            <a:off x="7400880" y="1659600"/>
            <a:ext cx="707040" cy="1197360"/>
          </a:xfrm>
          <a:prstGeom prst="curvedConnector5">
            <a:avLst>
              <a:gd name="adj1" fmla="val 132348"/>
              <a:gd name="adj2" fmla="val 49984"/>
              <a:gd name="adj3" fmla="val 132348"/>
            </a:avLst>
          </a:prstGeom>
          <a:ln w="1260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2" name=""/>
          <p:cNvCxnSpPr>
            <a:stCxn id="114" idx="5"/>
            <a:endCxn id="116" idx="3"/>
          </p:cNvCxnSpPr>
          <p:nvPr/>
        </p:nvCxnSpPr>
        <p:spPr>
          <a:xfrm flipH="1" rot="16200000">
            <a:off x="5348880" y="5020200"/>
            <a:ext cx="348480" cy="1000800"/>
          </a:xfrm>
          <a:prstGeom prst="curvedConnector5">
            <a:avLst>
              <a:gd name="adj1" fmla="val 215511"/>
              <a:gd name="adj2" fmla="val 49982"/>
              <a:gd name="adj3" fmla="val 215511"/>
            </a:avLst>
          </a:prstGeom>
          <a:ln w="1260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3" name=""/>
          <p:cNvCxnSpPr>
            <a:stCxn id="116" idx="5"/>
            <a:endCxn id="127" idx="2"/>
          </p:cNvCxnSpPr>
          <p:nvPr/>
        </p:nvCxnSpPr>
        <p:spPr>
          <a:xfrm flipH="1" rot="16200000">
            <a:off x="7400520" y="5448960"/>
            <a:ext cx="707040" cy="1197360"/>
          </a:xfrm>
          <a:prstGeom prst="curvedConnector5">
            <a:avLst>
              <a:gd name="adj1" fmla="val 132348"/>
              <a:gd name="adj2" fmla="val 49984"/>
              <a:gd name="adj3" fmla="val 132348"/>
            </a:avLst>
          </a:prstGeom>
          <a:ln w="1260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seline Development (2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eline 2 Development Team (B2T) start 1Q 99 “on the back” of the PII T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uropean  LINK2000+ programme developed in parallel with Airline Chair, Eurocontrol and Member St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K2000+ approved 4Q 99 and takes Baseline 1 and Baseline 2 as input for European Imple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seline Development (3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2T follows same philosophy as PIIe i.e. Develop the End to End Specs (Baseline 2) and inject into International Group recognised by CERT author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minated International group is RTCA/EUROC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roup exists and is recognised by CERT autho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s already doing such work for FANS and PIIe is plan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178160" cy="23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887480" y="1981080"/>
            <a:ext cx="5446800" cy="4191120"/>
            <a:chOff x="1887480" y="1981080"/>
            <a:chExt cx="5446800" cy="419112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2719440" y="5559480"/>
              <a:ext cx="3716280" cy="6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6773760" y="3147840"/>
              <a:ext cx="560520" cy="21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1887480" y="2984400"/>
              <a:ext cx="623880" cy="23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3147840" y="1981080"/>
              <a:ext cx="286236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5"/>
            <a:stretch/>
          </p:blipFill>
          <p:spPr>
            <a:xfrm>
              <a:off x="3602160" y="3073320"/>
              <a:ext cx="1942920" cy="195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2000+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lementation Pro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ckground (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tional Requirements for Data Link are stabilising (ADSP, ODT/ODIA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f Data Link for AOC is increa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M 2000+: most important enabler is data-li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urocontrol Communication strategy: Mobile data link from 2003 onw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rline investment in data link techn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portunities for implementation, AOC develop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ckground (2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alidated ATN Standards have been publis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TAL IIe as Bootstrap for early implementation (En-route CPDLC with commercial aircraf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TN Infrastructure is real and works, pre-operational systems from EOLIA/ProAT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erational ATN Systems from ATNSI/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AA has decided to implement datalink services based on ATN (JRC 30/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2000+ Con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11120" y="6018120"/>
            <a:ext cx="8213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305000" y="1219320"/>
            <a:ext cx="1440" cy="480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298160" y="3451320"/>
            <a:ext cx="232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298160" y="1911240"/>
            <a:ext cx="4645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11120" y="6702480"/>
            <a:ext cx="78588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82320" y="6431040"/>
            <a:ext cx="519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06520" y="5326200"/>
            <a:ext cx="1440" cy="612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5000" y="5943600"/>
            <a:ext cx="1226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war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277280" y="4478400"/>
            <a:ext cx="1539000" cy="1531800"/>
            <a:chOff x="1277280" y="4478400"/>
            <a:chExt cx="1539000" cy="1531800"/>
          </a:xfrm>
        </p:grpSpPr>
        <p:sp>
          <p:nvSpPr>
            <p:cNvPr id="63" name=""/>
            <p:cNvSpPr/>
            <p:nvPr/>
          </p:nvSpPr>
          <p:spPr>
            <a:xfrm>
              <a:off x="1311120" y="4484520"/>
              <a:ext cx="1505160" cy="1525680"/>
            </a:xfrm>
            <a:prstGeom prst="ellipse">
              <a:avLst/>
            </a:prstGeom>
            <a:solidFill>
              <a:srgbClr val="99ff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1298160" y="4478400"/>
              <a:ext cx="7318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77280" y="5092560"/>
              <a:ext cx="152712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Standardis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Valid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Tria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0" y="4216320"/>
            <a:ext cx="1149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Standards valid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38520" y="3265560"/>
            <a:ext cx="1505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Pre-operatio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Phase Completed</a:t>
            </a:r>
            <a:r>
              <a:rPr b="0" lang="en-US" sz="1200" spc="-1" strike="noStrike">
                <a:solidFill>
                  <a:srgbClr val="ff00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680" y="1639800"/>
            <a:ext cx="15145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First phase Europe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Implementa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Comple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964200" y="1186200"/>
            <a:ext cx="2578320" cy="2391480"/>
            <a:chOff x="6964200" y="1186200"/>
            <a:chExt cx="2578320" cy="2391480"/>
          </a:xfrm>
        </p:grpSpPr>
        <p:sp>
          <p:nvSpPr>
            <p:cNvPr id="70" name=""/>
            <p:cNvSpPr/>
            <p:nvPr/>
          </p:nvSpPr>
          <p:spPr>
            <a:xfrm rot="19920000">
              <a:off x="7221600" y="1576080"/>
              <a:ext cx="2063520" cy="1611360"/>
            </a:xfrm>
            <a:prstGeom prst="rightArrow">
              <a:avLst>
                <a:gd name="adj1" fmla="val 75000"/>
                <a:gd name="adj2" fmla="val 64036"/>
              </a:avLst>
            </a:prstGeom>
            <a:solidFill>
              <a:srgbClr val="cc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0040000">
              <a:off x="7081200" y="1969560"/>
              <a:ext cx="203652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owards Full Region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plement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751040" y="6037200"/>
            <a:ext cx="57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401920" y="3451320"/>
            <a:ext cx="2301840" cy="2558880"/>
            <a:chOff x="2401920" y="3451320"/>
            <a:chExt cx="2301840" cy="2558880"/>
          </a:xfrm>
        </p:grpSpPr>
        <p:sp>
          <p:nvSpPr>
            <p:cNvPr id="74" name=""/>
            <p:cNvSpPr/>
            <p:nvPr/>
          </p:nvSpPr>
          <p:spPr>
            <a:xfrm>
              <a:off x="3962520" y="36291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01920" y="3451320"/>
              <a:ext cx="2301840" cy="220968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33840" y="3622680"/>
              <a:ext cx="152712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e-operation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Developmen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and evalua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ff0033"/>
                  </a:solidFill>
                  <a:latin typeface="Arial"/>
                </a:rPr>
                <a:t>PETAL I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ATIF/PROAT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EURO VD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EOL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3691080" y="6037200"/>
            <a:ext cx="57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24800" y="6037200"/>
            <a:ext cx="57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51200" y="6037200"/>
            <a:ext cx="54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Times New Roman"/>
              </a:rPr>
              <a:t>20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267080" y="1905120"/>
            <a:ext cx="3348000" cy="4092480"/>
            <a:chOff x="4267080" y="1905120"/>
            <a:chExt cx="3348000" cy="4092480"/>
          </a:xfrm>
        </p:grpSpPr>
        <p:sp>
          <p:nvSpPr>
            <p:cNvPr id="81" name=""/>
            <p:cNvSpPr/>
            <p:nvPr/>
          </p:nvSpPr>
          <p:spPr>
            <a:xfrm>
              <a:off x="6095880" y="36165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5080" y="3444840"/>
              <a:ext cx="0" cy="255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267080" y="1905120"/>
              <a:ext cx="3340080" cy="3408480"/>
              <a:chOff x="4267080" y="1905120"/>
              <a:chExt cx="3340080" cy="3408480"/>
            </a:xfrm>
          </p:grpSpPr>
          <p:sp>
            <p:nvSpPr>
              <p:cNvPr id="84" name=""/>
              <p:cNvSpPr/>
              <p:nvPr/>
            </p:nvSpPr>
            <p:spPr>
              <a:xfrm>
                <a:off x="4267080" y="1905120"/>
                <a:ext cx="3340080" cy="34084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386600" y="3021120"/>
                <a:ext cx="2990160" cy="14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First Phase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European Implement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and Oper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ff0033"/>
                    </a:solidFill>
                    <a:latin typeface="Arial"/>
                  </a:rPr>
                  <a:t>LINK2000+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2000+ Plann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and justify 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leted mid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olve interested stakeholders in definition and justification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end 19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 formal approval and programme commitment from all parties invol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al for Air Navigation Plan Amendments to EANP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2000+ Headlin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mplementation to 2007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rvices ATM and A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Geographical Are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uropean Core to St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rong link to US Reg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nvolv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stakeholders (Airlines, ATSOs, Service providers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 2000 + Program Cont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siness C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rational scenario including as main elements the operational concep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link service definition and timefr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cations infrastructure and systems (Airline, ATSO, ISP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nistrative structures and proced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am Management P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dation and Certification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Baselines for Implementation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cedures / Operational Requi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nd - to -End Specs for ATS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TC Comms Infrastructure : ATN SARPS 970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OC Comms Infrastructure : AEEC ATN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-ordination between baselines + freezing 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16:15:21Z</dcterms:created>
  <dc:creator>Danny Van Roosbroek</dc:creator>
  <dc:description/>
  <dc:language>en-US</dc:language>
  <cp:lastModifiedBy>Martin Adnams</cp:lastModifiedBy>
  <cp:lastPrinted>1999-01-08T09:19:15Z</cp:lastPrinted>
  <dcterms:modified xsi:type="dcterms:W3CDTF">1999-01-11T12:44:25Z</dcterms:modified>
  <cp:revision>19</cp:revision>
  <dc:subject/>
  <dc:title>Overall Status</dc:title>
</cp:coreProperties>
</file>