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802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89AC-4492-47AD-8CEF-AC171DD67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BCED-97E9-4372-B6A1-2DA336BA5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F751-59D2-420C-B2A4-7DEF1369C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340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732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340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732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4DC0-DC28-4BFB-B0BC-50E31CADD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D0F8-44B9-4C1C-A920-6B651E29A5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2ED6-EDCF-4015-864E-EBE88B8445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0A33-159E-49CE-8D47-5A7DFB2A90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3ADF-99F5-4FD1-A3ED-CA3C918CBF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F6FA-BC2E-44A0-874D-EA4BC3FC3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E9BFD-D115-4FFF-9BFD-0AFB439D34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0A70-7EFA-4092-A080-142BD82866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5BD5-8C74-460E-B4E2-66C425CF0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481C-74E6-4C1E-87C6-E1F0288E17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57B7-012B-44A0-A7B2-BC3E27F68D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D8BE-D60D-4C1D-B450-AA759E266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C511-FF6C-429F-BBD0-A7C0D30196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340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732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340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732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6930-0EBA-42A0-8218-49290AD13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D73D-4E43-49B0-8C53-92F4C3FEC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B54F-B186-4835-B466-FD4AE488B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A989-A8C3-4277-AE9B-204656D82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0D0E-B009-4980-B7DC-CA403E467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CCFC-4436-4F45-B5D1-961B0F371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FAB1-74AC-4CF2-80F8-7E1EFE1B9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D3E4-3E27-40FE-A930-95D3DD4F2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520" y="640044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5DA-F7F8-4955-910F-32AB4941A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6201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2E02-E3E9-4099-AB9A-497287CBB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urity Infrastructure for AT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848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WG1/SG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Presented by: Simon Blake-Wil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llied Signal for NASA 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990C-5C60-428A-9B01-F165A56ED0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MA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28880" y="1523880"/>
            <a:ext cx="1104840" cy="1536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816200" y="2425680"/>
            <a:ext cx="6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374840" y="2822400"/>
            <a:ext cx="765000" cy="460440"/>
            <a:chOff x="1374840" y="2822400"/>
            <a:chExt cx="765000" cy="460440"/>
          </a:xfrm>
        </p:grpSpPr>
        <p:sp>
          <p:nvSpPr>
            <p:cNvPr id="195" name=""/>
            <p:cNvSpPr/>
            <p:nvPr/>
          </p:nvSpPr>
          <p:spPr>
            <a:xfrm>
              <a:off x="1374840" y="2836800"/>
              <a:ext cx="757080" cy="446040"/>
            </a:xfrm>
            <a:custGeom>
              <a:avLst/>
              <a:gdLst/>
              <a:ahLst/>
              <a:rect l="l" t="t" r="r" b="b"/>
              <a:pathLst>
                <a:path w="477" h="281">
                  <a:moveTo>
                    <a:pt x="2" y="179"/>
                  </a:moveTo>
                  <a:lnTo>
                    <a:pt x="0" y="97"/>
                  </a:lnTo>
                  <a:lnTo>
                    <a:pt x="18" y="113"/>
                  </a:lnTo>
                  <a:lnTo>
                    <a:pt x="19" y="163"/>
                  </a:lnTo>
                  <a:lnTo>
                    <a:pt x="52" y="177"/>
                  </a:lnTo>
                  <a:lnTo>
                    <a:pt x="50" y="96"/>
                  </a:lnTo>
                  <a:lnTo>
                    <a:pt x="21" y="113"/>
                  </a:lnTo>
                  <a:lnTo>
                    <a:pt x="3" y="97"/>
                  </a:lnTo>
                  <a:lnTo>
                    <a:pt x="46" y="65"/>
                  </a:lnTo>
                  <a:lnTo>
                    <a:pt x="45" y="50"/>
                  </a:lnTo>
                  <a:lnTo>
                    <a:pt x="60" y="46"/>
                  </a:lnTo>
                  <a:lnTo>
                    <a:pt x="59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70" y="2"/>
                  </a:lnTo>
                  <a:lnTo>
                    <a:pt x="137" y="0"/>
                  </a:lnTo>
                  <a:lnTo>
                    <a:pt x="138" y="16"/>
                  </a:lnTo>
                  <a:lnTo>
                    <a:pt x="152" y="16"/>
                  </a:lnTo>
                  <a:lnTo>
                    <a:pt x="153" y="40"/>
                  </a:lnTo>
                  <a:lnTo>
                    <a:pt x="171" y="46"/>
                  </a:lnTo>
                  <a:lnTo>
                    <a:pt x="171" y="62"/>
                  </a:lnTo>
                  <a:lnTo>
                    <a:pt x="203" y="61"/>
                  </a:lnTo>
                  <a:lnTo>
                    <a:pt x="203" y="71"/>
                  </a:lnTo>
                  <a:lnTo>
                    <a:pt x="209" y="73"/>
                  </a:lnTo>
                  <a:lnTo>
                    <a:pt x="241" y="73"/>
                  </a:lnTo>
                  <a:lnTo>
                    <a:pt x="242" y="88"/>
                  </a:lnTo>
                  <a:lnTo>
                    <a:pt x="446" y="80"/>
                  </a:lnTo>
                  <a:lnTo>
                    <a:pt x="476" y="117"/>
                  </a:lnTo>
                  <a:lnTo>
                    <a:pt x="445" y="168"/>
                  </a:lnTo>
                  <a:lnTo>
                    <a:pt x="433" y="149"/>
                  </a:lnTo>
                  <a:lnTo>
                    <a:pt x="424" y="150"/>
                  </a:lnTo>
                  <a:lnTo>
                    <a:pt x="413" y="168"/>
                  </a:lnTo>
                  <a:lnTo>
                    <a:pt x="404" y="150"/>
                  </a:lnTo>
                  <a:lnTo>
                    <a:pt x="398" y="153"/>
                  </a:lnTo>
                  <a:lnTo>
                    <a:pt x="392" y="169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45" y="152"/>
                  </a:lnTo>
                  <a:lnTo>
                    <a:pt x="334" y="152"/>
                  </a:lnTo>
                  <a:lnTo>
                    <a:pt x="316" y="171"/>
                  </a:lnTo>
                  <a:lnTo>
                    <a:pt x="305" y="153"/>
                  </a:lnTo>
                  <a:lnTo>
                    <a:pt x="290" y="153"/>
                  </a:lnTo>
                  <a:lnTo>
                    <a:pt x="273" y="172"/>
                  </a:lnTo>
                  <a:lnTo>
                    <a:pt x="244" y="173"/>
                  </a:lnTo>
                  <a:lnTo>
                    <a:pt x="244" y="194"/>
                  </a:lnTo>
                  <a:lnTo>
                    <a:pt x="207" y="195"/>
                  </a:lnTo>
                  <a:lnTo>
                    <a:pt x="207" y="205"/>
                  </a:lnTo>
                  <a:lnTo>
                    <a:pt x="172" y="206"/>
                  </a:lnTo>
                  <a:lnTo>
                    <a:pt x="172" y="221"/>
                  </a:lnTo>
                  <a:lnTo>
                    <a:pt x="158" y="228"/>
                  </a:lnTo>
                  <a:lnTo>
                    <a:pt x="158" y="253"/>
                  </a:lnTo>
                  <a:lnTo>
                    <a:pt x="144" y="253"/>
                  </a:lnTo>
                  <a:lnTo>
                    <a:pt x="144" y="278"/>
                  </a:lnTo>
                  <a:lnTo>
                    <a:pt x="74" y="280"/>
                  </a:lnTo>
                  <a:lnTo>
                    <a:pt x="74" y="258"/>
                  </a:lnTo>
                  <a:lnTo>
                    <a:pt x="65" y="258"/>
                  </a:lnTo>
                  <a:lnTo>
                    <a:pt x="64" y="237"/>
                  </a:lnTo>
                  <a:lnTo>
                    <a:pt x="61" y="230"/>
                  </a:lnTo>
                  <a:lnTo>
                    <a:pt x="50" y="224"/>
                  </a:lnTo>
                  <a:lnTo>
                    <a:pt x="49" y="209"/>
                  </a:lnTo>
                  <a:lnTo>
                    <a:pt x="2" y="17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2760" y="2822400"/>
              <a:ext cx="757080" cy="444600"/>
            </a:xfrm>
            <a:custGeom>
              <a:avLst/>
              <a:gdLst/>
              <a:ahLst/>
              <a:rect l="l" t="t" r="r" b="b"/>
              <a:pathLst>
                <a:path w="477" h="280">
                  <a:moveTo>
                    <a:pt x="2" y="184"/>
                  </a:moveTo>
                  <a:lnTo>
                    <a:pt x="0" y="100"/>
                  </a:lnTo>
                  <a:lnTo>
                    <a:pt x="18" y="115"/>
                  </a:lnTo>
                  <a:lnTo>
                    <a:pt x="19" y="162"/>
                  </a:lnTo>
                  <a:lnTo>
                    <a:pt x="46" y="183"/>
                  </a:lnTo>
                  <a:lnTo>
                    <a:pt x="44" y="95"/>
                  </a:lnTo>
                  <a:lnTo>
                    <a:pt x="18" y="115"/>
                  </a:lnTo>
                  <a:lnTo>
                    <a:pt x="0" y="100"/>
                  </a:lnTo>
                  <a:lnTo>
                    <a:pt x="43" y="67"/>
                  </a:lnTo>
                  <a:lnTo>
                    <a:pt x="43" y="52"/>
                  </a:lnTo>
                  <a:lnTo>
                    <a:pt x="57" y="45"/>
                  </a:lnTo>
                  <a:lnTo>
                    <a:pt x="57" y="23"/>
                  </a:lnTo>
                  <a:lnTo>
                    <a:pt x="68" y="23"/>
                  </a:lnTo>
                  <a:lnTo>
                    <a:pt x="68" y="11"/>
                  </a:lnTo>
                  <a:lnTo>
                    <a:pt x="68" y="1"/>
                  </a:lnTo>
                  <a:lnTo>
                    <a:pt x="135" y="0"/>
                  </a:lnTo>
                  <a:lnTo>
                    <a:pt x="135" y="21"/>
                  </a:lnTo>
                  <a:lnTo>
                    <a:pt x="147" y="21"/>
                  </a:lnTo>
                  <a:lnTo>
                    <a:pt x="147" y="43"/>
                  </a:lnTo>
                  <a:lnTo>
                    <a:pt x="168" y="49"/>
                  </a:lnTo>
                  <a:lnTo>
                    <a:pt x="168" y="61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4" y="73"/>
                  </a:lnTo>
                  <a:lnTo>
                    <a:pt x="242" y="72"/>
                  </a:lnTo>
                  <a:lnTo>
                    <a:pt x="242" y="87"/>
                  </a:lnTo>
                  <a:lnTo>
                    <a:pt x="443" y="82"/>
                  </a:lnTo>
                  <a:lnTo>
                    <a:pt x="476" y="119"/>
                  </a:lnTo>
                  <a:lnTo>
                    <a:pt x="439" y="167"/>
                  </a:lnTo>
                  <a:lnTo>
                    <a:pt x="430" y="151"/>
                  </a:lnTo>
                  <a:lnTo>
                    <a:pt x="418" y="152"/>
                  </a:lnTo>
                  <a:lnTo>
                    <a:pt x="407" y="168"/>
                  </a:lnTo>
                  <a:lnTo>
                    <a:pt x="398" y="152"/>
                  </a:lnTo>
                  <a:lnTo>
                    <a:pt x="395" y="155"/>
                  </a:lnTo>
                  <a:lnTo>
                    <a:pt x="387" y="168"/>
                  </a:lnTo>
                  <a:lnTo>
                    <a:pt x="360" y="172"/>
                  </a:lnTo>
                  <a:lnTo>
                    <a:pt x="358" y="175"/>
                  </a:lnTo>
                  <a:lnTo>
                    <a:pt x="343" y="151"/>
                  </a:lnTo>
                  <a:lnTo>
                    <a:pt x="331" y="151"/>
                  </a:lnTo>
                  <a:lnTo>
                    <a:pt x="314" y="170"/>
                  </a:lnTo>
                  <a:lnTo>
                    <a:pt x="302" y="155"/>
                  </a:lnTo>
                  <a:lnTo>
                    <a:pt x="287" y="155"/>
                  </a:lnTo>
                  <a:lnTo>
                    <a:pt x="267" y="171"/>
                  </a:lnTo>
                  <a:lnTo>
                    <a:pt x="241" y="175"/>
                  </a:lnTo>
                  <a:lnTo>
                    <a:pt x="241" y="197"/>
                  </a:lnTo>
                  <a:lnTo>
                    <a:pt x="204" y="198"/>
                  </a:lnTo>
                  <a:lnTo>
                    <a:pt x="204" y="210"/>
                  </a:lnTo>
                  <a:lnTo>
                    <a:pt x="169" y="211"/>
                  </a:lnTo>
                  <a:lnTo>
                    <a:pt x="169" y="224"/>
                  </a:lnTo>
                  <a:lnTo>
                    <a:pt x="152" y="230"/>
                  </a:lnTo>
                  <a:lnTo>
                    <a:pt x="153" y="258"/>
                  </a:lnTo>
                  <a:lnTo>
                    <a:pt x="141" y="259"/>
                  </a:lnTo>
                  <a:lnTo>
                    <a:pt x="141" y="277"/>
                  </a:lnTo>
                  <a:lnTo>
                    <a:pt x="72" y="279"/>
                  </a:lnTo>
                  <a:lnTo>
                    <a:pt x="71" y="260"/>
                  </a:lnTo>
                  <a:lnTo>
                    <a:pt x="63" y="261"/>
                  </a:lnTo>
                  <a:lnTo>
                    <a:pt x="62" y="236"/>
                  </a:lnTo>
                  <a:lnTo>
                    <a:pt x="56" y="233"/>
                  </a:lnTo>
                  <a:lnTo>
                    <a:pt x="47" y="227"/>
                  </a:lnTo>
                  <a:lnTo>
                    <a:pt x="47" y="214"/>
                  </a:lnTo>
                  <a:lnTo>
                    <a:pt x="2" y="18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500120" y="2868480"/>
              <a:ext cx="92160" cy="336600"/>
              <a:chOff x="1500120" y="2868480"/>
              <a:chExt cx="92160" cy="336600"/>
            </a:xfrm>
          </p:grpSpPr>
          <p:sp>
            <p:nvSpPr>
              <p:cNvPr id="198" name=""/>
              <p:cNvSpPr/>
              <p:nvPr/>
            </p:nvSpPr>
            <p:spPr>
              <a:xfrm>
                <a:off x="1501920" y="2894040"/>
                <a:ext cx="90360" cy="311040"/>
              </a:xfrm>
              <a:custGeom>
                <a:avLst/>
                <a:gdLst/>
                <a:ahLst/>
                <a:rect l="l" t="t" r="r" b="b"/>
                <a:pathLst>
                  <a:path w="57" h="196">
                    <a:moveTo>
                      <a:pt x="30" y="195"/>
                    </a:moveTo>
                    <a:lnTo>
                      <a:pt x="4" y="180"/>
                    </a:lnTo>
                    <a:lnTo>
                      <a:pt x="0" y="0"/>
                    </a:lnTo>
                    <a:lnTo>
                      <a:pt x="4" y="177"/>
                    </a:lnTo>
                    <a:lnTo>
                      <a:pt x="30" y="192"/>
                    </a:lnTo>
                    <a:lnTo>
                      <a:pt x="56" y="176"/>
                    </a:lnTo>
                    <a:lnTo>
                      <a:pt x="56" y="179"/>
                    </a:lnTo>
                    <a:lnTo>
                      <a:pt x="30" y="19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00120" y="2868480"/>
                <a:ext cx="90720" cy="312840"/>
              </a:xfrm>
              <a:custGeom>
                <a:avLst/>
                <a:gdLst/>
                <a:ahLst/>
                <a:rect l="l" t="t" r="r" b="b"/>
                <a:pathLst>
                  <a:path w="57" h="197">
                    <a:moveTo>
                      <a:pt x="22" y="0"/>
                    </a:moveTo>
                    <a:lnTo>
                      <a:pt x="52" y="15"/>
                    </a:lnTo>
                    <a:lnTo>
                      <a:pt x="56" y="196"/>
                    </a:lnTo>
                    <a:lnTo>
                      <a:pt x="52" y="18"/>
                    </a:lnTo>
                    <a:lnTo>
                      <a:pt x="23" y="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rot="21480000">
              <a:off x="1486080" y="2860560"/>
              <a:ext cx="4680" cy="37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1480000">
              <a:off x="1473120" y="2904840"/>
              <a:ext cx="504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595520" y="2857680"/>
              <a:ext cx="538200" cy="376200"/>
              <a:chOff x="1595520" y="2857680"/>
              <a:chExt cx="538200" cy="376200"/>
            </a:xfrm>
          </p:grpSpPr>
          <p:sp>
            <p:nvSpPr>
              <p:cNvPr id="203" name=""/>
              <p:cNvSpPr/>
              <p:nvPr/>
            </p:nvSpPr>
            <p:spPr>
              <a:xfrm>
                <a:off x="1708200" y="3038400"/>
                <a:ext cx="407880" cy="20880"/>
              </a:xfrm>
              <a:custGeom>
                <a:avLst/>
                <a:gdLst/>
                <a:ahLst/>
                <a:rect l="l" t="t" r="r" b="b"/>
                <a:pathLst>
                  <a:path w="257" h="13">
                    <a:moveTo>
                      <a:pt x="0" y="6"/>
                    </a:moveTo>
                    <a:lnTo>
                      <a:pt x="256" y="0"/>
                    </a:lnTo>
                    <a:lnTo>
                      <a:pt x="256" y="6"/>
                    </a:lnTo>
                    <a:lnTo>
                      <a:pt x="6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2982960"/>
                <a:ext cx="403200" cy="20520"/>
              </a:xfrm>
              <a:custGeom>
                <a:avLst/>
                <a:gdLst/>
                <a:ahLst/>
                <a:rect l="l" t="t" r="r" b="b"/>
                <a:pathLst>
                  <a:path w="254" h="13">
                    <a:moveTo>
                      <a:pt x="0" y="6"/>
                    </a:moveTo>
                    <a:lnTo>
                      <a:pt x="250" y="0"/>
                    </a:lnTo>
                    <a:lnTo>
                      <a:pt x="253" y="6"/>
                    </a:lnTo>
                    <a:lnTo>
                      <a:pt x="21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595520" y="2857680"/>
                <a:ext cx="538200" cy="376200"/>
                <a:chOff x="1595520" y="2857680"/>
                <a:chExt cx="538200" cy="376200"/>
              </a:xfrm>
            </p:grpSpPr>
            <p:sp>
              <p:nvSpPr>
                <p:cNvPr id="206" name=""/>
                <p:cNvSpPr/>
                <p:nvPr/>
              </p:nvSpPr>
              <p:spPr>
                <a:xfrm rot="21480000">
                  <a:off x="1602000" y="2857680"/>
                  <a:ext cx="9360" cy="376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1480000">
                  <a:off x="1650960" y="2921040"/>
                  <a:ext cx="9720" cy="231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16120" y="2992320"/>
                  <a:ext cx="417600" cy="32040"/>
                </a:xfrm>
                <a:custGeom>
                  <a:avLst/>
                  <a:gdLst/>
                  <a:ahLst/>
                  <a:rect l="l" t="t" r="r" b="b"/>
                  <a:pathLst>
                    <a:path w="263" h="20">
                      <a:moveTo>
                        <a:pt x="0" y="0"/>
                      </a:moveTo>
                      <a:lnTo>
                        <a:pt x="14" y="6"/>
                      </a:lnTo>
                      <a:lnTo>
                        <a:pt x="32" y="12"/>
                      </a:lnTo>
                      <a:lnTo>
                        <a:pt x="259" y="7"/>
                      </a:lnTo>
                      <a:lnTo>
                        <a:pt x="262" y="13"/>
                      </a:lnTo>
                      <a:lnTo>
                        <a:pt x="2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98840" y="2933640"/>
                  <a:ext cx="66600" cy="204840"/>
                </a:xfrm>
                <a:custGeom>
                  <a:avLst/>
                  <a:gdLst/>
                  <a:ahLst/>
                  <a:rect l="l" t="t" r="r" b="b"/>
                  <a:pathLst>
                    <a:path w="42" h="129">
                      <a:moveTo>
                        <a:pt x="41" y="106"/>
                      </a:moveTo>
                      <a:lnTo>
                        <a:pt x="33" y="112"/>
                      </a:lnTo>
                      <a:lnTo>
                        <a:pt x="6" y="113"/>
                      </a:lnTo>
                      <a:lnTo>
                        <a:pt x="6" y="128"/>
                      </a:lnTo>
                      <a:lnTo>
                        <a:pt x="4" y="128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5" y="72"/>
                      </a:lnTo>
                      <a:lnTo>
                        <a:pt x="14" y="78"/>
                      </a:lnTo>
                      <a:lnTo>
                        <a:pt x="15" y="103"/>
                      </a:lnTo>
                      <a:lnTo>
                        <a:pt x="41" y="10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6040" y="2890800"/>
                  <a:ext cx="15840" cy="29844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4" y="187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9" y="187"/>
                      </a:lnTo>
                      <a:lnTo>
                        <a:pt x="4" y="187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"/>
          <p:cNvSpPr/>
          <p:nvPr/>
        </p:nvSpPr>
        <p:spPr>
          <a:xfrm>
            <a:off x="1987560" y="2668680"/>
            <a:ext cx="3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3080" y="144936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0960" y="32781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43120" y="281952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363760"/>
            <a:ext cx="70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72080" y="1677960"/>
            <a:ext cx="179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ed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305240" y="4343400"/>
            <a:ext cx="1155600" cy="1612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6244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678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5920" y="60213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1492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53160" y="5030640"/>
            <a:ext cx="118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16320" y="2044800"/>
            <a:ext cx="1524240" cy="1346040"/>
            <a:chOff x="4216320" y="2044800"/>
            <a:chExt cx="1524240" cy="134604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4216320" y="2044800"/>
              <a:ext cx="8892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383000" y="2211480"/>
              <a:ext cx="393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0720" y="304956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926240" y="3044880"/>
              <a:ext cx="814320" cy="239760"/>
              <a:chOff x="4926240" y="3044880"/>
              <a:chExt cx="814320" cy="239760"/>
            </a:xfrm>
          </p:grpSpPr>
          <p:sp>
            <p:nvSpPr>
              <p:cNvPr id="228" name=""/>
              <p:cNvSpPr/>
              <p:nvPr/>
            </p:nvSpPr>
            <p:spPr>
              <a:xfrm>
                <a:off x="5040360" y="3044880"/>
                <a:ext cx="700200" cy="210960"/>
              </a:xfrm>
              <a:custGeom>
                <a:avLst/>
                <a:gdLst/>
                <a:ahLst/>
                <a:rect l="l" t="t" r="r" b="b"/>
                <a:pathLst>
                  <a:path w="441" h="133">
                    <a:moveTo>
                      <a:pt x="366" y="4"/>
                    </a:moveTo>
                    <a:lnTo>
                      <a:pt x="392" y="0"/>
                    </a:lnTo>
                    <a:lnTo>
                      <a:pt x="413" y="0"/>
                    </a:lnTo>
                    <a:lnTo>
                      <a:pt x="429" y="7"/>
                    </a:lnTo>
                    <a:lnTo>
                      <a:pt x="440" y="13"/>
                    </a:lnTo>
                    <a:lnTo>
                      <a:pt x="440" y="23"/>
                    </a:lnTo>
                    <a:lnTo>
                      <a:pt x="424" y="33"/>
                    </a:lnTo>
                    <a:lnTo>
                      <a:pt x="403" y="43"/>
                    </a:lnTo>
                    <a:lnTo>
                      <a:pt x="376" y="53"/>
                    </a:lnTo>
                    <a:lnTo>
                      <a:pt x="75" y="125"/>
                    </a:lnTo>
                    <a:lnTo>
                      <a:pt x="48" y="132"/>
                    </a:lnTo>
                    <a:lnTo>
                      <a:pt x="27" y="132"/>
                    </a:lnTo>
                    <a:lnTo>
                      <a:pt x="11" y="125"/>
                    </a:lnTo>
                    <a:lnTo>
                      <a:pt x="0" y="119"/>
                    </a:lnTo>
                    <a:lnTo>
                      <a:pt x="6" y="109"/>
                    </a:lnTo>
                    <a:lnTo>
                      <a:pt x="16" y="96"/>
                    </a:lnTo>
                    <a:lnTo>
                      <a:pt x="37" y="86"/>
                    </a:lnTo>
                    <a:lnTo>
                      <a:pt x="64" y="79"/>
                    </a:lnTo>
                    <a:lnTo>
                      <a:pt x="366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26240" y="3166920"/>
                <a:ext cx="244440" cy="117720"/>
              </a:xfrm>
              <a:custGeom>
                <a:avLst/>
                <a:gdLst/>
                <a:ahLst/>
                <a:rect l="l" t="t" r="r" b="b"/>
                <a:pathLst>
                  <a:path w="154" h="74">
                    <a:moveTo>
                      <a:pt x="31" y="27"/>
                    </a:moveTo>
                    <a:lnTo>
                      <a:pt x="141" y="0"/>
                    </a:lnTo>
                    <a:lnTo>
                      <a:pt x="110" y="32"/>
                    </a:lnTo>
                    <a:lnTo>
                      <a:pt x="153" y="47"/>
                    </a:lnTo>
                    <a:lnTo>
                      <a:pt x="42" y="73"/>
                    </a:lnTo>
                    <a:lnTo>
                      <a:pt x="0" y="59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237200" y="297180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001040" y="5016600"/>
            <a:ext cx="710640" cy="952560"/>
            <a:chOff x="4001040" y="5016600"/>
            <a:chExt cx="710640" cy="952560"/>
          </a:xfrm>
        </p:grpSpPr>
        <p:pic>
          <p:nvPicPr>
            <p:cNvPr id="232" name="" descr=""/>
            <p:cNvPicPr/>
            <p:nvPr/>
          </p:nvPicPr>
          <p:blipFill>
            <a:blip r:embed="rId5"/>
            <a:stretch/>
          </p:blipFill>
          <p:spPr>
            <a:xfrm>
              <a:off x="4064040" y="5016600"/>
              <a:ext cx="6476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084560" y="571500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1040" y="5716440"/>
              <a:ext cx="698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4400" y="525924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05240" y="5486400"/>
            <a:ext cx="763560" cy="458640"/>
            <a:chOff x="4305240" y="5486400"/>
            <a:chExt cx="763560" cy="458640"/>
          </a:xfrm>
        </p:grpSpPr>
        <p:sp>
          <p:nvSpPr>
            <p:cNvPr id="237" name=""/>
            <p:cNvSpPr/>
            <p:nvPr/>
          </p:nvSpPr>
          <p:spPr>
            <a:xfrm>
              <a:off x="431496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524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854600" y="5560920"/>
              <a:ext cx="88920" cy="339840"/>
              <a:chOff x="4854600" y="5560920"/>
              <a:chExt cx="88920" cy="339840"/>
            </a:xfrm>
          </p:grpSpPr>
          <p:sp>
            <p:nvSpPr>
              <p:cNvPr id="240" name=""/>
              <p:cNvSpPr/>
              <p:nvPr/>
            </p:nvSpPr>
            <p:spPr>
              <a:xfrm>
                <a:off x="485460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5460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951440" y="5530680"/>
              <a:ext cx="4680" cy="37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65840" y="5570640"/>
              <a:ext cx="4680" cy="293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4310280" y="5530680"/>
              <a:ext cx="529920" cy="378000"/>
              <a:chOff x="4310280" y="5530680"/>
              <a:chExt cx="529920" cy="378000"/>
            </a:xfrm>
          </p:grpSpPr>
          <p:sp>
            <p:nvSpPr>
              <p:cNvPr id="245" name=""/>
              <p:cNvSpPr/>
              <p:nvPr/>
            </p:nvSpPr>
            <p:spPr>
              <a:xfrm>
                <a:off x="432900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2432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4310280" y="5530680"/>
                <a:ext cx="529920" cy="378000"/>
                <a:chOff x="4310280" y="5530680"/>
                <a:chExt cx="529920" cy="3780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830840" y="5530680"/>
                  <a:ext cx="9360" cy="3780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84760" y="5610240"/>
                  <a:ext cx="9720" cy="233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31028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7856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1320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6972480" y="4483080"/>
            <a:ext cx="1409040" cy="1816200"/>
            <a:chOff x="6972480" y="4483080"/>
            <a:chExt cx="1409040" cy="1816200"/>
          </a:xfrm>
        </p:grpSpPr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492680" y="4483080"/>
              <a:ext cx="8888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659360" y="4649760"/>
              <a:ext cx="37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6720" y="541188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3200" y="541008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972480" y="5403960"/>
              <a:ext cx="944280" cy="895320"/>
              <a:chOff x="6972480" y="5403960"/>
              <a:chExt cx="944280" cy="8953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972480" y="5403960"/>
                <a:ext cx="894600" cy="895320"/>
                <a:chOff x="6972480" y="5403960"/>
                <a:chExt cx="894600" cy="8953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397280" y="5403960"/>
                  <a:ext cx="469800" cy="469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72480" y="5765760"/>
                  <a:ext cx="53280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2" name=""/>
              <p:cNvSpPr/>
              <p:nvPr/>
            </p:nvSpPr>
            <p:spPr>
              <a:xfrm>
                <a:off x="7328520" y="5411880"/>
                <a:ext cx="588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B8B2-DF6F-40AF-B4D1-B46376AB54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s and Cons of Symmetric Cryp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cryptography is relatively e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achieve non-repudi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obtain shared secret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9A19-A915-49E5-A951-5918E0E2E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Key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ser shares a key with a trusted key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 (K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438280"/>
            <a:ext cx="14479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2438280"/>
            <a:ext cx="14479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191120"/>
            <a:ext cx="14479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4640" y="25750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4160" y="25909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1520" y="4343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35400" y="3809880"/>
            <a:ext cx="114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B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86400" y="3200400"/>
            <a:ext cx="1295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200400"/>
            <a:ext cx="20574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2437920" y="3200040"/>
            <a:ext cx="1600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10840" y="388620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63600" y="3336840"/>
            <a:ext cx="114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30240" y="4114800"/>
            <a:ext cx="15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181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online workload for KTC. Users trust KTC uncondition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9818-6B32-4CDD-89B8-4CC4EC82EC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ublic-key cryptographic scheme, each user 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keys known as a key pair. One key is public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s priv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hematical relationship between the k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knowledge of public key does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encryption schemes provid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. Public key signature sche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data integrity, data origin authentic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non-repudi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F4B7-9B72-4724-AC17-502A26631C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Encryption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09720" y="1523880"/>
            <a:ext cx="1434960" cy="1778040"/>
            <a:chOff x="909720" y="1523880"/>
            <a:chExt cx="1434960" cy="177804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90972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69704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"/>
            <p:cNvGrpSpPr/>
            <p:nvPr/>
          </p:nvGrpSpPr>
          <p:grpSpPr>
            <a:xfrm>
              <a:off x="1255680" y="2822400"/>
              <a:ext cx="765000" cy="460440"/>
              <a:chOff x="1255680" y="2822400"/>
              <a:chExt cx="765000" cy="460440"/>
            </a:xfrm>
          </p:grpSpPr>
          <p:sp>
            <p:nvSpPr>
              <p:cNvPr id="289" name=""/>
              <p:cNvSpPr/>
              <p:nvPr/>
            </p:nvSpPr>
            <p:spPr>
              <a:xfrm>
                <a:off x="125568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6360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380960" y="2868480"/>
                <a:ext cx="92160" cy="336600"/>
                <a:chOff x="1380960" y="2868480"/>
                <a:chExt cx="92160" cy="336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38276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38096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 rot="21480000">
                <a:off x="136692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480000">
                <a:off x="135396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1476360" y="2857680"/>
                <a:ext cx="538200" cy="376200"/>
                <a:chOff x="1476360" y="2857680"/>
                <a:chExt cx="538200" cy="3762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58904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59696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1476360" y="2857680"/>
                  <a:ext cx="538200" cy="376200"/>
                  <a:chOff x="1476360" y="2857680"/>
                  <a:chExt cx="538200" cy="376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1480000">
                    <a:off x="148284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1480000">
                    <a:off x="153180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59696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57968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49688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5" name=""/>
            <p:cNvSpPr/>
            <p:nvPr/>
          </p:nvSpPr>
          <p:spPr>
            <a:xfrm>
              <a:off x="186840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35120" y="327816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173480" y="2120760"/>
            <a:ext cx="889200" cy="1257480"/>
            <a:chOff x="4173480" y="2120760"/>
            <a:chExt cx="889200" cy="1257480"/>
          </a:xfrm>
        </p:grpSpPr>
        <p:pic>
          <p:nvPicPr>
            <p:cNvPr id="308" name="" descr=""/>
            <p:cNvPicPr/>
            <p:nvPr/>
          </p:nvPicPr>
          <p:blipFill>
            <a:blip r:embed="rId3"/>
            <a:stretch/>
          </p:blipFill>
          <p:spPr>
            <a:xfrm>
              <a:off x="4173480" y="2120760"/>
              <a:ext cx="8892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253040" y="2200320"/>
              <a:ext cx="64116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523960" y="2363760"/>
            <a:ext cx="1497240" cy="455760"/>
            <a:chOff x="2523960" y="2363760"/>
            <a:chExt cx="1497240" cy="455760"/>
          </a:xfrm>
        </p:grpSpPr>
        <p:sp>
          <p:nvSpPr>
            <p:cNvPr id="311" name=""/>
            <p:cNvSpPr/>
            <p:nvPr/>
          </p:nvSpPr>
          <p:spPr>
            <a:xfrm>
              <a:off x="2523960" y="2819520"/>
              <a:ext cx="149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87680" y="2363760"/>
              <a:ext cx="122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957840" y="167796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4186080" y="4343400"/>
            <a:ext cx="1155960" cy="1612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94488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186080" y="5486400"/>
            <a:ext cx="763560" cy="458640"/>
            <a:chOff x="4186080" y="5486400"/>
            <a:chExt cx="763560" cy="458640"/>
          </a:xfrm>
        </p:grpSpPr>
        <p:sp>
          <p:nvSpPr>
            <p:cNvPr id="317" name=""/>
            <p:cNvSpPr/>
            <p:nvPr/>
          </p:nvSpPr>
          <p:spPr>
            <a:xfrm>
              <a:off x="419580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8608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735440" y="5560920"/>
              <a:ext cx="88920" cy="339840"/>
              <a:chOff x="4735440" y="5560920"/>
              <a:chExt cx="88920" cy="339840"/>
            </a:xfrm>
          </p:grpSpPr>
          <p:sp>
            <p:nvSpPr>
              <p:cNvPr id="320" name=""/>
              <p:cNvSpPr/>
              <p:nvPr/>
            </p:nvSpPr>
            <p:spPr>
              <a:xfrm>
                <a:off x="473544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544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832280" y="5530680"/>
              <a:ext cx="4680" cy="378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6680" y="5570640"/>
              <a:ext cx="4680" cy="29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191120" y="5530680"/>
              <a:ext cx="529920" cy="378000"/>
              <a:chOff x="4191120" y="5530680"/>
              <a:chExt cx="529920" cy="378000"/>
            </a:xfrm>
          </p:grpSpPr>
          <p:sp>
            <p:nvSpPr>
              <p:cNvPr id="325" name=""/>
              <p:cNvSpPr/>
              <p:nvPr/>
            </p:nvSpPr>
            <p:spPr>
              <a:xfrm>
                <a:off x="420984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0516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4191120" y="5530680"/>
                <a:ext cx="529920" cy="378000"/>
                <a:chOff x="4191120" y="5530680"/>
                <a:chExt cx="529920" cy="3780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711680" y="5530680"/>
                  <a:ext cx="9360" cy="3780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65600" y="5610240"/>
                  <a:ext cx="9720" cy="23328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19112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5940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9404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3" name=""/>
          <p:cNvSpPr/>
          <p:nvPr/>
        </p:nvSpPr>
        <p:spPr>
          <a:xfrm>
            <a:off x="395928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90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297560" y="4788000"/>
            <a:ext cx="889200" cy="1257120"/>
            <a:chOff x="7297560" y="4788000"/>
            <a:chExt cx="889200" cy="1257120"/>
          </a:xfrm>
        </p:grpSpPr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729756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46424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9576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59480" y="503064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456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75920" y="6021360"/>
            <a:ext cx="14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933B-C780-4F41-98E9-282FB45431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Signature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028880" y="1523880"/>
            <a:ext cx="1104840" cy="15368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816200" y="2425680"/>
            <a:ext cx="6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1374840" y="2822400"/>
            <a:ext cx="765000" cy="460440"/>
            <a:chOff x="1374840" y="2822400"/>
            <a:chExt cx="765000" cy="460440"/>
          </a:xfrm>
        </p:grpSpPr>
        <p:sp>
          <p:nvSpPr>
            <p:cNvPr id="348" name=""/>
            <p:cNvSpPr/>
            <p:nvPr/>
          </p:nvSpPr>
          <p:spPr>
            <a:xfrm>
              <a:off x="1374840" y="2836800"/>
              <a:ext cx="757080" cy="446040"/>
            </a:xfrm>
            <a:custGeom>
              <a:avLst/>
              <a:gdLst/>
              <a:ahLst/>
              <a:rect l="l" t="t" r="r" b="b"/>
              <a:pathLst>
                <a:path w="477" h="281">
                  <a:moveTo>
                    <a:pt x="2" y="179"/>
                  </a:moveTo>
                  <a:lnTo>
                    <a:pt x="0" y="97"/>
                  </a:lnTo>
                  <a:lnTo>
                    <a:pt x="18" y="113"/>
                  </a:lnTo>
                  <a:lnTo>
                    <a:pt x="19" y="163"/>
                  </a:lnTo>
                  <a:lnTo>
                    <a:pt x="52" y="177"/>
                  </a:lnTo>
                  <a:lnTo>
                    <a:pt x="50" y="96"/>
                  </a:lnTo>
                  <a:lnTo>
                    <a:pt x="21" y="113"/>
                  </a:lnTo>
                  <a:lnTo>
                    <a:pt x="3" y="97"/>
                  </a:lnTo>
                  <a:lnTo>
                    <a:pt x="46" y="65"/>
                  </a:lnTo>
                  <a:lnTo>
                    <a:pt x="45" y="50"/>
                  </a:lnTo>
                  <a:lnTo>
                    <a:pt x="60" y="46"/>
                  </a:lnTo>
                  <a:lnTo>
                    <a:pt x="59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70" y="2"/>
                  </a:lnTo>
                  <a:lnTo>
                    <a:pt x="137" y="0"/>
                  </a:lnTo>
                  <a:lnTo>
                    <a:pt x="138" y="16"/>
                  </a:lnTo>
                  <a:lnTo>
                    <a:pt x="152" y="16"/>
                  </a:lnTo>
                  <a:lnTo>
                    <a:pt x="153" y="40"/>
                  </a:lnTo>
                  <a:lnTo>
                    <a:pt x="171" y="46"/>
                  </a:lnTo>
                  <a:lnTo>
                    <a:pt x="171" y="62"/>
                  </a:lnTo>
                  <a:lnTo>
                    <a:pt x="203" y="61"/>
                  </a:lnTo>
                  <a:lnTo>
                    <a:pt x="203" y="71"/>
                  </a:lnTo>
                  <a:lnTo>
                    <a:pt x="209" y="73"/>
                  </a:lnTo>
                  <a:lnTo>
                    <a:pt x="241" y="73"/>
                  </a:lnTo>
                  <a:lnTo>
                    <a:pt x="242" y="88"/>
                  </a:lnTo>
                  <a:lnTo>
                    <a:pt x="446" y="80"/>
                  </a:lnTo>
                  <a:lnTo>
                    <a:pt x="476" y="117"/>
                  </a:lnTo>
                  <a:lnTo>
                    <a:pt x="445" y="168"/>
                  </a:lnTo>
                  <a:lnTo>
                    <a:pt x="433" y="149"/>
                  </a:lnTo>
                  <a:lnTo>
                    <a:pt x="424" y="150"/>
                  </a:lnTo>
                  <a:lnTo>
                    <a:pt x="413" y="168"/>
                  </a:lnTo>
                  <a:lnTo>
                    <a:pt x="404" y="150"/>
                  </a:lnTo>
                  <a:lnTo>
                    <a:pt x="398" y="153"/>
                  </a:lnTo>
                  <a:lnTo>
                    <a:pt x="392" y="169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45" y="152"/>
                  </a:lnTo>
                  <a:lnTo>
                    <a:pt x="334" y="152"/>
                  </a:lnTo>
                  <a:lnTo>
                    <a:pt x="316" y="171"/>
                  </a:lnTo>
                  <a:lnTo>
                    <a:pt x="305" y="153"/>
                  </a:lnTo>
                  <a:lnTo>
                    <a:pt x="290" y="153"/>
                  </a:lnTo>
                  <a:lnTo>
                    <a:pt x="273" y="172"/>
                  </a:lnTo>
                  <a:lnTo>
                    <a:pt x="244" y="173"/>
                  </a:lnTo>
                  <a:lnTo>
                    <a:pt x="244" y="194"/>
                  </a:lnTo>
                  <a:lnTo>
                    <a:pt x="207" y="195"/>
                  </a:lnTo>
                  <a:lnTo>
                    <a:pt x="207" y="205"/>
                  </a:lnTo>
                  <a:lnTo>
                    <a:pt x="172" y="206"/>
                  </a:lnTo>
                  <a:lnTo>
                    <a:pt x="172" y="221"/>
                  </a:lnTo>
                  <a:lnTo>
                    <a:pt x="158" y="228"/>
                  </a:lnTo>
                  <a:lnTo>
                    <a:pt x="158" y="253"/>
                  </a:lnTo>
                  <a:lnTo>
                    <a:pt x="144" y="253"/>
                  </a:lnTo>
                  <a:lnTo>
                    <a:pt x="144" y="278"/>
                  </a:lnTo>
                  <a:lnTo>
                    <a:pt x="74" y="280"/>
                  </a:lnTo>
                  <a:lnTo>
                    <a:pt x="74" y="258"/>
                  </a:lnTo>
                  <a:lnTo>
                    <a:pt x="65" y="258"/>
                  </a:lnTo>
                  <a:lnTo>
                    <a:pt x="64" y="237"/>
                  </a:lnTo>
                  <a:lnTo>
                    <a:pt x="61" y="230"/>
                  </a:lnTo>
                  <a:lnTo>
                    <a:pt x="50" y="224"/>
                  </a:lnTo>
                  <a:lnTo>
                    <a:pt x="49" y="209"/>
                  </a:lnTo>
                  <a:lnTo>
                    <a:pt x="2" y="179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82760" y="2822400"/>
              <a:ext cx="757080" cy="444600"/>
            </a:xfrm>
            <a:custGeom>
              <a:avLst/>
              <a:gdLst/>
              <a:ahLst/>
              <a:rect l="l" t="t" r="r" b="b"/>
              <a:pathLst>
                <a:path w="477" h="280">
                  <a:moveTo>
                    <a:pt x="2" y="184"/>
                  </a:moveTo>
                  <a:lnTo>
                    <a:pt x="0" y="100"/>
                  </a:lnTo>
                  <a:lnTo>
                    <a:pt x="18" y="115"/>
                  </a:lnTo>
                  <a:lnTo>
                    <a:pt x="19" y="162"/>
                  </a:lnTo>
                  <a:lnTo>
                    <a:pt x="46" y="183"/>
                  </a:lnTo>
                  <a:lnTo>
                    <a:pt x="44" y="95"/>
                  </a:lnTo>
                  <a:lnTo>
                    <a:pt x="18" y="115"/>
                  </a:lnTo>
                  <a:lnTo>
                    <a:pt x="0" y="100"/>
                  </a:lnTo>
                  <a:lnTo>
                    <a:pt x="43" y="67"/>
                  </a:lnTo>
                  <a:lnTo>
                    <a:pt x="43" y="52"/>
                  </a:lnTo>
                  <a:lnTo>
                    <a:pt x="57" y="45"/>
                  </a:lnTo>
                  <a:lnTo>
                    <a:pt x="57" y="23"/>
                  </a:lnTo>
                  <a:lnTo>
                    <a:pt x="68" y="23"/>
                  </a:lnTo>
                  <a:lnTo>
                    <a:pt x="68" y="11"/>
                  </a:lnTo>
                  <a:lnTo>
                    <a:pt x="68" y="1"/>
                  </a:lnTo>
                  <a:lnTo>
                    <a:pt x="135" y="0"/>
                  </a:lnTo>
                  <a:lnTo>
                    <a:pt x="135" y="21"/>
                  </a:lnTo>
                  <a:lnTo>
                    <a:pt x="147" y="21"/>
                  </a:lnTo>
                  <a:lnTo>
                    <a:pt x="147" y="43"/>
                  </a:lnTo>
                  <a:lnTo>
                    <a:pt x="168" y="49"/>
                  </a:lnTo>
                  <a:lnTo>
                    <a:pt x="168" y="61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4" y="73"/>
                  </a:lnTo>
                  <a:lnTo>
                    <a:pt x="242" y="72"/>
                  </a:lnTo>
                  <a:lnTo>
                    <a:pt x="242" y="87"/>
                  </a:lnTo>
                  <a:lnTo>
                    <a:pt x="443" y="82"/>
                  </a:lnTo>
                  <a:lnTo>
                    <a:pt x="476" y="119"/>
                  </a:lnTo>
                  <a:lnTo>
                    <a:pt x="439" y="167"/>
                  </a:lnTo>
                  <a:lnTo>
                    <a:pt x="430" y="151"/>
                  </a:lnTo>
                  <a:lnTo>
                    <a:pt x="418" y="152"/>
                  </a:lnTo>
                  <a:lnTo>
                    <a:pt x="407" y="168"/>
                  </a:lnTo>
                  <a:lnTo>
                    <a:pt x="398" y="152"/>
                  </a:lnTo>
                  <a:lnTo>
                    <a:pt x="395" y="155"/>
                  </a:lnTo>
                  <a:lnTo>
                    <a:pt x="387" y="168"/>
                  </a:lnTo>
                  <a:lnTo>
                    <a:pt x="360" y="172"/>
                  </a:lnTo>
                  <a:lnTo>
                    <a:pt x="358" y="175"/>
                  </a:lnTo>
                  <a:lnTo>
                    <a:pt x="343" y="151"/>
                  </a:lnTo>
                  <a:lnTo>
                    <a:pt x="331" y="151"/>
                  </a:lnTo>
                  <a:lnTo>
                    <a:pt x="314" y="170"/>
                  </a:lnTo>
                  <a:lnTo>
                    <a:pt x="302" y="155"/>
                  </a:lnTo>
                  <a:lnTo>
                    <a:pt x="287" y="155"/>
                  </a:lnTo>
                  <a:lnTo>
                    <a:pt x="267" y="171"/>
                  </a:lnTo>
                  <a:lnTo>
                    <a:pt x="241" y="175"/>
                  </a:lnTo>
                  <a:lnTo>
                    <a:pt x="241" y="197"/>
                  </a:lnTo>
                  <a:lnTo>
                    <a:pt x="204" y="198"/>
                  </a:lnTo>
                  <a:lnTo>
                    <a:pt x="204" y="210"/>
                  </a:lnTo>
                  <a:lnTo>
                    <a:pt x="169" y="211"/>
                  </a:lnTo>
                  <a:lnTo>
                    <a:pt x="169" y="224"/>
                  </a:lnTo>
                  <a:lnTo>
                    <a:pt x="152" y="230"/>
                  </a:lnTo>
                  <a:lnTo>
                    <a:pt x="153" y="258"/>
                  </a:lnTo>
                  <a:lnTo>
                    <a:pt x="141" y="259"/>
                  </a:lnTo>
                  <a:lnTo>
                    <a:pt x="141" y="277"/>
                  </a:lnTo>
                  <a:lnTo>
                    <a:pt x="72" y="279"/>
                  </a:lnTo>
                  <a:lnTo>
                    <a:pt x="71" y="260"/>
                  </a:lnTo>
                  <a:lnTo>
                    <a:pt x="63" y="261"/>
                  </a:lnTo>
                  <a:lnTo>
                    <a:pt x="62" y="236"/>
                  </a:lnTo>
                  <a:lnTo>
                    <a:pt x="56" y="233"/>
                  </a:lnTo>
                  <a:lnTo>
                    <a:pt x="47" y="227"/>
                  </a:lnTo>
                  <a:lnTo>
                    <a:pt x="47" y="214"/>
                  </a:lnTo>
                  <a:lnTo>
                    <a:pt x="2" y="18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00120" y="2868480"/>
              <a:ext cx="92160" cy="336600"/>
              <a:chOff x="1500120" y="2868480"/>
              <a:chExt cx="92160" cy="336600"/>
            </a:xfrm>
          </p:grpSpPr>
          <p:sp>
            <p:nvSpPr>
              <p:cNvPr id="351" name=""/>
              <p:cNvSpPr/>
              <p:nvPr/>
            </p:nvSpPr>
            <p:spPr>
              <a:xfrm>
                <a:off x="1501920" y="2894040"/>
                <a:ext cx="90360" cy="311040"/>
              </a:xfrm>
              <a:custGeom>
                <a:avLst/>
                <a:gdLst/>
                <a:ahLst/>
                <a:rect l="l" t="t" r="r" b="b"/>
                <a:pathLst>
                  <a:path w="57" h="196">
                    <a:moveTo>
                      <a:pt x="30" y="195"/>
                    </a:moveTo>
                    <a:lnTo>
                      <a:pt x="4" y="180"/>
                    </a:lnTo>
                    <a:lnTo>
                      <a:pt x="0" y="0"/>
                    </a:lnTo>
                    <a:lnTo>
                      <a:pt x="4" y="177"/>
                    </a:lnTo>
                    <a:lnTo>
                      <a:pt x="30" y="192"/>
                    </a:lnTo>
                    <a:lnTo>
                      <a:pt x="56" y="176"/>
                    </a:lnTo>
                    <a:lnTo>
                      <a:pt x="56" y="179"/>
                    </a:lnTo>
                    <a:lnTo>
                      <a:pt x="30" y="195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00120" y="2868480"/>
                <a:ext cx="90720" cy="312840"/>
              </a:xfrm>
              <a:custGeom>
                <a:avLst/>
                <a:gdLst/>
                <a:ahLst/>
                <a:rect l="l" t="t" r="r" b="b"/>
                <a:pathLst>
                  <a:path w="57" h="197">
                    <a:moveTo>
                      <a:pt x="22" y="0"/>
                    </a:moveTo>
                    <a:lnTo>
                      <a:pt x="52" y="15"/>
                    </a:lnTo>
                    <a:lnTo>
                      <a:pt x="56" y="196"/>
                    </a:lnTo>
                    <a:lnTo>
                      <a:pt x="52" y="18"/>
                    </a:lnTo>
                    <a:lnTo>
                      <a:pt x="23" y="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21480000">
              <a:off x="1486080" y="2860560"/>
              <a:ext cx="4680" cy="376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1480000">
              <a:off x="1473120" y="2904840"/>
              <a:ext cx="5040" cy="291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595520" y="2857680"/>
              <a:ext cx="538200" cy="376200"/>
              <a:chOff x="1595520" y="2857680"/>
              <a:chExt cx="538200" cy="376200"/>
            </a:xfrm>
          </p:grpSpPr>
          <p:sp>
            <p:nvSpPr>
              <p:cNvPr id="356" name=""/>
              <p:cNvSpPr/>
              <p:nvPr/>
            </p:nvSpPr>
            <p:spPr>
              <a:xfrm>
                <a:off x="1708200" y="3038400"/>
                <a:ext cx="407880" cy="20880"/>
              </a:xfrm>
              <a:custGeom>
                <a:avLst/>
                <a:gdLst/>
                <a:ahLst/>
                <a:rect l="l" t="t" r="r" b="b"/>
                <a:pathLst>
                  <a:path w="257" h="13">
                    <a:moveTo>
                      <a:pt x="0" y="6"/>
                    </a:moveTo>
                    <a:lnTo>
                      <a:pt x="256" y="0"/>
                    </a:lnTo>
                    <a:lnTo>
                      <a:pt x="256" y="6"/>
                    </a:lnTo>
                    <a:lnTo>
                      <a:pt x="6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16120" y="2982960"/>
                <a:ext cx="403200" cy="20520"/>
              </a:xfrm>
              <a:custGeom>
                <a:avLst/>
                <a:gdLst/>
                <a:ahLst/>
                <a:rect l="l" t="t" r="r" b="b"/>
                <a:pathLst>
                  <a:path w="254" h="13">
                    <a:moveTo>
                      <a:pt x="0" y="6"/>
                    </a:moveTo>
                    <a:lnTo>
                      <a:pt x="250" y="0"/>
                    </a:lnTo>
                    <a:lnTo>
                      <a:pt x="253" y="6"/>
                    </a:lnTo>
                    <a:lnTo>
                      <a:pt x="21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1595520" y="2857680"/>
                <a:ext cx="538200" cy="376200"/>
                <a:chOff x="1595520" y="2857680"/>
                <a:chExt cx="538200" cy="376200"/>
              </a:xfrm>
            </p:grpSpPr>
            <p:sp>
              <p:nvSpPr>
                <p:cNvPr id="359" name=""/>
                <p:cNvSpPr/>
                <p:nvPr/>
              </p:nvSpPr>
              <p:spPr>
                <a:xfrm rot="21480000">
                  <a:off x="1602000" y="2857680"/>
                  <a:ext cx="9360" cy="3762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21480000">
                  <a:off x="1650960" y="2921040"/>
                  <a:ext cx="9720" cy="23184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716120" y="2992320"/>
                  <a:ext cx="417600" cy="32040"/>
                </a:xfrm>
                <a:custGeom>
                  <a:avLst/>
                  <a:gdLst/>
                  <a:ahLst/>
                  <a:rect l="l" t="t" r="r" b="b"/>
                  <a:pathLst>
                    <a:path w="263" h="20">
                      <a:moveTo>
                        <a:pt x="0" y="0"/>
                      </a:moveTo>
                      <a:lnTo>
                        <a:pt x="14" y="6"/>
                      </a:lnTo>
                      <a:lnTo>
                        <a:pt x="32" y="12"/>
                      </a:lnTo>
                      <a:lnTo>
                        <a:pt x="259" y="7"/>
                      </a:lnTo>
                      <a:lnTo>
                        <a:pt x="262" y="13"/>
                      </a:lnTo>
                      <a:lnTo>
                        <a:pt x="2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98840" y="2933640"/>
                  <a:ext cx="66600" cy="204840"/>
                </a:xfrm>
                <a:custGeom>
                  <a:avLst/>
                  <a:gdLst/>
                  <a:ahLst/>
                  <a:rect l="l" t="t" r="r" b="b"/>
                  <a:pathLst>
                    <a:path w="42" h="129">
                      <a:moveTo>
                        <a:pt x="41" y="106"/>
                      </a:moveTo>
                      <a:lnTo>
                        <a:pt x="33" y="112"/>
                      </a:lnTo>
                      <a:lnTo>
                        <a:pt x="6" y="113"/>
                      </a:lnTo>
                      <a:lnTo>
                        <a:pt x="6" y="128"/>
                      </a:lnTo>
                      <a:lnTo>
                        <a:pt x="4" y="128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5" y="72"/>
                      </a:lnTo>
                      <a:lnTo>
                        <a:pt x="14" y="78"/>
                      </a:lnTo>
                      <a:lnTo>
                        <a:pt x="15" y="103"/>
                      </a:lnTo>
                      <a:lnTo>
                        <a:pt x="41" y="106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16040" y="2890800"/>
                  <a:ext cx="15840" cy="29844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4" y="187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9" y="187"/>
                      </a:lnTo>
                      <a:lnTo>
                        <a:pt x="4" y="187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4" name=""/>
          <p:cNvSpPr/>
          <p:nvPr/>
        </p:nvSpPr>
        <p:spPr>
          <a:xfrm>
            <a:off x="1987560" y="2668680"/>
            <a:ext cx="3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240" y="14479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2520" y="3278160"/>
            <a:ext cx="167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ce’s  Private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43120" y="281952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12120" y="236376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71360" y="16779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ed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305240" y="4343400"/>
            <a:ext cx="1155600" cy="1612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76244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678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75560" y="6021360"/>
            <a:ext cx="1719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ce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1492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54960" y="503064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216320" y="2044800"/>
            <a:ext cx="1524240" cy="1346040"/>
            <a:chOff x="4216320" y="2044800"/>
            <a:chExt cx="1524240" cy="1346040"/>
          </a:xfrm>
        </p:grpSpPr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4216320" y="2044800"/>
              <a:ext cx="8892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383000" y="2211480"/>
              <a:ext cx="393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30720" y="304956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926240" y="3044880"/>
              <a:ext cx="814320" cy="239760"/>
              <a:chOff x="4926240" y="3044880"/>
              <a:chExt cx="814320" cy="239760"/>
            </a:xfrm>
          </p:grpSpPr>
          <p:sp>
            <p:nvSpPr>
              <p:cNvPr id="381" name=""/>
              <p:cNvSpPr/>
              <p:nvPr/>
            </p:nvSpPr>
            <p:spPr>
              <a:xfrm>
                <a:off x="5040360" y="3044880"/>
                <a:ext cx="700200" cy="210960"/>
              </a:xfrm>
              <a:custGeom>
                <a:avLst/>
                <a:gdLst/>
                <a:ahLst/>
                <a:rect l="l" t="t" r="r" b="b"/>
                <a:pathLst>
                  <a:path w="441" h="133">
                    <a:moveTo>
                      <a:pt x="366" y="4"/>
                    </a:moveTo>
                    <a:lnTo>
                      <a:pt x="392" y="0"/>
                    </a:lnTo>
                    <a:lnTo>
                      <a:pt x="413" y="0"/>
                    </a:lnTo>
                    <a:lnTo>
                      <a:pt x="429" y="7"/>
                    </a:lnTo>
                    <a:lnTo>
                      <a:pt x="440" y="13"/>
                    </a:lnTo>
                    <a:lnTo>
                      <a:pt x="440" y="23"/>
                    </a:lnTo>
                    <a:lnTo>
                      <a:pt x="424" y="33"/>
                    </a:lnTo>
                    <a:lnTo>
                      <a:pt x="403" y="43"/>
                    </a:lnTo>
                    <a:lnTo>
                      <a:pt x="376" y="53"/>
                    </a:lnTo>
                    <a:lnTo>
                      <a:pt x="75" y="125"/>
                    </a:lnTo>
                    <a:lnTo>
                      <a:pt x="48" y="132"/>
                    </a:lnTo>
                    <a:lnTo>
                      <a:pt x="27" y="132"/>
                    </a:lnTo>
                    <a:lnTo>
                      <a:pt x="11" y="125"/>
                    </a:lnTo>
                    <a:lnTo>
                      <a:pt x="0" y="119"/>
                    </a:lnTo>
                    <a:lnTo>
                      <a:pt x="6" y="109"/>
                    </a:lnTo>
                    <a:lnTo>
                      <a:pt x="16" y="96"/>
                    </a:lnTo>
                    <a:lnTo>
                      <a:pt x="37" y="86"/>
                    </a:lnTo>
                    <a:lnTo>
                      <a:pt x="64" y="79"/>
                    </a:lnTo>
                    <a:lnTo>
                      <a:pt x="366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26240" y="3166920"/>
                <a:ext cx="244440" cy="117720"/>
              </a:xfrm>
              <a:custGeom>
                <a:avLst/>
                <a:gdLst/>
                <a:ahLst/>
                <a:rect l="l" t="t" r="r" b="b"/>
                <a:pathLst>
                  <a:path w="154" h="74">
                    <a:moveTo>
                      <a:pt x="31" y="27"/>
                    </a:moveTo>
                    <a:lnTo>
                      <a:pt x="141" y="0"/>
                    </a:lnTo>
                    <a:lnTo>
                      <a:pt x="110" y="32"/>
                    </a:lnTo>
                    <a:lnTo>
                      <a:pt x="153" y="47"/>
                    </a:lnTo>
                    <a:lnTo>
                      <a:pt x="42" y="73"/>
                    </a:lnTo>
                    <a:lnTo>
                      <a:pt x="0" y="59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237200" y="297180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001040" y="5016600"/>
            <a:ext cx="710640" cy="952560"/>
            <a:chOff x="4001040" y="5016600"/>
            <a:chExt cx="710640" cy="952560"/>
          </a:xfrm>
        </p:grpSpPr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4064040" y="5016600"/>
              <a:ext cx="6476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084560" y="571500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1040" y="5716440"/>
              <a:ext cx="698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54400" y="525924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305240" y="5486400"/>
            <a:ext cx="763560" cy="458640"/>
            <a:chOff x="4305240" y="5486400"/>
            <a:chExt cx="763560" cy="458640"/>
          </a:xfrm>
        </p:grpSpPr>
        <p:sp>
          <p:nvSpPr>
            <p:cNvPr id="390" name=""/>
            <p:cNvSpPr/>
            <p:nvPr/>
          </p:nvSpPr>
          <p:spPr>
            <a:xfrm>
              <a:off x="431496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524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854600" y="5560920"/>
              <a:ext cx="88920" cy="339840"/>
              <a:chOff x="4854600" y="5560920"/>
              <a:chExt cx="88920" cy="339840"/>
            </a:xfrm>
          </p:grpSpPr>
          <p:sp>
            <p:nvSpPr>
              <p:cNvPr id="393" name=""/>
              <p:cNvSpPr/>
              <p:nvPr/>
            </p:nvSpPr>
            <p:spPr>
              <a:xfrm>
                <a:off x="485460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5460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51440" y="5530680"/>
              <a:ext cx="4680" cy="37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65840" y="5570640"/>
              <a:ext cx="4680" cy="293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310280" y="5530680"/>
              <a:ext cx="529920" cy="378000"/>
              <a:chOff x="4310280" y="5530680"/>
              <a:chExt cx="529920" cy="378000"/>
            </a:xfrm>
          </p:grpSpPr>
          <p:sp>
            <p:nvSpPr>
              <p:cNvPr id="398" name=""/>
              <p:cNvSpPr/>
              <p:nvPr/>
            </p:nvSpPr>
            <p:spPr>
              <a:xfrm>
                <a:off x="432900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2432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4310280" y="5530680"/>
                <a:ext cx="529920" cy="378000"/>
                <a:chOff x="4310280" y="5530680"/>
                <a:chExt cx="529920" cy="378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830840" y="5530680"/>
                  <a:ext cx="9360" cy="3780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784760" y="5610240"/>
                  <a:ext cx="9720" cy="233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1028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856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1320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6" name=""/>
          <p:cNvGrpSpPr/>
          <p:nvPr/>
        </p:nvGrpSpPr>
        <p:grpSpPr>
          <a:xfrm>
            <a:off x="6972480" y="4483080"/>
            <a:ext cx="1409040" cy="1816200"/>
            <a:chOff x="6972480" y="4483080"/>
            <a:chExt cx="1409040" cy="1816200"/>
          </a:xfrm>
        </p:grpSpPr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7492680" y="4483080"/>
              <a:ext cx="8888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659360" y="4649760"/>
              <a:ext cx="37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06720" y="541188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13200" y="541008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972480" y="5403960"/>
              <a:ext cx="944280" cy="895320"/>
              <a:chOff x="6972480" y="5403960"/>
              <a:chExt cx="944280" cy="8953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6972480" y="5403960"/>
                <a:ext cx="894600" cy="895320"/>
                <a:chOff x="6972480" y="5403960"/>
                <a:chExt cx="894600" cy="895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397280" y="5403960"/>
                  <a:ext cx="469800" cy="469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72480" y="5765760"/>
                  <a:ext cx="53280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5" name=""/>
              <p:cNvSpPr/>
              <p:nvPr/>
            </p:nvSpPr>
            <p:spPr>
              <a:xfrm>
                <a:off x="7328520" y="5411880"/>
                <a:ext cx="588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A0B7-EB6E-4378-8351-39E65100BB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s for Public-key Sche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factoriz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, 1024 bit keys, wid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logarithm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A and Diffie-Hellman, 1024 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DSA and EC Diffie-Hellman, 160 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3D08-F41D-486E-A40D-E61BFE1F3E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s and Cons of Public-key Cryp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ke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udiat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utational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8862-A92D-4922-952B-B7FDDB547A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brid Solution - Key Ex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5120" y="327816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173480" y="2120760"/>
            <a:ext cx="889200" cy="1257480"/>
            <a:chOff x="4173480" y="2120760"/>
            <a:chExt cx="889200" cy="125748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4173480" y="2120760"/>
              <a:ext cx="8892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4253040" y="2200320"/>
              <a:ext cx="64116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133720" y="1828800"/>
            <a:ext cx="2091600" cy="990000"/>
            <a:chOff x="2133720" y="1828800"/>
            <a:chExt cx="2091600" cy="990000"/>
          </a:xfrm>
        </p:grpSpPr>
        <p:sp>
          <p:nvSpPr>
            <p:cNvPr id="427" name=""/>
            <p:cNvSpPr/>
            <p:nvPr/>
          </p:nvSpPr>
          <p:spPr>
            <a:xfrm>
              <a:off x="2133720" y="281880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13640" y="1828800"/>
              <a:ext cx="2011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K ENCRY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ret key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Y ENCRYP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186080" y="4343400"/>
            <a:ext cx="1155960" cy="1612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94488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4186080" y="5486400"/>
            <a:ext cx="763560" cy="458640"/>
            <a:chOff x="4186080" y="5486400"/>
            <a:chExt cx="763560" cy="458640"/>
          </a:xfrm>
        </p:grpSpPr>
        <p:sp>
          <p:nvSpPr>
            <p:cNvPr id="432" name=""/>
            <p:cNvSpPr/>
            <p:nvPr/>
          </p:nvSpPr>
          <p:spPr>
            <a:xfrm>
              <a:off x="419580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8608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735440" y="5560920"/>
              <a:ext cx="88920" cy="339840"/>
              <a:chOff x="4735440" y="5560920"/>
              <a:chExt cx="88920" cy="339840"/>
            </a:xfrm>
          </p:grpSpPr>
          <p:sp>
            <p:nvSpPr>
              <p:cNvPr id="435" name=""/>
              <p:cNvSpPr/>
              <p:nvPr/>
            </p:nvSpPr>
            <p:spPr>
              <a:xfrm>
                <a:off x="473544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544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832280" y="5530680"/>
              <a:ext cx="4680" cy="378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46680" y="5570640"/>
              <a:ext cx="4680" cy="29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4191120" y="5530680"/>
              <a:ext cx="529920" cy="378000"/>
              <a:chOff x="4191120" y="5530680"/>
              <a:chExt cx="529920" cy="378000"/>
            </a:xfrm>
          </p:grpSpPr>
          <p:sp>
            <p:nvSpPr>
              <p:cNvPr id="440" name=""/>
              <p:cNvSpPr/>
              <p:nvPr/>
            </p:nvSpPr>
            <p:spPr>
              <a:xfrm>
                <a:off x="420984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20516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4191120" y="5530680"/>
                <a:ext cx="529920" cy="378000"/>
                <a:chOff x="4191120" y="5530680"/>
                <a:chExt cx="529920" cy="378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711680" y="5530680"/>
                  <a:ext cx="9360" cy="3780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65600" y="5610240"/>
                  <a:ext cx="9720" cy="23328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19112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5940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69404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>
            <a:off x="395928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328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490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297560" y="4788000"/>
            <a:ext cx="889200" cy="1257120"/>
            <a:chOff x="7297560" y="4788000"/>
            <a:chExt cx="889200" cy="1257120"/>
          </a:xfrm>
        </p:grpSpPr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729756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46424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49576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4120" y="4191120"/>
            <a:ext cx="160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K 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ret 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 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456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909720" y="1523880"/>
            <a:ext cx="1434960" cy="1778040"/>
            <a:chOff x="909720" y="1523880"/>
            <a:chExt cx="1434960" cy="1778040"/>
          </a:xfrm>
        </p:grpSpPr>
        <p:pic>
          <p:nvPicPr>
            <p:cNvPr id="458" name="" descr=""/>
            <p:cNvPicPr/>
            <p:nvPr/>
          </p:nvPicPr>
          <p:blipFill>
            <a:blip r:embed="rId5"/>
            <a:stretch/>
          </p:blipFill>
          <p:spPr>
            <a:xfrm>
              <a:off x="90972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6"/>
            <a:stretch/>
          </p:blipFill>
          <p:spPr>
            <a:xfrm>
              <a:off x="169704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1255680" y="2822400"/>
              <a:ext cx="765000" cy="460440"/>
              <a:chOff x="1255680" y="2822400"/>
              <a:chExt cx="765000" cy="460440"/>
            </a:xfrm>
          </p:grpSpPr>
          <p:sp>
            <p:nvSpPr>
              <p:cNvPr id="461" name=""/>
              <p:cNvSpPr/>
              <p:nvPr/>
            </p:nvSpPr>
            <p:spPr>
              <a:xfrm>
                <a:off x="125568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6360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1380960" y="2868480"/>
                <a:ext cx="92160" cy="336600"/>
                <a:chOff x="1380960" y="2868480"/>
                <a:chExt cx="92160" cy="3366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38276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38096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 rot="21480000">
                <a:off x="136692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1480000">
                <a:off x="135396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1476360" y="2857680"/>
                <a:ext cx="538200" cy="376200"/>
                <a:chOff x="1476360" y="2857680"/>
                <a:chExt cx="538200" cy="3762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8904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9696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1476360" y="2857680"/>
                  <a:ext cx="538200" cy="376200"/>
                  <a:chOff x="1476360" y="2857680"/>
                  <a:chExt cx="538200" cy="3762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21480000">
                    <a:off x="148284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21480000">
                    <a:off x="153180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59696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57968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149688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77" name=""/>
            <p:cNvSpPr/>
            <p:nvPr/>
          </p:nvSpPr>
          <p:spPr>
            <a:xfrm>
              <a:off x="186840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75920" y="6021360"/>
            <a:ext cx="14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3716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ed key plus ciph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4187-9A80-405F-AF0C-BDFC7598BE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 Key Distributi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in a public-key scheme, Alice need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uine copy of Bob’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an attacker can substitute a fake key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’s key and use this to impersonate B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an attacker obtaining your bla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card and signing it themselves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CB86-8F03-4571-B0A8-F0AD4C608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ecu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infra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to AT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overview of ATN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for design of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307D-089D-4729-8F2A-2CC4E26A4B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es to the rescue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Authority (CA) binds Bob and his pub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goes to the CA with hi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 issues a certificate to Bob containing his identity, his public key, and the CA’s signature on his identity and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obtains the CA’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verifies the CA’s signature on Bob’s certificate and retrieves his public key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0BB8-E1F7-439C-A41E-E9B22E2B3D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.509 Certific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05120" y="1447920"/>
            <a:ext cx="3751200" cy="4244760"/>
            <a:chOff x="1905120" y="1447920"/>
            <a:chExt cx="3751200" cy="4244760"/>
          </a:xfrm>
        </p:grpSpPr>
        <p:sp>
          <p:nvSpPr>
            <p:cNvPr id="487" name=""/>
            <p:cNvSpPr/>
            <p:nvPr/>
          </p:nvSpPr>
          <p:spPr>
            <a:xfrm>
              <a:off x="1905120" y="5280120"/>
              <a:ext cx="3751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5120" y="482760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itional unique identif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05120" y="4157640"/>
              <a:ext cx="37512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ject’s public key inform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lgorithm ID, public key va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05120" y="370512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ject’s X.500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5120" y="325440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idity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5120" y="280188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’s X.500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5120" y="235116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’s signature algorithm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05120" y="189864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ificate serial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5120" y="144792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ificate v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05120" y="1447920"/>
              <a:ext cx="3751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05120" y="5692680"/>
              <a:ext cx="3751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05120" y="1447920"/>
              <a:ext cx="0" cy="424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56320" y="1447920"/>
              <a:ext cx="0" cy="424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05120" y="189864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05120" y="235116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05120" y="280188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05120" y="325440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05120" y="370512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415764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5120" y="482760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05120" y="528012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2286000" y="5943600"/>
            <a:ext cx="3048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03160" y="592776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 digital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3880" y="1371600"/>
            <a:ext cx="449604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81680" y="3048120"/>
            <a:ext cx="2057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772400" y="2286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7800" y="1309680"/>
            <a:ext cx="99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3962520"/>
            <a:ext cx="2438280" cy="2133360"/>
          </a:xfrm>
          <a:custGeom>
            <a:avLst/>
            <a:gdLst/>
            <a:ahLst/>
            <a:rect l="l" t="t" r="r" b="b"/>
            <a:pathLst>
              <a:path w="1536" h="1440">
                <a:moveTo>
                  <a:pt x="1536" y="0"/>
                </a:moveTo>
                <a:lnTo>
                  <a:pt x="1536" y="1440"/>
                </a:lnTo>
                <a:lnTo>
                  <a:pt x="0" y="14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1320" y="1447920"/>
            <a:ext cx="990360" cy="4190760"/>
          </a:xfrm>
          <a:custGeom>
            <a:avLst/>
            <a:gdLst>
              <a:gd name="textAreaLeft" fmla="*/ 0 w 990360"/>
              <a:gd name="textAreaRight" fmla="*/ 357480 w 99036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8055-CF66-4E95-9EEA-41FC97DC63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ion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can solve the public key 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. Unlike KTCs, CAs can be off-line and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unconditionally trus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 CAs do take on significant liability,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igh security requirements, and they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infrastructure - Public Key Infra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KI. Furthermore, issues need to be addre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size (X.509 cert size often 20K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C4AA-07CB-49DC-BE28-FE1113E515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ple CAs - Strict Hierarc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645080" y="2438280"/>
            <a:ext cx="536400" cy="533160"/>
            <a:chOff x="4645080" y="2438280"/>
            <a:chExt cx="536400" cy="533160"/>
          </a:xfrm>
        </p:grpSpPr>
        <p:sp>
          <p:nvSpPr>
            <p:cNvPr id="521" name=""/>
            <p:cNvSpPr/>
            <p:nvPr/>
          </p:nvSpPr>
          <p:spPr>
            <a:xfrm>
              <a:off x="4647960" y="24382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45080" y="24984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5230080" y="24987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10000" y="3733920"/>
            <a:ext cx="53352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69680" y="379404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37339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22400" y="379404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809880" y="2895480"/>
            <a:ext cx="9144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2971800"/>
            <a:ext cx="7621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48040" y="487692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48006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19920" y="4191120"/>
            <a:ext cx="76176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810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980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124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68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05520" y="4800600"/>
            <a:ext cx="5331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2216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5943600"/>
            <a:ext cx="5331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36560" y="6004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86600" y="5943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68680" y="6004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248520" y="5257800"/>
            <a:ext cx="3808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10280" y="5257800"/>
            <a:ext cx="381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409720" y="4191120"/>
            <a:ext cx="2286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209680" y="4114800"/>
            <a:ext cx="1371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124080" y="4267080"/>
            <a:ext cx="609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4191120"/>
            <a:ext cx="1522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1371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s can be arranged in a hierarchy. High level CAs certify lower CAs. Problem: root C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BA74-7216-4281-B10E-2AEC8B0306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ple CAs - Cross-certif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905120" y="3718080"/>
            <a:ext cx="2057400" cy="1735920"/>
            <a:chOff x="1905120" y="3718080"/>
            <a:chExt cx="2057400" cy="1735920"/>
          </a:xfrm>
        </p:grpSpPr>
        <p:grpSp>
          <p:nvGrpSpPr>
            <p:cNvPr id="555" name=""/>
            <p:cNvGrpSpPr/>
            <p:nvPr/>
          </p:nvGrpSpPr>
          <p:grpSpPr>
            <a:xfrm>
              <a:off x="2661840" y="3718080"/>
              <a:ext cx="614880" cy="533160"/>
              <a:chOff x="2661840" y="3718080"/>
              <a:chExt cx="614880" cy="533160"/>
            </a:xfrm>
          </p:grpSpPr>
          <p:sp>
            <p:nvSpPr>
              <p:cNvPr id="556" name=""/>
              <p:cNvSpPr/>
              <p:nvPr/>
            </p:nvSpPr>
            <p:spPr>
              <a:xfrm>
                <a:off x="2667240" y="3718080"/>
                <a:ext cx="60948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661840" y="3778200"/>
                <a:ext cx="60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2972160" y="425124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209680" y="4174920"/>
              <a:ext cx="6094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4440" y="4174920"/>
              <a:ext cx="53352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05120" y="5013360"/>
              <a:ext cx="53352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22120" y="499752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84240" y="50133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67240" y="5013360"/>
              <a:ext cx="53352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9360" y="5013360"/>
              <a:ext cx="53316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46000" y="499752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181480" y="3730680"/>
            <a:ext cx="2057400" cy="1722960"/>
            <a:chOff x="5181480" y="3730680"/>
            <a:chExt cx="2057400" cy="1722960"/>
          </a:xfrm>
        </p:grpSpPr>
        <p:grpSp>
          <p:nvGrpSpPr>
            <p:cNvPr id="568" name=""/>
            <p:cNvGrpSpPr/>
            <p:nvPr/>
          </p:nvGrpSpPr>
          <p:grpSpPr>
            <a:xfrm>
              <a:off x="5938200" y="3730680"/>
              <a:ext cx="614880" cy="528480"/>
              <a:chOff x="5938200" y="3730680"/>
              <a:chExt cx="614880" cy="528480"/>
            </a:xfrm>
          </p:grpSpPr>
          <p:sp>
            <p:nvSpPr>
              <p:cNvPr id="569" name=""/>
              <p:cNvSpPr/>
              <p:nvPr/>
            </p:nvSpPr>
            <p:spPr>
              <a:xfrm>
                <a:off x="5943600" y="3730680"/>
                <a:ext cx="609480" cy="528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38200" y="3790440"/>
                <a:ext cx="60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248160" y="4259160"/>
              <a:ext cx="0" cy="75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86040" y="4182840"/>
              <a:ext cx="609480" cy="82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00800" y="4182840"/>
              <a:ext cx="533160" cy="82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81480" y="5013000"/>
              <a:ext cx="53352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98480" y="49971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60240" y="5013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43600" y="5013000"/>
              <a:ext cx="53316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360" y="5013000"/>
              <a:ext cx="53352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22360" y="49971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276720" y="3886200"/>
            <a:ext cx="26668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523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ssue each other certificates (cross-certif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 liability and cross-certification manag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A29E-D135-46B9-951C-EE899198C7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s may need to be revoked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icion of key comprom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leaves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changes role in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cotiabank’s internet banking PK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26 certificates issued. Over 19000 rev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48C3-8F66-4469-B394-21956023E4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ocation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 used solution: certificate rev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. Each CA regularly produces a signed list kn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certificate revocation list or CRL of the s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of revoked certifi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 CRL distribution and CRL siz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re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certificate status chec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73E8-ECF7-443F-ABC5-65E2310793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provides a flexible way to secure electron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bination of symmetric and public-key cryptography is app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I used to distribute public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doesn’t come free. Overhead + infrastructure + manag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86D1-3575-47CD-B2E8-528CF8607D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AT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selecting security solution: AT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 to mitigate the following thre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querade/modification/replay of air-ground application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 by flooding ground IDRP data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dditional concerns about air IDRP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round-ground application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2E4C-E19F-46C9-8396-03FF154A40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ATN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has therefore provided mechanisms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use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integrity of air-ground application communications which use ATN upper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integrity of air-ground IDRP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infra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uthentication of ground-ground apps, groun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 IDRP, AM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5BE9-F1AA-4E48-9253-B6F74C7252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 Secu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ecurity is concerned with provi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data (during both storage and communicati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924D-6FA8-4174-AE6D-ACA4A887A3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symmetric (HMAC) &amp; public-key (ECDSA and EC Diffie-Hellman)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ISO GULS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 during initial contact with a regional C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contact also establishes shared public value and delivers public keys of applications to aircr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(and location) specific session keys derived by applications from their key pairs and shared public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t application communications secured using MAC under 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and source included to prevent re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AA2F-4DA5-4D94-9415-9D8EACC2FC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776160" y="1371600"/>
          <a:ext cx="7515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71600"/>
                    <a:ext cx="7515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A60F-A65F-4862-8C3E-6951D2A9F5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: initial CMA contact - say CM-log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on-req: 4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on-resp: 1500 bits (2/3’s of this is certific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: each subsequent secure mess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 bits (MAC 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effort to minimize RF cost - recall X.5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often 20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2098-334F-46A8-B3D7-4DE0ED0FAB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symmetric (HMAC)  &amp; public-key (ECDSA and EC Diffie-Hellman)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key establishment with either unilateral implicit authentication of aircraft or mutual implicit authentication during IDRP OPEN ex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communications secured using MAC under session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(already present) prevents rep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F0E1-6373-405B-BF2D-7AF0B905D0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838080" y="1366920"/>
          <a:ext cx="7391520" cy="51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66920"/>
                    <a:ext cx="73915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19BB-B249-4382-BECE-77E3198389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 (unilateral authentication of aircraft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IDRP OP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 IDRP OPEN: 35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IDRP OPEN: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IDRP commun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dditional bi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BCC3-43E5-412D-96BF-C709B38FD2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-ground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solution (ECD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 GULS b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nications secured by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ield included to prevent re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0BCD-A36F-4585-9B08-D31E625CC3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-ground IDR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symmetric (HMAC) &amp; public-key (ECDSA and EC Diffie-Hellman)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 to air-ground IDRP solu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7987-1942-424D-BCE1-2977709F60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solution (ECD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ISO X.400 security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secured by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variant parameter field and recipient identity included to prevent replay and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A623-30FD-4A7D-BCC4-588638224B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orting Infra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entities require secure module to generate and store keys and security related databases, and to perform crypto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PKI to distribute public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security management and security policies as guidanc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AC5F-D77A-466B-AE12-ED80E70619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7360" y="1501920"/>
            <a:ext cx="93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48320" y="1501920"/>
            <a:ext cx="164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080" y="3863880"/>
            <a:ext cx="104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2070000"/>
            <a:ext cx="2412720" cy="145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2327400"/>
            <a:ext cx="23328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0120" y="2327400"/>
            <a:ext cx="23184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71880" y="2776680"/>
            <a:ext cx="230040" cy="231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90120" y="310212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8120" y="2443320"/>
            <a:ext cx="129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4640" y="2297160"/>
            <a:ext cx="148680" cy="9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07" y="3234"/>
                </a:moveTo>
                <a:arcTo wR="10800" hR="10800" stAng="-2668228" swAng="2649704"/>
                <a:lnTo>
                  <a:pt x="10800" y="10800"/>
                </a:lnTo>
                <a:close/>
              </a:path>
              <a:path fill="none" w="21600" h="21600">
                <a:moveTo>
                  <a:pt x="18507" y="3234"/>
                </a:moveTo>
                <a:arcTo wR="10800" hR="10800" stAng="-2668228" swAng="2649704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2070000"/>
            <a:ext cx="2336760" cy="14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19880" y="2319480"/>
            <a:ext cx="222120" cy="22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75440" y="2319480"/>
            <a:ext cx="222120" cy="22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7720" y="2754360"/>
            <a:ext cx="222480" cy="223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6560" y="3068640"/>
            <a:ext cx="10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oo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67400" y="2460600"/>
            <a:ext cx="119340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9"/>
                </a:moveTo>
                <a:arcTo wR="10800" hR="10800" stAng="-10761591" swAng="5352448"/>
                <a:lnTo>
                  <a:pt x="10800" y="10800"/>
                </a:lnTo>
                <a:close/>
              </a:path>
              <a:path fill="none" w="21600" h="21600">
                <a:moveTo>
                  <a:pt x="1" y="10679"/>
                </a:moveTo>
                <a:arcTo wR="10800" hR="10800" stAng="-10761591" swAng="53524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9640" y="4508640"/>
            <a:ext cx="2412720" cy="14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8120" y="4765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4765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71880" y="5214960"/>
            <a:ext cx="230040" cy="231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8280" y="55404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4680" y="4910040"/>
            <a:ext cx="1358640" cy="5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8032" swAng="5389507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8032" swAng="5389507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6240" y="4911840"/>
            <a:ext cx="1231560" cy="5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3"/>
                </a:moveTo>
                <a:arcTo wR="10800" hR="10800" stAng="-10762836" swAng="5353976"/>
                <a:lnTo>
                  <a:pt x="10800" y="10800"/>
                </a:lnTo>
                <a:close/>
              </a:path>
              <a:path fill="none" w="21600" h="21600">
                <a:moveTo>
                  <a:pt x="1" y="10683"/>
                </a:moveTo>
                <a:arcTo wR="10800" hR="10800" stAng="-10762836" swAng="5353976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3946680"/>
            <a:ext cx="182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Corru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51440" y="5499000"/>
            <a:ext cx="78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70400" y="4543560"/>
            <a:ext cx="2336760" cy="14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18080" y="4792680"/>
            <a:ext cx="225360" cy="22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72200" y="4792680"/>
            <a:ext cx="223920" cy="22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7720" y="5227560"/>
            <a:ext cx="222480" cy="222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2280" y="4932360"/>
            <a:ext cx="131400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0"/>
                </a:moveTo>
                <a:arcTo wR="10800" hR="10800" stAng="-5408303" swAng="5408303"/>
                <a:lnTo>
                  <a:pt x="10800" y="10800"/>
                </a:lnTo>
                <a:close/>
              </a:path>
              <a:path fill="none" w="21600" h="21600">
                <a:moveTo>
                  <a:pt x="10774" y="0"/>
                </a:moveTo>
                <a:arcTo wR="10800" hR="10800" stAng="-5408303" swAng="540830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7800" y="4884840"/>
            <a:ext cx="1250280" cy="59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810" swAng="537308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810" swAng="5373085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554040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C9CF-6BDA-4CED-AA40-6B6161905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 PK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components: CAs and Certificate Delivery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te required to have CA and Delivery Services in place and ensure they are main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Operating Entities may operate subordinate 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ssue X.509 certificates and CR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Services deliver certificates and CRLs to ATN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CAs recomm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Services may be based on directory services. (Or may no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7983-F9DD-4C38-AAFD-33DC9A0A6BD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 PKI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1143000"/>
            <a:ext cx="67820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1508040"/>
            <a:ext cx="133488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0020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38480" y="1508040"/>
            <a:ext cx="1335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648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89800" y="1508040"/>
            <a:ext cx="1334880" cy="428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3740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997360" y="1690560"/>
            <a:ext cx="888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1690560"/>
            <a:ext cx="7779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3336840"/>
            <a:ext cx="1335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08160" y="3381480"/>
            <a:ext cx="1335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nd C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66680" y="31543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57400" y="3246480"/>
            <a:ext cx="133668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49200" y="3336840"/>
            <a:ext cx="133524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71600" y="3381480"/>
            <a:ext cx="11113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E 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6680" y="31543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68840" y="32464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59200" y="33368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3381480"/>
            <a:ext cx="13366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nd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72360" y="3154320"/>
            <a:ext cx="133488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64160" y="32464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4880" y="33368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54880" y="3381480"/>
            <a:ext cx="1446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nd 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209680" y="1905120"/>
            <a:ext cx="1905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809520" y="19810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2880" y="20574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05520" y="1981080"/>
            <a:ext cx="1752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49831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90560" y="50752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82720" y="5165640"/>
            <a:ext cx="133524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52480" y="5165640"/>
            <a:ext cx="1446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C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057040" y="2057400"/>
            <a:ext cx="15228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81280" y="49831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73440" y="50752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51656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63800" y="5210280"/>
            <a:ext cx="1557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craft 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81080" y="38098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380988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E4A8-447E-4E01-9C61-77E568371A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e Delivery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Delivery Services deliver certificates and CRLs to ATN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500 directory likely to help on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plications and routers have directory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 has directory access and provides certificates and CRLs as needed to oth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s are pre-stored (initial deployment on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certificates for CMA/routers sent to aircr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fields known by aircraft in advance not sent on RF. Certificate reconstructed by aircraft before ver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 certificates pre-stored (initial deployment on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374F-65A9-4E9A-B689-3047E00925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has developed security solutions to mitigate ATN threats identified by risk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use both symmetric and public-key crypt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I required to support key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effort to minimze cost of solution, and, in particular, use of RF bandwidt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ED71-FDE4-4D29-BCBF-682F10794B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ture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ssues it may be desirable to address p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P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C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guidance on security management and security policies (based on validation experien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392B-C6C7-475B-8725-A7B8599070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find out more..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” pap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working paper: “Application security solution for the AT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working paper: “Public key infrastructure for AT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SARPS SV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or hassle Mike Big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CC98-9CF9-4B1F-AC90-DB85B16EDA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per Secu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ly data has been stored on paper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 = sealed envelope, trusted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= paper itself plus handwritte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 = efficient filing and pos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olutions don’t work for electronic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4C4B-0DAF-4632-9268-E2BAB90A0E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 provides security by transform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tself. It is therefore storage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well-suited to electronic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ic schemes prov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igi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ud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1F39-A125-4E45-B5E6-07386FD740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yptography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 is widely used today in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 and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teleph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ryptographic scheme are in u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schemes and public key sche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5913-E425-48A5-9CD7-967C42BD81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ymmetric cryptographic scheme, Al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ob must share a secret key in adv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encryption schemes provid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. Examples: US government’s D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message authentication codes or MA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integrity and data origin authent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5152-DEC6-41CB-B16D-D1E69A970A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Encryption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1523880"/>
            <a:ext cx="1434960" cy="1778040"/>
            <a:chOff x="985680" y="1523880"/>
            <a:chExt cx="1434960" cy="17780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98568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77300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"/>
            <p:cNvGrpSpPr/>
            <p:nvPr/>
          </p:nvGrpSpPr>
          <p:grpSpPr>
            <a:xfrm>
              <a:off x="1331640" y="2822400"/>
              <a:ext cx="765000" cy="460440"/>
              <a:chOff x="1331640" y="2822400"/>
              <a:chExt cx="765000" cy="460440"/>
            </a:xfrm>
          </p:grpSpPr>
          <p:sp>
            <p:nvSpPr>
              <p:cNvPr id="135" name=""/>
              <p:cNvSpPr/>
              <p:nvPr/>
            </p:nvSpPr>
            <p:spPr>
              <a:xfrm>
                <a:off x="133164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3956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456920" y="2868480"/>
                <a:ext cx="92160" cy="336600"/>
                <a:chOff x="1456920" y="2868480"/>
                <a:chExt cx="92160" cy="3366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45872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45692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rot="21480000">
                <a:off x="144288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480000">
                <a:off x="142992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552320" y="2857680"/>
                <a:ext cx="538200" cy="376200"/>
                <a:chOff x="1552320" y="2857680"/>
                <a:chExt cx="538200" cy="376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66500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7292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1552320" y="2857680"/>
                  <a:ext cx="538200" cy="376200"/>
                  <a:chOff x="1552320" y="2857680"/>
                  <a:chExt cx="538200" cy="3762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21480000">
                    <a:off x="155880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21480000">
                    <a:off x="160776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67292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65564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57284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194436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0400" y="14479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" y="3278160"/>
            <a:ext cx="1598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49800" y="2120760"/>
            <a:ext cx="888840" cy="1257480"/>
            <a:chOff x="4249800" y="2120760"/>
            <a:chExt cx="888840" cy="125748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4249800" y="2120760"/>
              <a:ext cx="8888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329000" y="2200320"/>
              <a:ext cx="64080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00280" y="2363760"/>
            <a:ext cx="1496880" cy="455760"/>
            <a:chOff x="2600280" y="2363760"/>
            <a:chExt cx="1496880" cy="455760"/>
          </a:xfrm>
        </p:grpSpPr>
        <p:sp>
          <p:nvSpPr>
            <p:cNvPr id="158" name=""/>
            <p:cNvSpPr/>
            <p:nvPr/>
          </p:nvSpPr>
          <p:spPr>
            <a:xfrm>
              <a:off x="2600280" y="2819520"/>
              <a:ext cx="149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3640" y="2363760"/>
              <a:ext cx="122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4160" y="167796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262400" y="4343400"/>
            <a:ext cx="1155600" cy="1612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02120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4262400" y="5486400"/>
            <a:ext cx="763560" cy="458640"/>
            <a:chOff x="4262400" y="5486400"/>
            <a:chExt cx="763560" cy="458640"/>
          </a:xfrm>
        </p:grpSpPr>
        <p:sp>
          <p:nvSpPr>
            <p:cNvPr id="164" name=""/>
            <p:cNvSpPr/>
            <p:nvPr/>
          </p:nvSpPr>
          <p:spPr>
            <a:xfrm>
              <a:off x="427212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240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811760" y="5560920"/>
              <a:ext cx="88920" cy="339840"/>
              <a:chOff x="4811760" y="5560920"/>
              <a:chExt cx="88920" cy="339840"/>
            </a:xfrm>
          </p:grpSpPr>
          <p:sp>
            <p:nvSpPr>
              <p:cNvPr id="167" name=""/>
              <p:cNvSpPr/>
              <p:nvPr/>
            </p:nvSpPr>
            <p:spPr>
              <a:xfrm>
                <a:off x="481176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1176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908600" y="5530680"/>
              <a:ext cx="4680" cy="37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3000" y="5570640"/>
              <a:ext cx="4680" cy="293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267440" y="5530680"/>
              <a:ext cx="529920" cy="378000"/>
              <a:chOff x="4267440" y="5530680"/>
              <a:chExt cx="529920" cy="378000"/>
            </a:xfrm>
          </p:grpSpPr>
          <p:sp>
            <p:nvSpPr>
              <p:cNvPr id="172" name=""/>
              <p:cNvSpPr/>
              <p:nvPr/>
            </p:nvSpPr>
            <p:spPr>
              <a:xfrm>
                <a:off x="428616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8148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4267440" y="5530680"/>
                <a:ext cx="529920" cy="378000"/>
                <a:chOff x="4267440" y="5530680"/>
                <a:chExt cx="529920" cy="378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88000" y="5530680"/>
                  <a:ext cx="9360" cy="3780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41920" y="5610240"/>
                  <a:ext cx="9720" cy="2332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44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63572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7036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0" name=""/>
          <p:cNvSpPr/>
          <p:nvPr/>
        </p:nvSpPr>
        <p:spPr>
          <a:xfrm>
            <a:off x="403560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1960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504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3080" y="60213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373880" y="4788000"/>
            <a:ext cx="889200" cy="1257120"/>
            <a:chOff x="7373880" y="4788000"/>
            <a:chExt cx="889200" cy="1257120"/>
          </a:xfrm>
        </p:grpSpPr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737388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54056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72080" y="5486400"/>
            <a:ext cx="1496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5800" y="503064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052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B4BB-F2F3-44BA-A222-7580B4B32C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04:53:44Z</dcterms:created>
  <dc:creator>Alfred Menezes</dc:creator>
  <dc:description/>
  <dc:language>en-US</dc:language>
  <cp:lastModifiedBy>Simon Blake-Wilson</cp:lastModifiedBy>
  <dcterms:modified xsi:type="dcterms:W3CDTF">1999-10-05T13:05:53Z</dcterms:modified>
  <cp:revision>28</cp:revision>
  <dc:subject/>
  <dc:title>Overview of Cryptography</dc:title>
</cp:coreProperties>
</file>