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80238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2907-D49A-460E-BBB5-EC2C0B271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8185-B65C-4386-9319-5464422DC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E0CC-B5DB-461C-81D1-5C0C21972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619B-7F1D-4D85-8E88-36A24CECD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8C98F-6731-44B3-A89F-FB6FE7979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B72C-AD25-4DB9-9C42-D574D0A637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9116-2691-4C70-9180-A89D46C31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710F-0D1D-43F7-93A4-A770C3DF7E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173F-A6F5-497B-BD79-444B903884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31FC-6C56-4DDD-B304-B68F29FEDF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2E08-48FB-46C8-90D4-B3CC4A938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924D-8A45-4E43-B69C-7FD3C2A28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26C1E-C773-472D-9751-27A07AB137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C3F9C-A681-4ADF-988C-95F7CF8F6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4817-32B1-4B92-825E-1CF82223AC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545C-B165-483E-9161-9B0945746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340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320" y="137124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340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320" y="4117680"/>
            <a:ext cx="2527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BDD7-5F64-42D9-93B4-DC7EB6BDC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7E55-A46E-4AE8-A0C9-5908A25C5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CD97-A177-400D-8C21-B2D7A0C12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76A3-2037-4E50-A234-0F7201C6F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99F3-7F13-4C67-98F8-77FC1351F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E167-9344-4F55-9463-6927F09A2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1400" y="411768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C359-3F42-4740-9E7B-200E36D9E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371240"/>
            <a:ext cx="38300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4117680"/>
            <a:ext cx="78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7368-71E3-4376-B062-18F7518F3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520" y="640044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4FF-E31C-4268-B752-BAE8303CF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6201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801E-DFFE-490D-9DA7-991892806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 Infrastructure for AT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895480"/>
            <a:ext cx="7848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WG1/SG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Presented by: Simon Blake-Wil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lied Signal for NASA 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C710-0845-4795-939E-EE587C4FDF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MA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195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206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3080" y="144936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0960" y="32781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11400" y="236376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2080" y="167796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592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3160" y="5030640"/>
            <a:ext cx="118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228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232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237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245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2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3415-7E9E-40F1-88C8-B5C9BB0554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Symmetric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cryptography is relatively e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achieve non-repudi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btain shared secret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1EC2-51F5-446D-8E2D-FA4516974F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Key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user shares a key with a trusted key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(KTC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438280"/>
            <a:ext cx="14479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191120"/>
            <a:ext cx="14479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4640" y="257508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4160" y="25909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1520" y="4343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35400" y="380988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B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3200400"/>
            <a:ext cx="1295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200400"/>
            <a:ext cx="20574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437920" y="3200040"/>
            <a:ext cx="16002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10840" y="388620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63600" y="3336840"/>
            <a:ext cx="114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0240" y="4114800"/>
            <a:ext cx="15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5181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online workload for KTC. Users trust KTC uncondition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89A2-1469-4FC7-87BF-BDCF5F6D7A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ublic-key cryptographic scheme, each user 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keys known as a key pair. One key is public,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s priv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thematical relationship between the k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knowledge of public key does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Public key signature sche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data integrity, data origin authentic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non-repudi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EE86-DDAA-46A8-938B-026D2DE0B9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5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23960" y="2363760"/>
            <a:ext cx="1497240" cy="455760"/>
            <a:chOff x="2523960" y="2363760"/>
            <a:chExt cx="1497240" cy="455760"/>
          </a:xfrm>
        </p:grpSpPr>
        <p:sp>
          <p:nvSpPr>
            <p:cNvPr id="311" name=""/>
            <p:cNvSpPr/>
            <p:nvPr/>
          </p:nvSpPr>
          <p:spPr>
            <a:xfrm>
              <a:off x="2523960" y="2819520"/>
              <a:ext cx="1497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768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95784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317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320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325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948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E6CD-2CF4-4665-B4B5-CF6922E78F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-key Signature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28880" y="1523880"/>
            <a:ext cx="110484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816200" y="2425680"/>
            <a:ext cx="6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1374840" y="2822400"/>
            <a:ext cx="765000" cy="460440"/>
            <a:chOff x="1374840" y="2822400"/>
            <a:chExt cx="765000" cy="460440"/>
          </a:xfrm>
        </p:grpSpPr>
        <p:sp>
          <p:nvSpPr>
            <p:cNvPr id="348" name=""/>
            <p:cNvSpPr/>
            <p:nvPr/>
          </p:nvSpPr>
          <p:spPr>
            <a:xfrm>
              <a:off x="1374840" y="2836800"/>
              <a:ext cx="757080" cy="446040"/>
            </a:xfrm>
            <a:custGeom>
              <a:avLst/>
              <a:gdLst/>
              <a:ahLst/>
              <a:rect l="l" t="t" r="r" b="b"/>
              <a:pathLst>
                <a:path w="477" h="281">
                  <a:moveTo>
                    <a:pt x="2" y="179"/>
                  </a:moveTo>
                  <a:lnTo>
                    <a:pt x="0" y="97"/>
                  </a:lnTo>
                  <a:lnTo>
                    <a:pt x="18" y="113"/>
                  </a:lnTo>
                  <a:lnTo>
                    <a:pt x="19" y="163"/>
                  </a:lnTo>
                  <a:lnTo>
                    <a:pt x="52" y="177"/>
                  </a:lnTo>
                  <a:lnTo>
                    <a:pt x="50" y="96"/>
                  </a:lnTo>
                  <a:lnTo>
                    <a:pt x="21" y="113"/>
                  </a:lnTo>
                  <a:lnTo>
                    <a:pt x="3" y="97"/>
                  </a:lnTo>
                  <a:lnTo>
                    <a:pt x="46" y="65"/>
                  </a:lnTo>
                  <a:lnTo>
                    <a:pt x="45" y="50"/>
                  </a:lnTo>
                  <a:lnTo>
                    <a:pt x="60" y="46"/>
                  </a:lnTo>
                  <a:lnTo>
                    <a:pt x="59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70" y="2"/>
                  </a:lnTo>
                  <a:lnTo>
                    <a:pt x="137" y="0"/>
                  </a:lnTo>
                  <a:lnTo>
                    <a:pt x="138" y="16"/>
                  </a:lnTo>
                  <a:lnTo>
                    <a:pt x="152" y="16"/>
                  </a:lnTo>
                  <a:lnTo>
                    <a:pt x="153" y="40"/>
                  </a:lnTo>
                  <a:lnTo>
                    <a:pt x="171" y="46"/>
                  </a:lnTo>
                  <a:lnTo>
                    <a:pt x="171" y="62"/>
                  </a:lnTo>
                  <a:lnTo>
                    <a:pt x="203" y="61"/>
                  </a:lnTo>
                  <a:lnTo>
                    <a:pt x="203" y="71"/>
                  </a:lnTo>
                  <a:lnTo>
                    <a:pt x="209" y="73"/>
                  </a:lnTo>
                  <a:lnTo>
                    <a:pt x="241" y="73"/>
                  </a:lnTo>
                  <a:lnTo>
                    <a:pt x="242" y="88"/>
                  </a:lnTo>
                  <a:lnTo>
                    <a:pt x="446" y="80"/>
                  </a:lnTo>
                  <a:lnTo>
                    <a:pt x="476" y="117"/>
                  </a:lnTo>
                  <a:lnTo>
                    <a:pt x="445" y="168"/>
                  </a:lnTo>
                  <a:lnTo>
                    <a:pt x="433" y="149"/>
                  </a:lnTo>
                  <a:lnTo>
                    <a:pt x="424" y="150"/>
                  </a:lnTo>
                  <a:lnTo>
                    <a:pt x="413" y="168"/>
                  </a:lnTo>
                  <a:lnTo>
                    <a:pt x="404" y="150"/>
                  </a:lnTo>
                  <a:lnTo>
                    <a:pt x="398" y="153"/>
                  </a:lnTo>
                  <a:lnTo>
                    <a:pt x="392" y="169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45" y="152"/>
                  </a:lnTo>
                  <a:lnTo>
                    <a:pt x="334" y="152"/>
                  </a:lnTo>
                  <a:lnTo>
                    <a:pt x="316" y="171"/>
                  </a:lnTo>
                  <a:lnTo>
                    <a:pt x="305" y="153"/>
                  </a:lnTo>
                  <a:lnTo>
                    <a:pt x="290" y="153"/>
                  </a:lnTo>
                  <a:lnTo>
                    <a:pt x="273" y="172"/>
                  </a:lnTo>
                  <a:lnTo>
                    <a:pt x="244" y="173"/>
                  </a:lnTo>
                  <a:lnTo>
                    <a:pt x="244" y="194"/>
                  </a:lnTo>
                  <a:lnTo>
                    <a:pt x="207" y="195"/>
                  </a:lnTo>
                  <a:lnTo>
                    <a:pt x="207" y="205"/>
                  </a:lnTo>
                  <a:lnTo>
                    <a:pt x="172" y="206"/>
                  </a:lnTo>
                  <a:lnTo>
                    <a:pt x="172" y="221"/>
                  </a:lnTo>
                  <a:lnTo>
                    <a:pt x="158" y="228"/>
                  </a:lnTo>
                  <a:lnTo>
                    <a:pt x="158" y="253"/>
                  </a:lnTo>
                  <a:lnTo>
                    <a:pt x="144" y="253"/>
                  </a:lnTo>
                  <a:lnTo>
                    <a:pt x="144" y="278"/>
                  </a:lnTo>
                  <a:lnTo>
                    <a:pt x="74" y="280"/>
                  </a:lnTo>
                  <a:lnTo>
                    <a:pt x="74" y="258"/>
                  </a:lnTo>
                  <a:lnTo>
                    <a:pt x="65" y="258"/>
                  </a:lnTo>
                  <a:lnTo>
                    <a:pt x="64" y="237"/>
                  </a:lnTo>
                  <a:lnTo>
                    <a:pt x="61" y="230"/>
                  </a:lnTo>
                  <a:lnTo>
                    <a:pt x="50" y="224"/>
                  </a:lnTo>
                  <a:lnTo>
                    <a:pt x="49" y="209"/>
                  </a:lnTo>
                  <a:lnTo>
                    <a:pt x="2" y="179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2760" y="2822400"/>
              <a:ext cx="757080" cy="444600"/>
            </a:xfrm>
            <a:custGeom>
              <a:avLst/>
              <a:gdLst/>
              <a:ahLst/>
              <a:rect l="l" t="t" r="r" b="b"/>
              <a:pathLst>
                <a:path w="477" h="280">
                  <a:moveTo>
                    <a:pt x="2" y="184"/>
                  </a:moveTo>
                  <a:lnTo>
                    <a:pt x="0" y="100"/>
                  </a:lnTo>
                  <a:lnTo>
                    <a:pt x="18" y="115"/>
                  </a:lnTo>
                  <a:lnTo>
                    <a:pt x="19" y="162"/>
                  </a:lnTo>
                  <a:lnTo>
                    <a:pt x="46" y="183"/>
                  </a:lnTo>
                  <a:lnTo>
                    <a:pt x="44" y="95"/>
                  </a:lnTo>
                  <a:lnTo>
                    <a:pt x="18" y="115"/>
                  </a:lnTo>
                  <a:lnTo>
                    <a:pt x="0" y="100"/>
                  </a:lnTo>
                  <a:lnTo>
                    <a:pt x="43" y="67"/>
                  </a:lnTo>
                  <a:lnTo>
                    <a:pt x="43" y="52"/>
                  </a:lnTo>
                  <a:lnTo>
                    <a:pt x="57" y="45"/>
                  </a:lnTo>
                  <a:lnTo>
                    <a:pt x="57" y="23"/>
                  </a:lnTo>
                  <a:lnTo>
                    <a:pt x="68" y="23"/>
                  </a:lnTo>
                  <a:lnTo>
                    <a:pt x="68" y="11"/>
                  </a:lnTo>
                  <a:lnTo>
                    <a:pt x="68" y="1"/>
                  </a:lnTo>
                  <a:lnTo>
                    <a:pt x="135" y="0"/>
                  </a:lnTo>
                  <a:lnTo>
                    <a:pt x="135" y="21"/>
                  </a:lnTo>
                  <a:lnTo>
                    <a:pt x="147" y="21"/>
                  </a:lnTo>
                  <a:lnTo>
                    <a:pt x="147" y="43"/>
                  </a:lnTo>
                  <a:lnTo>
                    <a:pt x="168" y="49"/>
                  </a:lnTo>
                  <a:lnTo>
                    <a:pt x="168" y="61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4" y="73"/>
                  </a:lnTo>
                  <a:lnTo>
                    <a:pt x="242" y="72"/>
                  </a:lnTo>
                  <a:lnTo>
                    <a:pt x="242" y="87"/>
                  </a:lnTo>
                  <a:lnTo>
                    <a:pt x="443" y="82"/>
                  </a:lnTo>
                  <a:lnTo>
                    <a:pt x="476" y="119"/>
                  </a:lnTo>
                  <a:lnTo>
                    <a:pt x="439" y="167"/>
                  </a:lnTo>
                  <a:lnTo>
                    <a:pt x="430" y="151"/>
                  </a:lnTo>
                  <a:lnTo>
                    <a:pt x="418" y="152"/>
                  </a:lnTo>
                  <a:lnTo>
                    <a:pt x="407" y="168"/>
                  </a:lnTo>
                  <a:lnTo>
                    <a:pt x="398" y="152"/>
                  </a:lnTo>
                  <a:lnTo>
                    <a:pt x="395" y="155"/>
                  </a:lnTo>
                  <a:lnTo>
                    <a:pt x="387" y="168"/>
                  </a:lnTo>
                  <a:lnTo>
                    <a:pt x="360" y="172"/>
                  </a:lnTo>
                  <a:lnTo>
                    <a:pt x="358" y="175"/>
                  </a:lnTo>
                  <a:lnTo>
                    <a:pt x="343" y="151"/>
                  </a:lnTo>
                  <a:lnTo>
                    <a:pt x="331" y="151"/>
                  </a:lnTo>
                  <a:lnTo>
                    <a:pt x="314" y="170"/>
                  </a:lnTo>
                  <a:lnTo>
                    <a:pt x="302" y="155"/>
                  </a:lnTo>
                  <a:lnTo>
                    <a:pt x="287" y="155"/>
                  </a:lnTo>
                  <a:lnTo>
                    <a:pt x="267" y="171"/>
                  </a:lnTo>
                  <a:lnTo>
                    <a:pt x="241" y="175"/>
                  </a:lnTo>
                  <a:lnTo>
                    <a:pt x="241" y="197"/>
                  </a:lnTo>
                  <a:lnTo>
                    <a:pt x="204" y="198"/>
                  </a:lnTo>
                  <a:lnTo>
                    <a:pt x="204" y="210"/>
                  </a:lnTo>
                  <a:lnTo>
                    <a:pt x="169" y="211"/>
                  </a:lnTo>
                  <a:lnTo>
                    <a:pt x="169" y="224"/>
                  </a:lnTo>
                  <a:lnTo>
                    <a:pt x="152" y="230"/>
                  </a:lnTo>
                  <a:lnTo>
                    <a:pt x="153" y="258"/>
                  </a:lnTo>
                  <a:lnTo>
                    <a:pt x="141" y="259"/>
                  </a:lnTo>
                  <a:lnTo>
                    <a:pt x="141" y="277"/>
                  </a:lnTo>
                  <a:lnTo>
                    <a:pt x="72" y="279"/>
                  </a:lnTo>
                  <a:lnTo>
                    <a:pt x="71" y="260"/>
                  </a:lnTo>
                  <a:lnTo>
                    <a:pt x="63" y="261"/>
                  </a:lnTo>
                  <a:lnTo>
                    <a:pt x="62" y="236"/>
                  </a:lnTo>
                  <a:lnTo>
                    <a:pt x="56" y="233"/>
                  </a:lnTo>
                  <a:lnTo>
                    <a:pt x="47" y="227"/>
                  </a:lnTo>
                  <a:lnTo>
                    <a:pt x="47" y="214"/>
                  </a:lnTo>
                  <a:lnTo>
                    <a:pt x="2" y="18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00120" y="2868480"/>
              <a:ext cx="92160" cy="336600"/>
              <a:chOff x="1500120" y="2868480"/>
              <a:chExt cx="92160" cy="336600"/>
            </a:xfrm>
          </p:grpSpPr>
          <p:sp>
            <p:nvSpPr>
              <p:cNvPr id="351" name=""/>
              <p:cNvSpPr/>
              <p:nvPr/>
            </p:nvSpPr>
            <p:spPr>
              <a:xfrm>
                <a:off x="1501920" y="2894040"/>
                <a:ext cx="90360" cy="311040"/>
              </a:xfrm>
              <a:custGeom>
                <a:avLst/>
                <a:gdLst/>
                <a:ahLst/>
                <a:rect l="l" t="t" r="r" b="b"/>
                <a:pathLst>
                  <a:path w="57" h="196">
                    <a:moveTo>
                      <a:pt x="30" y="195"/>
                    </a:moveTo>
                    <a:lnTo>
                      <a:pt x="4" y="180"/>
                    </a:lnTo>
                    <a:lnTo>
                      <a:pt x="0" y="0"/>
                    </a:lnTo>
                    <a:lnTo>
                      <a:pt x="4" y="177"/>
                    </a:lnTo>
                    <a:lnTo>
                      <a:pt x="30" y="192"/>
                    </a:lnTo>
                    <a:lnTo>
                      <a:pt x="56" y="176"/>
                    </a:lnTo>
                    <a:lnTo>
                      <a:pt x="56" y="179"/>
                    </a:lnTo>
                    <a:lnTo>
                      <a:pt x="30" y="195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00120" y="2868480"/>
                <a:ext cx="90720" cy="312840"/>
              </a:xfrm>
              <a:custGeom>
                <a:avLst/>
                <a:gdLst/>
                <a:ahLst/>
                <a:rect l="l" t="t" r="r" b="b"/>
                <a:pathLst>
                  <a:path w="57" h="197">
                    <a:moveTo>
                      <a:pt x="22" y="0"/>
                    </a:moveTo>
                    <a:lnTo>
                      <a:pt x="52" y="15"/>
                    </a:lnTo>
                    <a:lnTo>
                      <a:pt x="56" y="196"/>
                    </a:lnTo>
                    <a:lnTo>
                      <a:pt x="52" y="18"/>
                    </a:lnTo>
                    <a:lnTo>
                      <a:pt x="23" y="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rot="21480000">
              <a:off x="1486080" y="2860560"/>
              <a:ext cx="4680" cy="3762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1480000">
              <a:off x="1473120" y="2904840"/>
              <a:ext cx="5040" cy="291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595520" y="2857680"/>
              <a:ext cx="538200" cy="376200"/>
              <a:chOff x="1595520" y="2857680"/>
              <a:chExt cx="538200" cy="376200"/>
            </a:xfrm>
          </p:grpSpPr>
          <p:sp>
            <p:nvSpPr>
              <p:cNvPr id="356" name=""/>
              <p:cNvSpPr/>
              <p:nvPr/>
            </p:nvSpPr>
            <p:spPr>
              <a:xfrm>
                <a:off x="1708200" y="3038400"/>
                <a:ext cx="407880" cy="20880"/>
              </a:xfrm>
              <a:custGeom>
                <a:avLst/>
                <a:gdLst/>
                <a:ahLst/>
                <a:rect l="l" t="t" r="r" b="b"/>
                <a:pathLst>
                  <a:path w="257" h="13">
                    <a:moveTo>
                      <a:pt x="0" y="6"/>
                    </a:moveTo>
                    <a:lnTo>
                      <a:pt x="256" y="0"/>
                    </a:lnTo>
                    <a:lnTo>
                      <a:pt x="256" y="6"/>
                    </a:lnTo>
                    <a:lnTo>
                      <a:pt x="6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16120" y="2982960"/>
                <a:ext cx="403200" cy="20520"/>
              </a:xfrm>
              <a:custGeom>
                <a:avLst/>
                <a:gdLst/>
                <a:ahLst/>
                <a:rect l="l" t="t" r="r" b="b"/>
                <a:pathLst>
                  <a:path w="254" h="13">
                    <a:moveTo>
                      <a:pt x="0" y="6"/>
                    </a:moveTo>
                    <a:lnTo>
                      <a:pt x="250" y="0"/>
                    </a:lnTo>
                    <a:lnTo>
                      <a:pt x="253" y="6"/>
                    </a:lnTo>
                    <a:lnTo>
                      <a:pt x="21" y="12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595520" y="2857680"/>
                <a:ext cx="538200" cy="376200"/>
                <a:chOff x="1595520" y="2857680"/>
                <a:chExt cx="538200" cy="376200"/>
              </a:xfrm>
            </p:grpSpPr>
            <p:sp>
              <p:nvSpPr>
                <p:cNvPr id="359" name=""/>
                <p:cNvSpPr/>
                <p:nvPr/>
              </p:nvSpPr>
              <p:spPr>
                <a:xfrm rot="21480000">
                  <a:off x="1602000" y="2857680"/>
                  <a:ext cx="9360" cy="3762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21480000">
                  <a:off x="1650960" y="2921040"/>
                  <a:ext cx="9720" cy="2318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716120" y="2992320"/>
                  <a:ext cx="417600" cy="32040"/>
                </a:xfrm>
                <a:custGeom>
                  <a:avLst/>
                  <a:gdLst/>
                  <a:ahLst/>
                  <a:rect l="l" t="t" r="r" b="b"/>
                  <a:pathLst>
                    <a:path w="263" h="20">
                      <a:moveTo>
                        <a:pt x="0" y="0"/>
                      </a:moveTo>
                      <a:lnTo>
                        <a:pt x="14" y="6"/>
                      </a:lnTo>
                      <a:lnTo>
                        <a:pt x="32" y="12"/>
                      </a:lnTo>
                      <a:lnTo>
                        <a:pt x="259" y="7"/>
                      </a:lnTo>
                      <a:lnTo>
                        <a:pt x="262" y="13"/>
                      </a:lnTo>
                      <a:lnTo>
                        <a:pt x="2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98840" y="2933640"/>
                  <a:ext cx="66600" cy="204840"/>
                </a:xfrm>
                <a:custGeom>
                  <a:avLst/>
                  <a:gdLst/>
                  <a:ahLst/>
                  <a:rect l="l" t="t" r="r" b="b"/>
                  <a:pathLst>
                    <a:path w="42" h="129">
                      <a:moveTo>
                        <a:pt x="41" y="106"/>
                      </a:moveTo>
                      <a:lnTo>
                        <a:pt x="33" y="112"/>
                      </a:lnTo>
                      <a:lnTo>
                        <a:pt x="6" y="113"/>
                      </a:lnTo>
                      <a:lnTo>
                        <a:pt x="6" y="128"/>
                      </a:lnTo>
                      <a:lnTo>
                        <a:pt x="4" y="128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5" y="72"/>
                      </a:lnTo>
                      <a:lnTo>
                        <a:pt x="14" y="78"/>
                      </a:lnTo>
                      <a:lnTo>
                        <a:pt x="15" y="103"/>
                      </a:lnTo>
                      <a:lnTo>
                        <a:pt x="41" y="106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16040" y="2890800"/>
                  <a:ext cx="15840" cy="298440"/>
                </a:xfrm>
                <a:custGeom>
                  <a:avLst/>
                  <a:gdLst/>
                  <a:ahLst/>
                  <a:rect l="l" t="t" r="r" b="b"/>
                  <a:pathLst>
                    <a:path w="10" h="188">
                      <a:moveTo>
                        <a:pt x="4" y="187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9" y="187"/>
                      </a:lnTo>
                      <a:lnTo>
                        <a:pt x="4" y="187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1987560" y="2668680"/>
            <a:ext cx="3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324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2520" y="3278160"/>
            <a:ext cx="167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Private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3120" y="281952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12120" y="236376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71360" y="1677960"/>
            <a:ext cx="1690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ed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305240" y="4343400"/>
            <a:ext cx="1155600" cy="1612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6244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678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75560" y="6021360"/>
            <a:ext cx="1719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ice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1492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54960" y="50306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216320" y="2044800"/>
            <a:ext cx="1524240" cy="1346040"/>
            <a:chOff x="4216320" y="2044800"/>
            <a:chExt cx="1524240" cy="1346040"/>
          </a:xfrm>
        </p:grpSpPr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4216320" y="2044800"/>
              <a:ext cx="88920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383000" y="2211480"/>
              <a:ext cx="393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30720" y="304956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4926240" y="3044880"/>
              <a:ext cx="814320" cy="239760"/>
              <a:chOff x="4926240" y="3044880"/>
              <a:chExt cx="814320" cy="239760"/>
            </a:xfrm>
          </p:grpSpPr>
          <p:sp>
            <p:nvSpPr>
              <p:cNvPr id="381" name=""/>
              <p:cNvSpPr/>
              <p:nvPr/>
            </p:nvSpPr>
            <p:spPr>
              <a:xfrm>
                <a:off x="5040360" y="3044880"/>
                <a:ext cx="700200" cy="210960"/>
              </a:xfrm>
              <a:custGeom>
                <a:avLst/>
                <a:gdLst/>
                <a:ahLst/>
                <a:rect l="l" t="t" r="r" b="b"/>
                <a:pathLst>
                  <a:path w="441" h="133">
                    <a:moveTo>
                      <a:pt x="366" y="4"/>
                    </a:moveTo>
                    <a:lnTo>
                      <a:pt x="392" y="0"/>
                    </a:lnTo>
                    <a:lnTo>
                      <a:pt x="413" y="0"/>
                    </a:lnTo>
                    <a:lnTo>
                      <a:pt x="429" y="7"/>
                    </a:lnTo>
                    <a:lnTo>
                      <a:pt x="440" y="13"/>
                    </a:lnTo>
                    <a:lnTo>
                      <a:pt x="440" y="23"/>
                    </a:lnTo>
                    <a:lnTo>
                      <a:pt x="424" y="33"/>
                    </a:lnTo>
                    <a:lnTo>
                      <a:pt x="403" y="43"/>
                    </a:lnTo>
                    <a:lnTo>
                      <a:pt x="376" y="53"/>
                    </a:lnTo>
                    <a:lnTo>
                      <a:pt x="75" y="125"/>
                    </a:lnTo>
                    <a:lnTo>
                      <a:pt x="48" y="132"/>
                    </a:lnTo>
                    <a:lnTo>
                      <a:pt x="27" y="132"/>
                    </a:lnTo>
                    <a:lnTo>
                      <a:pt x="11" y="125"/>
                    </a:lnTo>
                    <a:lnTo>
                      <a:pt x="0" y="119"/>
                    </a:lnTo>
                    <a:lnTo>
                      <a:pt x="6" y="109"/>
                    </a:lnTo>
                    <a:lnTo>
                      <a:pt x="16" y="96"/>
                    </a:lnTo>
                    <a:lnTo>
                      <a:pt x="37" y="86"/>
                    </a:lnTo>
                    <a:lnTo>
                      <a:pt x="64" y="79"/>
                    </a:lnTo>
                    <a:lnTo>
                      <a:pt x="366" y="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926240" y="3166920"/>
                <a:ext cx="244440" cy="117720"/>
              </a:xfrm>
              <a:custGeom>
                <a:avLst/>
                <a:gdLst/>
                <a:ahLst/>
                <a:rect l="l" t="t" r="r" b="b"/>
                <a:pathLst>
                  <a:path w="154" h="74">
                    <a:moveTo>
                      <a:pt x="31" y="27"/>
                    </a:moveTo>
                    <a:lnTo>
                      <a:pt x="141" y="0"/>
                    </a:lnTo>
                    <a:lnTo>
                      <a:pt x="110" y="32"/>
                    </a:lnTo>
                    <a:lnTo>
                      <a:pt x="153" y="47"/>
                    </a:lnTo>
                    <a:lnTo>
                      <a:pt x="42" y="73"/>
                    </a:lnTo>
                    <a:lnTo>
                      <a:pt x="0" y="59"/>
                    </a:lnTo>
                    <a:lnTo>
                      <a:pt x="31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237200" y="297180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001040" y="5016600"/>
            <a:ext cx="710640" cy="952560"/>
            <a:chOff x="4001040" y="5016600"/>
            <a:chExt cx="710640" cy="952560"/>
          </a:xfrm>
        </p:grpSpPr>
        <p:pic>
          <p:nvPicPr>
            <p:cNvPr id="385" name="" descr=""/>
            <p:cNvPicPr/>
            <p:nvPr/>
          </p:nvPicPr>
          <p:blipFill>
            <a:blip r:embed="rId5"/>
            <a:stretch/>
          </p:blipFill>
          <p:spPr>
            <a:xfrm>
              <a:off x="4064040" y="5016600"/>
              <a:ext cx="6476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084560" y="5715000"/>
              <a:ext cx="51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01040" y="5716440"/>
              <a:ext cx="698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54400" y="5259240"/>
              <a:ext cx="333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305240" y="5486400"/>
            <a:ext cx="763560" cy="458640"/>
            <a:chOff x="4305240" y="5486400"/>
            <a:chExt cx="763560" cy="458640"/>
          </a:xfrm>
        </p:grpSpPr>
        <p:sp>
          <p:nvSpPr>
            <p:cNvPr id="390" name=""/>
            <p:cNvSpPr/>
            <p:nvPr/>
          </p:nvSpPr>
          <p:spPr>
            <a:xfrm>
              <a:off x="431496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854600" y="5560920"/>
              <a:ext cx="88920" cy="339840"/>
              <a:chOff x="4854600" y="5560920"/>
              <a:chExt cx="88920" cy="339840"/>
            </a:xfrm>
          </p:grpSpPr>
          <p:sp>
            <p:nvSpPr>
              <p:cNvPr id="393" name=""/>
              <p:cNvSpPr/>
              <p:nvPr/>
            </p:nvSpPr>
            <p:spPr>
              <a:xfrm>
                <a:off x="485460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5460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51440" y="5530680"/>
              <a:ext cx="4680" cy="37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5840" y="5570640"/>
              <a:ext cx="4680" cy="293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310280" y="5530680"/>
              <a:ext cx="529920" cy="378000"/>
              <a:chOff x="4310280" y="5530680"/>
              <a:chExt cx="529920" cy="3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32900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2432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4310280" y="5530680"/>
                <a:ext cx="529920" cy="378000"/>
                <a:chOff x="4310280" y="5530680"/>
                <a:chExt cx="529920" cy="378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830840" y="5530680"/>
                  <a:ext cx="9360" cy="3780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784760" y="5610240"/>
                  <a:ext cx="9720" cy="233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1028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67856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81320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6" name=""/>
          <p:cNvGrpSpPr/>
          <p:nvPr/>
        </p:nvGrpSpPr>
        <p:grpSpPr>
          <a:xfrm>
            <a:off x="6972480" y="4483080"/>
            <a:ext cx="1409040" cy="1816200"/>
            <a:chOff x="6972480" y="4483080"/>
            <a:chExt cx="1409040" cy="1816200"/>
          </a:xfrm>
        </p:grpSpPr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7492680" y="4483080"/>
              <a:ext cx="88884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659360" y="4649760"/>
              <a:ext cx="377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06720" y="5411880"/>
              <a:ext cx="86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epw1j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13200" y="5410080"/>
              <a:ext cx="82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6972480" y="5403960"/>
              <a:ext cx="944280" cy="895320"/>
              <a:chOff x="6972480" y="5403960"/>
              <a:chExt cx="944280" cy="8953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6972480" y="5403960"/>
                <a:ext cx="894600" cy="895320"/>
                <a:chOff x="6972480" y="5403960"/>
                <a:chExt cx="894600" cy="8953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7397280" y="5403960"/>
                  <a:ext cx="469800" cy="4698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72480" y="5765760"/>
                  <a:ext cx="53280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7328520" y="5411880"/>
                <a:ext cx="588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ie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FA63-4132-4B5E-A5C7-6E7374F5BC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s for Public-key Sche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factoriz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, 1024 bit keys, widel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logarithm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A and Diffie-Hellman, 1024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DSA and EC Diffie-Hellman, 160 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2FF3-4E4A-4ABF-870F-E9352A4CBF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s and Cons of Public-key Cryp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ke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utational 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451A-DB33-46FF-9A98-03216EEAB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brid Solution - Key Ex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5120" y="3278160"/>
            <a:ext cx="1630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  Public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173480" y="2120760"/>
            <a:ext cx="889200" cy="1257480"/>
            <a:chOff x="4173480" y="2120760"/>
            <a:chExt cx="889200" cy="125748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4173480" y="2120760"/>
              <a:ext cx="88920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253040" y="2200320"/>
              <a:ext cx="64116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133720" y="1828800"/>
            <a:ext cx="2091600" cy="990000"/>
            <a:chOff x="2133720" y="1828800"/>
            <a:chExt cx="2091600" cy="990000"/>
          </a:xfrm>
        </p:grpSpPr>
        <p:sp>
          <p:nvSpPr>
            <p:cNvPr id="427" name=""/>
            <p:cNvSpPr/>
            <p:nvPr/>
          </p:nvSpPr>
          <p:spPr>
            <a:xfrm>
              <a:off x="2133720" y="281880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13640" y="1828800"/>
              <a:ext cx="2011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K ENCRY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 key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Y ENCRYP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186080" y="4343400"/>
            <a:ext cx="1155960" cy="16128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394488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4186080" y="5486400"/>
            <a:ext cx="763560" cy="458640"/>
            <a:chOff x="4186080" y="5486400"/>
            <a:chExt cx="763560" cy="458640"/>
          </a:xfrm>
        </p:grpSpPr>
        <p:sp>
          <p:nvSpPr>
            <p:cNvPr id="432" name=""/>
            <p:cNvSpPr/>
            <p:nvPr/>
          </p:nvSpPr>
          <p:spPr>
            <a:xfrm>
              <a:off x="419580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608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4d4d4d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735440" y="5560920"/>
              <a:ext cx="88920" cy="339840"/>
              <a:chOff x="4735440" y="5560920"/>
              <a:chExt cx="88920" cy="339840"/>
            </a:xfrm>
          </p:grpSpPr>
          <p:sp>
            <p:nvSpPr>
              <p:cNvPr id="435" name=""/>
              <p:cNvSpPr/>
              <p:nvPr/>
            </p:nvSpPr>
            <p:spPr>
              <a:xfrm>
                <a:off x="473544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544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832280" y="5530680"/>
              <a:ext cx="4680" cy="378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46680" y="5570640"/>
              <a:ext cx="4680" cy="293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4191120" y="5530680"/>
              <a:ext cx="529920" cy="378000"/>
              <a:chOff x="4191120" y="5530680"/>
              <a:chExt cx="529920" cy="378000"/>
            </a:xfrm>
          </p:grpSpPr>
          <p:sp>
            <p:nvSpPr>
              <p:cNvPr id="440" name=""/>
              <p:cNvSpPr/>
              <p:nvPr/>
            </p:nvSpPr>
            <p:spPr>
              <a:xfrm>
                <a:off x="420984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20516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4d4d4d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4191120" y="5530680"/>
                <a:ext cx="529920" cy="378000"/>
                <a:chOff x="4191120" y="5530680"/>
                <a:chExt cx="529920" cy="378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711680" y="5530680"/>
                  <a:ext cx="9360" cy="37800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65600" y="5610240"/>
                  <a:ext cx="9720" cy="23328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19112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55940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9404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d4d4d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395928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328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4908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297560" y="4788000"/>
            <a:ext cx="889200" cy="1257120"/>
            <a:chOff x="7297560" y="4788000"/>
            <a:chExt cx="889200" cy="125712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729756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46424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495760" y="5486400"/>
            <a:ext cx="1497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4191120"/>
            <a:ext cx="1600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ret ke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 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56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909720" y="1523880"/>
            <a:ext cx="1434960" cy="1778040"/>
            <a:chOff x="909720" y="1523880"/>
            <a:chExt cx="1434960" cy="1778040"/>
          </a:xfrm>
        </p:grpSpPr>
        <p:pic>
          <p:nvPicPr>
            <p:cNvPr id="458" name="" descr=""/>
            <p:cNvPicPr/>
            <p:nvPr/>
          </p:nvPicPr>
          <p:blipFill>
            <a:blip r:embed="rId5"/>
            <a:stretch/>
          </p:blipFill>
          <p:spPr>
            <a:xfrm>
              <a:off x="90972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6"/>
            <a:stretch/>
          </p:blipFill>
          <p:spPr>
            <a:xfrm>
              <a:off x="169704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"/>
            <p:cNvGrpSpPr/>
            <p:nvPr/>
          </p:nvGrpSpPr>
          <p:grpSpPr>
            <a:xfrm>
              <a:off x="1255680" y="2822400"/>
              <a:ext cx="765000" cy="460440"/>
              <a:chOff x="1255680" y="2822400"/>
              <a:chExt cx="765000" cy="460440"/>
            </a:xfrm>
          </p:grpSpPr>
          <p:sp>
            <p:nvSpPr>
              <p:cNvPr id="461" name=""/>
              <p:cNvSpPr/>
              <p:nvPr/>
            </p:nvSpPr>
            <p:spPr>
              <a:xfrm>
                <a:off x="125568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26360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1380960" y="2868480"/>
                <a:ext cx="92160" cy="336600"/>
                <a:chOff x="1380960" y="2868480"/>
                <a:chExt cx="92160" cy="3366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8276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38096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rot="21480000">
                <a:off x="136692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1480000">
                <a:off x="135396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1476360" y="2857680"/>
                <a:ext cx="538200" cy="376200"/>
                <a:chOff x="1476360" y="2857680"/>
                <a:chExt cx="538200" cy="3762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8904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9696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1476360" y="2857680"/>
                  <a:ext cx="538200" cy="376200"/>
                  <a:chOff x="1476360" y="2857680"/>
                  <a:chExt cx="538200" cy="376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 rot="21480000">
                    <a:off x="148284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21480000">
                    <a:off x="153180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59696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57968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49688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77" name=""/>
            <p:cNvSpPr/>
            <p:nvPr/>
          </p:nvSpPr>
          <p:spPr>
            <a:xfrm>
              <a:off x="186840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075920" y="6021360"/>
            <a:ext cx="1441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’s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9880" y="13716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ed key plus 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2761-DD81-4C7C-BB0D-FA2B1184B7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blic Key Distributi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in a public-key scheme, Alice need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ine copy of Bob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an attacker can substitute a fake key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’s key and use this to impersonate B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an attacker obtaining your bla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card and signing it themselves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19CD-04FC-4EAC-B325-E80704A856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key infra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to AT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evel overview of AT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for design of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FF4E-C96E-4188-91E8-993DE9AC7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s to the rescue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Authority (CA) binds Bob and his pub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goes to the CA with hi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 issues a certificate to Bob containing his identity, his public key, and the CA’s signature on his identity and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obtains the CA’s public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verifies the CA’s signature on Bob’s certificate and retrieves his public ke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422B-DB8C-4865-AAA7-9D88192D7D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.509 Certific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905120" y="1447920"/>
            <a:ext cx="3751200" cy="4244760"/>
            <a:chOff x="1905120" y="1447920"/>
            <a:chExt cx="3751200" cy="4244760"/>
          </a:xfrm>
        </p:grpSpPr>
        <p:sp>
          <p:nvSpPr>
            <p:cNvPr id="487" name=""/>
            <p:cNvSpPr/>
            <p:nvPr/>
          </p:nvSpPr>
          <p:spPr>
            <a:xfrm>
              <a:off x="1905120" y="5280120"/>
              <a:ext cx="37512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05120" y="482760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ditional unique identifi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05120" y="4157640"/>
              <a:ext cx="37512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public key inform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Algorithm ID, public key va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370512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ject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5120" y="325440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idity 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5120" y="280188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X.500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5120" y="235116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’s signature algorithm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5120" y="1898640"/>
              <a:ext cx="3751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serial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5120" y="1447920"/>
              <a:ext cx="37512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ertificate v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5120" y="144792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05120" y="5692680"/>
              <a:ext cx="3751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051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56320" y="1447920"/>
              <a:ext cx="0" cy="424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05120" y="1898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05120" y="235116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05120" y="280188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2544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05120" y="3705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05120" y="415764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5120" y="482760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5120" y="5280120"/>
              <a:ext cx="375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2286000" y="5943600"/>
            <a:ext cx="3048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03160" y="592776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 digital 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3880" y="1371600"/>
            <a:ext cx="449604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81680" y="3048120"/>
            <a:ext cx="2057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72400" y="2286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7800" y="1309680"/>
            <a:ext cx="99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3962520"/>
            <a:ext cx="2438280" cy="2133360"/>
          </a:xfrm>
          <a:custGeom>
            <a:avLst/>
            <a:gdLst/>
            <a:ahLst/>
            <a:rect l="l" t="t" r="r" b="b"/>
            <a:pathLst>
              <a:path w="1536" h="1440">
                <a:moveTo>
                  <a:pt x="1536" y="0"/>
                </a:moveTo>
                <a:lnTo>
                  <a:pt x="1536" y="1440"/>
                </a:lnTo>
                <a:lnTo>
                  <a:pt x="0" y="144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1320" y="1447920"/>
            <a:ext cx="990360" cy="4190760"/>
          </a:xfrm>
          <a:custGeom>
            <a:avLst/>
            <a:gdLst>
              <a:gd name="textAreaLeft" fmla="*/ 0 w 990360"/>
              <a:gd name="textAreaRight" fmla="*/ 357480 w 99036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3BB0-36E9-492D-8DD0-24E2DB623B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can solve the public key 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. Unlike KTCs, CAs can be off-line and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unconditionally trus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 CAs do take on significant liability,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igh security requirements, and they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 - Public Key Infrastru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PKI. Furthermore, issues need to be addres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size (X.509 cert size often 20K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5892-2543-4C3C-B753-968C8C1A1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Strict Hierarc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4645080" y="2438280"/>
            <a:ext cx="536400" cy="533160"/>
            <a:chOff x="4645080" y="2438280"/>
            <a:chExt cx="536400" cy="533160"/>
          </a:xfrm>
        </p:grpSpPr>
        <p:sp>
          <p:nvSpPr>
            <p:cNvPr id="521" name=""/>
            <p:cNvSpPr/>
            <p:nvPr/>
          </p:nvSpPr>
          <p:spPr>
            <a:xfrm>
              <a:off x="4647960" y="24382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5080" y="24984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230080" y="24987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10000" y="3733920"/>
            <a:ext cx="53352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968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7339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22400" y="379404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809880" y="2895480"/>
            <a:ext cx="9144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297180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4876920"/>
            <a:ext cx="60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4800600"/>
            <a:ext cx="53352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19920" y="4191120"/>
            <a:ext cx="76176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810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980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954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124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688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05520" y="4800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22160" y="4861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5943600"/>
            <a:ext cx="5331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3656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5943600"/>
            <a:ext cx="53352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68680" y="6004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248520" y="5257800"/>
            <a:ext cx="3808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10280" y="5257800"/>
            <a:ext cx="381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09720" y="4191120"/>
            <a:ext cx="2286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209680" y="411480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124080" y="42670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4191120"/>
            <a:ext cx="1522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13716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As can be arranged in a hierarchy. High level CAs certify lower CAs. Problem: root C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2E89-ADAB-4C33-ABBA-973DEEDB43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ple CAs - Cross-cert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905120" y="3718080"/>
            <a:ext cx="2057400" cy="1735920"/>
            <a:chOff x="1905120" y="3718080"/>
            <a:chExt cx="2057400" cy="1735920"/>
          </a:xfrm>
        </p:grpSpPr>
        <p:grpSp>
          <p:nvGrpSpPr>
            <p:cNvPr id="555" name=""/>
            <p:cNvGrpSpPr/>
            <p:nvPr/>
          </p:nvGrpSpPr>
          <p:grpSpPr>
            <a:xfrm>
              <a:off x="2661840" y="3718080"/>
              <a:ext cx="614880" cy="533160"/>
              <a:chOff x="2661840" y="3718080"/>
              <a:chExt cx="614880" cy="533160"/>
            </a:xfrm>
          </p:grpSpPr>
          <p:sp>
            <p:nvSpPr>
              <p:cNvPr id="556" name=""/>
              <p:cNvSpPr/>
              <p:nvPr/>
            </p:nvSpPr>
            <p:spPr>
              <a:xfrm>
                <a:off x="2667240" y="3718080"/>
                <a:ext cx="60948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661840" y="377820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972160" y="4251240"/>
              <a:ext cx="0" cy="76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209680" y="4174920"/>
              <a:ext cx="6094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440" y="4174920"/>
              <a:ext cx="53352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0512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2212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84240" y="50133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67240" y="5013360"/>
              <a:ext cx="53352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9360" y="5013360"/>
              <a:ext cx="533160" cy="38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46000" y="499752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181480" y="3730680"/>
            <a:ext cx="2057400" cy="1722960"/>
            <a:chOff x="5181480" y="3730680"/>
            <a:chExt cx="2057400" cy="1722960"/>
          </a:xfrm>
        </p:grpSpPr>
        <p:grpSp>
          <p:nvGrpSpPr>
            <p:cNvPr id="568" name=""/>
            <p:cNvGrpSpPr/>
            <p:nvPr/>
          </p:nvGrpSpPr>
          <p:grpSpPr>
            <a:xfrm>
              <a:off x="5938200" y="3730680"/>
              <a:ext cx="614880" cy="528480"/>
              <a:chOff x="5938200" y="3730680"/>
              <a:chExt cx="614880" cy="528480"/>
            </a:xfrm>
          </p:grpSpPr>
          <p:sp>
            <p:nvSpPr>
              <p:cNvPr id="569" name=""/>
              <p:cNvSpPr/>
              <p:nvPr/>
            </p:nvSpPr>
            <p:spPr>
              <a:xfrm>
                <a:off x="5943600" y="3730680"/>
                <a:ext cx="609480" cy="528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38200" y="3790440"/>
                <a:ext cx="608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48160" y="4259160"/>
              <a:ext cx="0" cy="75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486040" y="4182840"/>
              <a:ext cx="60948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00800" y="4182840"/>
              <a:ext cx="533160" cy="82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8148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9848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60240" y="501300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43600" y="5013000"/>
              <a:ext cx="53316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360" y="5013000"/>
              <a:ext cx="533520" cy="377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22360" y="4997160"/>
              <a:ext cx="4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276720" y="3886200"/>
            <a:ext cx="266688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23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each other certificates (cross-certif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liability and cross-certification manage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1F2C-07A3-4744-8F78-6F8DE79D77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s may need to be revoked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picion of key comprom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eaves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changes role in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cotiabank’s internet banking PK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26 certificates issued. Over 19000 re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BA1F-8495-4085-81C8-C7F99CB3FE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ocatio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solution: certificate revo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. Each CA regularly produces a signed list kn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ertificate revocation list or CRL of the s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of revoked certifi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 CRL distribution and CRL siz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 re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certificate status chec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1567-92A7-4E78-8E85-8F82940931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provides a flexible way to secure electron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bination of symmetric and public-key cryptography is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I used to distribute public ke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doesn’t come free. Overhead + infrastructure + manage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B050-01FD-44BF-A592-1EB547C959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selecting security solution: AT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to mitigate the following thre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querade/modification/replay of air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 by flooding ground IDRP datab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dditional concerns about air IDRP databa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round-ground application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1236-FE01-4F70-8453-18930972AB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ATN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therefore provided mechanisms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application communications which use ATN upp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integrity of air-ground IDRP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infrastru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uthentication of ground-ground apps, 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, AM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3AFD-14CE-45C9-B5D8-03BEA6181E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ecurity is concerned with provi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data (during both storage and communication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A303-3C17-4234-8BDB-F9B6C9B3A9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SO GULS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during initial contact with a regional C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contact also establishes shared public value and delivers public keys of applications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(and location) specific session keys derived by applications from their key pairs and shared public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application communications secured using MAC under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 and source included to prevent re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04E1-564E-4227-B161-4877091CD6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776160" y="1371600"/>
          <a:ext cx="75153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71600"/>
                    <a:ext cx="7515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1332-D1FE-4A4A-8C61-D84E938C1D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Applications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initial CMA contact - say CM-log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q: 4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on-resp: 1500 bits (2/3’s of this is certific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: each subsequent secure mess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bits (MAC t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ize RF cost - recall X.5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e often 20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6E64-531E-4C4B-B9A4-ABD95551F4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key establishment with either unilateral implicit authentication of aircraft or mutual implicit authentication during IDRP OPEN ex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communications secured using MAC under sess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(already present) prevents re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AB8A-B221-4998-B1B0-B2C18D4A7A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838080" y="1366920"/>
          <a:ext cx="7391520" cy="51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66920"/>
                    <a:ext cx="739152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6537-B605-4B70-AE29-75A95EFE0E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ir-ground IDRP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RF cost (unilateral authentication of aircraft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IDRP OP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nd IDRP OPEN: 35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IDRP OPEN: 3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 IDRP commun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bi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96BB-B390-4760-861B-2A80F93D40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 GULS b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nications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ield included to prevent rep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73AC-D3DE-4DA1-94A8-74FEA89111D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-ground IDR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symmetric (HMAC) &amp; public-key (ECDSA and EC Diffie-Hellman)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to air-ground IDRP solu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9FAB-BB3D-41E9-A098-008D9EC579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-key solution (ECDS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ISO X.400 security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are secured by sig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variant parameter field and recipient identity included to prevent replay and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D9E4-47A4-4AD8-9E07-6F949CFA63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orting Infra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entities require secure module to generate and store keys and security related databases, and to perform crypto proce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PKI to distribute public ke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security management and security policies as guida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F85C-8D9F-49C0-AF54-DE3C78B377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37360" y="1501920"/>
            <a:ext cx="932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8320" y="1501920"/>
            <a:ext cx="164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080" y="3863880"/>
            <a:ext cx="104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9640" y="2070000"/>
            <a:ext cx="2412720" cy="1451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2327400"/>
            <a:ext cx="23328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40120" y="2327400"/>
            <a:ext cx="23184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71880" y="2776680"/>
            <a:ext cx="230040" cy="231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90120" y="31021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8120" y="2443320"/>
            <a:ext cx="129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4640" y="2297160"/>
            <a:ext cx="148680" cy="9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507" y="3234"/>
                </a:moveTo>
                <a:arcTo wR="10800" hR="10800" stAng="-2668228" swAng="2649704"/>
                <a:lnTo>
                  <a:pt x="10800" y="10800"/>
                </a:lnTo>
                <a:close/>
              </a:path>
              <a:path fill="none" w="21600" h="21600">
                <a:moveTo>
                  <a:pt x="18507" y="3234"/>
                </a:moveTo>
                <a:arcTo wR="10800" hR="10800" stAng="-2668228" swAng="2649704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2070000"/>
            <a:ext cx="2336760" cy="14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1988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5440" y="2319480"/>
            <a:ext cx="222120" cy="22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7720" y="2754360"/>
            <a:ext cx="222480" cy="223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6560" y="3068640"/>
            <a:ext cx="104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67400" y="2460600"/>
            <a:ext cx="11934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79"/>
                </a:moveTo>
                <a:arcTo wR="10800" hR="10800" stAng="-10761591" swAng="5352448"/>
                <a:lnTo>
                  <a:pt x="10800" y="10800"/>
                </a:lnTo>
                <a:close/>
              </a:path>
              <a:path fill="none" w="21600" h="21600">
                <a:moveTo>
                  <a:pt x="1" y="10679"/>
                </a:moveTo>
                <a:arcTo wR="10800" hR="10800" stAng="-10761591" swAng="535244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4508640"/>
            <a:ext cx="2412720" cy="14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812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4765680"/>
            <a:ext cx="23040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71880" y="5214960"/>
            <a:ext cx="230040" cy="2318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8280" y="55404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4680" y="4910040"/>
            <a:ext cx="1358640" cy="59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0"/>
                </a:moveTo>
                <a:arcTo wR="10800" hR="10800" stAng="-5408032" swAng="5389507"/>
                <a:lnTo>
                  <a:pt x="10800" y="10800"/>
                </a:lnTo>
                <a:close/>
              </a:path>
              <a:path fill="none" w="21600" h="21600">
                <a:moveTo>
                  <a:pt x="10775" y="0"/>
                </a:moveTo>
                <a:arcTo wR="10800" hR="10800" stAng="-5408032" swAng="538950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16240" y="4911840"/>
            <a:ext cx="1231560" cy="5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3"/>
                </a:moveTo>
                <a:arcTo wR="10800" hR="10800" stAng="-10762836" swAng="5353976"/>
                <a:lnTo>
                  <a:pt x="10800" y="10800"/>
                </a:lnTo>
                <a:close/>
              </a:path>
              <a:path fill="none" w="21600" h="21600">
                <a:moveTo>
                  <a:pt x="1" y="10683"/>
                </a:moveTo>
                <a:arcTo wR="10800" hR="10800" stAng="-10762836" swAng="535397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3946680"/>
            <a:ext cx="1825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Corru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51440" y="5499000"/>
            <a:ext cx="784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0" y="4543560"/>
            <a:ext cx="2336760" cy="14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18080" y="4792680"/>
            <a:ext cx="22536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2200" y="4792680"/>
            <a:ext cx="223920" cy="22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7720" y="5227560"/>
            <a:ext cx="222480" cy="222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2280" y="4932360"/>
            <a:ext cx="1314000" cy="56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4" y="0"/>
                </a:moveTo>
                <a:arcTo wR="10800" hR="10800" stAng="-5408303" swAng="5408303"/>
                <a:lnTo>
                  <a:pt x="10800" y="10800"/>
                </a:lnTo>
                <a:close/>
              </a:path>
              <a:path fill="none" w="21600" h="21600">
                <a:moveTo>
                  <a:pt x="10774" y="0"/>
                </a:moveTo>
                <a:arcTo wR="10800" hR="10800" stAng="-5408303" swAng="5408303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7800" y="4884840"/>
            <a:ext cx="1250280" cy="59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810" swAng="537308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810" swAng="5373085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5540400"/>
            <a:ext cx="91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5229-8A6F-45C6-9FCA-6953247E8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omponents: CAs and Certificate Deliver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e required to have CA and Delivery Services in place and ensure they are maint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Operating Entities may operate subordinate 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 issue X.509 certificates and CR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deliver certificates and CRLs to ATN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CA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 Services may be based on directory services. (Or may not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F81F-134A-4B7D-892C-8E679BDA11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 PKI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5280" y="1143000"/>
            <a:ext cx="67820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1508040"/>
            <a:ext cx="133488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002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038480" y="15080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648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89800" y="1508040"/>
            <a:ext cx="1334880" cy="428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37400" y="1508040"/>
            <a:ext cx="111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997360" y="1690560"/>
            <a:ext cx="8888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38680" y="1690560"/>
            <a:ext cx="7779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3336840"/>
            <a:ext cx="133524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08160" y="3381480"/>
            <a:ext cx="1335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C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6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157400" y="3246480"/>
            <a:ext cx="13366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49200" y="33368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371600" y="3381480"/>
            <a:ext cx="11113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E 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6680" y="31543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66884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5920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3381480"/>
            <a:ext cx="13366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nd A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72360" y="3154320"/>
            <a:ext cx="133488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64160" y="32464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554880" y="33368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554880" y="3381480"/>
            <a:ext cx="1446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nd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209680" y="1905120"/>
            <a:ext cx="1905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809520" y="19810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952880" y="20574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05520" y="1981080"/>
            <a:ext cx="1752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9056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2720" y="5165640"/>
            <a:ext cx="133524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52480" y="5165640"/>
            <a:ext cx="1446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C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057040" y="2057400"/>
            <a:ext cx="15228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81280" y="498312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73440" y="5075280"/>
            <a:ext cx="1335240" cy="426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5165640"/>
            <a:ext cx="133668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63800" y="5210280"/>
            <a:ext cx="15573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craft 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81080" y="3809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0" y="380988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D399-6795-4971-8BCC-EA6681A0B4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ertificate Deliver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Delivery Services deliver certificates and CRLs to ATN ent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.500 directory likely to help on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pplications and routers have director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has directory access and provides certificates and CRLs as needed to other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s are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scen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certificates for CMA/routers sent to aircr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fields known by aircraft in advance not sent on RF. Certificate reconstructed by aircraft before ver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 certificates pre-stored (initial deployment onl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71B6-4809-486C-9D9F-B31BCBCD8B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has developed security solutions to mitigate ATN threats identified by risk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use both symmetric and public-key cryptograp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I required to support key manag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effort to minimze cost of solution, and, in particular, use of RF bandwi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AF03-E1DD-4718-8E83-EF37012C03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ture Iss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issues it may be desirable to address p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P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C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guidance on security management and security policies (based on validation experie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9233-7794-40B4-B3B1-4FD842EC99A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find out more.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” pap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Application security solution for the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1/SG2 working paper: “Public key infrastructure for AT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SARPS SV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or hassle Mike Big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B74C-E5EB-45B9-901A-788442A351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 Secu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ly data has been stored on paper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= sealed envelope, trusted 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= paper itself plus handwritte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= efficient filing and pos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olutions don’t work for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D701-9DA9-4799-9D2D-EC7C1FC8E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provides security by transform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tself. It is therefore storage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well-suited to electronic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schemes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igi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u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2F01-C974-44F6-A785-47A703F51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yptography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y is widely used today in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ryptographic scheme are in us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schemes and public key sche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98B1-9EA2-469E-ABC4-4261355472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Cryptograph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ymmetric cryptographic scheme, Al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ob must share a secret key in adv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encryption schemes provide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. Examples: US government’s D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essage authentication codes or MA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integrity and data origin authentic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D19F-25E8-4BED-B0DB-70D3E24519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mmetric Encryption Sche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1523880"/>
            <a:ext cx="1434960" cy="1778040"/>
            <a:chOff x="985680" y="1523880"/>
            <a:chExt cx="1434960" cy="17780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985680" y="1523880"/>
              <a:ext cx="1104840" cy="15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73000" y="2425680"/>
              <a:ext cx="647640" cy="87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1331640" y="2822400"/>
              <a:ext cx="765000" cy="460440"/>
              <a:chOff x="1331640" y="2822400"/>
              <a:chExt cx="765000" cy="460440"/>
            </a:xfrm>
          </p:grpSpPr>
          <p:sp>
            <p:nvSpPr>
              <p:cNvPr id="135" name=""/>
              <p:cNvSpPr/>
              <p:nvPr/>
            </p:nvSpPr>
            <p:spPr>
              <a:xfrm>
                <a:off x="1331640" y="2836800"/>
                <a:ext cx="757080" cy="446040"/>
              </a:xfrm>
              <a:custGeom>
                <a:avLst/>
                <a:gdLst/>
                <a:ahLst/>
                <a:rect l="l" t="t" r="r" b="b"/>
                <a:pathLst>
                  <a:path w="477" h="281">
                    <a:moveTo>
                      <a:pt x="2" y="179"/>
                    </a:moveTo>
                    <a:lnTo>
                      <a:pt x="0" y="97"/>
                    </a:lnTo>
                    <a:lnTo>
                      <a:pt x="18" y="113"/>
                    </a:lnTo>
                    <a:lnTo>
                      <a:pt x="19" y="163"/>
                    </a:lnTo>
                    <a:lnTo>
                      <a:pt x="52" y="177"/>
                    </a:lnTo>
                    <a:lnTo>
                      <a:pt x="50" y="96"/>
                    </a:lnTo>
                    <a:lnTo>
                      <a:pt x="21" y="113"/>
                    </a:lnTo>
                    <a:lnTo>
                      <a:pt x="3" y="97"/>
                    </a:lnTo>
                    <a:lnTo>
                      <a:pt x="46" y="65"/>
                    </a:lnTo>
                    <a:lnTo>
                      <a:pt x="45" y="50"/>
                    </a:lnTo>
                    <a:lnTo>
                      <a:pt x="60" y="46"/>
                    </a:lnTo>
                    <a:lnTo>
                      <a:pt x="59" y="18"/>
                    </a:lnTo>
                    <a:lnTo>
                      <a:pt x="71" y="18"/>
                    </a:lnTo>
                    <a:lnTo>
                      <a:pt x="71" y="12"/>
                    </a:lnTo>
                    <a:lnTo>
                      <a:pt x="70" y="2"/>
                    </a:lnTo>
                    <a:lnTo>
                      <a:pt x="137" y="0"/>
                    </a:lnTo>
                    <a:lnTo>
                      <a:pt x="138" y="16"/>
                    </a:lnTo>
                    <a:lnTo>
                      <a:pt x="152" y="16"/>
                    </a:lnTo>
                    <a:lnTo>
                      <a:pt x="153" y="40"/>
                    </a:lnTo>
                    <a:lnTo>
                      <a:pt x="171" y="46"/>
                    </a:lnTo>
                    <a:lnTo>
                      <a:pt x="171" y="62"/>
                    </a:lnTo>
                    <a:lnTo>
                      <a:pt x="203" y="61"/>
                    </a:lnTo>
                    <a:lnTo>
                      <a:pt x="203" y="71"/>
                    </a:lnTo>
                    <a:lnTo>
                      <a:pt x="209" y="73"/>
                    </a:lnTo>
                    <a:lnTo>
                      <a:pt x="241" y="73"/>
                    </a:lnTo>
                    <a:lnTo>
                      <a:pt x="242" y="88"/>
                    </a:lnTo>
                    <a:lnTo>
                      <a:pt x="446" y="80"/>
                    </a:lnTo>
                    <a:lnTo>
                      <a:pt x="476" y="117"/>
                    </a:lnTo>
                    <a:lnTo>
                      <a:pt x="445" y="168"/>
                    </a:lnTo>
                    <a:lnTo>
                      <a:pt x="433" y="149"/>
                    </a:lnTo>
                    <a:lnTo>
                      <a:pt x="424" y="150"/>
                    </a:lnTo>
                    <a:lnTo>
                      <a:pt x="413" y="168"/>
                    </a:lnTo>
                    <a:lnTo>
                      <a:pt x="404" y="150"/>
                    </a:lnTo>
                    <a:lnTo>
                      <a:pt x="398" y="153"/>
                    </a:lnTo>
                    <a:lnTo>
                      <a:pt x="392" y="169"/>
                    </a:lnTo>
                    <a:lnTo>
                      <a:pt x="363" y="170"/>
                    </a:lnTo>
                    <a:lnTo>
                      <a:pt x="360" y="170"/>
                    </a:lnTo>
                    <a:lnTo>
                      <a:pt x="345" y="152"/>
                    </a:lnTo>
                    <a:lnTo>
                      <a:pt x="334" y="152"/>
                    </a:lnTo>
                    <a:lnTo>
                      <a:pt x="316" y="171"/>
                    </a:lnTo>
                    <a:lnTo>
                      <a:pt x="305" y="153"/>
                    </a:lnTo>
                    <a:lnTo>
                      <a:pt x="290" y="153"/>
                    </a:lnTo>
                    <a:lnTo>
                      <a:pt x="273" y="172"/>
                    </a:lnTo>
                    <a:lnTo>
                      <a:pt x="244" y="173"/>
                    </a:lnTo>
                    <a:lnTo>
                      <a:pt x="244" y="194"/>
                    </a:lnTo>
                    <a:lnTo>
                      <a:pt x="207" y="195"/>
                    </a:lnTo>
                    <a:lnTo>
                      <a:pt x="207" y="205"/>
                    </a:lnTo>
                    <a:lnTo>
                      <a:pt x="172" y="206"/>
                    </a:lnTo>
                    <a:lnTo>
                      <a:pt x="172" y="221"/>
                    </a:lnTo>
                    <a:lnTo>
                      <a:pt x="158" y="228"/>
                    </a:lnTo>
                    <a:lnTo>
                      <a:pt x="158" y="253"/>
                    </a:lnTo>
                    <a:lnTo>
                      <a:pt x="144" y="253"/>
                    </a:lnTo>
                    <a:lnTo>
                      <a:pt x="144" y="278"/>
                    </a:lnTo>
                    <a:lnTo>
                      <a:pt x="74" y="280"/>
                    </a:lnTo>
                    <a:lnTo>
                      <a:pt x="74" y="258"/>
                    </a:lnTo>
                    <a:lnTo>
                      <a:pt x="65" y="258"/>
                    </a:lnTo>
                    <a:lnTo>
                      <a:pt x="64" y="237"/>
                    </a:lnTo>
                    <a:lnTo>
                      <a:pt x="61" y="230"/>
                    </a:lnTo>
                    <a:lnTo>
                      <a:pt x="50" y="224"/>
                    </a:lnTo>
                    <a:lnTo>
                      <a:pt x="49" y="209"/>
                    </a:lnTo>
                    <a:lnTo>
                      <a:pt x="2" y="179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9560" y="2822400"/>
                <a:ext cx="757080" cy="444600"/>
              </a:xfrm>
              <a:custGeom>
                <a:avLst/>
                <a:gdLst/>
                <a:ahLst/>
                <a:rect l="l" t="t" r="r" b="b"/>
                <a:pathLst>
                  <a:path w="477" h="280">
                    <a:moveTo>
                      <a:pt x="2" y="184"/>
                    </a:moveTo>
                    <a:lnTo>
                      <a:pt x="0" y="100"/>
                    </a:lnTo>
                    <a:lnTo>
                      <a:pt x="18" y="115"/>
                    </a:lnTo>
                    <a:lnTo>
                      <a:pt x="19" y="162"/>
                    </a:lnTo>
                    <a:lnTo>
                      <a:pt x="46" y="183"/>
                    </a:lnTo>
                    <a:lnTo>
                      <a:pt x="44" y="95"/>
                    </a:lnTo>
                    <a:lnTo>
                      <a:pt x="18" y="115"/>
                    </a:lnTo>
                    <a:lnTo>
                      <a:pt x="0" y="100"/>
                    </a:lnTo>
                    <a:lnTo>
                      <a:pt x="43" y="67"/>
                    </a:lnTo>
                    <a:lnTo>
                      <a:pt x="43" y="52"/>
                    </a:lnTo>
                    <a:lnTo>
                      <a:pt x="57" y="45"/>
                    </a:lnTo>
                    <a:lnTo>
                      <a:pt x="57" y="23"/>
                    </a:lnTo>
                    <a:lnTo>
                      <a:pt x="68" y="23"/>
                    </a:lnTo>
                    <a:lnTo>
                      <a:pt x="68" y="11"/>
                    </a:lnTo>
                    <a:lnTo>
                      <a:pt x="68" y="1"/>
                    </a:lnTo>
                    <a:lnTo>
                      <a:pt x="135" y="0"/>
                    </a:lnTo>
                    <a:lnTo>
                      <a:pt x="135" y="21"/>
                    </a:lnTo>
                    <a:lnTo>
                      <a:pt x="147" y="21"/>
                    </a:lnTo>
                    <a:lnTo>
                      <a:pt x="147" y="43"/>
                    </a:lnTo>
                    <a:lnTo>
                      <a:pt x="168" y="49"/>
                    </a:lnTo>
                    <a:lnTo>
                      <a:pt x="168" y="61"/>
                    </a:lnTo>
                    <a:lnTo>
                      <a:pt x="200" y="64"/>
                    </a:lnTo>
                    <a:lnTo>
                      <a:pt x="201" y="70"/>
                    </a:lnTo>
                    <a:lnTo>
                      <a:pt x="204" y="73"/>
                    </a:lnTo>
                    <a:lnTo>
                      <a:pt x="242" y="72"/>
                    </a:lnTo>
                    <a:lnTo>
                      <a:pt x="242" y="87"/>
                    </a:lnTo>
                    <a:lnTo>
                      <a:pt x="443" y="82"/>
                    </a:lnTo>
                    <a:lnTo>
                      <a:pt x="476" y="119"/>
                    </a:lnTo>
                    <a:lnTo>
                      <a:pt x="439" y="167"/>
                    </a:lnTo>
                    <a:lnTo>
                      <a:pt x="430" y="151"/>
                    </a:lnTo>
                    <a:lnTo>
                      <a:pt x="418" y="152"/>
                    </a:lnTo>
                    <a:lnTo>
                      <a:pt x="407" y="168"/>
                    </a:lnTo>
                    <a:lnTo>
                      <a:pt x="398" y="152"/>
                    </a:lnTo>
                    <a:lnTo>
                      <a:pt x="395" y="155"/>
                    </a:lnTo>
                    <a:lnTo>
                      <a:pt x="387" y="168"/>
                    </a:lnTo>
                    <a:lnTo>
                      <a:pt x="360" y="172"/>
                    </a:lnTo>
                    <a:lnTo>
                      <a:pt x="358" y="175"/>
                    </a:lnTo>
                    <a:lnTo>
                      <a:pt x="343" y="151"/>
                    </a:lnTo>
                    <a:lnTo>
                      <a:pt x="331" y="151"/>
                    </a:lnTo>
                    <a:lnTo>
                      <a:pt x="314" y="170"/>
                    </a:lnTo>
                    <a:lnTo>
                      <a:pt x="302" y="155"/>
                    </a:lnTo>
                    <a:lnTo>
                      <a:pt x="287" y="155"/>
                    </a:lnTo>
                    <a:lnTo>
                      <a:pt x="267" y="171"/>
                    </a:lnTo>
                    <a:lnTo>
                      <a:pt x="241" y="175"/>
                    </a:lnTo>
                    <a:lnTo>
                      <a:pt x="241" y="197"/>
                    </a:lnTo>
                    <a:lnTo>
                      <a:pt x="204" y="198"/>
                    </a:lnTo>
                    <a:lnTo>
                      <a:pt x="204" y="210"/>
                    </a:lnTo>
                    <a:lnTo>
                      <a:pt x="169" y="211"/>
                    </a:lnTo>
                    <a:lnTo>
                      <a:pt x="169" y="224"/>
                    </a:lnTo>
                    <a:lnTo>
                      <a:pt x="152" y="230"/>
                    </a:lnTo>
                    <a:lnTo>
                      <a:pt x="153" y="258"/>
                    </a:lnTo>
                    <a:lnTo>
                      <a:pt x="141" y="259"/>
                    </a:lnTo>
                    <a:lnTo>
                      <a:pt x="141" y="277"/>
                    </a:lnTo>
                    <a:lnTo>
                      <a:pt x="72" y="279"/>
                    </a:lnTo>
                    <a:lnTo>
                      <a:pt x="71" y="260"/>
                    </a:lnTo>
                    <a:lnTo>
                      <a:pt x="63" y="261"/>
                    </a:lnTo>
                    <a:lnTo>
                      <a:pt x="62" y="236"/>
                    </a:lnTo>
                    <a:lnTo>
                      <a:pt x="56" y="233"/>
                    </a:lnTo>
                    <a:lnTo>
                      <a:pt x="47" y="227"/>
                    </a:lnTo>
                    <a:lnTo>
                      <a:pt x="47" y="214"/>
                    </a:lnTo>
                    <a:lnTo>
                      <a:pt x="2" y="18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f7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456920" y="2868480"/>
                <a:ext cx="92160" cy="336600"/>
                <a:chOff x="1456920" y="2868480"/>
                <a:chExt cx="92160" cy="3366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458720" y="2894040"/>
                  <a:ext cx="90360" cy="311040"/>
                </a:xfrm>
                <a:custGeom>
                  <a:avLst/>
                  <a:gdLst/>
                  <a:ahLst/>
                  <a:rect l="l" t="t" r="r" b="b"/>
                  <a:pathLst>
                    <a:path w="57" h="196">
                      <a:moveTo>
                        <a:pt x="30" y="195"/>
                      </a:moveTo>
                      <a:lnTo>
                        <a:pt x="4" y="180"/>
                      </a:lnTo>
                      <a:lnTo>
                        <a:pt x="0" y="0"/>
                      </a:lnTo>
                      <a:lnTo>
                        <a:pt x="4" y="177"/>
                      </a:lnTo>
                      <a:lnTo>
                        <a:pt x="30" y="192"/>
                      </a:lnTo>
                      <a:lnTo>
                        <a:pt x="56" y="176"/>
                      </a:lnTo>
                      <a:lnTo>
                        <a:pt x="56" y="179"/>
                      </a:lnTo>
                      <a:lnTo>
                        <a:pt x="30" y="195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56920" y="2868480"/>
                  <a:ext cx="90720" cy="312840"/>
                </a:xfrm>
                <a:custGeom>
                  <a:avLst/>
                  <a:gdLst/>
                  <a:ahLst/>
                  <a:rect l="l" t="t" r="r" b="b"/>
                  <a:pathLst>
                    <a:path w="57" h="197">
                      <a:moveTo>
                        <a:pt x="22" y="0"/>
                      </a:moveTo>
                      <a:lnTo>
                        <a:pt x="52" y="15"/>
                      </a:lnTo>
                      <a:lnTo>
                        <a:pt x="56" y="196"/>
                      </a:lnTo>
                      <a:lnTo>
                        <a:pt x="52" y="18"/>
                      </a:lnTo>
                      <a:lnTo>
                        <a:pt x="23" y="3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 rot="21480000">
                <a:off x="1442880" y="2860560"/>
                <a:ext cx="4680" cy="376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480000">
                <a:off x="1429920" y="2904840"/>
                <a:ext cx="5040" cy="291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552320" y="2857680"/>
                <a:ext cx="538200" cy="376200"/>
                <a:chOff x="1552320" y="2857680"/>
                <a:chExt cx="538200" cy="376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65000" y="3038400"/>
                  <a:ext cx="407880" cy="20880"/>
                </a:xfrm>
                <a:custGeom>
                  <a:avLst/>
                  <a:gdLst/>
                  <a:ahLst/>
                  <a:rect l="l" t="t" r="r" b="b"/>
                  <a:pathLst>
                    <a:path w="257" h="13">
                      <a:moveTo>
                        <a:pt x="0" y="6"/>
                      </a:moveTo>
                      <a:lnTo>
                        <a:pt x="256" y="0"/>
                      </a:lnTo>
                      <a:lnTo>
                        <a:pt x="256" y="6"/>
                      </a:lnTo>
                      <a:lnTo>
                        <a:pt x="6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72920" y="2982960"/>
                  <a:ext cx="403200" cy="20520"/>
                </a:xfrm>
                <a:custGeom>
                  <a:avLst/>
                  <a:gdLst/>
                  <a:ahLst/>
                  <a:rect l="l" t="t" r="r" b="b"/>
                  <a:pathLst>
                    <a:path w="254" h="13">
                      <a:moveTo>
                        <a:pt x="0" y="6"/>
                      </a:moveTo>
                      <a:lnTo>
                        <a:pt x="250" y="0"/>
                      </a:lnTo>
                      <a:lnTo>
                        <a:pt x="253" y="6"/>
                      </a:lnTo>
                      <a:lnTo>
                        <a:pt x="21" y="1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ff9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1552320" y="2857680"/>
                  <a:ext cx="538200" cy="376200"/>
                  <a:chOff x="1552320" y="2857680"/>
                  <a:chExt cx="538200" cy="376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21480000">
                    <a:off x="1558800" y="2857680"/>
                    <a:ext cx="9360" cy="37620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21480000">
                    <a:off x="1607760" y="2921040"/>
                    <a:ext cx="9720" cy="2318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1672920" y="2992320"/>
                    <a:ext cx="4176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20">
                        <a:moveTo>
                          <a:pt x="0" y="0"/>
                        </a:moveTo>
                        <a:lnTo>
                          <a:pt x="14" y="6"/>
                        </a:lnTo>
                        <a:lnTo>
                          <a:pt x="32" y="12"/>
                        </a:lnTo>
                        <a:lnTo>
                          <a:pt x="259" y="7"/>
                        </a:lnTo>
                        <a:lnTo>
                          <a:pt x="262" y="13"/>
                        </a:lnTo>
                        <a:lnTo>
                          <a:pt x="2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655640" y="2933640"/>
                    <a:ext cx="666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29">
                        <a:moveTo>
                          <a:pt x="41" y="106"/>
                        </a:moveTo>
                        <a:lnTo>
                          <a:pt x="33" y="112"/>
                        </a:lnTo>
                        <a:lnTo>
                          <a:pt x="6" y="113"/>
                        </a:lnTo>
                        <a:lnTo>
                          <a:pt x="6" y="128"/>
                        </a:lnTo>
                        <a:lnTo>
                          <a:pt x="4" y="128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5" y="72"/>
                        </a:lnTo>
                        <a:lnTo>
                          <a:pt x="14" y="78"/>
                        </a:lnTo>
                        <a:lnTo>
                          <a:pt x="15" y="103"/>
                        </a:lnTo>
                        <a:lnTo>
                          <a:pt x="41" y="106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572840" y="2890800"/>
                    <a:ext cx="158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8">
                        <a:moveTo>
                          <a:pt x="4" y="187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9" y="187"/>
                        </a:lnTo>
                        <a:lnTo>
                          <a:pt x="4" y="187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12600">
                    <a:solidFill>
                      <a:srgbClr val="bf7f3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1944360" y="2668680"/>
              <a:ext cx="393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80400" y="1447920"/>
            <a:ext cx="73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" y="3278160"/>
            <a:ext cx="1598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 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49800" y="2120760"/>
            <a:ext cx="888840" cy="1257480"/>
            <a:chOff x="4249800" y="2120760"/>
            <a:chExt cx="888840" cy="125748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4249800" y="2120760"/>
              <a:ext cx="8888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329000" y="2200320"/>
              <a:ext cx="6408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gzUpi51KTIXg0G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600280" y="2363760"/>
            <a:ext cx="1496880" cy="455760"/>
            <a:chOff x="2600280" y="2363760"/>
            <a:chExt cx="1496880" cy="455760"/>
          </a:xfrm>
        </p:grpSpPr>
        <p:sp>
          <p:nvSpPr>
            <p:cNvPr id="158" name=""/>
            <p:cNvSpPr/>
            <p:nvPr/>
          </p:nvSpPr>
          <p:spPr>
            <a:xfrm>
              <a:off x="2600280" y="2819520"/>
              <a:ext cx="149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3640" y="2363760"/>
              <a:ext cx="122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034160" y="1677960"/>
            <a:ext cx="1149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262400" y="4343400"/>
            <a:ext cx="1155600" cy="1612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021200" y="5016600"/>
            <a:ext cx="647640" cy="9525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4262400" y="5486400"/>
            <a:ext cx="763560" cy="458640"/>
            <a:chOff x="4262400" y="5486400"/>
            <a:chExt cx="763560" cy="458640"/>
          </a:xfrm>
        </p:grpSpPr>
        <p:sp>
          <p:nvSpPr>
            <p:cNvPr id="164" name=""/>
            <p:cNvSpPr/>
            <p:nvPr/>
          </p:nvSpPr>
          <p:spPr>
            <a:xfrm>
              <a:off x="4272120" y="5486400"/>
              <a:ext cx="753840" cy="44460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104"/>
                  </a:moveTo>
                  <a:lnTo>
                    <a:pt x="474" y="185"/>
                  </a:lnTo>
                  <a:lnTo>
                    <a:pt x="457" y="169"/>
                  </a:lnTo>
                  <a:lnTo>
                    <a:pt x="457" y="119"/>
                  </a:lnTo>
                  <a:lnTo>
                    <a:pt x="424" y="104"/>
                  </a:lnTo>
                  <a:lnTo>
                    <a:pt x="424" y="185"/>
                  </a:lnTo>
                  <a:lnTo>
                    <a:pt x="454" y="169"/>
                  </a:lnTo>
                  <a:lnTo>
                    <a:pt x="471" y="185"/>
                  </a:lnTo>
                  <a:lnTo>
                    <a:pt x="428" y="217"/>
                  </a:lnTo>
                  <a:lnTo>
                    <a:pt x="428" y="232"/>
                  </a:lnTo>
                  <a:lnTo>
                    <a:pt x="413" y="235"/>
                  </a:lnTo>
                  <a:lnTo>
                    <a:pt x="413" y="263"/>
                  </a:lnTo>
                  <a:lnTo>
                    <a:pt x="401" y="263"/>
                  </a:lnTo>
                  <a:lnTo>
                    <a:pt x="401" y="270"/>
                  </a:lnTo>
                  <a:lnTo>
                    <a:pt x="401" y="279"/>
                  </a:lnTo>
                  <a:lnTo>
                    <a:pt x="334" y="279"/>
                  </a:lnTo>
                  <a:lnTo>
                    <a:pt x="334" y="263"/>
                  </a:lnTo>
                  <a:lnTo>
                    <a:pt x="320" y="263"/>
                  </a:lnTo>
                  <a:lnTo>
                    <a:pt x="320" y="238"/>
                  </a:lnTo>
                  <a:lnTo>
                    <a:pt x="303" y="232"/>
                  </a:lnTo>
                  <a:lnTo>
                    <a:pt x="303" y="217"/>
                  </a:lnTo>
                  <a:lnTo>
                    <a:pt x="270" y="217"/>
                  </a:lnTo>
                  <a:lnTo>
                    <a:pt x="270" y="207"/>
                  </a:lnTo>
                  <a:lnTo>
                    <a:pt x="265" y="204"/>
                  </a:lnTo>
                  <a:lnTo>
                    <a:pt x="233" y="204"/>
                  </a:lnTo>
                  <a:lnTo>
                    <a:pt x="233" y="188"/>
                  </a:lnTo>
                  <a:lnTo>
                    <a:pt x="29" y="191"/>
                  </a:lnTo>
                  <a:lnTo>
                    <a:pt x="0" y="154"/>
                  </a:lnTo>
                  <a:lnTo>
                    <a:pt x="32" y="104"/>
                  </a:lnTo>
                  <a:lnTo>
                    <a:pt x="44" y="122"/>
                  </a:lnTo>
                  <a:lnTo>
                    <a:pt x="52" y="122"/>
                  </a:lnTo>
                  <a:lnTo>
                    <a:pt x="64" y="104"/>
                  </a:lnTo>
                  <a:lnTo>
                    <a:pt x="75" y="122"/>
                  </a:lnTo>
                  <a:lnTo>
                    <a:pt x="79" y="119"/>
                  </a:lnTo>
                  <a:lnTo>
                    <a:pt x="84" y="104"/>
                  </a:lnTo>
                  <a:lnTo>
                    <a:pt x="113" y="104"/>
                  </a:lnTo>
                  <a:lnTo>
                    <a:pt x="116" y="104"/>
                  </a:lnTo>
                  <a:lnTo>
                    <a:pt x="131" y="122"/>
                  </a:lnTo>
                  <a:lnTo>
                    <a:pt x="142" y="122"/>
                  </a:lnTo>
                  <a:lnTo>
                    <a:pt x="160" y="104"/>
                  </a:lnTo>
                  <a:lnTo>
                    <a:pt x="171" y="122"/>
                  </a:lnTo>
                  <a:lnTo>
                    <a:pt x="186" y="122"/>
                  </a:lnTo>
                  <a:lnTo>
                    <a:pt x="204" y="104"/>
                  </a:lnTo>
                  <a:lnTo>
                    <a:pt x="233" y="104"/>
                  </a:lnTo>
                  <a:lnTo>
                    <a:pt x="233" y="82"/>
                  </a:lnTo>
                  <a:lnTo>
                    <a:pt x="270" y="82"/>
                  </a:lnTo>
                  <a:lnTo>
                    <a:pt x="270" y="72"/>
                  </a:lnTo>
                  <a:lnTo>
                    <a:pt x="305" y="72"/>
                  </a:lnTo>
                  <a:lnTo>
                    <a:pt x="305" y="56"/>
                  </a:lnTo>
                  <a:lnTo>
                    <a:pt x="320" y="50"/>
                  </a:lnTo>
                  <a:lnTo>
                    <a:pt x="320" y="25"/>
                  </a:lnTo>
                  <a:lnTo>
                    <a:pt x="334" y="25"/>
                  </a:lnTo>
                  <a:lnTo>
                    <a:pt x="334" y="0"/>
                  </a:lnTo>
                  <a:lnTo>
                    <a:pt x="404" y="0"/>
                  </a:lnTo>
                  <a:lnTo>
                    <a:pt x="404" y="22"/>
                  </a:lnTo>
                  <a:lnTo>
                    <a:pt x="413" y="22"/>
                  </a:lnTo>
                  <a:lnTo>
                    <a:pt x="413" y="44"/>
                  </a:lnTo>
                  <a:lnTo>
                    <a:pt x="416" y="50"/>
                  </a:lnTo>
                  <a:lnTo>
                    <a:pt x="428" y="56"/>
                  </a:lnTo>
                  <a:lnTo>
                    <a:pt x="428" y="72"/>
                  </a:lnTo>
                  <a:lnTo>
                    <a:pt x="474" y="104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ff9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2400" y="5500800"/>
              <a:ext cx="754200" cy="444240"/>
            </a:xfrm>
            <a:custGeom>
              <a:avLst/>
              <a:gdLst/>
              <a:ahLst/>
              <a:rect l="l" t="t" r="r" b="b"/>
              <a:pathLst>
                <a:path w="475" h="280">
                  <a:moveTo>
                    <a:pt x="474" y="97"/>
                  </a:moveTo>
                  <a:lnTo>
                    <a:pt x="474" y="182"/>
                  </a:lnTo>
                  <a:lnTo>
                    <a:pt x="456" y="166"/>
                  </a:lnTo>
                  <a:lnTo>
                    <a:pt x="456" y="119"/>
                  </a:lnTo>
                  <a:lnTo>
                    <a:pt x="430" y="97"/>
                  </a:lnTo>
                  <a:lnTo>
                    <a:pt x="430" y="185"/>
                  </a:lnTo>
                  <a:lnTo>
                    <a:pt x="456" y="166"/>
                  </a:lnTo>
                  <a:lnTo>
                    <a:pt x="474" y="182"/>
                  </a:lnTo>
                  <a:lnTo>
                    <a:pt x="430" y="213"/>
                  </a:lnTo>
                  <a:lnTo>
                    <a:pt x="430" y="229"/>
                  </a:lnTo>
                  <a:lnTo>
                    <a:pt x="416" y="235"/>
                  </a:lnTo>
                  <a:lnTo>
                    <a:pt x="416" y="257"/>
                  </a:lnTo>
                  <a:lnTo>
                    <a:pt x="404" y="257"/>
                  </a:lnTo>
                  <a:lnTo>
                    <a:pt x="404" y="270"/>
                  </a:lnTo>
                  <a:lnTo>
                    <a:pt x="404" y="279"/>
                  </a:lnTo>
                  <a:lnTo>
                    <a:pt x="337" y="279"/>
                  </a:lnTo>
                  <a:lnTo>
                    <a:pt x="337" y="257"/>
                  </a:lnTo>
                  <a:lnTo>
                    <a:pt x="326" y="257"/>
                  </a:lnTo>
                  <a:lnTo>
                    <a:pt x="326" y="235"/>
                  </a:lnTo>
                  <a:lnTo>
                    <a:pt x="305" y="229"/>
                  </a:lnTo>
                  <a:lnTo>
                    <a:pt x="305" y="216"/>
                  </a:lnTo>
                  <a:lnTo>
                    <a:pt x="273" y="213"/>
                  </a:lnTo>
                  <a:lnTo>
                    <a:pt x="273" y="207"/>
                  </a:lnTo>
                  <a:lnTo>
                    <a:pt x="270" y="204"/>
                  </a:lnTo>
                  <a:lnTo>
                    <a:pt x="232" y="204"/>
                  </a:lnTo>
                  <a:lnTo>
                    <a:pt x="232" y="188"/>
                  </a:lnTo>
                  <a:lnTo>
                    <a:pt x="32" y="188"/>
                  </a:lnTo>
                  <a:lnTo>
                    <a:pt x="0" y="151"/>
                  </a:lnTo>
                  <a:lnTo>
                    <a:pt x="38" y="103"/>
                  </a:lnTo>
                  <a:lnTo>
                    <a:pt x="46" y="119"/>
                  </a:lnTo>
                  <a:lnTo>
                    <a:pt x="58" y="119"/>
                  </a:lnTo>
                  <a:lnTo>
                    <a:pt x="70" y="103"/>
                  </a:lnTo>
                  <a:lnTo>
                    <a:pt x="78" y="119"/>
                  </a:lnTo>
                  <a:lnTo>
                    <a:pt x="81" y="116"/>
                  </a:lnTo>
                  <a:lnTo>
                    <a:pt x="90" y="103"/>
                  </a:lnTo>
                  <a:lnTo>
                    <a:pt x="116" y="100"/>
                  </a:lnTo>
                  <a:lnTo>
                    <a:pt x="119" y="97"/>
                  </a:lnTo>
                  <a:lnTo>
                    <a:pt x="134" y="122"/>
                  </a:lnTo>
                  <a:lnTo>
                    <a:pt x="145" y="122"/>
                  </a:lnTo>
                  <a:lnTo>
                    <a:pt x="163" y="103"/>
                  </a:lnTo>
                  <a:lnTo>
                    <a:pt x="177" y="119"/>
                  </a:lnTo>
                  <a:lnTo>
                    <a:pt x="189" y="119"/>
                  </a:lnTo>
                  <a:lnTo>
                    <a:pt x="209" y="103"/>
                  </a:lnTo>
                  <a:lnTo>
                    <a:pt x="236" y="100"/>
                  </a:lnTo>
                  <a:lnTo>
                    <a:pt x="236" y="78"/>
                  </a:lnTo>
                  <a:lnTo>
                    <a:pt x="273" y="78"/>
                  </a:lnTo>
                  <a:lnTo>
                    <a:pt x="273" y="66"/>
                  </a:lnTo>
                  <a:lnTo>
                    <a:pt x="308" y="66"/>
                  </a:lnTo>
                  <a:lnTo>
                    <a:pt x="308" y="53"/>
                  </a:lnTo>
                  <a:lnTo>
                    <a:pt x="326" y="47"/>
                  </a:lnTo>
                  <a:lnTo>
                    <a:pt x="326" y="19"/>
                  </a:lnTo>
                  <a:lnTo>
                    <a:pt x="337" y="19"/>
                  </a:lnTo>
                  <a:lnTo>
                    <a:pt x="337" y="0"/>
                  </a:lnTo>
                  <a:lnTo>
                    <a:pt x="407" y="0"/>
                  </a:lnTo>
                  <a:lnTo>
                    <a:pt x="407" y="19"/>
                  </a:lnTo>
                  <a:lnTo>
                    <a:pt x="416" y="19"/>
                  </a:lnTo>
                  <a:lnTo>
                    <a:pt x="416" y="44"/>
                  </a:lnTo>
                  <a:lnTo>
                    <a:pt x="422" y="47"/>
                  </a:lnTo>
                  <a:lnTo>
                    <a:pt x="430" y="53"/>
                  </a:lnTo>
                  <a:lnTo>
                    <a:pt x="430" y="66"/>
                  </a:lnTo>
                  <a:lnTo>
                    <a:pt x="474" y="97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bf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811760" y="5560920"/>
              <a:ext cx="88920" cy="339840"/>
              <a:chOff x="4811760" y="5560920"/>
              <a:chExt cx="88920" cy="339840"/>
            </a:xfrm>
          </p:grpSpPr>
          <p:sp>
            <p:nvSpPr>
              <p:cNvPr id="167" name=""/>
              <p:cNvSpPr/>
              <p:nvPr/>
            </p:nvSpPr>
            <p:spPr>
              <a:xfrm>
                <a:off x="4811760" y="556092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6" y="0"/>
                    </a:moveTo>
                    <a:lnTo>
                      <a:pt x="55" y="16"/>
                    </a:lnTo>
                    <a:lnTo>
                      <a:pt x="55" y="197"/>
                    </a:lnTo>
                    <a:lnTo>
                      <a:pt x="52" y="197"/>
                    </a:lnTo>
                    <a:lnTo>
                      <a:pt x="52" y="19"/>
                    </a:lnTo>
                    <a:lnTo>
                      <a:pt x="26" y="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bf7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11760" y="5586480"/>
                <a:ext cx="88920" cy="314280"/>
              </a:xfrm>
              <a:custGeom>
                <a:avLst/>
                <a:gdLst/>
                <a:ahLst/>
                <a:rect l="l" t="t" r="r" b="b"/>
                <a:pathLst>
                  <a:path w="56" h="198">
                    <a:moveTo>
                      <a:pt x="29" y="197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29" y="194"/>
                    </a:lnTo>
                    <a:lnTo>
                      <a:pt x="52" y="178"/>
                    </a:lnTo>
                    <a:lnTo>
                      <a:pt x="55" y="181"/>
                    </a:lnTo>
                    <a:lnTo>
                      <a:pt x="29" y="197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908600" y="5530680"/>
              <a:ext cx="4680" cy="37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3000" y="5570640"/>
              <a:ext cx="4680" cy="293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267440" y="5530680"/>
              <a:ext cx="529920" cy="378000"/>
              <a:chOff x="4267440" y="5530680"/>
              <a:chExt cx="529920" cy="37800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6160" y="5705640"/>
                <a:ext cx="406440" cy="10800"/>
              </a:xfrm>
              <a:custGeom>
                <a:avLst/>
                <a:gdLst/>
                <a:ahLst/>
                <a:rect l="l" t="t" r="r" b="b"/>
                <a:pathLst>
                  <a:path w="256" h="7">
                    <a:moveTo>
                      <a:pt x="255" y="6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249" y="0"/>
                    </a:lnTo>
                    <a:lnTo>
                      <a:pt x="255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81480" y="5759280"/>
                <a:ext cx="401760" cy="11160"/>
              </a:xfrm>
              <a:custGeom>
                <a:avLst/>
                <a:gdLst/>
                <a:ahLst/>
                <a:rect l="l" t="t" r="r" b="b"/>
                <a:pathLst>
                  <a:path w="253" h="7">
                    <a:moveTo>
                      <a:pt x="252" y="6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2" y="0"/>
                    </a:lnTo>
                    <a:lnTo>
                      <a:pt x="252" y="6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ff9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267440" y="5530680"/>
                <a:ext cx="529920" cy="378000"/>
                <a:chOff x="4267440" y="5530680"/>
                <a:chExt cx="529920" cy="378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88000" y="5530680"/>
                  <a:ext cx="9360" cy="37800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41920" y="5610240"/>
                  <a:ext cx="9720" cy="233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440" y="5740560"/>
                  <a:ext cx="415800" cy="2988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18"/>
                      </a:moveTo>
                      <a:lnTo>
                        <a:pt x="247" y="12"/>
                      </a:lnTo>
                      <a:lnTo>
                        <a:pt x="229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61" y="18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5720" y="5624640"/>
                  <a:ext cx="61920" cy="206280"/>
                </a:xfrm>
                <a:custGeom>
                  <a:avLst/>
                  <a:gdLst/>
                  <a:ahLst/>
                  <a:rect l="l" t="t" r="r" b="b"/>
                  <a:pathLst>
                    <a:path w="39" h="130">
                      <a:moveTo>
                        <a:pt x="0" y="22"/>
                      </a:moveTo>
                      <a:lnTo>
                        <a:pt x="9" y="16"/>
                      </a:lnTo>
                      <a:lnTo>
                        <a:pt x="35" y="16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8" y="129"/>
                      </a:lnTo>
                      <a:lnTo>
                        <a:pt x="35" y="126"/>
                      </a:lnTo>
                      <a:lnTo>
                        <a:pt x="35" y="57"/>
                      </a:lnTo>
                      <a:lnTo>
                        <a:pt x="26" y="50"/>
                      </a:lnTo>
                      <a:lnTo>
                        <a:pt x="26" y="25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70360" y="5575320"/>
                  <a:ext cx="9720" cy="299880"/>
                </a:xfrm>
                <a:custGeom>
                  <a:avLst/>
                  <a:gdLst/>
                  <a:ahLst/>
                  <a:rect l="l" t="t" r="r" b="b"/>
                  <a:pathLst>
                    <a:path w="6" h="189">
                      <a:moveTo>
                        <a:pt x="5" y="0"/>
                      </a:moveTo>
                      <a:lnTo>
                        <a:pt x="5" y="188"/>
                      </a:lnTo>
                      <a:lnTo>
                        <a:pt x="0" y="188"/>
                      </a:ln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969696"/>
                </a:solidFill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0" name=""/>
          <p:cNvSpPr/>
          <p:nvPr/>
        </p:nvSpPr>
        <p:spPr>
          <a:xfrm>
            <a:off x="4035600" y="5106960"/>
            <a:ext cx="606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zUpi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TIXg0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19600" y="3443400"/>
            <a:ext cx="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5040" y="43448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3080" y="6021360"/>
            <a:ext cx="1510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red Secret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373880" y="4788000"/>
            <a:ext cx="889200" cy="1257120"/>
            <a:chOff x="7373880" y="4788000"/>
            <a:chExt cx="889200" cy="125712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7373880" y="4788000"/>
              <a:ext cx="88920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540560" y="5259240"/>
              <a:ext cx="454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72080" y="5486400"/>
            <a:ext cx="1496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5800" y="5030640"/>
            <a:ext cx="122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0520" y="426888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BBD1-3F25-4229-A93B-6B20260AC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5T04:53:44Z</dcterms:created>
  <dc:creator>Alfred Menezes</dc:creator>
  <dc:description/>
  <dc:language>en-US</dc:language>
  <cp:lastModifiedBy>Simon Blake-Wilson</cp:lastModifiedBy>
  <dcterms:modified xsi:type="dcterms:W3CDTF">1999-10-05T13:05:53Z</dcterms:modified>
  <cp:revision>28</cp:revision>
  <dc:subject/>
  <dc:title>Overview of Cryptography</dc:title>
</cp:coreProperties>
</file>