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596900-DD8E-4E2C-8F49-31B7132BB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60000"/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wo strong teams have been selected, with a great deal of organizational continuity between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60000"/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European membership virtually assures continued coordination with EurATN and Euro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60000"/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oth teams have shown extraordinary flexibility in meeting our tight cost and timing constra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60000"/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most crucial element of the project status is the risk associated with two U. S. Government agencies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60000"/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e’ll briefly review all the risks we have considered in our plan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60000"/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re is widespread consensus on the need for a data communications infrastructure to support FA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60000"/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st-Benefit analyses answer two ques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hat is the delta benefit of data comm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The answer to this question will drive project cost decis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hen does the data comm technology need to be in place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The answer to this will drive project start decis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60000"/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nder the terms of the Cooperative agreement, our eleven airlines agreed to provide aircraft and certain technical and managerial input into the design and procurement of the ATN Router software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60000"/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e further broke that down i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60000"/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RI ==&gt; The working software which handles the routing of traffic between air and ground un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60000"/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TS ==&gt;  The suite of software and hardware which will be used to assure each airline that their implementation complies with the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60000"/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re has been significant interest shown by several international airlines and CA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60000"/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rmal discussions have begun with some of these groups to infuse cash into the project in exchange for some class of membershi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’d like to emphasize a few elements of our four strategic objec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60000"/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 is essential to F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60000"/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ertification is a time-consuming step following the current contrac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60000"/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re was a great deal of importance attached to this partnership as part of the reinventing government initi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60000"/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 order to for ATN to have value as a network, it must carry value added applicatoi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60000"/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 order for FANS to work, one of the prime applications must be the ATM features of each CAA’s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60000"/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e have made profit a secondary consid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60000"/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netheless, there is a substantial upside to such arrangement which goes far beyond the current project, if the airlines pursue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823240" y="6508800"/>
            <a:ext cx="380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2B1D51D2-08B2-489F-9E42-D5324B990485}" type="slidenum">
              <a:rPr b="0" i="1" lang="en-US" sz="1400" spc="-1" strike="noStrike">
                <a:solidFill>
                  <a:srgbClr val="474747"/>
                </a:solidFill>
                <a:latin typeface="Arial Rounded MT Bold"/>
                <a:ea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12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914400"/>
            <a:ext cx="7848720" cy="34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Presentation to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FAA C/SOIT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October 8, 1996</a:t>
            </a:r>
            <a:br>
              <a:rPr sz="3600"/>
            </a:br>
            <a:br>
              <a:rPr sz="3600"/>
            </a:br>
            <a:r>
              <a:rPr b="0" i="1" lang="en-US" sz="5400" spc="-1" strike="noStrike">
                <a:solidFill>
                  <a:srgbClr val="dadada"/>
                </a:solidFill>
                <a:latin typeface="Arial Rounded MT Bold"/>
                <a:ea typeface="Arial Rounded MT Bold"/>
              </a:rPr>
              <a:t>ATN Router Projec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405080" y="4286160"/>
            <a:ext cx="6289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ul Hennig, United Air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NSI Board Advis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76640" y="459432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12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12800" y="291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0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ATN Router Project Stat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62120" y="16002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2520" indent="-452520">
              <a:lnSpc>
                <a:spcPct val="100000"/>
              </a:lnSpc>
              <a:spcBef>
                <a:spcPts val="241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endor Teams Sel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285840">
              <a:lnSpc>
                <a:spcPct val="90000"/>
              </a:lnSpc>
              <a:spcBef>
                <a:spcPts val="241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outer Reference Implementation T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4240" indent="-228600">
              <a:lnSpc>
                <a:spcPct val="100000"/>
              </a:lnSpc>
              <a:spcBef>
                <a:spcPts val="241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llied Sig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 Honeywell, Sextant, Sofreavia, Thomson-CSF, Ver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285840">
              <a:lnSpc>
                <a:spcPct val="100000"/>
              </a:lnSpc>
              <a:spcBef>
                <a:spcPts val="241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formance Test Suite T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4240" indent="-228600">
              <a:lnSpc>
                <a:spcPct val="100000"/>
              </a:lnSpc>
              <a:spcBef>
                <a:spcPts val="241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RIN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 Allied-Signal, Sextant, Sofreavia, Thomson-CS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241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trac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ct 96: FAA Approval of Con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c 96: Project St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12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12800" y="291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0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ATN Router Project Objecti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27240" y="1762200"/>
            <a:ext cx="7035840" cy="39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velop the Aeronautical Telecommunication Network (AT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duct an In-Service Operational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rained Controllers using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ertifi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Groun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rained Pilots using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ertifi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Avio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emonstrate National/ICAO-Defined Benef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acilitate Airline Avionics Programs to Support a 75% Fleet upgrade to CNS/ATM-1 Cap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12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12800" y="291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0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Program Pl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59000" y="17622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sk 0: Project Overs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sk 1: Product Defin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116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A: Reqmts Def    1B:  CTS Dvpt   1C:  RRI Dv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sk 2: Product Test/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sk 3: System Configu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116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A: Avionics Cust’n   3B: Ground Sys Cust’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sk 4: System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116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A: Certification    4B:  Ops Evalu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sk 5: Product Licen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12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82560" y="1643040"/>
            <a:ext cx="0" cy="3962520"/>
          </a:xfrm>
          <a:prstGeom prst="line">
            <a:avLst/>
          </a:prstGeom>
          <a:ln w="38160">
            <a:solidFill>
              <a:srgbClr val="fc0128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28560" y="1652760"/>
            <a:ext cx="274968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ask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oduct Defin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ask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oduct 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ask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ystem Configu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ask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ystem Implem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ask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oduct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12800" y="291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gram Schedu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680240" y="5661000"/>
            <a:ext cx="974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  <a:ea typeface="Arial"/>
              </a:rPr>
              <a:t>Month ++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91280" y="1676520"/>
            <a:ext cx="0" cy="3962160"/>
          </a:xfrm>
          <a:prstGeom prst="line">
            <a:avLst/>
          </a:prstGeom>
          <a:ln w="38160">
            <a:solidFill>
              <a:srgbClr val="fc0128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57360" y="3352680"/>
            <a:ext cx="3733920" cy="228600"/>
          </a:xfrm>
          <a:prstGeom prst="rect">
            <a:avLst/>
          </a:prstGeom>
          <a:solidFill>
            <a:srgbClr val="676767"/>
          </a:solidFill>
          <a:ln w="38160">
            <a:solidFill>
              <a:srgbClr val="fffff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34080" y="2438280"/>
            <a:ext cx="457200" cy="228600"/>
          </a:xfrm>
          <a:prstGeom prst="rect">
            <a:avLst/>
          </a:prstGeom>
          <a:solidFill>
            <a:srgbClr val="676767"/>
          </a:solidFill>
          <a:ln w="38160">
            <a:solidFill>
              <a:srgbClr val="fffff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57360" y="1676520"/>
            <a:ext cx="3276720" cy="228600"/>
          </a:xfrm>
          <a:prstGeom prst="rect">
            <a:avLst/>
          </a:prstGeom>
          <a:solidFill>
            <a:srgbClr val="676767"/>
          </a:solidFill>
          <a:ln w="38160">
            <a:solidFill>
              <a:srgbClr val="fffff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91280" y="4114800"/>
            <a:ext cx="1828800" cy="228600"/>
          </a:xfrm>
          <a:prstGeom prst="rect">
            <a:avLst/>
          </a:prstGeom>
          <a:solidFill>
            <a:srgbClr val="676767"/>
          </a:solidFill>
          <a:ln w="38160">
            <a:solidFill>
              <a:srgbClr val="fffff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437000" y="2690640"/>
            <a:ext cx="965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onth 2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057560" y="1928880"/>
            <a:ext cx="965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onth 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265800" y="4365720"/>
            <a:ext cx="965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onth 3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437000" y="3603600"/>
            <a:ext cx="965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onth 2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504040" y="5280120"/>
            <a:ext cx="965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onth 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20080" y="1676520"/>
            <a:ext cx="0" cy="3962160"/>
          </a:xfrm>
          <a:prstGeom prst="line">
            <a:avLst/>
          </a:prstGeom>
          <a:ln w="38160">
            <a:solidFill>
              <a:srgbClr val="fc0128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60480" y="5691240"/>
            <a:ext cx="12412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Dec 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  <a:ea typeface="Arial"/>
              </a:rPr>
              <a:t>Project Sta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411800" y="5691240"/>
            <a:ext cx="18050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Dec 9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  <a:ea typeface="Arial"/>
              </a:rPr>
              <a:t>Products Accept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291360" y="5691240"/>
            <a:ext cx="17049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Dec 9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  <a:ea typeface="Arial"/>
              </a:rPr>
              <a:t>Op Eval Comple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81640" y="4952880"/>
            <a:ext cx="2209680" cy="228600"/>
          </a:xfrm>
          <a:prstGeom prst="rect">
            <a:avLst/>
          </a:prstGeom>
          <a:solidFill>
            <a:srgbClr val="676767"/>
          </a:solidFill>
          <a:ln w="38160">
            <a:solidFill>
              <a:srgbClr val="fffff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12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12800" y="291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Program Plan Milesto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90720" y="19810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c 96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rt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c 97/May 98:  Interim Deliv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ug 98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inal Product Deliv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c 98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liance Testing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un 99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rt 125 Certification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c 99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perational Evaluation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4Q99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itial Operational Capability in the North Atlan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12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12800" y="291960"/>
            <a:ext cx="777240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0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Preliminary Cost Analysis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by Delta and U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39560" y="1523880"/>
            <a:ext cx="8170920" cy="43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NS/ATM-1 767-300 ER Cost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orst Case Cost - One Aircraft with no existing equi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4240" indent="-22860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nalysis Incorporates all equipment for CNS/ATM-1 upgrade, much more than just ATN commun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4240" indent="-22860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ctual cost will be lower if airline allocates specific equipment costs to other program or to specific equipment already instal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4240" indent="-22860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ctual cost will be lower due to discount buy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4240" indent="-22860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ffered price may be lower due to reduced market ri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ther Aircraft will be costed in follow-on 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st Breakd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4240" indent="-22860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$   600k (without SATCOM cos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4240" indent="-22860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$1,000k (with SATCOM cos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12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12800" y="291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CNS/ATM-1 Equip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90720" y="1981080"/>
            <a:ext cx="7772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m Management Un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pdated Flight Management Compu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 Control/Display Un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pdated Engine Indication and Crew Alerting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PS Equi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ATCOM/VHF/HF Equi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veral Other Equipment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12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2800" y="291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0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Benefit Analy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90720" y="19810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NS/ATM-1 Benefit Analysis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ermits each airline to determine regional benefits for specific airlin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  State” Benefits are Targe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itial Study: 767-300 (North Atlant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nefit: $10M/yr (20 Aircraf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turn on Investment: 1.2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4240" indent="-22860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ssumes Benefits in Pl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12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09480" y="3175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Benefits Enabled by AT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6640" y="1525680"/>
            <a:ext cx="737568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AA Cost/Benefit Studies estimated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285840">
              <a:lnSpc>
                <a:spcPct val="100000"/>
              </a:lnSpc>
              <a:buClr>
                <a:srgbClr val="fc012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$338 mil/yr in enroute airline sav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285840">
              <a:lnSpc>
                <a:spcPct val="100000"/>
              </a:lnSpc>
              <a:buClr>
                <a:srgbClr val="fc012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min delay reduction at each air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285840">
              <a:lnSpc>
                <a:spcPct val="100000"/>
              </a:lnSpc>
              <a:buClr>
                <a:srgbClr val="fc012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irport capacity incr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udy Groups at Boeing, UAL developed complete cost-benefit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cations are that Free Flight will provide  </a:t>
            </a:r>
            <a:r>
              <a:rPr b="0" lang="en-US" sz="2400" spc="-1" strike="noStrike" u="sng" baseline="30000">
                <a:solidFill>
                  <a:srgbClr val="ffffff"/>
                </a:solidFill>
                <a:uFillTx/>
                <a:latin typeface="Arial"/>
                <a:ea typeface="Arial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5% improvement in oceanic Direct Operating Costs (DOCs), half attributable to datalink comm and half to GPS and 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te that whatever the software chosen, CNS/ATM-1 equipage will be non-trivial expe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12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712800" y="291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Conclu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90720" y="19810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st/Benefit Models In-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irlines are in the Process of Making Fleet Equippage Deci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TN Router Project is a “G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12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228600"/>
            <a:ext cx="7756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0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Presentation Overvie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77880" y="2116080"/>
            <a:ext cx="757872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2520" indent="-452520">
              <a:lnSpc>
                <a:spcPct val="145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dadada"/>
                </a:solidFill>
                <a:latin typeface="Arial"/>
                <a:ea typeface="Arial"/>
              </a:rPr>
              <a:t>Background, Objectives, Org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45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dadada"/>
                </a:solidFill>
                <a:latin typeface="Arial"/>
                <a:ea typeface="Arial"/>
              </a:rPr>
              <a:t>ATN Router Project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45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dadada"/>
                </a:solidFill>
                <a:latin typeface="Arial"/>
                <a:ea typeface="Arial"/>
              </a:rPr>
              <a:t>Action Pl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45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dadada"/>
                </a:solidFill>
                <a:latin typeface="Arial"/>
                <a:ea typeface="Arial"/>
              </a:rPr>
              <a:t>ATN Costs and Benef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45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dadada"/>
                </a:solidFill>
                <a:latin typeface="Arial"/>
                <a:ea typeface="Arial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12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22320" y="795240"/>
            <a:ext cx="75042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Backgrou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076400" y="1735200"/>
            <a:ext cx="75852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11200" indent="-511200">
              <a:lnSpc>
                <a:spcPct val="100000"/>
              </a:lnSpc>
              <a:spcBef>
                <a:spcPts val="1199"/>
              </a:spcBef>
              <a:spcAft>
                <a:spcPts val="961"/>
              </a:spcAft>
              <a:buClr>
                <a:srgbClr val="fc0128"/>
              </a:buClr>
              <a:buFont typeface="Monotype Sorts"/>
              <a:buChar char=""/>
            </a:pPr>
            <a:r>
              <a:rPr b="0" lang="en-US" sz="2600" spc="-1" strike="noStrike">
                <a:solidFill>
                  <a:srgbClr val="dadada"/>
                </a:solidFill>
                <a:latin typeface="Arial"/>
                <a:ea typeface="Arial"/>
              </a:rPr>
              <a:t>ATNSI is a corporation of 11 US Airl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479"/>
              </a:spcBef>
              <a:spcAft>
                <a:spcPts val="961"/>
              </a:spcAft>
              <a:buClr>
                <a:srgbClr val="fc0128"/>
              </a:buClr>
              <a:buFont typeface="Monotype Sorts"/>
              <a:buChar char=""/>
            </a:pPr>
            <a:r>
              <a:rPr b="0" lang="en-US" sz="2600" spc="-1" strike="noStrike">
                <a:solidFill>
                  <a:srgbClr val="dadada"/>
                </a:solidFill>
                <a:latin typeface="Arial"/>
                <a:ea typeface="Arial"/>
              </a:rPr>
              <a:t>ATNSI has entered into a Cooperative Agreement with the FAA to develop a certified ATN Router Reference Implementation (RRI) and a Conformance Test Suite (CT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479"/>
              </a:spcBef>
              <a:spcAft>
                <a:spcPts val="961"/>
              </a:spcAft>
              <a:buClr>
                <a:srgbClr val="fc0128"/>
              </a:buClr>
              <a:buFont typeface="Monotype Sorts"/>
              <a:buChar char=""/>
            </a:pPr>
            <a:r>
              <a:rPr b="0" lang="en-US" sz="2600" spc="-1" strike="noStrike">
                <a:solidFill>
                  <a:srgbClr val="dadada"/>
                </a:solidFill>
                <a:latin typeface="Arial"/>
                <a:ea typeface="Arial"/>
              </a:rPr>
              <a:t>FAA contributes cash and technical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479"/>
              </a:spcBef>
              <a:spcAft>
                <a:spcPts val="961"/>
              </a:spcAft>
              <a:buClr>
                <a:srgbClr val="fc0128"/>
              </a:buClr>
              <a:buFont typeface="Monotype Sorts"/>
              <a:buChar char=""/>
            </a:pPr>
            <a:r>
              <a:rPr b="0" lang="en-US" sz="2600" spc="-1" strike="noStrike">
                <a:solidFill>
                  <a:srgbClr val="dadada"/>
                </a:solidFill>
                <a:latin typeface="Arial"/>
                <a:ea typeface="Arial"/>
              </a:rPr>
              <a:t>ATNSI Airlines contribute aircraft and management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479840" y="6270480"/>
            <a:ext cx="4022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TN = Aeronautical Telecommunication Networ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12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12800" y="291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0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ATNSI Airline Participa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90720" y="19810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2520" indent="-452520">
              <a:lnSpc>
                <a:spcPct val="100000"/>
              </a:lnSpc>
              <a:spcBef>
                <a:spcPts val="479"/>
              </a:spcBef>
              <a:tabLst>
                <a:tab algn="l" pos="3595680"/>
                <a:tab algn="l" pos="4071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ka Airlin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awaiian Airlin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tabLst>
                <a:tab algn="l" pos="3595680"/>
                <a:tab algn="l" pos="4071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merican Airlin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rthwest Air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tabLst>
                <a:tab algn="l" pos="3595680"/>
                <a:tab algn="l" pos="4071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merican Trans Ai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nited Air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tabLst>
                <a:tab algn="l" pos="3595680"/>
                <a:tab algn="l" pos="4071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inental Airlin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nited Parcel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tabLst>
                <a:tab algn="l" pos="3595680"/>
                <a:tab algn="l" pos="4071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lta Airlin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rvi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tabLst>
                <a:tab algn="l" pos="3595680"/>
                <a:tab algn="l" pos="4071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ederal Expre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12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12800" y="291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0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ATNSI Non-Airline Participa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19810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ederal Aviation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partment of Defe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IT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12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41520" y="868320"/>
            <a:ext cx="61628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Potential ATNSI </a:t>
            </a:r>
            <a:r>
              <a:rPr b="0" i="1" lang="en-US" sz="40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Participa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020600" y="2300400"/>
            <a:ext cx="3279600" cy="30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El Al Israel Airli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European Carri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sian Carrier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495680" y="2279520"/>
            <a:ext cx="337824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2520" indent="-452520">
              <a:lnSpc>
                <a:spcPct val="100000"/>
              </a:lnSpc>
              <a:spcBef>
                <a:spcPts val="479"/>
              </a:spcBef>
              <a:spcAft>
                <a:spcPts val="241"/>
              </a:spcAft>
              <a:buClr>
                <a:srgbClr val="fc0128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EuroContr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spcAft>
                <a:spcPts val="241"/>
              </a:spcAft>
              <a:buClr>
                <a:srgbClr val="fc0128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ransport Canad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spcAft>
                <a:spcPts val="241"/>
              </a:spcAft>
              <a:buClr>
                <a:srgbClr val="fc0128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ir Services Austral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spcAft>
                <a:spcPts val="241"/>
              </a:spcAft>
              <a:buClr>
                <a:srgbClr val="fc0128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Japan CA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12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12800" y="291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ATNSI Strategic Objectives</a:t>
            </a:r>
            <a:br>
              <a:rPr sz="3600"/>
            </a:br>
            <a:r>
              <a:rPr b="0" i="1" lang="en-US" sz="20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1 of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008000" y="18129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856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reate a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sily certified mobile ATN Rout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support the ATN as a worldwide standard for advanced air/ground data communications as a critical deliverable f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NS/ATM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856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firm the ability of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ivate/govern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artnershi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in aviation to effectively bring complex production systems into regular operational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622840" y="6270480"/>
            <a:ext cx="317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ANS = Future Air Navigation Syst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12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12800" y="291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ATNSI Strategic Objectives</a:t>
            </a:r>
            <a:r>
              <a:rPr b="0" i="1" lang="en-US" sz="14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 (</a:t>
            </a:r>
            <a:br>
              <a:rPr sz="1400"/>
            </a:br>
            <a:r>
              <a:rPr b="0" i="1" lang="en-US" sz="20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2 of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62120" y="1600200"/>
            <a:ext cx="7826400" cy="38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2520" indent="-452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du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9880" indent="-32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ssist the achievement of Free Flight in domestic and international airline operations through the deployment of ATN Data Communications i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i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raffic Management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12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12800" y="291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0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ATNSI Organiz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971720" y="1811160"/>
            <a:ext cx="5800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2520" indent="-45252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fc0128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 (Bo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fc0128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operative Agreement Management Committee (CAMCO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fc0128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TNSI Infrastructure Working Group (IW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 F. John</dc:creator>
  <dc:description/>
  <dc:language>en-US</dc:language>
  <cp:lastModifiedBy>a</cp:lastModifiedBy>
  <cp:revision>0</cp:revision>
  <dc:subject/>
  <dc:title>ATNSI @ FedEx 9/24/96</dc:title>
</cp:coreProperties>
</file>