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52400"/>
            <a:ext cx="5029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538F-97AB-4C05-8515-B86F1BE27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CE5-B632-430A-B270-77193DDD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6D2-95F0-4A7F-A625-597875D7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deck integration and design has not been solidified between American Airlines and Boe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Le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Increased from H to H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son for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 American Airlines and Boeing TSA was not established by the expected/planned date (i.e., 6/99), increasing probability of CMU development de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required to update RRI program to support ATN over VDL Mod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Le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Increased from H to H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son for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TNSI announced $2M is required to implement the 8208 change in the RRI.  Further, implementing the 8208 change is expected to result in a 5 month RRI development schedule slip (I.e., from 2/00 to 7/00), increasing the likelihood of delays in CMU development and PETAL II trails.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055-00FD-46FF-A05F-2384EDD1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0800" cy="344988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5729-E94A-4013-A245-486BEAD18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0800" cy="344988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444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475920"/>
            <a:ext cx="832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" y="173844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2960" y="66279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6400" y="442800"/>
            <a:ext cx="1144800" cy="1144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40120" y="6526080"/>
            <a:ext cx="1030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3C0C-57F5-4E9C-96A9-6D7384F765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1760" y="358920"/>
            <a:ext cx="8445240" cy="6207120"/>
          </a:xfrm>
          <a:prstGeom prst="roundRect">
            <a:avLst>
              <a:gd name="adj" fmla="val 2884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54800" y="6040440"/>
          <a:ext cx="1392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6040440"/>
                    <a:ext cx="1392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087640"/>
            <a:ext cx="77533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er Pilot Data Link Communicat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PDLC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3440" y="4629240"/>
            <a:ext cx="6724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Tr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9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Integration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gram Coord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DLC Integration Team (CIT) formed to meet month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ised of FAA, ACI, ARINC, Rockwell-Collins, American Airlines, ATNSI, MITRE, Boeing (invi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rganization presents their program status, major milestone schedule and progress, and program risks based on earned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 addresses and resolves technical and programmatic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nd programmatic risk table with 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DLC Network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387080" y="447480"/>
            <a:ext cx="7324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ATN Ground/Grou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 Development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N Ground-to-Ground (G/G) router being managed by Telecommunications Integrated Product Team (TIP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is to have ATN G/G router infrastructure in Miami ARTCC for operational implementation in June 200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participate in the FAA/Japanese Civil Aviation Bureau (JCAB) trial in Spring 2000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n Aeronautical Fixed Telecommunications  Network (AFTN)/ATN Message Handling Service (AMHS) using ATN G/G router to exchange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221840" y="463320"/>
            <a:ext cx="802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ATN Ground/Ground Router Development Approach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76212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Tech Center will assist in G/G ATN router interoperability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N documentation developed and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Architecture and Addressing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Requirements Doc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Test Plan and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HS Integra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243080" y="4759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st Software Developme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857160" y="184788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roATN HW/SW platform as a “black box” with FAA DLAP to support Host software development and Host software Operational Test and Evaluation (OT&amp;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s Host software dependency on final ATNSI RRI and ACI AS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necessary requirements/development stability to meet Host software development/integr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LAP Softwa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723960" y="186696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P software consists of two separate development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ATN D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Host development, OT&amp;E, and Host integration sche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D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production-level DLAP at Miami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schedule is dependent on the availability of ATNSI RRI and ACI AS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DLAP OT&amp;E and system regression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828440" y="44748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DLC I &amp; IA Contracts &amp; Softwar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 I requirements analysis is comp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 I Critical Design Review (CDR) is scheduled for 11/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/ProATN demo is scheduled for 11/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ing Information Release (SIR) for CPDLC IA contract was released on 9/3/99; contract award planned for 2/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AL II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71680" y="19825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 to PETAL II extension (PIIe) message set which includes CPDLC I and CPDLC IA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d in the PETAL II Interoperability Team (PIT) meetings to identify and resolve differences between PETAL II and U.S.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d in the development of the PETAL II Trials End-to-End Specification - the specification is basel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d change to avionics implementation and aircrew 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to participate in PIT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and resolve ICAO ATN SARPs and PETAL IIe trials specification defect re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detailed plan on the VDL-2/ATN interoperability tes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ine the planning for transatlantic certification and safety 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447560" y="475920"/>
            <a:ext cx="729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s and Bas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469800" y="1866240"/>
            <a:ext cx="8267760" cy="4613760"/>
            <a:chOff x="469800" y="1866240"/>
            <a:chExt cx="8267760" cy="4613760"/>
          </a:xfrm>
        </p:grpSpPr>
        <p:sp>
          <p:nvSpPr>
            <p:cNvPr id="1910" name=""/>
            <p:cNvSpPr/>
            <p:nvPr/>
          </p:nvSpPr>
          <p:spPr>
            <a:xfrm>
              <a:off x="3130560" y="4165560"/>
              <a:ext cx="5556240" cy="23144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800" y="5213520"/>
              <a:ext cx="2008440" cy="869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e4e4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19680" y="5213520"/>
              <a:ext cx="2008080" cy="869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e4e4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I &amp; I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430360" y="5648400"/>
              <a:ext cx="15415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81320" y="1866240"/>
              <a:ext cx="5556240" cy="2284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20560" y="2898720"/>
              <a:ext cx="2008440" cy="870120"/>
            </a:xfrm>
            <a:prstGeom prst="ellipse">
              <a:avLst/>
            </a:prstGeom>
            <a:gradFill rotWithShape="0">
              <a:gsLst>
                <a:gs pos="0">
                  <a:srgbClr val="e4e4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1447920" y="3768840"/>
              <a:ext cx="257040" cy="1495440"/>
              <a:chOff x="1447920" y="3768840"/>
              <a:chExt cx="257040" cy="1495440"/>
            </a:xfrm>
          </p:grpSpPr>
          <p:sp>
            <p:nvSpPr>
              <p:cNvPr id="1917" name=""/>
              <p:cNvSpPr/>
              <p:nvPr/>
            </p:nvSpPr>
            <p:spPr>
              <a:xfrm flipV="1">
                <a:off x="1447920" y="3768840"/>
                <a:ext cx="0" cy="1495440"/>
              </a:xfrm>
              <a:prstGeom prst="line">
                <a:avLst/>
              </a:prstGeom>
              <a:ln w="12708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04960" y="3957120"/>
                <a:ext cx="0" cy="1281240"/>
              </a:xfrm>
              <a:prstGeom prst="line">
                <a:avLst/>
              </a:prstGeom>
              <a:ln w="50760">
                <a:solidFill>
                  <a:srgbClr val="333333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4846680" y="3741480"/>
              <a:ext cx="257040" cy="1522440"/>
              <a:chOff x="4846680" y="3741480"/>
              <a:chExt cx="257040" cy="152244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4846680" y="3741480"/>
                <a:ext cx="0" cy="1522440"/>
              </a:xfrm>
              <a:prstGeom prst="line">
                <a:avLst/>
              </a:prstGeom>
              <a:ln w="12708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103720" y="3933360"/>
                <a:ext cx="0" cy="1304640"/>
              </a:xfrm>
              <a:prstGeom prst="line">
                <a:avLst/>
              </a:prstGeom>
              <a:ln w="50760">
                <a:solidFill>
                  <a:srgbClr val="333333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971880" y="2871720"/>
              <a:ext cx="2008080" cy="870120"/>
            </a:xfrm>
            <a:prstGeom prst="ellipse">
              <a:avLst/>
            </a:prstGeom>
            <a:gradFill rotWithShape="0">
              <a:gsLst>
                <a:gs pos="0">
                  <a:srgbClr val="e4e4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II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481120" y="3333600"/>
              <a:ext cx="154152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80648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lin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363240" y="1828800"/>
            <a:ext cx="8508960" cy="4804560"/>
            <a:chOff x="363240" y="1828800"/>
            <a:chExt cx="8508960" cy="4804560"/>
          </a:xfrm>
        </p:grpSpPr>
        <p:sp>
          <p:nvSpPr>
            <p:cNvPr id="1926" name=""/>
            <p:cNvSpPr/>
            <p:nvPr/>
          </p:nvSpPr>
          <p:spPr>
            <a:xfrm>
              <a:off x="363240" y="617868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A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584640" y="1828800"/>
              <a:ext cx="8287560" cy="4571640"/>
              <a:chOff x="584640" y="1828800"/>
              <a:chExt cx="8287560" cy="4571640"/>
            </a:xfrm>
          </p:grpSpPr>
          <p:sp>
            <p:nvSpPr>
              <p:cNvPr id="1928" name=""/>
              <p:cNvSpPr/>
              <p:nvPr/>
            </p:nvSpPr>
            <p:spPr>
              <a:xfrm flipH="1" flipV="1">
                <a:off x="1806840" y="4850280"/>
                <a:ext cx="5730480" cy="883080"/>
              </a:xfrm>
              <a:prstGeom prst="line">
                <a:avLst/>
              </a:prstGeom>
              <a:ln w="7632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1808280" y="3584520"/>
                <a:ext cx="5730480" cy="376200"/>
              </a:xfrm>
              <a:prstGeom prst="line">
                <a:avLst/>
              </a:prstGeom>
              <a:ln w="7632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73160" y="342216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RT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EUROCA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770280" y="468972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RT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EUROCA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04920" y="310536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800080"/>
                    </a:solidFill>
                    <a:latin typeface="Times New Roman"/>
                  </a:rPr>
                  <a:t>P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04920" y="497880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800080"/>
                    </a:solidFill>
                    <a:latin typeface="Times New Roman"/>
                  </a:rPr>
                  <a:t>B2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203920" y="4627800"/>
                <a:ext cx="783000" cy="1266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5400000">
                <a:off x="4705560" y="4188960"/>
                <a:ext cx="16095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PO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LI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203920" y="3169800"/>
                <a:ext cx="783000" cy="1266120"/>
              </a:xfrm>
              <a:prstGeom prst="rect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088000" y="4944600"/>
                <a:ext cx="99540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Base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088000" y="3488040"/>
                <a:ext cx="9954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Base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63840" y="3232080"/>
                <a:ext cx="1243440" cy="266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16600" y="3409200"/>
                <a:ext cx="465120" cy="22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8480" y="3439440"/>
                <a:ext cx="465840" cy="224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2" name=""/>
              <p:cNvSpPr/>
              <p:nvPr/>
            </p:nvSpPr>
            <p:spPr>
              <a:xfrm>
                <a:off x="584640" y="5889600"/>
                <a:ext cx="1690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NK2000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3" name=""/>
              <p:cNvGrpSpPr/>
              <p:nvPr/>
            </p:nvGrpSpPr>
            <p:grpSpPr>
              <a:xfrm>
                <a:off x="7332840" y="2661840"/>
                <a:ext cx="1379880" cy="3738600"/>
                <a:chOff x="7332840" y="2661840"/>
                <a:chExt cx="1379880" cy="373860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7443720" y="2661840"/>
                  <a:ext cx="1174320" cy="37386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46080" y="3012840"/>
                  <a:ext cx="566640" cy="310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30400" y="3607920"/>
                  <a:ext cx="803160" cy="673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32840" y="4973040"/>
                  <a:ext cx="1066320" cy="98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48" name=""/>
              <p:cNvSpPr/>
              <p:nvPr/>
            </p:nvSpPr>
            <p:spPr>
              <a:xfrm rot="5400000">
                <a:off x="1983240" y="4129920"/>
                <a:ext cx="26488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R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SELIN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500000" y="2598480"/>
                <a:ext cx="1922760" cy="825120"/>
              </a:xfrm>
              <a:custGeom>
                <a:avLst/>
                <a:gdLst/>
                <a:ahLst/>
                <a:rect l="l" t="t" r="r" b="b"/>
                <a:pathLst>
                  <a:path w="1336" h="625">
                    <a:moveTo>
                      <a:pt x="0" y="624"/>
                    </a:moveTo>
                    <a:lnTo>
                      <a:pt x="0" y="0"/>
                    </a:lnTo>
                    <a:lnTo>
                      <a:pt x="1335" y="0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432120" y="2471760"/>
                <a:ext cx="1600200" cy="634680"/>
              </a:xfrm>
              <a:custGeom>
                <a:avLst/>
                <a:gdLst/>
                <a:ahLst/>
                <a:rect l="l" t="t" r="r" b="b"/>
                <a:pathLst>
                  <a:path w="1112" h="481">
                    <a:moveTo>
                      <a:pt x="0" y="480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44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72440" y="1828800"/>
                <a:ext cx="1499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REQU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569920" y="1841760"/>
                <a:ext cx="15667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DEVEL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basel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557520" y="1828800"/>
                <a:ext cx="1583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ENDOR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54120" y="1828800"/>
                <a:ext cx="1958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IMPL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285560" y="2788560"/>
                <a:ext cx="3179520" cy="444600"/>
              </a:xfrm>
              <a:custGeom>
                <a:avLst/>
                <a:gdLst/>
                <a:ahLst/>
                <a:rect l="l" t="t" r="r" b="b"/>
                <a:pathLst>
                  <a:path w="2209" h="337">
                    <a:moveTo>
                      <a:pt x="0" y="336"/>
                    </a:moveTo>
                    <a:lnTo>
                      <a:pt x="0" y="0"/>
                    </a:lnTo>
                    <a:lnTo>
                      <a:pt x="2208" y="0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011200" y="2913840"/>
                <a:ext cx="909720" cy="654480"/>
              </a:xfrm>
              <a:custGeom>
                <a:avLst/>
                <a:gdLst/>
                <a:ahLst/>
                <a:rect l="l" t="t" r="r" b="b"/>
                <a:pathLst>
                  <a:path w="632" h="496">
                    <a:moveTo>
                      <a:pt x="0" y="495"/>
                    </a:moveTo>
                    <a:lnTo>
                      <a:pt x="6" y="401"/>
                    </a:lnTo>
                    <a:lnTo>
                      <a:pt x="30" y="314"/>
                    </a:lnTo>
                    <a:lnTo>
                      <a:pt x="60" y="229"/>
                    </a:lnTo>
                    <a:lnTo>
                      <a:pt x="97" y="154"/>
                    </a:lnTo>
                    <a:lnTo>
                      <a:pt x="121" y="121"/>
                    </a:lnTo>
                    <a:lnTo>
                      <a:pt x="145" y="91"/>
                    </a:lnTo>
                    <a:lnTo>
                      <a:pt x="170" y="67"/>
                    </a:lnTo>
                    <a:lnTo>
                      <a:pt x="200" y="42"/>
                    </a:lnTo>
                    <a:lnTo>
                      <a:pt x="230" y="24"/>
                    </a:lnTo>
                    <a:lnTo>
                      <a:pt x="255" y="12"/>
                    </a:lnTo>
                    <a:lnTo>
                      <a:pt x="285" y="3"/>
                    </a:lnTo>
                    <a:lnTo>
                      <a:pt x="315" y="0"/>
                    </a:lnTo>
                    <a:lnTo>
                      <a:pt x="376" y="6"/>
                    </a:lnTo>
                    <a:lnTo>
                      <a:pt x="431" y="21"/>
                    </a:lnTo>
                    <a:lnTo>
                      <a:pt x="485" y="48"/>
                    </a:lnTo>
                    <a:lnTo>
                      <a:pt x="534" y="79"/>
                    </a:lnTo>
                    <a:lnTo>
                      <a:pt x="570" y="118"/>
                    </a:lnTo>
                    <a:lnTo>
                      <a:pt x="607" y="160"/>
                    </a:lnTo>
                    <a:lnTo>
                      <a:pt x="625" y="205"/>
                    </a:lnTo>
                    <a:lnTo>
                      <a:pt x="631" y="2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941520" y="2471760"/>
                <a:ext cx="1092600" cy="780120"/>
              </a:xfrm>
              <a:custGeom>
                <a:avLst/>
                <a:gdLst/>
                <a:ahLst/>
                <a:rect l="l" t="t" r="r" b="b"/>
                <a:pathLst>
                  <a:path w="759" h="591">
                    <a:moveTo>
                      <a:pt x="0" y="590"/>
                    </a:moveTo>
                    <a:lnTo>
                      <a:pt x="9" y="479"/>
                    </a:lnTo>
                    <a:lnTo>
                      <a:pt x="34" y="374"/>
                    </a:lnTo>
                    <a:lnTo>
                      <a:pt x="67" y="274"/>
                    </a:lnTo>
                    <a:lnTo>
                      <a:pt x="93" y="227"/>
                    </a:lnTo>
                    <a:lnTo>
                      <a:pt x="118" y="184"/>
                    </a:lnTo>
                    <a:lnTo>
                      <a:pt x="152" y="145"/>
                    </a:lnTo>
                    <a:lnTo>
                      <a:pt x="177" y="108"/>
                    </a:lnTo>
                    <a:lnTo>
                      <a:pt x="211" y="76"/>
                    </a:lnTo>
                    <a:lnTo>
                      <a:pt x="244" y="50"/>
                    </a:lnTo>
                    <a:lnTo>
                      <a:pt x="278" y="29"/>
                    </a:lnTo>
                    <a:lnTo>
                      <a:pt x="312" y="13"/>
                    </a:lnTo>
                    <a:lnTo>
                      <a:pt x="345" y="3"/>
                    </a:lnTo>
                    <a:lnTo>
                      <a:pt x="379" y="0"/>
                    </a:lnTo>
                    <a:lnTo>
                      <a:pt x="446" y="3"/>
                    </a:lnTo>
                    <a:lnTo>
                      <a:pt x="514" y="13"/>
                    </a:lnTo>
                    <a:lnTo>
                      <a:pt x="581" y="26"/>
                    </a:lnTo>
                    <a:lnTo>
                      <a:pt x="640" y="45"/>
                    </a:lnTo>
                    <a:lnTo>
                      <a:pt x="691" y="66"/>
                    </a:lnTo>
                    <a:lnTo>
                      <a:pt x="724" y="92"/>
                    </a:lnTo>
                    <a:lnTo>
                      <a:pt x="750" y="119"/>
                    </a:lnTo>
                    <a:lnTo>
                      <a:pt x="758" y="1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011200" y="5524200"/>
                <a:ext cx="909720" cy="625680"/>
              </a:xfrm>
              <a:custGeom>
                <a:avLst/>
                <a:gdLst/>
                <a:ahLst/>
                <a:rect l="l" t="t" r="r" b="b"/>
                <a:pathLst>
                  <a:path w="632" h="474">
                    <a:moveTo>
                      <a:pt x="0" y="0"/>
                    </a:moveTo>
                    <a:lnTo>
                      <a:pt x="6" y="86"/>
                    </a:lnTo>
                    <a:lnTo>
                      <a:pt x="30" y="172"/>
                    </a:lnTo>
                    <a:lnTo>
                      <a:pt x="60" y="252"/>
                    </a:lnTo>
                    <a:lnTo>
                      <a:pt x="97" y="326"/>
                    </a:lnTo>
                    <a:lnTo>
                      <a:pt x="145" y="387"/>
                    </a:lnTo>
                    <a:lnTo>
                      <a:pt x="200" y="430"/>
                    </a:lnTo>
                    <a:lnTo>
                      <a:pt x="255" y="461"/>
                    </a:lnTo>
                    <a:lnTo>
                      <a:pt x="315" y="473"/>
                    </a:lnTo>
                    <a:lnTo>
                      <a:pt x="376" y="467"/>
                    </a:lnTo>
                    <a:lnTo>
                      <a:pt x="431" y="448"/>
                    </a:lnTo>
                    <a:lnTo>
                      <a:pt x="485" y="424"/>
                    </a:lnTo>
                    <a:lnTo>
                      <a:pt x="534" y="393"/>
                    </a:lnTo>
                    <a:lnTo>
                      <a:pt x="570" y="356"/>
                    </a:lnTo>
                    <a:lnTo>
                      <a:pt x="607" y="313"/>
                    </a:lnTo>
                    <a:lnTo>
                      <a:pt x="625" y="270"/>
                    </a:lnTo>
                    <a:lnTo>
                      <a:pt x="631" y="2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9" name=""/>
          <p:cNvSpPr/>
          <p:nvPr/>
        </p:nvSpPr>
        <p:spPr>
          <a:xfrm>
            <a:off x="7151760" y="5697360"/>
            <a:ext cx="1204920" cy="935280"/>
          </a:xfrm>
          <a:custGeom>
            <a:avLst/>
            <a:gdLst/>
            <a:ahLst/>
            <a:rect l="l" t="t" r="r" b="b"/>
            <a:pathLst>
              <a:path w="759" h="589">
                <a:moveTo>
                  <a:pt x="0" y="0"/>
                </a:moveTo>
                <a:lnTo>
                  <a:pt x="9" y="107"/>
                </a:lnTo>
                <a:lnTo>
                  <a:pt x="34" y="214"/>
                </a:lnTo>
                <a:lnTo>
                  <a:pt x="67" y="314"/>
                </a:lnTo>
                <a:lnTo>
                  <a:pt x="118" y="408"/>
                </a:lnTo>
                <a:lnTo>
                  <a:pt x="177" y="481"/>
                </a:lnTo>
                <a:lnTo>
                  <a:pt x="244" y="535"/>
                </a:lnTo>
                <a:lnTo>
                  <a:pt x="312" y="575"/>
                </a:lnTo>
                <a:lnTo>
                  <a:pt x="345" y="588"/>
                </a:lnTo>
                <a:lnTo>
                  <a:pt x="379" y="588"/>
                </a:lnTo>
                <a:lnTo>
                  <a:pt x="446" y="588"/>
                </a:lnTo>
                <a:lnTo>
                  <a:pt x="514" y="575"/>
                </a:lnTo>
                <a:lnTo>
                  <a:pt x="581" y="561"/>
                </a:lnTo>
                <a:lnTo>
                  <a:pt x="640" y="541"/>
                </a:lnTo>
                <a:lnTo>
                  <a:pt x="691" y="521"/>
                </a:lnTo>
                <a:lnTo>
                  <a:pt x="724" y="494"/>
                </a:lnTo>
                <a:lnTo>
                  <a:pt x="750" y="468"/>
                </a:lnTo>
                <a:lnTo>
                  <a:pt x="758" y="4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447920" y="475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Factors/FAA Test Bed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2091960"/>
            <a:ext cx="795492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effort to identify the CPDLC Human Factors and the FAA Test bed activities to be completed in CY00 leading up 12/00 Human Factors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 HCI/Procedures/Training Evaluation, Sept 1999 for Builds I and IA H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Deck HCI study, Oct 1999 which compared alternative configurations (EICAS, Glareshield, and MCDU only) dedicated and shared disp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3720" y="1904760"/>
            <a:ext cx="6051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A/Industry efforts to define CPDLC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DLC implementation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DLC Build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DLC Build 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interdepend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Integration and Program Coord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A ground software development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AL II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and Bas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Factors/FAA Test Bed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Safety Assessment -- Build I &amp; 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s Assessments &amp;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ed Human Facto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ATSS/Pilot/System Integration Test and Evaluation, March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Controller/Pilot Procedures in Nonpositive situ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Flight Crew and Sector Team Coord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ATSS/Pilot/System Integration Test and Evaluation, July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y Run of Protocols for Human Factors Demon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Flight Deck Task Integration: CPDLC/FMS Tas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SS/Pilot/System Integration Demon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Demonstrate Effectiveness &amp; Acceptability of CPDLC human factors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s/information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C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and 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165320" y="475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 Configuration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5" name=""/>
          <p:cNvGraphicFramePr/>
          <p:nvPr/>
        </p:nvGraphicFramePr>
        <p:xfrm>
          <a:off x="1285920" y="1809720"/>
          <a:ext cx="644508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809720"/>
                    <a:ext cx="64450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Test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8" name=""/>
          <p:cNvGraphicFramePr/>
          <p:nvPr/>
        </p:nvGraphicFramePr>
        <p:xfrm>
          <a:off x="835200" y="1793880"/>
          <a:ext cx="7610400" cy="41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93880"/>
                    <a:ext cx="7610400" cy="415908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325160" y="4759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Safety Assessment (OSA) Accomplishments--Build 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Draft Operational Environment Description (OED) for Build I Feb 12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Operational Hazard Assessment (OHA) for Build I  April 16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Allocation of Safety Objectives and Requirements (ASOR) For Build I May 3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285560" y="461520"/>
            <a:ext cx="776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Safety Assessment (OSA) Accomplishments--Build 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Draft OED for Build IA/Baseline I May 15, 199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OHA for Build IA/Baseline I June 11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first draft of Safety and Performance Requirements (SPR) July 14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first draft Of SC-189 PUB26 document. July 14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"/>
          <p:cNvGrpSpPr/>
          <p:nvPr/>
        </p:nvGrpSpPr>
        <p:grpSpPr>
          <a:xfrm>
            <a:off x="399960" y="723960"/>
            <a:ext cx="8434440" cy="5622840"/>
            <a:chOff x="399960" y="723960"/>
            <a:chExt cx="8434440" cy="5622840"/>
          </a:xfrm>
        </p:grpSpPr>
        <p:grpSp>
          <p:nvGrpSpPr>
            <p:cNvPr id="1975" name=""/>
            <p:cNvGrpSpPr/>
            <p:nvPr/>
          </p:nvGrpSpPr>
          <p:grpSpPr>
            <a:xfrm>
              <a:off x="855720" y="723960"/>
              <a:ext cx="7779240" cy="5622840"/>
              <a:chOff x="855720" y="723960"/>
              <a:chExt cx="7779240" cy="5622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1822320" y="2133720"/>
                <a:ext cx="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567480" y="1441440"/>
                <a:ext cx="0" cy="1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059680" y="23050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576840" y="208440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483160" y="22971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5200" y="723960"/>
                <a:ext cx="3659040" cy="51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CAO Standar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N &amp; VDL-2 SAR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105000" y="2589120"/>
                <a:ext cx="227160" cy="3606840"/>
              </a:xfrm>
              <a:custGeom>
                <a:avLst/>
                <a:gdLst>
                  <a:gd name="textAreaLeft" fmla="*/ 0 w 227160"/>
                  <a:gd name="textAreaRight" fmla="*/ 82080 w 227160"/>
                  <a:gd name="textAreaTop" fmla="*/ 93960 h 3606840"/>
                  <a:gd name="textAreaBottom" fmla="*/ 3512880 h 36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39160" y="50259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469200" y="2654280"/>
                <a:ext cx="201600" cy="1987560"/>
              </a:xfrm>
              <a:custGeom>
                <a:avLst/>
                <a:gdLst>
                  <a:gd name="textAreaLeft" fmla="*/ 0 w 201600"/>
                  <a:gd name="textAreaRight" fmla="*/ 72720 w 201600"/>
                  <a:gd name="textAreaTop" fmla="*/ 51840 h 1987560"/>
                  <a:gd name="textAreaBottom" fmla="*/ 1935720 h 198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145"/>
                    </a:lnTo>
                    <a:cubicBezTo>
                      <a:pt x="10800" y="10045"/>
                      <a:pt x="16200" y="10945"/>
                      <a:pt x="21600" y="10945"/>
                    </a:cubicBezTo>
                    <a:cubicBezTo>
                      <a:pt x="16200" y="10945"/>
                      <a:pt x="10800" y="11845"/>
                      <a:pt x="10800" y="1274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729480" y="3503520"/>
                <a:ext cx="636480" cy="33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Certif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Pl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7048440" y="451152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039080" y="3868560"/>
                <a:ext cx="0" cy="65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78280" y="2465280"/>
                <a:ext cx="1684440" cy="3295800"/>
                <a:chOff x="4778280" y="2465280"/>
                <a:chExt cx="1684440" cy="329580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4778280" y="2465280"/>
                  <a:ext cx="1582920" cy="71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-189 / WG-53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ubgroup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aseline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Interoperability 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0" name=""/>
                <p:cNvGrpSpPr/>
                <p:nvPr/>
              </p:nvGrpSpPr>
              <p:grpSpPr>
                <a:xfrm>
                  <a:off x="4778280" y="3251160"/>
                  <a:ext cx="1684440" cy="1069200"/>
                  <a:chOff x="4778280" y="3251160"/>
                  <a:chExt cx="1684440" cy="106920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4778280" y="3279600"/>
                    <a:ext cx="1619280" cy="1009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794120" y="3251160"/>
                    <a:ext cx="1668600" cy="10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perational Environmenta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fini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perations Safety Assess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afety Performanc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quire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4806720" y="4348080"/>
                  <a:ext cx="1590840" cy="662400"/>
                  <a:chOff x="4806720" y="4348080"/>
                  <a:chExt cx="1590840" cy="6624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813200" y="4348080"/>
                    <a:ext cx="158436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806720" y="4352760"/>
                    <a:ext cx="1369440" cy="65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quired Communic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erformanc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4835520" y="5121360"/>
                  <a:ext cx="1601640" cy="639720"/>
                  <a:chOff x="4835520" y="5121360"/>
                  <a:chExt cx="1601640" cy="63972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>
                    <a:off x="4840200" y="5121360"/>
                    <a:ext cx="159696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835520" y="5133600"/>
                    <a:ext cx="1420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PDLC II / LINK 2000+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9" name=""/>
              <p:cNvGrpSpPr/>
              <p:nvPr/>
            </p:nvGrpSpPr>
            <p:grpSpPr>
              <a:xfrm>
                <a:off x="7538400" y="2475000"/>
                <a:ext cx="1096560" cy="3196800"/>
                <a:chOff x="7538400" y="2475000"/>
                <a:chExt cx="1096560" cy="319680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7539120" y="2475000"/>
                  <a:ext cx="1079640" cy="710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-194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ubgroup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PDLC I/I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rinciples of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pera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1" name=""/>
                <p:cNvGrpSpPr/>
                <p:nvPr/>
              </p:nvGrpSpPr>
              <p:grpSpPr>
                <a:xfrm>
                  <a:off x="7538400" y="3327480"/>
                  <a:ext cx="1096560" cy="639360"/>
                  <a:chOff x="7538400" y="3327480"/>
                  <a:chExt cx="1096560" cy="63936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7539120" y="3327480"/>
                    <a:ext cx="107928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7538400" y="3327480"/>
                    <a:ext cx="109656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ture Application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7539120" y="4179960"/>
                  <a:ext cx="1071360" cy="639360"/>
                  <a:chOff x="7539120" y="4179960"/>
                  <a:chExt cx="1071360" cy="63936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539120" y="4179960"/>
                    <a:ext cx="107136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539840" y="4182840"/>
                    <a:ext cx="91224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uman  Factor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7540560" y="5032440"/>
                  <a:ext cx="1078200" cy="639360"/>
                  <a:chOff x="7540560" y="5032440"/>
                  <a:chExt cx="1078200" cy="639360"/>
                </a:xfrm>
              </p:grpSpPr>
              <p:sp>
                <p:nvSpPr>
                  <p:cNvPr id="2008" name=""/>
                  <p:cNvSpPr/>
                  <p:nvPr/>
                </p:nvSpPr>
                <p:spPr>
                  <a:xfrm>
                    <a:off x="7545960" y="5032440"/>
                    <a:ext cx="107280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7540560" y="5090040"/>
                    <a:ext cx="866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PDLC I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N G/G IR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10" name=""/>
              <p:cNvSpPr/>
              <p:nvPr/>
            </p:nvSpPr>
            <p:spPr>
              <a:xfrm>
                <a:off x="919080" y="5634000"/>
                <a:ext cx="2065320" cy="712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est To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nformance Test Suite (CTS) /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mmon American European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eference ATN Facility (CAERA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unctional Specifica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92080" y="3740040"/>
                <a:ext cx="2092320" cy="78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L-2 A/G Comm Service Provi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RINC 631 - VDL Implementation Spe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RINC 637 - Transport and Inter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etworking Protoc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2" name=""/>
              <p:cNvGrpSpPr/>
              <p:nvPr/>
            </p:nvGrpSpPr>
            <p:grpSpPr>
              <a:xfrm>
                <a:off x="866880" y="2438280"/>
                <a:ext cx="2064960" cy="1206360"/>
                <a:chOff x="866880" y="2438280"/>
                <a:chExt cx="2064960" cy="1206360"/>
              </a:xfrm>
            </p:grpSpPr>
            <p:sp>
              <p:nvSpPr>
                <p:cNvPr id="2013" name=""/>
                <p:cNvSpPr/>
                <p:nvPr/>
              </p:nvSpPr>
              <p:spPr>
                <a:xfrm>
                  <a:off x="866880" y="2462040"/>
                  <a:ext cx="2055600" cy="1136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967320" y="2438280"/>
                  <a:ext cx="1964520" cy="12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vioni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1 - VDL Implementation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7 - Transport and Int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Networking 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750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VHF Data Radi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758 - CMU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8 - Network Manag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855720" y="4761000"/>
                <a:ext cx="2206800" cy="639720"/>
                <a:chOff x="855720" y="4761000"/>
                <a:chExt cx="2206800" cy="63972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855720" y="4761000"/>
                  <a:ext cx="214560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ound End Syste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PDLC I/IA Functional 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etal IIe Trials 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267640" y="4920120"/>
                  <a:ext cx="141840" cy="355680"/>
                </a:xfrm>
                <a:custGeom>
                  <a:avLst/>
                  <a:gdLst>
                    <a:gd name="textAreaLeft" fmla="*/ 0 w 141840"/>
                    <a:gd name="textAreaRight" fmla="*/ 51120 w 141840"/>
                    <a:gd name="textAreaTop" fmla="*/ 9000 h 355680"/>
                    <a:gd name="textAreaBottom" fmla="*/ 346680 h 35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359080" y="5000400"/>
                  <a:ext cx="70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line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3417840" y="2462040"/>
                <a:ext cx="1206720" cy="70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C-17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DL-2  MAS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DL-2 MO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286240" y="1600200"/>
                <a:ext cx="227340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R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006800" y="2297160"/>
                <a:ext cx="406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006800" y="22971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855720" y="1601640"/>
                <a:ext cx="2077920" cy="61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PECIF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900080" y="142884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914480" y="1428840"/>
                <a:ext cx="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756320" y="123984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7" name=""/>
            <p:cNvSpPr/>
            <p:nvPr/>
          </p:nvSpPr>
          <p:spPr>
            <a:xfrm>
              <a:off x="3011400" y="1733400"/>
              <a:ext cx="2270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9960" y="1733400"/>
              <a:ext cx="45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39200" y="1733400"/>
              <a:ext cx="1195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Route CPDL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Risk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everal slides present the En Route Controller Pilot Data Link Communications (CPDLC) Build I program risk assessment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762120" y="460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 Deck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01480" y="2203560"/>
            <a:ext cx="4040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 deck integration may not be agreed upon between American Airlines and Boeing in time to support the PETAL IIE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570560" y="2187720"/>
            <a:ext cx="39402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 American flight deck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 American Airlines/Rockwell Collins Communications Management Unit (CMU) 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 Pilot Human Machine Interface (HMI)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 American not able to participate in the PETAL IIE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7799400" y="895320"/>
            <a:ext cx="685800" cy="179280"/>
            <a:chOff x="7799400" y="895320"/>
            <a:chExt cx="685800" cy="179280"/>
          </a:xfrm>
        </p:grpSpPr>
        <p:sp>
          <p:nvSpPr>
            <p:cNvPr id="2037" name=""/>
            <p:cNvSpPr/>
            <p:nvPr/>
          </p:nvSpPr>
          <p:spPr>
            <a:xfrm>
              <a:off x="8485200" y="89532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99400" y="905040"/>
              <a:ext cx="336600" cy="169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76212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 Deck Integra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76280" y="2044800"/>
            <a:ext cx="820728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American Airlines is working to establish a Technical Services Agreement (TSA) with Boeing for the 76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Technical Center is working closely with American on prototype flight deck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ARINC and Boeing TSA for CPDLC engineering support is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7785000" y="934920"/>
            <a:ext cx="685800" cy="179640"/>
            <a:chOff x="7785000" y="934920"/>
            <a:chExt cx="685800" cy="179640"/>
          </a:xfrm>
        </p:grpSpPr>
        <p:sp>
          <p:nvSpPr>
            <p:cNvPr id="2043" name=""/>
            <p:cNvSpPr/>
            <p:nvPr/>
          </p:nvSpPr>
          <p:spPr>
            <a:xfrm>
              <a:off x="8470800" y="93492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85000" y="94464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76212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for RRI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1480" y="2044800"/>
            <a:ext cx="40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funding required to modify Router Reference Implementation (RRI) product to support ATN over VDL Mode 2 (VDLM2) and VDL handout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570560" y="2044800"/>
            <a:ext cx="3940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American Airlines/Rockwell Collins RRI to CMU porting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 American not able to participate in the PETAL IIE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7785000" y="969840"/>
            <a:ext cx="762120" cy="169920"/>
            <a:chOff x="7785000" y="969840"/>
            <a:chExt cx="762120" cy="169920"/>
          </a:xfrm>
        </p:grpSpPr>
        <p:sp>
          <p:nvSpPr>
            <p:cNvPr id="2050" name=""/>
            <p:cNvSpPr/>
            <p:nvPr/>
          </p:nvSpPr>
          <p:spPr>
            <a:xfrm>
              <a:off x="8394840" y="10461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85000" y="969840"/>
              <a:ext cx="336600" cy="169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1560" y="618840"/>
            <a:ext cx="5935680" cy="803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N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K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E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M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080" y="1760040"/>
            <a:ext cx="8416800" cy="4056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0000"/>
          </a:bodyPr>
          <a:p>
            <a:pPr marL="3085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am recommended using the following phase approach for developing and implementing ICAO’s standard En Route Aeronautical Telecommunication Network (ATN) compliant data link servic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 (domestic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 ATN compliant operational serv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HF Digital Link Mode 2 (VDL-2)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A (enhanced domestic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compliant services (increase message set for Acknowledgement, Speed, Heading, Rou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DL-2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I  (international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compliant services (more complex messages and downlin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DL-2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message s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 with Decision Support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Next Generation Air/Ground Communications (NEXCOM) as A/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for RRI Progra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76280" y="1790640"/>
            <a:ext cx="820728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/ATNSI/ARINC/Rockwell stabilized Hand-Off Event requirements in AEEC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TNSI/ACI/Rockwell to coordinate RRI schedule revision (with VDLM2 changes) to support existing release date for Rockwell C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Rockwell Collins is examining alternative sources for the ISO 8208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TNSI actively seeking additional funding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7785000" y="1033560"/>
            <a:ext cx="766800" cy="169920"/>
            <a:chOff x="7785000" y="1033560"/>
            <a:chExt cx="766800" cy="169920"/>
          </a:xfrm>
        </p:grpSpPr>
        <p:sp>
          <p:nvSpPr>
            <p:cNvPr id="2056" name=""/>
            <p:cNvSpPr/>
            <p:nvPr/>
          </p:nvSpPr>
          <p:spPr>
            <a:xfrm>
              <a:off x="8389800" y="110484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785000" y="1033560"/>
              <a:ext cx="336600" cy="169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/>
          <p:nvPr/>
        </p:nvSpPr>
        <p:spPr>
          <a:xfrm>
            <a:off x="85716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Referenc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01480" y="1965240"/>
            <a:ext cx="40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I Router Reference Implementation (RRI) software development may not meet original ATNSI contract schedule with full RTCA DO-178b Level C 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570560" y="1965240"/>
            <a:ext cx="3940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 human factors demonstration delay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merican Airlines/Rockwell Collins RRI to CMU porting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 DLAP development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7893000" y="968400"/>
            <a:ext cx="690480" cy="181080"/>
            <a:chOff x="7893000" y="968400"/>
            <a:chExt cx="690480" cy="181080"/>
          </a:xfrm>
        </p:grpSpPr>
        <p:sp>
          <p:nvSpPr>
            <p:cNvPr id="2063" name=""/>
            <p:cNvSpPr/>
            <p:nvPr/>
          </p:nvSpPr>
          <p:spPr>
            <a:xfrm>
              <a:off x="8583480" y="96840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893000" y="97956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/>
          <p:nvPr/>
        </p:nvSpPr>
        <p:spPr>
          <a:xfrm>
            <a:off x="762120" y="507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Referenc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6600" y="1774800"/>
            <a:ext cx="7837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CI has developed a schedule recovery plan that is currently on track to deliver on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has risk mitigation plan using ProATN as backup for RRI for Human Factors Demonst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 Technical Re-Usable Software Team (TRUST) reviewing RRI software for DO-178b 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CI reporting Earned Value Metrics to CPDLC Integration Team monthly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8" name=""/>
          <p:cNvGrpSpPr/>
          <p:nvPr/>
        </p:nvGrpSpPr>
        <p:grpSpPr>
          <a:xfrm>
            <a:off x="7812000" y="1058760"/>
            <a:ext cx="690480" cy="181080"/>
            <a:chOff x="7812000" y="1058760"/>
            <a:chExt cx="690480" cy="181080"/>
          </a:xfrm>
        </p:grpSpPr>
        <p:sp>
          <p:nvSpPr>
            <p:cNvPr id="2069" name=""/>
            <p:cNvSpPr/>
            <p:nvPr/>
          </p:nvSpPr>
          <p:spPr>
            <a:xfrm>
              <a:off x="8502480" y="10587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812000" y="106992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ion of Avio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01480" y="1822320"/>
            <a:ext cx="406908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ion of CMU Avionics using the RRI product may delay delivery to American Airlin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570560" y="1822320"/>
            <a:ext cx="3940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American Airlines/Rockwell Collins CMU installation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merican not able to participate in the PETAL IIE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7808760" y="1098720"/>
            <a:ext cx="782640" cy="183960"/>
            <a:chOff x="7808760" y="1098720"/>
            <a:chExt cx="782640" cy="183960"/>
          </a:xfrm>
        </p:grpSpPr>
        <p:sp>
          <p:nvSpPr>
            <p:cNvPr id="2076" name=""/>
            <p:cNvSpPr/>
            <p:nvPr/>
          </p:nvSpPr>
          <p:spPr>
            <a:xfrm>
              <a:off x="8429760" y="118260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08760" y="1098720"/>
              <a:ext cx="293760" cy="183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ion of Avionic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77880" y="1822320"/>
            <a:ext cx="778968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Operational Environment Definition (OED) and Operational Safety Assessment (OSA) activities underway to establish safety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American Airlines and FAA flight standards/certification actively engaged in regular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merican Airlines certification plan is under develo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FAA Technical Re-Usable Software Team (TRUST) has been established to determine certification policy for RRI porting to CMU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1" name=""/>
          <p:cNvGrpSpPr/>
          <p:nvPr/>
        </p:nvGrpSpPr>
        <p:grpSpPr>
          <a:xfrm>
            <a:off x="7808760" y="1098720"/>
            <a:ext cx="782640" cy="183960"/>
            <a:chOff x="7808760" y="1098720"/>
            <a:chExt cx="782640" cy="183960"/>
          </a:xfrm>
        </p:grpSpPr>
        <p:sp>
          <p:nvSpPr>
            <p:cNvPr id="2082" name=""/>
            <p:cNvSpPr/>
            <p:nvPr/>
          </p:nvSpPr>
          <p:spPr>
            <a:xfrm>
              <a:off x="8429760" y="118260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808760" y="1098720"/>
              <a:ext cx="293760" cy="183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Factors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01480" y="1822320"/>
            <a:ext cx="406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Link Human Factors issues, if not properly addressed, could impact successful CPDLC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570560" y="1822320"/>
            <a:ext cx="394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Implementation not success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7794720" y="1092240"/>
            <a:ext cx="863640" cy="185760"/>
            <a:chOff x="7794720" y="1092240"/>
            <a:chExt cx="863640" cy="185760"/>
          </a:xfrm>
        </p:grpSpPr>
        <p:sp>
          <p:nvSpPr>
            <p:cNvPr id="2089" name=""/>
            <p:cNvSpPr/>
            <p:nvPr/>
          </p:nvSpPr>
          <p:spPr>
            <a:xfrm>
              <a:off x="8496360" y="116388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794720" y="109224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Factors Issu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7800" y="1790640"/>
            <a:ext cx="796140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 Data Link Human Factors plan developed and is being followed by all participant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 Extensive ground system Human Factors studies conducted over the last 10 year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.  Controller/Ground System activities on track.  Completed initial controller evaluation of Build I services implemented on the Display System Replacement.  Detailed planning underway for controller evaluation of Build IA services, training, and procedure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  Pilot/Flight deck evaluation underway at the FAA Technical Center.  Completed initial pilot review of candidate message alerting and display capabilities.  Detailed planning underway for comparative evaluation of configuration alternativ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  End-to-end Human Factors Demonstration will provide evidence of successful human factors implementation in December of 200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7791480" y="1027080"/>
            <a:ext cx="863640" cy="185760"/>
            <a:chOff x="7791480" y="1027080"/>
            <a:chExt cx="863640" cy="185760"/>
          </a:xfrm>
        </p:grpSpPr>
        <p:sp>
          <p:nvSpPr>
            <p:cNvPr id="2095" name=""/>
            <p:cNvSpPr/>
            <p:nvPr/>
          </p:nvSpPr>
          <p:spPr>
            <a:xfrm>
              <a:off x="8493120" y="109872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791480" y="102708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480" y="1790640"/>
            <a:ext cx="40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A’s &amp; American Airlines use of ATNSI’s router versus ARINC’s use of AIRTEL’s ATN router poses a potential interoperability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570560" y="1790640"/>
            <a:ext cx="39402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 Rewrite of RRI or AIRTEL software could not be absorbed in current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overrun:  Cost of RRI ground router software rewrite not in FAA CPDLC budget or AIRTEL ground router software rewrite not in ARINC VDL-2 budg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7780320" y="1050840"/>
            <a:ext cx="782640" cy="195480"/>
            <a:chOff x="7780320" y="1050840"/>
            <a:chExt cx="782640" cy="195480"/>
          </a:xfrm>
        </p:grpSpPr>
        <p:sp>
          <p:nvSpPr>
            <p:cNvPr id="2102" name=""/>
            <p:cNvSpPr/>
            <p:nvPr/>
          </p:nvSpPr>
          <p:spPr>
            <a:xfrm>
              <a:off x="8562960" y="10508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780320" y="106056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/>
          <p:cNvSpPr/>
          <p:nvPr/>
        </p:nvSpPr>
        <p:spPr>
          <a:xfrm>
            <a:off x="762120" y="58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Selec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92200" y="1854360"/>
            <a:ext cx="78883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NC to conduct Air/Ground (A/G) interoperability testing with Rockwell and AA; and, A/G &amp; Ground/Ground (G/G) interoperability testing with the FA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e Conformance Test Suite (CTS) will be used to test interop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A letter has been provided to ARINC addressing the FAA’s concern over the use of the AIRTEL ro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RINC responded to FAA letter with a commitment to work together with the FAA and the Airline Industry to ensure the end-to-end system is fielded, fully operable, and supports CPDLC program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7794720" y="1128600"/>
            <a:ext cx="782640" cy="195480"/>
            <a:chOff x="7794720" y="1128600"/>
            <a:chExt cx="782640" cy="195480"/>
          </a:xfrm>
        </p:grpSpPr>
        <p:sp>
          <p:nvSpPr>
            <p:cNvPr id="2108" name=""/>
            <p:cNvSpPr/>
            <p:nvPr/>
          </p:nvSpPr>
          <p:spPr>
            <a:xfrm>
              <a:off x="8577360" y="112860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794720" y="113832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76212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nd Industry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01480" y="1838160"/>
            <a:ext cx="40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integration requirements for FAA and Industry partners’ activities presents significant risks to achieving CPDLC operational cap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570560" y="1838160"/>
            <a:ext cx="3940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s due to miscommunication and poor coord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7800840" y="1104840"/>
            <a:ext cx="771480" cy="185760"/>
            <a:chOff x="7800840" y="1104840"/>
            <a:chExt cx="771480" cy="185760"/>
          </a:xfrm>
        </p:grpSpPr>
        <p:sp>
          <p:nvSpPr>
            <p:cNvPr id="2115" name=""/>
            <p:cNvSpPr/>
            <p:nvPr/>
          </p:nvSpPr>
          <p:spPr>
            <a:xfrm>
              <a:off x="7800840" y="110484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410320" y="118116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679400" y="417600"/>
            <a:ext cx="6549840" cy="1267920"/>
            <a:chOff x="1679400" y="417600"/>
            <a:chExt cx="6549840" cy="1267920"/>
          </a:xfrm>
        </p:grpSpPr>
        <p:sp>
          <p:nvSpPr>
            <p:cNvPr id="61" name=""/>
            <p:cNvSpPr/>
            <p:nvPr/>
          </p:nvSpPr>
          <p:spPr>
            <a:xfrm>
              <a:off x="1679400" y="417600"/>
              <a:ext cx="654984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8240" y="48168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Ro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68680" y="868680"/>
              <a:ext cx="621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ler Pilot Data Link Commun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57520" y="8784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34040" y="1261800"/>
              <a:ext cx="299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lementation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57200" y="1905120"/>
            <a:ext cx="8213760" cy="4283280"/>
            <a:chOff x="457200" y="1905120"/>
            <a:chExt cx="8213760" cy="4283280"/>
          </a:xfrm>
        </p:grpSpPr>
        <p:sp>
          <p:nvSpPr>
            <p:cNvPr id="67" name=""/>
            <p:cNvSpPr/>
            <p:nvPr/>
          </p:nvSpPr>
          <p:spPr>
            <a:xfrm>
              <a:off x="3176640" y="5230800"/>
              <a:ext cx="1627200" cy="24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35080" y="2867040"/>
              <a:ext cx="3584520" cy="236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35080" y="2633760"/>
              <a:ext cx="2106720" cy="231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5080" y="2398680"/>
              <a:ext cx="1236600" cy="2462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3040" y="5786280"/>
              <a:ext cx="18302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84480" y="5786280"/>
              <a:ext cx="2781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51040" y="2887560"/>
              <a:ext cx="1009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38520" y="293040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2920" y="2397240"/>
              <a:ext cx="954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0400" y="243828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59080" y="2641680"/>
              <a:ext cx="109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5840" y="2685960"/>
              <a:ext cx="95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689280" y="5249880"/>
              <a:ext cx="79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474840" y="1905120"/>
              <a:ext cx="8091360" cy="4036680"/>
              <a:chOff x="474840" y="1905120"/>
              <a:chExt cx="8091360" cy="403668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2864160" y="1905120"/>
                <a:ext cx="11880" cy="4036680"/>
                <a:chOff x="2864160" y="1905120"/>
                <a:chExt cx="11880" cy="4036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8641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8641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41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8641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641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641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641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641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8641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641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641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41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8641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8641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641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641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641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8641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641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641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8641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641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641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8641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641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8641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8641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641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641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41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641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8641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8641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641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8641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8641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641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8641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641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641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8641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641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41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8641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41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641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8641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8641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8641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8641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8641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641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641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641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641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641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641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641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641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41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641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641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641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641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8641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641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641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641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8641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641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641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8641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641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641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41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641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8641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8641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641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41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641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641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8641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641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641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8641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641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641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641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8641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8641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641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41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641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641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641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8641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641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641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641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641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641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41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641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641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641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641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641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641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8641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641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641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8641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8641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641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641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641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641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8641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641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641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641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641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641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8641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641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8641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641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641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641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41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8641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8641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641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641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8641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8641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8641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641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641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641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641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641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641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641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8641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8641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641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641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8641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641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641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8641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41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8641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641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641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641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641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641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8641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8641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8641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641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8641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641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41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41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641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8641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641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641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641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641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8641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641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641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641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641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641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41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641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641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641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8641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8641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8641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8641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8641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641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8641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41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8641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641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8641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641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641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641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422960" y="1905120"/>
                <a:ext cx="11880" cy="4036680"/>
                <a:chOff x="4422960" y="1905120"/>
                <a:chExt cx="11880" cy="4036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4229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229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4229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4229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229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4229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4229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4229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4229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4229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4229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229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4229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229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229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229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229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4229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229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229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229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4229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4229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4229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4229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229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4229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4229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4229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229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229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229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4229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4229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4229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229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229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4229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4229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4229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4229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229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229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4229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4229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229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229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4229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229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229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229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229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229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4229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4229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229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4229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229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229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229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29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229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4229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4229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4229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229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4229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4229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229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229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229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229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29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229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4229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4229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4229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229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229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229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229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4229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4229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4229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229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229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4229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4229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4229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229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4229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229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229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229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229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4229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4229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229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4229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229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229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229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229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229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4229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4229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4229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4229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229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229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229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4229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4229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229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229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4229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4229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229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229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29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229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229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229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229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229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229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229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4229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229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229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4229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4229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4229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229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4229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4229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229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229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4229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4229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4229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4229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4229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4229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4229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229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4229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4229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229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4229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29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4229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229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229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4229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4229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4229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229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4229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4229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229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229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229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229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4229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4229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4229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4229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4229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4229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229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229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4229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229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4229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229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229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229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4229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4229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229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229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229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4229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4229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4229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229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229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229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4229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4229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4229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229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4229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4229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4229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229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4229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049120" y="1905120"/>
                <a:ext cx="11880" cy="4036680"/>
                <a:chOff x="2049120" y="1905120"/>
                <a:chExt cx="11880" cy="40366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04912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4912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4912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04912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04912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04912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04912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04912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04912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04912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04912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04912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4912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4912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04912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04912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912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4912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04912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04912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04912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04912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4912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04912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4912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4912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4912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4912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4912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4912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912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04912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04912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04912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04912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4912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4912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04912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04912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04912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04912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04912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04912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04912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04912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04912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04912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04912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04912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04912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04912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04912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04912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4912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04912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04912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04912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04912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04912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04912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4912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04912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04912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04912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4912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04912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04912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04912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4912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04912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04912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04912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912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4912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04912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4912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4912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04912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04912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04912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4912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4912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4912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4912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4912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912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4912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04912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04912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04912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04912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04912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04912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4912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4912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4912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4912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4912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4912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4912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04912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4912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04912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04912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04912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04912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04912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04912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04912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04912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04912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4912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4912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4912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4912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04912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04912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04912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4912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04912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04912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04912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04912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04912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04912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04912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4912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04912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04912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04912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04912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04912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4912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04912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04912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4912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04912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04912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4912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04912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04912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04912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4912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04912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04912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4912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4912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04912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04912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04912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04912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04912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04912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04912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04912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4912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4912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04912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04912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04912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04912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4912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4912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04912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04912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04912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04912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04912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04912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04912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04912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4912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04912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04912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04912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04912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04912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04912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04912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04912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04912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04912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4912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04912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04912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04912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04912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04912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04912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04912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4912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04912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04912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04912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04912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04912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04912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04912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638160" y="1905120"/>
                <a:ext cx="11880" cy="4036680"/>
                <a:chOff x="3638160" y="1905120"/>
                <a:chExt cx="11880" cy="40366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6381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6381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381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6381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6381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6381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6381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381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381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6381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6381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6381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6381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6381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6381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6381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6381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6381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6381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381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6381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6381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6381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6381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6381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381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6381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6381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6381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6381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381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6381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6381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6381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6381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6381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6381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381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381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381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381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381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6381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381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381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381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381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381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6381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6381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381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6381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6381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6381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6381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381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381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6381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6381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6381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6381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6381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381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6381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381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6381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6381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6381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6381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6381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381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6381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6381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6381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6381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6381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6381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6381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6381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6381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381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381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6381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6381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6381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381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6381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381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6381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6381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381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381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381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381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381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381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381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6381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381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6381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381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6381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381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381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381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381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6381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6381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6381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381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381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6381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381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6381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381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381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6381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6381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6381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6381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6381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381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6381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6381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6381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6381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6381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381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6381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6381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381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6381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6381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6381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6381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6381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6381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6381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6381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6381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6381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6381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6381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6381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6381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381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6381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6381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6381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6381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6381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6381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6381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6381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6381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6381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6381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6381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6381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6381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381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6381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6381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6381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6381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6381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6381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381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6381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6381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6381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6381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6381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6381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6381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381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6381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6381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6381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6381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6381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6381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6381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6381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6381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6381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6381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6381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6381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6381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381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6381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6381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6381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6381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6381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6381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6381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120360" y="1905120"/>
                <a:ext cx="12240" cy="4036680"/>
                <a:chOff x="6120360" y="1905120"/>
                <a:chExt cx="12240" cy="403668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120360" y="1905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120360" y="1925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20360" y="1945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120360" y="1966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120360" y="19868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120360" y="2007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120360" y="20278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120360" y="2048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120360" y="2068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120360" y="2089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120360" y="2109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120360" y="2130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120360" y="2150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120360" y="21711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120360" y="2191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120360" y="22122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120360" y="2232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120360" y="2253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120360" y="2273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120360" y="2294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120360" y="2314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120360" y="2334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120360" y="23554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20360" y="2376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120360" y="23965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120360" y="2417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20360" y="2437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120360" y="2458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120360" y="2478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120360" y="2498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120360" y="2519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120360" y="25398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20360" y="2560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120360" y="25808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120360" y="2601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120360" y="2621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120360" y="2642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120360" y="2662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120360" y="2683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120360" y="2703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120360" y="27241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120360" y="2744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120360" y="27651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120360" y="2785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120360" y="2806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120360" y="2826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120360" y="2847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120360" y="2867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0360" y="2887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120360" y="29084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120360" y="2928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0360" y="29494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0360" y="2970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120360" y="2990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20360" y="3011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0360" y="3031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120360" y="3051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120360" y="3072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120360" y="30927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120360" y="3113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120360" y="31338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120360" y="3154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20360" y="3174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20360" y="3195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120360" y="3215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20360" y="3236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120360" y="3256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120360" y="32770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120360" y="3297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120360" y="33181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120360" y="3338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120360" y="3359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20360" y="3379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120360" y="3400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20360" y="3420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20360" y="3441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120360" y="34614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120360" y="3481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120360" y="35024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120360" y="3522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120360" y="3543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120360" y="3564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20360" y="3584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120360" y="3604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120360" y="3625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20360" y="36457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120360" y="3666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120360" y="36867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120360" y="3707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120360" y="3727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120360" y="3748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120360" y="3768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120360" y="3789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120360" y="3809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20360" y="38300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120360" y="3850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120360" y="38710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20360" y="3891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120360" y="3912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120360" y="3932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120360" y="3953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120360" y="3973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120360" y="3994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120360" y="40143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120360" y="4034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120360" y="40554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120360" y="4075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120360" y="4096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120360" y="4116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120360" y="4137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120360" y="4157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120360" y="4178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120360" y="41986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120360" y="4219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120360" y="42397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120360" y="4260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120360" y="4280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20360" y="4301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120360" y="4321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20360" y="4341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120360" y="4362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120360" y="43830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120360" y="4403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120360" y="44240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20360" y="4444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120360" y="4465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120360" y="4485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120360" y="4506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120360" y="4526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120360" y="4547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120360" y="45673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120360" y="4587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120360" y="46083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120360" y="4628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20360" y="4649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120360" y="4669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120360" y="4690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120360" y="4710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120360" y="4731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120360" y="47516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120360" y="4772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120360" y="47926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120360" y="4813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6120360" y="4833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20360" y="4854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120360" y="4874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120360" y="4894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6120360" y="4915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120360" y="49359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120360" y="4956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6120360" y="49770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120360" y="4997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120360" y="5018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120360" y="5038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20360" y="5059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120360" y="5079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120360" y="5100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120360" y="51202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120360" y="5140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120360" y="51613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20360" y="5181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20360" y="5202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20360" y="5222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120360" y="5243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20360" y="5263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120360" y="5284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120360" y="53046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120360" y="5325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120360" y="53456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20360" y="5366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120360" y="5386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120360" y="5407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20360" y="5427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120360" y="5447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20360" y="5468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120360" y="54889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20360" y="5509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20360" y="55299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120360" y="5550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120360" y="5571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120360" y="5591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20360" y="5612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120360" y="5632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120360" y="5653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20360" y="56732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120360" y="5693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20360" y="57142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20360" y="5734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20360" y="5755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120360" y="5775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120360" y="5796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120360" y="5816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120360" y="5837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120360" y="58575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20360" y="5878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20360" y="58986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120360" y="5919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120360" y="5939640"/>
                  <a:ext cx="1224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474840" y="2270880"/>
                <a:ext cx="809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1948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1344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16936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25648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3580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3120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0080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9620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51908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60764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402520" y="19893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493240" y="20329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462800" y="1985760"/>
                <a:ext cx="851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57840" y="2029320"/>
                <a:ext cx="704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11 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100560" y="1990800"/>
                <a:ext cx="1040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91640" y="2032920"/>
                <a:ext cx="900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7 -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5280840" y="1905120"/>
                <a:ext cx="11880" cy="4036680"/>
                <a:chOff x="5280840" y="1905120"/>
                <a:chExt cx="11880" cy="40366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528084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28084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28084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28084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28084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28084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28084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28084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28084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28084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28084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28084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28084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528084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28084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28084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28084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28084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28084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28084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28084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28084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28084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28084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28084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28084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084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28084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28084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28084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28084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8084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28084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28084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28084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28084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28084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28084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528084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28084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28084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28084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28084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084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28084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28084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28084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28084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28084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28084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28084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28084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28084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28084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28084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28084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8084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8084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28084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28084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28084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084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8084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8084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8084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28084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28084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28084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28084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28084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28084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28084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28084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28084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28084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8084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84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28084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28084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28084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28084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28084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28084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28084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28084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28084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28084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28084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28084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28084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28084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28084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28084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528084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28084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528084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528084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528084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28084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28084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28084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084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28084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28084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28084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28084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28084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28084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28084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28084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28084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28084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28084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28084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28084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528084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28084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28084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528084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528084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28084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528084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528084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528084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28084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28084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28084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28084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28084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28084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28084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28084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28084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28084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28084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28084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28084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28084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28084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28084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528084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084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528084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28084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28084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28084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28084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528084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28084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528084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528084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28084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28084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28084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8084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28084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28084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28084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28084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28084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28084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28084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28084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528084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528084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28084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528084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28084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28084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28084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28084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28084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28084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28084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28084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28084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28084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28084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28084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28084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28084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084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8084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8084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8084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084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28084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28084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28084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28084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28084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8084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28084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28084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28084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28084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28084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28084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7111080" y="1905120"/>
                <a:ext cx="11880" cy="4036680"/>
                <a:chOff x="7111080" y="1905120"/>
                <a:chExt cx="11880" cy="403668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711108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1108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1108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11108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11108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11108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11108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11108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11108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11108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11108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11108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711108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11108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11108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11108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11108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11108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11108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1108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11108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11108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11108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11108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11108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11108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11108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11108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11108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11108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11108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11108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11108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11108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711108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711108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11108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711108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11108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11108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11108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11108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11108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11108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711108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11108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11108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711108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11108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711108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11108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11108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11108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11108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11108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11108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11108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11108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11108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11108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11108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11108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11108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11108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11108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11108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11108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11108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11108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11108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11108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11108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11108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11108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11108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11108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711108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11108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11108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11108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11108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11108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11108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11108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11108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11108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11108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11108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11108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11108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11108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11108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11108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11108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11108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11108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11108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711108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11108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711108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711108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11108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11108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11108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711108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11108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11108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1108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11108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11108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11108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11108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11108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11108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11108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11108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11108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11108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11108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11108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11108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711108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711108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11108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11108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11108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11108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11108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11108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11108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11108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11108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711108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11108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11108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11108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11108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11108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1108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11108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11108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11108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11108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11108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11108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1108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11108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11108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11108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11108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11108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11108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1108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1108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11108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11108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11108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11108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11108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11108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11108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11108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11108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11108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11108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11108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11108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11108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11108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11108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11108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11108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11108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11108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11108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11108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11108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11108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11108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11108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11108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11108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11108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11108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11108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11108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11108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11108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11108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11108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11108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11108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11108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11108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11108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11108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11108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11108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1" name=""/>
            <p:cNvSpPr/>
            <p:nvPr/>
          </p:nvSpPr>
          <p:spPr>
            <a:xfrm>
              <a:off x="530280" y="2587680"/>
              <a:ext cx="1192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16320" y="2633760"/>
              <a:ext cx="106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i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5802480" y="3071880"/>
              <a:ext cx="339120" cy="50760"/>
              <a:chOff x="5802480" y="3071880"/>
              <a:chExt cx="339120" cy="50760"/>
            </a:xfrm>
          </p:grpSpPr>
          <p:sp>
            <p:nvSpPr>
              <p:cNvPr id="1494" name=""/>
              <p:cNvSpPr/>
              <p:nvPr/>
            </p:nvSpPr>
            <p:spPr>
              <a:xfrm>
                <a:off x="580248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941800" y="3071880"/>
                <a:ext cx="608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8220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202440" y="3071880"/>
              <a:ext cx="337680" cy="50760"/>
              <a:chOff x="6202440" y="3071880"/>
              <a:chExt cx="337680" cy="50760"/>
            </a:xfrm>
          </p:grpSpPr>
          <p:sp>
            <p:nvSpPr>
              <p:cNvPr id="1498" name=""/>
              <p:cNvSpPr/>
              <p:nvPr/>
            </p:nvSpPr>
            <p:spPr>
              <a:xfrm>
                <a:off x="6202440" y="3071880"/>
                <a:ext cx="590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40680" y="3071880"/>
                <a:ext cx="6048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81080" y="3071880"/>
                <a:ext cx="590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6673680" y="3071880"/>
              <a:ext cx="338040" cy="50760"/>
              <a:chOff x="6673680" y="3071880"/>
              <a:chExt cx="338040" cy="50760"/>
            </a:xfrm>
          </p:grpSpPr>
          <p:sp>
            <p:nvSpPr>
              <p:cNvPr id="1502" name=""/>
              <p:cNvSpPr/>
              <p:nvPr/>
            </p:nvSpPr>
            <p:spPr>
              <a:xfrm>
                <a:off x="667368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812280" y="3071880"/>
                <a:ext cx="608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95232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7278840" y="2895480"/>
              <a:ext cx="1179360" cy="23040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423920" y="291924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66760" y="4630680"/>
              <a:ext cx="905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51720" y="46674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479760" y="4921200"/>
              <a:ext cx="981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51040" y="489276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24520" y="5230800"/>
              <a:ext cx="95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10200" y="526104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24160" y="4933800"/>
              <a:ext cx="815760" cy="244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1540000">
              <a:off x="2557800" y="500364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69000" y="5535720"/>
              <a:ext cx="1234800" cy="244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21540000">
              <a:off x="3275280" y="532116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38600" y="5213520"/>
              <a:ext cx="733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911040" y="525132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23560" y="534996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21240" y="5548320"/>
              <a:ext cx="735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595120" y="558468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508000" y="56833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7200" y="4933800"/>
              <a:ext cx="1055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3600" y="4978440"/>
              <a:ext cx="919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243920" y="5553000"/>
              <a:ext cx="1179360" cy="22860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389000" y="557532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21540000">
              <a:off x="5032800" y="563256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6167520" y="5707080"/>
              <a:ext cx="337680" cy="54000"/>
              <a:chOff x="6167520" y="5707080"/>
              <a:chExt cx="337680" cy="54000"/>
            </a:xfrm>
          </p:grpSpPr>
          <p:sp>
            <p:nvSpPr>
              <p:cNvPr id="1529" name=""/>
              <p:cNvSpPr/>
              <p:nvPr/>
            </p:nvSpPr>
            <p:spPr>
              <a:xfrm>
                <a:off x="6167520" y="5707080"/>
                <a:ext cx="590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305760" y="5707080"/>
                <a:ext cx="608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46160" y="5707080"/>
                <a:ext cx="590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6637320" y="5719680"/>
              <a:ext cx="339480" cy="52560"/>
              <a:chOff x="6637320" y="5719680"/>
              <a:chExt cx="339480" cy="52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6637320" y="5719680"/>
                <a:ext cx="5940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776280" y="5719680"/>
                <a:ext cx="6084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17400" y="5719680"/>
                <a:ext cx="5940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676440" y="5959440"/>
              <a:ext cx="35161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6080" y="6005520"/>
              <a:ext cx="347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ote:  CPDLC II and CPDLC III are not baseli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066760" y="4146480"/>
              <a:ext cx="4065840" cy="304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16000" y="4216320"/>
              <a:ext cx="19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XCOM Analog 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32600" y="4146480"/>
              <a:ext cx="25383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409080" y="4216320"/>
              <a:ext cx="190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XCOM Digital 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7200" y="3317760"/>
              <a:ext cx="1700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3600" y="3363840"/>
              <a:ext cx="45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/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42880" y="3613320"/>
              <a:ext cx="1457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43600" y="3549600"/>
              <a:ext cx="2706840" cy="241200"/>
            </a:xfrm>
            <a:custGeom>
              <a:avLst/>
              <a:gdLst/>
              <a:ahLst/>
              <a:rect l="l" t="t" r="r" b="b"/>
              <a:pathLst>
                <a:path w="1776" h="189">
                  <a:moveTo>
                    <a:pt x="446" y="0"/>
                  </a:moveTo>
                  <a:lnTo>
                    <a:pt x="0" y="189"/>
                  </a:lnTo>
                  <a:lnTo>
                    <a:pt x="1330" y="189"/>
                  </a:lnTo>
                  <a:lnTo>
                    <a:pt x="1776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ff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551640" y="3603600"/>
              <a:ext cx="155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XCOM Digit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66760" y="3549600"/>
              <a:ext cx="4606920" cy="241200"/>
            </a:xfrm>
            <a:custGeom>
              <a:avLst/>
              <a:gdLst/>
              <a:ahLst/>
              <a:rect l="l" t="t" r="r" b="b"/>
              <a:pathLst>
                <a:path w="3024" h="189">
                  <a:moveTo>
                    <a:pt x="458" y="0"/>
                  </a:moveTo>
                  <a:lnTo>
                    <a:pt x="0" y="189"/>
                  </a:lnTo>
                  <a:lnTo>
                    <a:pt x="2566" y="189"/>
                  </a:lnTo>
                  <a:lnTo>
                    <a:pt x="3024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089240" y="35798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DL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457960" y="5562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90680" y="1822320"/>
            <a:ext cx="84103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 and Industry partners have embraced the development of an integrated schedule that identifies activities, milestones, and interdependencies between all the play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and Industry partners established the CPDLC Integration Team (CIT) that meets on a monthly basis to review progress and track activities against the integrated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, under the AND-1 signature, will make a formal request to Boeing to become a member of the CIT and participate in monthly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FAA and MITRE dedicating considerable full time staff resources to support the integration and coordination of CPDLC Build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7800840" y="1089000"/>
            <a:ext cx="771480" cy="185760"/>
            <a:chOff x="7800840" y="1089000"/>
            <a:chExt cx="771480" cy="185760"/>
          </a:xfrm>
        </p:grpSpPr>
        <p:sp>
          <p:nvSpPr>
            <p:cNvPr id="2121" name=""/>
            <p:cNvSpPr/>
            <p:nvPr/>
          </p:nvSpPr>
          <p:spPr>
            <a:xfrm>
              <a:off x="7800840" y="108900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410320" y="116532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CPDL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970360" y="2998800"/>
            <a:ext cx="27604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DLC I Messag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6840" y="1942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f Communication (TOC), Initial Contact (IC), Altimeter Setting (AS), and an informational free text menu capability, which will be built by supervisory input and assigned to specified posi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7" name=""/>
          <p:cNvGraphicFramePr/>
          <p:nvPr/>
        </p:nvGraphicFramePr>
        <p:xfrm>
          <a:off x="1352520" y="2868480"/>
          <a:ext cx="613584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868480"/>
                    <a:ext cx="613584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18680" y="476280"/>
            <a:ext cx="832500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DLC IA Messag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74840" y="175896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235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crease the message set to accommodate assignment of speeds,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adings, altitudes as well as a route clearance function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235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capability to handle limited pilot-initiated altitude reques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235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ded messages ar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984240" y="2970360"/>
          <a:ext cx="7124760" cy="362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2970360"/>
                    <a:ext cx="7124760" cy="36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/>
          <p:nvPr/>
        </p:nvSpPr>
        <p:spPr>
          <a:xfrm>
            <a:off x="1828800" y="628560"/>
            <a:ext cx="655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rony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87360" y="1852560"/>
            <a:ext cx="41911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/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-to-Gro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ronautical Data Lin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way Facil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TCC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Route Traffic Control Cen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Service E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Traf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Contro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eronautical Telecommunication 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NS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eronautical Telecommunication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 Inc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S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Traffic Services 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itical Design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DLC Integration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xt Manage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xt Management 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unications Management 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DLC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ler Pilot Data Link 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LA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Link Application Proces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lay System Replac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/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nd-to-Gro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667400" y="1863720"/>
            <a:ext cx="41907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t Interface De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A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Civil Aviation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Operational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R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int Resource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tenance Processor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DIN I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ional Airspace Data Interchange Network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S L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ional Airspace System Local Area 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Generation A/G Communications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S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 System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rational Safety Assess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&amp;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rational Test &amp; Eval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TAL I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liminary EUROCONTROL Test of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/ground  data Link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 Reference 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RP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ndards And Recommended Pract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chnical Interchange 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DL-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F Digital Link Mode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DL-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F Digital Link Mode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HF Digital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64800" y="591840"/>
            <a:ext cx="75992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NT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URCE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NCIL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ESTMEN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965160" y="2313000"/>
            <a:ext cx="7564320" cy="223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89000"/>
          </a:bodyPr>
          <a:p>
            <a:pPr marL="305280" indent="-305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RC Investment Decision on 10/30/98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 (key site only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spcAft>
                <a:spcPts val="11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A (national deployment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dditional Investment Decisions required prior to beginning Builds II &amp; III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I JRC Investment Decision is currently scheduled for Fall 200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177560" y="280800"/>
            <a:ext cx="7142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OUTE CONTROLLER PIL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COMMUNICATIONS BUILD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213840" y="1465200"/>
            <a:ext cx="6288120" cy="487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-site deploy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site:  Miami Air Route Traffic Control Center (ARTC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site Initial Operational Capability (IOC):  6/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 4 operational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f Communi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Conta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imeter Sett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al free text menu capability built by supervisor inp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VDL-2 as A/G sub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s Human Factors demonstration at FAA Te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 by 12/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Airlines will be the launch air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486400" y="3219480"/>
            <a:ext cx="3271680" cy="2514600"/>
            <a:chOff x="5486400" y="3219480"/>
            <a:chExt cx="3271680" cy="2514600"/>
          </a:xfrm>
        </p:grpSpPr>
        <p:pic>
          <p:nvPicPr>
            <p:cNvPr id="1555" name="" descr=""/>
            <p:cNvPicPr/>
            <p:nvPr/>
          </p:nvPicPr>
          <p:blipFill>
            <a:blip r:embed="rId1"/>
            <a:stretch/>
          </p:blipFill>
          <p:spPr>
            <a:xfrm>
              <a:off x="5486400" y="3219480"/>
              <a:ext cx="30812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>
              <a:off x="8367840" y="4946760"/>
              <a:ext cx="390240" cy="311040"/>
            </a:xfrm>
            <a:prstGeom prst="star5">
              <a:avLst/>
            </a:prstGeom>
            <a:solidFill>
              <a:srgbClr val="ffff99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/>
          </p:nvPr>
        </p:nvSpPr>
        <p:spPr>
          <a:xfrm>
            <a:off x="-399960" y="2568240"/>
            <a:ext cx="5371920" cy="1523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5000"/>
          </a:bodyPr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deployment to al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domestic ARTC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site IOC:  6/03 Miam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deploy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 installation:  1/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installation:  12/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033560" y="285840"/>
            <a:ext cx="73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OUTE CONTROLLER PIL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COMMUNICATIONS BUILD I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87360" y="4464000"/>
            <a:ext cx="8042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message set to accommodate assignment of speeds, headings, altitudes as well as a route clearanc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pability to handle pilot-initiated altitud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VDL-2 as A/G Sub-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cipate widespread industry parti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3753000" y="2014560"/>
            <a:ext cx="4987800" cy="2449440"/>
            <a:chOff x="3753000" y="2014560"/>
            <a:chExt cx="4987800" cy="2449440"/>
          </a:xfrm>
        </p:grpSpPr>
        <p:pic>
          <p:nvPicPr>
            <p:cNvPr id="1561" name="" descr=""/>
            <p:cNvPicPr/>
            <p:nvPr/>
          </p:nvPicPr>
          <p:blipFill>
            <a:blip r:embed="rId1"/>
            <a:stretch/>
          </p:blipFill>
          <p:spPr>
            <a:xfrm>
              <a:off x="3753000" y="2014560"/>
              <a:ext cx="49878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2" name=""/>
            <p:cNvSpPr/>
            <p:nvPr/>
          </p:nvSpPr>
          <p:spPr>
            <a:xfrm>
              <a:off x="7996320" y="414828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81640" y="35100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572240" y="359244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05640" y="263376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86600" y="2900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453440" y="303048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00800" y="303048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91120" y="364644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234200" y="31068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76600" y="34909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724880" y="3814920"/>
              <a:ext cx="11880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38800" y="3989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176880" y="329400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219800" y="34369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24720" y="27162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9600" y="2954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091040" y="287496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115480" y="290664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08480" y="209700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58160" y="31417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"/>
          <p:cNvGrpSpPr/>
          <p:nvPr/>
        </p:nvGrpSpPr>
        <p:grpSpPr>
          <a:xfrm>
            <a:off x="608040" y="1957320"/>
            <a:ext cx="8186760" cy="4578480"/>
            <a:chOff x="608040" y="1957320"/>
            <a:chExt cx="8186760" cy="4578480"/>
          </a:xfrm>
        </p:grpSpPr>
        <p:sp>
          <p:nvSpPr>
            <p:cNvPr id="1583" name=""/>
            <p:cNvSpPr/>
            <p:nvPr/>
          </p:nvSpPr>
          <p:spPr>
            <a:xfrm>
              <a:off x="608040" y="2662200"/>
              <a:ext cx="5264280" cy="380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a73"/>
                </a:gs>
              </a:gsLst>
              <a:lin ang="5400000"/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7720" y="2170080"/>
              <a:ext cx="400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693200" y="3546360"/>
              <a:ext cx="1101600" cy="629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DL-2 Grou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6" name=""/>
            <p:cNvGraphicFramePr/>
            <p:nvPr/>
          </p:nvGraphicFramePr>
          <p:xfrm>
            <a:off x="1274760" y="2027160"/>
            <a:ext cx="1339920" cy="44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4760" y="2027160"/>
                      <a:ext cx="13399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8" name=""/>
            <p:cNvSpPr/>
            <p:nvPr/>
          </p:nvSpPr>
          <p:spPr>
            <a:xfrm>
              <a:off x="4462560" y="1957320"/>
              <a:ext cx="1287360" cy="422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537080" y="1984320"/>
              <a:ext cx="1181160" cy="546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MU/ATSU ATN compli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45040" y="1957320"/>
              <a:ext cx="1905120" cy="551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DR Multi-Mo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nsceiv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578480" y="421020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49520" y="4211640"/>
              <a:ext cx="5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201680" y="385920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32080" y="42530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3720960" y="4838400"/>
              <a:ext cx="1376640" cy="8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5249880" y="4853160"/>
              <a:ext cx="17784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2789280" y="4414680"/>
              <a:ext cx="806040" cy="338040"/>
              <a:chOff x="2789280" y="4414680"/>
              <a:chExt cx="806040" cy="338040"/>
            </a:xfrm>
          </p:grpSpPr>
          <p:sp>
            <p:nvSpPr>
              <p:cNvPr id="1598" name=""/>
              <p:cNvSpPr/>
              <p:nvPr/>
            </p:nvSpPr>
            <p:spPr>
              <a:xfrm>
                <a:off x="2789280" y="4414680"/>
                <a:ext cx="806040" cy="331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96840" y="4452840"/>
                <a:ext cx="70956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LA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755640" y="3986280"/>
              <a:ext cx="963360" cy="506520"/>
              <a:chOff x="755640" y="3986280"/>
              <a:chExt cx="963360" cy="506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755640" y="3986280"/>
                <a:ext cx="963360" cy="506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72280" y="4109040"/>
                <a:ext cx="72036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HOS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2633760" y="4000680"/>
              <a:ext cx="1236600" cy="3506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94480" y="4060800"/>
              <a:ext cx="807120" cy="2998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901800" y="3436920"/>
              <a:ext cx="594720" cy="422280"/>
              <a:chOff x="901800" y="3436920"/>
              <a:chExt cx="594720" cy="422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907920" y="3436920"/>
                <a:ext cx="588600" cy="42228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901800" y="3546360"/>
                <a:ext cx="5936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S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2165400" y="4057560"/>
              <a:ext cx="453960" cy="2937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8480" y="4052880"/>
              <a:ext cx="10371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AS L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177280" y="4052880"/>
              <a:ext cx="5205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2906640" y="5545080"/>
              <a:ext cx="813960" cy="496800"/>
              <a:chOff x="2906640" y="5545080"/>
              <a:chExt cx="813960" cy="496800"/>
            </a:xfrm>
          </p:grpSpPr>
          <p:sp>
            <p:nvSpPr>
              <p:cNvPr id="1612" name=""/>
              <p:cNvSpPr/>
              <p:nvPr/>
            </p:nvSpPr>
            <p:spPr>
              <a:xfrm>
                <a:off x="2906640" y="5545080"/>
                <a:ext cx="813960" cy="49680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990880" y="5678280"/>
                <a:ext cx="62568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M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3054240" y="3565440"/>
              <a:ext cx="453960" cy="293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79360" y="3576600"/>
              <a:ext cx="6152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S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67800" y="2690640"/>
              <a:ext cx="341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A En Route CPDLC Ground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981680" y="5197320"/>
              <a:ext cx="815760" cy="5256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045400" y="527832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/G 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54240" y="3141720"/>
              <a:ext cx="453960" cy="2952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79360" y="3154320"/>
              <a:ext cx="604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76720" y="38592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76720" y="34369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4757760" y="4543560"/>
              <a:ext cx="147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790440" y="4562640"/>
              <a:ext cx="98856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N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97680" y="2971800"/>
              <a:ext cx="1482480" cy="451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XCOM VDL-3 Ground St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35680" y="5267160"/>
              <a:ext cx="1927440" cy="1268640"/>
            </a:xfrm>
            <a:custGeom>
              <a:avLst/>
              <a:gdLst/>
              <a:ahLst/>
              <a:rect l="l" t="t" r="r" b="b"/>
              <a:pathLst>
                <a:path w="1585" h="1297">
                  <a:moveTo>
                    <a:pt x="253" y="308"/>
                  </a:moveTo>
                  <a:lnTo>
                    <a:pt x="267" y="269"/>
                  </a:lnTo>
                  <a:lnTo>
                    <a:pt x="288" y="235"/>
                  </a:lnTo>
                  <a:lnTo>
                    <a:pt x="316" y="208"/>
                  </a:lnTo>
                  <a:lnTo>
                    <a:pt x="357" y="181"/>
                  </a:lnTo>
                  <a:lnTo>
                    <a:pt x="389" y="169"/>
                  </a:lnTo>
                  <a:lnTo>
                    <a:pt x="430" y="154"/>
                  </a:lnTo>
                  <a:lnTo>
                    <a:pt x="493" y="150"/>
                  </a:lnTo>
                  <a:lnTo>
                    <a:pt x="550" y="154"/>
                  </a:lnTo>
                  <a:lnTo>
                    <a:pt x="604" y="169"/>
                  </a:lnTo>
                  <a:lnTo>
                    <a:pt x="645" y="188"/>
                  </a:lnTo>
                  <a:lnTo>
                    <a:pt x="670" y="127"/>
                  </a:lnTo>
                  <a:lnTo>
                    <a:pt x="699" y="85"/>
                  </a:lnTo>
                  <a:lnTo>
                    <a:pt x="743" y="46"/>
                  </a:lnTo>
                  <a:lnTo>
                    <a:pt x="800" y="19"/>
                  </a:lnTo>
                  <a:lnTo>
                    <a:pt x="865" y="4"/>
                  </a:lnTo>
                  <a:lnTo>
                    <a:pt x="931" y="0"/>
                  </a:lnTo>
                  <a:lnTo>
                    <a:pt x="991" y="8"/>
                  </a:lnTo>
                  <a:lnTo>
                    <a:pt x="1056" y="31"/>
                  </a:lnTo>
                  <a:lnTo>
                    <a:pt x="1108" y="73"/>
                  </a:lnTo>
                  <a:lnTo>
                    <a:pt x="1143" y="112"/>
                  </a:lnTo>
                  <a:lnTo>
                    <a:pt x="1165" y="150"/>
                  </a:lnTo>
                  <a:lnTo>
                    <a:pt x="1173" y="200"/>
                  </a:lnTo>
                  <a:lnTo>
                    <a:pt x="1219" y="185"/>
                  </a:lnTo>
                  <a:lnTo>
                    <a:pt x="1274" y="188"/>
                  </a:lnTo>
                  <a:lnTo>
                    <a:pt x="1320" y="208"/>
                  </a:lnTo>
                  <a:lnTo>
                    <a:pt x="1358" y="242"/>
                  </a:lnTo>
                  <a:lnTo>
                    <a:pt x="1385" y="285"/>
                  </a:lnTo>
                  <a:lnTo>
                    <a:pt x="1396" y="335"/>
                  </a:lnTo>
                  <a:lnTo>
                    <a:pt x="1393" y="373"/>
                  </a:lnTo>
                  <a:lnTo>
                    <a:pt x="1421" y="369"/>
                  </a:lnTo>
                  <a:lnTo>
                    <a:pt x="1456" y="377"/>
                  </a:lnTo>
                  <a:lnTo>
                    <a:pt x="1486" y="392"/>
                  </a:lnTo>
                  <a:lnTo>
                    <a:pt x="1513" y="411"/>
                  </a:lnTo>
                  <a:lnTo>
                    <a:pt x="1530" y="435"/>
                  </a:lnTo>
                  <a:lnTo>
                    <a:pt x="1549" y="454"/>
                  </a:lnTo>
                  <a:lnTo>
                    <a:pt x="1565" y="481"/>
                  </a:lnTo>
                  <a:lnTo>
                    <a:pt x="1573" y="515"/>
                  </a:lnTo>
                  <a:lnTo>
                    <a:pt x="1576" y="542"/>
                  </a:lnTo>
                  <a:lnTo>
                    <a:pt x="1570" y="573"/>
                  </a:lnTo>
                  <a:lnTo>
                    <a:pt x="1560" y="608"/>
                  </a:lnTo>
                  <a:lnTo>
                    <a:pt x="1573" y="642"/>
                  </a:lnTo>
                  <a:lnTo>
                    <a:pt x="1579" y="677"/>
                  </a:lnTo>
                  <a:lnTo>
                    <a:pt x="1581" y="711"/>
                  </a:lnTo>
                  <a:lnTo>
                    <a:pt x="1576" y="758"/>
                  </a:lnTo>
                  <a:lnTo>
                    <a:pt x="1568" y="781"/>
                  </a:lnTo>
                  <a:lnTo>
                    <a:pt x="1551" y="815"/>
                  </a:lnTo>
                  <a:lnTo>
                    <a:pt x="1576" y="858"/>
                  </a:lnTo>
                  <a:lnTo>
                    <a:pt x="1581" y="885"/>
                  </a:lnTo>
                  <a:lnTo>
                    <a:pt x="1584" y="923"/>
                  </a:lnTo>
                  <a:lnTo>
                    <a:pt x="1579" y="961"/>
                  </a:lnTo>
                  <a:lnTo>
                    <a:pt x="1565" y="1008"/>
                  </a:lnTo>
                  <a:lnTo>
                    <a:pt x="1549" y="1042"/>
                  </a:lnTo>
                  <a:lnTo>
                    <a:pt x="1519" y="1069"/>
                  </a:lnTo>
                  <a:lnTo>
                    <a:pt x="1472" y="1104"/>
                  </a:lnTo>
                  <a:lnTo>
                    <a:pt x="1421" y="1111"/>
                  </a:lnTo>
                  <a:lnTo>
                    <a:pt x="1377" y="1104"/>
                  </a:lnTo>
                  <a:lnTo>
                    <a:pt x="1344" y="1084"/>
                  </a:lnTo>
                  <a:lnTo>
                    <a:pt x="1325" y="1119"/>
                  </a:lnTo>
                  <a:lnTo>
                    <a:pt x="1304" y="1146"/>
                  </a:lnTo>
                  <a:lnTo>
                    <a:pt x="1285" y="1158"/>
                  </a:lnTo>
                  <a:lnTo>
                    <a:pt x="1249" y="1181"/>
                  </a:lnTo>
                  <a:lnTo>
                    <a:pt x="1219" y="1192"/>
                  </a:lnTo>
                  <a:lnTo>
                    <a:pt x="1173" y="1208"/>
                  </a:lnTo>
                  <a:lnTo>
                    <a:pt x="1127" y="1204"/>
                  </a:lnTo>
                  <a:lnTo>
                    <a:pt x="1080" y="1188"/>
                  </a:lnTo>
                  <a:lnTo>
                    <a:pt x="1042" y="1165"/>
                  </a:lnTo>
                  <a:lnTo>
                    <a:pt x="1018" y="1208"/>
                  </a:lnTo>
                  <a:lnTo>
                    <a:pt x="996" y="1231"/>
                  </a:lnTo>
                  <a:lnTo>
                    <a:pt x="966" y="1250"/>
                  </a:lnTo>
                  <a:lnTo>
                    <a:pt x="934" y="1269"/>
                  </a:lnTo>
                  <a:lnTo>
                    <a:pt x="898" y="1277"/>
                  </a:lnTo>
                  <a:lnTo>
                    <a:pt x="863" y="1277"/>
                  </a:lnTo>
                  <a:lnTo>
                    <a:pt x="830" y="1269"/>
                  </a:lnTo>
                  <a:lnTo>
                    <a:pt x="789" y="1246"/>
                  </a:lnTo>
                  <a:lnTo>
                    <a:pt x="765" y="1227"/>
                  </a:lnTo>
                  <a:lnTo>
                    <a:pt x="743" y="1250"/>
                  </a:lnTo>
                  <a:lnTo>
                    <a:pt x="721" y="1269"/>
                  </a:lnTo>
                  <a:lnTo>
                    <a:pt x="691" y="1284"/>
                  </a:lnTo>
                  <a:lnTo>
                    <a:pt x="650" y="1296"/>
                  </a:lnTo>
                  <a:lnTo>
                    <a:pt x="607" y="1292"/>
                  </a:lnTo>
                  <a:lnTo>
                    <a:pt x="566" y="1281"/>
                  </a:lnTo>
                  <a:lnTo>
                    <a:pt x="533" y="1258"/>
                  </a:lnTo>
                  <a:lnTo>
                    <a:pt x="501" y="1223"/>
                  </a:lnTo>
                  <a:lnTo>
                    <a:pt x="482" y="1188"/>
                  </a:lnTo>
                  <a:lnTo>
                    <a:pt x="449" y="1200"/>
                  </a:lnTo>
                  <a:lnTo>
                    <a:pt x="411" y="1208"/>
                  </a:lnTo>
                  <a:lnTo>
                    <a:pt x="365" y="1208"/>
                  </a:lnTo>
                  <a:lnTo>
                    <a:pt x="327" y="1188"/>
                  </a:lnTo>
                  <a:lnTo>
                    <a:pt x="297" y="1165"/>
                  </a:lnTo>
                  <a:lnTo>
                    <a:pt x="272" y="1146"/>
                  </a:lnTo>
                  <a:lnTo>
                    <a:pt x="253" y="1108"/>
                  </a:lnTo>
                  <a:lnTo>
                    <a:pt x="248" y="1069"/>
                  </a:lnTo>
                  <a:lnTo>
                    <a:pt x="223" y="1081"/>
                  </a:lnTo>
                  <a:lnTo>
                    <a:pt x="188" y="1084"/>
                  </a:lnTo>
                  <a:lnTo>
                    <a:pt x="150" y="1069"/>
                  </a:lnTo>
                  <a:lnTo>
                    <a:pt x="109" y="1046"/>
                  </a:lnTo>
                  <a:lnTo>
                    <a:pt x="79" y="1011"/>
                  </a:lnTo>
                  <a:lnTo>
                    <a:pt x="57" y="969"/>
                  </a:lnTo>
                  <a:lnTo>
                    <a:pt x="41" y="923"/>
                  </a:lnTo>
                  <a:lnTo>
                    <a:pt x="35" y="861"/>
                  </a:lnTo>
                  <a:lnTo>
                    <a:pt x="38" y="819"/>
                  </a:lnTo>
                  <a:lnTo>
                    <a:pt x="49" y="761"/>
                  </a:lnTo>
                  <a:lnTo>
                    <a:pt x="24" y="727"/>
                  </a:lnTo>
                  <a:lnTo>
                    <a:pt x="11" y="681"/>
                  </a:lnTo>
                  <a:lnTo>
                    <a:pt x="0" y="631"/>
                  </a:lnTo>
                  <a:lnTo>
                    <a:pt x="0" y="581"/>
                  </a:lnTo>
                  <a:lnTo>
                    <a:pt x="11" y="527"/>
                  </a:lnTo>
                  <a:lnTo>
                    <a:pt x="30" y="485"/>
                  </a:lnTo>
                  <a:lnTo>
                    <a:pt x="63" y="442"/>
                  </a:lnTo>
                  <a:lnTo>
                    <a:pt x="93" y="411"/>
                  </a:lnTo>
                  <a:lnTo>
                    <a:pt x="131" y="377"/>
                  </a:lnTo>
                  <a:lnTo>
                    <a:pt x="182" y="354"/>
                  </a:lnTo>
                  <a:lnTo>
                    <a:pt x="229" y="346"/>
                  </a:lnTo>
                  <a:lnTo>
                    <a:pt x="253" y="338"/>
                  </a:lnTo>
                  <a:lnTo>
                    <a:pt x="253" y="3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7310880" y="6060960"/>
              <a:ext cx="721800" cy="450360"/>
              <a:chOff x="7310880" y="6060960"/>
              <a:chExt cx="721800" cy="4503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353360" y="6060960"/>
                <a:ext cx="637200" cy="42336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10880" y="6143040"/>
                <a:ext cx="72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/G AT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578000" y="5326200"/>
              <a:ext cx="714240" cy="450360"/>
              <a:chOff x="7578000" y="5326200"/>
              <a:chExt cx="714240" cy="45036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17240" y="5326200"/>
                <a:ext cx="635040" cy="42264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78000" y="540828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/G AT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 flipH="1">
              <a:off x="8035560" y="4184640"/>
              <a:ext cx="214200" cy="11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48360" y="5803920"/>
              <a:ext cx="170208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DL-2 CPDLC I, IA, &amp;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222200" y="461520"/>
            <a:ext cx="758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Route CPDLC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989680" y="4019400"/>
            <a:ext cx="1668600" cy="1281240"/>
            <a:chOff x="5989680" y="4019400"/>
            <a:chExt cx="1668600" cy="1281240"/>
          </a:xfrm>
        </p:grpSpPr>
        <p:sp>
          <p:nvSpPr>
            <p:cNvPr id="1637" name=""/>
            <p:cNvSpPr/>
            <p:nvPr/>
          </p:nvSpPr>
          <p:spPr>
            <a:xfrm>
              <a:off x="5989680" y="4019400"/>
              <a:ext cx="1668600" cy="1281240"/>
            </a:xfrm>
            <a:custGeom>
              <a:avLst/>
              <a:gdLst/>
              <a:ahLst/>
              <a:rect l="l" t="t" r="r" b="b"/>
              <a:pathLst>
                <a:path w="1585" h="1297">
                  <a:moveTo>
                    <a:pt x="253" y="308"/>
                  </a:moveTo>
                  <a:lnTo>
                    <a:pt x="267" y="269"/>
                  </a:lnTo>
                  <a:lnTo>
                    <a:pt x="288" y="235"/>
                  </a:lnTo>
                  <a:lnTo>
                    <a:pt x="316" y="208"/>
                  </a:lnTo>
                  <a:lnTo>
                    <a:pt x="357" y="181"/>
                  </a:lnTo>
                  <a:lnTo>
                    <a:pt x="389" y="169"/>
                  </a:lnTo>
                  <a:lnTo>
                    <a:pt x="430" y="154"/>
                  </a:lnTo>
                  <a:lnTo>
                    <a:pt x="493" y="150"/>
                  </a:lnTo>
                  <a:lnTo>
                    <a:pt x="550" y="154"/>
                  </a:lnTo>
                  <a:lnTo>
                    <a:pt x="604" y="169"/>
                  </a:lnTo>
                  <a:lnTo>
                    <a:pt x="645" y="188"/>
                  </a:lnTo>
                  <a:lnTo>
                    <a:pt x="670" y="127"/>
                  </a:lnTo>
                  <a:lnTo>
                    <a:pt x="699" y="85"/>
                  </a:lnTo>
                  <a:lnTo>
                    <a:pt x="743" y="46"/>
                  </a:lnTo>
                  <a:lnTo>
                    <a:pt x="800" y="19"/>
                  </a:lnTo>
                  <a:lnTo>
                    <a:pt x="865" y="4"/>
                  </a:lnTo>
                  <a:lnTo>
                    <a:pt x="931" y="0"/>
                  </a:lnTo>
                  <a:lnTo>
                    <a:pt x="991" y="8"/>
                  </a:lnTo>
                  <a:lnTo>
                    <a:pt x="1056" y="31"/>
                  </a:lnTo>
                  <a:lnTo>
                    <a:pt x="1108" y="73"/>
                  </a:lnTo>
                  <a:lnTo>
                    <a:pt x="1143" y="112"/>
                  </a:lnTo>
                  <a:lnTo>
                    <a:pt x="1165" y="150"/>
                  </a:lnTo>
                  <a:lnTo>
                    <a:pt x="1173" y="200"/>
                  </a:lnTo>
                  <a:lnTo>
                    <a:pt x="1219" y="185"/>
                  </a:lnTo>
                  <a:lnTo>
                    <a:pt x="1274" y="188"/>
                  </a:lnTo>
                  <a:lnTo>
                    <a:pt x="1320" y="208"/>
                  </a:lnTo>
                  <a:lnTo>
                    <a:pt x="1358" y="242"/>
                  </a:lnTo>
                  <a:lnTo>
                    <a:pt x="1385" y="285"/>
                  </a:lnTo>
                  <a:lnTo>
                    <a:pt x="1396" y="335"/>
                  </a:lnTo>
                  <a:lnTo>
                    <a:pt x="1393" y="373"/>
                  </a:lnTo>
                  <a:lnTo>
                    <a:pt x="1421" y="369"/>
                  </a:lnTo>
                  <a:lnTo>
                    <a:pt x="1456" y="377"/>
                  </a:lnTo>
                  <a:lnTo>
                    <a:pt x="1486" y="392"/>
                  </a:lnTo>
                  <a:lnTo>
                    <a:pt x="1513" y="411"/>
                  </a:lnTo>
                  <a:lnTo>
                    <a:pt x="1530" y="435"/>
                  </a:lnTo>
                  <a:lnTo>
                    <a:pt x="1549" y="454"/>
                  </a:lnTo>
                  <a:lnTo>
                    <a:pt x="1565" y="481"/>
                  </a:lnTo>
                  <a:lnTo>
                    <a:pt x="1573" y="515"/>
                  </a:lnTo>
                  <a:lnTo>
                    <a:pt x="1576" y="542"/>
                  </a:lnTo>
                  <a:lnTo>
                    <a:pt x="1570" y="573"/>
                  </a:lnTo>
                  <a:lnTo>
                    <a:pt x="1560" y="608"/>
                  </a:lnTo>
                  <a:lnTo>
                    <a:pt x="1573" y="642"/>
                  </a:lnTo>
                  <a:lnTo>
                    <a:pt x="1579" y="677"/>
                  </a:lnTo>
                  <a:lnTo>
                    <a:pt x="1581" y="711"/>
                  </a:lnTo>
                  <a:lnTo>
                    <a:pt x="1576" y="758"/>
                  </a:lnTo>
                  <a:lnTo>
                    <a:pt x="1568" y="781"/>
                  </a:lnTo>
                  <a:lnTo>
                    <a:pt x="1551" y="815"/>
                  </a:lnTo>
                  <a:lnTo>
                    <a:pt x="1576" y="858"/>
                  </a:lnTo>
                  <a:lnTo>
                    <a:pt x="1581" y="885"/>
                  </a:lnTo>
                  <a:lnTo>
                    <a:pt x="1584" y="923"/>
                  </a:lnTo>
                  <a:lnTo>
                    <a:pt x="1579" y="961"/>
                  </a:lnTo>
                  <a:lnTo>
                    <a:pt x="1565" y="1008"/>
                  </a:lnTo>
                  <a:lnTo>
                    <a:pt x="1549" y="1042"/>
                  </a:lnTo>
                  <a:lnTo>
                    <a:pt x="1519" y="1069"/>
                  </a:lnTo>
                  <a:lnTo>
                    <a:pt x="1472" y="1104"/>
                  </a:lnTo>
                  <a:lnTo>
                    <a:pt x="1421" y="1111"/>
                  </a:lnTo>
                  <a:lnTo>
                    <a:pt x="1377" y="1104"/>
                  </a:lnTo>
                  <a:lnTo>
                    <a:pt x="1344" y="1084"/>
                  </a:lnTo>
                  <a:lnTo>
                    <a:pt x="1325" y="1119"/>
                  </a:lnTo>
                  <a:lnTo>
                    <a:pt x="1304" y="1146"/>
                  </a:lnTo>
                  <a:lnTo>
                    <a:pt x="1285" y="1158"/>
                  </a:lnTo>
                  <a:lnTo>
                    <a:pt x="1249" y="1181"/>
                  </a:lnTo>
                  <a:lnTo>
                    <a:pt x="1219" y="1192"/>
                  </a:lnTo>
                  <a:lnTo>
                    <a:pt x="1173" y="1208"/>
                  </a:lnTo>
                  <a:lnTo>
                    <a:pt x="1127" y="1204"/>
                  </a:lnTo>
                  <a:lnTo>
                    <a:pt x="1080" y="1188"/>
                  </a:lnTo>
                  <a:lnTo>
                    <a:pt x="1042" y="1165"/>
                  </a:lnTo>
                  <a:lnTo>
                    <a:pt x="1018" y="1208"/>
                  </a:lnTo>
                  <a:lnTo>
                    <a:pt x="996" y="1231"/>
                  </a:lnTo>
                  <a:lnTo>
                    <a:pt x="966" y="1250"/>
                  </a:lnTo>
                  <a:lnTo>
                    <a:pt x="934" y="1269"/>
                  </a:lnTo>
                  <a:lnTo>
                    <a:pt x="898" y="1277"/>
                  </a:lnTo>
                  <a:lnTo>
                    <a:pt x="863" y="1277"/>
                  </a:lnTo>
                  <a:lnTo>
                    <a:pt x="830" y="1269"/>
                  </a:lnTo>
                  <a:lnTo>
                    <a:pt x="789" y="1246"/>
                  </a:lnTo>
                  <a:lnTo>
                    <a:pt x="765" y="1227"/>
                  </a:lnTo>
                  <a:lnTo>
                    <a:pt x="743" y="1250"/>
                  </a:lnTo>
                  <a:lnTo>
                    <a:pt x="721" y="1269"/>
                  </a:lnTo>
                  <a:lnTo>
                    <a:pt x="691" y="1284"/>
                  </a:lnTo>
                  <a:lnTo>
                    <a:pt x="650" y="1296"/>
                  </a:lnTo>
                  <a:lnTo>
                    <a:pt x="607" y="1292"/>
                  </a:lnTo>
                  <a:lnTo>
                    <a:pt x="566" y="1281"/>
                  </a:lnTo>
                  <a:lnTo>
                    <a:pt x="533" y="1258"/>
                  </a:lnTo>
                  <a:lnTo>
                    <a:pt x="501" y="1223"/>
                  </a:lnTo>
                  <a:lnTo>
                    <a:pt x="482" y="1188"/>
                  </a:lnTo>
                  <a:lnTo>
                    <a:pt x="449" y="1200"/>
                  </a:lnTo>
                  <a:lnTo>
                    <a:pt x="411" y="1208"/>
                  </a:lnTo>
                  <a:lnTo>
                    <a:pt x="365" y="1208"/>
                  </a:lnTo>
                  <a:lnTo>
                    <a:pt x="327" y="1188"/>
                  </a:lnTo>
                  <a:lnTo>
                    <a:pt x="297" y="1165"/>
                  </a:lnTo>
                  <a:lnTo>
                    <a:pt x="272" y="1146"/>
                  </a:lnTo>
                  <a:lnTo>
                    <a:pt x="253" y="1108"/>
                  </a:lnTo>
                  <a:lnTo>
                    <a:pt x="248" y="1069"/>
                  </a:lnTo>
                  <a:lnTo>
                    <a:pt x="223" y="1081"/>
                  </a:lnTo>
                  <a:lnTo>
                    <a:pt x="188" y="1084"/>
                  </a:lnTo>
                  <a:lnTo>
                    <a:pt x="150" y="1069"/>
                  </a:lnTo>
                  <a:lnTo>
                    <a:pt x="109" y="1046"/>
                  </a:lnTo>
                  <a:lnTo>
                    <a:pt x="79" y="1011"/>
                  </a:lnTo>
                  <a:lnTo>
                    <a:pt x="57" y="969"/>
                  </a:lnTo>
                  <a:lnTo>
                    <a:pt x="41" y="923"/>
                  </a:lnTo>
                  <a:lnTo>
                    <a:pt x="35" y="861"/>
                  </a:lnTo>
                  <a:lnTo>
                    <a:pt x="38" y="819"/>
                  </a:lnTo>
                  <a:lnTo>
                    <a:pt x="49" y="761"/>
                  </a:lnTo>
                  <a:lnTo>
                    <a:pt x="24" y="727"/>
                  </a:lnTo>
                  <a:lnTo>
                    <a:pt x="11" y="681"/>
                  </a:lnTo>
                  <a:lnTo>
                    <a:pt x="0" y="631"/>
                  </a:lnTo>
                  <a:lnTo>
                    <a:pt x="0" y="581"/>
                  </a:lnTo>
                  <a:lnTo>
                    <a:pt x="11" y="527"/>
                  </a:lnTo>
                  <a:lnTo>
                    <a:pt x="30" y="485"/>
                  </a:lnTo>
                  <a:lnTo>
                    <a:pt x="63" y="442"/>
                  </a:lnTo>
                  <a:lnTo>
                    <a:pt x="93" y="411"/>
                  </a:lnTo>
                  <a:lnTo>
                    <a:pt x="131" y="377"/>
                  </a:lnTo>
                  <a:lnTo>
                    <a:pt x="182" y="354"/>
                  </a:lnTo>
                  <a:lnTo>
                    <a:pt x="229" y="346"/>
                  </a:lnTo>
                  <a:lnTo>
                    <a:pt x="253" y="338"/>
                  </a:lnTo>
                  <a:lnTo>
                    <a:pt x="253" y="3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12720" y="453132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TCCs/Sub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 Providers/CA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562720" y="5700600"/>
            <a:ext cx="179064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3934800" y="3470400"/>
            <a:ext cx="714240" cy="450360"/>
            <a:chOff x="3934800" y="3470400"/>
            <a:chExt cx="714240" cy="450360"/>
          </a:xfrm>
        </p:grpSpPr>
        <p:sp>
          <p:nvSpPr>
            <p:cNvPr id="1641" name=""/>
            <p:cNvSpPr/>
            <p:nvPr/>
          </p:nvSpPr>
          <p:spPr>
            <a:xfrm>
              <a:off x="3974040" y="3470400"/>
              <a:ext cx="635040" cy="4226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934800" y="355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/G 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 flipV="1">
            <a:off x="5797440" y="5178240"/>
            <a:ext cx="5097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784840" y="3225960"/>
            <a:ext cx="325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72360" y="2522520"/>
            <a:ext cx="180720" cy="297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553080" y="2662200"/>
            <a:ext cx="2192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655308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642080" y="2522520"/>
            <a:ext cx="20808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7850160" y="2895120"/>
            <a:ext cx="745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2895480"/>
            <a:ext cx="285840" cy="6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4591080" y="2886120"/>
            <a:ext cx="1240920" cy="596160"/>
            <a:chOff x="4591080" y="2886120"/>
            <a:chExt cx="1240920" cy="596160"/>
          </a:xfrm>
        </p:grpSpPr>
        <p:sp>
          <p:nvSpPr>
            <p:cNvPr id="1652" name=""/>
            <p:cNvSpPr/>
            <p:nvPr/>
          </p:nvSpPr>
          <p:spPr>
            <a:xfrm>
              <a:off x="4640040" y="2933280"/>
              <a:ext cx="1140840" cy="530640"/>
            </a:xfrm>
            <a:prstGeom prst="rect">
              <a:avLst/>
            </a:prstGeom>
            <a:solidFill>
              <a:srgbClr val="d7d7d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591080" y="2886120"/>
              <a:ext cx="1240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und Network Interface (GNI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 flipV="1">
            <a:off x="4290840" y="3133440"/>
            <a:ext cx="347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281480" y="3890880"/>
            <a:ext cx="4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3054240" y="1967040"/>
            <a:ext cx="1154160" cy="412560"/>
            <a:chOff x="3054240" y="1967040"/>
            <a:chExt cx="1154160" cy="412560"/>
          </a:xfrm>
        </p:grpSpPr>
        <p:sp>
          <p:nvSpPr>
            <p:cNvPr id="1657" name=""/>
            <p:cNvSpPr/>
            <p:nvPr/>
          </p:nvSpPr>
          <p:spPr>
            <a:xfrm>
              <a:off x="3054240" y="1967040"/>
              <a:ext cx="1154160" cy="412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95000" y="2022480"/>
              <a:ext cx="872640" cy="299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802400" y="3622680"/>
            <a:ext cx="955080" cy="1265040"/>
            <a:chOff x="4802400" y="3622680"/>
            <a:chExt cx="955080" cy="1265040"/>
          </a:xfrm>
        </p:grpSpPr>
        <p:sp>
          <p:nvSpPr>
            <p:cNvPr id="1660" name=""/>
            <p:cNvSpPr/>
            <p:nvPr/>
          </p:nvSpPr>
          <p:spPr>
            <a:xfrm>
              <a:off x="4865400" y="3622680"/>
              <a:ext cx="828720" cy="12650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02400" y="4094280"/>
              <a:ext cx="9550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ADIN I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2318400" y="3808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CPDLC - Buil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e Inter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436680" y="1720800"/>
            <a:ext cx="7954920" cy="4824360"/>
            <a:chOff x="436680" y="1720800"/>
            <a:chExt cx="7954920" cy="4824360"/>
          </a:xfrm>
        </p:grpSpPr>
        <p:sp>
          <p:nvSpPr>
            <p:cNvPr id="1664" name=""/>
            <p:cNvSpPr/>
            <p:nvPr/>
          </p:nvSpPr>
          <p:spPr>
            <a:xfrm>
              <a:off x="4192560" y="5591520"/>
              <a:ext cx="20210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511440" y="2272680"/>
              <a:ext cx="19080" cy="136548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4320" y="2291040"/>
              <a:ext cx="0" cy="82152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19520" y="2272680"/>
              <a:ext cx="0" cy="120276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79640" y="2328480"/>
              <a:ext cx="0" cy="152388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71720" y="2272680"/>
              <a:ext cx="0" cy="26172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7640" y="2272680"/>
              <a:ext cx="0" cy="4525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1" name=""/>
            <p:cNvCxnSpPr>
              <a:stCxn id="1672" idx="3"/>
            </p:cNvCxnSpPr>
            <p:nvPr/>
          </p:nvCxnSpPr>
          <p:spPr>
            <a:xfrm>
              <a:off x="4057200" y="3203640"/>
              <a:ext cx="2847240" cy="592920"/>
            </a:xfrm>
            <a:prstGeom prst="bentConnector3">
              <a:avLst>
                <a:gd name="adj1" fmla="val 53426"/>
              </a:avLst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3" name=""/>
            <p:cNvSpPr/>
            <p:nvPr/>
          </p:nvSpPr>
          <p:spPr>
            <a:xfrm>
              <a:off x="4170240" y="4763880"/>
              <a:ext cx="23004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58920" y="2725200"/>
              <a:ext cx="472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48308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16640" y="2053800"/>
              <a:ext cx="0" cy="24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4836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94280" y="2053800"/>
              <a:ext cx="0" cy="24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60708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20960" y="1833840"/>
              <a:ext cx="5175000" cy="30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23840" y="2046240"/>
              <a:ext cx="724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790560" y="1720800"/>
              <a:ext cx="702000" cy="622800"/>
              <a:chOff x="790560" y="1720800"/>
              <a:chExt cx="702000" cy="622800"/>
            </a:xfrm>
          </p:grpSpPr>
          <p:sp>
            <p:nvSpPr>
              <p:cNvPr id="1683" name=""/>
              <p:cNvSpPr/>
              <p:nvPr/>
            </p:nvSpPr>
            <p:spPr>
              <a:xfrm>
                <a:off x="1195560" y="2046240"/>
                <a:ext cx="193680" cy="297360"/>
              </a:xfrm>
              <a:prstGeom prst="downArrow">
                <a:avLst>
                  <a:gd name="adj1" fmla="val 50000"/>
                  <a:gd name="adj2" fmla="val 38383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0560" y="17208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9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1625400" y="1726920"/>
              <a:ext cx="702000" cy="616320"/>
              <a:chOff x="1625400" y="1726920"/>
              <a:chExt cx="702000" cy="616320"/>
            </a:xfrm>
          </p:grpSpPr>
          <p:sp>
            <p:nvSpPr>
              <p:cNvPr id="1686" name=""/>
              <p:cNvSpPr/>
              <p:nvPr/>
            </p:nvSpPr>
            <p:spPr>
              <a:xfrm>
                <a:off x="2052720" y="2045880"/>
                <a:ext cx="193680" cy="297360"/>
              </a:xfrm>
              <a:prstGeom prst="downArrow">
                <a:avLst>
                  <a:gd name="adj1" fmla="val 50000"/>
                  <a:gd name="adj2" fmla="val 38383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625400" y="1726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2571480" y="1726920"/>
              <a:ext cx="702000" cy="616320"/>
              <a:chOff x="2571480" y="1726920"/>
              <a:chExt cx="702000" cy="616320"/>
            </a:xfrm>
          </p:grpSpPr>
          <p:sp>
            <p:nvSpPr>
              <p:cNvPr id="1689" name=""/>
              <p:cNvSpPr/>
              <p:nvPr/>
            </p:nvSpPr>
            <p:spPr>
              <a:xfrm>
                <a:off x="2984400" y="2045880"/>
                <a:ext cx="195480" cy="297360"/>
              </a:xfrm>
              <a:prstGeom prst="downArrow">
                <a:avLst>
                  <a:gd name="adj1" fmla="val 50000"/>
                  <a:gd name="adj2" fmla="val 38029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71480" y="1726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"/>
            <p:cNvSpPr/>
            <p:nvPr/>
          </p:nvSpPr>
          <p:spPr>
            <a:xfrm>
              <a:off x="14670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793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44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4018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318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5969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511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7906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03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446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71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0368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701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4192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829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2260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687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511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495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924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195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884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750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2576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3210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451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68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5798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782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59600" y="2053800"/>
              <a:ext cx="193680" cy="297720"/>
            </a:xfrm>
            <a:prstGeom prst="downArrow">
              <a:avLst>
                <a:gd name="adj1" fmla="val 50000"/>
                <a:gd name="adj2" fmla="val 38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3531960" y="1748880"/>
              <a:ext cx="702000" cy="602280"/>
              <a:chOff x="3531960" y="1748880"/>
              <a:chExt cx="702000" cy="602280"/>
            </a:xfrm>
          </p:grpSpPr>
          <p:sp>
            <p:nvSpPr>
              <p:cNvPr id="1722" name=""/>
              <p:cNvSpPr/>
              <p:nvPr/>
            </p:nvSpPr>
            <p:spPr>
              <a:xfrm>
                <a:off x="3932280" y="2053800"/>
                <a:ext cx="195120" cy="297360"/>
              </a:xfrm>
              <a:prstGeom prst="downArrow">
                <a:avLst>
                  <a:gd name="adj1" fmla="val 50000"/>
                  <a:gd name="adj2" fmla="val 381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31960" y="174888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1111320" y="2046240"/>
              <a:ext cx="0" cy="11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54200" y="20462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72080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1144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6213600" y="5036760"/>
              <a:ext cx="761760" cy="777600"/>
              <a:chOff x="6213600" y="5036760"/>
              <a:chExt cx="761760" cy="777600"/>
            </a:xfrm>
          </p:grpSpPr>
          <p:sp>
            <p:nvSpPr>
              <p:cNvPr id="1729" name=""/>
              <p:cNvSpPr/>
              <p:nvPr/>
            </p:nvSpPr>
            <p:spPr>
              <a:xfrm>
                <a:off x="6213600" y="5237280"/>
                <a:ext cx="761760" cy="5770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581880" y="5036760"/>
                <a:ext cx="612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402240" y="5286240"/>
              <a:ext cx="390600" cy="344160"/>
              <a:chOff x="6402240" y="5286240"/>
              <a:chExt cx="390600" cy="344160"/>
            </a:xfrm>
          </p:grpSpPr>
          <p:sp>
            <p:nvSpPr>
              <p:cNvPr id="1732" name=""/>
              <p:cNvSpPr/>
              <p:nvPr/>
            </p:nvSpPr>
            <p:spPr>
              <a:xfrm>
                <a:off x="6402240" y="5286240"/>
                <a:ext cx="225360" cy="44280"/>
              </a:xfrm>
              <a:custGeom>
                <a:avLst/>
                <a:gdLst/>
                <a:ahLst/>
                <a:rect l="l" t="t" r="r" b="b"/>
                <a:pathLst>
                  <a:path w="1166" h="261">
                    <a:moveTo>
                      <a:pt x="234" y="0"/>
                    </a:moveTo>
                    <a:lnTo>
                      <a:pt x="989" y="0"/>
                    </a:lnTo>
                    <a:lnTo>
                      <a:pt x="1166" y="63"/>
                    </a:lnTo>
                    <a:lnTo>
                      <a:pt x="6" y="259"/>
                    </a:lnTo>
                    <a:lnTo>
                      <a:pt x="0" y="261"/>
                    </a:lnTo>
                    <a:lnTo>
                      <a:pt x="0" y="37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e2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402240" y="5286240"/>
                <a:ext cx="25920" cy="3240"/>
              </a:xfrm>
              <a:custGeom>
                <a:avLst/>
                <a:gdLst/>
                <a:ahLst/>
                <a:rect l="l" t="t" r="r" b="b"/>
                <a:pathLst>
                  <a:path w="133" h="22">
                    <a:moveTo>
                      <a:pt x="0" y="22"/>
                    </a:moveTo>
                    <a:lnTo>
                      <a:pt x="0" y="0"/>
                    </a:lnTo>
                    <a:lnTo>
                      <a:pt x="13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02760" y="5286240"/>
                <a:ext cx="190080" cy="62640"/>
              </a:xfrm>
              <a:custGeom>
                <a:avLst/>
                <a:gdLst/>
                <a:ahLst/>
                <a:rect l="l" t="t" r="r" b="b"/>
                <a:pathLst>
                  <a:path w="986" h="369">
                    <a:moveTo>
                      <a:pt x="164" y="318"/>
                    </a:moveTo>
                    <a:lnTo>
                      <a:pt x="164" y="64"/>
                    </a:lnTo>
                    <a:lnTo>
                      <a:pt x="164" y="59"/>
                    </a:lnTo>
                    <a:lnTo>
                      <a:pt x="159" y="58"/>
                    </a:lnTo>
                    <a:lnTo>
                      <a:pt x="0" y="0"/>
                    </a:lnTo>
                    <a:lnTo>
                      <a:pt x="986" y="0"/>
                    </a:lnTo>
                    <a:lnTo>
                      <a:pt x="986" y="369"/>
                    </a:lnTo>
                    <a:lnTo>
                      <a:pt x="662" y="251"/>
                    </a:lnTo>
                    <a:lnTo>
                      <a:pt x="659" y="249"/>
                    </a:lnTo>
                    <a:lnTo>
                      <a:pt x="658" y="251"/>
                    </a:lnTo>
                    <a:lnTo>
                      <a:pt x="178" y="317"/>
                    </a:lnTo>
                    <a:lnTo>
                      <a:pt x="164" y="318"/>
                    </a:lnTo>
                    <a:close/>
                  </a:path>
                </a:pathLst>
              </a:custGeom>
              <a:solidFill>
                <a:srgbClr val="35a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5120" y="5298840"/>
                <a:ext cx="226080" cy="229680"/>
              </a:xfrm>
              <a:custGeom>
                <a:avLst/>
                <a:gdLst/>
                <a:ahLst/>
                <a:rect l="l" t="t" r="r" b="b"/>
                <a:pathLst>
                  <a:path w="1170" h="1351">
                    <a:moveTo>
                      <a:pt x="1166" y="247"/>
                    </a:moveTo>
                    <a:lnTo>
                      <a:pt x="1045" y="263"/>
                    </a:lnTo>
                    <a:lnTo>
                      <a:pt x="1052" y="155"/>
                    </a:lnTo>
                    <a:lnTo>
                      <a:pt x="1053" y="145"/>
                    </a:lnTo>
                    <a:lnTo>
                      <a:pt x="1043" y="146"/>
                    </a:lnTo>
                    <a:lnTo>
                      <a:pt x="659" y="211"/>
                    </a:lnTo>
                    <a:lnTo>
                      <a:pt x="653" y="212"/>
                    </a:lnTo>
                    <a:lnTo>
                      <a:pt x="653" y="218"/>
                    </a:lnTo>
                    <a:lnTo>
                      <a:pt x="655" y="316"/>
                    </a:lnTo>
                    <a:lnTo>
                      <a:pt x="561" y="329"/>
                    </a:lnTo>
                    <a:lnTo>
                      <a:pt x="561" y="330"/>
                    </a:lnTo>
                    <a:lnTo>
                      <a:pt x="557" y="328"/>
                    </a:lnTo>
                    <a:lnTo>
                      <a:pt x="557" y="341"/>
                    </a:lnTo>
                    <a:lnTo>
                      <a:pt x="557" y="1245"/>
                    </a:lnTo>
                    <a:lnTo>
                      <a:pt x="556" y="1238"/>
                    </a:lnTo>
                    <a:lnTo>
                      <a:pt x="0" y="1351"/>
                    </a:lnTo>
                    <a:lnTo>
                      <a:pt x="0" y="198"/>
                    </a:lnTo>
                    <a:lnTo>
                      <a:pt x="1170" y="0"/>
                    </a:lnTo>
                    <a:lnTo>
                      <a:pt x="1170" y="243"/>
                    </a:lnTo>
                    <a:lnTo>
                      <a:pt x="1166" y="247"/>
                    </a:lnTo>
                    <a:close/>
                  </a:path>
                </a:pathLst>
              </a:custGeom>
              <a:solidFill>
                <a:srgbClr val="e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574320" y="5356080"/>
                <a:ext cx="218520" cy="228600"/>
              </a:xfrm>
              <a:custGeom>
                <a:avLst/>
                <a:gdLst/>
                <a:ahLst/>
                <a:rect l="l" t="t" r="r" b="b"/>
                <a:pathLst>
                  <a:path w="1133" h="1345">
                    <a:moveTo>
                      <a:pt x="1016" y="1054"/>
                    </a:moveTo>
                    <a:lnTo>
                      <a:pt x="1011" y="1036"/>
                    </a:lnTo>
                    <a:lnTo>
                      <a:pt x="1004" y="1017"/>
                    </a:lnTo>
                    <a:lnTo>
                      <a:pt x="999" y="1000"/>
                    </a:lnTo>
                    <a:lnTo>
                      <a:pt x="996" y="981"/>
                    </a:lnTo>
                    <a:lnTo>
                      <a:pt x="994" y="975"/>
                    </a:lnTo>
                    <a:lnTo>
                      <a:pt x="994" y="970"/>
                    </a:lnTo>
                    <a:lnTo>
                      <a:pt x="994" y="964"/>
                    </a:lnTo>
                    <a:lnTo>
                      <a:pt x="994" y="959"/>
                    </a:lnTo>
                    <a:lnTo>
                      <a:pt x="994" y="955"/>
                    </a:lnTo>
                    <a:lnTo>
                      <a:pt x="994" y="951"/>
                    </a:lnTo>
                    <a:lnTo>
                      <a:pt x="994" y="949"/>
                    </a:lnTo>
                    <a:lnTo>
                      <a:pt x="993" y="945"/>
                    </a:lnTo>
                    <a:lnTo>
                      <a:pt x="993" y="905"/>
                    </a:lnTo>
                    <a:lnTo>
                      <a:pt x="999" y="866"/>
                    </a:lnTo>
                    <a:lnTo>
                      <a:pt x="1008" y="827"/>
                    </a:lnTo>
                    <a:lnTo>
                      <a:pt x="1019" y="788"/>
                    </a:lnTo>
                    <a:lnTo>
                      <a:pt x="1028" y="756"/>
                    </a:lnTo>
                    <a:lnTo>
                      <a:pt x="1037" y="725"/>
                    </a:lnTo>
                    <a:lnTo>
                      <a:pt x="1043" y="691"/>
                    </a:lnTo>
                    <a:lnTo>
                      <a:pt x="1045" y="658"/>
                    </a:lnTo>
                    <a:lnTo>
                      <a:pt x="1045" y="638"/>
                    </a:lnTo>
                    <a:lnTo>
                      <a:pt x="1043" y="617"/>
                    </a:lnTo>
                    <a:lnTo>
                      <a:pt x="1039" y="597"/>
                    </a:lnTo>
                    <a:lnTo>
                      <a:pt x="1033" y="577"/>
                    </a:lnTo>
                    <a:lnTo>
                      <a:pt x="1040" y="575"/>
                    </a:lnTo>
                    <a:lnTo>
                      <a:pt x="1048" y="575"/>
                    </a:lnTo>
                    <a:lnTo>
                      <a:pt x="1048" y="568"/>
                    </a:lnTo>
                    <a:lnTo>
                      <a:pt x="1048" y="523"/>
                    </a:lnTo>
                    <a:lnTo>
                      <a:pt x="1048" y="514"/>
                    </a:lnTo>
                    <a:lnTo>
                      <a:pt x="1039" y="516"/>
                    </a:lnTo>
                    <a:lnTo>
                      <a:pt x="1007" y="519"/>
                    </a:lnTo>
                    <a:lnTo>
                      <a:pt x="1008" y="523"/>
                    </a:lnTo>
                    <a:lnTo>
                      <a:pt x="1004" y="517"/>
                    </a:lnTo>
                    <a:lnTo>
                      <a:pt x="999" y="511"/>
                    </a:lnTo>
                    <a:lnTo>
                      <a:pt x="994" y="505"/>
                    </a:lnTo>
                    <a:lnTo>
                      <a:pt x="991" y="500"/>
                    </a:lnTo>
                    <a:lnTo>
                      <a:pt x="986" y="493"/>
                    </a:lnTo>
                    <a:lnTo>
                      <a:pt x="981" y="487"/>
                    </a:lnTo>
                    <a:lnTo>
                      <a:pt x="976" y="482"/>
                    </a:lnTo>
                    <a:lnTo>
                      <a:pt x="971" y="476"/>
                    </a:lnTo>
                    <a:lnTo>
                      <a:pt x="972" y="476"/>
                    </a:lnTo>
                    <a:lnTo>
                      <a:pt x="974" y="411"/>
                    </a:lnTo>
                    <a:lnTo>
                      <a:pt x="974" y="402"/>
                    </a:lnTo>
                    <a:lnTo>
                      <a:pt x="966" y="404"/>
                    </a:lnTo>
                    <a:lnTo>
                      <a:pt x="771" y="442"/>
                    </a:lnTo>
                    <a:lnTo>
                      <a:pt x="767" y="444"/>
                    </a:lnTo>
                    <a:lnTo>
                      <a:pt x="767" y="450"/>
                    </a:lnTo>
                    <a:lnTo>
                      <a:pt x="767" y="507"/>
                    </a:lnTo>
                    <a:lnTo>
                      <a:pt x="767" y="516"/>
                    </a:lnTo>
                    <a:lnTo>
                      <a:pt x="775" y="514"/>
                    </a:lnTo>
                    <a:lnTo>
                      <a:pt x="831" y="503"/>
                    </a:lnTo>
                    <a:lnTo>
                      <a:pt x="840" y="512"/>
                    </a:lnTo>
                    <a:lnTo>
                      <a:pt x="850" y="522"/>
                    </a:lnTo>
                    <a:lnTo>
                      <a:pt x="859" y="533"/>
                    </a:lnTo>
                    <a:lnTo>
                      <a:pt x="866" y="546"/>
                    </a:lnTo>
                    <a:lnTo>
                      <a:pt x="654" y="580"/>
                    </a:lnTo>
                    <a:lnTo>
                      <a:pt x="647" y="582"/>
                    </a:lnTo>
                    <a:lnTo>
                      <a:pt x="647" y="588"/>
                    </a:lnTo>
                    <a:lnTo>
                      <a:pt x="647" y="634"/>
                    </a:lnTo>
                    <a:lnTo>
                      <a:pt x="647" y="643"/>
                    </a:lnTo>
                    <a:lnTo>
                      <a:pt x="657" y="640"/>
                    </a:lnTo>
                    <a:lnTo>
                      <a:pt x="897" y="602"/>
                    </a:lnTo>
                    <a:lnTo>
                      <a:pt x="906" y="633"/>
                    </a:lnTo>
                    <a:lnTo>
                      <a:pt x="911" y="666"/>
                    </a:lnTo>
                    <a:lnTo>
                      <a:pt x="911" y="700"/>
                    </a:lnTo>
                    <a:lnTo>
                      <a:pt x="903" y="735"/>
                    </a:lnTo>
                    <a:lnTo>
                      <a:pt x="902" y="741"/>
                    </a:lnTo>
                    <a:lnTo>
                      <a:pt x="898" y="754"/>
                    </a:lnTo>
                    <a:lnTo>
                      <a:pt x="893" y="767"/>
                    </a:lnTo>
                    <a:lnTo>
                      <a:pt x="892" y="773"/>
                    </a:lnTo>
                    <a:lnTo>
                      <a:pt x="884" y="803"/>
                    </a:lnTo>
                    <a:lnTo>
                      <a:pt x="875" y="832"/>
                    </a:lnTo>
                    <a:lnTo>
                      <a:pt x="869" y="861"/>
                    </a:lnTo>
                    <a:lnTo>
                      <a:pt x="862" y="889"/>
                    </a:lnTo>
                    <a:lnTo>
                      <a:pt x="859" y="919"/>
                    </a:lnTo>
                    <a:lnTo>
                      <a:pt x="857" y="949"/>
                    </a:lnTo>
                    <a:lnTo>
                      <a:pt x="859" y="979"/>
                    </a:lnTo>
                    <a:lnTo>
                      <a:pt x="862" y="1010"/>
                    </a:lnTo>
                    <a:lnTo>
                      <a:pt x="866" y="1029"/>
                    </a:lnTo>
                    <a:lnTo>
                      <a:pt x="871" y="1047"/>
                    </a:lnTo>
                    <a:lnTo>
                      <a:pt x="875" y="1066"/>
                    </a:lnTo>
                    <a:lnTo>
                      <a:pt x="880" y="1083"/>
                    </a:lnTo>
                    <a:lnTo>
                      <a:pt x="887" y="1111"/>
                    </a:lnTo>
                    <a:lnTo>
                      <a:pt x="895" y="1138"/>
                    </a:lnTo>
                    <a:lnTo>
                      <a:pt x="900" y="1166"/>
                    </a:lnTo>
                    <a:lnTo>
                      <a:pt x="902" y="1193"/>
                    </a:lnTo>
                    <a:lnTo>
                      <a:pt x="0" y="1345"/>
                    </a:lnTo>
                    <a:lnTo>
                      <a:pt x="0" y="192"/>
                    </a:lnTo>
                    <a:lnTo>
                      <a:pt x="1133" y="0"/>
                    </a:lnTo>
                    <a:lnTo>
                      <a:pt x="1133" y="1153"/>
                    </a:lnTo>
                    <a:lnTo>
                      <a:pt x="1039" y="1171"/>
                    </a:lnTo>
                    <a:lnTo>
                      <a:pt x="1037" y="1141"/>
                    </a:lnTo>
                    <a:lnTo>
                      <a:pt x="1032" y="1111"/>
                    </a:lnTo>
                    <a:lnTo>
                      <a:pt x="1024" y="1082"/>
                    </a:lnTo>
                    <a:lnTo>
                      <a:pt x="1016" y="1054"/>
                    </a:lnTo>
                    <a:close/>
                  </a:path>
                </a:pathLst>
              </a:custGeom>
              <a:solidFill>
                <a:srgbClr val="e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759360" y="560736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111" y="0"/>
                    </a:moveTo>
                    <a:lnTo>
                      <a:pt x="116" y="8"/>
                    </a:lnTo>
                    <a:lnTo>
                      <a:pt x="119" y="14"/>
                    </a:lnTo>
                    <a:lnTo>
                      <a:pt x="120" y="21"/>
                    </a:lnTo>
                    <a:lnTo>
                      <a:pt x="120" y="29"/>
                    </a:lnTo>
                    <a:lnTo>
                      <a:pt x="116" y="41"/>
                    </a:lnTo>
                    <a:lnTo>
                      <a:pt x="110" y="54"/>
                    </a:lnTo>
                    <a:lnTo>
                      <a:pt x="101" y="65"/>
                    </a:lnTo>
                    <a:lnTo>
                      <a:pt x="91" y="72"/>
                    </a:lnTo>
                    <a:lnTo>
                      <a:pt x="86" y="74"/>
                    </a:lnTo>
                    <a:lnTo>
                      <a:pt x="83" y="76"/>
                    </a:lnTo>
                    <a:lnTo>
                      <a:pt x="79" y="77"/>
                    </a:lnTo>
                    <a:lnTo>
                      <a:pt x="74" y="80"/>
                    </a:lnTo>
                    <a:lnTo>
                      <a:pt x="23" y="91"/>
                    </a:lnTo>
                    <a:lnTo>
                      <a:pt x="0" y="95"/>
                    </a:lnTo>
                    <a:lnTo>
                      <a:pt x="7" y="86"/>
                    </a:lnTo>
                    <a:lnTo>
                      <a:pt x="12" y="77"/>
                    </a:lnTo>
                    <a:lnTo>
                      <a:pt x="15" y="69"/>
                    </a:lnTo>
                    <a:lnTo>
                      <a:pt x="17" y="59"/>
                    </a:lnTo>
                    <a:lnTo>
                      <a:pt x="18" y="49"/>
                    </a:lnTo>
                    <a:lnTo>
                      <a:pt x="18" y="39"/>
                    </a:lnTo>
                    <a:lnTo>
                      <a:pt x="15" y="30"/>
                    </a:lnTo>
                    <a:lnTo>
                      <a:pt x="12" y="2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d1f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34160" y="5433840"/>
                <a:ext cx="38160" cy="191880"/>
              </a:xfrm>
              <a:custGeom>
                <a:avLst/>
                <a:gdLst/>
                <a:ahLst/>
                <a:rect l="l" t="t" r="r" b="b"/>
                <a:pathLst>
                  <a:path w="199" h="1128">
                    <a:moveTo>
                      <a:pt x="116" y="1031"/>
                    </a:moveTo>
                    <a:lnTo>
                      <a:pt x="109" y="1032"/>
                    </a:lnTo>
                    <a:lnTo>
                      <a:pt x="117" y="1041"/>
                    </a:lnTo>
                    <a:lnTo>
                      <a:pt x="119" y="1046"/>
                    </a:lnTo>
                    <a:lnTo>
                      <a:pt x="121" y="1051"/>
                    </a:lnTo>
                    <a:lnTo>
                      <a:pt x="123" y="1057"/>
                    </a:lnTo>
                    <a:lnTo>
                      <a:pt x="125" y="1062"/>
                    </a:lnTo>
                    <a:lnTo>
                      <a:pt x="127" y="1063"/>
                    </a:lnTo>
                    <a:lnTo>
                      <a:pt x="127" y="1064"/>
                    </a:lnTo>
                    <a:lnTo>
                      <a:pt x="127" y="1064"/>
                    </a:lnTo>
                    <a:lnTo>
                      <a:pt x="127" y="1064"/>
                    </a:lnTo>
                    <a:lnTo>
                      <a:pt x="127" y="1068"/>
                    </a:lnTo>
                    <a:lnTo>
                      <a:pt x="127" y="1071"/>
                    </a:lnTo>
                    <a:lnTo>
                      <a:pt x="129" y="1073"/>
                    </a:lnTo>
                    <a:lnTo>
                      <a:pt x="130" y="1076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25" y="1092"/>
                    </a:lnTo>
                    <a:lnTo>
                      <a:pt x="118" y="1105"/>
                    </a:lnTo>
                    <a:lnTo>
                      <a:pt x="107" y="1117"/>
                    </a:lnTo>
                    <a:lnTo>
                      <a:pt x="94" y="1125"/>
                    </a:lnTo>
                    <a:lnTo>
                      <a:pt x="96" y="1128"/>
                    </a:lnTo>
                    <a:lnTo>
                      <a:pt x="87" y="1127"/>
                    </a:lnTo>
                    <a:lnTo>
                      <a:pt x="79" y="1125"/>
                    </a:lnTo>
                    <a:lnTo>
                      <a:pt x="71" y="1124"/>
                    </a:lnTo>
                    <a:lnTo>
                      <a:pt x="63" y="1123"/>
                    </a:lnTo>
                    <a:lnTo>
                      <a:pt x="53" y="1118"/>
                    </a:lnTo>
                    <a:lnTo>
                      <a:pt x="45" y="1112"/>
                    </a:lnTo>
                    <a:lnTo>
                      <a:pt x="37" y="1104"/>
                    </a:lnTo>
                    <a:lnTo>
                      <a:pt x="31" y="1096"/>
                    </a:lnTo>
                    <a:lnTo>
                      <a:pt x="26" y="1088"/>
                    </a:lnTo>
                    <a:lnTo>
                      <a:pt x="22" y="1079"/>
                    </a:lnTo>
                    <a:lnTo>
                      <a:pt x="18" y="1072"/>
                    </a:lnTo>
                    <a:lnTo>
                      <a:pt x="17" y="1066"/>
                    </a:lnTo>
                    <a:lnTo>
                      <a:pt x="11" y="1038"/>
                    </a:lnTo>
                    <a:lnTo>
                      <a:pt x="11" y="1008"/>
                    </a:lnTo>
                    <a:lnTo>
                      <a:pt x="17" y="976"/>
                    </a:lnTo>
                    <a:lnTo>
                      <a:pt x="27" y="940"/>
                    </a:lnTo>
                    <a:lnTo>
                      <a:pt x="32" y="925"/>
                    </a:lnTo>
                    <a:lnTo>
                      <a:pt x="38" y="910"/>
                    </a:lnTo>
                    <a:lnTo>
                      <a:pt x="46" y="895"/>
                    </a:lnTo>
                    <a:lnTo>
                      <a:pt x="53" y="881"/>
                    </a:lnTo>
                    <a:lnTo>
                      <a:pt x="61" y="865"/>
                    </a:lnTo>
                    <a:lnTo>
                      <a:pt x="68" y="849"/>
                    </a:lnTo>
                    <a:lnTo>
                      <a:pt x="74" y="833"/>
                    </a:lnTo>
                    <a:lnTo>
                      <a:pt x="81" y="815"/>
                    </a:lnTo>
                    <a:lnTo>
                      <a:pt x="91" y="766"/>
                    </a:lnTo>
                    <a:lnTo>
                      <a:pt x="89" y="717"/>
                    </a:lnTo>
                    <a:lnTo>
                      <a:pt x="81" y="670"/>
                    </a:lnTo>
                    <a:lnTo>
                      <a:pt x="68" y="622"/>
                    </a:lnTo>
                    <a:lnTo>
                      <a:pt x="63" y="605"/>
                    </a:lnTo>
                    <a:lnTo>
                      <a:pt x="58" y="586"/>
                    </a:lnTo>
                    <a:lnTo>
                      <a:pt x="55" y="569"/>
                    </a:lnTo>
                    <a:lnTo>
                      <a:pt x="51" y="550"/>
                    </a:lnTo>
                    <a:lnTo>
                      <a:pt x="47" y="522"/>
                    </a:lnTo>
                    <a:lnTo>
                      <a:pt x="46" y="493"/>
                    </a:lnTo>
                    <a:lnTo>
                      <a:pt x="47" y="464"/>
                    </a:lnTo>
                    <a:lnTo>
                      <a:pt x="51" y="436"/>
                    </a:lnTo>
                    <a:lnTo>
                      <a:pt x="57" y="408"/>
                    </a:lnTo>
                    <a:lnTo>
                      <a:pt x="63" y="380"/>
                    </a:lnTo>
                    <a:lnTo>
                      <a:pt x="71" y="351"/>
                    </a:lnTo>
                    <a:lnTo>
                      <a:pt x="79" y="322"/>
                    </a:lnTo>
                    <a:lnTo>
                      <a:pt x="91" y="284"/>
                    </a:lnTo>
                    <a:lnTo>
                      <a:pt x="98" y="244"/>
                    </a:lnTo>
                    <a:lnTo>
                      <a:pt x="99" y="205"/>
                    </a:lnTo>
                    <a:lnTo>
                      <a:pt x="93" y="169"/>
                    </a:lnTo>
                    <a:lnTo>
                      <a:pt x="82" y="134"/>
                    </a:lnTo>
                    <a:lnTo>
                      <a:pt x="66" y="101"/>
                    </a:lnTo>
                    <a:lnTo>
                      <a:pt x="46" y="71"/>
                    </a:lnTo>
                    <a:lnTo>
                      <a:pt x="23" y="44"/>
                    </a:lnTo>
                    <a:lnTo>
                      <a:pt x="0" y="20"/>
                    </a:lnTo>
                    <a:lnTo>
                      <a:pt x="97" y="0"/>
                    </a:lnTo>
                    <a:lnTo>
                      <a:pt x="113" y="15"/>
                    </a:lnTo>
                    <a:lnTo>
                      <a:pt x="130" y="32"/>
                    </a:lnTo>
                    <a:lnTo>
                      <a:pt x="148" y="53"/>
                    </a:lnTo>
                    <a:lnTo>
                      <a:pt x="165" y="78"/>
                    </a:lnTo>
                    <a:lnTo>
                      <a:pt x="179" y="105"/>
                    </a:lnTo>
                    <a:lnTo>
                      <a:pt x="190" y="134"/>
                    </a:lnTo>
                    <a:lnTo>
                      <a:pt x="198" y="167"/>
                    </a:lnTo>
                    <a:lnTo>
                      <a:pt x="199" y="202"/>
                    </a:lnTo>
                    <a:lnTo>
                      <a:pt x="196" y="233"/>
                    </a:lnTo>
                    <a:lnTo>
                      <a:pt x="190" y="265"/>
                    </a:lnTo>
                    <a:lnTo>
                      <a:pt x="182" y="296"/>
                    </a:lnTo>
                    <a:lnTo>
                      <a:pt x="173" y="327"/>
                    </a:lnTo>
                    <a:lnTo>
                      <a:pt x="162" y="367"/>
                    </a:lnTo>
                    <a:lnTo>
                      <a:pt x="153" y="407"/>
                    </a:lnTo>
                    <a:lnTo>
                      <a:pt x="147" y="448"/>
                    </a:lnTo>
                    <a:lnTo>
                      <a:pt x="147" y="490"/>
                    </a:lnTo>
                    <a:lnTo>
                      <a:pt x="148" y="493"/>
                    </a:lnTo>
                    <a:lnTo>
                      <a:pt x="148" y="497"/>
                    </a:lnTo>
                    <a:lnTo>
                      <a:pt x="148" y="500"/>
                    </a:lnTo>
                    <a:lnTo>
                      <a:pt x="148" y="503"/>
                    </a:lnTo>
                    <a:lnTo>
                      <a:pt x="148" y="509"/>
                    </a:lnTo>
                    <a:lnTo>
                      <a:pt x="148" y="515"/>
                    </a:lnTo>
                    <a:lnTo>
                      <a:pt x="149" y="523"/>
                    </a:lnTo>
                    <a:lnTo>
                      <a:pt x="150" y="529"/>
                    </a:lnTo>
                    <a:lnTo>
                      <a:pt x="154" y="548"/>
                    </a:lnTo>
                    <a:lnTo>
                      <a:pt x="159" y="566"/>
                    </a:lnTo>
                    <a:lnTo>
                      <a:pt x="165" y="585"/>
                    </a:lnTo>
                    <a:lnTo>
                      <a:pt x="170" y="603"/>
                    </a:lnTo>
                    <a:lnTo>
                      <a:pt x="179" y="634"/>
                    </a:lnTo>
                    <a:lnTo>
                      <a:pt x="188" y="664"/>
                    </a:lnTo>
                    <a:lnTo>
                      <a:pt x="191" y="695"/>
                    </a:lnTo>
                    <a:lnTo>
                      <a:pt x="193" y="727"/>
                    </a:lnTo>
                    <a:lnTo>
                      <a:pt x="191" y="743"/>
                    </a:lnTo>
                    <a:lnTo>
                      <a:pt x="188" y="759"/>
                    </a:lnTo>
                    <a:lnTo>
                      <a:pt x="184" y="774"/>
                    </a:lnTo>
                    <a:lnTo>
                      <a:pt x="179" y="789"/>
                    </a:lnTo>
                    <a:lnTo>
                      <a:pt x="174" y="804"/>
                    </a:lnTo>
                    <a:lnTo>
                      <a:pt x="168" y="820"/>
                    </a:lnTo>
                    <a:lnTo>
                      <a:pt x="162" y="835"/>
                    </a:lnTo>
                    <a:lnTo>
                      <a:pt x="154" y="850"/>
                    </a:lnTo>
                    <a:lnTo>
                      <a:pt x="148" y="864"/>
                    </a:lnTo>
                    <a:lnTo>
                      <a:pt x="142" y="879"/>
                    </a:lnTo>
                    <a:lnTo>
                      <a:pt x="135" y="894"/>
                    </a:lnTo>
                    <a:lnTo>
                      <a:pt x="129" y="910"/>
                    </a:lnTo>
                    <a:lnTo>
                      <a:pt x="121" y="936"/>
                    </a:lnTo>
                    <a:lnTo>
                      <a:pt x="114" y="966"/>
                    </a:lnTo>
                    <a:lnTo>
                      <a:pt x="112" y="998"/>
                    </a:lnTo>
                    <a:lnTo>
                      <a:pt x="116" y="10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702480" y="5451120"/>
                <a:ext cx="43920" cy="11160"/>
              </a:xfrm>
              <a:custGeom>
                <a:avLst/>
                <a:gdLst/>
                <a:ahLst/>
                <a:rect l="l" t="t" r="r" b="b"/>
                <a:pathLst>
                  <a:path w="228" h="65">
                    <a:moveTo>
                      <a:pt x="0" y="35"/>
                    </a:moveTo>
                    <a:lnTo>
                      <a:pt x="213" y="0"/>
                    </a:lnTo>
                    <a:lnTo>
                      <a:pt x="217" y="7"/>
                    </a:lnTo>
                    <a:lnTo>
                      <a:pt x="221" y="14"/>
                    </a:lnTo>
                    <a:lnTo>
                      <a:pt x="224" y="21"/>
                    </a:lnTo>
                    <a:lnTo>
                      <a:pt x="228" y="29"/>
                    </a:lnTo>
                    <a:lnTo>
                      <a:pt x="0" y="6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725160" y="5427720"/>
                <a:ext cx="33840" cy="13320"/>
              </a:xfrm>
              <a:custGeom>
                <a:avLst/>
                <a:gdLst/>
                <a:ahLst/>
                <a:rect l="l" t="t" r="r" b="b"/>
                <a:pathLst>
                  <a:path w="178" h="77">
                    <a:moveTo>
                      <a:pt x="0" y="35"/>
                    </a:moveTo>
                    <a:lnTo>
                      <a:pt x="178" y="0"/>
                    </a:lnTo>
                    <a:lnTo>
                      <a:pt x="177" y="41"/>
                    </a:lnTo>
                    <a:lnTo>
                      <a:pt x="171" y="35"/>
                    </a:lnTo>
                    <a:lnTo>
                      <a:pt x="165" y="30"/>
                    </a:lnTo>
                    <a:lnTo>
                      <a:pt x="159" y="24"/>
                    </a:lnTo>
                    <a:lnTo>
                      <a:pt x="152" y="19"/>
                    </a:lnTo>
                    <a:lnTo>
                      <a:pt x="149" y="16"/>
                    </a:lnTo>
                    <a:lnTo>
                      <a:pt x="145" y="16"/>
                    </a:lnTo>
                    <a:lnTo>
                      <a:pt x="27" y="42"/>
                    </a:lnTo>
                    <a:lnTo>
                      <a:pt x="9" y="46"/>
                    </a:lnTo>
                    <a:lnTo>
                      <a:pt x="23" y="57"/>
                    </a:lnTo>
                    <a:lnTo>
                      <a:pt x="27" y="60"/>
                    </a:lnTo>
                    <a:lnTo>
                      <a:pt x="30" y="62"/>
                    </a:lnTo>
                    <a:lnTo>
                      <a:pt x="33" y="66"/>
                    </a:lnTo>
                    <a:lnTo>
                      <a:pt x="37" y="69"/>
                    </a:lnTo>
                    <a:lnTo>
                      <a:pt x="0" y="7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70160" y="5446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8" y="30"/>
                    </a:moveTo>
                    <a:lnTo>
                      <a:pt x="14" y="30"/>
                    </a:lnTo>
                    <a:lnTo>
                      <a:pt x="10" y="22"/>
                    </a:lnTo>
                    <a:lnTo>
                      <a:pt x="8" y="16"/>
                    </a:lnTo>
                    <a:lnTo>
                      <a:pt x="4" y="9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534360" y="5326560"/>
                <a:ext cx="70920" cy="25200"/>
              </a:xfrm>
              <a:custGeom>
                <a:avLst/>
                <a:gdLst/>
                <a:ahLst/>
                <a:rect l="l" t="t" r="r" b="b"/>
                <a:pathLst>
                  <a:path w="369" h="152">
                    <a:moveTo>
                      <a:pt x="0" y="64"/>
                    </a:moveTo>
                    <a:lnTo>
                      <a:pt x="369" y="0"/>
                    </a:lnTo>
                    <a:lnTo>
                      <a:pt x="362" y="102"/>
                    </a:lnTo>
                    <a:lnTo>
                      <a:pt x="349" y="105"/>
                    </a:lnTo>
                    <a:lnTo>
                      <a:pt x="346" y="90"/>
                    </a:lnTo>
                    <a:lnTo>
                      <a:pt x="341" y="76"/>
                    </a:lnTo>
                    <a:lnTo>
                      <a:pt x="334" y="64"/>
                    </a:lnTo>
                    <a:lnTo>
                      <a:pt x="324" y="52"/>
                    </a:lnTo>
                    <a:lnTo>
                      <a:pt x="318" y="49"/>
                    </a:lnTo>
                    <a:lnTo>
                      <a:pt x="313" y="45"/>
                    </a:lnTo>
                    <a:lnTo>
                      <a:pt x="306" y="41"/>
                    </a:lnTo>
                    <a:lnTo>
                      <a:pt x="300" y="40"/>
                    </a:lnTo>
                    <a:lnTo>
                      <a:pt x="293" y="39"/>
                    </a:lnTo>
                    <a:lnTo>
                      <a:pt x="287" y="37"/>
                    </a:lnTo>
                    <a:lnTo>
                      <a:pt x="279" y="37"/>
                    </a:lnTo>
                    <a:lnTo>
                      <a:pt x="272" y="39"/>
                    </a:lnTo>
                    <a:lnTo>
                      <a:pt x="257" y="42"/>
                    </a:lnTo>
                    <a:lnTo>
                      <a:pt x="243" y="49"/>
                    </a:lnTo>
                    <a:lnTo>
                      <a:pt x="229" y="59"/>
                    </a:lnTo>
                    <a:lnTo>
                      <a:pt x="219" y="68"/>
                    </a:lnTo>
                    <a:lnTo>
                      <a:pt x="209" y="82"/>
                    </a:lnTo>
                    <a:lnTo>
                      <a:pt x="202" y="96"/>
                    </a:lnTo>
                    <a:lnTo>
                      <a:pt x="198" y="111"/>
                    </a:lnTo>
                    <a:lnTo>
                      <a:pt x="196" y="126"/>
                    </a:lnTo>
                    <a:lnTo>
                      <a:pt x="166" y="129"/>
                    </a:lnTo>
                    <a:lnTo>
                      <a:pt x="163" y="116"/>
                    </a:lnTo>
                    <a:lnTo>
                      <a:pt x="160" y="103"/>
                    </a:lnTo>
                    <a:lnTo>
                      <a:pt x="152" y="92"/>
                    </a:lnTo>
                    <a:lnTo>
                      <a:pt x="143" y="83"/>
                    </a:lnTo>
                    <a:lnTo>
                      <a:pt x="138" y="80"/>
                    </a:lnTo>
                    <a:lnTo>
                      <a:pt x="132" y="76"/>
                    </a:lnTo>
                    <a:lnTo>
                      <a:pt x="126" y="72"/>
                    </a:lnTo>
                    <a:lnTo>
                      <a:pt x="118" y="70"/>
                    </a:lnTo>
                    <a:lnTo>
                      <a:pt x="111" y="68"/>
                    </a:lnTo>
                    <a:lnTo>
                      <a:pt x="105" y="68"/>
                    </a:lnTo>
                    <a:lnTo>
                      <a:pt x="96" y="68"/>
                    </a:lnTo>
                    <a:lnTo>
                      <a:pt x="89" y="68"/>
                    </a:lnTo>
                    <a:lnTo>
                      <a:pt x="74" y="72"/>
                    </a:lnTo>
                    <a:lnTo>
                      <a:pt x="61" y="78"/>
                    </a:lnTo>
                    <a:lnTo>
                      <a:pt x="49" y="87"/>
                    </a:lnTo>
                    <a:lnTo>
                      <a:pt x="38" y="97"/>
                    </a:lnTo>
                    <a:lnTo>
                      <a:pt x="29" y="110"/>
                    </a:lnTo>
                    <a:lnTo>
                      <a:pt x="21" y="122"/>
                    </a:lnTo>
                    <a:lnTo>
                      <a:pt x="16" y="136"/>
                    </a:lnTo>
                    <a:lnTo>
                      <a:pt x="14" y="151"/>
                    </a:lnTo>
                    <a:lnTo>
                      <a:pt x="1" y="15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575040" y="5335200"/>
                <a:ext cx="23400" cy="12240"/>
              </a:xfrm>
              <a:custGeom>
                <a:avLst/>
                <a:gdLst/>
                <a:ahLst/>
                <a:rect l="l" t="t" r="r" b="b"/>
                <a:pathLst>
                  <a:path w="123" h="71">
                    <a:moveTo>
                      <a:pt x="123" y="54"/>
                    </a:moveTo>
                    <a:lnTo>
                      <a:pt x="0" y="71"/>
                    </a:lnTo>
                    <a:lnTo>
                      <a:pt x="2" y="59"/>
                    </a:lnTo>
                    <a:lnTo>
                      <a:pt x="6" y="46"/>
                    </a:lnTo>
                    <a:lnTo>
                      <a:pt x="12" y="35"/>
                    </a:lnTo>
                    <a:lnTo>
                      <a:pt x="20" y="25"/>
                    </a:lnTo>
                    <a:lnTo>
                      <a:pt x="29" y="16"/>
                    </a:lnTo>
                    <a:lnTo>
                      <a:pt x="39" y="10"/>
                    </a:lnTo>
                    <a:lnTo>
                      <a:pt x="51" y="4"/>
                    </a:lnTo>
                    <a:lnTo>
                      <a:pt x="63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9" y="2"/>
                    </a:lnTo>
                    <a:lnTo>
                      <a:pt x="84" y="3"/>
                    </a:lnTo>
                    <a:lnTo>
                      <a:pt x="89" y="4"/>
                    </a:lnTo>
                    <a:lnTo>
                      <a:pt x="94" y="7"/>
                    </a:lnTo>
                    <a:lnTo>
                      <a:pt x="99" y="9"/>
                    </a:lnTo>
                    <a:lnTo>
                      <a:pt x="103" y="13"/>
                    </a:lnTo>
                    <a:lnTo>
                      <a:pt x="112" y="21"/>
                    </a:lnTo>
                    <a:lnTo>
                      <a:pt x="118" y="31"/>
                    </a:lnTo>
                    <a:lnTo>
                      <a:pt x="122" y="41"/>
                    </a:lnTo>
                    <a:lnTo>
                      <a:pt x="123" y="5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40120" y="5340240"/>
                <a:ext cx="23040" cy="11160"/>
              </a:xfrm>
              <a:custGeom>
                <a:avLst/>
                <a:gdLst/>
                <a:ahLst/>
                <a:rect l="l" t="t" r="r" b="b"/>
                <a:pathLst>
                  <a:path w="122" h="66">
                    <a:moveTo>
                      <a:pt x="122" y="50"/>
                    </a:moveTo>
                    <a:lnTo>
                      <a:pt x="0" y="66"/>
                    </a:lnTo>
                    <a:lnTo>
                      <a:pt x="2" y="55"/>
                    </a:lnTo>
                    <a:lnTo>
                      <a:pt x="7" y="44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30" y="16"/>
                    </a:lnTo>
                    <a:lnTo>
                      <a:pt x="40" y="10"/>
                    </a:lnTo>
                    <a:lnTo>
                      <a:pt x="51" y="5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1"/>
                    </a:lnTo>
                    <a:lnTo>
                      <a:pt x="86" y="3"/>
                    </a:lnTo>
                    <a:lnTo>
                      <a:pt x="91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3"/>
                    </a:lnTo>
                    <a:lnTo>
                      <a:pt x="112" y="20"/>
                    </a:lnTo>
                    <a:lnTo>
                      <a:pt x="118" y="29"/>
                    </a:lnTo>
                    <a:lnTo>
                      <a:pt x="121" y="39"/>
                    </a:lnTo>
                    <a:lnTo>
                      <a:pt x="122" y="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517440" y="5330880"/>
                <a:ext cx="275400" cy="55080"/>
              </a:xfrm>
              <a:custGeom>
                <a:avLst/>
                <a:gdLst/>
                <a:ahLst/>
                <a:rect l="l" t="t" r="r" b="b"/>
                <a:pathLst>
                  <a:path w="1427" h="323">
                    <a:moveTo>
                      <a:pt x="1099" y="0"/>
                    </a:moveTo>
                    <a:lnTo>
                      <a:pt x="1427" y="119"/>
                    </a:lnTo>
                    <a:lnTo>
                      <a:pt x="1427" y="130"/>
                    </a:lnTo>
                    <a:lnTo>
                      <a:pt x="289" y="323"/>
                    </a:lnTo>
                    <a:lnTo>
                      <a:pt x="0" y="150"/>
                    </a:lnTo>
                    <a:lnTo>
                      <a:pt x="1099" y="0"/>
                    </a:lnTo>
                    <a:close/>
                  </a:path>
                </a:pathLst>
              </a:custGeom>
              <a:solidFill>
                <a:srgbClr val="e2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515640" y="5359320"/>
                <a:ext cx="55440" cy="225000"/>
              </a:xfrm>
              <a:custGeom>
                <a:avLst/>
                <a:gdLst/>
                <a:ahLst/>
                <a:rect l="l" t="t" r="r" b="b"/>
                <a:pathLst>
                  <a:path w="287" h="1322">
                    <a:moveTo>
                      <a:pt x="0" y="0"/>
                    </a:moveTo>
                    <a:lnTo>
                      <a:pt x="287" y="172"/>
                    </a:lnTo>
                    <a:lnTo>
                      <a:pt x="287" y="1322"/>
                    </a:lnTo>
                    <a:lnTo>
                      <a:pt x="0" y="11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e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402240" y="5511960"/>
                <a:ext cx="390600" cy="118440"/>
              </a:xfrm>
              <a:custGeom>
                <a:avLst/>
                <a:gdLst/>
                <a:ahLst/>
                <a:rect l="l" t="t" r="r" b="b"/>
                <a:pathLst>
                  <a:path w="2022" h="694">
                    <a:moveTo>
                      <a:pt x="0" y="107"/>
                    </a:moveTo>
                    <a:lnTo>
                      <a:pt x="7" y="107"/>
                    </a:lnTo>
                    <a:lnTo>
                      <a:pt x="8" y="114"/>
                    </a:lnTo>
                    <a:lnTo>
                      <a:pt x="572" y="0"/>
                    </a:lnTo>
                    <a:lnTo>
                      <a:pt x="572" y="256"/>
                    </a:lnTo>
                    <a:lnTo>
                      <a:pt x="572" y="260"/>
                    </a:lnTo>
                    <a:lnTo>
                      <a:pt x="576" y="262"/>
                    </a:lnTo>
                    <a:lnTo>
                      <a:pt x="874" y="442"/>
                    </a:lnTo>
                    <a:lnTo>
                      <a:pt x="874" y="445"/>
                    </a:lnTo>
                    <a:lnTo>
                      <a:pt x="880" y="445"/>
                    </a:lnTo>
                    <a:lnTo>
                      <a:pt x="889" y="450"/>
                    </a:lnTo>
                    <a:lnTo>
                      <a:pt x="889" y="443"/>
                    </a:lnTo>
                    <a:lnTo>
                      <a:pt x="1791" y="291"/>
                    </a:lnTo>
                    <a:lnTo>
                      <a:pt x="1791" y="306"/>
                    </a:lnTo>
                    <a:lnTo>
                      <a:pt x="1789" y="320"/>
                    </a:lnTo>
                    <a:lnTo>
                      <a:pt x="1786" y="334"/>
                    </a:lnTo>
                    <a:lnTo>
                      <a:pt x="1782" y="349"/>
                    </a:lnTo>
                    <a:lnTo>
                      <a:pt x="1776" y="366"/>
                    </a:lnTo>
                    <a:lnTo>
                      <a:pt x="1770" y="381"/>
                    </a:lnTo>
                    <a:lnTo>
                      <a:pt x="1763" y="397"/>
                    </a:lnTo>
                    <a:lnTo>
                      <a:pt x="1755" y="413"/>
                    </a:lnTo>
                    <a:lnTo>
                      <a:pt x="1748" y="427"/>
                    </a:lnTo>
                    <a:lnTo>
                      <a:pt x="1741" y="442"/>
                    </a:lnTo>
                    <a:lnTo>
                      <a:pt x="1735" y="458"/>
                    </a:lnTo>
                    <a:lnTo>
                      <a:pt x="1729" y="474"/>
                    </a:lnTo>
                    <a:lnTo>
                      <a:pt x="1720" y="501"/>
                    </a:lnTo>
                    <a:lnTo>
                      <a:pt x="1714" y="535"/>
                    </a:lnTo>
                    <a:lnTo>
                      <a:pt x="1712" y="571"/>
                    </a:lnTo>
                    <a:lnTo>
                      <a:pt x="1718" y="608"/>
                    </a:lnTo>
                    <a:lnTo>
                      <a:pt x="1721" y="621"/>
                    </a:lnTo>
                    <a:lnTo>
                      <a:pt x="1728" y="633"/>
                    </a:lnTo>
                    <a:lnTo>
                      <a:pt x="1734" y="644"/>
                    </a:lnTo>
                    <a:lnTo>
                      <a:pt x="1740" y="654"/>
                    </a:lnTo>
                    <a:lnTo>
                      <a:pt x="1749" y="662"/>
                    </a:lnTo>
                    <a:lnTo>
                      <a:pt x="1758" y="669"/>
                    </a:lnTo>
                    <a:lnTo>
                      <a:pt x="1766" y="674"/>
                    </a:lnTo>
                    <a:lnTo>
                      <a:pt x="1776" y="678"/>
                    </a:lnTo>
                    <a:lnTo>
                      <a:pt x="1792" y="682"/>
                    </a:lnTo>
                    <a:lnTo>
                      <a:pt x="1807" y="683"/>
                    </a:lnTo>
                    <a:lnTo>
                      <a:pt x="1824" y="684"/>
                    </a:lnTo>
                    <a:lnTo>
                      <a:pt x="1841" y="683"/>
                    </a:lnTo>
                    <a:lnTo>
                      <a:pt x="1858" y="681"/>
                    </a:lnTo>
                    <a:lnTo>
                      <a:pt x="1876" y="677"/>
                    </a:lnTo>
                    <a:lnTo>
                      <a:pt x="1893" y="672"/>
                    </a:lnTo>
                    <a:lnTo>
                      <a:pt x="1912" y="664"/>
                    </a:lnTo>
                    <a:lnTo>
                      <a:pt x="1916" y="664"/>
                    </a:lnTo>
                    <a:lnTo>
                      <a:pt x="1918" y="663"/>
                    </a:lnTo>
                    <a:lnTo>
                      <a:pt x="1922" y="661"/>
                    </a:lnTo>
                    <a:lnTo>
                      <a:pt x="1924" y="659"/>
                    </a:lnTo>
                    <a:lnTo>
                      <a:pt x="1927" y="658"/>
                    </a:lnTo>
                    <a:lnTo>
                      <a:pt x="1928" y="658"/>
                    </a:lnTo>
                    <a:lnTo>
                      <a:pt x="1931" y="657"/>
                    </a:lnTo>
                    <a:lnTo>
                      <a:pt x="1932" y="657"/>
                    </a:lnTo>
                    <a:lnTo>
                      <a:pt x="1932" y="656"/>
                    </a:lnTo>
                    <a:lnTo>
                      <a:pt x="1936" y="653"/>
                    </a:lnTo>
                    <a:lnTo>
                      <a:pt x="1939" y="652"/>
                    </a:lnTo>
                    <a:lnTo>
                      <a:pt x="1943" y="649"/>
                    </a:lnTo>
                    <a:lnTo>
                      <a:pt x="1947" y="648"/>
                    </a:lnTo>
                    <a:lnTo>
                      <a:pt x="1954" y="643"/>
                    </a:lnTo>
                    <a:lnTo>
                      <a:pt x="1961" y="638"/>
                    </a:lnTo>
                    <a:lnTo>
                      <a:pt x="1967" y="632"/>
                    </a:lnTo>
                    <a:lnTo>
                      <a:pt x="1972" y="625"/>
                    </a:lnTo>
                    <a:lnTo>
                      <a:pt x="1977" y="617"/>
                    </a:lnTo>
                    <a:lnTo>
                      <a:pt x="1980" y="608"/>
                    </a:lnTo>
                    <a:lnTo>
                      <a:pt x="1983" y="601"/>
                    </a:lnTo>
                    <a:lnTo>
                      <a:pt x="1984" y="592"/>
                    </a:lnTo>
                    <a:lnTo>
                      <a:pt x="1984" y="579"/>
                    </a:lnTo>
                    <a:lnTo>
                      <a:pt x="1982" y="566"/>
                    </a:lnTo>
                    <a:lnTo>
                      <a:pt x="1977" y="555"/>
                    </a:lnTo>
                    <a:lnTo>
                      <a:pt x="1968" y="545"/>
                    </a:lnTo>
                    <a:lnTo>
                      <a:pt x="1966" y="541"/>
                    </a:lnTo>
                    <a:lnTo>
                      <a:pt x="1961" y="542"/>
                    </a:lnTo>
                    <a:lnTo>
                      <a:pt x="1850" y="566"/>
                    </a:lnTo>
                    <a:lnTo>
                      <a:pt x="1847" y="537"/>
                    </a:lnTo>
                    <a:lnTo>
                      <a:pt x="1850" y="508"/>
                    </a:lnTo>
                    <a:lnTo>
                      <a:pt x="1856" y="480"/>
                    </a:lnTo>
                    <a:lnTo>
                      <a:pt x="1865" y="454"/>
                    </a:lnTo>
                    <a:lnTo>
                      <a:pt x="1870" y="439"/>
                    </a:lnTo>
                    <a:lnTo>
                      <a:pt x="1876" y="425"/>
                    </a:lnTo>
                    <a:lnTo>
                      <a:pt x="1882" y="410"/>
                    </a:lnTo>
                    <a:lnTo>
                      <a:pt x="1888" y="397"/>
                    </a:lnTo>
                    <a:lnTo>
                      <a:pt x="1895" y="382"/>
                    </a:lnTo>
                    <a:lnTo>
                      <a:pt x="1901" y="366"/>
                    </a:lnTo>
                    <a:lnTo>
                      <a:pt x="1907" y="351"/>
                    </a:lnTo>
                    <a:lnTo>
                      <a:pt x="1913" y="334"/>
                    </a:lnTo>
                    <a:lnTo>
                      <a:pt x="1918" y="318"/>
                    </a:lnTo>
                    <a:lnTo>
                      <a:pt x="1923" y="302"/>
                    </a:lnTo>
                    <a:lnTo>
                      <a:pt x="1926" y="286"/>
                    </a:lnTo>
                    <a:lnTo>
                      <a:pt x="1928" y="269"/>
                    </a:lnTo>
                    <a:lnTo>
                      <a:pt x="2022" y="252"/>
                    </a:lnTo>
                    <a:lnTo>
                      <a:pt x="2022" y="694"/>
                    </a:lnTo>
                    <a:lnTo>
                      <a:pt x="0" y="69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9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595560" y="5392800"/>
                <a:ext cx="77040" cy="50400"/>
              </a:xfrm>
              <a:custGeom>
                <a:avLst/>
                <a:gdLst/>
                <a:ahLst/>
                <a:rect l="l" t="t" r="r" b="b"/>
                <a:pathLst>
                  <a:path w="399" h="295">
                    <a:moveTo>
                      <a:pt x="6" y="67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287"/>
                    </a:lnTo>
                    <a:lnTo>
                      <a:pt x="0" y="295"/>
                    </a:lnTo>
                    <a:lnTo>
                      <a:pt x="8" y="293"/>
                    </a:lnTo>
                    <a:lnTo>
                      <a:pt x="393" y="228"/>
                    </a:lnTo>
                    <a:lnTo>
                      <a:pt x="399" y="227"/>
                    </a:lnTo>
                    <a:lnTo>
                      <a:pt x="399" y="221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598440" y="5396400"/>
                <a:ext cx="71280" cy="43560"/>
              </a:xfrm>
              <a:custGeom>
                <a:avLst/>
                <a:gdLst/>
                <a:ahLst/>
                <a:rect l="l" t="t" r="r" b="b"/>
                <a:pathLst>
                  <a:path w="369" h="258">
                    <a:moveTo>
                      <a:pt x="369" y="0"/>
                    </a:moveTo>
                    <a:lnTo>
                      <a:pt x="369" y="195"/>
                    </a:lnTo>
                    <a:lnTo>
                      <a:pt x="0" y="258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595560" y="543672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399" h="127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8" y="125"/>
                    </a:lnTo>
                    <a:lnTo>
                      <a:pt x="393" y="61"/>
                    </a:lnTo>
                    <a:lnTo>
                      <a:pt x="399" y="59"/>
                    </a:lnTo>
                    <a:lnTo>
                      <a:pt x="399" y="53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2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98440" y="543996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1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1"/>
                    </a:lnTo>
                    <a:lnTo>
                      <a:pt x="0" y="61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595560" y="546732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1"/>
                    </a:lnTo>
                    <a:lnTo>
                      <a:pt x="399" y="60"/>
                    </a:lnTo>
                    <a:lnTo>
                      <a:pt x="399" y="54"/>
                    </a:lnTo>
                    <a:lnTo>
                      <a:pt x="399" y="9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598440" y="54705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595560" y="548136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8" y="127"/>
                    </a:lnTo>
                    <a:lnTo>
                      <a:pt x="393" y="63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598440" y="548496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595560" y="549540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7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2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8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598440" y="54986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4">
                    <a:moveTo>
                      <a:pt x="369" y="0"/>
                    </a:moveTo>
                    <a:lnTo>
                      <a:pt x="369" y="31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595560" y="550980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1"/>
                    </a:lnTo>
                    <a:lnTo>
                      <a:pt x="399" y="60"/>
                    </a:lnTo>
                    <a:lnTo>
                      <a:pt x="399" y="54"/>
                    </a:lnTo>
                    <a:lnTo>
                      <a:pt x="399" y="9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98440" y="55130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595560" y="552348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8" y="127"/>
                    </a:lnTo>
                    <a:lnTo>
                      <a:pt x="393" y="63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598440" y="552708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595560" y="553788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2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8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598440" y="55411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4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600960" y="540756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22" y="141"/>
                    </a:moveTo>
                    <a:lnTo>
                      <a:pt x="29" y="144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9" y="153"/>
                    </a:lnTo>
                    <a:lnTo>
                      <a:pt x="55" y="154"/>
                    </a:lnTo>
                    <a:lnTo>
                      <a:pt x="62" y="156"/>
                    </a:lnTo>
                    <a:lnTo>
                      <a:pt x="71" y="156"/>
                    </a:lnTo>
                    <a:lnTo>
                      <a:pt x="78" y="154"/>
                    </a:lnTo>
                    <a:lnTo>
                      <a:pt x="93" y="151"/>
                    </a:lnTo>
                    <a:lnTo>
                      <a:pt x="108" y="144"/>
                    </a:lnTo>
                    <a:lnTo>
                      <a:pt x="121" y="135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3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7" y="13"/>
                    </a:lnTo>
                    <a:lnTo>
                      <a:pt x="34" y="21"/>
                    </a:lnTo>
                    <a:lnTo>
                      <a:pt x="22" y="32"/>
                    </a:lnTo>
                    <a:lnTo>
                      <a:pt x="14" y="45"/>
                    </a:lnTo>
                    <a:lnTo>
                      <a:pt x="6" y="59"/>
                    </a:lnTo>
                    <a:lnTo>
                      <a:pt x="1" y="74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2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03840" y="541008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3"/>
                    </a:lnTo>
                    <a:lnTo>
                      <a:pt x="92" y="4"/>
                    </a:lnTo>
                    <a:lnTo>
                      <a:pt x="98" y="6"/>
                    </a:lnTo>
                    <a:lnTo>
                      <a:pt x="102" y="9"/>
                    </a:lnTo>
                    <a:lnTo>
                      <a:pt x="107" y="11"/>
                    </a:lnTo>
                    <a:lnTo>
                      <a:pt x="115" y="20"/>
                    </a:lnTo>
                    <a:lnTo>
                      <a:pt x="120" y="29"/>
                    </a:lnTo>
                    <a:lnTo>
                      <a:pt x="123" y="40"/>
                    </a:lnTo>
                    <a:lnTo>
                      <a:pt x="124" y="51"/>
                    </a:lnTo>
                    <a:lnTo>
                      <a:pt x="123" y="64"/>
                    </a:lnTo>
                    <a:lnTo>
                      <a:pt x="120" y="76"/>
                    </a:lnTo>
                    <a:lnTo>
                      <a:pt x="113" y="88"/>
                    </a:lnTo>
                    <a:lnTo>
                      <a:pt x="106" y="98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3" y="121"/>
                    </a:lnTo>
                    <a:lnTo>
                      <a:pt x="61" y="125"/>
                    </a:lnTo>
                    <a:lnTo>
                      <a:pt x="55" y="126"/>
                    </a:lnTo>
                    <a:lnTo>
                      <a:pt x="49" y="126"/>
                    </a:lnTo>
                    <a:lnTo>
                      <a:pt x="44" y="126"/>
                    </a:lnTo>
                    <a:lnTo>
                      <a:pt x="37" y="125"/>
                    </a:lnTo>
                    <a:lnTo>
                      <a:pt x="32" y="123"/>
                    </a:lnTo>
                    <a:lnTo>
                      <a:pt x="26" y="121"/>
                    </a:lnTo>
                    <a:lnTo>
                      <a:pt x="22" y="118"/>
                    </a:lnTo>
                    <a:lnTo>
                      <a:pt x="17" y="115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1" y="37"/>
                    </a:lnTo>
                    <a:lnTo>
                      <a:pt x="19" y="27"/>
                    </a:lnTo>
                    <a:lnTo>
                      <a:pt x="29" y="17"/>
                    </a:lnTo>
                    <a:lnTo>
                      <a:pt x="39" y="10"/>
                    </a:lnTo>
                    <a:lnTo>
                      <a:pt x="51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36240" y="540252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78" y="154"/>
                    </a:moveTo>
                    <a:lnTo>
                      <a:pt x="93" y="151"/>
                    </a:lnTo>
                    <a:lnTo>
                      <a:pt x="107" y="144"/>
                    </a:lnTo>
                    <a:lnTo>
                      <a:pt x="121" y="134"/>
                    </a:lnTo>
                    <a:lnTo>
                      <a:pt x="132" y="123"/>
                    </a:lnTo>
                    <a:lnTo>
                      <a:pt x="141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1" y="15"/>
                    </a:lnTo>
                    <a:lnTo>
                      <a:pt x="126" y="11"/>
                    </a:lnTo>
                    <a:lnTo>
                      <a:pt x="120" y="7"/>
                    </a:lnTo>
                    <a:lnTo>
                      <a:pt x="113" y="4"/>
                    </a:lnTo>
                    <a:lnTo>
                      <a:pt x="106" y="2"/>
                    </a:lnTo>
                    <a:lnTo>
                      <a:pt x="98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6" y="12"/>
                    </a:lnTo>
                    <a:lnTo>
                      <a:pt x="34" y="21"/>
                    </a:lnTo>
                    <a:lnTo>
                      <a:pt x="22" y="32"/>
                    </a:lnTo>
                    <a:lnTo>
                      <a:pt x="13" y="46"/>
                    </a:lnTo>
                    <a:lnTo>
                      <a:pt x="6" y="60"/>
                    </a:lnTo>
                    <a:lnTo>
                      <a:pt x="1" y="75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2" y="141"/>
                    </a:lnTo>
                    <a:lnTo>
                      <a:pt x="29" y="144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9" y="153"/>
                    </a:lnTo>
                    <a:lnTo>
                      <a:pt x="55" y="154"/>
                    </a:lnTo>
                    <a:lnTo>
                      <a:pt x="62" y="156"/>
                    </a:lnTo>
                    <a:lnTo>
                      <a:pt x="71" y="156"/>
                    </a:lnTo>
                    <a:lnTo>
                      <a:pt x="78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639120" y="540504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2"/>
                    </a:lnTo>
                    <a:lnTo>
                      <a:pt x="92" y="4"/>
                    </a:lnTo>
                    <a:lnTo>
                      <a:pt x="97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5" y="20"/>
                    </a:lnTo>
                    <a:lnTo>
                      <a:pt x="120" y="29"/>
                    </a:lnTo>
                    <a:lnTo>
                      <a:pt x="123" y="40"/>
                    </a:lnTo>
                    <a:lnTo>
                      <a:pt x="124" y="51"/>
                    </a:lnTo>
                    <a:lnTo>
                      <a:pt x="123" y="63"/>
                    </a:lnTo>
                    <a:lnTo>
                      <a:pt x="120" y="76"/>
                    </a:lnTo>
                    <a:lnTo>
                      <a:pt x="113" y="88"/>
                    </a:lnTo>
                    <a:lnTo>
                      <a:pt x="106" y="98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3" y="121"/>
                    </a:lnTo>
                    <a:lnTo>
                      <a:pt x="61" y="124"/>
                    </a:lnTo>
                    <a:lnTo>
                      <a:pt x="55" y="126"/>
                    </a:lnTo>
                    <a:lnTo>
                      <a:pt x="49" y="126"/>
                    </a:lnTo>
                    <a:lnTo>
                      <a:pt x="44" y="126"/>
                    </a:lnTo>
                    <a:lnTo>
                      <a:pt x="37" y="124"/>
                    </a:lnTo>
                    <a:lnTo>
                      <a:pt x="32" y="123"/>
                    </a:lnTo>
                    <a:lnTo>
                      <a:pt x="26" y="121"/>
                    </a:lnTo>
                    <a:lnTo>
                      <a:pt x="22" y="118"/>
                    </a:lnTo>
                    <a:lnTo>
                      <a:pt x="17" y="114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1" y="37"/>
                    </a:lnTo>
                    <a:lnTo>
                      <a:pt x="19" y="27"/>
                    </a:lnTo>
                    <a:lnTo>
                      <a:pt x="29" y="17"/>
                    </a:lnTo>
                    <a:lnTo>
                      <a:pt x="39" y="10"/>
                    </a:lnTo>
                    <a:lnTo>
                      <a:pt x="51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698880" y="5378040"/>
                <a:ext cx="77400" cy="49320"/>
              </a:xfrm>
              <a:custGeom>
                <a:avLst/>
                <a:gdLst/>
                <a:ahLst/>
                <a:rect l="l" t="t" r="r" b="b"/>
                <a:pathLst>
                  <a:path w="401" h="293">
                    <a:moveTo>
                      <a:pt x="401" y="220"/>
                    </a:moveTo>
                    <a:lnTo>
                      <a:pt x="401" y="8"/>
                    </a:lnTo>
                    <a:lnTo>
                      <a:pt x="401" y="0"/>
                    </a:lnTo>
                    <a:lnTo>
                      <a:pt x="391" y="1"/>
                    </a:lnTo>
                    <a:lnTo>
                      <a:pt x="7" y="66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285"/>
                    </a:lnTo>
                    <a:lnTo>
                      <a:pt x="0" y="293"/>
                    </a:lnTo>
                    <a:lnTo>
                      <a:pt x="10" y="292"/>
                    </a:lnTo>
                    <a:lnTo>
                      <a:pt x="395" y="227"/>
                    </a:lnTo>
                    <a:lnTo>
                      <a:pt x="401" y="226"/>
                    </a:lnTo>
                    <a:lnTo>
                      <a:pt x="401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2480" y="5380560"/>
                <a:ext cx="70920" cy="44280"/>
              </a:xfrm>
              <a:custGeom>
                <a:avLst/>
                <a:gdLst/>
                <a:ahLst/>
                <a:rect l="l" t="t" r="r" b="b"/>
                <a:pathLst>
                  <a:path w="369" h="259">
                    <a:moveTo>
                      <a:pt x="369" y="0"/>
                    </a:moveTo>
                    <a:lnTo>
                      <a:pt x="369" y="195"/>
                    </a:lnTo>
                    <a:lnTo>
                      <a:pt x="0" y="259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4280" y="539244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155" h="156">
                    <a:moveTo>
                      <a:pt x="24" y="141"/>
                    </a:moveTo>
                    <a:lnTo>
                      <a:pt x="30" y="145"/>
                    </a:lnTo>
                    <a:lnTo>
                      <a:pt x="36" y="148"/>
                    </a:lnTo>
                    <a:lnTo>
                      <a:pt x="43" y="152"/>
                    </a:lnTo>
                    <a:lnTo>
                      <a:pt x="49" y="153"/>
                    </a:lnTo>
                    <a:lnTo>
                      <a:pt x="56" y="156"/>
                    </a:lnTo>
                    <a:lnTo>
                      <a:pt x="64" y="156"/>
                    </a:lnTo>
                    <a:lnTo>
                      <a:pt x="71" y="156"/>
                    </a:lnTo>
                    <a:lnTo>
                      <a:pt x="79" y="156"/>
                    </a:lnTo>
                    <a:lnTo>
                      <a:pt x="94" y="152"/>
                    </a:lnTo>
                    <a:lnTo>
                      <a:pt x="109" y="145"/>
                    </a:lnTo>
                    <a:lnTo>
                      <a:pt x="121" y="136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9" y="97"/>
                    </a:lnTo>
                    <a:lnTo>
                      <a:pt x="154" y="82"/>
                    </a:lnTo>
                    <a:lnTo>
                      <a:pt x="155" y="66"/>
                    </a:lnTo>
                    <a:lnTo>
                      <a:pt x="154" y="51"/>
                    </a:lnTo>
                    <a:lnTo>
                      <a:pt x="149" y="38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4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8" y="13"/>
                    </a:lnTo>
                    <a:lnTo>
                      <a:pt x="34" y="21"/>
                    </a:lnTo>
                    <a:lnTo>
                      <a:pt x="23" y="33"/>
                    </a:lnTo>
                    <a:lnTo>
                      <a:pt x="14" y="46"/>
                    </a:lnTo>
                    <a:lnTo>
                      <a:pt x="7" y="60"/>
                    </a:lnTo>
                    <a:lnTo>
                      <a:pt x="2" y="75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4" y="131"/>
                    </a:lnTo>
                    <a:lnTo>
                      <a:pt x="24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707520" y="539496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62" y="1"/>
                    </a:moveTo>
                    <a:lnTo>
                      <a:pt x="68" y="0"/>
                    </a:lnTo>
                    <a:lnTo>
                      <a:pt x="74" y="0"/>
                    </a:lnTo>
                    <a:lnTo>
                      <a:pt x="79" y="1"/>
                    </a:lnTo>
                    <a:lnTo>
                      <a:pt x="85" y="3"/>
                    </a:lnTo>
                    <a:lnTo>
                      <a:pt x="90" y="4"/>
                    </a:lnTo>
                    <a:lnTo>
                      <a:pt x="97" y="6"/>
                    </a:lnTo>
                    <a:lnTo>
                      <a:pt x="100" y="9"/>
                    </a:lnTo>
                    <a:lnTo>
                      <a:pt x="105" y="13"/>
                    </a:lnTo>
                    <a:lnTo>
                      <a:pt x="113" y="20"/>
                    </a:lnTo>
                    <a:lnTo>
                      <a:pt x="118" y="30"/>
                    </a:lnTo>
                    <a:lnTo>
                      <a:pt x="122" y="40"/>
                    </a:lnTo>
                    <a:lnTo>
                      <a:pt x="123" y="51"/>
                    </a:lnTo>
                    <a:lnTo>
                      <a:pt x="122" y="64"/>
                    </a:lnTo>
                    <a:lnTo>
                      <a:pt x="118" y="76"/>
                    </a:lnTo>
                    <a:lnTo>
                      <a:pt x="112" y="89"/>
                    </a:lnTo>
                    <a:lnTo>
                      <a:pt x="104" y="100"/>
                    </a:lnTo>
                    <a:lnTo>
                      <a:pt x="94" y="108"/>
                    </a:lnTo>
                    <a:lnTo>
                      <a:pt x="84" y="116"/>
                    </a:lnTo>
                    <a:lnTo>
                      <a:pt x="72" y="122"/>
                    </a:lnTo>
                    <a:lnTo>
                      <a:pt x="59" y="126"/>
                    </a:lnTo>
                    <a:lnTo>
                      <a:pt x="53" y="127"/>
                    </a:lnTo>
                    <a:lnTo>
                      <a:pt x="47" y="127"/>
                    </a:lnTo>
                    <a:lnTo>
                      <a:pt x="42" y="126"/>
                    </a:lnTo>
                    <a:lnTo>
                      <a:pt x="36" y="125"/>
                    </a:lnTo>
                    <a:lnTo>
                      <a:pt x="31" y="123"/>
                    </a:lnTo>
                    <a:lnTo>
                      <a:pt x="26" y="121"/>
                    </a:lnTo>
                    <a:lnTo>
                      <a:pt x="21" y="118"/>
                    </a:lnTo>
                    <a:lnTo>
                      <a:pt x="16" y="115"/>
                    </a:lnTo>
                    <a:lnTo>
                      <a:pt x="8" y="106"/>
                    </a:lnTo>
                    <a:lnTo>
                      <a:pt x="3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8" y="28"/>
                    </a:lnTo>
                    <a:lnTo>
                      <a:pt x="27" y="18"/>
                    </a:lnTo>
                    <a:lnTo>
                      <a:pt x="37" y="10"/>
                    </a:lnTo>
                    <a:lnTo>
                      <a:pt x="49" y="5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739560" y="538668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55" h="157">
                    <a:moveTo>
                      <a:pt x="79" y="156"/>
                    </a:moveTo>
                    <a:lnTo>
                      <a:pt x="94" y="152"/>
                    </a:lnTo>
                    <a:lnTo>
                      <a:pt x="109" y="144"/>
                    </a:lnTo>
                    <a:lnTo>
                      <a:pt x="121" y="136"/>
                    </a:lnTo>
                    <a:lnTo>
                      <a:pt x="132" y="125"/>
                    </a:lnTo>
                    <a:lnTo>
                      <a:pt x="142" y="111"/>
                    </a:lnTo>
                    <a:lnTo>
                      <a:pt x="149" y="97"/>
                    </a:lnTo>
                    <a:lnTo>
                      <a:pt x="154" y="82"/>
                    </a:lnTo>
                    <a:lnTo>
                      <a:pt x="155" y="67"/>
                    </a:lnTo>
                    <a:lnTo>
                      <a:pt x="154" y="52"/>
                    </a:lnTo>
                    <a:lnTo>
                      <a:pt x="149" y="37"/>
                    </a:lnTo>
                    <a:lnTo>
                      <a:pt x="141" y="26"/>
                    </a:lnTo>
                    <a:lnTo>
                      <a:pt x="132" y="16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4" y="5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8" y="13"/>
                    </a:lnTo>
                    <a:lnTo>
                      <a:pt x="34" y="21"/>
                    </a:lnTo>
                    <a:lnTo>
                      <a:pt x="23" y="32"/>
                    </a:lnTo>
                    <a:lnTo>
                      <a:pt x="14" y="46"/>
                    </a:lnTo>
                    <a:lnTo>
                      <a:pt x="7" y="60"/>
                    </a:lnTo>
                    <a:lnTo>
                      <a:pt x="2" y="75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4" y="131"/>
                    </a:lnTo>
                    <a:lnTo>
                      <a:pt x="23" y="141"/>
                    </a:lnTo>
                    <a:lnTo>
                      <a:pt x="29" y="146"/>
                    </a:lnTo>
                    <a:lnTo>
                      <a:pt x="35" y="149"/>
                    </a:lnTo>
                    <a:lnTo>
                      <a:pt x="41" y="152"/>
                    </a:lnTo>
                    <a:lnTo>
                      <a:pt x="49" y="154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7"/>
                    </a:lnTo>
                    <a:lnTo>
                      <a:pt x="79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742440" y="53892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25" h="127">
                    <a:moveTo>
                      <a:pt x="64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3"/>
                    </a:lnTo>
                    <a:lnTo>
                      <a:pt x="92" y="4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5" y="20"/>
                    </a:lnTo>
                    <a:lnTo>
                      <a:pt x="120" y="30"/>
                    </a:lnTo>
                    <a:lnTo>
                      <a:pt x="124" y="40"/>
                    </a:lnTo>
                    <a:lnTo>
                      <a:pt x="125" y="52"/>
                    </a:lnTo>
                    <a:lnTo>
                      <a:pt x="124" y="65"/>
                    </a:lnTo>
                    <a:lnTo>
                      <a:pt x="120" y="77"/>
                    </a:lnTo>
                    <a:lnTo>
                      <a:pt x="114" y="88"/>
                    </a:lnTo>
                    <a:lnTo>
                      <a:pt x="106" y="100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4" y="122"/>
                    </a:lnTo>
                    <a:lnTo>
                      <a:pt x="61" y="126"/>
                    </a:lnTo>
                    <a:lnTo>
                      <a:pt x="55" y="127"/>
                    </a:lnTo>
                    <a:lnTo>
                      <a:pt x="49" y="127"/>
                    </a:lnTo>
                    <a:lnTo>
                      <a:pt x="44" y="126"/>
                    </a:lnTo>
                    <a:lnTo>
                      <a:pt x="38" y="125"/>
                    </a:lnTo>
                    <a:lnTo>
                      <a:pt x="33" y="123"/>
                    </a:lnTo>
                    <a:lnTo>
                      <a:pt x="26" y="121"/>
                    </a:lnTo>
                    <a:lnTo>
                      <a:pt x="23" y="118"/>
                    </a:lnTo>
                    <a:lnTo>
                      <a:pt x="18" y="115"/>
                    </a:lnTo>
                    <a:lnTo>
                      <a:pt x="10" y="107"/>
                    </a:lnTo>
                    <a:lnTo>
                      <a:pt x="5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2" y="39"/>
                    </a:lnTo>
                    <a:lnTo>
                      <a:pt x="19" y="27"/>
                    </a:lnTo>
                    <a:lnTo>
                      <a:pt x="29" y="19"/>
                    </a:lnTo>
                    <a:lnTo>
                      <a:pt x="39" y="11"/>
                    </a:lnTo>
                    <a:lnTo>
                      <a:pt x="51" y="5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602040" y="54633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4"/>
                    </a:moveTo>
                    <a:lnTo>
                      <a:pt x="36" y="11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9" y="33"/>
                    </a:lnTo>
                    <a:lnTo>
                      <a:pt x="11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03840" y="5464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7" y="11"/>
                    </a:lnTo>
                    <a:lnTo>
                      <a:pt x="16" y="14"/>
                    </a:lnTo>
                    <a:lnTo>
                      <a:pt x="12" y="16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618960" y="5460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7" y="15"/>
                    </a:moveTo>
                    <a:lnTo>
                      <a:pt x="37" y="11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5" y="32"/>
                    </a:lnTo>
                    <a:lnTo>
                      <a:pt x="8" y="33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7" y="32"/>
                    </a:lnTo>
                    <a:lnTo>
                      <a:pt x="32" y="28"/>
                    </a:lnTo>
                    <a:lnTo>
                      <a:pt x="35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20760" y="5462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3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627600" y="545976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5"/>
                    </a:moveTo>
                    <a:lnTo>
                      <a:pt x="35" y="11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25" y="32"/>
                    </a:lnTo>
                    <a:lnTo>
                      <a:pt x="30" y="29"/>
                    </a:lnTo>
                    <a:lnTo>
                      <a:pt x="34" y="23"/>
                    </a:ln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29400" y="54612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6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636240" y="545832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5" y="32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38040" y="5459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2" y="17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2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427080" y="5336640"/>
                <a:ext cx="77040" cy="50400"/>
              </a:xfrm>
              <a:custGeom>
                <a:avLst/>
                <a:gdLst/>
                <a:ahLst/>
                <a:rect l="l" t="t" r="r" b="b"/>
                <a:pathLst>
                  <a:path w="400" h="295">
                    <a:moveTo>
                      <a:pt x="6" y="67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9" y="293"/>
                    </a:lnTo>
                    <a:lnTo>
                      <a:pt x="393" y="228"/>
                    </a:lnTo>
                    <a:lnTo>
                      <a:pt x="400" y="227"/>
                    </a:lnTo>
                    <a:lnTo>
                      <a:pt x="400" y="221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3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429960" y="5340240"/>
                <a:ext cx="70920" cy="43560"/>
              </a:xfrm>
              <a:custGeom>
                <a:avLst/>
                <a:gdLst/>
                <a:ahLst/>
                <a:rect l="l" t="t" r="r" b="b"/>
                <a:pathLst>
                  <a:path w="370" h="258">
                    <a:moveTo>
                      <a:pt x="370" y="0"/>
                    </a:moveTo>
                    <a:lnTo>
                      <a:pt x="370" y="195"/>
                    </a:lnTo>
                    <a:lnTo>
                      <a:pt x="0" y="258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427080" y="538056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7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7"/>
                    </a:lnTo>
                    <a:lnTo>
                      <a:pt x="393" y="62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429960" y="5383800"/>
                <a:ext cx="70920" cy="15480"/>
              </a:xfrm>
              <a:custGeom>
                <a:avLst/>
                <a:gdLst/>
                <a:ahLst/>
                <a:rect l="l" t="t" r="r" b="b"/>
                <a:pathLst>
                  <a:path w="370" h="93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3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427080" y="541116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9">
                    <a:moveTo>
                      <a:pt x="6" y="66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9" y="127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429960" y="541440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427080" y="542556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400" h="127">
                    <a:moveTo>
                      <a:pt x="6" y="67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9" y="125"/>
                    </a:lnTo>
                    <a:lnTo>
                      <a:pt x="393" y="62"/>
                    </a:lnTo>
                    <a:lnTo>
                      <a:pt x="400" y="61"/>
                    </a:lnTo>
                    <a:lnTo>
                      <a:pt x="400" y="54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9960" y="542880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370" h="91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1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27080" y="543996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400" h="127">
                    <a:moveTo>
                      <a:pt x="6" y="66"/>
                    </a:moveTo>
                    <a:lnTo>
                      <a:pt x="0" y="66"/>
                    </a:lnTo>
                    <a:lnTo>
                      <a:pt x="0" y="72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9" y="126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429960" y="544248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3">
                    <a:moveTo>
                      <a:pt x="370" y="0"/>
                    </a:moveTo>
                    <a:lnTo>
                      <a:pt x="370" y="29"/>
                    </a:lnTo>
                    <a:lnTo>
                      <a:pt x="0" y="93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27080" y="545364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6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29960" y="545652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27080" y="546732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9" y="127"/>
                    </a:lnTo>
                    <a:lnTo>
                      <a:pt x="393" y="63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29960" y="547092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27080" y="548172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7"/>
                    </a:lnTo>
                    <a:lnTo>
                      <a:pt x="393" y="61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29960" y="548496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4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432120" y="535140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3" h="156">
                    <a:moveTo>
                      <a:pt x="23" y="141"/>
                    </a:moveTo>
                    <a:lnTo>
                      <a:pt x="29" y="145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8" y="153"/>
                    </a:lnTo>
                    <a:lnTo>
                      <a:pt x="55" y="155"/>
                    </a:lnTo>
                    <a:lnTo>
                      <a:pt x="63" y="156"/>
                    </a:lnTo>
                    <a:lnTo>
                      <a:pt x="70" y="156"/>
                    </a:lnTo>
                    <a:lnTo>
                      <a:pt x="78" y="155"/>
                    </a:lnTo>
                    <a:lnTo>
                      <a:pt x="92" y="151"/>
                    </a:lnTo>
                    <a:lnTo>
                      <a:pt x="107" y="145"/>
                    </a:lnTo>
                    <a:lnTo>
                      <a:pt x="120" y="135"/>
                    </a:lnTo>
                    <a:lnTo>
                      <a:pt x="131" y="123"/>
                    </a:lnTo>
                    <a:lnTo>
                      <a:pt x="141" y="111"/>
                    </a:lnTo>
                    <a:lnTo>
                      <a:pt x="147" y="97"/>
                    </a:lnTo>
                    <a:lnTo>
                      <a:pt x="152" y="82"/>
                    </a:lnTo>
                    <a:lnTo>
                      <a:pt x="153" y="66"/>
                    </a:lnTo>
                    <a:lnTo>
                      <a:pt x="152" y="51"/>
                    </a:lnTo>
                    <a:lnTo>
                      <a:pt x="148" y="38"/>
                    </a:lnTo>
                    <a:lnTo>
                      <a:pt x="141" y="25"/>
                    </a:lnTo>
                    <a:lnTo>
                      <a:pt x="131" y="15"/>
                    </a:lnTo>
                    <a:lnTo>
                      <a:pt x="125" y="11"/>
                    </a:lnTo>
                    <a:lnTo>
                      <a:pt x="119" y="8"/>
                    </a:lnTo>
                    <a:lnTo>
                      <a:pt x="112" y="4"/>
                    </a:lnTo>
                    <a:lnTo>
                      <a:pt x="105" y="3"/>
                    </a:lnTo>
                    <a:lnTo>
                      <a:pt x="99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0" y="5"/>
                    </a:lnTo>
                    <a:lnTo>
                      <a:pt x="46" y="13"/>
                    </a:lnTo>
                    <a:lnTo>
                      <a:pt x="34" y="21"/>
                    </a:lnTo>
                    <a:lnTo>
                      <a:pt x="23" y="33"/>
                    </a:lnTo>
                    <a:lnTo>
                      <a:pt x="13" y="45"/>
                    </a:lnTo>
                    <a:lnTo>
                      <a:pt x="7" y="59"/>
                    </a:lnTo>
                    <a:lnTo>
                      <a:pt x="2" y="74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3" y="131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360" y="535392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69" y="0"/>
                    </a:lnTo>
                    <a:lnTo>
                      <a:pt x="75" y="0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2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1"/>
                    </a:lnTo>
                    <a:lnTo>
                      <a:pt x="114" y="20"/>
                    </a:lnTo>
                    <a:lnTo>
                      <a:pt x="119" y="29"/>
                    </a:lnTo>
                    <a:lnTo>
                      <a:pt x="122" y="40"/>
                    </a:lnTo>
                    <a:lnTo>
                      <a:pt x="124" y="51"/>
                    </a:lnTo>
                    <a:lnTo>
                      <a:pt x="122" y="64"/>
                    </a:lnTo>
                    <a:lnTo>
                      <a:pt x="119" y="76"/>
                    </a:lnTo>
                    <a:lnTo>
                      <a:pt x="112" y="88"/>
                    </a:lnTo>
                    <a:lnTo>
                      <a:pt x="105" y="98"/>
                    </a:lnTo>
                    <a:lnTo>
                      <a:pt x="95" y="108"/>
                    </a:lnTo>
                    <a:lnTo>
                      <a:pt x="85" y="116"/>
                    </a:lnTo>
                    <a:lnTo>
                      <a:pt x="72" y="121"/>
                    </a:lnTo>
                    <a:lnTo>
                      <a:pt x="60" y="125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3" y="125"/>
                    </a:lnTo>
                    <a:lnTo>
                      <a:pt x="38" y="123"/>
                    </a:lnTo>
                    <a:lnTo>
                      <a:pt x="31" y="122"/>
                    </a:lnTo>
                    <a:lnTo>
                      <a:pt x="26" y="120"/>
                    </a:lnTo>
                    <a:lnTo>
                      <a:pt x="23" y="117"/>
                    </a:lnTo>
                    <a:lnTo>
                      <a:pt x="18" y="115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9" y="27"/>
                    </a:lnTo>
                    <a:lnTo>
                      <a:pt x="28" y="18"/>
                    </a:lnTo>
                    <a:lnTo>
                      <a:pt x="38" y="10"/>
                    </a:lnTo>
                    <a:lnTo>
                      <a:pt x="50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67760" y="534636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79" y="154"/>
                    </a:moveTo>
                    <a:lnTo>
                      <a:pt x="93" y="151"/>
                    </a:lnTo>
                    <a:lnTo>
                      <a:pt x="108" y="144"/>
                    </a:lnTo>
                    <a:lnTo>
                      <a:pt x="121" y="134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3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7" y="12"/>
                    </a:lnTo>
                    <a:lnTo>
                      <a:pt x="34" y="21"/>
                    </a:lnTo>
                    <a:lnTo>
                      <a:pt x="23" y="32"/>
                    </a:lnTo>
                    <a:lnTo>
                      <a:pt x="14" y="46"/>
                    </a:lnTo>
                    <a:lnTo>
                      <a:pt x="6" y="60"/>
                    </a:lnTo>
                    <a:lnTo>
                      <a:pt x="1" y="75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4" y="141"/>
                    </a:lnTo>
                    <a:lnTo>
                      <a:pt x="30" y="144"/>
                    </a:lnTo>
                    <a:lnTo>
                      <a:pt x="36" y="148"/>
                    </a:lnTo>
                    <a:lnTo>
                      <a:pt x="42" y="152"/>
                    </a:lnTo>
                    <a:lnTo>
                      <a:pt x="49" y="153"/>
                    </a:lnTo>
                    <a:lnTo>
                      <a:pt x="56" y="154"/>
                    </a:lnTo>
                    <a:lnTo>
                      <a:pt x="64" y="156"/>
                    </a:lnTo>
                    <a:lnTo>
                      <a:pt x="71" y="156"/>
                    </a:lnTo>
                    <a:lnTo>
                      <a:pt x="7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470640" y="534888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69" y="0"/>
                    </a:lnTo>
                    <a:lnTo>
                      <a:pt x="75" y="0"/>
                    </a:lnTo>
                    <a:lnTo>
                      <a:pt x="80" y="1"/>
                    </a:lnTo>
                    <a:lnTo>
                      <a:pt x="86" y="2"/>
                    </a:lnTo>
                    <a:lnTo>
                      <a:pt x="91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2"/>
                    </a:lnTo>
                    <a:lnTo>
                      <a:pt x="114" y="20"/>
                    </a:lnTo>
                    <a:lnTo>
                      <a:pt x="119" y="29"/>
                    </a:lnTo>
                    <a:lnTo>
                      <a:pt x="122" y="40"/>
                    </a:lnTo>
                    <a:lnTo>
                      <a:pt x="124" y="51"/>
                    </a:lnTo>
                    <a:lnTo>
                      <a:pt x="122" y="63"/>
                    </a:lnTo>
                    <a:lnTo>
                      <a:pt x="119" y="76"/>
                    </a:lnTo>
                    <a:lnTo>
                      <a:pt x="112" y="88"/>
                    </a:lnTo>
                    <a:lnTo>
                      <a:pt x="105" y="98"/>
                    </a:lnTo>
                    <a:lnTo>
                      <a:pt x="95" y="108"/>
                    </a:lnTo>
                    <a:lnTo>
                      <a:pt x="85" y="116"/>
                    </a:lnTo>
                    <a:lnTo>
                      <a:pt x="72" y="121"/>
                    </a:lnTo>
                    <a:lnTo>
                      <a:pt x="60" y="124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3" y="126"/>
                    </a:lnTo>
                    <a:lnTo>
                      <a:pt x="36" y="124"/>
                    </a:lnTo>
                    <a:lnTo>
                      <a:pt x="31" y="123"/>
                    </a:lnTo>
                    <a:lnTo>
                      <a:pt x="26" y="121"/>
                    </a:lnTo>
                    <a:lnTo>
                      <a:pt x="21" y="118"/>
                    </a:lnTo>
                    <a:lnTo>
                      <a:pt x="16" y="115"/>
                    </a:lnTo>
                    <a:lnTo>
                      <a:pt x="9" y="106"/>
                    </a:lnTo>
                    <a:lnTo>
                      <a:pt x="4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9" y="27"/>
                    </a:lnTo>
                    <a:lnTo>
                      <a:pt x="28" y="17"/>
                    </a:lnTo>
                    <a:lnTo>
                      <a:pt x="38" y="10"/>
                    </a:lnTo>
                    <a:lnTo>
                      <a:pt x="50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32840" y="540756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9"/>
                    </a:lnTo>
                    <a:lnTo>
                      <a:pt x="34" y="6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6" y="32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35360" y="540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6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450120" y="54050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7" y="15"/>
                    </a:moveTo>
                    <a:lnTo>
                      <a:pt x="37" y="11"/>
                    </a:lnTo>
                    <a:lnTo>
                      <a:pt x="35" y="9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4" y="30"/>
                    </a:lnTo>
                    <a:lnTo>
                      <a:pt x="7" y="32"/>
                    </a:lnTo>
                    <a:lnTo>
                      <a:pt x="9" y="34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5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51920" y="54064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2" y="16"/>
                    </a:move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459120" y="5403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5"/>
                    </a:moveTo>
                    <a:lnTo>
                      <a:pt x="35" y="12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5" y="7"/>
                    </a:lnTo>
                    <a:lnTo>
                      <a:pt x="2" y="13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5" y="33"/>
                    </a:lnTo>
                    <a:lnTo>
                      <a:pt x="30" y="29"/>
                    </a:lnTo>
                    <a:lnTo>
                      <a:pt x="34" y="23"/>
                    </a:ln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460560" y="5405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467040" y="540252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1" y="4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6" y="32"/>
                    </a:lnTo>
                    <a:lnTo>
                      <a:pt x="9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6" y="32"/>
                    </a:lnTo>
                    <a:lnTo>
                      <a:pt x="31" y="29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469200" y="540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6"/>
                    </a:move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09600" y="5390280"/>
                <a:ext cx="103680" cy="223920"/>
              </a:xfrm>
              <a:custGeom>
                <a:avLst/>
                <a:gdLst/>
                <a:ahLst/>
                <a:rect l="l" t="t" r="r" b="b"/>
                <a:pathLst>
                  <a:path w="537" h="1317">
                    <a:moveTo>
                      <a:pt x="244" y="1125"/>
                    </a:moveTo>
                    <a:lnTo>
                      <a:pt x="258" y="1127"/>
                    </a:lnTo>
                    <a:lnTo>
                      <a:pt x="273" y="1127"/>
                    </a:lnTo>
                    <a:lnTo>
                      <a:pt x="288" y="1127"/>
                    </a:lnTo>
                    <a:lnTo>
                      <a:pt x="301" y="1125"/>
                    </a:lnTo>
                    <a:lnTo>
                      <a:pt x="315" y="1124"/>
                    </a:lnTo>
                    <a:lnTo>
                      <a:pt x="328" y="1123"/>
                    </a:lnTo>
                    <a:lnTo>
                      <a:pt x="340" y="1119"/>
                    </a:lnTo>
                    <a:lnTo>
                      <a:pt x="350" y="1115"/>
                    </a:lnTo>
                    <a:lnTo>
                      <a:pt x="351" y="1114"/>
                    </a:lnTo>
                    <a:lnTo>
                      <a:pt x="351" y="1114"/>
                    </a:lnTo>
                    <a:lnTo>
                      <a:pt x="352" y="1114"/>
                    </a:lnTo>
                    <a:lnTo>
                      <a:pt x="352" y="1114"/>
                    </a:lnTo>
                    <a:lnTo>
                      <a:pt x="360" y="1149"/>
                    </a:lnTo>
                    <a:lnTo>
                      <a:pt x="369" y="1185"/>
                    </a:lnTo>
                    <a:lnTo>
                      <a:pt x="377" y="1214"/>
                    </a:lnTo>
                    <a:lnTo>
                      <a:pt x="381" y="1226"/>
                    </a:lnTo>
                    <a:lnTo>
                      <a:pt x="384" y="1235"/>
                    </a:lnTo>
                    <a:lnTo>
                      <a:pt x="392" y="1232"/>
                    </a:lnTo>
                    <a:lnTo>
                      <a:pt x="408" y="1229"/>
                    </a:lnTo>
                    <a:lnTo>
                      <a:pt x="416" y="1226"/>
                    </a:lnTo>
                    <a:lnTo>
                      <a:pt x="416" y="1219"/>
                    </a:lnTo>
                    <a:lnTo>
                      <a:pt x="413" y="1186"/>
                    </a:lnTo>
                    <a:lnTo>
                      <a:pt x="412" y="1152"/>
                    </a:lnTo>
                    <a:lnTo>
                      <a:pt x="412" y="1122"/>
                    </a:lnTo>
                    <a:lnTo>
                      <a:pt x="415" y="1102"/>
                    </a:lnTo>
                    <a:lnTo>
                      <a:pt x="418" y="1092"/>
                    </a:lnTo>
                    <a:lnTo>
                      <a:pt x="421" y="1084"/>
                    </a:lnTo>
                    <a:lnTo>
                      <a:pt x="421" y="1079"/>
                    </a:lnTo>
                    <a:lnTo>
                      <a:pt x="421" y="1076"/>
                    </a:lnTo>
                    <a:lnTo>
                      <a:pt x="433" y="1068"/>
                    </a:lnTo>
                    <a:lnTo>
                      <a:pt x="445" y="1059"/>
                    </a:lnTo>
                    <a:lnTo>
                      <a:pt x="456" y="1053"/>
                    </a:lnTo>
                    <a:lnTo>
                      <a:pt x="464" y="1046"/>
                    </a:lnTo>
                    <a:lnTo>
                      <a:pt x="473" y="1041"/>
                    </a:lnTo>
                    <a:lnTo>
                      <a:pt x="479" y="1036"/>
                    </a:lnTo>
                    <a:lnTo>
                      <a:pt x="483" y="1033"/>
                    </a:lnTo>
                    <a:lnTo>
                      <a:pt x="486" y="1032"/>
                    </a:lnTo>
                    <a:lnTo>
                      <a:pt x="489" y="1030"/>
                    </a:lnTo>
                    <a:lnTo>
                      <a:pt x="489" y="1026"/>
                    </a:lnTo>
                    <a:lnTo>
                      <a:pt x="492" y="615"/>
                    </a:lnTo>
                    <a:lnTo>
                      <a:pt x="497" y="615"/>
                    </a:lnTo>
                    <a:lnTo>
                      <a:pt x="504" y="615"/>
                    </a:lnTo>
                    <a:lnTo>
                      <a:pt x="513" y="614"/>
                    </a:lnTo>
                    <a:lnTo>
                      <a:pt x="522" y="609"/>
                    </a:lnTo>
                    <a:lnTo>
                      <a:pt x="528" y="603"/>
                    </a:lnTo>
                    <a:lnTo>
                      <a:pt x="533" y="594"/>
                    </a:lnTo>
                    <a:lnTo>
                      <a:pt x="535" y="584"/>
                    </a:lnTo>
                    <a:lnTo>
                      <a:pt x="537" y="571"/>
                    </a:lnTo>
                    <a:lnTo>
                      <a:pt x="533" y="523"/>
                    </a:lnTo>
                    <a:lnTo>
                      <a:pt x="525" y="459"/>
                    </a:lnTo>
                    <a:lnTo>
                      <a:pt x="518" y="403"/>
                    </a:lnTo>
                    <a:lnTo>
                      <a:pt x="514" y="376"/>
                    </a:lnTo>
                    <a:lnTo>
                      <a:pt x="514" y="371"/>
                    </a:lnTo>
                    <a:lnTo>
                      <a:pt x="509" y="368"/>
                    </a:lnTo>
                    <a:lnTo>
                      <a:pt x="506" y="367"/>
                    </a:lnTo>
                    <a:lnTo>
                      <a:pt x="496" y="364"/>
                    </a:lnTo>
                    <a:lnTo>
                      <a:pt x="482" y="360"/>
                    </a:lnTo>
                    <a:lnTo>
                      <a:pt x="464" y="355"/>
                    </a:lnTo>
                    <a:lnTo>
                      <a:pt x="442" y="351"/>
                    </a:lnTo>
                    <a:lnTo>
                      <a:pt x="418" y="347"/>
                    </a:lnTo>
                    <a:lnTo>
                      <a:pt x="391" y="345"/>
                    </a:lnTo>
                    <a:lnTo>
                      <a:pt x="361" y="345"/>
                    </a:lnTo>
                    <a:lnTo>
                      <a:pt x="356" y="309"/>
                    </a:lnTo>
                    <a:lnTo>
                      <a:pt x="355" y="303"/>
                    </a:lnTo>
                    <a:lnTo>
                      <a:pt x="350" y="304"/>
                    </a:lnTo>
                    <a:lnTo>
                      <a:pt x="333" y="309"/>
                    </a:lnTo>
                    <a:lnTo>
                      <a:pt x="335" y="288"/>
                    </a:lnTo>
                    <a:lnTo>
                      <a:pt x="339" y="254"/>
                    </a:lnTo>
                    <a:lnTo>
                      <a:pt x="341" y="212"/>
                    </a:lnTo>
                    <a:lnTo>
                      <a:pt x="345" y="162"/>
                    </a:lnTo>
                    <a:lnTo>
                      <a:pt x="345" y="162"/>
                    </a:lnTo>
                    <a:lnTo>
                      <a:pt x="364" y="161"/>
                    </a:lnTo>
                    <a:lnTo>
                      <a:pt x="369" y="161"/>
                    </a:lnTo>
                    <a:lnTo>
                      <a:pt x="369" y="156"/>
                    </a:lnTo>
                    <a:lnTo>
                      <a:pt x="377" y="87"/>
                    </a:lnTo>
                    <a:lnTo>
                      <a:pt x="379" y="81"/>
                    </a:lnTo>
                    <a:lnTo>
                      <a:pt x="372" y="81"/>
                    </a:lnTo>
                    <a:lnTo>
                      <a:pt x="352" y="83"/>
                    </a:lnTo>
                    <a:lnTo>
                      <a:pt x="354" y="55"/>
                    </a:lnTo>
                    <a:lnTo>
                      <a:pt x="352" y="37"/>
                    </a:lnTo>
                    <a:lnTo>
                      <a:pt x="350" y="29"/>
                    </a:lnTo>
                    <a:lnTo>
                      <a:pt x="345" y="22"/>
                    </a:lnTo>
                    <a:lnTo>
                      <a:pt x="339" y="17"/>
                    </a:lnTo>
                    <a:lnTo>
                      <a:pt x="330" y="12"/>
                    </a:lnTo>
                    <a:lnTo>
                      <a:pt x="320" y="9"/>
                    </a:lnTo>
                    <a:lnTo>
                      <a:pt x="309" y="4"/>
                    </a:lnTo>
                    <a:lnTo>
                      <a:pt x="298" y="1"/>
                    </a:lnTo>
                    <a:lnTo>
                      <a:pt x="286" y="0"/>
                    </a:lnTo>
                    <a:lnTo>
                      <a:pt x="275" y="0"/>
                    </a:lnTo>
                    <a:lnTo>
                      <a:pt x="267" y="1"/>
                    </a:lnTo>
                    <a:lnTo>
                      <a:pt x="260" y="4"/>
                    </a:lnTo>
                    <a:lnTo>
                      <a:pt x="257" y="6"/>
                    </a:lnTo>
                    <a:lnTo>
                      <a:pt x="254" y="10"/>
                    </a:lnTo>
                    <a:lnTo>
                      <a:pt x="253" y="14"/>
                    </a:lnTo>
                    <a:lnTo>
                      <a:pt x="248" y="36"/>
                    </a:lnTo>
                    <a:lnTo>
                      <a:pt x="242" y="68"/>
                    </a:lnTo>
                    <a:lnTo>
                      <a:pt x="235" y="98"/>
                    </a:lnTo>
                    <a:lnTo>
                      <a:pt x="232" y="120"/>
                    </a:lnTo>
                    <a:lnTo>
                      <a:pt x="223" y="120"/>
                    </a:lnTo>
                    <a:lnTo>
                      <a:pt x="213" y="120"/>
                    </a:lnTo>
                    <a:lnTo>
                      <a:pt x="204" y="122"/>
                    </a:lnTo>
                    <a:lnTo>
                      <a:pt x="199" y="124"/>
                    </a:lnTo>
                    <a:lnTo>
                      <a:pt x="198" y="126"/>
                    </a:lnTo>
                    <a:lnTo>
                      <a:pt x="197" y="127"/>
                    </a:lnTo>
                    <a:lnTo>
                      <a:pt x="197" y="128"/>
                    </a:lnTo>
                    <a:lnTo>
                      <a:pt x="197" y="129"/>
                    </a:lnTo>
                    <a:lnTo>
                      <a:pt x="197" y="132"/>
                    </a:lnTo>
                    <a:lnTo>
                      <a:pt x="201" y="136"/>
                    </a:lnTo>
                    <a:lnTo>
                      <a:pt x="211" y="142"/>
                    </a:lnTo>
                    <a:lnTo>
                      <a:pt x="228" y="147"/>
                    </a:lnTo>
                    <a:lnTo>
                      <a:pt x="227" y="183"/>
                    </a:lnTo>
                    <a:lnTo>
                      <a:pt x="227" y="224"/>
                    </a:lnTo>
                    <a:lnTo>
                      <a:pt x="230" y="260"/>
                    </a:lnTo>
                    <a:lnTo>
                      <a:pt x="243" y="278"/>
                    </a:lnTo>
                    <a:lnTo>
                      <a:pt x="249" y="279"/>
                    </a:lnTo>
                    <a:lnTo>
                      <a:pt x="257" y="280"/>
                    </a:lnTo>
                    <a:lnTo>
                      <a:pt x="263" y="280"/>
                    </a:lnTo>
                    <a:lnTo>
                      <a:pt x="269" y="281"/>
                    </a:lnTo>
                    <a:lnTo>
                      <a:pt x="275" y="283"/>
                    </a:lnTo>
                    <a:lnTo>
                      <a:pt x="283" y="284"/>
                    </a:lnTo>
                    <a:lnTo>
                      <a:pt x="286" y="285"/>
                    </a:lnTo>
                    <a:lnTo>
                      <a:pt x="289" y="288"/>
                    </a:lnTo>
                    <a:lnTo>
                      <a:pt x="289" y="296"/>
                    </a:lnTo>
                    <a:lnTo>
                      <a:pt x="289" y="306"/>
                    </a:lnTo>
                    <a:lnTo>
                      <a:pt x="288" y="314"/>
                    </a:lnTo>
                    <a:lnTo>
                      <a:pt x="288" y="319"/>
                    </a:lnTo>
                    <a:lnTo>
                      <a:pt x="268" y="324"/>
                    </a:lnTo>
                    <a:lnTo>
                      <a:pt x="263" y="325"/>
                    </a:lnTo>
                    <a:lnTo>
                      <a:pt x="263" y="330"/>
                    </a:lnTo>
                    <a:lnTo>
                      <a:pt x="268" y="360"/>
                    </a:lnTo>
                    <a:lnTo>
                      <a:pt x="260" y="362"/>
                    </a:lnTo>
                    <a:lnTo>
                      <a:pt x="253" y="365"/>
                    </a:lnTo>
                    <a:lnTo>
                      <a:pt x="245" y="367"/>
                    </a:lnTo>
                    <a:lnTo>
                      <a:pt x="239" y="370"/>
                    </a:lnTo>
                    <a:lnTo>
                      <a:pt x="232" y="372"/>
                    </a:lnTo>
                    <a:lnTo>
                      <a:pt x="225" y="376"/>
                    </a:lnTo>
                    <a:lnTo>
                      <a:pt x="219" y="378"/>
                    </a:lnTo>
                    <a:lnTo>
                      <a:pt x="213" y="381"/>
                    </a:lnTo>
                    <a:lnTo>
                      <a:pt x="201" y="301"/>
                    </a:lnTo>
                    <a:lnTo>
                      <a:pt x="199" y="296"/>
                    </a:lnTo>
                    <a:lnTo>
                      <a:pt x="194" y="298"/>
                    </a:lnTo>
                    <a:lnTo>
                      <a:pt x="143" y="307"/>
                    </a:lnTo>
                    <a:lnTo>
                      <a:pt x="141" y="301"/>
                    </a:lnTo>
                    <a:lnTo>
                      <a:pt x="137" y="296"/>
                    </a:lnTo>
                    <a:lnTo>
                      <a:pt x="132" y="291"/>
                    </a:lnTo>
                    <a:lnTo>
                      <a:pt x="127" y="288"/>
                    </a:lnTo>
                    <a:lnTo>
                      <a:pt x="121" y="285"/>
                    </a:lnTo>
                    <a:lnTo>
                      <a:pt x="115" y="284"/>
                    </a:lnTo>
                    <a:lnTo>
                      <a:pt x="108" y="283"/>
                    </a:lnTo>
                    <a:lnTo>
                      <a:pt x="101" y="284"/>
                    </a:lnTo>
                    <a:lnTo>
                      <a:pt x="95" y="286"/>
                    </a:lnTo>
                    <a:lnTo>
                      <a:pt x="89" y="290"/>
                    </a:lnTo>
                    <a:lnTo>
                      <a:pt x="84" y="295"/>
                    </a:lnTo>
                    <a:lnTo>
                      <a:pt x="79" y="300"/>
                    </a:lnTo>
                    <a:lnTo>
                      <a:pt x="76" y="305"/>
                    </a:lnTo>
                    <a:lnTo>
                      <a:pt x="75" y="310"/>
                    </a:lnTo>
                    <a:lnTo>
                      <a:pt x="74" y="316"/>
                    </a:lnTo>
                    <a:lnTo>
                      <a:pt x="74" y="321"/>
                    </a:lnTo>
                    <a:lnTo>
                      <a:pt x="28" y="331"/>
                    </a:lnTo>
                    <a:lnTo>
                      <a:pt x="23" y="331"/>
                    </a:lnTo>
                    <a:lnTo>
                      <a:pt x="24" y="336"/>
                    </a:lnTo>
                    <a:lnTo>
                      <a:pt x="41" y="444"/>
                    </a:lnTo>
                    <a:lnTo>
                      <a:pt x="35" y="448"/>
                    </a:lnTo>
                    <a:lnTo>
                      <a:pt x="28" y="453"/>
                    </a:lnTo>
                    <a:lnTo>
                      <a:pt x="20" y="458"/>
                    </a:lnTo>
                    <a:lnTo>
                      <a:pt x="14" y="463"/>
                    </a:lnTo>
                    <a:lnTo>
                      <a:pt x="9" y="468"/>
                    </a:lnTo>
                    <a:lnTo>
                      <a:pt x="4" y="473"/>
                    </a:lnTo>
                    <a:lnTo>
                      <a:pt x="1" y="478"/>
                    </a:lnTo>
                    <a:lnTo>
                      <a:pt x="0" y="483"/>
                    </a:lnTo>
                    <a:lnTo>
                      <a:pt x="1" y="488"/>
                    </a:lnTo>
                    <a:lnTo>
                      <a:pt x="5" y="495"/>
                    </a:lnTo>
                    <a:lnTo>
                      <a:pt x="10" y="503"/>
                    </a:lnTo>
                    <a:lnTo>
                      <a:pt x="18" y="512"/>
                    </a:lnTo>
                    <a:lnTo>
                      <a:pt x="24" y="522"/>
                    </a:lnTo>
                    <a:lnTo>
                      <a:pt x="31" y="530"/>
                    </a:lnTo>
                    <a:lnTo>
                      <a:pt x="39" y="538"/>
                    </a:lnTo>
                    <a:lnTo>
                      <a:pt x="45" y="545"/>
                    </a:lnTo>
                    <a:lnTo>
                      <a:pt x="44" y="545"/>
                    </a:lnTo>
                    <a:lnTo>
                      <a:pt x="44" y="550"/>
                    </a:lnTo>
                    <a:lnTo>
                      <a:pt x="45" y="561"/>
                    </a:lnTo>
                    <a:lnTo>
                      <a:pt x="46" y="581"/>
                    </a:lnTo>
                    <a:lnTo>
                      <a:pt x="50" y="606"/>
                    </a:lnTo>
                    <a:lnTo>
                      <a:pt x="55" y="635"/>
                    </a:lnTo>
                    <a:lnTo>
                      <a:pt x="60" y="665"/>
                    </a:lnTo>
                    <a:lnTo>
                      <a:pt x="67" y="692"/>
                    </a:lnTo>
                    <a:lnTo>
                      <a:pt x="75" y="716"/>
                    </a:lnTo>
                    <a:lnTo>
                      <a:pt x="85" y="732"/>
                    </a:lnTo>
                    <a:lnTo>
                      <a:pt x="89" y="736"/>
                    </a:lnTo>
                    <a:lnTo>
                      <a:pt x="92" y="737"/>
                    </a:lnTo>
                    <a:lnTo>
                      <a:pt x="96" y="739"/>
                    </a:lnTo>
                    <a:lnTo>
                      <a:pt x="101" y="739"/>
                    </a:lnTo>
                    <a:lnTo>
                      <a:pt x="108" y="737"/>
                    </a:lnTo>
                    <a:lnTo>
                      <a:pt x="117" y="732"/>
                    </a:lnTo>
                    <a:lnTo>
                      <a:pt x="127" y="726"/>
                    </a:lnTo>
                    <a:lnTo>
                      <a:pt x="136" y="718"/>
                    </a:lnTo>
                    <a:lnTo>
                      <a:pt x="147" y="1103"/>
                    </a:lnTo>
                    <a:lnTo>
                      <a:pt x="148" y="1110"/>
                    </a:lnTo>
                    <a:lnTo>
                      <a:pt x="154" y="1112"/>
                    </a:lnTo>
                    <a:lnTo>
                      <a:pt x="157" y="1112"/>
                    </a:lnTo>
                    <a:lnTo>
                      <a:pt x="161" y="1113"/>
                    </a:lnTo>
                    <a:lnTo>
                      <a:pt x="166" y="1114"/>
                    </a:lnTo>
                    <a:lnTo>
                      <a:pt x="173" y="1115"/>
                    </a:lnTo>
                    <a:lnTo>
                      <a:pt x="172" y="1129"/>
                    </a:lnTo>
                    <a:lnTo>
                      <a:pt x="172" y="1149"/>
                    </a:lnTo>
                    <a:lnTo>
                      <a:pt x="172" y="1174"/>
                    </a:lnTo>
                    <a:lnTo>
                      <a:pt x="173" y="1199"/>
                    </a:lnTo>
                    <a:lnTo>
                      <a:pt x="178" y="1232"/>
                    </a:lnTo>
                    <a:lnTo>
                      <a:pt x="186" y="1267"/>
                    </a:lnTo>
                    <a:lnTo>
                      <a:pt x="192" y="1296"/>
                    </a:lnTo>
                    <a:lnTo>
                      <a:pt x="196" y="1308"/>
                    </a:lnTo>
                    <a:lnTo>
                      <a:pt x="197" y="1317"/>
                    </a:lnTo>
                    <a:lnTo>
                      <a:pt x="206" y="1315"/>
                    </a:lnTo>
                    <a:lnTo>
                      <a:pt x="223" y="1311"/>
                    </a:lnTo>
                    <a:lnTo>
                      <a:pt x="230" y="1308"/>
                    </a:lnTo>
                    <a:lnTo>
                      <a:pt x="229" y="1301"/>
                    </a:lnTo>
                    <a:lnTo>
                      <a:pt x="227" y="1269"/>
                    </a:lnTo>
                    <a:lnTo>
                      <a:pt x="225" y="1234"/>
                    </a:lnTo>
                    <a:lnTo>
                      <a:pt x="227" y="1204"/>
                    </a:lnTo>
                    <a:lnTo>
                      <a:pt x="229" y="1184"/>
                    </a:lnTo>
                    <a:lnTo>
                      <a:pt x="234" y="1167"/>
                    </a:lnTo>
                    <a:lnTo>
                      <a:pt x="238" y="1152"/>
                    </a:lnTo>
                    <a:lnTo>
                      <a:pt x="240" y="1140"/>
                    </a:lnTo>
                    <a:lnTo>
                      <a:pt x="240" y="1135"/>
                    </a:lnTo>
                    <a:lnTo>
                      <a:pt x="242" y="1132"/>
                    </a:lnTo>
                    <a:lnTo>
                      <a:pt x="244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667560" y="5406120"/>
                <a:ext cx="12600" cy="10080"/>
              </a:xfrm>
              <a:custGeom>
                <a:avLst/>
                <a:gdLst/>
                <a:ahLst/>
                <a:rect l="l" t="t" r="r" b="b"/>
                <a:pathLst>
                  <a:path w="66" h="62">
                    <a:moveTo>
                      <a:pt x="59" y="59"/>
                    </a:moveTo>
                    <a:lnTo>
                      <a:pt x="19" y="62"/>
                    </a:lnTo>
                    <a:lnTo>
                      <a:pt x="20" y="55"/>
                    </a:lnTo>
                    <a:lnTo>
                      <a:pt x="21" y="46"/>
                    </a:lnTo>
                    <a:lnTo>
                      <a:pt x="20" y="39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5"/>
                    </a:lnTo>
                    <a:lnTo>
                      <a:pt x="66" y="0"/>
                    </a:lnTo>
                    <a:lnTo>
                      <a:pt x="59" y="59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650640" y="5391720"/>
                <a:ext cx="24840" cy="51840"/>
              </a:xfrm>
              <a:custGeom>
                <a:avLst/>
                <a:gdLst/>
                <a:ahLst/>
                <a:rect l="l" t="t" r="r" b="b"/>
                <a:pathLst>
                  <a:path w="130" h="306">
                    <a:moveTo>
                      <a:pt x="58" y="261"/>
                    </a:moveTo>
                    <a:lnTo>
                      <a:pt x="52" y="260"/>
                    </a:lnTo>
                    <a:lnTo>
                      <a:pt x="46" y="259"/>
                    </a:lnTo>
                    <a:lnTo>
                      <a:pt x="41" y="259"/>
                    </a:lnTo>
                    <a:lnTo>
                      <a:pt x="35" y="258"/>
                    </a:lnTo>
                    <a:lnTo>
                      <a:pt x="28" y="245"/>
                    </a:lnTo>
                    <a:lnTo>
                      <a:pt x="25" y="218"/>
                    </a:lnTo>
                    <a:lnTo>
                      <a:pt x="25" y="179"/>
                    </a:lnTo>
                    <a:lnTo>
                      <a:pt x="27" y="133"/>
                    </a:lnTo>
                    <a:lnTo>
                      <a:pt x="27" y="128"/>
                    </a:lnTo>
                    <a:lnTo>
                      <a:pt x="23" y="127"/>
                    </a:lnTo>
                    <a:lnTo>
                      <a:pt x="16" y="126"/>
                    </a:lnTo>
                    <a:lnTo>
                      <a:pt x="10" y="124"/>
                    </a:lnTo>
                    <a:lnTo>
                      <a:pt x="5" y="122"/>
                    </a:lnTo>
                    <a:lnTo>
                      <a:pt x="0" y="121"/>
                    </a:lnTo>
                    <a:lnTo>
                      <a:pt x="5" y="119"/>
                    </a:lnTo>
                    <a:lnTo>
                      <a:pt x="10" y="119"/>
                    </a:lnTo>
                    <a:lnTo>
                      <a:pt x="17" y="119"/>
                    </a:lnTo>
                    <a:lnTo>
                      <a:pt x="23" y="121"/>
                    </a:lnTo>
                    <a:lnTo>
                      <a:pt x="28" y="121"/>
                    </a:lnTo>
                    <a:lnTo>
                      <a:pt x="28" y="119"/>
                    </a:lnTo>
                    <a:lnTo>
                      <a:pt x="30" y="118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2" y="102"/>
                    </a:lnTo>
                    <a:lnTo>
                      <a:pt x="38" y="70"/>
                    </a:lnTo>
                    <a:lnTo>
                      <a:pt x="45" y="34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5" y="2"/>
                    </a:lnTo>
                    <a:lnTo>
                      <a:pt x="57" y="1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5"/>
                    </a:lnTo>
                    <a:lnTo>
                      <a:pt x="104" y="7"/>
                    </a:lnTo>
                    <a:lnTo>
                      <a:pt x="114" y="12"/>
                    </a:lnTo>
                    <a:lnTo>
                      <a:pt x="122" y="16"/>
                    </a:lnTo>
                    <a:lnTo>
                      <a:pt x="127" y="20"/>
                    </a:lnTo>
                    <a:lnTo>
                      <a:pt x="129" y="24"/>
                    </a:lnTo>
                    <a:lnTo>
                      <a:pt x="130" y="32"/>
                    </a:lnTo>
                    <a:lnTo>
                      <a:pt x="130" y="49"/>
                    </a:lnTo>
                    <a:lnTo>
                      <a:pt x="129" y="73"/>
                    </a:lnTo>
                    <a:lnTo>
                      <a:pt x="82" y="77"/>
                    </a:lnTo>
                    <a:lnTo>
                      <a:pt x="77" y="78"/>
                    </a:lnTo>
                    <a:lnTo>
                      <a:pt x="77" y="83"/>
                    </a:lnTo>
                    <a:lnTo>
                      <a:pt x="77" y="119"/>
                    </a:lnTo>
                    <a:lnTo>
                      <a:pt x="77" y="124"/>
                    </a:lnTo>
                    <a:lnTo>
                      <a:pt x="82" y="124"/>
                    </a:lnTo>
                    <a:lnTo>
                      <a:pt x="83" y="124"/>
                    </a:lnTo>
                    <a:lnTo>
                      <a:pt x="87" y="124"/>
                    </a:lnTo>
                    <a:lnTo>
                      <a:pt x="91" y="123"/>
                    </a:lnTo>
                    <a:lnTo>
                      <a:pt x="98" y="122"/>
                    </a:lnTo>
                    <a:lnTo>
                      <a:pt x="98" y="126"/>
                    </a:lnTo>
                    <a:lnTo>
                      <a:pt x="98" y="132"/>
                    </a:lnTo>
                    <a:lnTo>
                      <a:pt x="97" y="139"/>
                    </a:lnTo>
                    <a:lnTo>
                      <a:pt x="94" y="148"/>
                    </a:lnTo>
                    <a:lnTo>
                      <a:pt x="93" y="156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99" y="156"/>
                    </a:lnTo>
                    <a:lnTo>
                      <a:pt x="101" y="156"/>
                    </a:lnTo>
                    <a:lnTo>
                      <a:pt x="123" y="153"/>
                    </a:lnTo>
                    <a:lnTo>
                      <a:pt x="119" y="207"/>
                    </a:lnTo>
                    <a:lnTo>
                      <a:pt x="114" y="251"/>
                    </a:lnTo>
                    <a:lnTo>
                      <a:pt x="112" y="285"/>
                    </a:lnTo>
                    <a:lnTo>
                      <a:pt x="109" y="301"/>
                    </a:lnTo>
                    <a:lnTo>
                      <a:pt x="86" y="306"/>
                    </a:lnTo>
                    <a:lnTo>
                      <a:pt x="87" y="300"/>
                    </a:lnTo>
                    <a:lnTo>
                      <a:pt x="87" y="293"/>
                    </a:lnTo>
                    <a:lnTo>
                      <a:pt x="88" y="285"/>
                    </a:lnTo>
                    <a:lnTo>
                      <a:pt x="88" y="278"/>
                    </a:lnTo>
                    <a:lnTo>
                      <a:pt x="86" y="269"/>
                    </a:lnTo>
                    <a:lnTo>
                      <a:pt x="78" y="265"/>
                    </a:lnTo>
                    <a:lnTo>
                      <a:pt x="68" y="263"/>
                    </a:lnTo>
                    <a:lnTo>
                      <a:pt x="58" y="26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62880" y="5443920"/>
                <a:ext cx="14400" cy="6840"/>
              </a:xfrm>
              <a:custGeom>
                <a:avLst/>
                <a:gdLst/>
                <a:ahLst/>
                <a:rect l="l" t="t" r="r" b="b"/>
                <a:pathLst>
                  <a:path w="77" h="43">
                    <a:moveTo>
                      <a:pt x="0" y="20"/>
                    </a:moveTo>
                    <a:lnTo>
                      <a:pt x="72" y="0"/>
                    </a:lnTo>
                    <a:lnTo>
                      <a:pt x="77" y="31"/>
                    </a:lnTo>
                    <a:lnTo>
                      <a:pt x="71" y="31"/>
                    </a:lnTo>
                    <a:lnTo>
                      <a:pt x="65" y="32"/>
                    </a:lnTo>
                    <a:lnTo>
                      <a:pt x="59" y="32"/>
                    </a:lnTo>
                    <a:lnTo>
                      <a:pt x="52" y="33"/>
                    </a:lnTo>
                    <a:lnTo>
                      <a:pt x="46" y="33"/>
                    </a:lnTo>
                    <a:lnTo>
                      <a:pt x="40" y="35"/>
                    </a:lnTo>
                    <a:lnTo>
                      <a:pt x="34" y="36"/>
                    </a:lnTo>
                    <a:lnTo>
                      <a:pt x="27" y="37"/>
                    </a:lnTo>
                    <a:lnTo>
                      <a:pt x="21" y="38"/>
                    </a:lnTo>
                    <a:lnTo>
                      <a:pt x="16" y="40"/>
                    </a:lnTo>
                    <a:lnTo>
                      <a:pt x="10" y="42"/>
                    </a:lnTo>
                    <a:lnTo>
                      <a:pt x="5" y="4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616440" y="5442840"/>
                <a:ext cx="32400" cy="28080"/>
              </a:xfrm>
              <a:custGeom>
                <a:avLst/>
                <a:gdLst/>
                <a:ahLst/>
                <a:rect l="l" t="t" r="r" b="b"/>
                <a:pathLst>
                  <a:path w="169" h="164">
                    <a:moveTo>
                      <a:pt x="169" y="77"/>
                    </a:moveTo>
                    <a:lnTo>
                      <a:pt x="163" y="79"/>
                    </a:lnTo>
                    <a:lnTo>
                      <a:pt x="157" y="83"/>
                    </a:lnTo>
                    <a:lnTo>
                      <a:pt x="152" y="86"/>
                    </a:lnTo>
                    <a:lnTo>
                      <a:pt x="147" y="89"/>
                    </a:lnTo>
                    <a:lnTo>
                      <a:pt x="134" y="28"/>
                    </a:lnTo>
                    <a:lnTo>
                      <a:pt x="134" y="22"/>
                    </a:lnTo>
                    <a:lnTo>
                      <a:pt x="128" y="23"/>
                    </a:lnTo>
                    <a:lnTo>
                      <a:pt x="46" y="48"/>
                    </a:lnTo>
                    <a:lnTo>
                      <a:pt x="42" y="50"/>
                    </a:lnTo>
                    <a:lnTo>
                      <a:pt x="42" y="53"/>
                    </a:lnTo>
                    <a:lnTo>
                      <a:pt x="62" y="162"/>
                    </a:lnTo>
                    <a:lnTo>
                      <a:pt x="62" y="162"/>
                    </a:lnTo>
                    <a:lnTo>
                      <a:pt x="50" y="147"/>
                    </a:lnTo>
                    <a:lnTo>
                      <a:pt x="46" y="143"/>
                    </a:lnTo>
                    <a:lnTo>
                      <a:pt x="42" y="147"/>
                    </a:lnTo>
                    <a:lnTo>
                      <a:pt x="21" y="164"/>
                    </a:lnTo>
                    <a:lnTo>
                      <a:pt x="0" y="31"/>
                    </a:lnTo>
                    <a:lnTo>
                      <a:pt x="156" y="0"/>
                    </a:lnTo>
                    <a:lnTo>
                      <a:pt x="169" y="7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626880" y="544896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83" h="128">
                    <a:moveTo>
                      <a:pt x="42" y="88"/>
                    </a:moveTo>
                    <a:lnTo>
                      <a:pt x="37" y="88"/>
                    </a:lnTo>
                    <a:lnTo>
                      <a:pt x="32" y="91"/>
                    </a:lnTo>
                    <a:lnTo>
                      <a:pt x="27" y="93"/>
                    </a:lnTo>
                    <a:lnTo>
                      <a:pt x="22" y="97"/>
                    </a:lnTo>
                    <a:lnTo>
                      <a:pt x="21" y="101"/>
                    </a:lnTo>
                    <a:lnTo>
                      <a:pt x="19" y="104"/>
                    </a:lnTo>
                    <a:lnTo>
                      <a:pt x="19" y="108"/>
                    </a:lnTo>
                    <a:lnTo>
                      <a:pt x="19" y="112"/>
                    </a:lnTo>
                    <a:lnTo>
                      <a:pt x="21" y="114"/>
                    </a:lnTo>
                    <a:lnTo>
                      <a:pt x="21" y="118"/>
                    </a:lnTo>
                    <a:lnTo>
                      <a:pt x="21" y="123"/>
                    </a:lnTo>
                    <a:lnTo>
                      <a:pt x="19" y="128"/>
                    </a:lnTo>
                    <a:lnTo>
                      <a:pt x="0" y="21"/>
                    </a:lnTo>
                    <a:lnTo>
                      <a:pt x="72" y="0"/>
                    </a:lnTo>
                    <a:lnTo>
                      <a:pt x="83" y="58"/>
                    </a:lnTo>
                    <a:lnTo>
                      <a:pt x="75" y="63"/>
                    </a:lnTo>
                    <a:lnTo>
                      <a:pt x="68" y="68"/>
                    </a:lnTo>
                    <a:lnTo>
                      <a:pt x="62" y="72"/>
                    </a:lnTo>
                    <a:lnTo>
                      <a:pt x="57" y="77"/>
                    </a:lnTo>
                    <a:lnTo>
                      <a:pt x="52" y="81"/>
                    </a:lnTo>
                    <a:lnTo>
                      <a:pt x="47" y="83"/>
                    </a:lnTo>
                    <a:lnTo>
                      <a:pt x="44" y="86"/>
                    </a:lnTo>
                    <a:lnTo>
                      <a:pt x="42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624720" y="547164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28" h="97">
                    <a:moveTo>
                      <a:pt x="21" y="0"/>
                    </a:moveTo>
                    <a:lnTo>
                      <a:pt x="28" y="34"/>
                    </a:lnTo>
                    <a:lnTo>
                      <a:pt x="26" y="48"/>
                    </a:lnTo>
                    <a:lnTo>
                      <a:pt x="24" y="63"/>
                    </a:lnTo>
                    <a:lnTo>
                      <a:pt x="23" y="79"/>
                    </a:lnTo>
                    <a:lnTo>
                      <a:pt x="20" y="9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25800" y="54403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3" y="12"/>
                    </a:moveTo>
                    <a:lnTo>
                      <a:pt x="7" y="9"/>
                    </a:lnTo>
                    <a:lnTo>
                      <a:pt x="11" y="5"/>
                    </a:lnTo>
                    <a:lnTo>
                      <a:pt x="14" y="2"/>
                    </a:lnTo>
                    <a:lnTo>
                      <a:pt x="19" y="1"/>
                    </a:lnTo>
                    <a:lnTo>
                      <a:pt x="28" y="0"/>
                    </a:lnTo>
                    <a:lnTo>
                      <a:pt x="37" y="2"/>
                    </a:lnTo>
                    <a:lnTo>
                      <a:pt x="44" y="9"/>
                    </a:lnTo>
                    <a:lnTo>
                      <a:pt x="48" y="1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612120" y="5468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77" h="83">
                    <a:moveTo>
                      <a:pt x="32" y="0"/>
                    </a:moveTo>
                    <a:lnTo>
                      <a:pt x="37" y="27"/>
                    </a:lnTo>
                    <a:lnTo>
                      <a:pt x="39" y="37"/>
                    </a:lnTo>
                    <a:lnTo>
                      <a:pt x="46" y="31"/>
                    </a:lnTo>
                    <a:lnTo>
                      <a:pt x="70" y="11"/>
                    </a:lnTo>
                    <a:lnTo>
                      <a:pt x="77" y="20"/>
                    </a:lnTo>
                    <a:lnTo>
                      <a:pt x="57" y="72"/>
                    </a:lnTo>
                    <a:lnTo>
                      <a:pt x="55" y="74"/>
                    </a:lnTo>
                    <a:lnTo>
                      <a:pt x="42" y="83"/>
                    </a:lnTo>
                    <a:lnTo>
                      <a:pt x="35" y="74"/>
                    </a:lnTo>
                    <a:lnTo>
                      <a:pt x="27" y="66"/>
                    </a:lnTo>
                    <a:lnTo>
                      <a:pt x="20" y="57"/>
                    </a:lnTo>
                    <a:lnTo>
                      <a:pt x="14" y="49"/>
                    </a:lnTo>
                    <a:lnTo>
                      <a:pt x="9" y="42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4" y="22"/>
                    </a:lnTo>
                    <a:lnTo>
                      <a:pt x="10" y="16"/>
                    </a:lnTo>
                    <a:lnTo>
                      <a:pt x="20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680880" y="55753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33" h="127">
                    <a:moveTo>
                      <a:pt x="0" y="19"/>
                    </a:moveTo>
                    <a:lnTo>
                      <a:pt x="8" y="15"/>
                    </a:lnTo>
                    <a:lnTo>
                      <a:pt x="17" y="10"/>
                    </a:lnTo>
                    <a:lnTo>
                      <a:pt x="25" y="5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9"/>
                    </a:lnTo>
                    <a:lnTo>
                      <a:pt x="26" y="32"/>
                    </a:lnTo>
                    <a:lnTo>
                      <a:pt x="26" y="66"/>
                    </a:lnTo>
                    <a:lnTo>
                      <a:pt x="27" y="101"/>
                    </a:lnTo>
                    <a:lnTo>
                      <a:pt x="28" y="126"/>
                    </a:lnTo>
                    <a:lnTo>
                      <a:pt x="27" y="127"/>
                    </a:lnTo>
                    <a:lnTo>
                      <a:pt x="21" y="106"/>
                    </a:lnTo>
                    <a:lnTo>
                      <a:pt x="13" y="78"/>
                    </a:lnTo>
                    <a:lnTo>
                      <a:pt x="5" y="4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0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621840" y="5452200"/>
                <a:ext cx="87840" cy="127080"/>
              </a:xfrm>
              <a:custGeom>
                <a:avLst/>
                <a:gdLst/>
                <a:ahLst/>
                <a:rect l="l" t="t" r="r" b="b"/>
                <a:pathLst>
                  <a:path w="458" h="747">
                    <a:moveTo>
                      <a:pt x="451" y="233"/>
                    </a:moveTo>
                    <a:lnTo>
                      <a:pt x="446" y="236"/>
                    </a:lnTo>
                    <a:lnTo>
                      <a:pt x="441" y="236"/>
                    </a:lnTo>
                    <a:lnTo>
                      <a:pt x="436" y="236"/>
                    </a:lnTo>
                    <a:lnTo>
                      <a:pt x="435" y="236"/>
                    </a:lnTo>
                    <a:lnTo>
                      <a:pt x="431" y="248"/>
                    </a:lnTo>
                    <a:lnTo>
                      <a:pt x="432" y="124"/>
                    </a:lnTo>
                    <a:lnTo>
                      <a:pt x="415" y="122"/>
                    </a:lnTo>
                    <a:lnTo>
                      <a:pt x="411" y="659"/>
                    </a:lnTo>
                    <a:lnTo>
                      <a:pt x="402" y="665"/>
                    </a:lnTo>
                    <a:lnTo>
                      <a:pt x="391" y="673"/>
                    </a:lnTo>
                    <a:lnTo>
                      <a:pt x="376" y="683"/>
                    </a:lnTo>
                    <a:lnTo>
                      <a:pt x="359" y="694"/>
                    </a:lnTo>
                    <a:lnTo>
                      <a:pt x="340" y="706"/>
                    </a:lnTo>
                    <a:lnTo>
                      <a:pt x="320" y="717"/>
                    </a:lnTo>
                    <a:lnTo>
                      <a:pt x="300" y="727"/>
                    </a:lnTo>
                    <a:lnTo>
                      <a:pt x="281" y="737"/>
                    </a:lnTo>
                    <a:lnTo>
                      <a:pt x="262" y="744"/>
                    </a:lnTo>
                    <a:lnTo>
                      <a:pt x="238" y="746"/>
                    </a:lnTo>
                    <a:lnTo>
                      <a:pt x="212" y="747"/>
                    </a:lnTo>
                    <a:lnTo>
                      <a:pt x="186" y="746"/>
                    </a:lnTo>
                    <a:lnTo>
                      <a:pt x="159" y="744"/>
                    </a:lnTo>
                    <a:lnTo>
                      <a:pt x="136" y="740"/>
                    </a:lnTo>
                    <a:lnTo>
                      <a:pt x="117" y="736"/>
                    </a:lnTo>
                    <a:lnTo>
                      <a:pt x="103" y="734"/>
                    </a:lnTo>
                    <a:lnTo>
                      <a:pt x="91" y="338"/>
                    </a:lnTo>
                    <a:lnTo>
                      <a:pt x="102" y="324"/>
                    </a:lnTo>
                    <a:lnTo>
                      <a:pt x="113" y="309"/>
                    </a:lnTo>
                    <a:lnTo>
                      <a:pt x="123" y="294"/>
                    </a:lnTo>
                    <a:lnTo>
                      <a:pt x="133" y="280"/>
                    </a:lnTo>
                    <a:lnTo>
                      <a:pt x="142" y="268"/>
                    </a:lnTo>
                    <a:lnTo>
                      <a:pt x="148" y="255"/>
                    </a:lnTo>
                    <a:lnTo>
                      <a:pt x="154" y="247"/>
                    </a:lnTo>
                    <a:lnTo>
                      <a:pt x="158" y="239"/>
                    </a:lnTo>
                    <a:lnTo>
                      <a:pt x="145" y="231"/>
                    </a:lnTo>
                    <a:lnTo>
                      <a:pt x="137" y="243"/>
                    </a:lnTo>
                    <a:lnTo>
                      <a:pt x="128" y="257"/>
                    </a:lnTo>
                    <a:lnTo>
                      <a:pt x="120" y="269"/>
                    </a:lnTo>
                    <a:lnTo>
                      <a:pt x="111" y="283"/>
                    </a:lnTo>
                    <a:lnTo>
                      <a:pt x="101" y="295"/>
                    </a:lnTo>
                    <a:lnTo>
                      <a:pt x="92" y="308"/>
                    </a:lnTo>
                    <a:lnTo>
                      <a:pt x="84" y="320"/>
                    </a:lnTo>
                    <a:lnTo>
                      <a:pt x="75" y="330"/>
                    </a:lnTo>
                    <a:lnTo>
                      <a:pt x="74" y="330"/>
                    </a:lnTo>
                    <a:lnTo>
                      <a:pt x="74" y="331"/>
                    </a:lnTo>
                    <a:lnTo>
                      <a:pt x="64" y="343"/>
                    </a:lnTo>
                    <a:lnTo>
                      <a:pt x="54" y="351"/>
                    </a:lnTo>
                    <a:lnTo>
                      <a:pt x="45" y="358"/>
                    </a:lnTo>
                    <a:lnTo>
                      <a:pt x="39" y="360"/>
                    </a:lnTo>
                    <a:lnTo>
                      <a:pt x="37" y="360"/>
                    </a:lnTo>
                    <a:lnTo>
                      <a:pt x="37" y="360"/>
                    </a:lnTo>
                    <a:lnTo>
                      <a:pt x="37" y="360"/>
                    </a:lnTo>
                    <a:lnTo>
                      <a:pt x="37" y="359"/>
                    </a:lnTo>
                    <a:lnTo>
                      <a:pt x="30" y="348"/>
                    </a:lnTo>
                    <a:lnTo>
                      <a:pt x="24" y="330"/>
                    </a:lnTo>
                    <a:lnTo>
                      <a:pt x="19" y="308"/>
                    </a:lnTo>
                    <a:lnTo>
                      <a:pt x="14" y="284"/>
                    </a:lnTo>
                    <a:lnTo>
                      <a:pt x="9" y="258"/>
                    </a:lnTo>
                    <a:lnTo>
                      <a:pt x="5" y="233"/>
                    </a:lnTo>
                    <a:lnTo>
                      <a:pt x="3" y="211"/>
                    </a:lnTo>
                    <a:lnTo>
                      <a:pt x="0" y="192"/>
                    </a:lnTo>
                    <a:lnTo>
                      <a:pt x="5" y="188"/>
                    </a:lnTo>
                    <a:lnTo>
                      <a:pt x="31" y="239"/>
                    </a:lnTo>
                    <a:lnTo>
                      <a:pt x="32" y="239"/>
                    </a:lnTo>
                    <a:lnTo>
                      <a:pt x="31" y="249"/>
                    </a:lnTo>
                    <a:lnTo>
                      <a:pt x="30" y="260"/>
                    </a:lnTo>
                    <a:lnTo>
                      <a:pt x="28" y="272"/>
                    </a:lnTo>
                    <a:lnTo>
                      <a:pt x="26" y="282"/>
                    </a:lnTo>
                    <a:lnTo>
                      <a:pt x="44" y="284"/>
                    </a:lnTo>
                    <a:lnTo>
                      <a:pt x="51" y="233"/>
                    </a:lnTo>
                    <a:lnTo>
                      <a:pt x="59" y="172"/>
                    </a:lnTo>
                    <a:lnTo>
                      <a:pt x="64" y="119"/>
                    </a:lnTo>
                    <a:lnTo>
                      <a:pt x="65" y="90"/>
                    </a:lnTo>
                    <a:lnTo>
                      <a:pt x="66" y="89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4" y="89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9" y="87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2" y="84"/>
                    </a:lnTo>
                    <a:lnTo>
                      <a:pt x="91" y="76"/>
                    </a:lnTo>
                    <a:lnTo>
                      <a:pt x="106" y="66"/>
                    </a:lnTo>
                    <a:lnTo>
                      <a:pt x="125" y="54"/>
                    </a:lnTo>
                    <a:lnTo>
                      <a:pt x="148" y="40"/>
                    </a:lnTo>
                    <a:lnTo>
                      <a:pt x="177" y="28"/>
                    </a:lnTo>
                    <a:lnTo>
                      <a:pt x="208" y="15"/>
                    </a:lnTo>
                    <a:lnTo>
                      <a:pt x="244" y="6"/>
                    </a:lnTo>
                    <a:lnTo>
                      <a:pt x="276" y="2"/>
                    </a:lnTo>
                    <a:lnTo>
                      <a:pt x="309" y="0"/>
                    </a:lnTo>
                    <a:lnTo>
                      <a:pt x="339" y="2"/>
                    </a:lnTo>
                    <a:lnTo>
                      <a:pt x="366" y="4"/>
                    </a:lnTo>
                    <a:lnTo>
                      <a:pt x="390" y="9"/>
                    </a:lnTo>
                    <a:lnTo>
                      <a:pt x="411" y="13"/>
                    </a:lnTo>
                    <a:lnTo>
                      <a:pt x="427" y="18"/>
                    </a:lnTo>
                    <a:lnTo>
                      <a:pt x="437" y="21"/>
                    </a:lnTo>
                    <a:lnTo>
                      <a:pt x="442" y="56"/>
                    </a:lnTo>
                    <a:lnTo>
                      <a:pt x="450" y="111"/>
                    </a:lnTo>
                    <a:lnTo>
                      <a:pt x="456" y="168"/>
                    </a:lnTo>
                    <a:lnTo>
                      <a:pt x="458" y="209"/>
                    </a:lnTo>
                    <a:lnTo>
                      <a:pt x="458" y="217"/>
                    </a:lnTo>
                    <a:lnTo>
                      <a:pt x="457" y="223"/>
                    </a:lnTo>
                    <a:lnTo>
                      <a:pt x="455" y="229"/>
                    </a:lnTo>
                    <a:lnTo>
                      <a:pt x="45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626880" y="5615640"/>
                <a:ext cx="27720" cy="1008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40" y="29"/>
                    </a:moveTo>
                    <a:lnTo>
                      <a:pt x="139" y="30"/>
                    </a:lnTo>
                    <a:lnTo>
                      <a:pt x="135" y="33"/>
                    </a:lnTo>
                    <a:lnTo>
                      <a:pt x="128" y="33"/>
                    </a:lnTo>
                    <a:lnTo>
                      <a:pt x="119" y="28"/>
                    </a:lnTo>
                    <a:lnTo>
                      <a:pt x="109" y="18"/>
                    </a:lnTo>
                    <a:lnTo>
                      <a:pt x="102" y="9"/>
                    </a:lnTo>
                    <a:lnTo>
                      <a:pt x="97" y="3"/>
                    </a:lnTo>
                    <a:lnTo>
                      <a:pt x="94" y="0"/>
                    </a:lnTo>
                    <a:lnTo>
                      <a:pt x="73" y="8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9" y="18"/>
                    </a:lnTo>
                    <a:lnTo>
                      <a:pt x="19" y="24"/>
                    </a:lnTo>
                    <a:lnTo>
                      <a:pt x="32" y="30"/>
                    </a:lnTo>
                    <a:lnTo>
                      <a:pt x="46" y="35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5" y="44"/>
                    </a:lnTo>
                    <a:lnTo>
                      <a:pt x="85" y="39"/>
                    </a:lnTo>
                    <a:lnTo>
                      <a:pt x="97" y="35"/>
                    </a:lnTo>
                    <a:lnTo>
                      <a:pt x="105" y="34"/>
                    </a:lnTo>
                    <a:lnTo>
                      <a:pt x="112" y="37"/>
                    </a:lnTo>
                    <a:lnTo>
                      <a:pt x="117" y="45"/>
                    </a:lnTo>
                    <a:lnTo>
                      <a:pt x="122" y="50"/>
                    </a:lnTo>
                    <a:lnTo>
                      <a:pt x="125" y="52"/>
                    </a:lnTo>
                    <a:lnTo>
                      <a:pt x="126" y="54"/>
                    </a:lnTo>
                    <a:lnTo>
                      <a:pt x="144" y="60"/>
                    </a:lnTo>
                    <a:lnTo>
                      <a:pt x="144" y="3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665760" y="5601240"/>
                <a:ext cx="27720" cy="1008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141" y="30"/>
                    </a:moveTo>
                    <a:lnTo>
                      <a:pt x="139" y="31"/>
                    </a:lnTo>
                    <a:lnTo>
                      <a:pt x="136" y="34"/>
                    </a:lnTo>
                    <a:lnTo>
                      <a:pt x="128" y="34"/>
                    </a:lnTo>
                    <a:lnTo>
                      <a:pt x="119" y="27"/>
                    </a:lnTo>
                    <a:lnTo>
                      <a:pt x="110" y="19"/>
                    </a:lnTo>
                    <a:lnTo>
                      <a:pt x="102" y="10"/>
                    </a:lnTo>
                    <a:lnTo>
                      <a:pt x="97" y="2"/>
                    </a:lnTo>
                    <a:lnTo>
                      <a:pt x="95" y="0"/>
                    </a:lnTo>
                    <a:lnTo>
                      <a:pt x="73" y="7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10" y="17"/>
                    </a:lnTo>
                    <a:lnTo>
                      <a:pt x="20" y="24"/>
                    </a:lnTo>
                    <a:lnTo>
                      <a:pt x="32" y="30"/>
                    </a:lnTo>
                    <a:lnTo>
                      <a:pt x="46" y="35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6" y="44"/>
                    </a:lnTo>
                    <a:lnTo>
                      <a:pt x="81" y="42"/>
                    </a:lnTo>
                    <a:lnTo>
                      <a:pt x="86" y="40"/>
                    </a:lnTo>
                    <a:lnTo>
                      <a:pt x="92" y="37"/>
                    </a:lnTo>
                    <a:lnTo>
                      <a:pt x="97" y="35"/>
                    </a:lnTo>
                    <a:lnTo>
                      <a:pt x="102" y="34"/>
                    </a:lnTo>
                    <a:lnTo>
                      <a:pt x="106" y="34"/>
                    </a:lnTo>
                    <a:lnTo>
                      <a:pt x="110" y="35"/>
                    </a:lnTo>
                    <a:lnTo>
                      <a:pt x="113" y="37"/>
                    </a:lnTo>
                    <a:lnTo>
                      <a:pt x="118" y="45"/>
                    </a:lnTo>
                    <a:lnTo>
                      <a:pt x="122" y="50"/>
                    </a:lnTo>
                    <a:lnTo>
                      <a:pt x="126" y="54"/>
                    </a:lnTo>
                    <a:lnTo>
                      <a:pt x="127" y="55"/>
                    </a:lnTo>
                    <a:lnTo>
                      <a:pt x="146" y="60"/>
                    </a:lnTo>
                    <a:lnTo>
                      <a:pt x="146" y="39"/>
                    </a:lnTo>
                    <a:lnTo>
                      <a:pt x="14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649560" y="54061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0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646320" y="5580720"/>
                <a:ext cx="7200" cy="29880"/>
              </a:xfrm>
              <a:custGeom>
                <a:avLst/>
                <a:gdLst/>
                <a:ahLst/>
                <a:rect l="l" t="t" r="r" b="b"/>
                <a:pathLst>
                  <a:path w="39" h="178">
                    <a:moveTo>
                      <a:pt x="36" y="11"/>
                    </a:moveTo>
                    <a:lnTo>
                      <a:pt x="35" y="16"/>
                    </a:lnTo>
                    <a:lnTo>
                      <a:pt x="33" y="27"/>
                    </a:lnTo>
                    <a:lnTo>
                      <a:pt x="29" y="44"/>
                    </a:lnTo>
                    <a:lnTo>
                      <a:pt x="24" y="60"/>
                    </a:lnTo>
                    <a:lnTo>
                      <a:pt x="20" y="83"/>
                    </a:lnTo>
                    <a:lnTo>
                      <a:pt x="20" y="117"/>
                    </a:lnTo>
                    <a:lnTo>
                      <a:pt x="20" y="152"/>
                    </a:lnTo>
                    <a:lnTo>
                      <a:pt x="23" y="177"/>
                    </a:lnTo>
                    <a:lnTo>
                      <a:pt x="22" y="178"/>
                    </a:lnTo>
                    <a:lnTo>
                      <a:pt x="17" y="158"/>
                    </a:lnTo>
                    <a:lnTo>
                      <a:pt x="12" y="132"/>
                    </a:lnTo>
                    <a:lnTo>
                      <a:pt x="5" y="105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4" y="5"/>
                    </a:lnTo>
                    <a:lnTo>
                      <a:pt x="39" y="5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30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 flipH="1">
              <a:off x="1174320" y="2484720"/>
              <a:ext cx="9720" cy="282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673440" y="2272680"/>
              <a:ext cx="0" cy="326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387160" y="2570400"/>
              <a:ext cx="47880" cy="328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604560" y="175932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/02 - 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314080" y="2570400"/>
              <a:ext cx="9720" cy="195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27800" y="2515680"/>
              <a:ext cx="0" cy="155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1" name=""/>
            <p:cNvCxnSpPr>
              <a:endCxn id="1832" idx="4"/>
            </p:cNvCxnSpPr>
            <p:nvPr/>
          </p:nvCxnSpPr>
          <p:spPr>
            <a:xfrm flipV="1">
              <a:off x="2921040" y="5805720"/>
              <a:ext cx="4750560" cy="164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1833" name=""/>
            <p:cNvGraphicFramePr/>
            <p:nvPr/>
          </p:nvGraphicFramePr>
          <p:xfrm>
            <a:off x="6585120" y="2621160"/>
            <a:ext cx="1116000" cy="34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85120" y="2621160"/>
                      <a:ext cx="1116000" cy="34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35" name="COMML013" descr=""/>
            <p:cNvPicPr/>
            <p:nvPr/>
          </p:nvPicPr>
          <p:blipFill>
            <a:blip r:embed="rId3"/>
            <a:stretch/>
          </p:blipFill>
          <p:spPr>
            <a:xfrm>
              <a:off x="6458040" y="4514400"/>
              <a:ext cx="130644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6" name=""/>
            <p:cNvGrpSpPr/>
            <p:nvPr/>
          </p:nvGrpSpPr>
          <p:grpSpPr>
            <a:xfrm>
              <a:off x="7289640" y="5221080"/>
              <a:ext cx="762120" cy="584280"/>
              <a:chOff x="7289640" y="5221080"/>
              <a:chExt cx="762120" cy="584280"/>
            </a:xfrm>
          </p:grpSpPr>
          <p:sp>
            <p:nvSpPr>
              <p:cNvPr id="1832" name=""/>
              <p:cNvSpPr/>
              <p:nvPr/>
            </p:nvSpPr>
            <p:spPr>
              <a:xfrm>
                <a:off x="7289640" y="5221080"/>
                <a:ext cx="762120" cy="584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7" name="WMNO038" descr=""/>
              <p:cNvPicPr/>
              <p:nvPr/>
            </p:nvPicPr>
            <p:blipFill>
              <a:blip r:embed="rId4"/>
              <a:stretch/>
            </p:blipFill>
            <p:spPr>
              <a:xfrm>
                <a:off x="7442280" y="5299560"/>
                <a:ext cx="457200" cy="29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8" name=""/>
            <p:cNvSpPr/>
            <p:nvPr/>
          </p:nvSpPr>
          <p:spPr>
            <a:xfrm>
              <a:off x="7670880" y="50367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638040" y="5034960"/>
              <a:ext cx="85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ami ART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459560" y="3638160"/>
              <a:ext cx="93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RIN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peration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/ATN A/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b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48040" y="3053880"/>
              <a:ext cx="13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merican Airlines CPDL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Aircra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74800" y="3053880"/>
              <a:ext cx="1579680" cy="344160"/>
            </a:xfrm>
            <a:custGeom>
              <a:avLst/>
              <a:gdLst>
                <a:gd name="textAreaLeft" fmla="*/ 394920 w 1579680"/>
                <a:gd name="textAreaRight" fmla="*/ 1184760 w 1579680"/>
                <a:gd name="textAreaTop" fmla="*/ 4284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/AT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/G Sub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2" name=""/>
            <p:cNvCxnSpPr>
              <a:stCxn id="1843" idx="3"/>
              <a:endCxn id="1835" idx="0"/>
            </p:cNvCxnSpPr>
            <p:nvPr/>
          </p:nvCxnSpPr>
          <p:spPr>
            <a:xfrm>
              <a:off x="6083280" y="4194360"/>
              <a:ext cx="1029600" cy="320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4" name=""/>
            <p:cNvCxnSpPr>
              <a:stCxn id="1845" idx="3"/>
            </p:cNvCxnSpPr>
            <p:nvPr/>
          </p:nvCxnSpPr>
          <p:spPr>
            <a:xfrm flipV="1">
              <a:off x="1711080" y="4935600"/>
              <a:ext cx="4756680" cy="490320"/>
            </a:xfrm>
            <a:prstGeom prst="bentConnector3">
              <a:avLst>
                <a:gd name="adj1" fmla="val 6768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6" name=""/>
            <p:cNvCxnSpPr>
              <a:stCxn id="1847" idx="3"/>
              <a:endCxn id="1843" idx="1"/>
            </p:cNvCxnSpPr>
            <p:nvPr/>
          </p:nvCxnSpPr>
          <p:spPr>
            <a:xfrm flipV="1">
              <a:off x="2873520" y="4194000"/>
              <a:ext cx="2118240" cy="454680"/>
            </a:xfrm>
            <a:prstGeom prst="bentConnector3">
              <a:avLst>
                <a:gd name="adj1" fmla="val 4999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8" name=""/>
            <p:cNvSpPr/>
            <p:nvPr/>
          </p:nvSpPr>
          <p:spPr>
            <a:xfrm>
              <a:off x="763560" y="6329520"/>
              <a:ext cx="139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Interdependen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1040" y="6143400"/>
              <a:ext cx="142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 Interdependen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12640" y="5974560"/>
              <a:ext cx="249480" cy="114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8960" y="595620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450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830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906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808520" y="4039920"/>
              <a:ext cx="1457280" cy="3517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LAP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41560" y="5458320"/>
              <a:ext cx="1457280" cy="35316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ost A5f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46280" y="5807160"/>
              <a:ext cx="1457280" cy="3517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846520" y="4737600"/>
              <a:ext cx="1457280" cy="35316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/G AT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8760" y="4493880"/>
              <a:ext cx="1457280" cy="3535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520"/>
                <a:gd name="textAreaBottom" fmla="*/ 3535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SI/AC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 S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36680" y="5270760"/>
              <a:ext cx="1457280" cy="3535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520"/>
                <a:gd name="textAreaBottom" fmla="*/ 3535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ID/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3280" y="6171480"/>
              <a:ext cx="249120" cy="114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280" y="6359040"/>
              <a:ext cx="249120" cy="11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30600" y="2463120"/>
              <a:ext cx="1014480" cy="344160"/>
            </a:xfrm>
            <a:custGeom>
              <a:avLst/>
              <a:gdLst>
                <a:gd name="textAreaLeft" fmla="*/ 253440 w 1014480"/>
                <a:gd name="textAreaRight" fmla="*/ 761040 w 1014480"/>
                <a:gd name="textAreaTop" fmla="*/ 4284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ckw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CM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411200" y="2458440"/>
              <a:ext cx="1116000" cy="348480"/>
            </a:xfrm>
            <a:custGeom>
              <a:avLst/>
              <a:gdLst>
                <a:gd name="textAreaLeft" fmla="*/ 279000 w 1116000"/>
                <a:gd name="textAreaRight" fmla="*/ 837000 w 1116000"/>
                <a:gd name="textAreaTop" fmla="*/ 4356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ckw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 VD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089000" y="3475440"/>
              <a:ext cx="1838520" cy="351720"/>
            </a:xfrm>
            <a:custGeom>
              <a:avLst/>
              <a:gdLst>
                <a:gd name="textAreaLeft" fmla="*/ 459720 w 1838520"/>
                <a:gd name="textAreaRight" fmla="*/ 1379160 w 183852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PDLC/HOST S/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ATN V2.2 De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38320" y="3542400"/>
              <a:ext cx="1254240" cy="351720"/>
            </a:xfrm>
            <a:custGeom>
              <a:avLst/>
              <a:gdLst>
                <a:gd name="textAreaLeft" fmla="*/ 313560 w 1254240"/>
                <a:gd name="textAreaRight" fmla="*/ 940680 w 125424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TAL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ri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7153200" y="3412080"/>
              <a:ext cx="306360" cy="638280"/>
              <a:chOff x="7153200" y="3412080"/>
              <a:chExt cx="306360" cy="638280"/>
            </a:xfrm>
          </p:grpSpPr>
          <p:sp>
            <p:nvSpPr>
              <p:cNvPr id="1865" name=""/>
              <p:cNvSpPr/>
              <p:nvPr/>
            </p:nvSpPr>
            <p:spPr>
              <a:xfrm>
                <a:off x="7283520" y="3611160"/>
                <a:ext cx="4428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77040" y="3607200"/>
                <a:ext cx="58680" cy="443160"/>
              </a:xfrm>
              <a:custGeom>
                <a:avLst/>
                <a:gdLst/>
                <a:ahLst/>
                <a:rect l="l" t="t" r="r" b="b"/>
                <a:pathLst>
                  <a:path w="37" h="474">
                    <a:moveTo>
                      <a:pt x="0" y="0"/>
                    </a:moveTo>
                    <a:lnTo>
                      <a:pt x="36" y="55"/>
                    </a:lnTo>
                    <a:lnTo>
                      <a:pt x="0" y="148"/>
                    </a:lnTo>
                    <a:lnTo>
                      <a:pt x="36" y="234"/>
                    </a:lnTo>
                    <a:lnTo>
                      <a:pt x="0" y="326"/>
                    </a:lnTo>
                    <a:lnTo>
                      <a:pt x="36" y="412"/>
                    </a:lnTo>
                    <a:lnTo>
                      <a:pt x="0" y="4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77040" y="3607200"/>
                <a:ext cx="39600" cy="443160"/>
              </a:xfrm>
              <a:custGeom>
                <a:avLst/>
                <a:gdLst/>
                <a:ahLst/>
                <a:rect l="l" t="t" r="r" b="b"/>
                <a:pathLst>
                  <a:path w="25" h="474">
                    <a:moveTo>
                      <a:pt x="24" y="0"/>
                    </a:moveTo>
                    <a:lnTo>
                      <a:pt x="0" y="55"/>
                    </a:lnTo>
                    <a:lnTo>
                      <a:pt x="24" y="148"/>
                    </a:lnTo>
                    <a:lnTo>
                      <a:pt x="0" y="227"/>
                    </a:lnTo>
                    <a:lnTo>
                      <a:pt x="24" y="332"/>
                    </a:lnTo>
                    <a:lnTo>
                      <a:pt x="0" y="412"/>
                    </a:lnTo>
                    <a:lnTo>
                      <a:pt x="24" y="4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278480" y="36586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278480" y="374580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278480" y="38260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278480" y="39178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278480" y="399240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7297560" y="3412080"/>
                <a:ext cx="7920" cy="19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00720" y="3572640"/>
                <a:ext cx="192240" cy="35280"/>
              </a:xfrm>
              <a:custGeom>
                <a:avLst/>
                <a:gdLst/>
                <a:ahLst/>
                <a:rect l="l" t="t" r="r" b="b"/>
                <a:pathLst>
                  <a:path w="121" h="38">
                    <a:moveTo>
                      <a:pt x="0" y="0"/>
                    </a:moveTo>
                    <a:lnTo>
                      <a:pt x="0" y="37"/>
                    </a:lnTo>
                    <a:lnTo>
                      <a:pt x="120" y="37"/>
                    </a:lnTo>
                    <a:lnTo>
                      <a:pt x="12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153200" y="35672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6" y="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9"/>
                    </a:lnTo>
                    <a:lnTo>
                      <a:pt x="30" y="19"/>
                    </a:lnTo>
                    <a:lnTo>
                      <a:pt x="6" y="19"/>
                    </a:ln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153200" y="35672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6" y="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9"/>
                    </a:lnTo>
                    <a:lnTo>
                      <a:pt x="30" y="19"/>
                    </a:lnTo>
                    <a:lnTo>
                      <a:pt x="6" y="19"/>
                    </a:ln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41996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996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5336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2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35336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2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37244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7244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391160" y="3572640"/>
                <a:ext cx="1800" cy="1836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3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391160" y="3572640"/>
                <a:ext cx="1800" cy="1836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3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4484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4484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33428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33428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33428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33428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3818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3818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45440" y="3584880"/>
                <a:ext cx="1126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2T17:42:00Z</dcterms:created>
  <dc:creator>Satnav</dc:creator>
  <dc:description/>
  <dc:language>en-US</dc:language>
  <cp:lastModifiedBy>SON TRAN</cp:lastModifiedBy>
  <cp:lastPrinted>1999-08-30T13:34:29Z</cp:lastPrinted>
  <dcterms:modified xsi:type="dcterms:W3CDTF">1999-09-28T13:19:35Z</dcterms:modified>
  <cp:revision>303</cp:revision>
  <dc:subject/>
  <dc:title>WAAS Contract Options</dc:title>
</cp:coreProperties>
</file>