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22D9B4-5122-4ED6-8059-D466E6052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610480" y="217440"/>
            <a:ext cx="450720" cy="493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 txBox="1"/>
          <p:nvPr/>
        </p:nvSpPr>
        <p:spPr>
          <a:xfrm>
            <a:off x="138240" y="88920"/>
            <a:ext cx="25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5EAFC885-263A-4904-A7A3-021688A3409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ATNP WGs Jan 99 - Hawa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The Link2000+ Program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71600" y="3886200"/>
            <a:ext cx="6400800" cy="20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tin Adn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artin.adnams@eurocontrol.b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nny Van Roosbro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anny.van-roosbroek@eurocontrol.b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Programs and Base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03360" y="1585800"/>
            <a:ext cx="12258360" cy="4889520"/>
            <a:chOff x="603360" y="1585800"/>
            <a:chExt cx="12258360" cy="4889520"/>
          </a:xfrm>
        </p:grpSpPr>
        <p:sp>
          <p:nvSpPr>
            <p:cNvPr id="140" name=""/>
            <p:cNvSpPr txBox="1"/>
            <p:nvPr/>
          </p:nvSpPr>
          <p:spPr>
            <a:xfrm>
              <a:off x="4527720" y="4405320"/>
              <a:ext cx="8258040" cy="207000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aseline 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         RTCA/Euroca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-II Spec’s v.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603360" y="5300640"/>
              <a:ext cx="2984400" cy="1079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  <a:ea typeface="Arial"/>
                </a:rPr>
                <a:t>PETAL-II</a:t>
              </a:r>
              <a:br>
                <a:rPr sz="3200"/>
              </a:br>
              <a:r>
                <a:rPr b="1" lang="en-US" sz="2800" spc="-1" strike="noStrike">
                  <a:solidFill>
                    <a:srgbClr val="492395"/>
                  </a:solidFill>
                  <a:latin typeface="Arial"/>
                  <a:ea typeface="Arial"/>
                </a:rPr>
                <a:t>extens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5708520" y="5300640"/>
              <a:ext cx="2984400" cy="1079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  <a:ea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  <a:ea typeface="Arial"/>
                </a:rPr>
                <a:t>Builds 1 &amp; 1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30440" y="5840280"/>
              <a:ext cx="2436840" cy="18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2280" bIns="-62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4603680" y="1585800"/>
              <a:ext cx="8258040" cy="2038320"/>
            </a:xfrm>
            <a:prstGeom prst="rect">
              <a:avLst/>
            </a:prstGeom>
            <a:solidFill>
              <a:srgbClr val="cc99ff"/>
            </a:solidFill>
            <a:ln w="2556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aseline Tw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       RTCA/Euroca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2000+ Spec’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679320" y="2465280"/>
              <a:ext cx="2984400" cy="107964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  <a:ea typeface="Arial"/>
                </a:rPr>
                <a:t>Link2000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057400" y="3430440"/>
              <a:ext cx="380880" cy="1979640"/>
              <a:chOff x="2057400" y="3430440"/>
              <a:chExt cx="380880" cy="197964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2057400" y="3430440"/>
                <a:ext cx="0" cy="1751040"/>
              </a:xfrm>
              <a:prstGeom prst="line">
                <a:avLst/>
              </a:prstGeom>
              <a:ln w="203040">
                <a:solidFill>
                  <a:srgbClr val="c0c0c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1520" rIns="191520" tIns="146520" bIns="146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438280" y="3430440"/>
                <a:ext cx="0" cy="1979640"/>
              </a:xfrm>
              <a:prstGeom prst="line">
                <a:avLst/>
              </a:prstGeom>
              <a:ln w="38160">
                <a:solidFill>
                  <a:srgbClr val="c0c0c0"/>
                </a:solidFill>
                <a:custDash>
                  <a:ds d="133019" sp="133019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086600" y="3430440"/>
              <a:ext cx="380880" cy="1979640"/>
              <a:chOff x="7086600" y="3430440"/>
              <a:chExt cx="380880" cy="1979640"/>
            </a:xfrm>
          </p:grpSpPr>
          <p:sp>
            <p:nvSpPr>
              <p:cNvPr id="150" name=""/>
              <p:cNvSpPr/>
              <p:nvPr/>
            </p:nvSpPr>
            <p:spPr>
              <a:xfrm flipV="1">
                <a:off x="7086600" y="3430440"/>
                <a:ext cx="0" cy="1751040"/>
              </a:xfrm>
              <a:prstGeom prst="line">
                <a:avLst/>
              </a:prstGeom>
              <a:ln w="203040">
                <a:solidFill>
                  <a:srgbClr val="c0c0c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91520" rIns="191520" tIns="146520" bIns="146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467480" y="3430440"/>
                <a:ext cx="0" cy="1979640"/>
              </a:xfrm>
              <a:prstGeom prst="line">
                <a:avLst/>
              </a:prstGeom>
              <a:ln w="38160">
                <a:solidFill>
                  <a:srgbClr val="c0c0c0"/>
                </a:solidFill>
                <a:custDash>
                  <a:ds d="133019" sp="133019"/>
                </a:custDash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 txBox="1"/>
            <p:nvPr/>
          </p:nvSpPr>
          <p:spPr>
            <a:xfrm>
              <a:off x="5784840" y="2432160"/>
              <a:ext cx="2984400" cy="1079640"/>
            </a:xfrm>
            <a:prstGeom prst="rect">
              <a:avLst/>
            </a:prstGeom>
            <a:gradFill rotWithShape="0">
              <a:gsLst>
                <a:gs pos="0">
                  <a:srgbClr val="cccc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  <a:ea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  <a:ea typeface="Arial"/>
                </a:rPr>
                <a:t>Build 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6760" y="3005280"/>
              <a:ext cx="2436840" cy="14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2640" bIns="-62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 flipH="1" flipV="1">
            <a:off x="1601640" y="4649760"/>
            <a:ext cx="6094440" cy="836640"/>
          </a:xfrm>
          <a:prstGeom prst="line">
            <a:avLst/>
          </a:prstGeom>
          <a:ln w="76320">
            <a:solidFill>
              <a:srgbClr val="77777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01640" y="2897280"/>
            <a:ext cx="6094440" cy="684000"/>
          </a:xfrm>
          <a:prstGeom prst="line">
            <a:avLst/>
          </a:prstGeom>
          <a:ln w="76320">
            <a:solidFill>
              <a:srgbClr val="77777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seline Development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651120" y="2813040"/>
            <a:ext cx="1616040" cy="1189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RT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EUROC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648240" y="4336920"/>
            <a:ext cx="1616040" cy="1189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RT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EUROC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781600" y="2432160"/>
            <a:ext cx="1616040" cy="1189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P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781600" y="4684680"/>
            <a:ext cx="1616040" cy="118908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B2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20960" y="4262400"/>
            <a:ext cx="876240" cy="153504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18240" y="3825720"/>
            <a:ext cx="1609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20960" y="2509920"/>
            <a:ext cx="876240" cy="1535040"/>
          </a:xfrm>
          <a:prstGeom prst="rect">
            <a:avLst/>
          </a:prstGeom>
          <a:solidFill>
            <a:srgbClr val="99ff66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851120" y="4660920"/>
            <a:ext cx="9968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851120" y="2908440"/>
            <a:ext cx="996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2120" y="2584440"/>
            <a:ext cx="1384200" cy="32130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58760" y="2803680"/>
            <a:ext cx="487440" cy="2736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77920" y="2840040"/>
            <a:ext cx="488880" cy="26798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52280" y="5797440"/>
            <a:ext cx="16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2000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583400" y="1898640"/>
            <a:ext cx="1497240" cy="4508640"/>
            <a:chOff x="7583400" y="1898640"/>
            <a:chExt cx="1497240" cy="4508640"/>
          </a:xfrm>
        </p:grpSpPr>
        <p:sp>
          <p:nvSpPr>
            <p:cNvPr id="171" name=""/>
            <p:cNvSpPr/>
            <p:nvPr/>
          </p:nvSpPr>
          <p:spPr>
            <a:xfrm>
              <a:off x="7699320" y="1898640"/>
              <a:ext cx="1308240" cy="45086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8480520" y="2327400"/>
              <a:ext cx="600120" cy="37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4"/>
            <a:stretch/>
          </p:blipFill>
          <p:spPr>
            <a:xfrm>
              <a:off x="7691400" y="3043080"/>
              <a:ext cx="860400" cy="78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5"/>
            <a:stretch/>
          </p:blipFill>
          <p:spPr>
            <a:xfrm>
              <a:off x="7583400" y="4684680"/>
              <a:ext cx="1150920" cy="11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"/>
          <p:cNvSpPr txBox="1"/>
          <p:nvPr/>
        </p:nvSpPr>
        <p:spPr>
          <a:xfrm>
            <a:off x="1873080" y="3767040"/>
            <a:ext cx="2655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6095880"/>
            <a:ext cx="1919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A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59320" y="1828800"/>
            <a:ext cx="2119680" cy="991080"/>
          </a:xfrm>
          <a:custGeom>
            <a:avLst/>
            <a:gdLst/>
            <a:ahLst/>
            <a:rect l="0" t="0" r="r" b="b"/>
            <a:pathLst>
              <a:path fill="none" w="5888" h="2753">
                <a:moveTo>
                  <a:pt x="0" y="2753"/>
                </a:moveTo>
                <a:lnTo>
                  <a:pt x="0" y="0"/>
                </a:lnTo>
                <a:lnTo>
                  <a:pt x="5888" y="0"/>
                </a:lnTo>
              </a:path>
            </a:pathLst>
          </a:custGeom>
          <a:ln w="12600">
            <a:solidFill>
              <a:srgbClr val="969696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589800" y="1676520"/>
            <a:ext cx="1764000" cy="762480"/>
          </a:xfrm>
          <a:custGeom>
            <a:avLst/>
            <a:gdLst/>
            <a:ahLst/>
            <a:rect l="0" t="0" r="r" b="b"/>
            <a:pathLst>
              <a:path fill="none" w="4900" h="2118">
                <a:moveTo>
                  <a:pt x="0" y="2118"/>
                </a:moveTo>
                <a:lnTo>
                  <a:pt x="0" y="0"/>
                </a:lnTo>
                <a:lnTo>
                  <a:pt x="4900" y="0"/>
                </a:lnTo>
                <a:lnTo>
                  <a:pt x="4900" y="636"/>
                </a:lnTo>
              </a:path>
            </a:pathLst>
          </a:custGeom>
          <a:ln w="12600">
            <a:solidFill>
              <a:srgbClr val="969696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639200" y="914400"/>
            <a:ext cx="150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REQU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715000" y="930240"/>
            <a:ext cx="1573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DEVEL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429000" y="914400"/>
            <a:ext cx="1589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ENDO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8600" y="914400"/>
            <a:ext cx="196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  <a:ea typeface="Times New Roman"/>
              </a:rPr>
              <a:t>IMP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2057400"/>
            <a:ext cx="3505680" cy="533880"/>
          </a:xfrm>
          <a:custGeom>
            <a:avLst/>
            <a:gdLst/>
            <a:ahLst/>
            <a:rect l="0" t="0" r="r" b="b"/>
            <a:pathLst>
              <a:path fill="none" w="9738" h="1483">
                <a:moveTo>
                  <a:pt x="0" y="1483"/>
                </a:moveTo>
                <a:lnTo>
                  <a:pt x="0" y="0"/>
                </a:lnTo>
                <a:lnTo>
                  <a:pt x="9738" y="0"/>
                </a:lnTo>
              </a:path>
            </a:pathLst>
          </a:custGeom>
          <a:ln w="12600">
            <a:solidFill>
              <a:srgbClr val="969696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2720" y="2208240"/>
            <a:ext cx="1002240" cy="786240"/>
          </a:xfrm>
          <a:custGeom>
            <a:avLst/>
            <a:gdLst/>
            <a:ahLst/>
            <a:rect l="0" t="0" r="r" b="b"/>
            <a:pathLst>
              <a:path fill="none" w="2784" h="2184">
                <a:moveTo>
                  <a:pt x="0" y="2184"/>
                </a:moveTo>
                <a:lnTo>
                  <a:pt x="26" y="1770"/>
                </a:lnTo>
                <a:lnTo>
                  <a:pt x="132" y="1385"/>
                </a:lnTo>
                <a:lnTo>
                  <a:pt x="264" y="1010"/>
                </a:lnTo>
                <a:lnTo>
                  <a:pt x="427" y="680"/>
                </a:lnTo>
                <a:lnTo>
                  <a:pt x="533" y="533"/>
                </a:lnTo>
                <a:lnTo>
                  <a:pt x="639" y="401"/>
                </a:lnTo>
                <a:lnTo>
                  <a:pt x="750" y="295"/>
                </a:lnTo>
                <a:lnTo>
                  <a:pt x="882" y="185"/>
                </a:lnTo>
                <a:lnTo>
                  <a:pt x="1015" y="105"/>
                </a:lnTo>
                <a:lnTo>
                  <a:pt x="1125" y="52"/>
                </a:lnTo>
                <a:lnTo>
                  <a:pt x="1257" y="13"/>
                </a:lnTo>
                <a:lnTo>
                  <a:pt x="1390" y="0"/>
                </a:lnTo>
                <a:lnTo>
                  <a:pt x="1659" y="26"/>
                </a:lnTo>
                <a:lnTo>
                  <a:pt x="1901" y="92"/>
                </a:lnTo>
                <a:lnTo>
                  <a:pt x="2140" y="211"/>
                </a:lnTo>
                <a:lnTo>
                  <a:pt x="2356" y="348"/>
                </a:lnTo>
                <a:lnTo>
                  <a:pt x="2515" y="520"/>
                </a:lnTo>
                <a:lnTo>
                  <a:pt x="2678" y="706"/>
                </a:lnTo>
                <a:lnTo>
                  <a:pt x="2758" y="904"/>
                </a:lnTo>
                <a:lnTo>
                  <a:pt x="2784" y="1121"/>
                </a:lnTo>
              </a:path>
            </a:pathLst>
          </a:custGeom>
          <a:ln w="12600">
            <a:solidFill>
              <a:srgbClr val="ffcc66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51760" y="1676520"/>
            <a:ext cx="1203840" cy="937080"/>
          </a:xfrm>
          <a:custGeom>
            <a:avLst/>
            <a:gdLst/>
            <a:ahLst/>
            <a:rect l="0" t="0" r="r" b="b"/>
            <a:pathLst>
              <a:path fill="none" w="3344" h="2603">
                <a:moveTo>
                  <a:pt x="0" y="2603"/>
                </a:moveTo>
                <a:lnTo>
                  <a:pt x="39" y="2114"/>
                </a:lnTo>
                <a:lnTo>
                  <a:pt x="149" y="1650"/>
                </a:lnTo>
                <a:lnTo>
                  <a:pt x="295" y="1209"/>
                </a:lnTo>
                <a:lnTo>
                  <a:pt x="410" y="1002"/>
                </a:lnTo>
                <a:lnTo>
                  <a:pt x="520" y="812"/>
                </a:lnTo>
                <a:lnTo>
                  <a:pt x="670" y="639"/>
                </a:lnTo>
                <a:lnTo>
                  <a:pt x="780" y="476"/>
                </a:lnTo>
                <a:lnTo>
                  <a:pt x="931" y="335"/>
                </a:lnTo>
                <a:lnTo>
                  <a:pt x="1076" y="220"/>
                </a:lnTo>
                <a:lnTo>
                  <a:pt x="1226" y="127"/>
                </a:lnTo>
                <a:lnTo>
                  <a:pt x="1376" y="57"/>
                </a:lnTo>
                <a:lnTo>
                  <a:pt x="1522" y="13"/>
                </a:lnTo>
                <a:lnTo>
                  <a:pt x="1672" y="0"/>
                </a:lnTo>
                <a:lnTo>
                  <a:pt x="1967" y="13"/>
                </a:lnTo>
                <a:lnTo>
                  <a:pt x="2267" y="57"/>
                </a:lnTo>
                <a:lnTo>
                  <a:pt x="2564" y="114"/>
                </a:lnTo>
                <a:lnTo>
                  <a:pt x="2824" y="198"/>
                </a:lnTo>
                <a:lnTo>
                  <a:pt x="3049" y="291"/>
                </a:lnTo>
                <a:lnTo>
                  <a:pt x="3194" y="405"/>
                </a:lnTo>
                <a:lnTo>
                  <a:pt x="3309" y="524"/>
                </a:lnTo>
                <a:lnTo>
                  <a:pt x="3344" y="639"/>
                </a:lnTo>
              </a:path>
            </a:pathLst>
          </a:custGeom>
          <a:ln w="12600">
            <a:solidFill>
              <a:srgbClr val="ffcc66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22720" y="5346720"/>
            <a:ext cx="1002240" cy="751320"/>
          </a:xfrm>
          <a:custGeom>
            <a:avLst/>
            <a:gdLst/>
            <a:ahLst/>
            <a:rect l="0" t="0" r="r" b="b"/>
            <a:pathLst>
              <a:path fill="none" w="2784" h="2087">
                <a:moveTo>
                  <a:pt x="0" y="0"/>
                </a:moveTo>
                <a:lnTo>
                  <a:pt x="26" y="379"/>
                </a:lnTo>
                <a:lnTo>
                  <a:pt x="132" y="759"/>
                </a:lnTo>
                <a:lnTo>
                  <a:pt x="264" y="1112"/>
                </a:lnTo>
                <a:lnTo>
                  <a:pt x="427" y="1438"/>
                </a:lnTo>
                <a:lnTo>
                  <a:pt x="639" y="1708"/>
                </a:lnTo>
                <a:lnTo>
                  <a:pt x="882" y="1898"/>
                </a:lnTo>
                <a:lnTo>
                  <a:pt x="1125" y="2034"/>
                </a:lnTo>
                <a:lnTo>
                  <a:pt x="1390" y="2087"/>
                </a:lnTo>
                <a:lnTo>
                  <a:pt x="1659" y="2061"/>
                </a:lnTo>
                <a:lnTo>
                  <a:pt x="1901" y="1977"/>
                </a:lnTo>
                <a:lnTo>
                  <a:pt x="2140" y="1871"/>
                </a:lnTo>
                <a:lnTo>
                  <a:pt x="2356" y="1735"/>
                </a:lnTo>
                <a:lnTo>
                  <a:pt x="2515" y="1571"/>
                </a:lnTo>
                <a:lnTo>
                  <a:pt x="2678" y="1381"/>
                </a:lnTo>
                <a:lnTo>
                  <a:pt x="2758" y="1191"/>
                </a:lnTo>
                <a:lnTo>
                  <a:pt x="2784" y="975"/>
                </a:lnTo>
              </a:path>
            </a:pathLst>
          </a:custGeom>
          <a:ln w="12600">
            <a:solidFill>
              <a:srgbClr val="ffcc66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151760" y="5697360"/>
            <a:ext cx="1203840" cy="933840"/>
          </a:xfrm>
          <a:custGeom>
            <a:avLst/>
            <a:gdLst/>
            <a:ahLst/>
            <a:rect l="0" t="0" r="r" b="b"/>
            <a:pathLst>
              <a:path fill="none" w="3344" h="2594">
                <a:moveTo>
                  <a:pt x="0" y="0"/>
                </a:moveTo>
                <a:lnTo>
                  <a:pt x="39" y="471"/>
                </a:lnTo>
                <a:lnTo>
                  <a:pt x="149" y="944"/>
                </a:lnTo>
                <a:lnTo>
                  <a:pt x="295" y="1385"/>
                </a:lnTo>
                <a:lnTo>
                  <a:pt x="520" y="1800"/>
                </a:lnTo>
                <a:lnTo>
                  <a:pt x="780" y="2123"/>
                </a:lnTo>
                <a:lnTo>
                  <a:pt x="1076" y="2361"/>
                </a:lnTo>
                <a:lnTo>
                  <a:pt x="1376" y="2537"/>
                </a:lnTo>
                <a:lnTo>
                  <a:pt x="1522" y="2594"/>
                </a:lnTo>
                <a:lnTo>
                  <a:pt x="1672" y="2594"/>
                </a:lnTo>
                <a:lnTo>
                  <a:pt x="1967" y="2594"/>
                </a:lnTo>
                <a:lnTo>
                  <a:pt x="2267" y="2537"/>
                </a:lnTo>
                <a:lnTo>
                  <a:pt x="2564" y="2475"/>
                </a:lnTo>
                <a:lnTo>
                  <a:pt x="2824" y="2387"/>
                </a:lnTo>
                <a:lnTo>
                  <a:pt x="3049" y="2299"/>
                </a:lnTo>
                <a:lnTo>
                  <a:pt x="3194" y="2180"/>
                </a:lnTo>
                <a:lnTo>
                  <a:pt x="3309" y="2065"/>
                </a:lnTo>
                <a:lnTo>
                  <a:pt x="3344" y="1946"/>
                </a:lnTo>
              </a:path>
            </a:pathLst>
          </a:custGeom>
          <a:ln w="12600">
            <a:solidFill>
              <a:srgbClr val="ffcc66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seline Development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676520"/>
            <a:ext cx="7772400" cy="42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line 2 Development Team (B2T) start 1Q 99 “on the back” of the PII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ean  LINK2000+ programme developed in parallel with Airline Chair, Eurocontrol and Member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2000+ approved 4Q 99 and takes Baseline 1 and Baseline 2 as input for European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seline Development (3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447920"/>
            <a:ext cx="77724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T follows same philosophy as PIIe i.e. Develop the End to End Specs (Baseline 2) and inject into International Group recognised by CERT autho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minated International group is RTCA/EUROC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up exists and is recognised by CERT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lready doing such work for FANS and PIIe is plan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911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887480" y="1981080"/>
            <a:ext cx="5459400" cy="4203720"/>
            <a:chOff x="1887480" y="1981080"/>
            <a:chExt cx="5459400" cy="420372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2719440" y="5559480"/>
              <a:ext cx="3728880" cy="62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6773760" y="3147840"/>
              <a:ext cx="573120" cy="21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1887480" y="2984400"/>
              <a:ext cx="636480" cy="235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"/>
            <a:stretch/>
          </p:blipFill>
          <p:spPr>
            <a:xfrm>
              <a:off x="3147840" y="1981080"/>
              <a:ext cx="287496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3602160" y="3073320"/>
              <a:ext cx="1955880" cy="196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 txBox="1"/>
          <p:nvPr/>
        </p:nvSpPr>
        <p:spPr>
          <a:xfrm>
            <a:off x="685800" y="53352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NK2000+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Implementation Pro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ckground (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al Requirements for Data Link are stabilising (ADSP, ODT/ODI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f Data Link for AOC is incr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M 2000+: most important enabler is data-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control Communication strategy: Mobile data link from 2003 onw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rline investment in data link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rtunities for implementation, AOC develop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ckground (2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idated ATN Standards have been pub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TAL IIe as Bootstrap for early implementation (En-route CPDLC with commercial aircraf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N Infrastructure is real and works, pre-operational systems from EOLIA/ProAT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al ATN Systems from ATNSI/AC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A has decided to implement datalink services based on ATN (JRC 30/1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NK2000+ Contex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12920" y="6018120"/>
            <a:ext cx="8211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305000" y="1219320"/>
            <a:ext cx="0" cy="4803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300320" y="3451320"/>
            <a:ext cx="23270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300320" y="1911240"/>
            <a:ext cx="46432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12920" y="6702480"/>
            <a:ext cx="784080" cy="1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82680" y="6431040"/>
            <a:ext cx="5191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06520" y="5327640"/>
            <a:ext cx="0" cy="611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28600" y="5943600"/>
            <a:ext cx="1222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w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mplemen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78000" y="4478400"/>
            <a:ext cx="1544760" cy="1538280"/>
            <a:chOff x="1278000" y="4478400"/>
            <a:chExt cx="1544760" cy="1538280"/>
          </a:xfrm>
        </p:grpSpPr>
        <p:sp>
          <p:nvSpPr>
            <p:cNvPr id="107" name=""/>
            <p:cNvSpPr/>
            <p:nvPr/>
          </p:nvSpPr>
          <p:spPr>
            <a:xfrm>
              <a:off x="1305000" y="4478400"/>
              <a:ext cx="1517760" cy="1538280"/>
            </a:xfrm>
            <a:prstGeom prst="ellipse">
              <a:avLst/>
            </a:prstGeom>
            <a:solidFill>
              <a:srgbClr val="99ff66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300320" y="4478400"/>
              <a:ext cx="730080" cy="1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278000" y="5092560"/>
              <a:ext cx="1523880" cy="72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"/>
                </a:rPr>
                <a:t>Standardis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"/>
                </a:rPr>
                <a:t>Valida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"/>
                </a:rPr>
                <a:t>Tria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"/>
          <p:cNvSpPr txBox="1"/>
          <p:nvPr/>
        </p:nvSpPr>
        <p:spPr>
          <a:xfrm>
            <a:off x="0" y="4216320"/>
            <a:ext cx="11494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  <a:ea typeface="Arial"/>
              </a:rPr>
              <a:t>Standards valid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360" y="3265560"/>
            <a:ext cx="15033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  <a:ea typeface="Arial"/>
              </a:rPr>
              <a:t>Pre-operation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  <a:ea typeface="Arial"/>
              </a:rPr>
              <a:t>Phase Completed</a:t>
            </a:r>
            <a:r>
              <a:rPr b="0" lang="en-US" sz="1200" spc="-1" strike="noStrike">
                <a:solidFill>
                  <a:srgbClr val="ff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5680" y="1639800"/>
            <a:ext cx="151452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  <a:ea typeface="Arial"/>
              </a:rPr>
              <a:t>First phase Europ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  <a:ea typeface="Arial"/>
              </a:rPr>
              <a:t>Implement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  <a:ea typeface="Arial"/>
              </a:rPr>
              <a:t>Comple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081920" y="1569960"/>
            <a:ext cx="2210040" cy="1624320"/>
            <a:chOff x="7081920" y="1569960"/>
            <a:chExt cx="2210040" cy="1624320"/>
          </a:xfrm>
        </p:grpSpPr>
        <p:sp>
          <p:nvSpPr>
            <p:cNvPr id="114" name=""/>
            <p:cNvSpPr/>
            <p:nvPr/>
          </p:nvSpPr>
          <p:spPr>
            <a:xfrm>
              <a:off x="7215120" y="1569960"/>
              <a:ext cx="2076840" cy="1624320"/>
            </a:xfrm>
            <a:custGeom>
              <a:avLst/>
              <a:gdLst/>
              <a:ahLst/>
              <a:rect l="0" t="0" r="r" b="b"/>
              <a:pathLst>
                <a:path w="5769" h="4512">
                  <a:moveTo>
                    <a:pt x="0" y="902"/>
                  </a:moveTo>
                  <a:lnTo>
                    <a:pt x="0" y="3609"/>
                  </a:lnTo>
                  <a:lnTo>
                    <a:pt x="4038" y="3609"/>
                  </a:lnTo>
                  <a:lnTo>
                    <a:pt x="4038" y="4512"/>
                  </a:lnTo>
                  <a:lnTo>
                    <a:pt x="5769" y="2255"/>
                  </a:lnTo>
                  <a:lnTo>
                    <a:pt x="4038" y="0"/>
                  </a:lnTo>
                  <a:lnTo>
                    <a:pt x="4038" y="902"/>
                  </a:lnTo>
                  <a:lnTo>
                    <a:pt x="0" y="902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7081920" y="1969920"/>
              <a:ext cx="20368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wards Full Reg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ementa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"/>
          <p:cNvSpPr txBox="1"/>
          <p:nvPr/>
        </p:nvSpPr>
        <p:spPr>
          <a:xfrm>
            <a:off x="1752480" y="6037200"/>
            <a:ext cx="5763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395440" y="3444840"/>
            <a:ext cx="2314440" cy="2565360"/>
            <a:chOff x="2395440" y="3444840"/>
            <a:chExt cx="2314440" cy="2565360"/>
          </a:xfrm>
        </p:grpSpPr>
        <p:sp>
          <p:nvSpPr>
            <p:cNvPr id="118" name=""/>
            <p:cNvSpPr/>
            <p:nvPr/>
          </p:nvSpPr>
          <p:spPr>
            <a:xfrm>
              <a:off x="3962520" y="3630600"/>
              <a:ext cx="0" cy="2379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95440" y="3444840"/>
              <a:ext cx="2314440" cy="222264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735280" y="3622680"/>
              <a:ext cx="1523880" cy="17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"/>
                </a:rPr>
                <a:t>Pre-operati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"/>
                </a:rPr>
                <a:t>Development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"/>
                </a:rPr>
                <a:t>and evaluati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ETAL I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"/>
                </a:rPr>
                <a:t>ATIF/PROAT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"/>
                </a:rPr>
                <a:t>EURO VD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  <a:ea typeface="Arial"/>
                </a:rPr>
                <a:t>EOLI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 txBox="1"/>
          <p:nvPr/>
        </p:nvSpPr>
        <p:spPr>
          <a:xfrm>
            <a:off x="3692520" y="6037200"/>
            <a:ext cx="5763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826240" y="6037200"/>
            <a:ext cx="57636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353360" y="6037200"/>
            <a:ext cx="53640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260960" y="1898640"/>
            <a:ext cx="3354120" cy="4098960"/>
            <a:chOff x="4260960" y="1898640"/>
            <a:chExt cx="3354120" cy="4098960"/>
          </a:xfrm>
        </p:grpSpPr>
        <p:sp>
          <p:nvSpPr>
            <p:cNvPr id="125" name=""/>
            <p:cNvSpPr/>
            <p:nvPr/>
          </p:nvSpPr>
          <p:spPr>
            <a:xfrm>
              <a:off x="6095880" y="3618000"/>
              <a:ext cx="0" cy="2379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15080" y="3446640"/>
              <a:ext cx="0" cy="2550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260960" y="1898640"/>
              <a:ext cx="3352680" cy="3421080"/>
              <a:chOff x="4260960" y="1898640"/>
              <a:chExt cx="3352680" cy="3421080"/>
            </a:xfrm>
          </p:grpSpPr>
          <p:sp>
            <p:nvSpPr>
              <p:cNvPr id="128" name=""/>
              <p:cNvSpPr/>
              <p:nvPr/>
            </p:nvSpPr>
            <p:spPr>
              <a:xfrm>
                <a:off x="4260960" y="1898640"/>
                <a:ext cx="3352680" cy="3421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4387680" y="3021120"/>
                <a:ext cx="2987640" cy="146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First Phase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European Implementat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  <a:ea typeface="Arial"/>
                  </a:rPr>
                  <a:t>and Operatio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0033"/>
                    </a:solidFill>
                    <a:latin typeface="Arial"/>
                    <a:ea typeface="Arial"/>
                  </a:rPr>
                  <a:t>LINK2000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NK2000+ plan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447920"/>
            <a:ext cx="7772400" cy="45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and justify 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d mid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olve interested stakeholders in definition and justificatio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end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formal approval and programme commitment from all parties invol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al for Air Navigation Plan Amendments to EANP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NK2000+ Head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1600200"/>
            <a:ext cx="77724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to 2007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ATM and A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ographical Are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ean Core to St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ong link to US Reg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olv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takeholders (Airlines, ATSOs, Service providers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Link 2000 + Program Cont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62120" y="1600200"/>
            <a:ext cx="7772400" cy="442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al scenario including as main elements the operational concep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link service definition and timefr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infrastructure and systems (Airline, ATSO, ISP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ve structures and proced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anagement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idation and Certification Plan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Baselines for Implementation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dures / Operational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- to -End Specs for ATS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C Comms Infrastructure : ATN SARPS 97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OC Comms Infrastructure : AEEC ATN-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-ordination between baselines + freezing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ny Van Roosbroek</dc:creator>
  <dc:description/>
  <dc:language>en-US</dc:language>
  <cp:lastModifiedBy>Martin Adnams</cp:lastModifiedBy>
  <cp:revision>0</cp:revision>
  <dc:subject/>
  <dc:title>Overall Status</dc:title>
</cp:coreProperties>
</file>