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690-72F8-4141-BEA8-83B0E1C7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20D-2DA4-480A-890A-608D4955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0B7-EEEF-4113-B69B-D96B7EC0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8B9B-AE4D-4C88-AD32-3FBF4595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9930-89EB-42B5-838D-3C22601B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0A7-E17E-42DE-AE11-4DC93D6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CAF-BB4B-448A-9B4C-3ED34B29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EE1-8E8D-4CEC-82DC-FABFA4AD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E2F-6244-420A-BA4E-F7BAEFD8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6A9-BADE-4FCA-A6D7-0563F97C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CC7-5117-4E3A-8023-26643644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E48-EFD6-48D4-B5B8-89632A07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2FB5-ECA4-4218-A61B-B470F4319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8169120" y="1130400"/>
            <a:ext cx="144360" cy="2122200"/>
            <a:chOff x="8169120" y="1130400"/>
            <a:chExt cx="144360" cy="2122200"/>
          </a:xfrm>
        </p:grpSpPr>
        <p:sp>
          <p:nvSpPr>
            <p:cNvPr id="45" name=""/>
            <p:cNvSpPr/>
            <p:nvPr/>
          </p:nvSpPr>
          <p:spPr>
            <a:xfrm>
              <a:off x="823392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25948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69120" y="30132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7808760" y="1735200"/>
            <a:ext cx="279360" cy="637560"/>
            <a:chOff x="7808760" y="1735200"/>
            <a:chExt cx="279360" cy="637560"/>
          </a:xfrm>
        </p:grpSpPr>
        <p:sp>
          <p:nvSpPr>
            <p:cNvPr id="49" name=""/>
            <p:cNvSpPr/>
            <p:nvPr/>
          </p:nvSpPr>
          <p:spPr>
            <a:xfrm>
              <a:off x="7820640" y="17352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40080" y="18716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08760" y="20066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7760" y="21430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6305040" y="914400"/>
            <a:ext cx="1436760" cy="123840"/>
            <a:chOff x="6305040" y="914400"/>
            <a:chExt cx="1436760" cy="123840"/>
          </a:xfrm>
        </p:grpSpPr>
        <p:sp>
          <p:nvSpPr>
            <p:cNvPr id="54" name=""/>
            <p:cNvSpPr/>
            <p:nvPr/>
          </p:nvSpPr>
          <p:spPr>
            <a:xfrm flipH="1">
              <a:off x="6408360" y="982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6305040" y="914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614840" y="1274760"/>
            <a:ext cx="617040" cy="252360"/>
            <a:chOff x="4614840" y="1274760"/>
            <a:chExt cx="617040" cy="252360"/>
          </a:xfrm>
        </p:grpSpPr>
        <p:sp>
          <p:nvSpPr>
            <p:cNvPr id="57" name=""/>
            <p:cNvSpPr/>
            <p:nvPr/>
          </p:nvSpPr>
          <p:spPr>
            <a:xfrm flipH="1">
              <a:off x="5131800" y="1274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4928760" y="1351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4727160" y="1427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4840" y="1503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629960" y="1374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38360" y="982800"/>
            <a:ext cx="1055880" cy="360360"/>
            <a:chOff x="5238360" y="982800"/>
            <a:chExt cx="1055880" cy="360360"/>
          </a:xfrm>
        </p:grpSpPr>
        <p:sp>
          <p:nvSpPr>
            <p:cNvPr id="63" name=""/>
            <p:cNvSpPr/>
            <p:nvPr/>
          </p:nvSpPr>
          <p:spPr>
            <a:xfrm flipH="1">
              <a:off x="5900400" y="982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595480" y="982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238360" y="1219320"/>
              <a:ext cx="370080" cy="123840"/>
              <a:chOff x="5238360" y="1219320"/>
              <a:chExt cx="370080" cy="1238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41680" y="1287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238360" y="1219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4267440" y="1468440"/>
            <a:ext cx="369720" cy="123480"/>
            <a:chOff x="4267440" y="1468440"/>
            <a:chExt cx="369720" cy="123480"/>
          </a:xfrm>
        </p:grpSpPr>
        <p:sp>
          <p:nvSpPr>
            <p:cNvPr id="69" name=""/>
            <p:cNvSpPr/>
            <p:nvPr/>
          </p:nvSpPr>
          <p:spPr>
            <a:xfrm flipH="1">
              <a:off x="4370400" y="15364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267440" y="146844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 flipH="1">
            <a:off x="6568920" y="103176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645080" y="1760400"/>
            <a:ext cx="619200" cy="252360"/>
            <a:chOff x="4645080" y="1760400"/>
            <a:chExt cx="619200" cy="252360"/>
          </a:xfrm>
        </p:grpSpPr>
        <p:sp>
          <p:nvSpPr>
            <p:cNvPr id="73" name=""/>
            <p:cNvSpPr/>
            <p:nvPr/>
          </p:nvSpPr>
          <p:spPr>
            <a:xfrm flipH="1">
              <a:off x="4645080" y="17604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4848120" y="183672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051160" y="19130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254560" y="19890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5025600" y="18604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326280" y="2238480"/>
            <a:ext cx="1434960" cy="123840"/>
            <a:chOff x="6326280" y="2238480"/>
            <a:chExt cx="1434960" cy="123840"/>
          </a:xfrm>
        </p:grpSpPr>
        <p:sp>
          <p:nvSpPr>
            <p:cNvPr id="79" name=""/>
            <p:cNvSpPr/>
            <p:nvPr/>
          </p:nvSpPr>
          <p:spPr>
            <a:xfrm>
              <a:off x="6326280" y="230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545240" y="22384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268880" y="1704960"/>
            <a:ext cx="367920" cy="123840"/>
            <a:chOff x="4268880" y="1704960"/>
            <a:chExt cx="367920" cy="123840"/>
          </a:xfrm>
        </p:grpSpPr>
        <p:sp>
          <p:nvSpPr>
            <p:cNvPr id="82" name=""/>
            <p:cNvSpPr/>
            <p:nvPr/>
          </p:nvSpPr>
          <p:spPr>
            <a:xfrm>
              <a:off x="4268880" y="177336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420800" y="170496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5259600" y="2001960"/>
            <a:ext cx="1053720" cy="360360"/>
            <a:chOff x="5259600" y="2001960"/>
            <a:chExt cx="1053720" cy="360360"/>
          </a:xfrm>
        </p:grpSpPr>
        <p:sp>
          <p:nvSpPr>
            <p:cNvPr id="85" name=""/>
            <p:cNvSpPr/>
            <p:nvPr/>
          </p:nvSpPr>
          <p:spPr>
            <a:xfrm>
              <a:off x="5259600" y="200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41560" y="200196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945400" y="2238480"/>
              <a:ext cx="367920" cy="123840"/>
              <a:chOff x="5945400" y="2238480"/>
              <a:chExt cx="367920" cy="123840"/>
            </a:xfrm>
          </p:grpSpPr>
          <p:sp>
            <p:nvSpPr>
              <p:cNvPr id="88" name=""/>
              <p:cNvSpPr/>
              <p:nvPr/>
            </p:nvSpPr>
            <p:spPr>
              <a:xfrm>
                <a:off x="5945400" y="23065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6097320" y="223848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" name=""/>
          <p:cNvSpPr/>
          <p:nvPr/>
        </p:nvSpPr>
        <p:spPr>
          <a:xfrm flipH="1">
            <a:off x="6545520" y="206532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584520" y="787320"/>
            <a:ext cx="2749680" cy="4622040"/>
            <a:chOff x="3584520" y="787320"/>
            <a:chExt cx="2749680" cy="4622040"/>
          </a:xfrm>
        </p:grpSpPr>
        <p:sp>
          <p:nvSpPr>
            <p:cNvPr id="92" name=""/>
            <p:cNvSpPr/>
            <p:nvPr/>
          </p:nvSpPr>
          <p:spPr>
            <a:xfrm>
              <a:off x="6334200" y="80928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75440" y="78732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43280" y="78732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84520" y="833400"/>
              <a:ext cx="0" cy="45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322680" y="2895480"/>
            <a:ext cx="1436760" cy="123840"/>
            <a:chOff x="6322680" y="2895480"/>
            <a:chExt cx="1436760" cy="123840"/>
          </a:xfrm>
        </p:grpSpPr>
        <p:sp>
          <p:nvSpPr>
            <p:cNvPr id="97" name=""/>
            <p:cNvSpPr/>
            <p:nvPr/>
          </p:nvSpPr>
          <p:spPr>
            <a:xfrm flipH="1">
              <a:off x="6426000" y="296388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322680" y="289548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32480" y="3255840"/>
            <a:ext cx="617040" cy="252360"/>
            <a:chOff x="4632480" y="3255840"/>
            <a:chExt cx="617040" cy="252360"/>
          </a:xfrm>
        </p:grpSpPr>
        <p:sp>
          <p:nvSpPr>
            <p:cNvPr id="100" name=""/>
            <p:cNvSpPr/>
            <p:nvPr/>
          </p:nvSpPr>
          <p:spPr>
            <a:xfrm flipH="1">
              <a:off x="5149440" y="32558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946400" y="333216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744800" y="340848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32480" y="348444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4647600" y="335592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134080" y="3733920"/>
            <a:ext cx="1436040" cy="123480"/>
            <a:chOff x="2134080" y="3733920"/>
            <a:chExt cx="1436040" cy="123480"/>
          </a:xfrm>
        </p:grpSpPr>
        <p:sp>
          <p:nvSpPr>
            <p:cNvPr id="106" name=""/>
            <p:cNvSpPr/>
            <p:nvPr/>
          </p:nvSpPr>
          <p:spPr>
            <a:xfrm flipH="1">
              <a:off x="2237040" y="3801960"/>
              <a:ext cx="133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133720" y="3733920"/>
              <a:ext cx="21564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H="1">
            <a:off x="2499120" y="3505320"/>
            <a:ext cx="916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257080" y="2963880"/>
            <a:ext cx="1054800" cy="360360"/>
            <a:chOff x="5257080" y="2963880"/>
            <a:chExt cx="1054800" cy="360360"/>
          </a:xfrm>
        </p:grpSpPr>
        <p:sp>
          <p:nvSpPr>
            <p:cNvPr id="110" name=""/>
            <p:cNvSpPr/>
            <p:nvPr/>
          </p:nvSpPr>
          <p:spPr>
            <a:xfrm flipH="1">
              <a:off x="5918400" y="296388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5613840" y="2963880"/>
              <a:ext cx="31716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257080" y="3200400"/>
              <a:ext cx="369360" cy="123840"/>
              <a:chOff x="5257080" y="3200400"/>
              <a:chExt cx="369360" cy="123840"/>
            </a:xfrm>
          </p:grpSpPr>
          <p:sp>
            <p:nvSpPr>
              <p:cNvPr id="113" name=""/>
              <p:cNvSpPr/>
              <p:nvPr/>
            </p:nvSpPr>
            <p:spPr>
              <a:xfrm flipH="1">
                <a:off x="5360040" y="326844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5256720" y="3200400"/>
                <a:ext cx="21564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"/>
          <p:cNvGrpSpPr/>
          <p:nvPr/>
        </p:nvGrpSpPr>
        <p:grpSpPr>
          <a:xfrm>
            <a:off x="3581280" y="3497400"/>
            <a:ext cx="1055520" cy="360360"/>
            <a:chOff x="3581280" y="3497400"/>
            <a:chExt cx="1055520" cy="360360"/>
          </a:xfrm>
        </p:grpSpPr>
        <p:sp>
          <p:nvSpPr>
            <p:cNvPr id="116" name=""/>
            <p:cNvSpPr/>
            <p:nvPr/>
          </p:nvSpPr>
          <p:spPr>
            <a:xfrm flipH="1">
              <a:off x="4243320" y="34974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3938400" y="349740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581280" y="3734280"/>
              <a:ext cx="369720" cy="123480"/>
              <a:chOff x="3581280" y="3734280"/>
              <a:chExt cx="369720" cy="123480"/>
            </a:xfrm>
          </p:grpSpPr>
          <p:sp>
            <p:nvSpPr>
              <p:cNvPr id="119" name=""/>
              <p:cNvSpPr/>
              <p:nvPr/>
            </p:nvSpPr>
            <p:spPr>
              <a:xfrm flipH="1">
                <a:off x="3684240" y="38023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3581280" y="373428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 flipH="1">
            <a:off x="6510240" y="301320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59280" y="4248000"/>
            <a:ext cx="5624280" cy="962280"/>
            <a:chOff x="2159280" y="4248000"/>
            <a:chExt cx="5624280" cy="962280"/>
          </a:xfrm>
        </p:grpSpPr>
        <p:grpSp>
          <p:nvGrpSpPr>
            <p:cNvPr id="123" name=""/>
            <p:cNvGrpSpPr/>
            <p:nvPr/>
          </p:nvGrpSpPr>
          <p:grpSpPr>
            <a:xfrm>
              <a:off x="2159280" y="4248000"/>
              <a:ext cx="1434960" cy="123840"/>
              <a:chOff x="2159280" y="4248000"/>
              <a:chExt cx="1434960" cy="12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2159280" y="431640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378240" y="424800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4667400" y="4608360"/>
              <a:ext cx="619200" cy="252360"/>
              <a:chOff x="4667400" y="4608360"/>
              <a:chExt cx="619200" cy="252360"/>
            </a:xfrm>
          </p:grpSpPr>
          <p:sp>
            <p:nvSpPr>
              <p:cNvPr id="127" name=""/>
              <p:cNvSpPr/>
              <p:nvPr/>
            </p:nvSpPr>
            <p:spPr>
              <a:xfrm flipH="1">
                <a:off x="4667400" y="4608360"/>
                <a:ext cx="10008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870440" y="4684680"/>
                <a:ext cx="99720" cy="507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5073480" y="4761000"/>
                <a:ext cx="98280" cy="5076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5276880" y="4836960"/>
                <a:ext cx="9720" cy="23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47920" y="4708440"/>
                <a:ext cx="220680" cy="13032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348600" y="5086440"/>
              <a:ext cx="1434960" cy="123840"/>
              <a:chOff x="6348600" y="5086440"/>
              <a:chExt cx="1434960" cy="123840"/>
            </a:xfrm>
          </p:grpSpPr>
          <p:sp>
            <p:nvSpPr>
              <p:cNvPr id="133" name=""/>
              <p:cNvSpPr/>
              <p:nvPr/>
            </p:nvSpPr>
            <p:spPr>
              <a:xfrm>
                <a:off x="6348600" y="51544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567560" y="5086440"/>
                <a:ext cx="21564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606840" y="4316400"/>
              <a:ext cx="1054440" cy="360360"/>
              <a:chOff x="3606840" y="4316400"/>
              <a:chExt cx="1054440" cy="360360"/>
            </a:xfrm>
          </p:grpSpPr>
          <p:sp>
            <p:nvSpPr>
              <p:cNvPr id="136" name=""/>
              <p:cNvSpPr/>
              <p:nvPr/>
            </p:nvSpPr>
            <p:spPr>
              <a:xfrm>
                <a:off x="3606840" y="431640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88080" y="4316400"/>
                <a:ext cx="317520" cy="317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4293000" y="4552920"/>
                <a:ext cx="368280" cy="123840"/>
                <a:chOff x="4293000" y="4552920"/>
                <a:chExt cx="368280" cy="123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293000" y="4621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4445280" y="4552920"/>
                  <a:ext cx="216000" cy="12384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5282280" y="4849920"/>
              <a:ext cx="1053720" cy="360360"/>
              <a:chOff x="5282280" y="4849920"/>
              <a:chExt cx="1053720" cy="360360"/>
            </a:xfrm>
          </p:grpSpPr>
          <p:sp>
            <p:nvSpPr>
              <p:cNvPr id="142" name=""/>
              <p:cNvSpPr/>
              <p:nvPr/>
            </p:nvSpPr>
            <p:spPr>
              <a:xfrm>
                <a:off x="5282280" y="484992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64240" y="4849920"/>
                <a:ext cx="316080" cy="314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968080" y="5086440"/>
                <a:ext cx="367920" cy="123840"/>
                <a:chOff x="5968080" y="5086440"/>
                <a:chExt cx="367920" cy="12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968080" y="515448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6120000" y="5086440"/>
                  <a:ext cx="216000" cy="12384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" name=""/>
          <p:cNvSpPr/>
          <p:nvPr/>
        </p:nvSpPr>
        <p:spPr>
          <a:xfrm flipH="1">
            <a:off x="2467440" y="402444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452280" y="488484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14640" y="2324160"/>
            <a:ext cx="567720" cy="624960"/>
            <a:chOff x="5714640" y="2324160"/>
            <a:chExt cx="567720" cy="624960"/>
          </a:xfrm>
        </p:grpSpPr>
        <p:grpSp>
          <p:nvGrpSpPr>
            <p:cNvPr id="150" name=""/>
            <p:cNvGrpSpPr/>
            <p:nvPr/>
          </p:nvGrpSpPr>
          <p:grpSpPr>
            <a:xfrm>
              <a:off x="5962680" y="2324160"/>
              <a:ext cx="115920" cy="624960"/>
              <a:chOff x="5962680" y="2324160"/>
              <a:chExt cx="115920" cy="624960"/>
            </a:xfrm>
          </p:grpSpPr>
          <p:sp>
            <p:nvSpPr>
              <p:cNvPr id="151" name=""/>
              <p:cNvSpPr/>
              <p:nvPr/>
            </p:nvSpPr>
            <p:spPr>
              <a:xfrm>
                <a:off x="6018120" y="2367360"/>
                <a:ext cx="1800" cy="53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65920" y="286344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118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35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962680" y="232416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0"/>
                    </a:moveTo>
                    <a:lnTo>
                      <a:pt x="0" y="118"/>
                    </a:lnTo>
                    <a:lnTo>
                      <a:pt x="70" y="118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714640" y="2476440"/>
              <a:ext cx="567720" cy="303840"/>
              <a:chOff x="5714640" y="2476440"/>
              <a:chExt cx="567720" cy="303840"/>
            </a:xfrm>
          </p:grpSpPr>
          <p:sp>
            <p:nvSpPr>
              <p:cNvPr id="155" name=""/>
              <p:cNvSpPr/>
              <p:nvPr/>
            </p:nvSpPr>
            <p:spPr>
              <a:xfrm>
                <a:off x="5748120" y="2495160"/>
                <a:ext cx="311400" cy="28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5714640" y="2476440"/>
                <a:ext cx="567720" cy="245520"/>
                <a:chOff x="5714640" y="2476440"/>
                <a:chExt cx="567720" cy="245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5714640" y="247644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51360" y="253800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9" name=""/>
          <p:cNvSpPr/>
          <p:nvPr/>
        </p:nvSpPr>
        <p:spPr>
          <a:xfrm>
            <a:off x="5332680" y="76212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440" y="1828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7720" y="1219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5640" y="175248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6360" y="33526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31760" y="320040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2480" y="464832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5640" y="45720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29718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43240" y="3962520"/>
            <a:ext cx="430560" cy="304560"/>
            <a:chOff x="5943240" y="3962520"/>
            <a:chExt cx="430560" cy="304560"/>
          </a:xfrm>
        </p:grpSpPr>
        <p:sp>
          <p:nvSpPr>
            <p:cNvPr id="169" name=""/>
            <p:cNvSpPr/>
            <p:nvPr/>
          </p:nvSpPr>
          <p:spPr>
            <a:xfrm>
              <a:off x="5976720" y="39816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943240" y="3962520"/>
              <a:ext cx="430560" cy="245880"/>
              <a:chOff x="5943240" y="3962520"/>
              <a:chExt cx="430560" cy="245880"/>
            </a:xfrm>
          </p:grpSpPr>
          <p:sp>
            <p:nvSpPr>
              <p:cNvPr id="171" name=""/>
              <p:cNvSpPr/>
              <p:nvPr/>
            </p:nvSpPr>
            <p:spPr>
              <a:xfrm>
                <a:off x="5943240" y="39625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78520" y="40244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"/>
          <p:cNvSpPr/>
          <p:nvPr/>
        </p:nvSpPr>
        <p:spPr>
          <a:xfrm>
            <a:off x="6172200" y="990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943240" y="1447920"/>
            <a:ext cx="430560" cy="304560"/>
            <a:chOff x="5943240" y="1447920"/>
            <a:chExt cx="430560" cy="304560"/>
          </a:xfrm>
        </p:grpSpPr>
        <p:sp>
          <p:nvSpPr>
            <p:cNvPr id="175" name=""/>
            <p:cNvSpPr/>
            <p:nvPr/>
          </p:nvSpPr>
          <p:spPr>
            <a:xfrm>
              <a:off x="5976720" y="14670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943240" y="1447920"/>
              <a:ext cx="430560" cy="245880"/>
              <a:chOff x="5943240" y="1447920"/>
              <a:chExt cx="430560" cy="245880"/>
            </a:xfrm>
          </p:grpSpPr>
          <p:sp>
            <p:nvSpPr>
              <p:cNvPr id="177" name=""/>
              <p:cNvSpPr/>
              <p:nvPr/>
            </p:nvSpPr>
            <p:spPr>
              <a:xfrm>
                <a:off x="5943240" y="14479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78520" y="15098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307800" y="617220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2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169120" y="1130400"/>
            <a:ext cx="144360" cy="2122200"/>
            <a:chOff x="8169120" y="1130400"/>
            <a:chExt cx="144360" cy="2122200"/>
          </a:xfrm>
        </p:grpSpPr>
        <p:sp>
          <p:nvSpPr>
            <p:cNvPr id="184" name=""/>
            <p:cNvSpPr/>
            <p:nvPr/>
          </p:nvSpPr>
          <p:spPr>
            <a:xfrm>
              <a:off x="823392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59480" y="11304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69120" y="30132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08760" y="1735200"/>
            <a:ext cx="279360" cy="637560"/>
            <a:chOff x="7808760" y="1735200"/>
            <a:chExt cx="279360" cy="637560"/>
          </a:xfrm>
        </p:grpSpPr>
        <p:sp>
          <p:nvSpPr>
            <p:cNvPr id="188" name=""/>
            <p:cNvSpPr/>
            <p:nvPr/>
          </p:nvSpPr>
          <p:spPr>
            <a:xfrm>
              <a:off x="7820640" y="17352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0080" y="18716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08760" y="20066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17760" y="21430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305040" y="914400"/>
            <a:ext cx="1436760" cy="123840"/>
            <a:chOff x="6305040" y="914400"/>
            <a:chExt cx="1436760" cy="123840"/>
          </a:xfrm>
        </p:grpSpPr>
        <p:sp>
          <p:nvSpPr>
            <p:cNvPr id="193" name=""/>
            <p:cNvSpPr/>
            <p:nvPr/>
          </p:nvSpPr>
          <p:spPr>
            <a:xfrm flipH="1">
              <a:off x="6408360" y="982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305040" y="914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614840" y="1274760"/>
            <a:ext cx="617040" cy="252360"/>
            <a:chOff x="4614840" y="1274760"/>
            <a:chExt cx="617040" cy="252360"/>
          </a:xfrm>
        </p:grpSpPr>
        <p:sp>
          <p:nvSpPr>
            <p:cNvPr id="196" name=""/>
            <p:cNvSpPr/>
            <p:nvPr/>
          </p:nvSpPr>
          <p:spPr>
            <a:xfrm flipH="1">
              <a:off x="5131800" y="1274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928760" y="1351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727160" y="1427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4840" y="1503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629960" y="1374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238360" y="982800"/>
            <a:ext cx="1055880" cy="360360"/>
            <a:chOff x="5238360" y="982800"/>
            <a:chExt cx="1055880" cy="360360"/>
          </a:xfrm>
        </p:grpSpPr>
        <p:sp>
          <p:nvSpPr>
            <p:cNvPr id="202" name=""/>
            <p:cNvSpPr/>
            <p:nvPr/>
          </p:nvSpPr>
          <p:spPr>
            <a:xfrm flipH="1">
              <a:off x="5900400" y="982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5595480" y="982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238360" y="1219320"/>
              <a:ext cx="370080" cy="123840"/>
              <a:chOff x="5238360" y="1219320"/>
              <a:chExt cx="370080" cy="123840"/>
            </a:xfrm>
          </p:grpSpPr>
          <p:sp>
            <p:nvSpPr>
              <p:cNvPr id="205" name=""/>
              <p:cNvSpPr/>
              <p:nvPr/>
            </p:nvSpPr>
            <p:spPr>
              <a:xfrm flipH="1">
                <a:off x="5341680" y="1287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5238360" y="1219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" name=""/>
          <p:cNvGrpSpPr/>
          <p:nvPr/>
        </p:nvGrpSpPr>
        <p:grpSpPr>
          <a:xfrm>
            <a:off x="4267440" y="1468440"/>
            <a:ext cx="369720" cy="123480"/>
            <a:chOff x="4267440" y="1468440"/>
            <a:chExt cx="369720" cy="123480"/>
          </a:xfrm>
        </p:grpSpPr>
        <p:sp>
          <p:nvSpPr>
            <p:cNvPr id="208" name=""/>
            <p:cNvSpPr/>
            <p:nvPr/>
          </p:nvSpPr>
          <p:spPr>
            <a:xfrm flipH="1">
              <a:off x="4370400" y="1536480"/>
              <a:ext cx="266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67440" y="146844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6522840" y="1031760"/>
            <a:ext cx="96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645080" y="1760400"/>
            <a:ext cx="619200" cy="252360"/>
            <a:chOff x="4645080" y="1760400"/>
            <a:chExt cx="619200" cy="252360"/>
          </a:xfrm>
        </p:grpSpPr>
        <p:sp>
          <p:nvSpPr>
            <p:cNvPr id="212" name=""/>
            <p:cNvSpPr/>
            <p:nvPr/>
          </p:nvSpPr>
          <p:spPr>
            <a:xfrm flipH="1">
              <a:off x="4645080" y="176040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848120" y="183672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5051160" y="191304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5254560" y="19890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25600" y="18604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326280" y="2238480"/>
            <a:ext cx="1434960" cy="123840"/>
            <a:chOff x="6326280" y="2238480"/>
            <a:chExt cx="1434960" cy="123840"/>
          </a:xfrm>
        </p:grpSpPr>
        <p:sp>
          <p:nvSpPr>
            <p:cNvPr id="218" name=""/>
            <p:cNvSpPr/>
            <p:nvPr/>
          </p:nvSpPr>
          <p:spPr>
            <a:xfrm>
              <a:off x="6326280" y="230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545240" y="22384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268880" y="1704960"/>
            <a:ext cx="367920" cy="123840"/>
            <a:chOff x="4268880" y="1704960"/>
            <a:chExt cx="367920" cy="123840"/>
          </a:xfrm>
        </p:grpSpPr>
        <p:sp>
          <p:nvSpPr>
            <p:cNvPr id="221" name=""/>
            <p:cNvSpPr/>
            <p:nvPr/>
          </p:nvSpPr>
          <p:spPr>
            <a:xfrm>
              <a:off x="4268880" y="177336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420800" y="170496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259600" y="2001960"/>
            <a:ext cx="1053720" cy="360360"/>
            <a:chOff x="5259600" y="2001960"/>
            <a:chExt cx="1053720" cy="360360"/>
          </a:xfrm>
        </p:grpSpPr>
        <p:sp>
          <p:nvSpPr>
            <p:cNvPr id="224" name=""/>
            <p:cNvSpPr/>
            <p:nvPr/>
          </p:nvSpPr>
          <p:spPr>
            <a:xfrm>
              <a:off x="5259600" y="200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1560" y="200196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45400" y="2238480"/>
              <a:ext cx="367920" cy="123840"/>
              <a:chOff x="5945400" y="2238480"/>
              <a:chExt cx="367920" cy="123840"/>
            </a:xfrm>
          </p:grpSpPr>
          <p:sp>
            <p:nvSpPr>
              <p:cNvPr id="227" name=""/>
              <p:cNvSpPr/>
              <p:nvPr/>
            </p:nvSpPr>
            <p:spPr>
              <a:xfrm>
                <a:off x="5945400" y="23065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97320" y="223848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9" name=""/>
          <p:cNvSpPr/>
          <p:nvPr/>
        </p:nvSpPr>
        <p:spPr>
          <a:xfrm flipH="1">
            <a:off x="6481800" y="2041560"/>
            <a:ext cx="9349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324120" y="2895480"/>
            <a:ext cx="1436760" cy="123840"/>
            <a:chOff x="6324120" y="2895480"/>
            <a:chExt cx="1436760" cy="123840"/>
          </a:xfrm>
        </p:grpSpPr>
        <p:sp>
          <p:nvSpPr>
            <p:cNvPr id="231" name=""/>
            <p:cNvSpPr/>
            <p:nvPr/>
          </p:nvSpPr>
          <p:spPr>
            <a:xfrm flipH="1">
              <a:off x="6427440" y="296388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324120" y="289548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6399360" y="2971800"/>
            <a:ext cx="12153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5852880" y="2324160"/>
            <a:ext cx="567720" cy="624960"/>
            <a:chOff x="5852880" y="2324160"/>
            <a:chExt cx="567720" cy="624960"/>
          </a:xfrm>
        </p:grpSpPr>
        <p:grpSp>
          <p:nvGrpSpPr>
            <p:cNvPr id="235" name=""/>
            <p:cNvGrpSpPr/>
            <p:nvPr/>
          </p:nvGrpSpPr>
          <p:grpSpPr>
            <a:xfrm>
              <a:off x="6100920" y="2324160"/>
              <a:ext cx="115920" cy="624960"/>
              <a:chOff x="6100920" y="2324160"/>
              <a:chExt cx="115920" cy="624960"/>
            </a:xfrm>
          </p:grpSpPr>
          <p:sp>
            <p:nvSpPr>
              <p:cNvPr id="236" name=""/>
              <p:cNvSpPr/>
              <p:nvPr/>
            </p:nvSpPr>
            <p:spPr>
              <a:xfrm>
                <a:off x="6156360" y="2367360"/>
                <a:ext cx="1800" cy="53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104160" y="286344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118"/>
                    </a:moveTo>
                    <a:lnTo>
                      <a:pt x="70" y="0"/>
                    </a:lnTo>
                    <a:lnTo>
                      <a:pt x="0" y="0"/>
                    </a:lnTo>
                    <a:lnTo>
                      <a:pt x="35" y="11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00920" y="2324160"/>
                <a:ext cx="112680" cy="85680"/>
              </a:xfrm>
              <a:custGeom>
                <a:avLst/>
                <a:gdLst/>
                <a:ahLst/>
                <a:rect l="l" t="t" r="r" b="b"/>
                <a:pathLst>
                  <a:path w="71" h="119">
                    <a:moveTo>
                      <a:pt x="35" y="0"/>
                    </a:moveTo>
                    <a:lnTo>
                      <a:pt x="0" y="118"/>
                    </a:lnTo>
                    <a:lnTo>
                      <a:pt x="70" y="118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852880" y="2476440"/>
              <a:ext cx="567720" cy="303840"/>
              <a:chOff x="5852880" y="2476440"/>
              <a:chExt cx="567720" cy="303840"/>
            </a:xfrm>
          </p:grpSpPr>
          <p:sp>
            <p:nvSpPr>
              <p:cNvPr id="240" name=""/>
              <p:cNvSpPr/>
              <p:nvPr/>
            </p:nvSpPr>
            <p:spPr>
              <a:xfrm>
                <a:off x="5886360" y="2495160"/>
                <a:ext cx="311400" cy="285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5852880" y="2476440"/>
                <a:ext cx="567720" cy="245520"/>
                <a:chOff x="5852880" y="2476440"/>
                <a:chExt cx="567720" cy="2455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52880" y="247644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889600" y="253800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4" name=""/>
          <p:cNvSpPr/>
          <p:nvPr/>
        </p:nvSpPr>
        <p:spPr>
          <a:xfrm>
            <a:off x="5408640" y="685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440" y="18288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7720" y="1219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79320" y="22860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249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866920" y="990720"/>
            <a:ext cx="430560" cy="1295280"/>
            <a:chOff x="5866920" y="990720"/>
            <a:chExt cx="430560" cy="1295280"/>
          </a:xfrm>
        </p:grpSpPr>
        <p:sp>
          <p:nvSpPr>
            <p:cNvPr id="254" name=""/>
            <p:cNvSpPr/>
            <p:nvPr/>
          </p:nvSpPr>
          <p:spPr>
            <a:xfrm>
              <a:off x="6095880" y="990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5866920" y="1447920"/>
              <a:ext cx="430560" cy="304560"/>
              <a:chOff x="5866920" y="1447920"/>
              <a:chExt cx="430560" cy="304560"/>
            </a:xfrm>
          </p:grpSpPr>
          <p:sp>
            <p:nvSpPr>
              <p:cNvPr id="256" name=""/>
              <p:cNvSpPr/>
              <p:nvPr/>
            </p:nvSpPr>
            <p:spPr>
              <a:xfrm>
                <a:off x="5900400" y="1467000"/>
                <a:ext cx="31140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866920" y="1447920"/>
                <a:ext cx="430560" cy="245880"/>
                <a:chOff x="5866920" y="1447920"/>
                <a:chExt cx="430560" cy="2458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866920" y="144792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2200" y="1509840"/>
                  <a:ext cx="39528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logon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0" name=""/>
          <p:cNvSpPr/>
          <p:nvPr/>
        </p:nvSpPr>
        <p:spPr>
          <a:xfrm>
            <a:off x="1205640" y="45324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5527440" y="3330720"/>
            <a:ext cx="567720" cy="304560"/>
            <a:chOff x="5527440" y="3330720"/>
            <a:chExt cx="567720" cy="304560"/>
          </a:xfrm>
        </p:grpSpPr>
        <p:sp>
          <p:nvSpPr>
            <p:cNvPr id="262" name=""/>
            <p:cNvSpPr/>
            <p:nvPr/>
          </p:nvSpPr>
          <p:spPr>
            <a:xfrm>
              <a:off x="5560920" y="33498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527440" y="3330720"/>
              <a:ext cx="567720" cy="245880"/>
              <a:chOff x="5527440" y="3330720"/>
              <a:chExt cx="567720" cy="245880"/>
            </a:xfrm>
          </p:grpSpPr>
          <p:sp>
            <p:nvSpPr>
              <p:cNvPr id="264" name=""/>
              <p:cNvSpPr/>
              <p:nvPr/>
            </p:nvSpPr>
            <p:spPr>
              <a:xfrm>
                <a:off x="5527440" y="33307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564160" y="3392640"/>
                <a:ext cx="531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degrade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267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270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273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277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281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745000" y="5824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289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293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296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299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302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3787200" y="1658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08640" y="1600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309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312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316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320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322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325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328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332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335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338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341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344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79360" y="31291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349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353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359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903680" y="5397480"/>
            <a:ext cx="3559680" cy="1383840"/>
            <a:chOff x="1903680" y="5397480"/>
            <a:chExt cx="3559680" cy="1383840"/>
          </a:xfrm>
        </p:grpSpPr>
        <p:sp>
          <p:nvSpPr>
            <p:cNvPr id="362" name=""/>
            <p:cNvSpPr/>
            <p:nvPr/>
          </p:nvSpPr>
          <p:spPr>
            <a:xfrm>
              <a:off x="4503960" y="575460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03680" y="627048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62000" y="5397480"/>
              <a:ext cx="852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17280" y="656712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541760" y="5598720"/>
              <a:ext cx="429120" cy="133200"/>
              <a:chOff x="4541760" y="5598720"/>
              <a:chExt cx="429120" cy="133200"/>
            </a:xfrm>
          </p:grpSpPr>
          <p:sp>
            <p:nvSpPr>
              <p:cNvPr id="367" name=""/>
              <p:cNvSpPr/>
              <p:nvPr/>
            </p:nvSpPr>
            <p:spPr>
              <a:xfrm flipH="1">
                <a:off x="4653720" y="566208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541760" y="5598720"/>
                <a:ext cx="229680" cy="13320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851280" y="5660640"/>
              <a:ext cx="687960" cy="380520"/>
              <a:chOff x="3851280" y="5660640"/>
              <a:chExt cx="687960" cy="380520"/>
            </a:xfrm>
          </p:grpSpPr>
          <p:sp>
            <p:nvSpPr>
              <p:cNvPr id="370" name=""/>
              <p:cNvSpPr/>
              <p:nvPr/>
            </p:nvSpPr>
            <p:spPr>
              <a:xfrm flipH="1">
                <a:off x="4285800" y="566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4092120" y="5660640"/>
                <a:ext cx="193320" cy="3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2" name=""/>
              <p:cNvGrpSpPr/>
              <p:nvPr/>
            </p:nvGrpSpPr>
            <p:grpSpPr>
              <a:xfrm>
                <a:off x="3851280" y="5904720"/>
                <a:ext cx="253440" cy="136440"/>
                <a:chOff x="3851280" y="5904720"/>
                <a:chExt cx="253440" cy="136440"/>
              </a:xfrm>
            </p:grpSpPr>
            <p:sp>
              <p:nvSpPr>
                <p:cNvPr id="373" name=""/>
                <p:cNvSpPr/>
                <p:nvPr/>
              </p:nvSpPr>
              <p:spPr>
                <a:xfrm flipH="1">
                  <a:off x="3963600" y="597276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851280" y="5904720"/>
                  <a:ext cx="230040" cy="13644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3483000" y="5964120"/>
              <a:ext cx="392760" cy="248400"/>
              <a:chOff x="3483000" y="5964120"/>
              <a:chExt cx="392760" cy="248400"/>
            </a:xfrm>
          </p:grpSpPr>
          <p:sp>
            <p:nvSpPr>
              <p:cNvPr id="376" name=""/>
              <p:cNvSpPr/>
              <p:nvPr/>
            </p:nvSpPr>
            <p:spPr>
              <a:xfrm>
                <a:off x="3760200" y="596412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557520" y="608616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83000" y="6035400"/>
                <a:ext cx="229680" cy="17712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805120" y="6200640"/>
              <a:ext cx="687960" cy="378720"/>
              <a:chOff x="2805120" y="6200640"/>
              <a:chExt cx="687960" cy="378720"/>
            </a:xfrm>
          </p:grpSpPr>
          <p:sp>
            <p:nvSpPr>
              <p:cNvPr id="380" name=""/>
              <p:cNvSpPr/>
              <p:nvPr/>
            </p:nvSpPr>
            <p:spPr>
              <a:xfrm flipH="1">
                <a:off x="3239640" y="620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3046320" y="6200640"/>
                <a:ext cx="191520" cy="30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2805120" y="6445080"/>
                <a:ext cx="253440" cy="134280"/>
                <a:chOff x="2805120" y="6445080"/>
                <a:chExt cx="253440" cy="134280"/>
              </a:xfrm>
            </p:grpSpPr>
            <p:sp>
              <p:nvSpPr>
                <p:cNvPr id="383" name=""/>
                <p:cNvSpPr/>
                <p:nvPr/>
              </p:nvSpPr>
              <p:spPr>
                <a:xfrm flipH="1">
                  <a:off x="2917440" y="651132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05120" y="6445080"/>
                  <a:ext cx="230040" cy="13428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5" name=""/>
            <p:cNvGrpSpPr/>
            <p:nvPr/>
          </p:nvGrpSpPr>
          <p:grpSpPr>
            <a:xfrm>
              <a:off x="2354040" y="6449760"/>
              <a:ext cx="455040" cy="132840"/>
              <a:chOff x="2354040" y="6449760"/>
              <a:chExt cx="455040" cy="132840"/>
            </a:xfrm>
          </p:grpSpPr>
          <p:sp>
            <p:nvSpPr>
              <p:cNvPr id="386" name=""/>
              <p:cNvSpPr/>
              <p:nvPr/>
            </p:nvSpPr>
            <p:spPr>
              <a:xfrm flipH="1">
                <a:off x="2466360" y="6509520"/>
                <a:ext cx="342720" cy="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354040" y="644976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2795760" y="557280"/>
            <a:ext cx="4446000" cy="6148080"/>
            <a:chOff x="2795760" y="557280"/>
            <a:chExt cx="4446000" cy="6148080"/>
          </a:xfrm>
        </p:grpSpPr>
        <p:sp>
          <p:nvSpPr>
            <p:cNvPr id="389" name=""/>
            <p:cNvSpPr/>
            <p:nvPr/>
          </p:nvSpPr>
          <p:spPr>
            <a:xfrm>
              <a:off x="3860640" y="565200"/>
              <a:ext cx="0" cy="61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95760" y="573840"/>
              <a:ext cx="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173280" y="557280"/>
              <a:ext cx="3240" cy="614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97560" y="557280"/>
              <a:ext cx="0" cy="613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62800" y="573840"/>
              <a:ext cx="0" cy="610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238520" y="573840"/>
              <a:ext cx="324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25920" y="569520"/>
              <a:ext cx="0" cy="612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1600" y="599040"/>
              <a:ext cx="0" cy="609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235320" y="1073160"/>
            <a:ext cx="117000" cy="5098680"/>
            <a:chOff x="3235320" y="1073160"/>
            <a:chExt cx="117000" cy="5098680"/>
          </a:xfrm>
        </p:grpSpPr>
        <p:sp>
          <p:nvSpPr>
            <p:cNvPr id="398" name=""/>
            <p:cNvSpPr/>
            <p:nvPr/>
          </p:nvSpPr>
          <p:spPr>
            <a:xfrm>
              <a:off x="3293640" y="1217520"/>
              <a:ext cx="0" cy="48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35320" y="5889960"/>
              <a:ext cx="117000" cy="28188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35320" y="1073160"/>
              <a:ext cx="117000" cy="2811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895120" y="3352680"/>
            <a:ext cx="496080" cy="308160"/>
            <a:chOff x="2895120" y="3352680"/>
            <a:chExt cx="496080" cy="308160"/>
          </a:xfrm>
        </p:grpSpPr>
        <p:sp>
          <p:nvSpPr>
            <p:cNvPr id="402" name=""/>
            <p:cNvSpPr/>
            <p:nvPr/>
          </p:nvSpPr>
          <p:spPr>
            <a:xfrm>
              <a:off x="2909880" y="33703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2895120" y="3352680"/>
              <a:ext cx="496080" cy="245880"/>
              <a:chOff x="2895120" y="3352680"/>
              <a:chExt cx="496080" cy="245880"/>
            </a:xfrm>
          </p:grpSpPr>
          <p:sp>
            <p:nvSpPr>
              <p:cNvPr id="404" name=""/>
              <p:cNvSpPr/>
              <p:nvPr/>
            </p:nvSpPr>
            <p:spPr>
              <a:xfrm>
                <a:off x="2895120" y="33526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931840" y="34146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4675680" y="36957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198200" y="48243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54720" y="4232160"/>
            <a:ext cx="83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92760" y="357336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92960" y="5191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25640" y="56466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8080" y="3971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5994360" y="3956040"/>
            <a:ext cx="115920" cy="1374840"/>
            <a:chOff x="5994360" y="3956040"/>
            <a:chExt cx="115920" cy="1374840"/>
          </a:xfrm>
        </p:grpSpPr>
        <p:sp>
          <p:nvSpPr>
            <p:cNvPr id="414" name=""/>
            <p:cNvSpPr/>
            <p:nvPr/>
          </p:nvSpPr>
          <p:spPr>
            <a:xfrm>
              <a:off x="6049800" y="4051440"/>
              <a:ext cx="180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97600" y="514188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994360" y="395604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752800" y="4460760"/>
            <a:ext cx="430560" cy="304560"/>
            <a:chOff x="5752800" y="4460760"/>
            <a:chExt cx="430560" cy="304560"/>
          </a:xfrm>
        </p:grpSpPr>
        <p:sp>
          <p:nvSpPr>
            <p:cNvPr id="418" name=""/>
            <p:cNvSpPr/>
            <p:nvPr/>
          </p:nvSpPr>
          <p:spPr>
            <a:xfrm>
              <a:off x="5786280" y="447984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5752800" y="4460760"/>
              <a:ext cx="430560" cy="245880"/>
              <a:chOff x="5752800" y="4460760"/>
              <a:chExt cx="430560" cy="245880"/>
            </a:xfrm>
          </p:grpSpPr>
          <p:sp>
            <p:nvSpPr>
              <p:cNvPr id="420" name=""/>
              <p:cNvSpPr/>
              <p:nvPr/>
            </p:nvSpPr>
            <p:spPr>
              <a:xfrm>
                <a:off x="5752800" y="446076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788080" y="452268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6583320" y="4211640"/>
            <a:ext cx="679320" cy="380520"/>
            <a:chOff x="6583320" y="4211640"/>
            <a:chExt cx="679320" cy="380520"/>
          </a:xfrm>
        </p:grpSpPr>
        <p:sp>
          <p:nvSpPr>
            <p:cNvPr id="423" name=""/>
            <p:cNvSpPr/>
            <p:nvPr/>
          </p:nvSpPr>
          <p:spPr>
            <a:xfrm>
              <a:off x="6583320" y="421164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24520" y="4211640"/>
              <a:ext cx="200160" cy="32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7018200" y="4455720"/>
              <a:ext cx="244440" cy="136440"/>
              <a:chOff x="7018200" y="4455720"/>
              <a:chExt cx="244440" cy="136440"/>
            </a:xfrm>
          </p:grpSpPr>
          <p:sp>
            <p:nvSpPr>
              <p:cNvPr id="426" name=""/>
              <p:cNvSpPr/>
              <p:nvPr/>
            </p:nvSpPr>
            <p:spPr>
              <a:xfrm>
                <a:off x="7018200" y="452376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34040" y="44557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6186600" y="3976560"/>
            <a:ext cx="398520" cy="244440"/>
            <a:chOff x="6186600" y="3976560"/>
            <a:chExt cx="398520" cy="244440"/>
          </a:xfrm>
        </p:grpSpPr>
        <p:sp>
          <p:nvSpPr>
            <p:cNvPr id="429" name=""/>
            <p:cNvSpPr/>
            <p:nvPr/>
          </p:nvSpPr>
          <p:spPr>
            <a:xfrm>
              <a:off x="6186600" y="397656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89640" y="40971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53280" y="404316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5518080" y="3666960"/>
            <a:ext cx="679680" cy="379440"/>
            <a:chOff x="5518080" y="3666960"/>
            <a:chExt cx="679680" cy="379440"/>
          </a:xfrm>
        </p:grpSpPr>
        <p:sp>
          <p:nvSpPr>
            <p:cNvPr id="433" name=""/>
            <p:cNvSpPr/>
            <p:nvPr/>
          </p:nvSpPr>
          <p:spPr>
            <a:xfrm>
              <a:off x="5518080" y="366696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61080" y="36669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952960" y="3911400"/>
              <a:ext cx="244800" cy="135000"/>
              <a:chOff x="5952960" y="3911400"/>
              <a:chExt cx="244800" cy="135000"/>
            </a:xfrm>
          </p:grpSpPr>
          <p:sp>
            <p:nvSpPr>
              <p:cNvPr id="436" name=""/>
              <p:cNvSpPr/>
              <p:nvPr/>
            </p:nvSpPr>
            <p:spPr>
              <a:xfrm>
                <a:off x="5952960" y="397944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69160" y="3911400"/>
                <a:ext cx="22860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" name=""/>
          <p:cNvGrpSpPr/>
          <p:nvPr/>
        </p:nvGrpSpPr>
        <p:grpSpPr>
          <a:xfrm>
            <a:off x="7261200" y="4454640"/>
            <a:ext cx="446040" cy="135000"/>
            <a:chOff x="7261200" y="4454640"/>
            <a:chExt cx="446040" cy="135000"/>
          </a:xfrm>
        </p:grpSpPr>
        <p:sp>
          <p:nvSpPr>
            <p:cNvPr id="439" name=""/>
            <p:cNvSpPr/>
            <p:nvPr/>
          </p:nvSpPr>
          <p:spPr>
            <a:xfrm>
              <a:off x="7261200" y="451800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478640" y="44546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7234200" y="4711680"/>
            <a:ext cx="455400" cy="135000"/>
            <a:chOff x="7234200" y="4711680"/>
            <a:chExt cx="455400" cy="135000"/>
          </a:xfrm>
        </p:grpSpPr>
        <p:sp>
          <p:nvSpPr>
            <p:cNvPr id="442" name=""/>
            <p:cNvSpPr/>
            <p:nvPr/>
          </p:nvSpPr>
          <p:spPr>
            <a:xfrm flipH="1">
              <a:off x="7346520" y="4773600"/>
              <a:ext cx="34308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34200" y="471168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75400" y="4782960"/>
            <a:ext cx="689040" cy="379440"/>
            <a:chOff x="6575400" y="4782960"/>
            <a:chExt cx="689040" cy="379440"/>
          </a:xfrm>
        </p:grpSpPr>
        <p:sp>
          <p:nvSpPr>
            <p:cNvPr id="445" name=""/>
            <p:cNvSpPr/>
            <p:nvPr/>
          </p:nvSpPr>
          <p:spPr>
            <a:xfrm flipH="1">
              <a:off x="7008840" y="478296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815160" y="47829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575400" y="5025600"/>
              <a:ext cx="252360" cy="136800"/>
              <a:chOff x="6575400" y="5025600"/>
              <a:chExt cx="252360" cy="136800"/>
            </a:xfrm>
          </p:grpSpPr>
          <p:sp>
            <p:nvSpPr>
              <p:cNvPr id="448" name=""/>
              <p:cNvSpPr/>
              <p:nvPr/>
            </p:nvSpPr>
            <p:spPr>
              <a:xfrm flipH="1">
                <a:off x="6688080" y="509400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575400" y="5025600"/>
                <a:ext cx="228600" cy="1368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6178680" y="5078520"/>
            <a:ext cx="393480" cy="249120"/>
            <a:chOff x="6178680" y="5078520"/>
            <a:chExt cx="393480" cy="249120"/>
          </a:xfrm>
        </p:grpSpPr>
        <p:sp>
          <p:nvSpPr>
            <p:cNvPr id="451" name=""/>
            <p:cNvSpPr/>
            <p:nvPr/>
          </p:nvSpPr>
          <p:spPr>
            <a:xfrm>
              <a:off x="6456240" y="507852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253200" y="520092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78680" y="514980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500800" y="5321160"/>
            <a:ext cx="688320" cy="380880"/>
            <a:chOff x="5500800" y="5321160"/>
            <a:chExt cx="688320" cy="380880"/>
          </a:xfrm>
        </p:grpSpPr>
        <p:sp>
          <p:nvSpPr>
            <p:cNvPr id="455" name=""/>
            <p:cNvSpPr/>
            <p:nvPr/>
          </p:nvSpPr>
          <p:spPr>
            <a:xfrm flipH="1">
              <a:off x="5933880" y="53211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740560" y="53211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500800" y="5565600"/>
              <a:ext cx="252360" cy="136440"/>
              <a:chOff x="5500800" y="5565600"/>
              <a:chExt cx="252360" cy="13644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5613480" y="56336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00800" y="556560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5049720" y="5570640"/>
            <a:ext cx="455400" cy="135000"/>
            <a:chOff x="5049720" y="5570640"/>
            <a:chExt cx="455400" cy="135000"/>
          </a:xfrm>
        </p:grpSpPr>
        <p:sp>
          <p:nvSpPr>
            <p:cNvPr id="461" name=""/>
            <p:cNvSpPr/>
            <p:nvPr/>
          </p:nvSpPr>
          <p:spPr>
            <a:xfrm flipH="1">
              <a:off x="5162040" y="563256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49720" y="557064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029200" y="3581280"/>
            <a:ext cx="420840" cy="135000"/>
            <a:chOff x="5029200" y="3581280"/>
            <a:chExt cx="420840" cy="135000"/>
          </a:xfrm>
        </p:grpSpPr>
        <p:sp>
          <p:nvSpPr>
            <p:cNvPr id="464" name=""/>
            <p:cNvSpPr/>
            <p:nvPr/>
          </p:nvSpPr>
          <p:spPr>
            <a:xfrm>
              <a:off x="502920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2288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4683240" y="532620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323856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1480" y="6324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7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470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473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476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480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484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45360" y="5824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492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496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499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1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502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505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7" name=""/>
          <p:cNvSpPr/>
          <p:nvPr/>
        </p:nvSpPr>
        <p:spPr>
          <a:xfrm>
            <a:off x="3787200" y="165888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512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515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519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523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525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528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531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535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538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541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544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547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787360" y="30672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552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556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559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562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903680" y="5397480"/>
            <a:ext cx="3559680" cy="1383840"/>
            <a:chOff x="1903680" y="5397480"/>
            <a:chExt cx="3559680" cy="1383840"/>
          </a:xfrm>
        </p:grpSpPr>
        <p:sp>
          <p:nvSpPr>
            <p:cNvPr id="565" name=""/>
            <p:cNvSpPr/>
            <p:nvPr/>
          </p:nvSpPr>
          <p:spPr>
            <a:xfrm>
              <a:off x="4503960" y="575460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3680" y="627048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62720" y="5397480"/>
              <a:ext cx="794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Re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17280" y="6567120"/>
              <a:ext cx="75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I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4541760" y="5598720"/>
              <a:ext cx="429120" cy="133200"/>
              <a:chOff x="4541760" y="5598720"/>
              <a:chExt cx="429120" cy="133200"/>
            </a:xfrm>
          </p:grpSpPr>
          <p:sp>
            <p:nvSpPr>
              <p:cNvPr id="570" name=""/>
              <p:cNvSpPr/>
              <p:nvPr/>
            </p:nvSpPr>
            <p:spPr>
              <a:xfrm flipH="1">
                <a:off x="4653720" y="566208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541760" y="5598720"/>
                <a:ext cx="229680" cy="13320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3851280" y="5660640"/>
              <a:ext cx="687960" cy="380520"/>
              <a:chOff x="3851280" y="5660640"/>
              <a:chExt cx="687960" cy="380520"/>
            </a:xfrm>
          </p:grpSpPr>
          <p:sp>
            <p:nvSpPr>
              <p:cNvPr id="573" name=""/>
              <p:cNvSpPr/>
              <p:nvPr/>
            </p:nvSpPr>
            <p:spPr>
              <a:xfrm flipH="1">
                <a:off x="4285800" y="566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092120" y="5660640"/>
                <a:ext cx="193320" cy="310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5" name=""/>
              <p:cNvGrpSpPr/>
              <p:nvPr/>
            </p:nvGrpSpPr>
            <p:grpSpPr>
              <a:xfrm>
                <a:off x="3851280" y="5904720"/>
                <a:ext cx="253440" cy="136440"/>
                <a:chOff x="3851280" y="5904720"/>
                <a:chExt cx="253440" cy="136440"/>
              </a:xfrm>
            </p:grpSpPr>
            <p:sp>
              <p:nvSpPr>
                <p:cNvPr id="576" name=""/>
                <p:cNvSpPr/>
                <p:nvPr/>
              </p:nvSpPr>
              <p:spPr>
                <a:xfrm flipH="1">
                  <a:off x="3963600" y="597276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851280" y="5904720"/>
                  <a:ext cx="230040" cy="13644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8" name=""/>
            <p:cNvGrpSpPr/>
            <p:nvPr/>
          </p:nvGrpSpPr>
          <p:grpSpPr>
            <a:xfrm>
              <a:off x="3483000" y="5964120"/>
              <a:ext cx="392760" cy="248400"/>
              <a:chOff x="3483000" y="5964120"/>
              <a:chExt cx="392760" cy="2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3760200" y="596412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557520" y="608616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483000" y="6035400"/>
                <a:ext cx="229680" cy="17712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805120" y="6200640"/>
              <a:ext cx="687960" cy="378720"/>
              <a:chOff x="2805120" y="6200640"/>
              <a:chExt cx="687960" cy="3787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3239640" y="620064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046320" y="6200640"/>
                <a:ext cx="191520" cy="309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2805120" y="6445080"/>
                <a:ext cx="253440" cy="134280"/>
                <a:chOff x="2805120" y="6445080"/>
                <a:chExt cx="253440" cy="134280"/>
              </a:xfrm>
            </p:grpSpPr>
            <p:sp>
              <p:nvSpPr>
                <p:cNvPr id="586" name=""/>
                <p:cNvSpPr/>
                <p:nvPr/>
              </p:nvSpPr>
              <p:spPr>
                <a:xfrm flipH="1">
                  <a:off x="2917440" y="651132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805120" y="6445080"/>
                  <a:ext cx="230040" cy="13428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8" name=""/>
            <p:cNvGrpSpPr/>
            <p:nvPr/>
          </p:nvGrpSpPr>
          <p:grpSpPr>
            <a:xfrm>
              <a:off x="2354040" y="6449760"/>
              <a:ext cx="455040" cy="132840"/>
              <a:chOff x="2354040" y="6449760"/>
              <a:chExt cx="455040" cy="132840"/>
            </a:xfrm>
          </p:grpSpPr>
          <p:sp>
            <p:nvSpPr>
              <p:cNvPr id="589" name=""/>
              <p:cNvSpPr/>
              <p:nvPr/>
            </p:nvSpPr>
            <p:spPr>
              <a:xfrm flipH="1">
                <a:off x="2466360" y="6509520"/>
                <a:ext cx="342720" cy="4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354040" y="644976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1" name=""/>
          <p:cNvGrpSpPr/>
          <p:nvPr/>
        </p:nvGrpSpPr>
        <p:grpSpPr>
          <a:xfrm>
            <a:off x="2795760" y="557280"/>
            <a:ext cx="4446000" cy="6148080"/>
            <a:chOff x="2795760" y="557280"/>
            <a:chExt cx="4446000" cy="6148080"/>
          </a:xfrm>
        </p:grpSpPr>
        <p:sp>
          <p:nvSpPr>
            <p:cNvPr id="592" name=""/>
            <p:cNvSpPr/>
            <p:nvPr/>
          </p:nvSpPr>
          <p:spPr>
            <a:xfrm>
              <a:off x="3860640" y="565200"/>
              <a:ext cx="0" cy="612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95760" y="573840"/>
              <a:ext cx="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173280" y="557280"/>
              <a:ext cx="3240" cy="614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97560" y="557280"/>
              <a:ext cx="0" cy="613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62800" y="573840"/>
              <a:ext cx="0" cy="610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238520" y="573840"/>
              <a:ext cx="3240" cy="611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25920" y="569520"/>
              <a:ext cx="0" cy="612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441600" y="599040"/>
              <a:ext cx="0" cy="609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35320" y="1073160"/>
            <a:ext cx="117000" cy="5098680"/>
            <a:chOff x="3235320" y="1073160"/>
            <a:chExt cx="117000" cy="5098680"/>
          </a:xfrm>
        </p:grpSpPr>
        <p:sp>
          <p:nvSpPr>
            <p:cNvPr id="601" name=""/>
            <p:cNvSpPr/>
            <p:nvPr/>
          </p:nvSpPr>
          <p:spPr>
            <a:xfrm>
              <a:off x="3293640" y="1217520"/>
              <a:ext cx="0" cy="480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35320" y="5889960"/>
              <a:ext cx="117000" cy="28188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35320" y="1073160"/>
              <a:ext cx="117000" cy="2811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2895120" y="3352680"/>
            <a:ext cx="496080" cy="308160"/>
            <a:chOff x="2895120" y="3352680"/>
            <a:chExt cx="496080" cy="308160"/>
          </a:xfrm>
        </p:grpSpPr>
        <p:sp>
          <p:nvSpPr>
            <p:cNvPr id="605" name=""/>
            <p:cNvSpPr/>
            <p:nvPr/>
          </p:nvSpPr>
          <p:spPr>
            <a:xfrm>
              <a:off x="2909880" y="33703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895120" y="3352680"/>
              <a:ext cx="496080" cy="245880"/>
              <a:chOff x="2895120" y="3352680"/>
              <a:chExt cx="496080" cy="245880"/>
            </a:xfrm>
          </p:grpSpPr>
          <p:sp>
            <p:nvSpPr>
              <p:cNvPr id="607" name=""/>
              <p:cNvSpPr/>
              <p:nvPr/>
            </p:nvSpPr>
            <p:spPr>
              <a:xfrm>
                <a:off x="2895120" y="33526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931840" y="34146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4721760" y="36957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198200" y="482436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254720" y="4232160"/>
            <a:ext cx="838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02480" y="35910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92960" y="5191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525640" y="56466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508080" y="3971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5994360" y="3956040"/>
            <a:ext cx="115920" cy="1374840"/>
            <a:chOff x="5994360" y="3956040"/>
            <a:chExt cx="115920" cy="1374840"/>
          </a:xfrm>
        </p:grpSpPr>
        <p:sp>
          <p:nvSpPr>
            <p:cNvPr id="617" name=""/>
            <p:cNvSpPr/>
            <p:nvPr/>
          </p:nvSpPr>
          <p:spPr>
            <a:xfrm>
              <a:off x="6049800" y="4051440"/>
              <a:ext cx="180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97600" y="514188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94360" y="3956040"/>
              <a:ext cx="112680" cy="18900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752800" y="4460760"/>
            <a:ext cx="430560" cy="304560"/>
            <a:chOff x="5752800" y="4460760"/>
            <a:chExt cx="430560" cy="304560"/>
          </a:xfrm>
        </p:grpSpPr>
        <p:sp>
          <p:nvSpPr>
            <p:cNvPr id="621" name=""/>
            <p:cNvSpPr/>
            <p:nvPr/>
          </p:nvSpPr>
          <p:spPr>
            <a:xfrm>
              <a:off x="5786280" y="447984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752800" y="4460760"/>
              <a:ext cx="430560" cy="245880"/>
              <a:chOff x="5752800" y="4460760"/>
              <a:chExt cx="430560" cy="245880"/>
            </a:xfrm>
          </p:grpSpPr>
          <p:sp>
            <p:nvSpPr>
              <p:cNvPr id="623" name=""/>
              <p:cNvSpPr/>
              <p:nvPr/>
            </p:nvSpPr>
            <p:spPr>
              <a:xfrm>
                <a:off x="5752800" y="446076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788080" y="452268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5" name=""/>
          <p:cNvGrpSpPr/>
          <p:nvPr/>
        </p:nvGrpSpPr>
        <p:grpSpPr>
          <a:xfrm>
            <a:off x="6583320" y="4211640"/>
            <a:ext cx="679320" cy="380520"/>
            <a:chOff x="6583320" y="4211640"/>
            <a:chExt cx="679320" cy="380520"/>
          </a:xfrm>
        </p:grpSpPr>
        <p:sp>
          <p:nvSpPr>
            <p:cNvPr id="626" name=""/>
            <p:cNvSpPr/>
            <p:nvPr/>
          </p:nvSpPr>
          <p:spPr>
            <a:xfrm>
              <a:off x="6583320" y="421164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24520" y="4211640"/>
              <a:ext cx="200160" cy="325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7018200" y="4455720"/>
              <a:ext cx="244440" cy="136440"/>
              <a:chOff x="7018200" y="4455720"/>
              <a:chExt cx="244440" cy="136440"/>
            </a:xfrm>
          </p:grpSpPr>
          <p:sp>
            <p:nvSpPr>
              <p:cNvPr id="629" name=""/>
              <p:cNvSpPr/>
              <p:nvPr/>
            </p:nvSpPr>
            <p:spPr>
              <a:xfrm>
                <a:off x="7018200" y="452376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34040" y="44557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6186600" y="3976560"/>
            <a:ext cx="398520" cy="244440"/>
            <a:chOff x="6186600" y="3976560"/>
            <a:chExt cx="398520" cy="244440"/>
          </a:xfrm>
        </p:grpSpPr>
        <p:sp>
          <p:nvSpPr>
            <p:cNvPr id="632" name=""/>
            <p:cNvSpPr/>
            <p:nvPr/>
          </p:nvSpPr>
          <p:spPr>
            <a:xfrm>
              <a:off x="6186600" y="397656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89640" y="409716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53280" y="404316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518080" y="3666960"/>
            <a:ext cx="679680" cy="379440"/>
            <a:chOff x="5518080" y="3666960"/>
            <a:chExt cx="679680" cy="379440"/>
          </a:xfrm>
        </p:grpSpPr>
        <p:sp>
          <p:nvSpPr>
            <p:cNvPr id="636" name=""/>
            <p:cNvSpPr/>
            <p:nvPr/>
          </p:nvSpPr>
          <p:spPr>
            <a:xfrm>
              <a:off x="5518080" y="3666960"/>
              <a:ext cx="254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61080" y="36669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"/>
            <p:cNvGrpSpPr/>
            <p:nvPr/>
          </p:nvGrpSpPr>
          <p:grpSpPr>
            <a:xfrm>
              <a:off x="5952960" y="3911400"/>
              <a:ext cx="244800" cy="135000"/>
              <a:chOff x="5952960" y="3911400"/>
              <a:chExt cx="244800" cy="135000"/>
            </a:xfrm>
          </p:grpSpPr>
          <p:sp>
            <p:nvSpPr>
              <p:cNvPr id="639" name=""/>
              <p:cNvSpPr/>
              <p:nvPr/>
            </p:nvSpPr>
            <p:spPr>
              <a:xfrm>
                <a:off x="5952960" y="3979440"/>
                <a:ext cx="128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969160" y="3911400"/>
                <a:ext cx="22860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7261200" y="4454640"/>
            <a:ext cx="446040" cy="135000"/>
            <a:chOff x="7261200" y="4454640"/>
            <a:chExt cx="446040" cy="135000"/>
          </a:xfrm>
        </p:grpSpPr>
        <p:sp>
          <p:nvSpPr>
            <p:cNvPr id="642" name=""/>
            <p:cNvSpPr/>
            <p:nvPr/>
          </p:nvSpPr>
          <p:spPr>
            <a:xfrm>
              <a:off x="7261200" y="451800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78640" y="44546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7234200" y="4711680"/>
            <a:ext cx="455400" cy="135000"/>
            <a:chOff x="7234200" y="4711680"/>
            <a:chExt cx="455400" cy="135000"/>
          </a:xfrm>
        </p:grpSpPr>
        <p:sp>
          <p:nvSpPr>
            <p:cNvPr id="645" name=""/>
            <p:cNvSpPr/>
            <p:nvPr/>
          </p:nvSpPr>
          <p:spPr>
            <a:xfrm flipH="1">
              <a:off x="7346520" y="4773600"/>
              <a:ext cx="34308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34200" y="471168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575400" y="4782960"/>
            <a:ext cx="689040" cy="379440"/>
            <a:chOff x="6575400" y="4782960"/>
            <a:chExt cx="689040" cy="379440"/>
          </a:xfrm>
        </p:grpSpPr>
        <p:sp>
          <p:nvSpPr>
            <p:cNvPr id="648" name=""/>
            <p:cNvSpPr/>
            <p:nvPr/>
          </p:nvSpPr>
          <p:spPr>
            <a:xfrm flipH="1">
              <a:off x="7008840" y="4782960"/>
              <a:ext cx="25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6815160" y="47829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6575400" y="5025600"/>
              <a:ext cx="252360" cy="136800"/>
              <a:chOff x="6575400" y="5025600"/>
              <a:chExt cx="252360" cy="136800"/>
            </a:xfrm>
          </p:grpSpPr>
          <p:sp>
            <p:nvSpPr>
              <p:cNvPr id="651" name=""/>
              <p:cNvSpPr/>
              <p:nvPr/>
            </p:nvSpPr>
            <p:spPr>
              <a:xfrm flipH="1">
                <a:off x="6688080" y="509400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75400" y="5025600"/>
                <a:ext cx="228600" cy="1368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6178680" y="5078520"/>
            <a:ext cx="393480" cy="249120"/>
            <a:chOff x="6178680" y="5078520"/>
            <a:chExt cx="393480" cy="249120"/>
          </a:xfrm>
        </p:grpSpPr>
        <p:sp>
          <p:nvSpPr>
            <p:cNvPr id="654" name=""/>
            <p:cNvSpPr/>
            <p:nvPr/>
          </p:nvSpPr>
          <p:spPr>
            <a:xfrm>
              <a:off x="6456240" y="507852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53200" y="520092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178680" y="514980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500800" y="5321160"/>
            <a:ext cx="688320" cy="380880"/>
            <a:chOff x="5500800" y="5321160"/>
            <a:chExt cx="688320" cy="380880"/>
          </a:xfrm>
        </p:grpSpPr>
        <p:sp>
          <p:nvSpPr>
            <p:cNvPr id="658" name=""/>
            <p:cNvSpPr/>
            <p:nvPr/>
          </p:nvSpPr>
          <p:spPr>
            <a:xfrm flipH="1">
              <a:off x="5933880" y="53211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5740560" y="532116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500800" y="5565600"/>
              <a:ext cx="252360" cy="136440"/>
              <a:chOff x="5500800" y="5565600"/>
              <a:chExt cx="252360" cy="136440"/>
            </a:xfrm>
          </p:grpSpPr>
          <p:sp>
            <p:nvSpPr>
              <p:cNvPr id="661" name=""/>
              <p:cNvSpPr/>
              <p:nvPr/>
            </p:nvSpPr>
            <p:spPr>
              <a:xfrm flipH="1">
                <a:off x="5613480" y="563364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500800" y="556560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5049720" y="5570640"/>
            <a:ext cx="455400" cy="135000"/>
            <a:chOff x="5049720" y="5570640"/>
            <a:chExt cx="455400" cy="135000"/>
          </a:xfrm>
        </p:grpSpPr>
        <p:sp>
          <p:nvSpPr>
            <p:cNvPr id="664" name=""/>
            <p:cNvSpPr/>
            <p:nvPr/>
          </p:nvSpPr>
          <p:spPr>
            <a:xfrm flipH="1">
              <a:off x="5162040" y="563256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49720" y="5570640"/>
              <a:ext cx="23184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029200" y="3581280"/>
            <a:ext cx="420840" cy="135000"/>
            <a:chOff x="5029200" y="3581280"/>
            <a:chExt cx="420840" cy="135000"/>
          </a:xfrm>
        </p:grpSpPr>
        <p:sp>
          <p:nvSpPr>
            <p:cNvPr id="667" name=""/>
            <p:cNvSpPr/>
            <p:nvPr/>
          </p:nvSpPr>
          <p:spPr>
            <a:xfrm>
              <a:off x="502920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2288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581080" y="3338640"/>
            <a:ext cx="567360" cy="304560"/>
            <a:chOff x="5581080" y="3338640"/>
            <a:chExt cx="567360" cy="304560"/>
          </a:xfrm>
        </p:grpSpPr>
        <p:sp>
          <p:nvSpPr>
            <p:cNvPr id="670" name=""/>
            <p:cNvSpPr/>
            <p:nvPr/>
          </p:nvSpPr>
          <p:spPr>
            <a:xfrm>
              <a:off x="5614560" y="3357720"/>
              <a:ext cx="31104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5581080" y="3338640"/>
              <a:ext cx="567360" cy="245880"/>
              <a:chOff x="5581080" y="3338640"/>
              <a:chExt cx="567360" cy="245880"/>
            </a:xfrm>
          </p:grpSpPr>
          <p:sp>
            <p:nvSpPr>
              <p:cNvPr id="672" name=""/>
              <p:cNvSpPr/>
              <p:nvPr/>
            </p:nvSpPr>
            <p:spPr>
              <a:xfrm>
                <a:off x="5581080" y="333864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17440" y="3400560"/>
                <a:ext cx="5310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degrade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4" name=""/>
          <p:cNvSpPr/>
          <p:nvPr/>
        </p:nvSpPr>
        <p:spPr>
          <a:xfrm>
            <a:off x="5575320" y="326088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704120" y="53290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7080" y="61722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5503320" y="3254400"/>
            <a:ext cx="567360" cy="426960"/>
            <a:chOff x="5503320" y="3254400"/>
            <a:chExt cx="567360" cy="426960"/>
          </a:xfrm>
        </p:grpSpPr>
        <p:grpSp>
          <p:nvGrpSpPr>
            <p:cNvPr id="678" name=""/>
            <p:cNvGrpSpPr/>
            <p:nvPr/>
          </p:nvGrpSpPr>
          <p:grpSpPr>
            <a:xfrm>
              <a:off x="5503320" y="3346560"/>
              <a:ext cx="567360" cy="304560"/>
              <a:chOff x="5503320" y="3346560"/>
              <a:chExt cx="567360" cy="304560"/>
            </a:xfrm>
          </p:grpSpPr>
          <p:sp>
            <p:nvSpPr>
              <p:cNvPr id="679" name=""/>
              <p:cNvSpPr/>
              <p:nvPr/>
            </p:nvSpPr>
            <p:spPr>
              <a:xfrm>
                <a:off x="5536800" y="3365640"/>
                <a:ext cx="31104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5503320" y="3346560"/>
                <a:ext cx="567360" cy="245880"/>
                <a:chOff x="5503320" y="3346560"/>
                <a:chExt cx="567360" cy="24588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5503320" y="334656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539680" y="340848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83" name=""/>
            <p:cNvSpPr/>
            <p:nvPr/>
          </p:nvSpPr>
          <p:spPr>
            <a:xfrm>
              <a:off x="5538600" y="325440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685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688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691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695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699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45000" y="5824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707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711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714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6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717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720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3787200" y="16588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727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730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734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738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740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743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746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750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753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5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756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759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762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645080" y="2666880"/>
            <a:ext cx="1898280" cy="782640"/>
            <a:chOff x="4645080" y="2666880"/>
            <a:chExt cx="1898280" cy="782640"/>
          </a:xfrm>
        </p:grpSpPr>
        <p:sp>
          <p:nvSpPr>
            <p:cNvPr id="765" name=""/>
            <p:cNvSpPr/>
            <p:nvPr/>
          </p:nvSpPr>
          <p:spPr>
            <a:xfrm>
              <a:off x="4645080" y="2951280"/>
              <a:ext cx="853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logon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6840" y="323532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149880" y="2666880"/>
              <a:ext cx="393480" cy="249120"/>
              <a:chOff x="6149880" y="2666880"/>
              <a:chExt cx="393480" cy="249120"/>
            </a:xfrm>
          </p:grpSpPr>
          <p:sp>
            <p:nvSpPr>
              <p:cNvPr id="768" name=""/>
              <p:cNvSpPr/>
              <p:nvPr/>
            </p:nvSpPr>
            <p:spPr>
              <a:xfrm>
                <a:off x="6427440" y="2666880"/>
                <a:ext cx="115920" cy="8424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224400" y="2789280"/>
                <a:ext cx="11592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149880" y="2738160"/>
                <a:ext cx="230040" cy="17784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5472000" y="2909880"/>
              <a:ext cx="688320" cy="380880"/>
              <a:chOff x="5472000" y="2909880"/>
              <a:chExt cx="688320" cy="38088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5905080" y="2909880"/>
                <a:ext cx="255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5711760" y="2909880"/>
                <a:ext cx="193680" cy="312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4" name=""/>
              <p:cNvGrpSpPr/>
              <p:nvPr/>
            </p:nvGrpSpPr>
            <p:grpSpPr>
              <a:xfrm>
                <a:off x="5472000" y="3154320"/>
                <a:ext cx="252360" cy="136440"/>
                <a:chOff x="5472000" y="3154320"/>
                <a:chExt cx="252360" cy="136440"/>
              </a:xfrm>
            </p:grpSpPr>
            <p:sp>
              <p:nvSpPr>
                <p:cNvPr id="775" name=""/>
                <p:cNvSpPr/>
                <p:nvPr/>
              </p:nvSpPr>
              <p:spPr>
                <a:xfrm flipH="1">
                  <a:off x="5584680" y="3222360"/>
                  <a:ext cx="139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472000" y="3154320"/>
                  <a:ext cx="228600" cy="136440"/>
                </a:xfrm>
                <a:custGeom>
                  <a:avLst/>
                  <a:gdLst/>
                  <a:ahLst/>
                  <a:rect l="l" t="t" r="r" b="b"/>
                  <a:pathLst>
                    <a:path w="144" h="86">
                      <a:moveTo>
                        <a:pt x="0" y="43"/>
                      </a:moveTo>
                      <a:lnTo>
                        <a:pt x="143" y="85"/>
                      </a:lnTo>
                      <a:lnTo>
                        <a:pt x="143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7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778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903680" y="3581280"/>
            <a:ext cx="3559680" cy="1384200"/>
            <a:chOff x="1903680" y="3581280"/>
            <a:chExt cx="3559680" cy="1384200"/>
          </a:xfrm>
        </p:grpSpPr>
        <p:sp>
          <p:nvSpPr>
            <p:cNvPr id="781" name=""/>
            <p:cNvSpPr/>
            <p:nvPr/>
          </p:nvSpPr>
          <p:spPr>
            <a:xfrm>
              <a:off x="4503960" y="393876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03680" y="445464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62000" y="3581280"/>
              <a:ext cx="852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717280" y="4751280"/>
              <a:ext cx="829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STAR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4541760" y="3782880"/>
              <a:ext cx="429120" cy="133560"/>
              <a:chOff x="4541760" y="3782880"/>
              <a:chExt cx="429120" cy="133560"/>
            </a:xfrm>
          </p:grpSpPr>
          <p:sp>
            <p:nvSpPr>
              <p:cNvPr id="786" name=""/>
              <p:cNvSpPr/>
              <p:nvPr/>
            </p:nvSpPr>
            <p:spPr>
              <a:xfrm flipH="1">
                <a:off x="4653720" y="384660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541760" y="3782880"/>
                <a:ext cx="229680" cy="13356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851280" y="3844800"/>
              <a:ext cx="687960" cy="381240"/>
              <a:chOff x="3851280" y="3844800"/>
              <a:chExt cx="687960" cy="381240"/>
            </a:xfrm>
          </p:grpSpPr>
          <p:sp>
            <p:nvSpPr>
              <p:cNvPr id="789" name=""/>
              <p:cNvSpPr/>
              <p:nvPr/>
            </p:nvSpPr>
            <p:spPr>
              <a:xfrm flipH="1">
                <a:off x="4285800" y="384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092120" y="3844800"/>
                <a:ext cx="193320" cy="31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3851280" y="4089240"/>
                <a:ext cx="253440" cy="136800"/>
                <a:chOff x="3851280" y="4089240"/>
                <a:chExt cx="253440" cy="13680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3963600" y="415764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851280" y="4089240"/>
                  <a:ext cx="230040" cy="13680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4" name=""/>
            <p:cNvGrpSpPr/>
            <p:nvPr/>
          </p:nvGrpSpPr>
          <p:grpSpPr>
            <a:xfrm>
              <a:off x="3483000" y="4148280"/>
              <a:ext cx="392760" cy="248760"/>
              <a:chOff x="3483000" y="4148280"/>
              <a:chExt cx="392760" cy="248760"/>
            </a:xfrm>
          </p:grpSpPr>
          <p:sp>
            <p:nvSpPr>
              <p:cNvPr id="795" name=""/>
              <p:cNvSpPr/>
              <p:nvPr/>
            </p:nvSpPr>
            <p:spPr>
              <a:xfrm>
                <a:off x="3760200" y="414828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57520" y="427032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83000" y="4219560"/>
                <a:ext cx="229680" cy="17748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2805120" y="4384800"/>
              <a:ext cx="687960" cy="379440"/>
              <a:chOff x="2805120" y="4384800"/>
              <a:chExt cx="687960" cy="37944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3239640" y="438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046320" y="4384800"/>
                <a:ext cx="191520" cy="30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1" name=""/>
              <p:cNvGrpSpPr/>
              <p:nvPr/>
            </p:nvGrpSpPr>
            <p:grpSpPr>
              <a:xfrm>
                <a:off x="2805120" y="4629600"/>
                <a:ext cx="253440" cy="134640"/>
                <a:chOff x="2805120" y="4629600"/>
                <a:chExt cx="253440" cy="134640"/>
              </a:xfrm>
            </p:grpSpPr>
            <p:sp>
              <p:nvSpPr>
                <p:cNvPr id="802" name=""/>
                <p:cNvSpPr/>
                <p:nvPr/>
              </p:nvSpPr>
              <p:spPr>
                <a:xfrm flipH="1">
                  <a:off x="2917440" y="469620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2805120" y="4629600"/>
                  <a:ext cx="230040" cy="13464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2354040" y="4633920"/>
              <a:ext cx="455040" cy="133200"/>
              <a:chOff x="2354040" y="4633920"/>
              <a:chExt cx="455040" cy="133200"/>
            </a:xfrm>
          </p:grpSpPr>
          <p:sp>
            <p:nvSpPr>
              <p:cNvPr id="805" name=""/>
              <p:cNvSpPr/>
              <p:nvPr/>
            </p:nvSpPr>
            <p:spPr>
              <a:xfrm flipH="1">
                <a:off x="2466360" y="4694040"/>
                <a:ext cx="34272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354040" y="4633920"/>
                <a:ext cx="231480" cy="13320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7" name=""/>
          <p:cNvGrpSpPr/>
          <p:nvPr/>
        </p:nvGrpSpPr>
        <p:grpSpPr>
          <a:xfrm>
            <a:off x="2795760" y="557280"/>
            <a:ext cx="4446000" cy="4471920"/>
            <a:chOff x="2795760" y="557280"/>
            <a:chExt cx="4446000" cy="4471920"/>
          </a:xfrm>
        </p:grpSpPr>
        <p:sp>
          <p:nvSpPr>
            <p:cNvPr id="808" name=""/>
            <p:cNvSpPr/>
            <p:nvPr/>
          </p:nvSpPr>
          <p:spPr>
            <a:xfrm>
              <a:off x="3860640" y="563040"/>
              <a:ext cx="0" cy="44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95760" y="569160"/>
              <a:ext cx="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173280" y="557280"/>
              <a:ext cx="3240" cy="44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497560" y="557280"/>
              <a:ext cx="0" cy="44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62800" y="569160"/>
              <a:ext cx="0" cy="44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238520" y="569160"/>
              <a:ext cx="324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25920" y="565920"/>
              <a:ext cx="0" cy="445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441600" y="587520"/>
              <a:ext cx="0" cy="44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6" name=""/>
          <p:cNvGrpSpPr/>
          <p:nvPr/>
        </p:nvGrpSpPr>
        <p:grpSpPr>
          <a:xfrm>
            <a:off x="3235320" y="1073160"/>
            <a:ext cx="117000" cy="3269880"/>
            <a:chOff x="3235320" y="1073160"/>
            <a:chExt cx="117000" cy="3269880"/>
          </a:xfrm>
        </p:grpSpPr>
        <p:sp>
          <p:nvSpPr>
            <p:cNvPr id="817" name=""/>
            <p:cNvSpPr/>
            <p:nvPr/>
          </p:nvSpPr>
          <p:spPr>
            <a:xfrm>
              <a:off x="3293640" y="1165680"/>
              <a:ext cx="0" cy="30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35320" y="4162320"/>
              <a:ext cx="117000" cy="18072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235320" y="1073160"/>
              <a:ext cx="117000" cy="1803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2971440" y="2438280"/>
            <a:ext cx="496080" cy="308160"/>
            <a:chOff x="2971440" y="2438280"/>
            <a:chExt cx="496080" cy="308160"/>
          </a:xfrm>
        </p:grpSpPr>
        <p:sp>
          <p:nvSpPr>
            <p:cNvPr id="821" name=""/>
            <p:cNvSpPr/>
            <p:nvPr/>
          </p:nvSpPr>
          <p:spPr>
            <a:xfrm>
              <a:off x="2986200" y="24559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2971440" y="2438280"/>
              <a:ext cx="496080" cy="245880"/>
              <a:chOff x="2971440" y="2438280"/>
              <a:chExt cx="496080" cy="245880"/>
            </a:xfrm>
          </p:grpSpPr>
          <p:sp>
            <p:nvSpPr>
              <p:cNvPr id="823" name=""/>
              <p:cNvSpPr/>
              <p:nvPr/>
            </p:nvSpPr>
            <p:spPr>
              <a:xfrm>
                <a:off x="2971440" y="24382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008160" y="25002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5" name=""/>
          <p:cNvGrpSpPr/>
          <p:nvPr/>
        </p:nvGrpSpPr>
        <p:grpSpPr>
          <a:xfrm>
            <a:off x="5076720" y="3581280"/>
            <a:ext cx="420840" cy="135000"/>
            <a:chOff x="5076720" y="3581280"/>
            <a:chExt cx="420840" cy="135000"/>
          </a:xfrm>
        </p:grpSpPr>
        <p:sp>
          <p:nvSpPr>
            <p:cNvPr id="826" name=""/>
            <p:cNvSpPr/>
            <p:nvPr/>
          </p:nvSpPr>
          <p:spPr>
            <a:xfrm>
              <a:off x="507672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7040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4494600" y="3429000"/>
            <a:ext cx="110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577960" y="597996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8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0" name=""/>
          <p:cNvGrpSpPr/>
          <p:nvPr/>
        </p:nvGrpSpPr>
        <p:grpSpPr>
          <a:xfrm>
            <a:off x="5503320" y="3254400"/>
            <a:ext cx="567360" cy="426960"/>
            <a:chOff x="5503320" y="3254400"/>
            <a:chExt cx="567360" cy="426960"/>
          </a:xfrm>
        </p:grpSpPr>
        <p:grpSp>
          <p:nvGrpSpPr>
            <p:cNvPr id="831" name=""/>
            <p:cNvGrpSpPr/>
            <p:nvPr/>
          </p:nvGrpSpPr>
          <p:grpSpPr>
            <a:xfrm>
              <a:off x="5503320" y="3346560"/>
              <a:ext cx="567360" cy="304560"/>
              <a:chOff x="5503320" y="3346560"/>
              <a:chExt cx="567360" cy="304560"/>
            </a:xfrm>
          </p:grpSpPr>
          <p:sp>
            <p:nvSpPr>
              <p:cNvPr id="832" name=""/>
              <p:cNvSpPr/>
              <p:nvPr/>
            </p:nvSpPr>
            <p:spPr>
              <a:xfrm>
                <a:off x="5536800" y="3365640"/>
                <a:ext cx="311040" cy="285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5503320" y="3346560"/>
                <a:ext cx="567360" cy="245880"/>
                <a:chOff x="5503320" y="3346560"/>
                <a:chExt cx="567360" cy="2458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5503320" y="3346560"/>
                  <a:ext cx="223200" cy="22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5539680" y="3408480"/>
                  <a:ext cx="531000" cy="18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degraded</a:t>
                  </a: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6" name=""/>
            <p:cNvSpPr/>
            <p:nvPr/>
          </p:nvSpPr>
          <p:spPr>
            <a:xfrm>
              <a:off x="5538600" y="3254400"/>
              <a:ext cx="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688760" y="0"/>
            <a:ext cx="1072080" cy="457560"/>
            <a:chOff x="1688760" y="0"/>
            <a:chExt cx="1072080" cy="457560"/>
          </a:xfrm>
        </p:grpSpPr>
        <p:sp>
          <p:nvSpPr>
            <p:cNvPr id="838" name=""/>
            <p:cNvSpPr/>
            <p:nvPr/>
          </p:nvSpPr>
          <p:spPr>
            <a:xfrm>
              <a:off x="168876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9576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7129080" y="0"/>
            <a:ext cx="1072080" cy="457560"/>
            <a:chOff x="7129080" y="0"/>
            <a:chExt cx="1072080" cy="457560"/>
          </a:xfrm>
        </p:grpSpPr>
        <p:sp>
          <p:nvSpPr>
            <p:cNvPr id="841" name=""/>
            <p:cNvSpPr/>
            <p:nvPr/>
          </p:nvSpPr>
          <p:spPr>
            <a:xfrm>
              <a:off x="7129080" y="0"/>
              <a:ext cx="107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-Ground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36080" y="182520"/>
              <a:ext cx="6530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3067200" y="0"/>
            <a:ext cx="1009440" cy="457560"/>
            <a:chOff x="3067200" y="0"/>
            <a:chExt cx="1009440" cy="457560"/>
          </a:xfrm>
        </p:grpSpPr>
        <p:sp>
          <p:nvSpPr>
            <p:cNvPr id="844" name=""/>
            <p:cNvSpPr/>
            <p:nvPr/>
          </p:nvSpPr>
          <p:spPr>
            <a:xfrm>
              <a:off x="306720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6980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4487760" y="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8139240" y="1892160"/>
            <a:ext cx="156960" cy="2131920"/>
            <a:chOff x="8139240" y="1892160"/>
            <a:chExt cx="156960" cy="2131920"/>
          </a:xfrm>
        </p:grpSpPr>
        <p:sp>
          <p:nvSpPr>
            <p:cNvPr id="848" name=""/>
            <p:cNvSpPr/>
            <p:nvPr/>
          </p:nvSpPr>
          <p:spPr>
            <a:xfrm>
              <a:off x="820404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229600" y="1892160"/>
              <a:ext cx="0" cy="199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139240" y="3773520"/>
              <a:ext cx="156960" cy="2505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49" y="157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7956720" y="2549520"/>
            <a:ext cx="279360" cy="637560"/>
            <a:chOff x="7956720" y="2549520"/>
            <a:chExt cx="279360" cy="637560"/>
          </a:xfrm>
        </p:grpSpPr>
        <p:sp>
          <p:nvSpPr>
            <p:cNvPr id="852" name=""/>
            <p:cNvSpPr/>
            <p:nvPr/>
          </p:nvSpPr>
          <p:spPr>
            <a:xfrm>
              <a:off x="7968960" y="254952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88040" y="268596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56720" y="282240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966080" y="295740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1826280" y="831960"/>
            <a:ext cx="95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16200" y="1382760"/>
            <a:ext cx="921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contac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745360" y="5824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470400" y="1098720"/>
            <a:ext cx="397800" cy="244440"/>
            <a:chOff x="3470400" y="1098720"/>
            <a:chExt cx="397800" cy="244440"/>
          </a:xfrm>
        </p:grpSpPr>
        <p:sp>
          <p:nvSpPr>
            <p:cNvPr id="860" name=""/>
            <p:cNvSpPr/>
            <p:nvPr/>
          </p:nvSpPr>
          <p:spPr>
            <a:xfrm>
              <a:off x="3470400" y="10987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73440" y="122112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36720" y="1167120"/>
              <a:ext cx="231480" cy="176040"/>
            </a:xfrm>
            <a:custGeom>
              <a:avLst/>
              <a:gdLst/>
              <a:ahLst/>
              <a:rect l="l" t="t" r="r" b="b"/>
              <a:pathLst>
                <a:path w="146" h="111">
                  <a:moveTo>
                    <a:pt x="145" y="110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795760" y="790560"/>
            <a:ext cx="676800" cy="380880"/>
            <a:chOff x="2795760" y="790560"/>
            <a:chExt cx="676800" cy="380880"/>
          </a:xfrm>
        </p:grpSpPr>
        <p:sp>
          <p:nvSpPr>
            <p:cNvPr id="864" name=""/>
            <p:cNvSpPr/>
            <p:nvPr/>
          </p:nvSpPr>
          <p:spPr>
            <a:xfrm>
              <a:off x="2795760" y="79056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038400" y="790560"/>
              <a:ext cx="19980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3232080" y="1035000"/>
              <a:ext cx="240480" cy="136440"/>
              <a:chOff x="3232080" y="1035000"/>
              <a:chExt cx="240480" cy="136440"/>
            </a:xfrm>
          </p:grpSpPr>
          <p:sp>
            <p:nvSpPr>
              <p:cNvPr id="867" name=""/>
              <p:cNvSpPr/>
              <p:nvPr/>
            </p:nvSpPr>
            <p:spPr>
              <a:xfrm>
                <a:off x="3232080" y="1103040"/>
                <a:ext cx="12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244320" y="1035000"/>
                <a:ext cx="22824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9" name=""/>
          <p:cNvGrpSpPr/>
          <p:nvPr/>
        </p:nvGrpSpPr>
        <p:grpSpPr>
          <a:xfrm>
            <a:off x="3854520" y="1339920"/>
            <a:ext cx="678600" cy="380880"/>
            <a:chOff x="3854520" y="1339920"/>
            <a:chExt cx="678600" cy="380880"/>
          </a:xfrm>
        </p:grpSpPr>
        <p:sp>
          <p:nvSpPr>
            <p:cNvPr id="870" name=""/>
            <p:cNvSpPr/>
            <p:nvPr/>
          </p:nvSpPr>
          <p:spPr>
            <a:xfrm>
              <a:off x="3854520" y="133992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97160" y="1341360"/>
              <a:ext cx="199800" cy="32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2" name=""/>
            <p:cNvGrpSpPr/>
            <p:nvPr/>
          </p:nvGrpSpPr>
          <p:grpSpPr>
            <a:xfrm>
              <a:off x="4290840" y="1584360"/>
              <a:ext cx="242280" cy="136440"/>
              <a:chOff x="4290840" y="1584360"/>
              <a:chExt cx="242280" cy="136440"/>
            </a:xfrm>
          </p:grpSpPr>
          <p:sp>
            <p:nvSpPr>
              <p:cNvPr id="873" name=""/>
              <p:cNvSpPr/>
              <p:nvPr/>
            </p:nvSpPr>
            <p:spPr>
              <a:xfrm>
                <a:off x="4290840" y="1652400"/>
                <a:ext cx="12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306320" y="158436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5" name=""/>
          <p:cNvSpPr/>
          <p:nvPr/>
        </p:nvSpPr>
        <p:spPr>
          <a:xfrm>
            <a:off x="3787200" y="165888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707720" y="1857240"/>
            <a:ext cx="87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459400" y="159084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475680" y="27432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4538520" y="1589040"/>
            <a:ext cx="446040" cy="135000"/>
            <a:chOff x="4538520" y="1589040"/>
            <a:chExt cx="446040" cy="135000"/>
          </a:xfrm>
        </p:grpSpPr>
        <p:sp>
          <p:nvSpPr>
            <p:cNvPr id="880" name=""/>
            <p:cNvSpPr/>
            <p:nvPr/>
          </p:nvSpPr>
          <p:spPr>
            <a:xfrm>
              <a:off x="4538520" y="165096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755960" y="158904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5078520" y="1752480"/>
            <a:ext cx="420120" cy="135000"/>
            <a:chOff x="5078520" y="1752480"/>
            <a:chExt cx="420120" cy="135000"/>
          </a:xfrm>
        </p:grpSpPr>
        <p:sp>
          <p:nvSpPr>
            <p:cNvPr id="883" name=""/>
            <p:cNvSpPr/>
            <p:nvPr/>
          </p:nvSpPr>
          <p:spPr>
            <a:xfrm>
              <a:off x="5078520" y="18190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71840" y="1752480"/>
              <a:ext cx="22680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6494040" y="21337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6019920" y="2209680"/>
            <a:ext cx="115920" cy="625320"/>
            <a:chOff x="6019920" y="2209680"/>
            <a:chExt cx="115920" cy="625320"/>
          </a:xfrm>
        </p:grpSpPr>
        <p:sp>
          <p:nvSpPr>
            <p:cNvPr id="887" name=""/>
            <p:cNvSpPr/>
            <p:nvPr/>
          </p:nvSpPr>
          <p:spPr>
            <a:xfrm>
              <a:off x="6075360" y="2252880"/>
              <a:ext cx="1800" cy="53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23160" y="274932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118"/>
                  </a:moveTo>
                  <a:lnTo>
                    <a:pt x="70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019920" y="2209680"/>
              <a:ext cx="112680" cy="85680"/>
            </a:xfrm>
            <a:custGeom>
              <a:avLst/>
              <a:gdLst/>
              <a:ahLst/>
              <a:rect l="l" t="t" r="r" b="b"/>
              <a:pathLst>
                <a:path w="71" h="119">
                  <a:moveTo>
                    <a:pt x="35" y="0"/>
                  </a:moveTo>
                  <a:lnTo>
                    <a:pt x="0" y="118"/>
                  </a:lnTo>
                  <a:lnTo>
                    <a:pt x="70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5771880" y="2362320"/>
            <a:ext cx="430560" cy="304560"/>
            <a:chOff x="5771880" y="2362320"/>
            <a:chExt cx="430560" cy="304560"/>
          </a:xfrm>
        </p:grpSpPr>
        <p:sp>
          <p:nvSpPr>
            <p:cNvPr id="891" name=""/>
            <p:cNvSpPr/>
            <p:nvPr/>
          </p:nvSpPr>
          <p:spPr>
            <a:xfrm>
              <a:off x="5805360" y="2381400"/>
              <a:ext cx="311400" cy="28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5771880" y="2362320"/>
              <a:ext cx="430560" cy="245880"/>
              <a:chOff x="5771880" y="2362320"/>
              <a:chExt cx="430560" cy="245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771880" y="236232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07160" y="2424240"/>
                <a:ext cx="39528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344680" y="720720"/>
            <a:ext cx="446040" cy="135000"/>
            <a:chOff x="2344680" y="720720"/>
            <a:chExt cx="446040" cy="135000"/>
          </a:xfrm>
        </p:grpSpPr>
        <p:sp>
          <p:nvSpPr>
            <p:cNvPr id="896" name=""/>
            <p:cNvSpPr/>
            <p:nvPr/>
          </p:nvSpPr>
          <p:spPr>
            <a:xfrm>
              <a:off x="2344680" y="782640"/>
              <a:ext cx="3301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562120" y="72072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172200" y="2138400"/>
            <a:ext cx="398520" cy="244440"/>
            <a:chOff x="6172200" y="2138400"/>
            <a:chExt cx="398520" cy="244440"/>
          </a:xfrm>
        </p:grpSpPr>
        <p:sp>
          <p:nvSpPr>
            <p:cNvPr id="899" name=""/>
            <p:cNvSpPr/>
            <p:nvPr/>
          </p:nvSpPr>
          <p:spPr>
            <a:xfrm>
              <a:off x="6172200" y="2138400"/>
              <a:ext cx="115920" cy="824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8" y="0"/>
                  </a:moveTo>
                  <a:lnTo>
                    <a:pt x="0" y="13"/>
                  </a:lnTo>
                  <a:lnTo>
                    <a:pt x="64" y="51"/>
                  </a:lnTo>
                  <a:lnTo>
                    <a:pt x="72" y="38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75240" y="225900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8" y="0"/>
                  </a:moveTo>
                  <a:lnTo>
                    <a:pt x="0" y="13"/>
                  </a:lnTo>
                  <a:lnTo>
                    <a:pt x="64" y="52"/>
                  </a:lnTo>
                  <a:lnTo>
                    <a:pt x="72" y="39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38880" y="2205000"/>
              <a:ext cx="231840" cy="177840"/>
            </a:xfrm>
            <a:custGeom>
              <a:avLst/>
              <a:gdLst/>
              <a:ahLst/>
              <a:rect l="l" t="t" r="r" b="b"/>
              <a:pathLst>
                <a:path w="146" h="112">
                  <a:moveTo>
                    <a:pt x="145" y="111"/>
                  </a:moveTo>
                  <a:lnTo>
                    <a:pt x="44" y="0"/>
                  </a:lnTo>
                  <a:lnTo>
                    <a:pt x="0" y="72"/>
                  </a:lnTo>
                  <a:lnTo>
                    <a:pt x="145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5504040" y="1828800"/>
            <a:ext cx="678600" cy="379440"/>
            <a:chOff x="5504040" y="1828800"/>
            <a:chExt cx="678600" cy="379440"/>
          </a:xfrm>
        </p:grpSpPr>
        <p:sp>
          <p:nvSpPr>
            <p:cNvPr id="903" name=""/>
            <p:cNvSpPr/>
            <p:nvPr/>
          </p:nvSpPr>
          <p:spPr>
            <a:xfrm>
              <a:off x="5504040" y="18288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46680" y="1828800"/>
              <a:ext cx="199440" cy="325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5938560" y="2073240"/>
              <a:ext cx="244080" cy="135000"/>
              <a:chOff x="5938560" y="2073240"/>
              <a:chExt cx="244080" cy="135000"/>
            </a:xfrm>
          </p:grpSpPr>
          <p:sp>
            <p:nvSpPr>
              <p:cNvPr id="906" name=""/>
              <p:cNvSpPr/>
              <p:nvPr/>
            </p:nvSpPr>
            <p:spPr>
              <a:xfrm>
                <a:off x="5938560" y="2141280"/>
                <a:ext cx="128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954400" y="2073240"/>
                <a:ext cx="228240" cy="135000"/>
              </a:xfrm>
              <a:custGeom>
                <a:avLst/>
                <a:gdLst/>
                <a:ahLst/>
                <a:rect l="l" t="t" r="r" b="b"/>
                <a:pathLst>
                  <a:path w="144" h="85">
                    <a:moveTo>
                      <a:pt x="143" y="43"/>
                    </a:moveTo>
                    <a:lnTo>
                      <a:pt x="0" y="0"/>
                    </a:lnTo>
                    <a:lnTo>
                      <a:pt x="0" y="84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8" name=""/>
          <p:cNvGrpSpPr/>
          <p:nvPr/>
        </p:nvGrpSpPr>
        <p:grpSpPr>
          <a:xfrm>
            <a:off x="6553080" y="2286000"/>
            <a:ext cx="446040" cy="135000"/>
            <a:chOff x="6553080" y="2286000"/>
            <a:chExt cx="446040" cy="135000"/>
          </a:xfrm>
        </p:grpSpPr>
        <p:sp>
          <p:nvSpPr>
            <p:cNvPr id="909" name=""/>
            <p:cNvSpPr/>
            <p:nvPr/>
          </p:nvSpPr>
          <p:spPr>
            <a:xfrm>
              <a:off x="6553080" y="2349360"/>
              <a:ext cx="33012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770520" y="2286000"/>
              <a:ext cx="228600" cy="13500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143" y="45"/>
                  </a:moveTo>
                  <a:lnTo>
                    <a:pt x="2" y="0"/>
                  </a:lnTo>
                  <a:lnTo>
                    <a:pt x="0" y="84"/>
                  </a:lnTo>
                  <a:lnTo>
                    <a:pt x="143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5862960" y="0"/>
            <a:ext cx="1009440" cy="457560"/>
            <a:chOff x="5862960" y="0"/>
            <a:chExt cx="1009440" cy="457560"/>
          </a:xfrm>
        </p:grpSpPr>
        <p:sp>
          <p:nvSpPr>
            <p:cNvPr id="912" name=""/>
            <p:cNvSpPr/>
            <p:nvPr/>
          </p:nvSpPr>
          <p:spPr>
            <a:xfrm>
              <a:off x="5862960" y="0"/>
              <a:ext cx="1009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 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65560" y="182520"/>
              <a:ext cx="80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553080" y="2590920"/>
            <a:ext cx="455400" cy="134640"/>
            <a:chOff x="6553080" y="2590920"/>
            <a:chExt cx="455400" cy="134640"/>
          </a:xfrm>
        </p:grpSpPr>
        <p:sp>
          <p:nvSpPr>
            <p:cNvPr id="915" name=""/>
            <p:cNvSpPr/>
            <p:nvPr/>
          </p:nvSpPr>
          <p:spPr>
            <a:xfrm flipH="1">
              <a:off x="6665400" y="2652480"/>
              <a:ext cx="343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553080" y="259092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4645080" y="2951280"/>
            <a:ext cx="853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logon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96840" y="32353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6149880" y="2666880"/>
            <a:ext cx="393480" cy="249120"/>
            <a:chOff x="6149880" y="2666880"/>
            <a:chExt cx="393480" cy="249120"/>
          </a:xfrm>
        </p:grpSpPr>
        <p:sp>
          <p:nvSpPr>
            <p:cNvPr id="920" name=""/>
            <p:cNvSpPr/>
            <p:nvPr/>
          </p:nvSpPr>
          <p:spPr>
            <a:xfrm>
              <a:off x="6427440" y="2666880"/>
              <a:ext cx="11592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24400" y="2789280"/>
              <a:ext cx="115920" cy="8388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72" y="13"/>
                  </a:moveTo>
                  <a:lnTo>
                    <a:pt x="64" y="0"/>
                  </a:lnTo>
                  <a:lnTo>
                    <a:pt x="0" y="39"/>
                  </a:lnTo>
                  <a:lnTo>
                    <a:pt x="8" y="52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49880" y="2738160"/>
              <a:ext cx="230040" cy="177840"/>
            </a:xfrm>
            <a:custGeom>
              <a:avLst/>
              <a:gdLst/>
              <a:ahLst/>
              <a:rect l="l" t="t" r="r" b="b"/>
              <a:pathLst>
                <a:path w="145" h="112">
                  <a:moveTo>
                    <a:pt x="0" y="111"/>
                  </a:moveTo>
                  <a:lnTo>
                    <a:pt x="144" y="72"/>
                  </a:lnTo>
                  <a:lnTo>
                    <a:pt x="100" y="0"/>
                  </a:lnTo>
                  <a:lnTo>
                    <a:pt x="0" y="1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5472000" y="2909880"/>
            <a:ext cx="688320" cy="380880"/>
            <a:chOff x="5472000" y="2909880"/>
            <a:chExt cx="688320" cy="380880"/>
          </a:xfrm>
        </p:grpSpPr>
        <p:sp>
          <p:nvSpPr>
            <p:cNvPr id="924" name=""/>
            <p:cNvSpPr/>
            <p:nvPr/>
          </p:nvSpPr>
          <p:spPr>
            <a:xfrm flipH="1">
              <a:off x="5905080" y="2909880"/>
              <a:ext cx="25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5711760" y="2909880"/>
              <a:ext cx="19368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5472000" y="3154320"/>
              <a:ext cx="252360" cy="136440"/>
              <a:chOff x="5472000" y="3154320"/>
              <a:chExt cx="252360" cy="136440"/>
            </a:xfrm>
          </p:grpSpPr>
          <p:sp>
            <p:nvSpPr>
              <p:cNvPr id="927" name=""/>
              <p:cNvSpPr/>
              <p:nvPr/>
            </p:nvSpPr>
            <p:spPr>
              <a:xfrm flipH="1">
                <a:off x="5584680" y="3222360"/>
                <a:ext cx="13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72000" y="3154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0" y="43"/>
                    </a:moveTo>
                    <a:lnTo>
                      <a:pt x="143" y="85"/>
                    </a:lnTo>
                    <a:lnTo>
                      <a:pt x="143" y="0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5019840" y="3154320"/>
            <a:ext cx="455040" cy="135000"/>
            <a:chOff x="5019840" y="3154320"/>
            <a:chExt cx="455040" cy="135000"/>
          </a:xfrm>
        </p:grpSpPr>
        <p:sp>
          <p:nvSpPr>
            <p:cNvPr id="930" name=""/>
            <p:cNvSpPr/>
            <p:nvPr/>
          </p:nvSpPr>
          <p:spPr>
            <a:xfrm flipH="1">
              <a:off x="5132160" y="3216240"/>
              <a:ext cx="34272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19840" y="3154320"/>
              <a:ext cx="231480" cy="1350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0" y="45"/>
                  </a:moveTo>
                  <a:lnTo>
                    <a:pt x="145" y="84"/>
                  </a:lnTo>
                  <a:lnTo>
                    <a:pt x="143" y="0"/>
                  </a:lnTo>
                  <a:lnTo>
                    <a:pt x="0" y="4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03680" y="3581280"/>
            <a:ext cx="3559680" cy="1384200"/>
            <a:chOff x="1903680" y="3581280"/>
            <a:chExt cx="3559680" cy="1384200"/>
          </a:xfrm>
        </p:grpSpPr>
        <p:sp>
          <p:nvSpPr>
            <p:cNvPr id="933" name=""/>
            <p:cNvSpPr/>
            <p:nvPr/>
          </p:nvSpPr>
          <p:spPr>
            <a:xfrm>
              <a:off x="4503960" y="3938760"/>
              <a:ext cx="9594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Rs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03680" y="4454640"/>
              <a:ext cx="93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M-contact Cnf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762720" y="3581280"/>
              <a:ext cx="7945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Req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717280" y="4751280"/>
              <a:ext cx="7567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-DATA I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541760" y="3782880"/>
              <a:ext cx="429120" cy="133560"/>
              <a:chOff x="4541760" y="3782880"/>
              <a:chExt cx="429120" cy="133560"/>
            </a:xfrm>
          </p:grpSpPr>
          <p:sp>
            <p:nvSpPr>
              <p:cNvPr id="938" name=""/>
              <p:cNvSpPr/>
              <p:nvPr/>
            </p:nvSpPr>
            <p:spPr>
              <a:xfrm flipH="1">
                <a:off x="4653720" y="3846600"/>
                <a:ext cx="31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541760" y="3782880"/>
                <a:ext cx="229680" cy="133560"/>
              </a:xfrm>
              <a:custGeom>
                <a:avLst/>
                <a:gdLst/>
                <a:ahLst/>
                <a:rect l="l" t="t" r="r" b="b"/>
                <a:pathLst>
                  <a:path w="145" h="84">
                    <a:moveTo>
                      <a:pt x="0" y="42"/>
                    </a:moveTo>
                    <a:lnTo>
                      <a:pt x="144" y="83"/>
                    </a:lnTo>
                    <a:lnTo>
                      <a:pt x="14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3851280" y="3844800"/>
              <a:ext cx="687960" cy="381240"/>
              <a:chOff x="3851280" y="3844800"/>
              <a:chExt cx="687960" cy="381240"/>
            </a:xfrm>
          </p:grpSpPr>
          <p:sp>
            <p:nvSpPr>
              <p:cNvPr id="941" name=""/>
              <p:cNvSpPr/>
              <p:nvPr/>
            </p:nvSpPr>
            <p:spPr>
              <a:xfrm flipH="1">
                <a:off x="4285800" y="384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4092120" y="3844800"/>
                <a:ext cx="193320" cy="31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851280" y="4089240"/>
                <a:ext cx="253440" cy="136800"/>
                <a:chOff x="3851280" y="4089240"/>
                <a:chExt cx="253440" cy="136800"/>
              </a:xfrm>
            </p:grpSpPr>
            <p:sp>
              <p:nvSpPr>
                <p:cNvPr id="944" name=""/>
                <p:cNvSpPr/>
                <p:nvPr/>
              </p:nvSpPr>
              <p:spPr>
                <a:xfrm flipH="1">
                  <a:off x="3963600" y="415764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851280" y="4089240"/>
                  <a:ext cx="230040" cy="136800"/>
                </a:xfrm>
                <a:custGeom>
                  <a:avLst/>
                  <a:gdLst/>
                  <a:ahLst/>
                  <a:rect l="l" t="t" r="r" b="b"/>
                  <a:pathLst>
                    <a:path w="145" h="86">
                      <a:moveTo>
                        <a:pt x="0" y="43"/>
                      </a:moveTo>
                      <a:lnTo>
                        <a:pt x="144" y="85"/>
                      </a:lnTo>
                      <a:lnTo>
                        <a:pt x="144" y="0"/>
                      </a:lnTo>
                      <a:lnTo>
                        <a:pt x="0" y="4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6" name=""/>
            <p:cNvGrpSpPr/>
            <p:nvPr/>
          </p:nvGrpSpPr>
          <p:grpSpPr>
            <a:xfrm>
              <a:off x="3483000" y="4148280"/>
              <a:ext cx="392760" cy="248760"/>
              <a:chOff x="3483000" y="4148280"/>
              <a:chExt cx="392760" cy="248760"/>
            </a:xfrm>
          </p:grpSpPr>
          <p:sp>
            <p:nvSpPr>
              <p:cNvPr id="947" name=""/>
              <p:cNvSpPr/>
              <p:nvPr/>
            </p:nvSpPr>
            <p:spPr>
              <a:xfrm>
                <a:off x="3760200" y="4148280"/>
                <a:ext cx="11556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557520" y="4270320"/>
                <a:ext cx="115200" cy="83880"/>
              </a:xfrm>
              <a:custGeom>
                <a:avLst/>
                <a:gdLst/>
                <a:ahLst/>
                <a:rect l="l" t="t" r="r" b="b"/>
                <a:pathLst>
                  <a:path w="73" h="53">
                    <a:moveTo>
                      <a:pt x="72" y="13"/>
                    </a:moveTo>
                    <a:lnTo>
                      <a:pt x="64" y="0"/>
                    </a:lnTo>
                    <a:lnTo>
                      <a:pt x="0" y="39"/>
                    </a:lnTo>
                    <a:lnTo>
                      <a:pt x="8" y="52"/>
                    </a:lnTo>
                    <a:lnTo>
                      <a:pt x="72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483000" y="4219560"/>
                <a:ext cx="229680" cy="177480"/>
              </a:xfrm>
              <a:custGeom>
                <a:avLst/>
                <a:gdLst/>
                <a:ahLst/>
                <a:rect l="l" t="t" r="r" b="b"/>
                <a:pathLst>
                  <a:path w="145" h="112">
                    <a:moveTo>
                      <a:pt x="0" y="111"/>
                    </a:moveTo>
                    <a:lnTo>
                      <a:pt x="144" y="72"/>
                    </a:lnTo>
                    <a:lnTo>
                      <a:pt x="10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805120" y="4384800"/>
              <a:ext cx="687960" cy="379440"/>
              <a:chOff x="2805120" y="4384800"/>
              <a:chExt cx="687960" cy="379440"/>
            </a:xfrm>
          </p:grpSpPr>
          <p:sp>
            <p:nvSpPr>
              <p:cNvPr id="951" name=""/>
              <p:cNvSpPr/>
              <p:nvPr/>
            </p:nvSpPr>
            <p:spPr>
              <a:xfrm flipH="1">
                <a:off x="3239640" y="4384800"/>
                <a:ext cx="25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3046320" y="4384800"/>
                <a:ext cx="191520" cy="309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"/>
              <p:cNvGrpSpPr/>
              <p:nvPr/>
            </p:nvGrpSpPr>
            <p:grpSpPr>
              <a:xfrm>
                <a:off x="2805120" y="4629600"/>
                <a:ext cx="253440" cy="134640"/>
                <a:chOff x="2805120" y="4629600"/>
                <a:chExt cx="253440" cy="134640"/>
              </a:xfrm>
            </p:grpSpPr>
            <p:sp>
              <p:nvSpPr>
                <p:cNvPr id="954" name=""/>
                <p:cNvSpPr/>
                <p:nvPr/>
              </p:nvSpPr>
              <p:spPr>
                <a:xfrm flipH="1">
                  <a:off x="2917440" y="4696200"/>
                  <a:ext cx="141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2805120" y="4629600"/>
                  <a:ext cx="230040" cy="134640"/>
                </a:xfrm>
                <a:custGeom>
                  <a:avLst/>
                  <a:gdLst/>
                  <a:ahLst/>
                  <a:rect l="l" t="t" r="r" b="b"/>
                  <a:pathLst>
                    <a:path w="145" h="85">
                      <a:moveTo>
                        <a:pt x="0" y="42"/>
                      </a:moveTo>
                      <a:lnTo>
                        <a:pt x="144" y="84"/>
                      </a:lnTo>
                      <a:lnTo>
                        <a:pt x="144" y="0"/>
                      </a:lnTo>
                      <a:lnTo>
                        <a:pt x="0" y="4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6" name=""/>
            <p:cNvGrpSpPr/>
            <p:nvPr/>
          </p:nvGrpSpPr>
          <p:grpSpPr>
            <a:xfrm>
              <a:off x="2354040" y="4633920"/>
              <a:ext cx="455040" cy="133200"/>
              <a:chOff x="2354040" y="4633920"/>
              <a:chExt cx="455040" cy="133200"/>
            </a:xfrm>
          </p:grpSpPr>
          <p:sp>
            <p:nvSpPr>
              <p:cNvPr id="957" name=""/>
              <p:cNvSpPr/>
              <p:nvPr/>
            </p:nvSpPr>
            <p:spPr>
              <a:xfrm flipH="1">
                <a:off x="2466360" y="4694040"/>
                <a:ext cx="342720" cy="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54040" y="4633920"/>
                <a:ext cx="231480" cy="133200"/>
              </a:xfrm>
              <a:custGeom>
                <a:avLst/>
                <a:gdLst/>
                <a:ahLst/>
                <a:rect l="l" t="t" r="r" b="b"/>
                <a:pathLst>
                  <a:path w="146" h="84">
                    <a:moveTo>
                      <a:pt x="0" y="44"/>
                    </a:moveTo>
                    <a:lnTo>
                      <a:pt x="145" y="83"/>
                    </a:lnTo>
                    <a:lnTo>
                      <a:pt x="143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9" name=""/>
          <p:cNvGrpSpPr/>
          <p:nvPr/>
        </p:nvGrpSpPr>
        <p:grpSpPr>
          <a:xfrm>
            <a:off x="2795760" y="557280"/>
            <a:ext cx="4446000" cy="4471920"/>
            <a:chOff x="2795760" y="557280"/>
            <a:chExt cx="4446000" cy="4471920"/>
          </a:xfrm>
        </p:grpSpPr>
        <p:sp>
          <p:nvSpPr>
            <p:cNvPr id="960" name=""/>
            <p:cNvSpPr/>
            <p:nvPr/>
          </p:nvSpPr>
          <p:spPr>
            <a:xfrm>
              <a:off x="3860640" y="563040"/>
              <a:ext cx="0" cy="445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795760" y="569160"/>
              <a:ext cx="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173280" y="557280"/>
              <a:ext cx="3240" cy="447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497560" y="557280"/>
              <a:ext cx="0" cy="446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562800" y="569160"/>
              <a:ext cx="0" cy="444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238520" y="569160"/>
              <a:ext cx="3240" cy="445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525920" y="565920"/>
              <a:ext cx="0" cy="445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41600" y="587520"/>
              <a:ext cx="0" cy="44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3235320" y="1073160"/>
            <a:ext cx="117000" cy="3269880"/>
            <a:chOff x="3235320" y="1073160"/>
            <a:chExt cx="117000" cy="3269880"/>
          </a:xfrm>
        </p:grpSpPr>
        <p:sp>
          <p:nvSpPr>
            <p:cNvPr id="969" name=""/>
            <p:cNvSpPr/>
            <p:nvPr/>
          </p:nvSpPr>
          <p:spPr>
            <a:xfrm>
              <a:off x="3293640" y="1165680"/>
              <a:ext cx="0" cy="308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235320" y="4162320"/>
              <a:ext cx="117000" cy="18072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118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35" y="1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235320" y="1073160"/>
              <a:ext cx="117000" cy="180360"/>
            </a:xfrm>
            <a:custGeom>
              <a:avLst/>
              <a:gdLst/>
              <a:ahLst/>
              <a:rect l="l" t="t" r="r" b="b"/>
              <a:pathLst>
                <a:path w="70" h="119">
                  <a:moveTo>
                    <a:pt x="35" y="0"/>
                  </a:moveTo>
                  <a:lnTo>
                    <a:pt x="0" y="118"/>
                  </a:lnTo>
                  <a:lnTo>
                    <a:pt x="69" y="118"/>
                  </a:lnTo>
                  <a:lnTo>
                    <a:pt x="3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2971440" y="2438280"/>
            <a:ext cx="496080" cy="308160"/>
            <a:chOff x="2971440" y="2438280"/>
            <a:chExt cx="496080" cy="308160"/>
          </a:xfrm>
        </p:grpSpPr>
        <p:sp>
          <p:nvSpPr>
            <p:cNvPr id="973" name=""/>
            <p:cNvSpPr/>
            <p:nvPr/>
          </p:nvSpPr>
          <p:spPr>
            <a:xfrm>
              <a:off x="2986200" y="2455920"/>
              <a:ext cx="387000" cy="290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2971440" y="2438280"/>
              <a:ext cx="496080" cy="245880"/>
              <a:chOff x="2971440" y="2438280"/>
              <a:chExt cx="496080" cy="245880"/>
            </a:xfrm>
          </p:grpSpPr>
          <p:sp>
            <p:nvSpPr>
              <p:cNvPr id="975" name=""/>
              <p:cNvSpPr/>
              <p:nvPr/>
            </p:nvSpPr>
            <p:spPr>
              <a:xfrm>
                <a:off x="2971440" y="24382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08160" y="2500200"/>
                <a:ext cx="4593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contac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7" name=""/>
          <p:cNvGrpSpPr/>
          <p:nvPr/>
        </p:nvGrpSpPr>
        <p:grpSpPr>
          <a:xfrm>
            <a:off x="5076720" y="3581280"/>
            <a:ext cx="420840" cy="135000"/>
            <a:chOff x="5076720" y="3581280"/>
            <a:chExt cx="420840" cy="135000"/>
          </a:xfrm>
        </p:grpSpPr>
        <p:sp>
          <p:nvSpPr>
            <p:cNvPr id="978" name=""/>
            <p:cNvSpPr/>
            <p:nvPr/>
          </p:nvSpPr>
          <p:spPr>
            <a:xfrm>
              <a:off x="5076720" y="36478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270400" y="3581280"/>
              <a:ext cx="227160" cy="135000"/>
            </a:xfrm>
            <a:custGeom>
              <a:avLst/>
              <a:gdLst/>
              <a:ahLst/>
              <a:rect l="l" t="t" r="r" b="b"/>
              <a:pathLst>
                <a:path w="143" h="85">
                  <a:moveTo>
                    <a:pt x="142" y="43"/>
                  </a:moveTo>
                  <a:lnTo>
                    <a:pt x="0" y="0"/>
                  </a:lnTo>
                  <a:lnTo>
                    <a:pt x="0" y="84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4494600" y="3429000"/>
            <a:ext cx="1100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M-user-abo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339360" y="62085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8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1482120" y="1668600"/>
            <a:ext cx="141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5759280" y="2590920"/>
            <a:ext cx="1447920" cy="136440"/>
            <a:chOff x="5759280" y="2590920"/>
            <a:chExt cx="1447920" cy="136440"/>
          </a:xfrm>
        </p:grpSpPr>
        <p:sp>
          <p:nvSpPr>
            <p:cNvPr id="984" name=""/>
            <p:cNvSpPr/>
            <p:nvPr/>
          </p:nvSpPr>
          <p:spPr>
            <a:xfrm>
              <a:off x="5759280" y="26593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78600" y="2590920"/>
              <a:ext cx="228600" cy="13644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43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5757840" y="2386080"/>
            <a:ext cx="1387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provider-abort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97480" y="166860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914800" y="166860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7620120" y="1981080"/>
            <a:ext cx="152280" cy="1295640"/>
            <a:chOff x="7620120" y="1981080"/>
            <a:chExt cx="152280" cy="1295640"/>
          </a:xfrm>
        </p:grpSpPr>
        <p:sp>
          <p:nvSpPr>
            <p:cNvPr id="990" name=""/>
            <p:cNvSpPr/>
            <p:nvPr/>
          </p:nvSpPr>
          <p:spPr>
            <a:xfrm>
              <a:off x="7683120" y="1981080"/>
              <a:ext cx="0" cy="12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07600" y="1981080"/>
              <a:ext cx="0" cy="12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620120" y="3123360"/>
              <a:ext cx="152280" cy="153360"/>
            </a:xfrm>
            <a:custGeom>
              <a:avLst/>
              <a:gdLst/>
              <a:ahLst/>
              <a:rect l="l" t="t" r="r" b="b"/>
              <a:pathLst>
                <a:path w="99" h="159">
                  <a:moveTo>
                    <a:pt x="49" y="158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7194600" y="2344680"/>
            <a:ext cx="279360" cy="639360"/>
            <a:chOff x="7194600" y="2344680"/>
            <a:chExt cx="279360" cy="639360"/>
          </a:xfrm>
        </p:grpSpPr>
        <p:sp>
          <p:nvSpPr>
            <p:cNvPr id="994" name=""/>
            <p:cNvSpPr/>
            <p:nvPr/>
          </p:nvSpPr>
          <p:spPr>
            <a:xfrm>
              <a:off x="7206840" y="234468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225920" y="248112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94600" y="261792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03600" y="2754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3002040" y="2174760"/>
            <a:ext cx="2739960" cy="1177920"/>
            <a:chOff x="3002040" y="2174760"/>
            <a:chExt cx="2739960" cy="1177920"/>
          </a:xfrm>
        </p:grpSpPr>
        <p:sp>
          <p:nvSpPr>
            <p:cNvPr id="999" name=""/>
            <p:cNvSpPr/>
            <p:nvPr/>
          </p:nvSpPr>
          <p:spPr>
            <a:xfrm>
              <a:off x="574200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67676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6728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002040" y="2174760"/>
              <a:ext cx="0" cy="117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3" name=""/>
          <p:cNvGrpSpPr/>
          <p:nvPr/>
        </p:nvGrpSpPr>
        <p:grpSpPr>
          <a:xfrm>
            <a:off x="5249880" y="2484360"/>
            <a:ext cx="504360" cy="396000"/>
            <a:chOff x="5249880" y="2484360"/>
            <a:chExt cx="504360" cy="396000"/>
          </a:xfrm>
        </p:grpSpPr>
        <p:sp>
          <p:nvSpPr>
            <p:cNvPr id="1004" name=""/>
            <p:cNvSpPr/>
            <p:nvPr/>
          </p:nvSpPr>
          <p:spPr>
            <a:xfrm rot="16200000">
              <a:off x="5315760" y="2441880"/>
              <a:ext cx="396000" cy="4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 rot="5400000">
              <a:off x="5291640" y="2441880"/>
              <a:ext cx="396000" cy="48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6" name=""/>
          <p:cNvSpPr/>
          <p:nvPr/>
        </p:nvSpPr>
        <p:spPr>
          <a:xfrm>
            <a:off x="3034440" y="453240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7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15:48Z</dcterms:created>
  <dc:creator>James Moulton</dc:creator>
  <dc:description/>
  <dc:language>en-US</dc:language>
  <cp:lastModifiedBy>James Moulton</cp:lastModifiedBy>
  <dcterms:modified xsi:type="dcterms:W3CDTF">1999-01-18T20:27:06Z</dcterms:modified>
  <cp:revision>3</cp:revision>
  <dc:subject/>
  <dc:title>No Slide Title</dc:title>
</cp:coreProperties>
</file>