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5E97-BF28-47F9-8277-A0DED360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89EB-9ED3-473A-8F19-88634996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2E26-AFB9-4E24-9B5B-C21329CF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0A89-6CF5-4493-BAD0-636EE62C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03F1-40FF-4A46-B69B-FE893F29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3DE3-544D-4EC6-B8DB-B2530E35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1989-0D01-4658-859F-61B6D908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C696-B71C-45C3-861A-5C46D558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5A64-1309-4EE3-BBC0-AE80DC8A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E853-5517-44AF-9305-C152C300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984A-ED81-42B9-B830-53A4EE4D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BF10-046A-484D-A0F9-0180E1E1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504D-2BA5-4D23-BA94-28F97E4A0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7080" y="380880"/>
            <a:ext cx="120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M-Ground-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94720" y="291960"/>
            <a:ext cx="1672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 Service Prov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554520" y="380880"/>
            <a:ext cx="922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M-Air-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584520" y="787320"/>
            <a:ext cx="2749680" cy="2489040"/>
            <a:chOff x="3584520" y="787320"/>
            <a:chExt cx="2749680" cy="2489040"/>
          </a:xfrm>
        </p:grpSpPr>
        <p:sp>
          <p:nvSpPr>
            <p:cNvPr id="45" name=""/>
            <p:cNvSpPr/>
            <p:nvPr/>
          </p:nvSpPr>
          <p:spPr>
            <a:xfrm>
              <a:off x="6334200" y="799200"/>
              <a:ext cx="0" cy="246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275440" y="787320"/>
              <a:ext cx="0" cy="246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787320"/>
              <a:ext cx="0" cy="246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84520" y="812160"/>
              <a:ext cx="0" cy="246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6332040" y="860400"/>
            <a:ext cx="1436760" cy="123840"/>
            <a:chOff x="6332040" y="860400"/>
            <a:chExt cx="1436760" cy="123840"/>
          </a:xfrm>
        </p:grpSpPr>
        <p:sp>
          <p:nvSpPr>
            <p:cNvPr id="50" name=""/>
            <p:cNvSpPr/>
            <p:nvPr/>
          </p:nvSpPr>
          <p:spPr>
            <a:xfrm flipH="1">
              <a:off x="6435360" y="928800"/>
              <a:ext cx="1333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332040" y="860400"/>
              <a:ext cx="216000" cy="123840"/>
            </a:xfrm>
            <a:custGeom>
              <a:avLst/>
              <a:gdLst/>
              <a:ahLst/>
              <a:rect l="l" t="t" r="r" b="b"/>
              <a:pathLst>
                <a:path w="136" h="78">
                  <a:moveTo>
                    <a:pt x="135" y="39"/>
                  </a:moveTo>
                  <a:lnTo>
                    <a:pt x="0" y="0"/>
                  </a:lnTo>
                  <a:lnTo>
                    <a:pt x="0" y="77"/>
                  </a:lnTo>
                  <a:lnTo>
                    <a:pt x="135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641840" y="1220760"/>
            <a:ext cx="617040" cy="252360"/>
            <a:chOff x="4641840" y="1220760"/>
            <a:chExt cx="617040" cy="252360"/>
          </a:xfrm>
        </p:grpSpPr>
        <p:sp>
          <p:nvSpPr>
            <p:cNvPr id="53" name=""/>
            <p:cNvSpPr/>
            <p:nvPr/>
          </p:nvSpPr>
          <p:spPr>
            <a:xfrm flipH="1">
              <a:off x="5158800" y="1220760"/>
              <a:ext cx="9972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5" y="0"/>
                  </a:moveTo>
                  <a:lnTo>
                    <a:pt x="0" y="12"/>
                  </a:lnTo>
                  <a:lnTo>
                    <a:pt x="57" y="31"/>
                  </a:lnTo>
                  <a:lnTo>
                    <a:pt x="62" y="19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955760" y="1297080"/>
              <a:ext cx="10008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5" y="0"/>
                  </a:moveTo>
                  <a:lnTo>
                    <a:pt x="0" y="12"/>
                  </a:lnTo>
                  <a:lnTo>
                    <a:pt x="57" y="31"/>
                  </a:lnTo>
                  <a:lnTo>
                    <a:pt x="62" y="19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4754160" y="1373400"/>
              <a:ext cx="98640" cy="507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5" y="0"/>
                  </a:moveTo>
                  <a:lnTo>
                    <a:pt x="0" y="12"/>
                  </a:lnTo>
                  <a:lnTo>
                    <a:pt x="56" y="31"/>
                  </a:lnTo>
                  <a:lnTo>
                    <a:pt x="61" y="19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1840" y="1449360"/>
              <a:ext cx="972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4656960" y="1320840"/>
              <a:ext cx="220680" cy="130320"/>
            </a:xfrm>
            <a:custGeom>
              <a:avLst/>
              <a:gdLst/>
              <a:ahLst/>
              <a:rect l="l" t="t" r="r" b="b"/>
              <a:pathLst>
                <a:path w="139" h="82">
                  <a:moveTo>
                    <a:pt x="138" y="81"/>
                  </a:moveTo>
                  <a:lnTo>
                    <a:pt x="28" y="0"/>
                  </a:lnTo>
                  <a:lnTo>
                    <a:pt x="0" y="71"/>
                  </a:lnTo>
                  <a:lnTo>
                    <a:pt x="138" y="8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2142720" y="1698480"/>
            <a:ext cx="1436760" cy="123480"/>
            <a:chOff x="2142720" y="1698480"/>
            <a:chExt cx="1436760" cy="123480"/>
          </a:xfrm>
        </p:grpSpPr>
        <p:sp>
          <p:nvSpPr>
            <p:cNvPr id="59" name=""/>
            <p:cNvSpPr/>
            <p:nvPr/>
          </p:nvSpPr>
          <p:spPr>
            <a:xfrm flipH="1">
              <a:off x="2246040" y="1766520"/>
              <a:ext cx="1333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142720" y="1698480"/>
              <a:ext cx="216000" cy="123480"/>
            </a:xfrm>
            <a:custGeom>
              <a:avLst/>
              <a:gdLst/>
              <a:ahLst/>
              <a:rect l="l" t="t" r="r" b="b"/>
              <a:pathLst>
                <a:path w="136" h="78">
                  <a:moveTo>
                    <a:pt x="135" y="39"/>
                  </a:moveTo>
                  <a:lnTo>
                    <a:pt x="0" y="0"/>
                  </a:lnTo>
                  <a:lnTo>
                    <a:pt x="0" y="77"/>
                  </a:lnTo>
                  <a:lnTo>
                    <a:pt x="135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 flipH="1">
            <a:off x="2247480" y="1477800"/>
            <a:ext cx="12992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server-logon I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265360" y="928800"/>
            <a:ext cx="1055880" cy="360360"/>
            <a:chOff x="5265360" y="928800"/>
            <a:chExt cx="1055880" cy="360360"/>
          </a:xfrm>
        </p:grpSpPr>
        <p:sp>
          <p:nvSpPr>
            <p:cNvPr id="63" name=""/>
            <p:cNvSpPr/>
            <p:nvPr/>
          </p:nvSpPr>
          <p:spPr>
            <a:xfrm flipH="1">
              <a:off x="5927400" y="928800"/>
              <a:ext cx="393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622480" y="928800"/>
              <a:ext cx="317520" cy="317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5265360" y="1165320"/>
              <a:ext cx="370080" cy="123840"/>
              <a:chOff x="5265360" y="1165320"/>
              <a:chExt cx="370080" cy="123840"/>
            </a:xfrm>
          </p:grpSpPr>
          <p:sp>
            <p:nvSpPr>
              <p:cNvPr id="66" name=""/>
              <p:cNvSpPr/>
              <p:nvPr/>
            </p:nvSpPr>
            <p:spPr>
              <a:xfrm flipH="1">
                <a:off x="5368680" y="1233360"/>
                <a:ext cx="266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5265360" y="1165320"/>
                <a:ext cx="216000" cy="123840"/>
              </a:xfrm>
              <a:custGeom>
                <a:avLst/>
                <a:gdLst/>
                <a:ahLst/>
                <a:rect l="l" t="t" r="r" b="b"/>
                <a:pathLst>
                  <a:path w="136" h="78">
                    <a:moveTo>
                      <a:pt x="135" y="39"/>
                    </a:moveTo>
                    <a:lnTo>
                      <a:pt x="0" y="0"/>
                    </a:lnTo>
                    <a:lnTo>
                      <a:pt x="0" y="77"/>
                    </a:lnTo>
                    <a:lnTo>
                      <a:pt x="135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" name=""/>
          <p:cNvGrpSpPr/>
          <p:nvPr/>
        </p:nvGrpSpPr>
        <p:grpSpPr>
          <a:xfrm>
            <a:off x="3591000" y="1461960"/>
            <a:ext cx="1055520" cy="360360"/>
            <a:chOff x="3591000" y="1461960"/>
            <a:chExt cx="1055520" cy="360360"/>
          </a:xfrm>
        </p:grpSpPr>
        <p:sp>
          <p:nvSpPr>
            <p:cNvPr id="69" name=""/>
            <p:cNvSpPr/>
            <p:nvPr/>
          </p:nvSpPr>
          <p:spPr>
            <a:xfrm flipH="1">
              <a:off x="4253040" y="1461960"/>
              <a:ext cx="393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3948120" y="1461960"/>
              <a:ext cx="316080" cy="31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3591000" y="1698840"/>
              <a:ext cx="369720" cy="123480"/>
              <a:chOff x="3591000" y="1698840"/>
              <a:chExt cx="369720" cy="123480"/>
            </a:xfrm>
          </p:grpSpPr>
          <p:sp>
            <p:nvSpPr>
              <p:cNvPr id="72" name=""/>
              <p:cNvSpPr/>
              <p:nvPr/>
            </p:nvSpPr>
            <p:spPr>
              <a:xfrm flipH="1">
                <a:off x="3693960" y="1766880"/>
                <a:ext cx="266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3591000" y="1698840"/>
                <a:ext cx="216000" cy="123480"/>
              </a:xfrm>
              <a:custGeom>
                <a:avLst/>
                <a:gdLst/>
                <a:ahLst/>
                <a:rect l="l" t="t" r="r" b="b"/>
                <a:pathLst>
                  <a:path w="136" h="78">
                    <a:moveTo>
                      <a:pt x="135" y="39"/>
                    </a:moveTo>
                    <a:lnTo>
                      <a:pt x="0" y="0"/>
                    </a:lnTo>
                    <a:lnTo>
                      <a:pt x="0" y="77"/>
                    </a:lnTo>
                    <a:lnTo>
                      <a:pt x="135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" name=""/>
          <p:cNvSpPr/>
          <p:nvPr/>
        </p:nvSpPr>
        <p:spPr>
          <a:xfrm flipH="1">
            <a:off x="6381360" y="977760"/>
            <a:ext cx="13431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server-logon Req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168280" y="2212920"/>
            <a:ext cx="5624280" cy="961560"/>
            <a:chOff x="2168280" y="2212920"/>
            <a:chExt cx="5624280" cy="961560"/>
          </a:xfrm>
        </p:grpSpPr>
        <p:grpSp>
          <p:nvGrpSpPr>
            <p:cNvPr id="76" name=""/>
            <p:cNvGrpSpPr/>
            <p:nvPr/>
          </p:nvGrpSpPr>
          <p:grpSpPr>
            <a:xfrm>
              <a:off x="2168280" y="2212920"/>
              <a:ext cx="1434960" cy="123480"/>
              <a:chOff x="2168280" y="2212920"/>
              <a:chExt cx="1434960" cy="123480"/>
            </a:xfrm>
          </p:grpSpPr>
          <p:sp>
            <p:nvSpPr>
              <p:cNvPr id="77" name=""/>
              <p:cNvSpPr/>
              <p:nvPr/>
            </p:nvSpPr>
            <p:spPr>
              <a:xfrm>
                <a:off x="2168280" y="2280960"/>
                <a:ext cx="133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3387240" y="2212920"/>
                <a:ext cx="216000" cy="123480"/>
              </a:xfrm>
              <a:custGeom>
                <a:avLst/>
                <a:gdLst/>
                <a:ahLst/>
                <a:rect l="l" t="t" r="r" b="b"/>
                <a:pathLst>
                  <a:path w="136" h="78">
                    <a:moveTo>
                      <a:pt x="0" y="39"/>
                    </a:moveTo>
                    <a:lnTo>
                      <a:pt x="135" y="0"/>
                    </a:lnTo>
                    <a:lnTo>
                      <a:pt x="135" y="77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4676400" y="2572920"/>
              <a:ext cx="619200" cy="251640"/>
              <a:chOff x="4676400" y="2572920"/>
              <a:chExt cx="619200" cy="251640"/>
            </a:xfrm>
          </p:grpSpPr>
          <p:sp>
            <p:nvSpPr>
              <p:cNvPr id="80" name=""/>
              <p:cNvSpPr/>
              <p:nvPr/>
            </p:nvSpPr>
            <p:spPr>
              <a:xfrm flipH="1">
                <a:off x="4676400" y="2572920"/>
                <a:ext cx="100080" cy="5040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57" y="0"/>
                    </a:moveTo>
                    <a:lnTo>
                      <a:pt x="62" y="12"/>
                    </a:lnTo>
                    <a:lnTo>
                      <a:pt x="5" y="31"/>
                    </a:lnTo>
                    <a:lnTo>
                      <a:pt x="0" y="19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4879440" y="2648880"/>
                <a:ext cx="99720" cy="5040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57" y="0"/>
                    </a:moveTo>
                    <a:lnTo>
                      <a:pt x="62" y="12"/>
                    </a:lnTo>
                    <a:lnTo>
                      <a:pt x="5" y="31"/>
                    </a:lnTo>
                    <a:lnTo>
                      <a:pt x="0" y="19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5082480" y="2725200"/>
                <a:ext cx="98280" cy="50400"/>
              </a:xfrm>
              <a:custGeom>
                <a:avLst/>
                <a:gdLst/>
                <a:ahLst/>
                <a:rect l="l" t="t" r="r" b="b"/>
                <a:pathLst>
                  <a:path w="62" h="32">
                    <a:moveTo>
                      <a:pt x="56" y="0"/>
                    </a:moveTo>
                    <a:lnTo>
                      <a:pt x="61" y="12"/>
                    </a:lnTo>
                    <a:lnTo>
                      <a:pt x="5" y="31"/>
                    </a:lnTo>
                    <a:lnTo>
                      <a:pt x="0" y="19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5285880" y="2801160"/>
                <a:ext cx="9720" cy="23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5056920" y="2672640"/>
                <a:ext cx="220680" cy="129960"/>
              </a:xfrm>
              <a:custGeom>
                <a:avLst/>
                <a:gdLst/>
                <a:ahLst/>
                <a:rect l="l" t="t" r="r" b="b"/>
                <a:pathLst>
                  <a:path w="139" h="82">
                    <a:moveTo>
                      <a:pt x="0" y="81"/>
                    </a:moveTo>
                    <a:lnTo>
                      <a:pt x="110" y="0"/>
                    </a:lnTo>
                    <a:lnTo>
                      <a:pt x="138" y="71"/>
                    </a:lnTo>
                    <a:lnTo>
                      <a:pt x="0" y="8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6357600" y="3051000"/>
              <a:ext cx="1434960" cy="123480"/>
              <a:chOff x="6357600" y="3051000"/>
              <a:chExt cx="1434960" cy="123480"/>
            </a:xfrm>
          </p:grpSpPr>
          <p:sp>
            <p:nvSpPr>
              <p:cNvPr id="86" name=""/>
              <p:cNvSpPr/>
              <p:nvPr/>
            </p:nvSpPr>
            <p:spPr>
              <a:xfrm>
                <a:off x="6357600" y="3118680"/>
                <a:ext cx="133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7576560" y="3051000"/>
                <a:ext cx="215640" cy="123480"/>
              </a:xfrm>
              <a:custGeom>
                <a:avLst/>
                <a:gdLst/>
                <a:ahLst/>
                <a:rect l="l" t="t" r="r" b="b"/>
                <a:pathLst>
                  <a:path w="136" h="78">
                    <a:moveTo>
                      <a:pt x="0" y="39"/>
                    </a:moveTo>
                    <a:lnTo>
                      <a:pt x="135" y="0"/>
                    </a:lnTo>
                    <a:lnTo>
                      <a:pt x="135" y="77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3615840" y="2280960"/>
              <a:ext cx="1054440" cy="359640"/>
              <a:chOff x="3615840" y="2280960"/>
              <a:chExt cx="1054440" cy="359640"/>
            </a:xfrm>
          </p:grpSpPr>
          <p:sp>
            <p:nvSpPr>
              <p:cNvPr id="89" name=""/>
              <p:cNvSpPr/>
              <p:nvPr/>
            </p:nvSpPr>
            <p:spPr>
              <a:xfrm>
                <a:off x="3615840" y="2280960"/>
                <a:ext cx="393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997080" y="2280960"/>
                <a:ext cx="317520" cy="317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" name=""/>
              <p:cNvGrpSpPr/>
              <p:nvPr/>
            </p:nvGrpSpPr>
            <p:grpSpPr>
              <a:xfrm>
                <a:off x="4302000" y="2517120"/>
                <a:ext cx="368280" cy="123480"/>
                <a:chOff x="4302000" y="2517120"/>
                <a:chExt cx="368280" cy="12348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4302000" y="2585160"/>
                  <a:ext cx="2667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H="1">
                  <a:off x="4454280" y="2517120"/>
                  <a:ext cx="216000" cy="123480"/>
                </a:xfrm>
                <a:custGeom>
                  <a:avLst/>
                  <a:gdLst/>
                  <a:ahLst/>
                  <a:rect l="l" t="t" r="r" b="b"/>
                  <a:pathLst>
                    <a:path w="136" h="78">
                      <a:moveTo>
                        <a:pt x="0" y="39"/>
                      </a:moveTo>
                      <a:lnTo>
                        <a:pt x="135" y="0"/>
                      </a:lnTo>
                      <a:lnTo>
                        <a:pt x="135" y="77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4" name=""/>
            <p:cNvGrpSpPr/>
            <p:nvPr/>
          </p:nvGrpSpPr>
          <p:grpSpPr>
            <a:xfrm>
              <a:off x="5291280" y="2814480"/>
              <a:ext cx="1053720" cy="359640"/>
              <a:chOff x="5291280" y="2814480"/>
              <a:chExt cx="1053720" cy="359640"/>
            </a:xfrm>
          </p:grpSpPr>
          <p:sp>
            <p:nvSpPr>
              <p:cNvPr id="95" name=""/>
              <p:cNvSpPr/>
              <p:nvPr/>
            </p:nvSpPr>
            <p:spPr>
              <a:xfrm>
                <a:off x="5291280" y="2814480"/>
                <a:ext cx="393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673240" y="2814480"/>
                <a:ext cx="316080" cy="313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" name=""/>
              <p:cNvGrpSpPr/>
              <p:nvPr/>
            </p:nvGrpSpPr>
            <p:grpSpPr>
              <a:xfrm>
                <a:off x="5977080" y="3050640"/>
                <a:ext cx="367920" cy="123480"/>
                <a:chOff x="5977080" y="3050640"/>
                <a:chExt cx="367920" cy="12348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5977080" y="3118320"/>
                  <a:ext cx="2667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flipH="1">
                  <a:off x="6129000" y="3050640"/>
                  <a:ext cx="216000" cy="123480"/>
                </a:xfrm>
                <a:custGeom>
                  <a:avLst/>
                  <a:gdLst/>
                  <a:ahLst/>
                  <a:rect l="l" t="t" r="r" b="b"/>
                  <a:pathLst>
                    <a:path w="136" h="78">
                      <a:moveTo>
                        <a:pt x="0" y="39"/>
                      </a:moveTo>
                      <a:lnTo>
                        <a:pt x="135" y="0"/>
                      </a:lnTo>
                      <a:lnTo>
                        <a:pt x="135" y="77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0" name=""/>
          <p:cNvSpPr/>
          <p:nvPr/>
        </p:nvSpPr>
        <p:spPr>
          <a:xfrm flipH="1">
            <a:off x="2187360" y="2011320"/>
            <a:ext cx="13431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server-logon Rs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285960" y="2849400"/>
            <a:ext cx="13172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server-logon Cn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65720" y="131760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41120" y="1165320"/>
            <a:ext cx="81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41840" y="261288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s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65360" y="2536920"/>
            <a:ext cx="82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Cn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81560" y="9367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589720" y="1949400"/>
            <a:ext cx="592920" cy="304920"/>
            <a:chOff x="5589720" y="1949400"/>
            <a:chExt cx="592920" cy="304920"/>
          </a:xfrm>
        </p:grpSpPr>
        <p:grpSp>
          <p:nvGrpSpPr>
            <p:cNvPr id="108" name=""/>
            <p:cNvGrpSpPr/>
            <p:nvPr/>
          </p:nvGrpSpPr>
          <p:grpSpPr>
            <a:xfrm>
              <a:off x="5594040" y="1949400"/>
              <a:ext cx="588600" cy="245880"/>
              <a:chOff x="5594040" y="1949400"/>
              <a:chExt cx="588600" cy="245880"/>
            </a:xfrm>
          </p:grpSpPr>
          <p:sp>
            <p:nvSpPr>
              <p:cNvPr id="109" name=""/>
              <p:cNvSpPr/>
              <p:nvPr/>
            </p:nvSpPr>
            <p:spPr>
              <a:xfrm>
                <a:off x="5594040" y="1949400"/>
                <a:ext cx="22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630400" y="2011320"/>
                <a:ext cx="5522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srv_log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5589720" y="1968480"/>
              <a:ext cx="311040" cy="285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348640" y="430380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.1.5-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87080" y="380880"/>
            <a:ext cx="1206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M-Ground-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94720" y="291960"/>
            <a:ext cx="1672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 Service Prov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54520" y="380880"/>
            <a:ext cx="922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M-Air-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584520" y="787320"/>
            <a:ext cx="2749680" cy="2489040"/>
            <a:chOff x="3584520" y="787320"/>
            <a:chExt cx="2749680" cy="2489040"/>
          </a:xfrm>
        </p:grpSpPr>
        <p:sp>
          <p:nvSpPr>
            <p:cNvPr id="117" name=""/>
            <p:cNvSpPr/>
            <p:nvPr/>
          </p:nvSpPr>
          <p:spPr>
            <a:xfrm>
              <a:off x="6334200" y="799200"/>
              <a:ext cx="0" cy="246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75440" y="787320"/>
              <a:ext cx="0" cy="246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43280" y="787320"/>
              <a:ext cx="0" cy="246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4520" y="812160"/>
              <a:ext cx="0" cy="246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332040" y="860400"/>
            <a:ext cx="1436760" cy="123840"/>
            <a:chOff x="6332040" y="860400"/>
            <a:chExt cx="1436760" cy="123840"/>
          </a:xfrm>
        </p:grpSpPr>
        <p:sp>
          <p:nvSpPr>
            <p:cNvPr id="122" name=""/>
            <p:cNvSpPr/>
            <p:nvPr/>
          </p:nvSpPr>
          <p:spPr>
            <a:xfrm flipH="1">
              <a:off x="6435360" y="928800"/>
              <a:ext cx="1333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6332040" y="860400"/>
              <a:ext cx="216000" cy="123840"/>
            </a:xfrm>
            <a:custGeom>
              <a:avLst/>
              <a:gdLst/>
              <a:ahLst/>
              <a:rect l="l" t="t" r="r" b="b"/>
              <a:pathLst>
                <a:path w="136" h="78">
                  <a:moveTo>
                    <a:pt x="135" y="39"/>
                  </a:moveTo>
                  <a:lnTo>
                    <a:pt x="0" y="0"/>
                  </a:lnTo>
                  <a:lnTo>
                    <a:pt x="0" y="77"/>
                  </a:lnTo>
                  <a:lnTo>
                    <a:pt x="135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641840" y="1220760"/>
            <a:ext cx="617040" cy="252360"/>
            <a:chOff x="4641840" y="1220760"/>
            <a:chExt cx="617040" cy="252360"/>
          </a:xfrm>
        </p:grpSpPr>
        <p:sp>
          <p:nvSpPr>
            <p:cNvPr id="125" name=""/>
            <p:cNvSpPr/>
            <p:nvPr/>
          </p:nvSpPr>
          <p:spPr>
            <a:xfrm flipH="1">
              <a:off x="5158800" y="1220760"/>
              <a:ext cx="9972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5" y="0"/>
                  </a:moveTo>
                  <a:lnTo>
                    <a:pt x="0" y="12"/>
                  </a:lnTo>
                  <a:lnTo>
                    <a:pt x="57" y="31"/>
                  </a:lnTo>
                  <a:lnTo>
                    <a:pt x="62" y="19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4955760" y="1297080"/>
              <a:ext cx="10008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5" y="0"/>
                  </a:moveTo>
                  <a:lnTo>
                    <a:pt x="0" y="12"/>
                  </a:lnTo>
                  <a:lnTo>
                    <a:pt x="57" y="31"/>
                  </a:lnTo>
                  <a:lnTo>
                    <a:pt x="62" y="19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4754160" y="1373400"/>
              <a:ext cx="98640" cy="507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5" y="0"/>
                  </a:moveTo>
                  <a:lnTo>
                    <a:pt x="0" y="12"/>
                  </a:lnTo>
                  <a:lnTo>
                    <a:pt x="56" y="31"/>
                  </a:lnTo>
                  <a:lnTo>
                    <a:pt x="61" y="19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41840" y="1449360"/>
              <a:ext cx="972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4656960" y="1320840"/>
              <a:ext cx="220680" cy="130320"/>
            </a:xfrm>
            <a:custGeom>
              <a:avLst/>
              <a:gdLst/>
              <a:ahLst/>
              <a:rect l="l" t="t" r="r" b="b"/>
              <a:pathLst>
                <a:path w="139" h="82">
                  <a:moveTo>
                    <a:pt x="138" y="81"/>
                  </a:moveTo>
                  <a:lnTo>
                    <a:pt x="28" y="0"/>
                  </a:lnTo>
                  <a:lnTo>
                    <a:pt x="0" y="71"/>
                  </a:lnTo>
                  <a:lnTo>
                    <a:pt x="138" y="8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142720" y="1698480"/>
            <a:ext cx="1436760" cy="123480"/>
            <a:chOff x="2142720" y="1698480"/>
            <a:chExt cx="1436760" cy="123480"/>
          </a:xfrm>
        </p:grpSpPr>
        <p:sp>
          <p:nvSpPr>
            <p:cNvPr id="131" name=""/>
            <p:cNvSpPr/>
            <p:nvPr/>
          </p:nvSpPr>
          <p:spPr>
            <a:xfrm flipH="1">
              <a:off x="2246040" y="1766520"/>
              <a:ext cx="1333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2142720" y="1698480"/>
              <a:ext cx="216000" cy="123480"/>
            </a:xfrm>
            <a:custGeom>
              <a:avLst/>
              <a:gdLst/>
              <a:ahLst/>
              <a:rect l="l" t="t" r="r" b="b"/>
              <a:pathLst>
                <a:path w="136" h="78">
                  <a:moveTo>
                    <a:pt x="135" y="39"/>
                  </a:moveTo>
                  <a:lnTo>
                    <a:pt x="0" y="0"/>
                  </a:lnTo>
                  <a:lnTo>
                    <a:pt x="0" y="77"/>
                  </a:lnTo>
                  <a:lnTo>
                    <a:pt x="135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 flipH="1">
            <a:off x="2225160" y="1471680"/>
            <a:ext cx="12992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server-logon I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265360" y="928800"/>
            <a:ext cx="1055880" cy="360360"/>
            <a:chOff x="5265360" y="928800"/>
            <a:chExt cx="1055880" cy="360360"/>
          </a:xfrm>
        </p:grpSpPr>
        <p:sp>
          <p:nvSpPr>
            <p:cNvPr id="135" name=""/>
            <p:cNvSpPr/>
            <p:nvPr/>
          </p:nvSpPr>
          <p:spPr>
            <a:xfrm flipH="1">
              <a:off x="5927400" y="928800"/>
              <a:ext cx="393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622480" y="928800"/>
              <a:ext cx="317520" cy="317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5265360" y="1165320"/>
              <a:ext cx="370080" cy="123840"/>
              <a:chOff x="5265360" y="1165320"/>
              <a:chExt cx="370080" cy="123840"/>
            </a:xfrm>
          </p:grpSpPr>
          <p:sp>
            <p:nvSpPr>
              <p:cNvPr id="138" name=""/>
              <p:cNvSpPr/>
              <p:nvPr/>
            </p:nvSpPr>
            <p:spPr>
              <a:xfrm flipH="1">
                <a:off x="5368680" y="1233360"/>
                <a:ext cx="266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5265360" y="1165320"/>
                <a:ext cx="216000" cy="123840"/>
              </a:xfrm>
              <a:custGeom>
                <a:avLst/>
                <a:gdLst/>
                <a:ahLst/>
                <a:rect l="l" t="t" r="r" b="b"/>
                <a:pathLst>
                  <a:path w="136" h="78">
                    <a:moveTo>
                      <a:pt x="135" y="39"/>
                    </a:moveTo>
                    <a:lnTo>
                      <a:pt x="0" y="0"/>
                    </a:lnTo>
                    <a:lnTo>
                      <a:pt x="0" y="77"/>
                    </a:lnTo>
                    <a:lnTo>
                      <a:pt x="135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" name=""/>
          <p:cNvGrpSpPr/>
          <p:nvPr/>
        </p:nvGrpSpPr>
        <p:grpSpPr>
          <a:xfrm>
            <a:off x="3591000" y="1461960"/>
            <a:ext cx="1055520" cy="360360"/>
            <a:chOff x="3591000" y="1461960"/>
            <a:chExt cx="1055520" cy="360360"/>
          </a:xfrm>
        </p:grpSpPr>
        <p:sp>
          <p:nvSpPr>
            <p:cNvPr id="141" name=""/>
            <p:cNvSpPr/>
            <p:nvPr/>
          </p:nvSpPr>
          <p:spPr>
            <a:xfrm flipH="1">
              <a:off x="4253040" y="1461960"/>
              <a:ext cx="393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948120" y="1461960"/>
              <a:ext cx="316080" cy="31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3591000" y="1698840"/>
              <a:ext cx="369720" cy="123480"/>
              <a:chOff x="3591000" y="1698840"/>
              <a:chExt cx="369720" cy="123480"/>
            </a:xfrm>
          </p:grpSpPr>
          <p:sp>
            <p:nvSpPr>
              <p:cNvPr id="144" name=""/>
              <p:cNvSpPr/>
              <p:nvPr/>
            </p:nvSpPr>
            <p:spPr>
              <a:xfrm flipH="1">
                <a:off x="3693960" y="1766880"/>
                <a:ext cx="266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3591000" y="1698840"/>
                <a:ext cx="216000" cy="123480"/>
              </a:xfrm>
              <a:custGeom>
                <a:avLst/>
                <a:gdLst/>
                <a:ahLst/>
                <a:rect l="l" t="t" r="r" b="b"/>
                <a:pathLst>
                  <a:path w="136" h="78">
                    <a:moveTo>
                      <a:pt x="135" y="39"/>
                    </a:moveTo>
                    <a:lnTo>
                      <a:pt x="0" y="0"/>
                    </a:lnTo>
                    <a:lnTo>
                      <a:pt x="0" y="77"/>
                    </a:lnTo>
                    <a:lnTo>
                      <a:pt x="135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" name=""/>
          <p:cNvSpPr/>
          <p:nvPr/>
        </p:nvSpPr>
        <p:spPr>
          <a:xfrm flipH="1">
            <a:off x="6375240" y="649440"/>
            <a:ext cx="13431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server-logon Req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168280" y="2212920"/>
            <a:ext cx="5624280" cy="961560"/>
            <a:chOff x="2168280" y="2212920"/>
            <a:chExt cx="5624280" cy="961560"/>
          </a:xfrm>
        </p:grpSpPr>
        <p:grpSp>
          <p:nvGrpSpPr>
            <p:cNvPr id="148" name=""/>
            <p:cNvGrpSpPr/>
            <p:nvPr/>
          </p:nvGrpSpPr>
          <p:grpSpPr>
            <a:xfrm>
              <a:off x="2168280" y="2212920"/>
              <a:ext cx="1434960" cy="123480"/>
              <a:chOff x="2168280" y="2212920"/>
              <a:chExt cx="1434960" cy="123480"/>
            </a:xfrm>
          </p:grpSpPr>
          <p:sp>
            <p:nvSpPr>
              <p:cNvPr id="149" name=""/>
              <p:cNvSpPr/>
              <p:nvPr/>
            </p:nvSpPr>
            <p:spPr>
              <a:xfrm>
                <a:off x="2168280" y="2280960"/>
                <a:ext cx="133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3387240" y="2212920"/>
                <a:ext cx="216000" cy="123480"/>
              </a:xfrm>
              <a:custGeom>
                <a:avLst/>
                <a:gdLst/>
                <a:ahLst/>
                <a:rect l="l" t="t" r="r" b="b"/>
                <a:pathLst>
                  <a:path w="136" h="78">
                    <a:moveTo>
                      <a:pt x="0" y="39"/>
                    </a:moveTo>
                    <a:lnTo>
                      <a:pt x="135" y="0"/>
                    </a:lnTo>
                    <a:lnTo>
                      <a:pt x="135" y="77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676400" y="2572920"/>
              <a:ext cx="619200" cy="251640"/>
              <a:chOff x="4676400" y="2572920"/>
              <a:chExt cx="619200" cy="251640"/>
            </a:xfrm>
          </p:grpSpPr>
          <p:sp>
            <p:nvSpPr>
              <p:cNvPr id="152" name=""/>
              <p:cNvSpPr/>
              <p:nvPr/>
            </p:nvSpPr>
            <p:spPr>
              <a:xfrm flipH="1">
                <a:off x="4676400" y="2572920"/>
                <a:ext cx="100080" cy="5040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57" y="0"/>
                    </a:moveTo>
                    <a:lnTo>
                      <a:pt x="62" y="12"/>
                    </a:lnTo>
                    <a:lnTo>
                      <a:pt x="5" y="31"/>
                    </a:lnTo>
                    <a:lnTo>
                      <a:pt x="0" y="19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4879440" y="2648880"/>
                <a:ext cx="99720" cy="5040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57" y="0"/>
                    </a:moveTo>
                    <a:lnTo>
                      <a:pt x="62" y="12"/>
                    </a:lnTo>
                    <a:lnTo>
                      <a:pt x="5" y="31"/>
                    </a:lnTo>
                    <a:lnTo>
                      <a:pt x="0" y="19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5082480" y="2725200"/>
                <a:ext cx="98280" cy="50400"/>
              </a:xfrm>
              <a:custGeom>
                <a:avLst/>
                <a:gdLst/>
                <a:ahLst/>
                <a:rect l="l" t="t" r="r" b="b"/>
                <a:pathLst>
                  <a:path w="62" h="32">
                    <a:moveTo>
                      <a:pt x="56" y="0"/>
                    </a:moveTo>
                    <a:lnTo>
                      <a:pt x="61" y="12"/>
                    </a:lnTo>
                    <a:lnTo>
                      <a:pt x="5" y="31"/>
                    </a:lnTo>
                    <a:lnTo>
                      <a:pt x="0" y="19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5285880" y="2801160"/>
                <a:ext cx="9720" cy="23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5056920" y="2672640"/>
                <a:ext cx="220680" cy="129960"/>
              </a:xfrm>
              <a:custGeom>
                <a:avLst/>
                <a:gdLst/>
                <a:ahLst/>
                <a:rect l="l" t="t" r="r" b="b"/>
                <a:pathLst>
                  <a:path w="139" h="82">
                    <a:moveTo>
                      <a:pt x="0" y="81"/>
                    </a:moveTo>
                    <a:lnTo>
                      <a:pt x="110" y="0"/>
                    </a:lnTo>
                    <a:lnTo>
                      <a:pt x="138" y="71"/>
                    </a:lnTo>
                    <a:lnTo>
                      <a:pt x="0" y="8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6357600" y="3051000"/>
              <a:ext cx="1434960" cy="123480"/>
              <a:chOff x="6357600" y="3051000"/>
              <a:chExt cx="1434960" cy="123480"/>
            </a:xfrm>
          </p:grpSpPr>
          <p:sp>
            <p:nvSpPr>
              <p:cNvPr id="158" name=""/>
              <p:cNvSpPr/>
              <p:nvPr/>
            </p:nvSpPr>
            <p:spPr>
              <a:xfrm>
                <a:off x="6357600" y="3118680"/>
                <a:ext cx="1333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7576560" y="3051000"/>
                <a:ext cx="215640" cy="123480"/>
              </a:xfrm>
              <a:custGeom>
                <a:avLst/>
                <a:gdLst/>
                <a:ahLst/>
                <a:rect l="l" t="t" r="r" b="b"/>
                <a:pathLst>
                  <a:path w="136" h="78">
                    <a:moveTo>
                      <a:pt x="0" y="39"/>
                    </a:moveTo>
                    <a:lnTo>
                      <a:pt x="135" y="0"/>
                    </a:lnTo>
                    <a:lnTo>
                      <a:pt x="135" y="77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615840" y="2280960"/>
              <a:ext cx="1054440" cy="359640"/>
              <a:chOff x="3615840" y="2280960"/>
              <a:chExt cx="1054440" cy="359640"/>
            </a:xfrm>
          </p:grpSpPr>
          <p:sp>
            <p:nvSpPr>
              <p:cNvPr id="161" name=""/>
              <p:cNvSpPr/>
              <p:nvPr/>
            </p:nvSpPr>
            <p:spPr>
              <a:xfrm>
                <a:off x="3615840" y="2280960"/>
                <a:ext cx="393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997080" y="2280960"/>
                <a:ext cx="317520" cy="317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" name=""/>
              <p:cNvGrpSpPr/>
              <p:nvPr/>
            </p:nvGrpSpPr>
            <p:grpSpPr>
              <a:xfrm>
                <a:off x="4302000" y="2517120"/>
                <a:ext cx="368280" cy="123480"/>
                <a:chOff x="4302000" y="2517120"/>
                <a:chExt cx="368280" cy="1234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4302000" y="2585160"/>
                  <a:ext cx="2667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>
                  <a:off x="4454280" y="2517120"/>
                  <a:ext cx="216000" cy="123480"/>
                </a:xfrm>
                <a:custGeom>
                  <a:avLst/>
                  <a:gdLst/>
                  <a:ahLst/>
                  <a:rect l="l" t="t" r="r" b="b"/>
                  <a:pathLst>
                    <a:path w="136" h="78">
                      <a:moveTo>
                        <a:pt x="0" y="39"/>
                      </a:moveTo>
                      <a:lnTo>
                        <a:pt x="135" y="0"/>
                      </a:lnTo>
                      <a:lnTo>
                        <a:pt x="135" y="77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5291280" y="2814480"/>
              <a:ext cx="1053720" cy="359640"/>
              <a:chOff x="5291280" y="2814480"/>
              <a:chExt cx="1053720" cy="359640"/>
            </a:xfrm>
          </p:grpSpPr>
          <p:sp>
            <p:nvSpPr>
              <p:cNvPr id="167" name=""/>
              <p:cNvSpPr/>
              <p:nvPr/>
            </p:nvSpPr>
            <p:spPr>
              <a:xfrm>
                <a:off x="5291280" y="2814480"/>
                <a:ext cx="393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673240" y="2814480"/>
                <a:ext cx="316080" cy="313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5977080" y="3050640"/>
                <a:ext cx="367920" cy="123480"/>
                <a:chOff x="5977080" y="3050640"/>
                <a:chExt cx="367920" cy="1234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5977080" y="3118320"/>
                  <a:ext cx="2667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>
                  <a:off x="6129000" y="3050640"/>
                  <a:ext cx="216000" cy="123480"/>
                </a:xfrm>
                <a:custGeom>
                  <a:avLst/>
                  <a:gdLst/>
                  <a:ahLst/>
                  <a:rect l="l" t="t" r="r" b="b"/>
                  <a:pathLst>
                    <a:path w="136" h="78">
                      <a:moveTo>
                        <a:pt x="0" y="39"/>
                      </a:moveTo>
                      <a:lnTo>
                        <a:pt x="135" y="0"/>
                      </a:lnTo>
                      <a:lnTo>
                        <a:pt x="135" y="77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2" name=""/>
          <p:cNvSpPr/>
          <p:nvPr/>
        </p:nvSpPr>
        <p:spPr>
          <a:xfrm flipH="1">
            <a:off x="2219040" y="2003400"/>
            <a:ext cx="13431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server-logon Rs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339960" y="2857680"/>
            <a:ext cx="13172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server-logon Cn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66080" y="1317600"/>
            <a:ext cx="794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DATA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41120" y="1165320"/>
            <a:ext cx="756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DATA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42200" y="2612880"/>
            <a:ext cx="794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DATA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65360" y="2536920"/>
            <a:ext cx="756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DATA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81560" y="9367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589720" y="1949400"/>
            <a:ext cx="592920" cy="304920"/>
            <a:chOff x="5589720" y="1949400"/>
            <a:chExt cx="592920" cy="304920"/>
          </a:xfrm>
        </p:grpSpPr>
        <p:grpSp>
          <p:nvGrpSpPr>
            <p:cNvPr id="180" name=""/>
            <p:cNvGrpSpPr/>
            <p:nvPr/>
          </p:nvGrpSpPr>
          <p:grpSpPr>
            <a:xfrm>
              <a:off x="5594040" y="1949400"/>
              <a:ext cx="588600" cy="245880"/>
              <a:chOff x="5594040" y="1949400"/>
              <a:chExt cx="588600" cy="245880"/>
            </a:xfrm>
          </p:grpSpPr>
          <p:sp>
            <p:nvSpPr>
              <p:cNvPr id="181" name=""/>
              <p:cNvSpPr/>
              <p:nvPr/>
            </p:nvSpPr>
            <p:spPr>
              <a:xfrm>
                <a:off x="5594040" y="1949400"/>
                <a:ext cx="22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630400" y="2011320"/>
                <a:ext cx="5522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srv_logo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5589720" y="1968480"/>
              <a:ext cx="311040" cy="285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2958840" y="422748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.1.5-1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849320" y="1771560"/>
            <a:ext cx="811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-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76960" y="1771560"/>
            <a:ext cx="1672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 Service Prov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62680" y="1762200"/>
            <a:ext cx="811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-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550280" y="2610000"/>
            <a:ext cx="144360" cy="2122200"/>
            <a:chOff x="7550280" y="2610000"/>
            <a:chExt cx="144360" cy="2122200"/>
          </a:xfrm>
        </p:grpSpPr>
        <p:sp>
          <p:nvSpPr>
            <p:cNvPr id="189" name=""/>
            <p:cNvSpPr/>
            <p:nvPr/>
          </p:nvSpPr>
          <p:spPr>
            <a:xfrm>
              <a:off x="7615080" y="2610000"/>
              <a:ext cx="0" cy="19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40640" y="2610000"/>
              <a:ext cx="0" cy="19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50280" y="4492800"/>
              <a:ext cx="144360" cy="2394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45" y="150"/>
                  </a:moveTo>
                  <a:lnTo>
                    <a:pt x="90" y="0"/>
                  </a:lnTo>
                  <a:lnTo>
                    <a:pt x="0" y="0"/>
                  </a:lnTo>
                  <a:lnTo>
                    <a:pt x="45" y="1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7189920" y="3214800"/>
            <a:ext cx="279360" cy="637560"/>
            <a:chOff x="7189920" y="3214800"/>
            <a:chExt cx="279360" cy="637560"/>
          </a:xfrm>
        </p:grpSpPr>
        <p:sp>
          <p:nvSpPr>
            <p:cNvPr id="193" name=""/>
            <p:cNvSpPr/>
            <p:nvPr/>
          </p:nvSpPr>
          <p:spPr>
            <a:xfrm>
              <a:off x="7201800" y="3214800"/>
              <a:ext cx="255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21240" y="3351240"/>
              <a:ext cx="217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89920" y="3486240"/>
              <a:ext cx="279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98920" y="3622680"/>
              <a:ext cx="261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981160" y="2266920"/>
            <a:ext cx="2741760" cy="2662200"/>
            <a:chOff x="2981160" y="2266920"/>
            <a:chExt cx="2741760" cy="2662200"/>
          </a:xfrm>
        </p:grpSpPr>
        <p:sp>
          <p:nvSpPr>
            <p:cNvPr id="198" name=""/>
            <p:cNvSpPr/>
            <p:nvPr/>
          </p:nvSpPr>
          <p:spPr>
            <a:xfrm>
              <a:off x="5722920" y="2306160"/>
              <a:ext cx="0" cy="262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56240" y="2266920"/>
              <a:ext cx="0" cy="262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48200" y="2266920"/>
              <a:ext cx="0" cy="262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981160" y="2266920"/>
              <a:ext cx="0" cy="262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533600" y="2449440"/>
            <a:ext cx="1436760" cy="123840"/>
            <a:chOff x="1533600" y="2449440"/>
            <a:chExt cx="1436760" cy="123840"/>
          </a:xfrm>
        </p:grpSpPr>
        <p:sp>
          <p:nvSpPr>
            <p:cNvPr id="203" name=""/>
            <p:cNvSpPr/>
            <p:nvPr/>
          </p:nvSpPr>
          <p:spPr>
            <a:xfrm>
              <a:off x="1533600" y="2517840"/>
              <a:ext cx="1333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54360" y="2449440"/>
              <a:ext cx="216000" cy="123840"/>
            </a:xfrm>
            <a:custGeom>
              <a:avLst/>
              <a:gdLst/>
              <a:ahLst/>
              <a:rect l="l" t="t" r="r" b="b"/>
              <a:pathLst>
                <a:path w="136" h="78">
                  <a:moveTo>
                    <a:pt x="135" y="39"/>
                  </a:moveTo>
                  <a:lnTo>
                    <a:pt x="0" y="0"/>
                  </a:lnTo>
                  <a:lnTo>
                    <a:pt x="0" y="77"/>
                  </a:lnTo>
                  <a:lnTo>
                    <a:pt x="135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043520" y="2809800"/>
            <a:ext cx="617040" cy="252360"/>
            <a:chOff x="4043520" y="2809800"/>
            <a:chExt cx="617040" cy="252360"/>
          </a:xfrm>
        </p:grpSpPr>
        <p:sp>
          <p:nvSpPr>
            <p:cNvPr id="206" name=""/>
            <p:cNvSpPr/>
            <p:nvPr/>
          </p:nvSpPr>
          <p:spPr>
            <a:xfrm>
              <a:off x="4043520" y="2809800"/>
              <a:ext cx="9972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5" y="0"/>
                  </a:moveTo>
                  <a:lnTo>
                    <a:pt x="0" y="12"/>
                  </a:lnTo>
                  <a:lnTo>
                    <a:pt x="57" y="31"/>
                  </a:lnTo>
                  <a:lnTo>
                    <a:pt x="62" y="19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46560" y="2886120"/>
              <a:ext cx="10008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5" y="0"/>
                  </a:moveTo>
                  <a:lnTo>
                    <a:pt x="0" y="12"/>
                  </a:lnTo>
                  <a:lnTo>
                    <a:pt x="57" y="31"/>
                  </a:lnTo>
                  <a:lnTo>
                    <a:pt x="62" y="19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49600" y="2962440"/>
              <a:ext cx="98640" cy="507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5" y="0"/>
                  </a:moveTo>
                  <a:lnTo>
                    <a:pt x="0" y="12"/>
                  </a:lnTo>
                  <a:lnTo>
                    <a:pt x="56" y="31"/>
                  </a:lnTo>
                  <a:lnTo>
                    <a:pt x="61" y="19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650840" y="3038400"/>
              <a:ext cx="972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24400" y="2909880"/>
              <a:ext cx="220680" cy="130320"/>
            </a:xfrm>
            <a:custGeom>
              <a:avLst/>
              <a:gdLst/>
              <a:ahLst/>
              <a:rect l="l" t="t" r="r" b="b"/>
              <a:pathLst>
                <a:path w="139" h="82">
                  <a:moveTo>
                    <a:pt x="138" y="81"/>
                  </a:moveTo>
                  <a:lnTo>
                    <a:pt x="28" y="0"/>
                  </a:lnTo>
                  <a:lnTo>
                    <a:pt x="0" y="71"/>
                  </a:lnTo>
                  <a:lnTo>
                    <a:pt x="138" y="8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722920" y="3287880"/>
            <a:ext cx="1436760" cy="123480"/>
            <a:chOff x="5722920" y="3287880"/>
            <a:chExt cx="1436760" cy="123480"/>
          </a:xfrm>
        </p:grpSpPr>
        <p:sp>
          <p:nvSpPr>
            <p:cNvPr id="212" name=""/>
            <p:cNvSpPr/>
            <p:nvPr/>
          </p:nvSpPr>
          <p:spPr>
            <a:xfrm>
              <a:off x="5722920" y="3355920"/>
              <a:ext cx="1333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43680" y="3287880"/>
              <a:ext cx="216000" cy="123480"/>
            </a:xfrm>
            <a:custGeom>
              <a:avLst/>
              <a:gdLst/>
              <a:ahLst/>
              <a:rect l="l" t="t" r="r" b="b"/>
              <a:pathLst>
                <a:path w="136" h="78">
                  <a:moveTo>
                    <a:pt x="135" y="39"/>
                  </a:moveTo>
                  <a:lnTo>
                    <a:pt x="0" y="0"/>
                  </a:lnTo>
                  <a:lnTo>
                    <a:pt x="0" y="77"/>
                  </a:lnTo>
                  <a:lnTo>
                    <a:pt x="135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5733720" y="3084480"/>
            <a:ext cx="13629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server-update I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981160" y="2517840"/>
            <a:ext cx="1055880" cy="360360"/>
            <a:chOff x="2981160" y="2517840"/>
            <a:chExt cx="1055880" cy="360360"/>
          </a:xfrm>
        </p:grpSpPr>
        <p:sp>
          <p:nvSpPr>
            <p:cNvPr id="216" name=""/>
            <p:cNvSpPr/>
            <p:nvPr/>
          </p:nvSpPr>
          <p:spPr>
            <a:xfrm>
              <a:off x="2981160" y="2517840"/>
              <a:ext cx="393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62400" y="2517840"/>
              <a:ext cx="317520" cy="317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3666960" y="2754360"/>
              <a:ext cx="370080" cy="123840"/>
              <a:chOff x="3666960" y="2754360"/>
              <a:chExt cx="370080" cy="123840"/>
            </a:xfrm>
          </p:grpSpPr>
          <p:sp>
            <p:nvSpPr>
              <p:cNvPr id="219" name=""/>
              <p:cNvSpPr/>
              <p:nvPr/>
            </p:nvSpPr>
            <p:spPr>
              <a:xfrm>
                <a:off x="3666960" y="2822400"/>
                <a:ext cx="266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21040" y="2754360"/>
                <a:ext cx="216000" cy="123840"/>
              </a:xfrm>
              <a:custGeom>
                <a:avLst/>
                <a:gdLst/>
                <a:ahLst/>
                <a:rect l="l" t="t" r="r" b="b"/>
                <a:pathLst>
                  <a:path w="136" h="78">
                    <a:moveTo>
                      <a:pt x="135" y="39"/>
                    </a:moveTo>
                    <a:lnTo>
                      <a:pt x="0" y="0"/>
                    </a:lnTo>
                    <a:lnTo>
                      <a:pt x="0" y="77"/>
                    </a:lnTo>
                    <a:lnTo>
                      <a:pt x="135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1" name=""/>
          <p:cNvGrpSpPr/>
          <p:nvPr/>
        </p:nvGrpSpPr>
        <p:grpSpPr>
          <a:xfrm>
            <a:off x="4656240" y="3051000"/>
            <a:ext cx="1055520" cy="360360"/>
            <a:chOff x="4656240" y="3051000"/>
            <a:chExt cx="1055520" cy="360360"/>
          </a:xfrm>
        </p:grpSpPr>
        <p:sp>
          <p:nvSpPr>
            <p:cNvPr id="222" name=""/>
            <p:cNvSpPr/>
            <p:nvPr/>
          </p:nvSpPr>
          <p:spPr>
            <a:xfrm>
              <a:off x="4656240" y="3051000"/>
              <a:ext cx="393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38560" y="3051000"/>
              <a:ext cx="316080" cy="31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5342040" y="3287880"/>
              <a:ext cx="369720" cy="123480"/>
              <a:chOff x="5342040" y="3287880"/>
              <a:chExt cx="369720" cy="123480"/>
            </a:xfrm>
          </p:grpSpPr>
          <p:sp>
            <p:nvSpPr>
              <p:cNvPr id="225" name=""/>
              <p:cNvSpPr/>
              <p:nvPr/>
            </p:nvSpPr>
            <p:spPr>
              <a:xfrm>
                <a:off x="5342040" y="3355920"/>
                <a:ext cx="266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495760" y="3287880"/>
                <a:ext cx="216000" cy="123480"/>
              </a:xfrm>
              <a:custGeom>
                <a:avLst/>
                <a:gdLst/>
                <a:ahLst/>
                <a:rect l="l" t="t" r="r" b="b"/>
                <a:pathLst>
                  <a:path w="136" h="78">
                    <a:moveTo>
                      <a:pt x="135" y="39"/>
                    </a:moveTo>
                    <a:lnTo>
                      <a:pt x="0" y="0"/>
                    </a:lnTo>
                    <a:lnTo>
                      <a:pt x="0" y="77"/>
                    </a:lnTo>
                    <a:lnTo>
                      <a:pt x="135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7" name=""/>
          <p:cNvSpPr/>
          <p:nvPr/>
        </p:nvSpPr>
        <p:spPr>
          <a:xfrm>
            <a:off x="1481040" y="2268360"/>
            <a:ext cx="14072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server-update Req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037040" y="3987720"/>
            <a:ext cx="619200" cy="252360"/>
            <a:chOff x="4037040" y="3987720"/>
            <a:chExt cx="619200" cy="252360"/>
          </a:xfrm>
        </p:grpSpPr>
        <p:sp>
          <p:nvSpPr>
            <p:cNvPr id="229" name=""/>
            <p:cNvSpPr/>
            <p:nvPr/>
          </p:nvSpPr>
          <p:spPr>
            <a:xfrm>
              <a:off x="4556160" y="3987720"/>
              <a:ext cx="10008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57" y="0"/>
                  </a:moveTo>
                  <a:lnTo>
                    <a:pt x="62" y="12"/>
                  </a:lnTo>
                  <a:lnTo>
                    <a:pt x="5" y="31"/>
                  </a:lnTo>
                  <a:lnTo>
                    <a:pt x="0" y="19"/>
                  </a:lnTo>
                  <a:lnTo>
                    <a:pt x="5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53120" y="4064040"/>
              <a:ext cx="99720" cy="50760"/>
            </a:xfrm>
            <a:custGeom>
              <a:avLst/>
              <a:gdLst/>
              <a:ahLst/>
              <a:rect l="l" t="t" r="r" b="b"/>
              <a:pathLst>
                <a:path w="63" h="32">
                  <a:moveTo>
                    <a:pt x="57" y="0"/>
                  </a:moveTo>
                  <a:lnTo>
                    <a:pt x="62" y="12"/>
                  </a:lnTo>
                  <a:lnTo>
                    <a:pt x="5" y="31"/>
                  </a:lnTo>
                  <a:lnTo>
                    <a:pt x="0" y="19"/>
                  </a:lnTo>
                  <a:lnTo>
                    <a:pt x="5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51520" y="4140360"/>
              <a:ext cx="98280" cy="507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56" y="0"/>
                  </a:moveTo>
                  <a:lnTo>
                    <a:pt x="61" y="12"/>
                  </a:lnTo>
                  <a:lnTo>
                    <a:pt x="5" y="31"/>
                  </a:lnTo>
                  <a:lnTo>
                    <a:pt x="0" y="19"/>
                  </a:lnTo>
                  <a:lnTo>
                    <a:pt x="5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37040" y="4216320"/>
              <a:ext cx="9720" cy="23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54680" y="4087800"/>
              <a:ext cx="220680" cy="130320"/>
            </a:xfrm>
            <a:custGeom>
              <a:avLst/>
              <a:gdLst/>
              <a:ahLst/>
              <a:rect l="l" t="t" r="r" b="b"/>
              <a:pathLst>
                <a:path w="139" h="82">
                  <a:moveTo>
                    <a:pt x="0" y="81"/>
                  </a:moveTo>
                  <a:lnTo>
                    <a:pt x="110" y="0"/>
                  </a:lnTo>
                  <a:lnTo>
                    <a:pt x="138" y="71"/>
                  </a:lnTo>
                  <a:lnTo>
                    <a:pt x="0" y="8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 flipH="1">
            <a:off x="4843440" y="4000680"/>
            <a:ext cx="393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4662360" y="3932280"/>
            <a:ext cx="367920" cy="123840"/>
            <a:chOff x="4662360" y="3932280"/>
            <a:chExt cx="367920" cy="123840"/>
          </a:xfrm>
        </p:grpSpPr>
        <p:sp>
          <p:nvSpPr>
            <p:cNvPr id="236" name=""/>
            <p:cNvSpPr/>
            <p:nvPr/>
          </p:nvSpPr>
          <p:spPr>
            <a:xfrm flipH="1">
              <a:off x="4763880" y="4000680"/>
              <a:ext cx="266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62360" y="3932280"/>
              <a:ext cx="215640" cy="123840"/>
            </a:xfrm>
            <a:custGeom>
              <a:avLst/>
              <a:gdLst/>
              <a:ahLst/>
              <a:rect l="l" t="t" r="r" b="b"/>
              <a:pathLst>
                <a:path w="136" h="78">
                  <a:moveTo>
                    <a:pt x="0" y="39"/>
                  </a:moveTo>
                  <a:lnTo>
                    <a:pt x="135" y="0"/>
                  </a:lnTo>
                  <a:lnTo>
                    <a:pt x="135" y="77"/>
                  </a:lnTo>
                  <a:lnTo>
                    <a:pt x="0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987640" y="4229280"/>
            <a:ext cx="1053720" cy="360360"/>
            <a:chOff x="2987640" y="4229280"/>
            <a:chExt cx="1053720" cy="360360"/>
          </a:xfrm>
        </p:grpSpPr>
        <p:sp>
          <p:nvSpPr>
            <p:cNvPr id="239" name=""/>
            <p:cNvSpPr/>
            <p:nvPr/>
          </p:nvSpPr>
          <p:spPr>
            <a:xfrm flipH="1">
              <a:off x="3647880" y="4229280"/>
              <a:ext cx="393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3343320" y="4229280"/>
              <a:ext cx="316080" cy="31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2987640" y="4465800"/>
              <a:ext cx="367920" cy="123840"/>
              <a:chOff x="2987640" y="4465800"/>
              <a:chExt cx="367920" cy="123840"/>
            </a:xfrm>
          </p:grpSpPr>
          <p:sp>
            <p:nvSpPr>
              <p:cNvPr id="242" name=""/>
              <p:cNvSpPr/>
              <p:nvPr/>
            </p:nvSpPr>
            <p:spPr>
              <a:xfrm flipH="1">
                <a:off x="3088800" y="4533840"/>
                <a:ext cx="266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987640" y="4465800"/>
                <a:ext cx="216000" cy="123840"/>
              </a:xfrm>
              <a:custGeom>
                <a:avLst/>
                <a:gdLst/>
                <a:ahLst/>
                <a:rect l="l" t="t" r="r" b="b"/>
                <a:pathLst>
                  <a:path w="136" h="78">
                    <a:moveTo>
                      <a:pt x="0" y="39"/>
                    </a:moveTo>
                    <a:lnTo>
                      <a:pt x="135" y="0"/>
                    </a:lnTo>
                    <a:lnTo>
                      <a:pt x="135" y="77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4" name=""/>
          <p:cNvSpPr/>
          <p:nvPr/>
        </p:nvSpPr>
        <p:spPr>
          <a:xfrm>
            <a:off x="3314880" y="2536920"/>
            <a:ext cx="0" cy="1989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017520" y="3314880"/>
            <a:ext cx="474480" cy="307440"/>
            <a:chOff x="3017520" y="3314880"/>
            <a:chExt cx="474480" cy="307440"/>
          </a:xfrm>
        </p:grpSpPr>
        <p:sp>
          <p:nvSpPr>
            <p:cNvPr id="246" name=""/>
            <p:cNvSpPr/>
            <p:nvPr/>
          </p:nvSpPr>
          <p:spPr>
            <a:xfrm>
              <a:off x="3032280" y="3332160"/>
              <a:ext cx="387000" cy="290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3017520" y="3314880"/>
              <a:ext cx="474480" cy="245520"/>
              <a:chOff x="3017520" y="3314880"/>
              <a:chExt cx="474480" cy="245520"/>
            </a:xfrm>
          </p:grpSpPr>
          <p:sp>
            <p:nvSpPr>
              <p:cNvPr id="248" name=""/>
              <p:cNvSpPr/>
              <p:nvPr/>
            </p:nvSpPr>
            <p:spPr>
              <a:xfrm>
                <a:off x="3017520" y="3314880"/>
                <a:ext cx="2232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053880" y="3376440"/>
                <a:ext cx="43812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</a:rPr>
                  <a:t>updat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0" name=""/>
          <p:cNvSpPr/>
          <p:nvPr/>
        </p:nvSpPr>
        <p:spPr>
          <a:xfrm>
            <a:off x="3086280" y="228600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e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53800" y="2789280"/>
            <a:ext cx="81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I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770720" y="4046400"/>
            <a:ext cx="85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Rs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15800" y="4586400"/>
            <a:ext cx="82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-START Cn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05840" y="575136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.1.5-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482120" y="1668600"/>
            <a:ext cx="1411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-Ground-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5742000" y="3208320"/>
            <a:ext cx="1447920" cy="136440"/>
            <a:chOff x="5742000" y="3208320"/>
            <a:chExt cx="1447920" cy="136440"/>
          </a:xfrm>
        </p:grpSpPr>
        <p:sp>
          <p:nvSpPr>
            <p:cNvPr id="257" name=""/>
            <p:cNvSpPr/>
            <p:nvPr/>
          </p:nvSpPr>
          <p:spPr>
            <a:xfrm>
              <a:off x="5742000" y="3276720"/>
              <a:ext cx="133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61320" y="3208320"/>
              <a:ext cx="228600" cy="136440"/>
            </a:xfrm>
            <a:custGeom>
              <a:avLst/>
              <a:gdLst/>
              <a:ahLst/>
              <a:rect l="l" t="t" r="r" b="b"/>
              <a:pathLst>
                <a:path w="144" h="86">
                  <a:moveTo>
                    <a:pt x="143" y="43"/>
                  </a:moveTo>
                  <a:lnTo>
                    <a:pt x="0" y="0"/>
                  </a:lnTo>
                  <a:lnTo>
                    <a:pt x="0" y="85"/>
                  </a:lnTo>
                  <a:lnTo>
                    <a:pt x="143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062240" y="2732040"/>
            <a:ext cx="636840" cy="255600"/>
            <a:chOff x="4062240" y="2732040"/>
            <a:chExt cx="636840" cy="255600"/>
          </a:xfrm>
        </p:grpSpPr>
        <p:sp>
          <p:nvSpPr>
            <p:cNvPr id="260" name=""/>
            <p:cNvSpPr/>
            <p:nvPr/>
          </p:nvSpPr>
          <p:spPr>
            <a:xfrm>
              <a:off x="4062240" y="2732040"/>
              <a:ext cx="113040" cy="6372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6" y="0"/>
                  </a:moveTo>
                  <a:lnTo>
                    <a:pt x="0" y="15"/>
                  </a:lnTo>
                  <a:lnTo>
                    <a:pt x="64" y="39"/>
                  </a:lnTo>
                  <a:lnTo>
                    <a:pt x="70" y="24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65640" y="2808360"/>
              <a:ext cx="112680" cy="6336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6" y="0"/>
                  </a:moveTo>
                  <a:lnTo>
                    <a:pt x="0" y="15"/>
                  </a:lnTo>
                  <a:lnTo>
                    <a:pt x="64" y="39"/>
                  </a:lnTo>
                  <a:lnTo>
                    <a:pt x="70" y="24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68680" y="2884320"/>
              <a:ext cx="112680" cy="63720"/>
            </a:xfrm>
            <a:custGeom>
              <a:avLst/>
              <a:gdLst/>
              <a:ahLst/>
              <a:rect l="l" t="t" r="r" b="b"/>
              <a:pathLst>
                <a:path w="71" h="40">
                  <a:moveTo>
                    <a:pt x="6" y="0"/>
                  </a:moveTo>
                  <a:lnTo>
                    <a:pt x="0" y="15"/>
                  </a:lnTo>
                  <a:lnTo>
                    <a:pt x="64" y="39"/>
                  </a:lnTo>
                  <a:lnTo>
                    <a:pt x="70" y="24"/>
                  </a:lnTo>
                  <a:lnTo>
                    <a:pt x="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672080" y="2960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0" y="16"/>
                  </a:lnTo>
                  <a:lnTo>
                    <a:pt x="0" y="16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43480" y="2832120"/>
              <a:ext cx="234720" cy="142920"/>
            </a:xfrm>
            <a:custGeom>
              <a:avLst/>
              <a:gdLst/>
              <a:ahLst/>
              <a:rect l="l" t="t" r="r" b="b"/>
              <a:pathLst>
                <a:path w="148" h="90">
                  <a:moveTo>
                    <a:pt x="147" y="89"/>
                  </a:moveTo>
                  <a:lnTo>
                    <a:pt x="30" y="0"/>
                  </a:lnTo>
                  <a:lnTo>
                    <a:pt x="0" y="78"/>
                  </a:lnTo>
                  <a:lnTo>
                    <a:pt x="147" y="8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557360" y="2373480"/>
            <a:ext cx="1446120" cy="136440"/>
            <a:chOff x="1557360" y="2373480"/>
            <a:chExt cx="1446120" cy="136440"/>
          </a:xfrm>
        </p:grpSpPr>
        <p:sp>
          <p:nvSpPr>
            <p:cNvPr id="266" name=""/>
            <p:cNvSpPr/>
            <p:nvPr/>
          </p:nvSpPr>
          <p:spPr>
            <a:xfrm>
              <a:off x="1557360" y="2441520"/>
              <a:ext cx="133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76680" y="2373480"/>
              <a:ext cx="226800" cy="136440"/>
            </a:xfrm>
            <a:custGeom>
              <a:avLst/>
              <a:gdLst/>
              <a:ahLst/>
              <a:rect l="l" t="t" r="r" b="b"/>
              <a:pathLst>
                <a:path w="143" h="86">
                  <a:moveTo>
                    <a:pt x="142" y="43"/>
                  </a:moveTo>
                  <a:lnTo>
                    <a:pt x="0" y="0"/>
                  </a:lnTo>
                  <a:lnTo>
                    <a:pt x="0" y="85"/>
                  </a:lnTo>
                  <a:lnTo>
                    <a:pt x="142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5825880" y="3019320"/>
            <a:ext cx="13629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server-update I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97480" y="1668600"/>
            <a:ext cx="1672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 Service Prov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14800" y="1668600"/>
            <a:ext cx="1073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M-Air-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7566120" y="1755720"/>
            <a:ext cx="156960" cy="2130480"/>
            <a:chOff x="7566120" y="1755720"/>
            <a:chExt cx="156960" cy="2130480"/>
          </a:xfrm>
        </p:grpSpPr>
        <p:sp>
          <p:nvSpPr>
            <p:cNvPr id="272" name=""/>
            <p:cNvSpPr/>
            <p:nvPr/>
          </p:nvSpPr>
          <p:spPr>
            <a:xfrm>
              <a:off x="7631280" y="1755720"/>
              <a:ext cx="0" cy="199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56480" y="1755720"/>
              <a:ext cx="0" cy="199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566120" y="3633840"/>
              <a:ext cx="156960" cy="252360"/>
            </a:xfrm>
            <a:custGeom>
              <a:avLst/>
              <a:gdLst/>
              <a:ahLst/>
              <a:rect l="l" t="t" r="r" b="b"/>
              <a:pathLst>
                <a:path w="99" h="159">
                  <a:moveTo>
                    <a:pt x="49" y="158"/>
                  </a:moveTo>
                  <a:lnTo>
                    <a:pt x="98" y="0"/>
                  </a:lnTo>
                  <a:lnTo>
                    <a:pt x="0" y="0"/>
                  </a:lnTo>
                  <a:lnTo>
                    <a:pt x="49" y="15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194600" y="2344680"/>
            <a:ext cx="279360" cy="639360"/>
            <a:chOff x="7194600" y="2344680"/>
            <a:chExt cx="279360" cy="639360"/>
          </a:xfrm>
        </p:grpSpPr>
        <p:sp>
          <p:nvSpPr>
            <p:cNvPr id="276" name=""/>
            <p:cNvSpPr/>
            <p:nvPr/>
          </p:nvSpPr>
          <p:spPr>
            <a:xfrm>
              <a:off x="7206840" y="2344680"/>
              <a:ext cx="255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25920" y="2481120"/>
              <a:ext cx="217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194600" y="2617920"/>
              <a:ext cx="279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203600" y="2754360"/>
              <a:ext cx="261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612800" y="2508120"/>
            <a:ext cx="14072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M-server-update Req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95000" y="2190600"/>
            <a:ext cx="8708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-DATA Req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676760" y="2973240"/>
            <a:ext cx="1066680" cy="371520"/>
            <a:chOff x="4676760" y="2973240"/>
            <a:chExt cx="1066680" cy="371520"/>
          </a:xfrm>
        </p:grpSpPr>
        <p:sp>
          <p:nvSpPr>
            <p:cNvPr id="283" name=""/>
            <p:cNvSpPr/>
            <p:nvPr/>
          </p:nvSpPr>
          <p:spPr>
            <a:xfrm>
              <a:off x="4676760" y="2973240"/>
              <a:ext cx="393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57640" y="2973240"/>
              <a:ext cx="316080" cy="31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5361120" y="3208320"/>
              <a:ext cx="382320" cy="136440"/>
              <a:chOff x="5361120" y="3208320"/>
              <a:chExt cx="382320" cy="136440"/>
            </a:xfrm>
          </p:grpSpPr>
          <p:sp>
            <p:nvSpPr>
              <p:cNvPr id="286" name=""/>
              <p:cNvSpPr/>
              <p:nvPr/>
            </p:nvSpPr>
            <p:spPr>
              <a:xfrm>
                <a:off x="5361120" y="3276720"/>
                <a:ext cx="266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514840" y="3208320"/>
                <a:ext cx="228600" cy="136440"/>
              </a:xfrm>
              <a:custGeom>
                <a:avLst/>
                <a:gdLst/>
                <a:ahLst/>
                <a:rect l="l" t="t" r="r" b="b"/>
                <a:pathLst>
                  <a:path w="144" h="86">
                    <a:moveTo>
                      <a:pt x="143" y="43"/>
                    </a:moveTo>
                    <a:lnTo>
                      <a:pt x="0" y="0"/>
                    </a:lnTo>
                    <a:lnTo>
                      <a:pt x="0" y="85"/>
                    </a:lnTo>
                    <a:lnTo>
                      <a:pt x="143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3002040" y="2441520"/>
            <a:ext cx="1066680" cy="371520"/>
            <a:chOff x="3002040" y="2441520"/>
            <a:chExt cx="1066680" cy="371520"/>
          </a:xfrm>
        </p:grpSpPr>
        <p:sp>
          <p:nvSpPr>
            <p:cNvPr id="289" name=""/>
            <p:cNvSpPr/>
            <p:nvPr/>
          </p:nvSpPr>
          <p:spPr>
            <a:xfrm>
              <a:off x="3002040" y="2441520"/>
              <a:ext cx="393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84720" y="2441520"/>
              <a:ext cx="315720" cy="31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3687840" y="2676600"/>
              <a:ext cx="380880" cy="136440"/>
              <a:chOff x="3687840" y="2676600"/>
              <a:chExt cx="380880" cy="136440"/>
            </a:xfrm>
          </p:grpSpPr>
          <p:sp>
            <p:nvSpPr>
              <p:cNvPr id="292" name=""/>
              <p:cNvSpPr/>
              <p:nvPr/>
            </p:nvSpPr>
            <p:spPr>
              <a:xfrm>
                <a:off x="3687840" y="2744640"/>
                <a:ext cx="266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841920" y="2676600"/>
                <a:ext cx="226800" cy="136440"/>
              </a:xfrm>
              <a:custGeom>
                <a:avLst/>
                <a:gdLst/>
                <a:ahLst/>
                <a:rect l="l" t="t" r="r" b="b"/>
                <a:pathLst>
                  <a:path w="143" h="86">
                    <a:moveTo>
                      <a:pt x="142" y="43"/>
                    </a:moveTo>
                    <a:lnTo>
                      <a:pt x="0" y="0"/>
                    </a:lnTo>
                    <a:lnTo>
                      <a:pt x="0" y="85"/>
                    </a:lnTo>
                    <a:lnTo>
                      <a:pt x="142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4" name=""/>
          <p:cNvSpPr/>
          <p:nvPr/>
        </p:nvSpPr>
        <p:spPr>
          <a:xfrm>
            <a:off x="4822200" y="2735280"/>
            <a:ext cx="8265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-DATA I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002040" y="2174760"/>
            <a:ext cx="2739960" cy="1635120"/>
            <a:chOff x="3002040" y="2174760"/>
            <a:chExt cx="2739960" cy="1635120"/>
          </a:xfrm>
        </p:grpSpPr>
        <p:sp>
          <p:nvSpPr>
            <p:cNvPr id="296" name=""/>
            <p:cNvSpPr/>
            <p:nvPr/>
          </p:nvSpPr>
          <p:spPr>
            <a:xfrm>
              <a:off x="5742000" y="2174760"/>
              <a:ext cx="0" cy="163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76760" y="2174760"/>
              <a:ext cx="0" cy="163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67280" y="2174760"/>
              <a:ext cx="0" cy="163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002040" y="2174760"/>
              <a:ext cx="0" cy="163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2958120" y="552276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.1.5-4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8T20:27:10Z</dcterms:created>
  <dc:creator>James Moulton</dc:creator>
  <dc:description/>
  <dc:language>en-US</dc:language>
  <cp:lastModifiedBy>James Moulton</cp:lastModifiedBy>
  <dcterms:modified xsi:type="dcterms:W3CDTF">1999-01-18T20:31:54Z</dcterms:modified>
  <cp:revision>2</cp:revision>
  <dc:subject/>
  <dc:title>No Slide Title</dc:title>
</cp:coreProperties>
</file>