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DA1-5025-4FE0-BFCC-C4182F8A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E30-107E-499C-AF36-4A4F0C0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5C4-02BB-4CCE-B091-FC2CFED2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33E-FE2B-41F4-A137-943B742B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D54-991A-4C14-86BE-499A14A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996-77D3-4FFE-9959-362C08C4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B01-D30C-430D-A55A-0F56740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3F5-DCD6-47C4-B75F-2EC15E3A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1E6-4A85-4090-9CFE-ED12798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122-D0B0-4542-A750-7B17069E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A26-ECCD-4415-BA73-B30901A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351-3EC0-4529-A735-3525D87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HS - M. Okle/sp, 29/04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C8C7-72AA-4C5D-B88A-F9A4F6784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143000"/>
          <a:ext cx="73911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3911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27000" y="5334120"/>
            <a:ext cx="51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Figure 3.1.2.4.1-1: Traffic flows supported by the CIDIN / 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4440" y="20192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276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2640" y="2894040"/>
            <a:ext cx="841320" cy="416160"/>
            <a:chOff x="512640" y="2894040"/>
            <a:chExt cx="841320" cy="4161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77440" y="2894040"/>
              <a:ext cx="711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2640" y="2901600"/>
              <a:ext cx="8413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837400" y="1682640"/>
            <a:ext cx="0" cy="3052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3560" y="2762280"/>
            <a:ext cx="326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0320" y="3575160"/>
            <a:ext cx="299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7720" y="1898640"/>
            <a:ext cx="305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7200" y="1003320"/>
            <a:ext cx="2546280" cy="33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049400"/>
            <a:ext cx="198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Control Po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09560" y="2476440"/>
            <a:ext cx="1219320" cy="587520"/>
            <a:chOff x="1609560" y="2476440"/>
            <a:chExt cx="1219320" cy="587520"/>
          </a:xfrm>
        </p:grpSpPr>
        <p:sp>
          <p:nvSpPr>
            <p:cNvPr id="56" name=""/>
            <p:cNvSpPr/>
            <p:nvPr/>
          </p:nvSpPr>
          <p:spPr>
            <a:xfrm>
              <a:off x="1614600" y="247644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9560" y="2532240"/>
              <a:ext cx="1219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449360" y="838080"/>
            <a:ext cx="6134040" cy="45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1644480"/>
            <a:ext cx="0" cy="3052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06640" y="2597040"/>
            <a:ext cx="393480" cy="230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9480" y="2346480"/>
            <a:ext cx="358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2529000"/>
            <a:ext cx="768240" cy="368280"/>
            <a:chOff x="380880" y="2529000"/>
            <a:chExt cx="768240" cy="36828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380880" y="2529000"/>
              <a:ext cx="7178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21920" y="2576520"/>
              <a:ext cx="72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CIDI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22680" y="1601640"/>
            <a:ext cx="1487520" cy="587520"/>
            <a:chOff x="3622680" y="1601640"/>
            <a:chExt cx="1487520" cy="587520"/>
          </a:xfrm>
        </p:grpSpPr>
        <p:sp>
          <p:nvSpPr>
            <p:cNvPr id="66" name=""/>
            <p:cNvSpPr/>
            <p:nvPr/>
          </p:nvSpPr>
          <p:spPr>
            <a:xfrm>
              <a:off x="3760920" y="160164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22680" y="1607760"/>
              <a:ext cx="1487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500280" y="2454120"/>
            <a:ext cx="1676520" cy="590400"/>
            <a:chOff x="3500280" y="2454120"/>
            <a:chExt cx="1676520" cy="590400"/>
          </a:xfrm>
        </p:grpSpPr>
        <p:sp>
          <p:nvSpPr>
            <p:cNvPr id="69" name=""/>
            <p:cNvSpPr/>
            <p:nvPr/>
          </p:nvSpPr>
          <p:spPr>
            <a:xfrm>
              <a:off x="3733920" y="2457000"/>
              <a:ext cx="120960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0280" y="2454120"/>
              <a:ext cx="1676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665520" y="3292560"/>
            <a:ext cx="1360440" cy="635040"/>
            <a:chOff x="3665520" y="3292560"/>
            <a:chExt cx="1360440" cy="635040"/>
          </a:xfrm>
        </p:grpSpPr>
        <p:sp>
          <p:nvSpPr>
            <p:cNvPr id="72" name=""/>
            <p:cNvSpPr/>
            <p:nvPr/>
          </p:nvSpPr>
          <p:spPr>
            <a:xfrm>
              <a:off x="3741120" y="334008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5520" y="3292560"/>
              <a:ext cx="13604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OPMS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90760" y="4711680"/>
            <a:ext cx="1289160" cy="587520"/>
            <a:chOff x="2390760" y="4711680"/>
            <a:chExt cx="1289160" cy="587520"/>
          </a:xfrm>
        </p:grpSpPr>
        <p:sp>
          <p:nvSpPr>
            <p:cNvPr id="75" name=""/>
            <p:cNvSpPr/>
            <p:nvPr/>
          </p:nvSpPr>
          <p:spPr>
            <a:xfrm>
              <a:off x="2452680" y="471168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90760" y="4750920"/>
              <a:ext cx="1289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er-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SO/IEC 10021-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216400" y="4699080"/>
            <a:ext cx="1219320" cy="587160"/>
            <a:chOff x="5216400" y="4699080"/>
            <a:chExt cx="1219320" cy="587160"/>
          </a:xfrm>
        </p:grpSpPr>
        <p:sp>
          <p:nvSpPr>
            <p:cNvPr id="78" name=""/>
            <p:cNvSpPr/>
            <p:nvPr/>
          </p:nvSpPr>
          <p:spPr>
            <a:xfrm>
              <a:off x="5221440" y="4699080"/>
              <a:ext cx="12096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6400" y="4739040"/>
              <a:ext cx="1219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83200" y="1219320"/>
            <a:ext cx="1481400" cy="3340080"/>
            <a:chOff x="5983200" y="1219320"/>
            <a:chExt cx="1481400" cy="3340080"/>
          </a:xfrm>
        </p:grpSpPr>
        <p:sp>
          <p:nvSpPr>
            <p:cNvPr id="81" name=""/>
            <p:cNvSpPr/>
            <p:nvPr/>
          </p:nvSpPr>
          <p:spPr>
            <a:xfrm>
              <a:off x="5983200" y="1219320"/>
              <a:ext cx="148140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95520" y="1600200"/>
              <a:ext cx="1219680" cy="2863800"/>
              <a:chOff x="6095520" y="1600200"/>
              <a:chExt cx="1219680" cy="2863800"/>
            </a:xfrm>
          </p:grpSpPr>
          <p:sp>
            <p:nvSpPr>
              <p:cNvPr id="83" name=""/>
              <p:cNvSpPr/>
              <p:nvPr/>
            </p:nvSpPr>
            <p:spPr>
              <a:xfrm>
                <a:off x="6101280" y="1600200"/>
                <a:ext cx="1209960" cy="28638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95520" y="2749320"/>
                <a:ext cx="121968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ID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St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060600" y="1278360"/>
              <a:ext cx="1219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IDIN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01000" y="2448000"/>
            <a:ext cx="914400" cy="520560"/>
            <a:chOff x="8001000" y="2448000"/>
            <a:chExt cx="914400" cy="520560"/>
          </a:xfrm>
        </p:grpSpPr>
        <p:sp>
          <p:nvSpPr>
            <p:cNvPr id="87" name=""/>
            <p:cNvSpPr/>
            <p:nvPr/>
          </p:nvSpPr>
          <p:spPr>
            <a:xfrm>
              <a:off x="8039160" y="2448000"/>
              <a:ext cx="838080" cy="520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01000" y="2479680"/>
              <a:ext cx="914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IDIN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532640" y="2610000"/>
            <a:ext cx="393840" cy="230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8160" y="35053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1) Only for the s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type of M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2800" y="5791320"/>
            <a:ext cx="32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1-2: Functional view of the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9880" y="76212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18288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590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590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590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2590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0"/>
            <a:endCxn id="97" idx="0"/>
          </p:cNvCxnSpPr>
          <p:nvPr/>
        </p:nvCxnSpPr>
        <p:spPr>
          <a:xfrm flipH="1" rot="16200000">
            <a:off x="4495320" y="-153360"/>
            <a:ext cx="762840" cy="472500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5720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5053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qui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3505320"/>
            <a:ext cx="9907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erator M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age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t y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pec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5053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2670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7" idx="0"/>
          </p:cNvCxnSpPr>
          <p:nvPr/>
        </p:nvCxnSpPr>
        <p:spPr>
          <a:xfrm flipH="1" rot="16200000">
            <a:off x="2513880" y="3084840"/>
            <a:ext cx="2160" cy="236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1337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94" idx="0"/>
            <a:endCxn id="96" idx="0"/>
          </p:cNvCxnSpPr>
          <p:nvPr/>
        </p:nvCxnSpPr>
        <p:spPr>
          <a:xfrm flipH="1" rot="16200000">
            <a:off x="3362040" y="923040"/>
            <a:ext cx="19800" cy="3315240"/>
          </a:xfrm>
          <a:prstGeom prst="bentConnector3">
            <a:avLst>
              <a:gd name="adj1" fmla="val -7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5146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0" idx="0"/>
            <a:endCxn id="101" idx="0"/>
          </p:cNvCxnSpPr>
          <p:nvPr/>
        </p:nvCxnSpPr>
        <p:spPr>
          <a:xfrm flipH="1" rot="16200000">
            <a:off x="1656720" y="2991240"/>
            <a:ext cx="2160" cy="1029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676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5" idx="0"/>
            <a:endCxn id="106" idx="0"/>
          </p:cNvCxnSpPr>
          <p:nvPr/>
        </p:nvCxnSpPr>
        <p:spPr>
          <a:xfrm flipH="1" rot="16200000">
            <a:off x="7581240" y="2629440"/>
            <a:ext cx="2160" cy="175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6960" y="609480"/>
            <a:ext cx="10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5440" y="15825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9880" y="23623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400" y="2362320"/>
            <a:ext cx="59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CF =2                                          =3                                                      = 1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                   MT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66688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03" idx="0"/>
            <a:endCxn id="116" idx="0"/>
          </p:cNvCxnSpPr>
          <p:nvPr/>
        </p:nvCxnSpPr>
        <p:spPr>
          <a:xfrm flipH="1" flipV="1" rot="5400000">
            <a:off x="4676400" y="3133440"/>
            <a:ext cx="210240" cy="496080"/>
          </a:xfrm>
          <a:prstGeom prst="bentConnector3">
            <a:avLst>
              <a:gd name="adj1" fmla="val 452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5028840" y="3390480"/>
            <a:ext cx="470520" cy="12780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9" name=""/>
          <p:cNvSpPr/>
          <p:nvPr/>
        </p:nvSpPr>
        <p:spPr>
          <a:xfrm>
            <a:off x="6833520" y="3259080"/>
            <a:ext cx="200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MF = 3          =4                              =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9120" y="487692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029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4876920"/>
            <a:ext cx="12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Trans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0520" y="5316480"/>
            <a:ext cx="60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0880" y="56973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rom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4360" y="5595840"/>
            <a:ext cx="37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2-1: CIDIN messages exchanged betwee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Component and MT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28000">
            <a:off x="68544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0532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28000">
            <a:off x="4070160" y="35370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328000">
            <a:off x="28191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328000">
            <a:off x="6324480" y="350496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328000">
            <a:off x="71625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328000">
            <a:off x="80769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2578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328000">
            <a:off x="685440" y="52578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7150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28000">
            <a:off x="685440" y="57150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9436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ledg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49568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328000">
            <a:off x="76140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267080"/>
            <a:ext cx="114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ess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49568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328000">
            <a:off x="182808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328000">
            <a:off x="319968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072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320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3920" y="39448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052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62520" y="838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676520"/>
            <a:ext cx="12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32004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condary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066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1066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82680" y="2437920"/>
            <a:ext cx="6261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57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3840" y="1857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54680" y="515880"/>
            <a:ext cx="103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88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4760" y="200160"/>
            <a:ext cx="110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4040" y="782640"/>
            <a:ext cx="150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1240" y="210996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 3.1-2-4-3-2-1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27672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9960" y="31622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>
            <a:off x="5333760" y="3428640"/>
            <a:ext cx="1981800" cy="229320"/>
          </a:xfrm>
          <a:prstGeom prst="bentConnector3">
            <a:avLst>
              <a:gd name="adj1" fmla="val 28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rot="10800000">
            <a:off x="1586880" y="4247280"/>
            <a:ext cx="2832840" cy="8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 rot="10800000">
            <a:off x="1599480" y="443772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33412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88120" y="4216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/>
          <p:nvPr/>
        </p:nvCxnSpPr>
        <p:spPr>
          <a:xfrm rot="10800000">
            <a:off x="1573920" y="5139720"/>
            <a:ext cx="2832840" cy="79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V="1" rot="10800000">
            <a:off x="1599480" y="533304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334120" y="5276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5181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911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51055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27672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879720"/>
            <a:ext cx="628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4861080"/>
            <a:ext cx="62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672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0024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8080" y="280188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5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59480" y="33735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3920" y="35956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5120" y="40147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5840" y="428148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3400" y="40384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7160" y="425592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63120" y="4459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01000" y="46306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c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47600" y="4065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4560" y="388152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5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08640" y="487836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5840" y="516420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960" y="513864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37560" y="489744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37920" y="5392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23560" y="4935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1360" y="5500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92520" y="484668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04200" y="285264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51520" y="6078600"/>
            <a:ext cx="333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3.2-1: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nt 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33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479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7600" y="1506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0560" y="144792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.a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352680" y="1219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Acceptanc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720" y="4572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71240" y="1371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371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8" idx="2"/>
          </p:cNvCxnSpPr>
          <p:nvPr/>
        </p:nvCxnSpPr>
        <p:spPr>
          <a:xfrm flipH="1" rot="16200000">
            <a:off x="5600520" y="-38520"/>
            <a:ext cx="229320" cy="350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1143000" y="22096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066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1240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</p:cNvCxnSpPr>
          <p:nvPr/>
        </p:nvCxnSpPr>
        <p:spPr>
          <a:xfrm flipH="1" rot="16200000">
            <a:off x="5219640" y="2247480"/>
            <a:ext cx="2293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1143000" y="4267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 no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</p:cNvCxnSpPr>
          <p:nvPr/>
        </p:nvCxnSpPr>
        <p:spPr>
          <a:xfrm flipH="1" flipV="1" rot="5400000">
            <a:off x="7086240" y="4190400"/>
            <a:ext cx="38196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7162560" y="4876200"/>
            <a:ext cx="229320" cy="99144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867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1920" y="762120"/>
            <a:ext cx="10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FT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080" y="762120"/>
            <a:ext cx="13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0476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19160" y="7444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3812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24840" y="165888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7760" y="15825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5680" y="142092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9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720" y="243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0880" y="295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77120" y="35640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39120" y="3868560"/>
            <a:ext cx="202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ression of 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0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6560" y="546876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3800" y="4249800"/>
            <a:ext cx="168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18000" y="6002280"/>
            <a:ext cx="333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3.2-2: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eived 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3812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228600" y="838080"/>
          <a:ext cx="853452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5345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634480" y="4343400"/>
            <a:ext cx="119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F          Ae,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4800" y="24382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53360" y="32590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0120" y="365760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46483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9520" y="5443560"/>
            <a:ext cx="143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04040" y="5824440"/>
            <a:ext cx="457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3.6-1:  Translation from MF-addresses into CIDIN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62680" y="2438280"/>
            <a:ext cx="8953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35160" y="4622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81400" y="432576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9200" y="26668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33040" y="2192400"/>
            <a:ext cx="49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54480" y="177156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75248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96252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752480"/>
            <a:ext cx="2057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962520"/>
            <a:ext cx="2057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1905120"/>
            <a:ext cx="1447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F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4114800"/>
            <a:ext cx="1447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, 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440" y="20908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6840" y="43768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1295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47880" y="258120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19360" y="25621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3120" y="2562120"/>
            <a:ext cx="697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62680" y="1811160"/>
            <a:ext cx="68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3400" y="25909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560" y="4097160"/>
            <a:ext cx="3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90200" y="44784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680" y="144792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32040" y="358128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7000" y="373392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64360" y="13287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40320" y="36147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800" y="52912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880" y="5562720"/>
            <a:ext cx="45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3.6-2: Translation from CIDIN addresses into MF-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4:30:35Z</dcterms:created>
  <dc:creator>Spaerke-Ingrid</dc:creator>
  <dc:description/>
  <dc:language>en-US</dc:language>
  <cp:lastModifiedBy>Okle Manfred</cp:lastModifiedBy>
  <cp:lastPrinted>1999-04-29T14:46:59Z</cp:lastPrinted>
  <dcterms:modified xsi:type="dcterms:W3CDTF">1999-05-14T08:54:33Z</dcterms:modified>
  <cp:revision>12</cp:revision>
  <dc:subject/>
  <dc:title>Kein Folientitel</dc:title>
</cp:coreProperties>
</file>