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6858000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287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248080"/>
            <a:ext cx="198720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89880"/>
            <a:ext cx="617184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248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287080"/>
            <a:ext cx="301176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248080"/>
            <a:ext cx="61718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89880"/>
            <a:ext cx="617184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287080"/>
            <a:ext cx="61718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525840" y="4284720"/>
            <a:ext cx="0" cy="36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159000" y="4281480"/>
            <a:ext cx="0" cy="3605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2243160" y="3828960"/>
            <a:ext cx="0" cy="434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438800" y="3865680"/>
            <a:ext cx="0" cy="430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15920" y="38368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32040" y="385452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59040" y="38368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498920" y="384336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94240" y="43689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38800" y="43290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0600" y="50529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36600" y="50166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36600" y="52275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6840" y="51879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4438800" y="59324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70480" y="58960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29080" y="4368960"/>
            <a:ext cx="909720" cy="300240"/>
            <a:chOff x="3529080" y="4368960"/>
            <a:chExt cx="909720" cy="300240"/>
          </a:xfrm>
        </p:grpSpPr>
        <p:sp>
          <p:nvSpPr>
            <p:cNvPr id="55" name=""/>
            <p:cNvSpPr/>
            <p:nvPr/>
          </p:nvSpPr>
          <p:spPr>
            <a:xfrm flipH="1">
              <a:off x="4167360" y="43689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62200" y="4641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29080" y="46101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9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800520" y="4368960"/>
              <a:ext cx="3506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249640" y="5227560"/>
            <a:ext cx="909720" cy="299160"/>
            <a:chOff x="2249640" y="5227560"/>
            <a:chExt cx="909720" cy="299160"/>
          </a:xfrm>
        </p:grpSpPr>
        <p:sp>
          <p:nvSpPr>
            <p:cNvPr id="60" name=""/>
            <p:cNvSpPr/>
            <p:nvPr/>
          </p:nvSpPr>
          <p:spPr>
            <a:xfrm>
              <a:off x="2249640" y="5227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887560" y="5495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14720" y="5465880"/>
              <a:ext cx="44640" cy="60840"/>
            </a:xfrm>
            <a:custGeom>
              <a:avLst/>
              <a:gdLst/>
              <a:ahLst/>
              <a:rect l="0" t="0" r="r" b="b"/>
              <a:pathLst>
                <a:path w="124" h="169">
                  <a:moveTo>
                    <a:pt x="0" y="0"/>
                  </a:moveTo>
                  <a:lnTo>
                    <a:pt x="0" y="169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6920" y="5227560"/>
              <a:ext cx="35064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249640" y="4784760"/>
            <a:ext cx="909360" cy="300240"/>
            <a:chOff x="2249640" y="4784760"/>
            <a:chExt cx="909360" cy="300240"/>
          </a:xfrm>
        </p:grpSpPr>
        <p:sp>
          <p:nvSpPr>
            <p:cNvPr id="65" name=""/>
            <p:cNvSpPr/>
            <p:nvPr/>
          </p:nvSpPr>
          <p:spPr>
            <a:xfrm flipH="1">
              <a:off x="2887560" y="4784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2760" y="50562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49640" y="50259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521080" y="4784760"/>
              <a:ext cx="35532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535200" y="5640480"/>
            <a:ext cx="910080" cy="302040"/>
            <a:chOff x="3535200" y="5640480"/>
            <a:chExt cx="910080" cy="302040"/>
          </a:xfrm>
        </p:grpSpPr>
        <p:sp>
          <p:nvSpPr>
            <p:cNvPr id="70" name=""/>
            <p:cNvSpPr/>
            <p:nvPr/>
          </p:nvSpPr>
          <p:spPr>
            <a:xfrm>
              <a:off x="3535200" y="5640480"/>
              <a:ext cx="2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173480" y="59119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98840" y="588168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22840" y="564048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4481640" y="419256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38520" y="576108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38520" y="5877000"/>
            <a:ext cx="1239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27000" y="4827600"/>
            <a:ext cx="1374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 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60400" y="505944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60400" y="5175360"/>
            <a:ext cx="1239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87840" y="417816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8400" y="459108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71680" y="503388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371680" y="5149800"/>
            <a:ext cx="32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727440" y="544500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471168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84600" y="553572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173" y="0"/>
                </a:moveTo>
                <a:lnTo>
                  <a:pt x="0" y="0"/>
                </a:lnTo>
                <a:lnTo>
                  <a:pt x="84" y="129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84600" y="467820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35280" y="500544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13240" y="46386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65360" y="46594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3160" y="46782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60600" y="46990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09840" y="47214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8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60880" y="47386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8320" y="47610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8"/>
                </a:lnTo>
                <a:lnTo>
                  <a:pt x="4" y="1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74840" y="473868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147" y="155"/>
                </a:moveTo>
                <a:lnTo>
                  <a:pt x="84" y="0"/>
                </a:lnTo>
                <a:lnTo>
                  <a:pt x="0" y="120"/>
                </a:lnTo>
                <a:lnTo>
                  <a:pt x="147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59000" y="54896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1560" y="55119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60880" y="552924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10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13080" y="55515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55720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13160" y="559116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10" y="0"/>
                </a:moveTo>
                <a:lnTo>
                  <a:pt x="0" y="13"/>
                </a:lnTo>
                <a:lnTo>
                  <a:pt x="25" y="23"/>
                </a:lnTo>
                <a:lnTo>
                  <a:pt x="32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68600" y="56116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68600" y="559116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1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2400" y="599760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33960" y="653112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79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33960" y="596268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0" y="129"/>
                </a:moveTo>
                <a:lnTo>
                  <a:pt x="164" y="129"/>
                </a:lnTo>
                <a:lnTo>
                  <a:pt x="7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25840" y="6622920"/>
            <a:ext cx="909720" cy="302400"/>
            <a:chOff x="3525840" y="6622920"/>
            <a:chExt cx="909720" cy="302400"/>
          </a:xfrm>
        </p:grpSpPr>
        <p:sp>
          <p:nvSpPr>
            <p:cNvPr id="109" name=""/>
            <p:cNvSpPr/>
            <p:nvPr/>
          </p:nvSpPr>
          <p:spPr>
            <a:xfrm flipH="1">
              <a:off x="4164120" y="66229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9320" y="6894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5840" y="686448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129" y="169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797280" y="662292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 flipH="1">
            <a:off x="2884320" y="757872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480" y="7551720"/>
            <a:ext cx="44640" cy="57600"/>
          </a:xfrm>
          <a:custGeom>
            <a:avLst/>
            <a:gdLst/>
            <a:ahLst/>
            <a:rect l="0" t="0" r="r" b="b"/>
            <a:pathLst>
              <a:path w="124" h="160">
                <a:moveTo>
                  <a:pt x="0" y="0"/>
                </a:moveTo>
                <a:lnTo>
                  <a:pt x="0" y="160"/>
                </a:lnTo>
                <a:lnTo>
                  <a:pt x="124" y="7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884320" y="7039080"/>
            <a:ext cx="271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32320" y="7724880"/>
            <a:ext cx="910080" cy="300240"/>
            <a:chOff x="3532320" y="7724880"/>
            <a:chExt cx="910080" cy="300240"/>
          </a:xfrm>
        </p:grpSpPr>
        <p:sp>
          <p:nvSpPr>
            <p:cNvPr id="117" name=""/>
            <p:cNvSpPr/>
            <p:nvPr/>
          </p:nvSpPr>
          <p:spPr>
            <a:xfrm>
              <a:off x="3532320" y="7724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170240" y="79945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95960" y="79628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7724880"/>
              <a:ext cx="353880" cy="26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2523960" y="684684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276640" y="75675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11600" y="699624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81360" y="763596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173" y="0"/>
                </a:moveTo>
                <a:lnTo>
                  <a:pt x="0" y="0"/>
                </a:lnTo>
                <a:lnTo>
                  <a:pt x="84" y="129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81360" y="696132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11440" y="68914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2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62480" y="69134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4" y="14"/>
                </a:lnTo>
                <a:lnTo>
                  <a:pt x="0" y="4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9920" y="69310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57720" y="69534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8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06600" y="697068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30" y="0"/>
                </a:moveTo>
                <a:lnTo>
                  <a:pt x="41" y="14"/>
                </a:lnTo>
                <a:lnTo>
                  <a:pt x="11" y="27"/>
                </a:lnTo>
                <a:lnTo>
                  <a:pt x="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57640" y="69930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21" y="0"/>
                </a:moveTo>
                <a:lnTo>
                  <a:pt x="23" y="8"/>
                </a:lnTo>
                <a:lnTo>
                  <a:pt x="4" y="14"/>
                </a:lnTo>
                <a:lnTo>
                  <a:pt x="0" y="5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5080" y="70135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68720" y="6993000"/>
            <a:ext cx="52920" cy="57600"/>
          </a:xfrm>
          <a:custGeom>
            <a:avLst/>
            <a:gdLst/>
            <a:ahLst/>
            <a:rect l="0" t="0" r="r" b="b"/>
            <a:pathLst>
              <a:path w="147" h="160">
                <a:moveTo>
                  <a:pt x="147" y="160"/>
                </a:moveTo>
                <a:lnTo>
                  <a:pt x="84" y="0"/>
                </a:lnTo>
                <a:lnTo>
                  <a:pt x="0" y="129"/>
                </a:lnTo>
                <a:lnTo>
                  <a:pt x="147" y="1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54320" y="75722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5080" y="75945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57640" y="761220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21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06600" y="76341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4480" y="765180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11" y="0"/>
                </a:moveTo>
                <a:lnTo>
                  <a:pt x="0" y="14"/>
                </a:lnTo>
                <a:lnTo>
                  <a:pt x="34" y="27"/>
                </a:lnTo>
                <a:lnTo>
                  <a:pt x="45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09920" y="767412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62480" y="76946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5360" y="767412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5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06760" y="640080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35280" y="608976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27440" y="750096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635280" y="714060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09880" y="70390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76400" y="7007400"/>
            <a:ext cx="44640" cy="62280"/>
          </a:xfrm>
          <a:custGeom>
            <a:avLst/>
            <a:gdLst/>
            <a:ahLst/>
            <a:rect l="0" t="0" r="r" b="b"/>
            <a:pathLst>
              <a:path w="124" h="173">
                <a:moveTo>
                  <a:pt x="124" y="173"/>
                </a:moveTo>
                <a:lnTo>
                  <a:pt x="124" y="0"/>
                </a:lnTo>
                <a:lnTo>
                  <a:pt x="0" y="89"/>
                </a:lnTo>
                <a:lnTo>
                  <a:pt x="124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72880" y="1758960"/>
            <a:ext cx="63118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/>
          <p:nvPr/>
        </p:nvSpPr>
        <p:spPr>
          <a:xfrm>
            <a:off x="2930400" y="2455920"/>
            <a:ext cx="0" cy="388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563920" y="2455920"/>
            <a:ext cx="0" cy="388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647720" y="2000160"/>
            <a:ext cx="0" cy="434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846600" y="2000160"/>
            <a:ext cx="0" cy="434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 txBox="1"/>
          <p:nvPr/>
        </p:nvSpPr>
        <p:spPr>
          <a:xfrm>
            <a:off x="515880" y="201456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2136600" y="202572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2163600" y="20080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3903840" y="201456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3900600" y="25401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843360" y="25002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95160" y="32241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41520" y="31878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2" name=""/>
          <p:cNvGrpSpPr/>
          <p:nvPr/>
        </p:nvGrpSpPr>
        <p:grpSpPr>
          <a:xfrm>
            <a:off x="2933640" y="2540160"/>
            <a:ext cx="909720" cy="300240"/>
            <a:chOff x="2933640" y="2540160"/>
            <a:chExt cx="909720" cy="300240"/>
          </a:xfrm>
        </p:grpSpPr>
        <p:sp>
          <p:nvSpPr>
            <p:cNvPr id="1423" name=""/>
            <p:cNvSpPr/>
            <p:nvPr/>
          </p:nvSpPr>
          <p:spPr>
            <a:xfrm flipH="1">
              <a:off x="3571920" y="2540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967120" y="28130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933640" y="27813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9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205080" y="2540160"/>
              <a:ext cx="3542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1657440" y="2955960"/>
            <a:ext cx="906480" cy="300240"/>
            <a:chOff x="1657440" y="2955960"/>
            <a:chExt cx="906480" cy="300240"/>
          </a:xfrm>
        </p:grpSpPr>
        <p:sp>
          <p:nvSpPr>
            <p:cNvPr id="1428" name=""/>
            <p:cNvSpPr/>
            <p:nvPr/>
          </p:nvSpPr>
          <p:spPr>
            <a:xfrm flipH="1">
              <a:off x="2292480" y="29559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87680" y="32274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57440" y="319716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120" y="164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1925640" y="29559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2" name=""/>
          <p:cNvSpPr txBox="1"/>
          <p:nvPr/>
        </p:nvSpPr>
        <p:spPr>
          <a:xfrm>
            <a:off x="3854520" y="236376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331920" y="299880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2951280" y="236232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784520" y="272556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1941480" y="329580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2243160" y="3411360"/>
            <a:ext cx="32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63400" y="3316320"/>
            <a:ext cx="109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63400" y="3432240"/>
            <a:ext cx="7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917800" y="28098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868480" y="28306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817720" y="28494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3"/>
                </a:lnTo>
                <a:lnTo>
                  <a:pt x="7" y="23"/>
                </a:lnTo>
                <a:lnTo>
                  <a:pt x="0" y="13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765520" y="28702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712960" y="28926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8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664000" y="290988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26" y="0"/>
                </a:moveTo>
                <a:lnTo>
                  <a:pt x="36" y="14"/>
                </a:lnTo>
                <a:lnTo>
                  <a:pt x="10" y="27"/>
                </a:lnTo>
                <a:lnTo>
                  <a:pt x="0" y="1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612880" y="29322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579760" y="290988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142" y="155"/>
                </a:moveTo>
                <a:lnTo>
                  <a:pt x="84" y="0"/>
                </a:lnTo>
                <a:lnTo>
                  <a:pt x="0" y="120"/>
                </a:lnTo>
                <a:lnTo>
                  <a:pt x="142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52320" y="36133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1584360" y="35766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3857760" y="42991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789440" y="42591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2" name=""/>
          <p:cNvGrpSpPr/>
          <p:nvPr/>
        </p:nvGrpSpPr>
        <p:grpSpPr>
          <a:xfrm>
            <a:off x="1666800" y="3613320"/>
            <a:ext cx="906840" cy="302040"/>
            <a:chOff x="1666800" y="3613320"/>
            <a:chExt cx="906840" cy="302040"/>
          </a:xfrm>
        </p:grpSpPr>
        <p:sp>
          <p:nvSpPr>
            <p:cNvPr id="1453" name=""/>
            <p:cNvSpPr/>
            <p:nvPr/>
          </p:nvSpPr>
          <p:spPr>
            <a:xfrm>
              <a:off x="1666800" y="361332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2301840" y="3884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30440" y="385452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0" y="0"/>
                  </a:moveTo>
                  <a:lnTo>
                    <a:pt x="0" y="169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951200" y="361332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951280" y="4027320"/>
            <a:ext cx="910080" cy="300600"/>
            <a:chOff x="2951280" y="4027320"/>
            <a:chExt cx="910080" cy="300600"/>
          </a:xfrm>
        </p:grpSpPr>
        <p:sp>
          <p:nvSpPr>
            <p:cNvPr id="1458" name=""/>
            <p:cNvSpPr/>
            <p:nvPr/>
          </p:nvSpPr>
          <p:spPr>
            <a:xfrm>
              <a:off x="2951280" y="40273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3589200" y="42991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14920" y="426888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238560" y="4027320"/>
              <a:ext cx="350640" cy="27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 txBox="1"/>
          <p:nvPr/>
        </p:nvSpPr>
        <p:spPr>
          <a:xfrm>
            <a:off x="3863880" y="408636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595440" y="4656240"/>
            <a:ext cx="109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595440" y="477216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2917800" y="383364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 flipH="1">
            <a:off x="3583080" y="429912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979720" y="456876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944800" y="453708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1666800" y="4711680"/>
            <a:ext cx="906480" cy="302040"/>
            <a:chOff x="1666800" y="4711680"/>
            <a:chExt cx="906480" cy="302040"/>
          </a:xfrm>
        </p:grpSpPr>
        <p:sp>
          <p:nvSpPr>
            <p:cNvPr id="1470" name=""/>
            <p:cNvSpPr/>
            <p:nvPr/>
          </p:nvSpPr>
          <p:spPr>
            <a:xfrm flipH="1">
              <a:off x="2301840" y="47116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697040" y="4983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66800" y="495288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120" y="169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1935000" y="471168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"/>
          <p:cNvSpPr txBox="1"/>
          <p:nvPr/>
        </p:nvSpPr>
        <p:spPr>
          <a:xfrm>
            <a:off x="2917800" y="434016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1859040" y="45244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08120" y="49798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50880" y="49435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87680" y="38624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2639880" y="38847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689200" y="390204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10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41760" y="39243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792520" y="39448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841480" y="396396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10" y="0"/>
                </a:moveTo>
                <a:lnTo>
                  <a:pt x="0" y="13"/>
                </a:lnTo>
                <a:lnTo>
                  <a:pt x="25" y="23"/>
                </a:lnTo>
                <a:lnTo>
                  <a:pt x="32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2897280" y="39844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2897280" y="396720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1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887560" y="45594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9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838600" y="45799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786040" y="45990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9"/>
                </a:lnTo>
                <a:lnTo>
                  <a:pt x="4" y="1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735280" y="46195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682720" y="463860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33" y="0"/>
                </a:moveTo>
                <a:lnTo>
                  <a:pt x="41" y="13"/>
                </a:lnTo>
                <a:lnTo>
                  <a:pt x="11" y="23"/>
                </a:lnTo>
                <a:lnTo>
                  <a:pt x="0" y="1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633760" y="46594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583000" y="46814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546280" y="466236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142" y="155"/>
                </a:moveTo>
                <a:lnTo>
                  <a:pt x="84" y="0"/>
                </a:lnTo>
                <a:lnTo>
                  <a:pt x="0" y="120"/>
                </a:lnTo>
                <a:lnTo>
                  <a:pt x="142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478240" y="3944880"/>
            <a:ext cx="0" cy="69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451240" y="46227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75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451240" y="391176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0" y="120"/>
                </a:moveTo>
                <a:lnTo>
                  <a:pt x="160" y="120"/>
                </a:lnTo>
                <a:lnTo>
                  <a:pt x="75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2054160" y="410544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6119640" y="3941640"/>
            <a:ext cx="522360" cy="1758960"/>
            <a:chOff x="6119640" y="3941640"/>
            <a:chExt cx="522360" cy="1758960"/>
          </a:xfrm>
        </p:grpSpPr>
        <p:grpSp>
          <p:nvGrpSpPr>
            <p:cNvPr id="1499" name=""/>
            <p:cNvGrpSpPr/>
            <p:nvPr/>
          </p:nvGrpSpPr>
          <p:grpSpPr>
            <a:xfrm>
              <a:off x="6119640" y="3941640"/>
              <a:ext cx="182880" cy="1758960"/>
              <a:chOff x="6119640" y="3941640"/>
              <a:chExt cx="182880" cy="1758960"/>
            </a:xfrm>
          </p:grpSpPr>
          <p:sp>
            <p:nvSpPr>
              <p:cNvPr id="1500" name=""/>
              <p:cNvSpPr/>
              <p:nvPr/>
            </p:nvSpPr>
            <p:spPr>
              <a:xfrm flipH="1">
                <a:off x="6215040" y="3941640"/>
                <a:ext cx="79560" cy="173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119640" y="5594400"/>
                <a:ext cx="889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15040" y="5594400"/>
                <a:ext cx="8748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137280" y="3954600"/>
                <a:ext cx="79200" cy="17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137280" y="3948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 flipH="1">
                <a:off x="6199200" y="394164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6" name=""/>
            <p:cNvSpPr txBox="1"/>
            <p:nvPr/>
          </p:nvSpPr>
          <p:spPr>
            <a:xfrm>
              <a:off x="6342120" y="445608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 txBox="1"/>
            <p:nvPr/>
          </p:nvSpPr>
          <p:spPr>
            <a:xfrm>
              <a:off x="6342120" y="461484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 txBox="1"/>
            <p:nvPr/>
          </p:nvSpPr>
          <p:spPr>
            <a:xfrm>
              <a:off x="6342120" y="477360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 txBox="1"/>
            <p:nvPr/>
          </p:nvSpPr>
          <p:spPr>
            <a:xfrm>
              <a:off x="6342120" y="493236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0" name=""/>
          <p:cNvGrpSpPr/>
          <p:nvPr/>
        </p:nvGrpSpPr>
        <p:grpSpPr>
          <a:xfrm>
            <a:off x="2936880" y="4851360"/>
            <a:ext cx="906480" cy="303480"/>
            <a:chOff x="2936880" y="4851360"/>
            <a:chExt cx="906480" cy="303480"/>
          </a:xfrm>
        </p:grpSpPr>
        <p:sp>
          <p:nvSpPr>
            <p:cNvPr id="1511" name=""/>
            <p:cNvSpPr/>
            <p:nvPr/>
          </p:nvSpPr>
          <p:spPr>
            <a:xfrm flipH="1">
              <a:off x="3571920" y="48513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967120" y="51246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36880" y="5092560"/>
              <a:ext cx="43200" cy="62280"/>
            </a:xfrm>
            <a:custGeom>
              <a:avLst/>
              <a:gdLst/>
              <a:ahLst/>
              <a:rect l="0" t="0" r="r" b="b"/>
              <a:pathLst>
                <a:path w="120" h="173">
                  <a:moveTo>
                    <a:pt x="120" y="173"/>
                  </a:moveTo>
                  <a:lnTo>
                    <a:pt x="120" y="0"/>
                  </a:lnTo>
                  <a:lnTo>
                    <a:pt x="0" y="89"/>
                  </a:lnTo>
                  <a:lnTo>
                    <a:pt x="120" y="1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205080" y="4851360"/>
              <a:ext cx="3542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"/>
          <p:cNvSpPr txBox="1"/>
          <p:nvPr/>
        </p:nvSpPr>
        <p:spPr>
          <a:xfrm>
            <a:off x="2951280" y="489888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819440" y="52624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3119400" y="520056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89160" y="587844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089160" y="516744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921040" y="511164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5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868480" y="513540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820960" y="516096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30" y="0"/>
                </a:moveTo>
                <a:lnTo>
                  <a:pt x="41" y="13"/>
                </a:lnTo>
                <a:lnTo>
                  <a:pt x="7" y="23"/>
                </a:lnTo>
                <a:lnTo>
                  <a:pt x="0" y="13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71640" y="518472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22680" y="52102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0"/>
                </a:lnTo>
                <a:lnTo>
                  <a:pt x="10" y="23"/>
                </a:lnTo>
                <a:lnTo>
                  <a:pt x="0" y="1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673360" y="523404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26" y="0"/>
                </a:moveTo>
                <a:lnTo>
                  <a:pt x="36" y="13"/>
                </a:lnTo>
                <a:lnTo>
                  <a:pt x="10" y="23"/>
                </a:lnTo>
                <a:lnTo>
                  <a:pt x="0" y="13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2622600" y="525780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30" y="0"/>
                </a:moveTo>
                <a:lnTo>
                  <a:pt x="41" y="14"/>
                </a:lnTo>
                <a:lnTo>
                  <a:pt x="7" y="27"/>
                </a:lnTo>
                <a:lnTo>
                  <a:pt x="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579760" y="5249880"/>
            <a:ext cx="51120" cy="51120"/>
          </a:xfrm>
          <a:custGeom>
            <a:avLst/>
            <a:gdLst/>
            <a:ahLst/>
            <a:rect l="0" t="0" r="r" b="b"/>
            <a:pathLst>
              <a:path w="142" h="142">
                <a:moveTo>
                  <a:pt x="142" y="142"/>
                </a:moveTo>
                <a:lnTo>
                  <a:pt x="66" y="0"/>
                </a:lnTo>
                <a:lnTo>
                  <a:pt x="0" y="124"/>
                </a:lnTo>
                <a:lnTo>
                  <a:pt x="142" y="1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2301840" y="580536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2527200" y="577368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0" y="0"/>
                </a:moveTo>
                <a:lnTo>
                  <a:pt x="0" y="173"/>
                </a:lnTo>
                <a:lnTo>
                  <a:pt x="129" y="8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2951280" y="5935680"/>
            <a:ext cx="910080" cy="300240"/>
            <a:chOff x="2951280" y="5935680"/>
            <a:chExt cx="910080" cy="300240"/>
          </a:xfrm>
        </p:grpSpPr>
        <p:sp>
          <p:nvSpPr>
            <p:cNvPr id="1531" name=""/>
            <p:cNvSpPr/>
            <p:nvPr/>
          </p:nvSpPr>
          <p:spPr>
            <a:xfrm>
              <a:off x="2951280" y="59356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3589200" y="62056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814920" y="61736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238560" y="5935680"/>
              <a:ext cx="35064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"/>
          <p:cNvSpPr txBox="1"/>
          <p:nvPr/>
        </p:nvSpPr>
        <p:spPr>
          <a:xfrm>
            <a:off x="1687680" y="57783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 txBox="1"/>
          <p:nvPr/>
        </p:nvSpPr>
        <p:spPr>
          <a:xfrm>
            <a:off x="1819440" y="589428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3097080" y="59500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3097080" y="606600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139920" y="536112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548080" y="58053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600280" y="58230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652840" y="584208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703600" y="5859360"/>
            <a:ext cx="12960" cy="3600"/>
          </a:xfrm>
          <a:custGeom>
            <a:avLst/>
            <a:gdLst/>
            <a:ahLst/>
            <a:rect l="0" t="0" r="r" b="b"/>
            <a:pathLst>
              <a:path w="36" h="10">
                <a:moveTo>
                  <a:pt x="5" y="0"/>
                </a:moveTo>
                <a:lnTo>
                  <a:pt x="0" y="8"/>
                </a:lnTo>
                <a:lnTo>
                  <a:pt x="31" y="10"/>
                </a:lnTo>
                <a:lnTo>
                  <a:pt x="36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755800" y="58752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2808360" y="58928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860560" y="59119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857680" y="588960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57" y="0"/>
                </a:moveTo>
                <a:lnTo>
                  <a:pt x="0" y="155"/>
                </a:lnTo>
                <a:lnTo>
                  <a:pt x="142" y="12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571920" y="439740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540240" y="478800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173" y="0"/>
                </a:moveTo>
                <a:lnTo>
                  <a:pt x="0" y="0"/>
                </a:lnTo>
                <a:lnTo>
                  <a:pt x="89" y="120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540240" y="436392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0" y="120"/>
                </a:moveTo>
                <a:lnTo>
                  <a:pt x="173" y="120"/>
                </a:lnTo>
                <a:lnTo>
                  <a:pt x="8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583080" y="4511520"/>
            <a:ext cx="2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3619440" y="45291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328840" y="528336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295360" y="5251320"/>
            <a:ext cx="43200" cy="59040"/>
          </a:xfrm>
          <a:custGeom>
            <a:avLst/>
            <a:gdLst/>
            <a:ahLst/>
            <a:rect l="0" t="0" r="r" b="b"/>
            <a:pathLst>
              <a:path w="120" h="164">
                <a:moveTo>
                  <a:pt x="120" y="164"/>
                </a:moveTo>
                <a:lnTo>
                  <a:pt x="120" y="0"/>
                </a:lnTo>
                <a:lnTo>
                  <a:pt x="0" y="89"/>
                </a:lnTo>
                <a:lnTo>
                  <a:pt x="12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"/>
          <p:cNvSpPr txBox="1"/>
          <p:nvPr/>
        </p:nvSpPr>
        <p:spPr>
          <a:xfrm>
            <a:off x="2333520" y="496728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2333520" y="508320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2489040" y="442440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2336760" y="29527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489480" y="2197080"/>
            <a:ext cx="0" cy="323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22640" y="2193840"/>
            <a:ext cx="0" cy="323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208240" y="1743120"/>
            <a:ext cx="0" cy="395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402080" y="1743120"/>
            <a:ext cx="0" cy="395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982800" y="17496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695680" y="176832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722680" y="174960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4459320" y="175572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454640" y="228132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398840" y="224172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1258920" y="29638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203480" y="29275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4398840" y="3656160"/>
            <a:ext cx="947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5329080" y="36194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3492360" y="2281320"/>
            <a:ext cx="906480" cy="298800"/>
            <a:chOff x="3492360" y="2281320"/>
            <a:chExt cx="906480" cy="298800"/>
          </a:xfrm>
        </p:grpSpPr>
        <p:sp>
          <p:nvSpPr>
            <p:cNvPr id="1574" name=""/>
            <p:cNvSpPr/>
            <p:nvPr/>
          </p:nvSpPr>
          <p:spPr>
            <a:xfrm flipH="1">
              <a:off x="4129200" y="228132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525840" y="255276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492360" y="2522520"/>
              <a:ext cx="44640" cy="57600"/>
            </a:xfrm>
            <a:custGeom>
              <a:avLst/>
              <a:gdLst/>
              <a:ahLst/>
              <a:rect l="0" t="0" r="r" b="b"/>
              <a:pathLst>
                <a:path w="124" h="160">
                  <a:moveTo>
                    <a:pt x="124" y="160"/>
                  </a:moveTo>
                  <a:lnTo>
                    <a:pt x="124" y="0"/>
                  </a:lnTo>
                  <a:lnTo>
                    <a:pt x="0" y="84"/>
                  </a:lnTo>
                  <a:lnTo>
                    <a:pt x="124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3762360" y="228132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"/>
          <p:cNvSpPr/>
          <p:nvPr/>
        </p:nvSpPr>
        <p:spPr>
          <a:xfrm>
            <a:off x="2214720" y="2963880"/>
            <a:ext cx="27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2851200" y="323532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076560" y="3205080"/>
            <a:ext cx="46440" cy="60840"/>
          </a:xfrm>
          <a:custGeom>
            <a:avLst/>
            <a:gdLst/>
            <a:ahLst/>
            <a:rect l="0" t="0" r="r" b="b"/>
            <a:pathLst>
              <a:path w="129" h="169">
                <a:moveTo>
                  <a:pt x="0" y="0"/>
                </a:moveTo>
                <a:lnTo>
                  <a:pt x="0" y="169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2214720" y="2695680"/>
            <a:ext cx="907920" cy="298800"/>
            <a:chOff x="2214720" y="2695680"/>
            <a:chExt cx="907920" cy="298800"/>
          </a:xfrm>
        </p:grpSpPr>
        <p:sp>
          <p:nvSpPr>
            <p:cNvPr id="1582" name=""/>
            <p:cNvSpPr/>
            <p:nvPr/>
          </p:nvSpPr>
          <p:spPr>
            <a:xfrm flipH="1">
              <a:off x="2851200" y="26956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47840" y="29671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14720" y="293688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129" y="160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486160" y="269568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3497400" y="3378240"/>
            <a:ext cx="908280" cy="302040"/>
            <a:chOff x="3497400" y="3378240"/>
            <a:chExt cx="908280" cy="302040"/>
          </a:xfrm>
        </p:grpSpPr>
        <p:sp>
          <p:nvSpPr>
            <p:cNvPr id="1587" name=""/>
            <p:cNvSpPr/>
            <p:nvPr/>
          </p:nvSpPr>
          <p:spPr>
            <a:xfrm>
              <a:off x="3497400" y="33782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135320" y="364968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61040" y="3619440"/>
              <a:ext cx="44640" cy="60840"/>
            </a:xfrm>
            <a:custGeom>
              <a:avLst/>
              <a:gdLst/>
              <a:ahLst/>
              <a:rect l="0" t="0" r="r" b="b"/>
              <a:pathLst>
                <a:path w="124" h="169">
                  <a:moveTo>
                    <a:pt x="0" y="0"/>
                  </a:moveTo>
                  <a:lnTo>
                    <a:pt x="0" y="169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784680" y="337824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 txBox="1"/>
          <p:nvPr/>
        </p:nvSpPr>
        <p:spPr>
          <a:xfrm>
            <a:off x="4441680" y="2104920"/>
            <a:ext cx="137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contracts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4498920" y="3441600"/>
            <a:ext cx="136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contracts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803160" y="2738520"/>
            <a:ext cx="136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contracts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 txBox="1"/>
          <p:nvPr/>
        </p:nvSpPr>
        <p:spPr>
          <a:xfrm>
            <a:off x="3470400" y="20908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436840" y="250200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3597120" y="33670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678120" y="2692440"/>
            <a:ext cx="0" cy="566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3646440" y="324792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173" y="0"/>
                </a:moveTo>
                <a:lnTo>
                  <a:pt x="0" y="0"/>
                </a:lnTo>
                <a:lnTo>
                  <a:pt x="89" y="129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646440" y="265896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0" y="120"/>
                </a:moveTo>
                <a:lnTo>
                  <a:pt x="173" y="120"/>
                </a:lnTo>
                <a:lnTo>
                  <a:pt x="8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3597120" y="29163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476520" y="25495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3427560" y="257184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8"/>
                </a:lnTo>
                <a:lnTo>
                  <a:pt x="4" y="14"/>
                </a:lnTo>
                <a:lnTo>
                  <a:pt x="0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3376440" y="258912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7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3324240" y="261144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8"/>
                </a:lnTo>
                <a:lnTo>
                  <a:pt x="4" y="14"/>
                </a:lnTo>
                <a:lnTo>
                  <a:pt x="0" y="4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3271680" y="26319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3224160" y="265104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0"/>
                </a:lnTo>
                <a:lnTo>
                  <a:pt x="7" y="23"/>
                </a:lnTo>
                <a:lnTo>
                  <a:pt x="0" y="1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171960" y="26719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138480" y="26510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147" y="151"/>
                </a:moveTo>
                <a:lnTo>
                  <a:pt x="84" y="0"/>
                </a:lnTo>
                <a:lnTo>
                  <a:pt x="0" y="116"/>
                </a:lnTo>
                <a:lnTo>
                  <a:pt x="147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3122640" y="32292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174840" y="325116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21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224160" y="326880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3274920" y="32907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3327480" y="33116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3376440" y="333072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0"/>
                </a:lnTo>
                <a:lnTo>
                  <a:pt x="22" y="23"/>
                </a:lnTo>
                <a:lnTo>
                  <a:pt x="32" y="1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3430440" y="33512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430440" y="333072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16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222800" y="3695760"/>
            <a:ext cx="0" cy="47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95800" y="4159080"/>
            <a:ext cx="57600" cy="44640"/>
          </a:xfrm>
          <a:custGeom>
            <a:avLst/>
            <a:gdLst/>
            <a:ahLst/>
            <a:rect l="0" t="0" r="r" b="b"/>
            <a:pathLst>
              <a:path w="160" h="124">
                <a:moveTo>
                  <a:pt x="160" y="0"/>
                </a:moveTo>
                <a:lnTo>
                  <a:pt x="0" y="0"/>
                </a:lnTo>
                <a:lnTo>
                  <a:pt x="75" y="124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195800" y="366228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0" y="129"/>
                </a:moveTo>
                <a:lnTo>
                  <a:pt x="160" y="129"/>
                </a:lnTo>
                <a:lnTo>
                  <a:pt x="75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489480" y="4203720"/>
            <a:ext cx="907920" cy="300240"/>
            <a:chOff x="3489480" y="4203720"/>
            <a:chExt cx="907920" cy="300240"/>
          </a:xfrm>
        </p:grpSpPr>
        <p:sp>
          <p:nvSpPr>
            <p:cNvPr id="1621" name=""/>
            <p:cNvSpPr/>
            <p:nvPr/>
          </p:nvSpPr>
          <p:spPr>
            <a:xfrm flipH="1">
              <a:off x="4125960" y="42037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22600" y="447516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489480" y="4444920"/>
              <a:ext cx="44640" cy="59040"/>
            </a:xfrm>
            <a:custGeom>
              <a:avLst/>
              <a:gdLst/>
              <a:ahLst/>
              <a:rect l="0" t="0" r="r" b="b"/>
              <a:pathLst>
                <a:path w="124" h="164">
                  <a:moveTo>
                    <a:pt x="124" y="164"/>
                  </a:moveTo>
                  <a:lnTo>
                    <a:pt x="124" y="0"/>
                  </a:lnTo>
                  <a:lnTo>
                    <a:pt x="0" y="84"/>
                  </a:lnTo>
                  <a:lnTo>
                    <a:pt x="124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3759120" y="420372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"/>
          <p:cNvSpPr/>
          <p:nvPr/>
        </p:nvSpPr>
        <p:spPr>
          <a:xfrm flipH="1">
            <a:off x="2849400" y="5157720"/>
            <a:ext cx="23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75120" y="5127480"/>
            <a:ext cx="44640" cy="60840"/>
          </a:xfrm>
          <a:custGeom>
            <a:avLst/>
            <a:gdLst/>
            <a:ahLst/>
            <a:rect l="0" t="0" r="r" b="b"/>
            <a:pathLst>
              <a:path w="124" h="169">
                <a:moveTo>
                  <a:pt x="0" y="0"/>
                </a:moveTo>
                <a:lnTo>
                  <a:pt x="0" y="169"/>
                </a:lnTo>
                <a:lnTo>
                  <a:pt x="12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7" name=""/>
          <p:cNvGrpSpPr/>
          <p:nvPr/>
        </p:nvGrpSpPr>
        <p:grpSpPr>
          <a:xfrm>
            <a:off x="3494160" y="5300640"/>
            <a:ext cx="908280" cy="302040"/>
            <a:chOff x="3494160" y="5300640"/>
            <a:chExt cx="908280" cy="302040"/>
          </a:xfrm>
        </p:grpSpPr>
        <p:sp>
          <p:nvSpPr>
            <p:cNvPr id="1628" name=""/>
            <p:cNvSpPr/>
            <p:nvPr/>
          </p:nvSpPr>
          <p:spPr>
            <a:xfrm>
              <a:off x="3494160" y="53006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4132440" y="557208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357800" y="5541840"/>
              <a:ext cx="44640" cy="60840"/>
            </a:xfrm>
            <a:custGeom>
              <a:avLst/>
              <a:gdLst/>
              <a:ahLst/>
              <a:rect l="0" t="0" r="r" b="b"/>
              <a:pathLst>
                <a:path w="124" h="169">
                  <a:moveTo>
                    <a:pt x="0" y="0"/>
                  </a:moveTo>
                  <a:lnTo>
                    <a:pt x="0" y="169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78200" y="530064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"/>
          <p:cNvSpPr/>
          <p:nvPr/>
        </p:nvSpPr>
        <p:spPr>
          <a:xfrm>
            <a:off x="3675240" y="456084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3643200" y="520380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173" y="0"/>
                </a:moveTo>
                <a:lnTo>
                  <a:pt x="0" y="0"/>
                </a:lnTo>
                <a:lnTo>
                  <a:pt x="89" y="120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643200" y="452772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473280" y="4468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0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424320" y="44910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9"/>
                </a:lnTo>
                <a:lnTo>
                  <a:pt x="4" y="1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3373560" y="45086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321000" y="45306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30" y="0"/>
                </a:moveTo>
                <a:lnTo>
                  <a:pt x="32" y="9"/>
                </a:lnTo>
                <a:lnTo>
                  <a:pt x="4" y="14"/>
                </a:lnTo>
                <a:lnTo>
                  <a:pt x="0" y="5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3268800" y="454824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220920" y="457056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168720" y="45910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3132000" y="45734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147" y="151"/>
                </a:moveTo>
                <a:lnTo>
                  <a:pt x="84" y="0"/>
                </a:lnTo>
                <a:lnTo>
                  <a:pt x="0" y="121"/>
                </a:lnTo>
                <a:lnTo>
                  <a:pt x="147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3116160" y="51483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168720" y="517032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3220920" y="51879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268800" y="52102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317760" y="522756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3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373560" y="524988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9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424320" y="527040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427560" y="525312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21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470400" y="40719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3506760" y="381780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689280" y="507996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 txBox="1"/>
          <p:nvPr/>
        </p:nvSpPr>
        <p:spPr>
          <a:xfrm>
            <a:off x="3689280" y="519588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3597120" y="480852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6330960" y="2820960"/>
            <a:ext cx="525240" cy="1755720"/>
            <a:chOff x="6330960" y="2820960"/>
            <a:chExt cx="525240" cy="1755720"/>
          </a:xfrm>
        </p:grpSpPr>
        <p:grpSp>
          <p:nvGrpSpPr>
            <p:cNvPr id="1657" name=""/>
            <p:cNvGrpSpPr/>
            <p:nvPr/>
          </p:nvGrpSpPr>
          <p:grpSpPr>
            <a:xfrm>
              <a:off x="6330960" y="2820960"/>
              <a:ext cx="185760" cy="1755720"/>
              <a:chOff x="6330960" y="2820960"/>
              <a:chExt cx="185760" cy="1755720"/>
            </a:xfrm>
          </p:grpSpPr>
          <p:sp>
            <p:nvSpPr>
              <p:cNvPr id="1658" name=""/>
              <p:cNvSpPr/>
              <p:nvPr/>
            </p:nvSpPr>
            <p:spPr>
              <a:xfrm flipH="1">
                <a:off x="6426360" y="2820960"/>
                <a:ext cx="82440" cy="17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330960" y="4468680"/>
                <a:ext cx="9216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6426360" y="4468680"/>
                <a:ext cx="9036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350040" y="2833560"/>
                <a:ext cx="82440" cy="17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350040" y="2827440"/>
                <a:ext cx="903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413400" y="2820960"/>
                <a:ext cx="8892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 txBox="1"/>
            <p:nvPr/>
          </p:nvSpPr>
          <p:spPr>
            <a:xfrm>
              <a:off x="6556320" y="333360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 txBox="1"/>
            <p:nvPr/>
          </p:nvSpPr>
          <p:spPr>
            <a:xfrm>
              <a:off x="6556320" y="349236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 txBox="1"/>
            <p:nvPr/>
          </p:nvSpPr>
          <p:spPr>
            <a:xfrm>
              <a:off x="6556320" y="365112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 txBox="1"/>
            <p:nvPr/>
          </p:nvSpPr>
          <p:spPr>
            <a:xfrm>
              <a:off x="6556320" y="380988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2890800" y="461628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860560" y="4587840"/>
            <a:ext cx="43200" cy="59040"/>
          </a:xfrm>
          <a:custGeom>
            <a:avLst/>
            <a:gdLst/>
            <a:ahLst/>
            <a:rect l="0" t="0" r="r" b="b"/>
            <a:pathLst>
              <a:path w="120" h="164">
                <a:moveTo>
                  <a:pt x="120" y="164"/>
                </a:moveTo>
                <a:lnTo>
                  <a:pt x="120" y="0"/>
                </a:lnTo>
                <a:lnTo>
                  <a:pt x="0" y="79"/>
                </a:lnTo>
                <a:lnTo>
                  <a:pt x="12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381480" y="554688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016080" y="554688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160720" y="5091120"/>
            <a:ext cx="0" cy="180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4297320" y="5091120"/>
            <a:ext cx="0" cy="180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606600" y="510372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2498760" y="511812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2527200" y="509904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4446720" y="510372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4352760" y="56325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294080" y="55926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1147680" y="63165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1092240" y="62802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3384720" y="5632560"/>
            <a:ext cx="909360" cy="300240"/>
            <a:chOff x="3384720" y="5632560"/>
            <a:chExt cx="909360" cy="300240"/>
          </a:xfrm>
        </p:grpSpPr>
        <p:sp>
          <p:nvSpPr>
            <p:cNvPr id="1683" name=""/>
            <p:cNvSpPr/>
            <p:nvPr/>
          </p:nvSpPr>
          <p:spPr>
            <a:xfrm flipH="1">
              <a:off x="4022640" y="5632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417840" y="5904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384720" y="58737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3656160" y="563256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2109960" y="6048360"/>
            <a:ext cx="906120" cy="300240"/>
            <a:chOff x="2109960" y="6048360"/>
            <a:chExt cx="906120" cy="300240"/>
          </a:xfrm>
        </p:grpSpPr>
        <p:sp>
          <p:nvSpPr>
            <p:cNvPr id="1688" name=""/>
            <p:cNvSpPr/>
            <p:nvPr/>
          </p:nvSpPr>
          <p:spPr>
            <a:xfrm flipH="1">
              <a:off x="2743200" y="6048360"/>
              <a:ext cx="27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139840" y="63198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109960" y="6289560"/>
              <a:ext cx="41760" cy="59040"/>
            </a:xfrm>
            <a:custGeom>
              <a:avLst/>
              <a:gdLst/>
              <a:ahLst/>
              <a:rect l="0" t="0" r="r" b="b"/>
              <a:pathLst>
                <a:path w="116" h="164">
                  <a:moveTo>
                    <a:pt x="116" y="164"/>
                  </a:moveTo>
                  <a:lnTo>
                    <a:pt x="116" y="0"/>
                  </a:lnTo>
                  <a:lnTo>
                    <a:pt x="0" y="84"/>
                  </a:lnTo>
                  <a:lnTo>
                    <a:pt x="116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2378160" y="60483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2" name=""/>
          <p:cNvSpPr txBox="1"/>
          <p:nvPr/>
        </p:nvSpPr>
        <p:spPr>
          <a:xfrm>
            <a:off x="4394160" y="5457960"/>
            <a:ext cx="1065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ser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1116000" y="612144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s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3402000" y="5907240"/>
            <a:ext cx="81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2217600" y="6359400"/>
            <a:ext cx="804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059280" y="6016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0" y="8"/>
                </a:moveTo>
                <a:lnTo>
                  <a:pt x="2" y="19"/>
                </a:lnTo>
                <a:lnTo>
                  <a:pt x="32" y="11"/>
                </a:lnTo>
                <a:lnTo>
                  <a:pt x="28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112920" y="6005520"/>
            <a:ext cx="12960" cy="1800"/>
          </a:xfrm>
          <a:custGeom>
            <a:avLst/>
            <a:gdLst/>
            <a:ahLst/>
            <a:rect l="0" t="0" r="r" b="b"/>
            <a:pathLst>
              <a:path w="36" h="5">
                <a:moveTo>
                  <a:pt x="0" y="1"/>
                </a:moveTo>
                <a:lnTo>
                  <a:pt x="5" y="5"/>
                </a:lnTo>
                <a:lnTo>
                  <a:pt x="36" y="4"/>
                </a:lnTo>
                <a:lnTo>
                  <a:pt x="31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165480" y="5989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0" y="8"/>
                </a:moveTo>
                <a:lnTo>
                  <a:pt x="4" y="19"/>
                </a:lnTo>
                <a:lnTo>
                  <a:pt x="32" y="11"/>
                </a:lnTo>
                <a:lnTo>
                  <a:pt x="28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219480" y="5977080"/>
            <a:ext cx="12960" cy="3600"/>
          </a:xfrm>
          <a:custGeom>
            <a:avLst/>
            <a:gdLst/>
            <a:ahLst/>
            <a:rect l="0" t="0" r="r" b="b"/>
            <a:pathLst>
              <a:path w="36" h="10">
                <a:moveTo>
                  <a:pt x="0" y="3"/>
                </a:moveTo>
                <a:lnTo>
                  <a:pt x="5" y="10"/>
                </a:lnTo>
                <a:lnTo>
                  <a:pt x="36" y="8"/>
                </a:lnTo>
                <a:lnTo>
                  <a:pt x="3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3274920" y="596268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0" y="5"/>
                </a:moveTo>
                <a:lnTo>
                  <a:pt x="4" y="14"/>
                </a:lnTo>
                <a:lnTo>
                  <a:pt x="32" y="9"/>
                </a:lnTo>
                <a:lnTo>
                  <a:pt x="30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3327480" y="595008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0" y="3"/>
                </a:moveTo>
                <a:lnTo>
                  <a:pt x="4" y="10"/>
                </a:lnTo>
                <a:lnTo>
                  <a:pt x="32" y="8"/>
                </a:lnTo>
                <a:lnTo>
                  <a:pt x="28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3381480" y="5937120"/>
            <a:ext cx="3600" cy="3600"/>
          </a:xfrm>
          <a:custGeom>
            <a:avLst/>
            <a:gdLst/>
            <a:ahLst/>
            <a:rect l="0" t="0" r="r" b="b"/>
            <a:pathLst>
              <a:path w="10" h="10">
                <a:moveTo>
                  <a:pt x="0" y="3"/>
                </a:moveTo>
                <a:lnTo>
                  <a:pt x="5" y="10"/>
                </a:lnTo>
                <a:lnTo>
                  <a:pt x="10" y="8"/>
                </a:lnTo>
                <a:lnTo>
                  <a:pt x="5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3030480" y="5992920"/>
            <a:ext cx="49680" cy="59040"/>
          </a:xfrm>
          <a:custGeom>
            <a:avLst/>
            <a:gdLst/>
            <a:ahLst/>
            <a:rect l="0" t="0" r="r" b="b"/>
            <a:pathLst>
              <a:path w="138" h="164">
                <a:moveTo>
                  <a:pt x="138" y="164"/>
                </a:moveTo>
                <a:lnTo>
                  <a:pt x="93" y="0"/>
                </a:lnTo>
                <a:lnTo>
                  <a:pt x="0" y="111"/>
                </a:lnTo>
                <a:lnTo>
                  <a:pt x="138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4" name=""/>
          <p:cNvGrpSpPr/>
          <p:nvPr/>
        </p:nvGrpSpPr>
        <p:grpSpPr>
          <a:xfrm>
            <a:off x="6018120" y="4943520"/>
            <a:ext cx="525240" cy="1762200"/>
            <a:chOff x="6018120" y="4943520"/>
            <a:chExt cx="525240" cy="1762200"/>
          </a:xfrm>
        </p:grpSpPr>
        <p:grpSp>
          <p:nvGrpSpPr>
            <p:cNvPr id="1705" name=""/>
            <p:cNvGrpSpPr/>
            <p:nvPr/>
          </p:nvGrpSpPr>
          <p:grpSpPr>
            <a:xfrm>
              <a:off x="6018120" y="4943520"/>
              <a:ext cx="187560" cy="1762200"/>
              <a:chOff x="6018120" y="4943520"/>
              <a:chExt cx="187560" cy="1762200"/>
            </a:xfrm>
          </p:grpSpPr>
          <p:sp>
            <p:nvSpPr>
              <p:cNvPr id="1706" name=""/>
              <p:cNvSpPr/>
              <p:nvPr/>
            </p:nvSpPr>
            <p:spPr>
              <a:xfrm flipH="1">
                <a:off x="6113520" y="4943520"/>
                <a:ext cx="82440" cy="173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018120" y="6599160"/>
                <a:ext cx="921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6113520" y="6599160"/>
                <a:ext cx="921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037200" y="4956120"/>
                <a:ext cx="82440" cy="173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037200" y="4946760"/>
                <a:ext cx="921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6100920" y="4943520"/>
                <a:ext cx="8892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2" name=""/>
            <p:cNvSpPr txBox="1"/>
            <p:nvPr/>
          </p:nvSpPr>
          <p:spPr>
            <a:xfrm>
              <a:off x="6243480" y="545796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 txBox="1"/>
            <p:nvPr/>
          </p:nvSpPr>
          <p:spPr>
            <a:xfrm>
              <a:off x="6243480" y="561672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 txBox="1"/>
            <p:nvPr/>
          </p:nvSpPr>
          <p:spPr>
            <a:xfrm>
              <a:off x="6243480" y="577548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 txBox="1"/>
            <p:nvPr/>
          </p:nvSpPr>
          <p:spPr>
            <a:xfrm>
              <a:off x="6243480" y="593424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3059280" y="3581280"/>
            <a:ext cx="0" cy="72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2682720" y="3548160"/>
            <a:ext cx="0" cy="72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1766880" y="309240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965400" y="3092400"/>
            <a:ext cx="0" cy="142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 txBox="1"/>
          <p:nvPr/>
        </p:nvSpPr>
        <p:spPr>
          <a:xfrm>
            <a:off x="635040" y="31050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 txBox="1"/>
          <p:nvPr/>
        </p:nvSpPr>
        <p:spPr>
          <a:xfrm>
            <a:off x="2255760" y="311940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 txBox="1"/>
          <p:nvPr/>
        </p:nvSpPr>
        <p:spPr>
          <a:xfrm>
            <a:off x="2282760" y="310032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4022640" y="31050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3149640" y="3819600"/>
            <a:ext cx="804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 flipH="1">
            <a:off x="763560" y="36338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693800" y="35971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3965400" y="4322880"/>
            <a:ext cx="949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896000" y="42829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1770120" y="3633840"/>
            <a:ext cx="910080" cy="303480"/>
            <a:chOff x="1770120" y="3633840"/>
            <a:chExt cx="910080" cy="303480"/>
          </a:xfrm>
        </p:grpSpPr>
        <p:sp>
          <p:nvSpPr>
            <p:cNvPr id="1730" name=""/>
            <p:cNvSpPr/>
            <p:nvPr/>
          </p:nvSpPr>
          <p:spPr>
            <a:xfrm>
              <a:off x="1770120" y="3633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2408400" y="39052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33760" y="38750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054160" y="363384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"/>
          <p:cNvGrpSpPr/>
          <p:nvPr/>
        </p:nvGrpSpPr>
        <p:grpSpPr>
          <a:xfrm>
            <a:off x="3049560" y="4049640"/>
            <a:ext cx="906840" cy="300240"/>
            <a:chOff x="3049560" y="4049640"/>
            <a:chExt cx="906840" cy="300240"/>
          </a:xfrm>
        </p:grpSpPr>
        <p:sp>
          <p:nvSpPr>
            <p:cNvPr id="1735" name=""/>
            <p:cNvSpPr/>
            <p:nvPr/>
          </p:nvSpPr>
          <p:spPr>
            <a:xfrm>
              <a:off x="3049560" y="40496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3687840" y="43228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913200" y="429084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0" y="0"/>
                  </a:moveTo>
                  <a:lnTo>
                    <a:pt x="0" y="164"/>
                  </a:lnTo>
                  <a:lnTo>
                    <a:pt x="12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333600" y="4049640"/>
              <a:ext cx="3542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 txBox="1"/>
          <p:nvPr/>
        </p:nvSpPr>
        <p:spPr>
          <a:xfrm>
            <a:off x="677880" y="3449520"/>
            <a:ext cx="1065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ser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3949560" y="411480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s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1803240" y="3911760"/>
            <a:ext cx="81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86200" y="4022640"/>
            <a:ext cx="11520" cy="1800"/>
          </a:xfrm>
          <a:custGeom>
            <a:avLst/>
            <a:gdLst/>
            <a:ahLst/>
            <a:rect l="0" t="0" r="r" b="b"/>
            <a:pathLst>
              <a:path w="32" h="5">
                <a:moveTo>
                  <a:pt x="32" y="1"/>
                </a:moveTo>
                <a:lnTo>
                  <a:pt x="28" y="5"/>
                </a:lnTo>
                <a:lnTo>
                  <a:pt x="0" y="4"/>
                </a:lnTo>
                <a:lnTo>
                  <a:pt x="2" y="0"/>
                </a:lnTo>
                <a:lnTo>
                  <a:pt x="3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30400" y="40068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2" y="8"/>
                </a:moveTo>
                <a:lnTo>
                  <a:pt x="28" y="19"/>
                </a:lnTo>
                <a:lnTo>
                  <a:pt x="0" y="11"/>
                </a:lnTo>
                <a:lnTo>
                  <a:pt x="4" y="0"/>
                </a:lnTo>
                <a:lnTo>
                  <a:pt x="3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878200" y="3994200"/>
            <a:ext cx="12960" cy="3600"/>
          </a:xfrm>
          <a:custGeom>
            <a:avLst/>
            <a:gdLst/>
            <a:ahLst/>
            <a:rect l="0" t="0" r="r" b="b"/>
            <a:pathLst>
              <a:path w="36" h="10">
                <a:moveTo>
                  <a:pt x="36" y="3"/>
                </a:moveTo>
                <a:lnTo>
                  <a:pt x="31" y="10"/>
                </a:lnTo>
                <a:lnTo>
                  <a:pt x="0" y="8"/>
                </a:lnTo>
                <a:lnTo>
                  <a:pt x="5" y="0"/>
                </a:lnTo>
                <a:lnTo>
                  <a:pt x="36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824200" y="39798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32" y="5"/>
                </a:moveTo>
                <a:lnTo>
                  <a:pt x="28" y="14"/>
                </a:lnTo>
                <a:lnTo>
                  <a:pt x="0" y="9"/>
                </a:lnTo>
                <a:lnTo>
                  <a:pt x="4" y="0"/>
                </a:lnTo>
                <a:lnTo>
                  <a:pt x="3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2768760" y="396720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32" y="3"/>
                </a:moveTo>
                <a:lnTo>
                  <a:pt x="30" y="10"/>
                </a:lnTo>
                <a:lnTo>
                  <a:pt x="0" y="8"/>
                </a:lnTo>
                <a:lnTo>
                  <a:pt x="4" y="0"/>
                </a:lnTo>
                <a:lnTo>
                  <a:pt x="3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2716200" y="39513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6" y="8"/>
                </a:moveTo>
                <a:lnTo>
                  <a:pt x="31" y="19"/>
                </a:lnTo>
                <a:lnTo>
                  <a:pt x="0" y="11"/>
                </a:lnTo>
                <a:lnTo>
                  <a:pt x="5" y="0"/>
                </a:lnTo>
                <a:lnTo>
                  <a:pt x="3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2670120" y="3941640"/>
            <a:ext cx="3600" cy="1800"/>
          </a:xfrm>
          <a:custGeom>
            <a:avLst/>
            <a:gdLst/>
            <a:ahLst/>
            <a:rect l="0" t="0" r="r" b="b"/>
            <a:pathLst>
              <a:path w="10" h="5">
                <a:moveTo>
                  <a:pt x="0" y="5"/>
                </a:moveTo>
                <a:lnTo>
                  <a:pt x="0" y="0"/>
                </a:lnTo>
                <a:lnTo>
                  <a:pt x="10" y="0"/>
                </a:lnTo>
                <a:lnTo>
                  <a:pt x="1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2986200" y="3994200"/>
            <a:ext cx="47880" cy="59040"/>
          </a:xfrm>
          <a:custGeom>
            <a:avLst/>
            <a:gdLst/>
            <a:ahLst/>
            <a:rect l="0" t="0" r="r" b="b"/>
            <a:pathLst>
              <a:path w="133" h="164">
                <a:moveTo>
                  <a:pt x="30" y="0"/>
                </a:moveTo>
                <a:lnTo>
                  <a:pt x="0" y="164"/>
                </a:lnTo>
                <a:lnTo>
                  <a:pt x="133" y="111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0" name=""/>
          <p:cNvGrpSpPr/>
          <p:nvPr/>
        </p:nvGrpSpPr>
        <p:grpSpPr>
          <a:xfrm>
            <a:off x="5865840" y="2674800"/>
            <a:ext cx="525240" cy="1760760"/>
            <a:chOff x="5865840" y="2674800"/>
            <a:chExt cx="525240" cy="1760760"/>
          </a:xfrm>
        </p:grpSpPr>
        <p:grpSp>
          <p:nvGrpSpPr>
            <p:cNvPr id="1751" name=""/>
            <p:cNvGrpSpPr/>
            <p:nvPr/>
          </p:nvGrpSpPr>
          <p:grpSpPr>
            <a:xfrm>
              <a:off x="5865840" y="2674800"/>
              <a:ext cx="187200" cy="1760760"/>
              <a:chOff x="5865840" y="2674800"/>
              <a:chExt cx="187200" cy="1760760"/>
            </a:xfrm>
          </p:grpSpPr>
          <p:sp>
            <p:nvSpPr>
              <p:cNvPr id="1752" name=""/>
              <p:cNvSpPr/>
              <p:nvPr/>
            </p:nvSpPr>
            <p:spPr>
              <a:xfrm flipH="1">
                <a:off x="5961240" y="2674800"/>
                <a:ext cx="82440" cy="173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865840" y="4329000"/>
                <a:ext cx="921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5961240" y="4329000"/>
                <a:ext cx="9180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884920" y="2684520"/>
                <a:ext cx="82440" cy="173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884920" y="267804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5948280" y="2674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8" name=""/>
            <p:cNvSpPr txBox="1"/>
            <p:nvPr/>
          </p:nvSpPr>
          <p:spPr>
            <a:xfrm>
              <a:off x="6091200" y="318924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 txBox="1"/>
            <p:nvPr/>
          </p:nvSpPr>
          <p:spPr>
            <a:xfrm>
              <a:off x="6091200" y="334980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 txBox="1"/>
            <p:nvPr/>
          </p:nvSpPr>
          <p:spPr>
            <a:xfrm>
              <a:off x="6091200" y="350820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 txBox="1"/>
            <p:nvPr/>
          </p:nvSpPr>
          <p:spPr>
            <a:xfrm>
              <a:off x="6091200" y="366696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/>
          <p:nvPr/>
        </p:nvSpPr>
        <p:spPr>
          <a:xfrm>
            <a:off x="3033720" y="311148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666880" y="311148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1752480" y="265572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3949560" y="265572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 txBox="1"/>
          <p:nvPr/>
        </p:nvSpPr>
        <p:spPr>
          <a:xfrm>
            <a:off x="619200" y="28494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 txBox="1"/>
          <p:nvPr/>
        </p:nvSpPr>
        <p:spPr>
          <a:xfrm>
            <a:off x="2243160" y="28623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 txBox="1"/>
          <p:nvPr/>
        </p:nvSpPr>
        <p:spPr>
          <a:xfrm>
            <a:off x="2270160" y="28432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4006800" y="28494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803160" y="38815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4480" y="38448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3040200" y="3611520"/>
            <a:ext cx="1914840" cy="309960"/>
            <a:chOff x="3040200" y="3611520"/>
            <a:chExt cx="1914840" cy="309960"/>
          </a:xfrm>
        </p:grpSpPr>
        <p:sp>
          <p:nvSpPr>
            <p:cNvPr id="1773" name=""/>
            <p:cNvSpPr/>
            <p:nvPr/>
          </p:nvSpPr>
          <p:spPr>
            <a:xfrm flipH="1">
              <a:off x="3946680" y="3884760"/>
              <a:ext cx="949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876920" y="3844800"/>
              <a:ext cx="78120" cy="76680"/>
            </a:xfrm>
            <a:custGeom>
              <a:avLst/>
              <a:gdLst/>
              <a:ahLst/>
              <a:rect l="0" t="0" r="r" b="b"/>
              <a:pathLst>
                <a:path w="217" h="213">
                  <a:moveTo>
                    <a:pt x="0" y="0"/>
                  </a:moveTo>
                  <a:lnTo>
                    <a:pt x="0" y="213"/>
                  </a:lnTo>
                  <a:lnTo>
                    <a:pt x="217" y="1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3040200" y="3611520"/>
              <a:ext cx="906840" cy="300600"/>
              <a:chOff x="3040200" y="3611520"/>
              <a:chExt cx="906840" cy="300600"/>
            </a:xfrm>
          </p:grpSpPr>
          <p:sp>
            <p:nvSpPr>
              <p:cNvPr id="1776" name=""/>
              <p:cNvSpPr/>
              <p:nvPr/>
            </p:nvSpPr>
            <p:spPr>
              <a:xfrm>
                <a:off x="3040200" y="3611520"/>
                <a:ext cx="26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3675240" y="3884760"/>
                <a:ext cx="23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903840" y="3854520"/>
                <a:ext cx="43200" cy="57600"/>
              </a:xfrm>
              <a:custGeom>
                <a:avLst/>
                <a:gdLst/>
                <a:ahLst/>
                <a:rect l="0" t="0" r="r" b="b"/>
                <a:pathLst>
                  <a:path w="120" h="160">
                    <a:moveTo>
                      <a:pt x="0" y="0"/>
                    </a:moveTo>
                    <a:lnTo>
                      <a:pt x="0" y="160"/>
                    </a:lnTo>
                    <a:lnTo>
                      <a:pt x="120" y="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6480" bIns="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324240" y="3611520"/>
                <a:ext cx="351000" cy="27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80" name=""/>
          <p:cNvGrpSpPr/>
          <p:nvPr/>
        </p:nvGrpSpPr>
        <p:grpSpPr>
          <a:xfrm>
            <a:off x="1760400" y="3611520"/>
            <a:ext cx="906480" cy="300600"/>
            <a:chOff x="1760400" y="3611520"/>
            <a:chExt cx="906480" cy="300600"/>
          </a:xfrm>
        </p:grpSpPr>
        <p:sp>
          <p:nvSpPr>
            <p:cNvPr id="1781" name=""/>
            <p:cNvSpPr/>
            <p:nvPr/>
          </p:nvSpPr>
          <p:spPr>
            <a:xfrm flipH="1">
              <a:off x="2398680" y="361152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795320" y="3884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760400" y="385452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2033640" y="3611520"/>
              <a:ext cx="3506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5" name=""/>
          <p:cNvSpPr txBox="1"/>
          <p:nvPr/>
        </p:nvSpPr>
        <p:spPr>
          <a:xfrm>
            <a:off x="3927600" y="368604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536400" y="367668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3054240" y="341964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P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1770120" y="34434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P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2665440" y="3533760"/>
            <a:ext cx="363600" cy="184320"/>
            <a:chOff x="2665440" y="3533760"/>
            <a:chExt cx="363600" cy="184320"/>
          </a:xfrm>
        </p:grpSpPr>
        <p:sp>
          <p:nvSpPr>
            <p:cNvPr id="1790" name=""/>
            <p:cNvSpPr/>
            <p:nvPr/>
          </p:nvSpPr>
          <p:spPr>
            <a:xfrm>
              <a:off x="2846520" y="3533760"/>
              <a:ext cx="182520" cy="184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665440" y="3533760"/>
              <a:ext cx="184320" cy="184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2682720" y="3597120"/>
            <a:ext cx="15552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851200" y="3444840"/>
            <a:ext cx="1731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5942160" y="2689200"/>
            <a:ext cx="525240" cy="1760400"/>
            <a:chOff x="5942160" y="2689200"/>
            <a:chExt cx="525240" cy="1760400"/>
          </a:xfrm>
        </p:grpSpPr>
        <p:grpSp>
          <p:nvGrpSpPr>
            <p:cNvPr id="1795" name=""/>
            <p:cNvGrpSpPr/>
            <p:nvPr/>
          </p:nvGrpSpPr>
          <p:grpSpPr>
            <a:xfrm>
              <a:off x="5942160" y="2689200"/>
              <a:ext cx="187200" cy="1760400"/>
              <a:chOff x="5942160" y="2689200"/>
              <a:chExt cx="187200" cy="1760400"/>
            </a:xfrm>
          </p:grpSpPr>
          <p:sp>
            <p:nvSpPr>
              <p:cNvPr id="1796" name=""/>
              <p:cNvSpPr/>
              <p:nvPr/>
            </p:nvSpPr>
            <p:spPr>
              <a:xfrm flipH="1">
                <a:off x="6037200" y="2689200"/>
                <a:ext cx="82440" cy="173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942160" y="4343400"/>
                <a:ext cx="9180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6037200" y="4343400"/>
                <a:ext cx="9216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961240" y="2700360"/>
                <a:ext cx="82440" cy="173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961240" y="2695680"/>
                <a:ext cx="9180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6024600" y="2689200"/>
                <a:ext cx="8892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2" name=""/>
            <p:cNvSpPr txBox="1"/>
            <p:nvPr/>
          </p:nvSpPr>
          <p:spPr>
            <a:xfrm>
              <a:off x="6167520" y="320184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 txBox="1"/>
            <p:nvPr/>
          </p:nvSpPr>
          <p:spPr>
            <a:xfrm>
              <a:off x="6167520" y="336060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 txBox="1"/>
            <p:nvPr/>
          </p:nvSpPr>
          <p:spPr>
            <a:xfrm>
              <a:off x="6167520" y="352116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 txBox="1"/>
            <p:nvPr/>
          </p:nvSpPr>
          <p:spPr>
            <a:xfrm>
              <a:off x="6167520" y="367992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"/>
          <p:cNvSpPr/>
          <p:nvPr/>
        </p:nvSpPr>
        <p:spPr>
          <a:xfrm>
            <a:off x="3033720" y="311148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2682720" y="3144960"/>
            <a:ext cx="0" cy="108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1752480" y="265572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949560" y="265572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 txBox="1"/>
          <p:nvPr/>
        </p:nvSpPr>
        <p:spPr>
          <a:xfrm>
            <a:off x="619200" y="28494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2243160" y="28623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2270160" y="28432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4006800" y="28494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803160" y="41529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744480" y="41162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3946680" y="36115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4876920" y="3571920"/>
            <a:ext cx="78120" cy="79560"/>
          </a:xfrm>
          <a:custGeom>
            <a:avLst/>
            <a:gdLst/>
            <a:ahLst/>
            <a:rect l="0" t="0" r="r" b="b"/>
            <a:pathLst>
              <a:path w="217" h="221">
                <a:moveTo>
                  <a:pt x="0" y="0"/>
                </a:moveTo>
                <a:lnTo>
                  <a:pt x="0" y="221"/>
                </a:lnTo>
                <a:lnTo>
                  <a:pt x="217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 flipH="1">
            <a:off x="2398680" y="388476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1795320" y="415296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760400" y="412272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4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 flipH="1">
            <a:off x="2033640" y="3884760"/>
            <a:ext cx="350640" cy="26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 txBox="1"/>
          <p:nvPr/>
        </p:nvSpPr>
        <p:spPr>
          <a:xfrm>
            <a:off x="3949560" y="340344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527040" y="397044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1870200" y="3700440"/>
            <a:ext cx="804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5" name=""/>
          <p:cNvGrpSpPr/>
          <p:nvPr/>
        </p:nvGrpSpPr>
        <p:grpSpPr>
          <a:xfrm>
            <a:off x="3297240" y="3444840"/>
            <a:ext cx="363600" cy="326880"/>
            <a:chOff x="3297240" y="3444840"/>
            <a:chExt cx="363600" cy="326880"/>
          </a:xfrm>
        </p:grpSpPr>
        <p:grpSp>
          <p:nvGrpSpPr>
            <p:cNvPr id="1826" name=""/>
            <p:cNvGrpSpPr/>
            <p:nvPr/>
          </p:nvGrpSpPr>
          <p:grpSpPr>
            <a:xfrm>
              <a:off x="3297240" y="3533760"/>
              <a:ext cx="363600" cy="184320"/>
              <a:chOff x="3297240" y="3533760"/>
              <a:chExt cx="363600" cy="184320"/>
            </a:xfrm>
          </p:grpSpPr>
          <p:sp>
            <p:nvSpPr>
              <p:cNvPr id="1827" name=""/>
              <p:cNvSpPr/>
              <p:nvPr/>
            </p:nvSpPr>
            <p:spPr>
              <a:xfrm>
                <a:off x="3478320" y="3533760"/>
                <a:ext cx="182520" cy="18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297240" y="3533760"/>
                <a:ext cx="184320" cy="18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9" name=""/>
            <p:cNvSpPr/>
            <p:nvPr/>
          </p:nvSpPr>
          <p:spPr>
            <a:xfrm>
              <a:off x="3314880" y="3597120"/>
              <a:ext cx="15552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483000" y="3444840"/>
              <a:ext cx="17604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2709720" y="384192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0" y="13"/>
                </a:moveTo>
                <a:lnTo>
                  <a:pt x="10" y="23"/>
                </a:lnTo>
                <a:lnTo>
                  <a:pt x="36" y="13"/>
                </a:lnTo>
                <a:lnTo>
                  <a:pt x="26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759040" y="3817800"/>
            <a:ext cx="16200" cy="8280"/>
          </a:xfrm>
          <a:custGeom>
            <a:avLst/>
            <a:gdLst/>
            <a:ahLst/>
            <a:rect l="0" t="0" r="r" b="b"/>
            <a:pathLst>
              <a:path w="45" h="23">
                <a:moveTo>
                  <a:pt x="0" y="10"/>
                </a:moveTo>
                <a:lnTo>
                  <a:pt x="11" y="23"/>
                </a:lnTo>
                <a:lnTo>
                  <a:pt x="45" y="10"/>
                </a:lnTo>
                <a:lnTo>
                  <a:pt x="34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808360" y="379260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0" y="14"/>
                </a:moveTo>
                <a:lnTo>
                  <a:pt x="11" y="27"/>
                </a:lnTo>
                <a:lnTo>
                  <a:pt x="41" y="14"/>
                </a:lnTo>
                <a:lnTo>
                  <a:pt x="30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860560" y="376884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0" y="10"/>
                </a:moveTo>
                <a:lnTo>
                  <a:pt x="7" y="23"/>
                </a:lnTo>
                <a:lnTo>
                  <a:pt x="32" y="10"/>
                </a:lnTo>
                <a:lnTo>
                  <a:pt x="22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2908440" y="374328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0" y="14"/>
                </a:moveTo>
                <a:lnTo>
                  <a:pt x="10" y="27"/>
                </a:lnTo>
                <a:lnTo>
                  <a:pt x="36" y="14"/>
                </a:lnTo>
                <a:lnTo>
                  <a:pt x="26" y="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2957400" y="37195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0" y="8"/>
                </a:moveTo>
                <a:lnTo>
                  <a:pt x="4" y="19"/>
                </a:lnTo>
                <a:lnTo>
                  <a:pt x="27" y="11"/>
                </a:lnTo>
                <a:lnTo>
                  <a:pt x="23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006720" y="36939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0" y="8"/>
                </a:moveTo>
                <a:lnTo>
                  <a:pt x="4" y="19"/>
                </a:lnTo>
                <a:lnTo>
                  <a:pt x="32" y="11"/>
                </a:lnTo>
                <a:lnTo>
                  <a:pt x="28" y="0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2682720" y="3822840"/>
            <a:ext cx="52920" cy="52920"/>
          </a:xfrm>
          <a:custGeom>
            <a:avLst/>
            <a:gdLst/>
            <a:ahLst/>
            <a:rect l="0" t="0" r="r" b="b"/>
            <a:pathLst>
              <a:path w="147" h="147">
                <a:moveTo>
                  <a:pt x="147" y="147"/>
                </a:moveTo>
                <a:lnTo>
                  <a:pt x="75" y="0"/>
                </a:lnTo>
                <a:lnTo>
                  <a:pt x="0" y="129"/>
                </a:lnTo>
                <a:lnTo>
                  <a:pt x="147" y="14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 flipH="1">
            <a:off x="3089160" y="366084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3059280" y="3630600"/>
            <a:ext cx="41760" cy="62280"/>
          </a:xfrm>
          <a:custGeom>
            <a:avLst/>
            <a:gdLst/>
            <a:ahLst/>
            <a:rect l="0" t="0" r="r" b="b"/>
            <a:pathLst>
              <a:path w="116" h="173">
                <a:moveTo>
                  <a:pt x="116" y="173"/>
                </a:moveTo>
                <a:lnTo>
                  <a:pt x="116" y="0"/>
                </a:lnTo>
                <a:lnTo>
                  <a:pt x="0" y="84"/>
                </a:lnTo>
                <a:lnTo>
                  <a:pt x="116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3648240" y="3618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3873600" y="358776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0" y="0"/>
                </a:moveTo>
                <a:lnTo>
                  <a:pt x="0" y="173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011400" y="3743280"/>
            <a:ext cx="81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5942160" y="2643120"/>
            <a:ext cx="525240" cy="1760760"/>
            <a:chOff x="5942160" y="2643120"/>
            <a:chExt cx="525240" cy="1760760"/>
          </a:xfrm>
        </p:grpSpPr>
        <p:grpSp>
          <p:nvGrpSpPr>
            <p:cNvPr id="1845" name=""/>
            <p:cNvGrpSpPr/>
            <p:nvPr/>
          </p:nvGrpSpPr>
          <p:grpSpPr>
            <a:xfrm>
              <a:off x="5942160" y="2643120"/>
              <a:ext cx="187200" cy="1760760"/>
              <a:chOff x="5942160" y="2643120"/>
              <a:chExt cx="187200" cy="1760760"/>
            </a:xfrm>
          </p:grpSpPr>
          <p:sp>
            <p:nvSpPr>
              <p:cNvPr id="1846" name=""/>
              <p:cNvSpPr/>
              <p:nvPr/>
            </p:nvSpPr>
            <p:spPr>
              <a:xfrm flipH="1">
                <a:off x="6037200" y="2643120"/>
                <a:ext cx="82440" cy="173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942160" y="4297320"/>
                <a:ext cx="9180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6037200" y="4297320"/>
                <a:ext cx="921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61240" y="2655720"/>
                <a:ext cx="82440" cy="173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961240" y="2646360"/>
                <a:ext cx="9180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6024600" y="2643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2" name=""/>
            <p:cNvSpPr txBox="1"/>
            <p:nvPr/>
          </p:nvSpPr>
          <p:spPr>
            <a:xfrm>
              <a:off x="6167520" y="315612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 txBox="1"/>
            <p:nvPr/>
          </p:nvSpPr>
          <p:spPr>
            <a:xfrm>
              <a:off x="6167520" y="331632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 txBox="1"/>
            <p:nvPr/>
          </p:nvSpPr>
          <p:spPr>
            <a:xfrm>
              <a:off x="6167520" y="347508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 txBox="1"/>
            <p:nvPr/>
          </p:nvSpPr>
          <p:spPr>
            <a:xfrm>
              <a:off x="6167520" y="363384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"/>
          <p:cNvSpPr/>
          <p:nvPr/>
        </p:nvSpPr>
        <p:spPr>
          <a:xfrm>
            <a:off x="3033720" y="318780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2666880" y="3187800"/>
            <a:ext cx="0" cy="1081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752480" y="273204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3949560" y="2732040"/>
            <a:ext cx="0" cy="180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619200" y="292572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2243160" y="293832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 txBox="1"/>
          <p:nvPr/>
        </p:nvSpPr>
        <p:spPr>
          <a:xfrm>
            <a:off x="2270160" y="291924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 txBox="1"/>
          <p:nvPr/>
        </p:nvSpPr>
        <p:spPr>
          <a:xfrm>
            <a:off x="4006800" y="292572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787320" y="368784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733320" y="36482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527040" y="347976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916440" y="400356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 txBox="1"/>
          <p:nvPr/>
        </p:nvSpPr>
        <p:spPr>
          <a:xfrm>
            <a:off x="3125880" y="3753000"/>
            <a:ext cx="804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"/>
          <p:cNvGrpSpPr/>
          <p:nvPr/>
        </p:nvGrpSpPr>
        <p:grpSpPr>
          <a:xfrm>
            <a:off x="2016000" y="3521160"/>
            <a:ext cx="366840" cy="326880"/>
            <a:chOff x="2016000" y="3521160"/>
            <a:chExt cx="366840" cy="326880"/>
          </a:xfrm>
        </p:grpSpPr>
        <p:grpSp>
          <p:nvGrpSpPr>
            <p:cNvPr id="1870" name=""/>
            <p:cNvGrpSpPr/>
            <p:nvPr/>
          </p:nvGrpSpPr>
          <p:grpSpPr>
            <a:xfrm>
              <a:off x="2016000" y="3610080"/>
              <a:ext cx="366840" cy="184320"/>
              <a:chOff x="2016000" y="3610080"/>
              <a:chExt cx="366840" cy="184320"/>
            </a:xfrm>
          </p:grpSpPr>
          <p:sp>
            <p:nvSpPr>
              <p:cNvPr id="1871" name=""/>
              <p:cNvSpPr/>
              <p:nvPr/>
            </p:nvSpPr>
            <p:spPr>
              <a:xfrm>
                <a:off x="2016000" y="3610080"/>
                <a:ext cx="182520" cy="18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198520" y="3610080"/>
                <a:ext cx="184320" cy="18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3" name=""/>
            <p:cNvSpPr/>
            <p:nvPr/>
          </p:nvSpPr>
          <p:spPr>
            <a:xfrm>
              <a:off x="2209680" y="3673440"/>
              <a:ext cx="15552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021040" y="3521160"/>
              <a:ext cx="1731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5" name=""/>
          <p:cNvSpPr/>
          <p:nvPr/>
        </p:nvSpPr>
        <p:spPr>
          <a:xfrm flipH="1">
            <a:off x="3970440" y="42292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902120" y="41925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056040" y="396072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 flipH="1">
            <a:off x="3691080" y="42292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916440" y="419904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0" y="0"/>
                </a:moveTo>
                <a:lnTo>
                  <a:pt x="0" y="173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3338640" y="3960720"/>
            <a:ext cx="352440" cy="26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990880" y="391788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36" y="13"/>
                </a:moveTo>
                <a:lnTo>
                  <a:pt x="26" y="23"/>
                </a:lnTo>
                <a:lnTo>
                  <a:pt x="0" y="13"/>
                </a:lnTo>
                <a:lnTo>
                  <a:pt x="10" y="0"/>
                </a:lnTo>
                <a:lnTo>
                  <a:pt x="3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940120" y="389412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41" y="10"/>
                </a:moveTo>
                <a:lnTo>
                  <a:pt x="30" y="23"/>
                </a:lnTo>
                <a:lnTo>
                  <a:pt x="0" y="10"/>
                </a:lnTo>
                <a:lnTo>
                  <a:pt x="7" y="0"/>
                </a:lnTo>
                <a:lnTo>
                  <a:pt x="41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890800" y="386856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41" y="14"/>
                </a:moveTo>
                <a:lnTo>
                  <a:pt x="30" y="27"/>
                </a:lnTo>
                <a:lnTo>
                  <a:pt x="0" y="14"/>
                </a:lnTo>
                <a:lnTo>
                  <a:pt x="11" y="0"/>
                </a:lnTo>
                <a:lnTo>
                  <a:pt x="4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841480" y="384480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36" y="10"/>
                </a:moveTo>
                <a:lnTo>
                  <a:pt x="26" y="23"/>
                </a:lnTo>
                <a:lnTo>
                  <a:pt x="0" y="10"/>
                </a:lnTo>
                <a:lnTo>
                  <a:pt x="10" y="0"/>
                </a:lnTo>
                <a:lnTo>
                  <a:pt x="36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92520" y="381960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36" y="14"/>
                </a:moveTo>
                <a:lnTo>
                  <a:pt x="26" y="27"/>
                </a:lnTo>
                <a:lnTo>
                  <a:pt x="0" y="14"/>
                </a:lnTo>
                <a:lnTo>
                  <a:pt x="10" y="0"/>
                </a:lnTo>
                <a:lnTo>
                  <a:pt x="36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46440" y="37958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7" y="8"/>
                </a:moveTo>
                <a:lnTo>
                  <a:pt x="23" y="19"/>
                </a:lnTo>
                <a:lnTo>
                  <a:pt x="0" y="11"/>
                </a:lnTo>
                <a:lnTo>
                  <a:pt x="4" y="0"/>
                </a:lnTo>
                <a:lnTo>
                  <a:pt x="27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695680" y="37702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2" y="8"/>
                </a:moveTo>
                <a:lnTo>
                  <a:pt x="28" y="19"/>
                </a:lnTo>
                <a:lnTo>
                  <a:pt x="0" y="11"/>
                </a:lnTo>
                <a:lnTo>
                  <a:pt x="4" y="0"/>
                </a:lnTo>
                <a:lnTo>
                  <a:pt x="3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984400" y="3898800"/>
            <a:ext cx="55800" cy="52920"/>
          </a:xfrm>
          <a:custGeom>
            <a:avLst/>
            <a:gdLst/>
            <a:ahLst/>
            <a:rect l="0" t="0" r="r" b="b"/>
            <a:pathLst>
              <a:path w="155" h="147">
                <a:moveTo>
                  <a:pt x="80" y="0"/>
                </a:moveTo>
                <a:lnTo>
                  <a:pt x="0" y="147"/>
                </a:lnTo>
                <a:lnTo>
                  <a:pt x="155" y="129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355840" y="37368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585880" y="3706920"/>
            <a:ext cx="41760" cy="62280"/>
          </a:xfrm>
          <a:custGeom>
            <a:avLst/>
            <a:gdLst/>
            <a:ahLst/>
            <a:rect l="0" t="0" r="r" b="b"/>
            <a:pathLst>
              <a:path w="116" h="173">
                <a:moveTo>
                  <a:pt x="0" y="0"/>
                </a:moveTo>
                <a:lnTo>
                  <a:pt x="0" y="173"/>
                </a:lnTo>
                <a:lnTo>
                  <a:pt x="116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1800360" y="369396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1766880" y="366408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129" y="173"/>
                </a:moveTo>
                <a:lnTo>
                  <a:pt x="129" y="0"/>
                </a:lnTo>
                <a:lnTo>
                  <a:pt x="0" y="84"/>
                </a:lnTo>
                <a:lnTo>
                  <a:pt x="129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 txBox="1"/>
          <p:nvPr/>
        </p:nvSpPr>
        <p:spPr>
          <a:xfrm>
            <a:off x="1790640" y="3819600"/>
            <a:ext cx="81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5934240" y="2679840"/>
            <a:ext cx="525240" cy="1757160"/>
            <a:chOff x="5934240" y="2679840"/>
            <a:chExt cx="525240" cy="1757160"/>
          </a:xfrm>
        </p:grpSpPr>
        <p:grpSp>
          <p:nvGrpSpPr>
            <p:cNvPr id="1895" name=""/>
            <p:cNvGrpSpPr/>
            <p:nvPr/>
          </p:nvGrpSpPr>
          <p:grpSpPr>
            <a:xfrm>
              <a:off x="5934240" y="2679840"/>
              <a:ext cx="185400" cy="1757160"/>
              <a:chOff x="5934240" y="2679840"/>
              <a:chExt cx="185400" cy="1757160"/>
            </a:xfrm>
          </p:grpSpPr>
          <p:sp>
            <p:nvSpPr>
              <p:cNvPr id="1896" name=""/>
              <p:cNvSpPr/>
              <p:nvPr/>
            </p:nvSpPr>
            <p:spPr>
              <a:xfrm flipH="1">
                <a:off x="6027840" y="2679840"/>
                <a:ext cx="79200" cy="173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934240" y="4330800"/>
                <a:ext cx="871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6027840" y="4330800"/>
                <a:ext cx="9180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951520" y="2689200"/>
                <a:ext cx="79560" cy="173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951520" y="268272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6013440" y="2679840"/>
                <a:ext cx="903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 txBox="1"/>
            <p:nvPr/>
          </p:nvSpPr>
          <p:spPr>
            <a:xfrm>
              <a:off x="6159600" y="319248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 txBox="1"/>
            <p:nvPr/>
          </p:nvSpPr>
          <p:spPr>
            <a:xfrm>
              <a:off x="6159600" y="335124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 txBox="1"/>
            <p:nvPr/>
          </p:nvSpPr>
          <p:spPr>
            <a:xfrm>
              <a:off x="6159600" y="351144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 txBox="1"/>
            <p:nvPr/>
          </p:nvSpPr>
          <p:spPr>
            <a:xfrm>
              <a:off x="6159600" y="367020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/>
          <p:nvPr/>
        </p:nvSpPr>
        <p:spPr>
          <a:xfrm>
            <a:off x="809640" y="4270320"/>
            <a:ext cx="4429080" cy="28987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082520" y="4363920"/>
            <a:ext cx="388296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038240" y="6850080"/>
            <a:ext cx="3929040" cy="36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1081080" y="5716440"/>
            <a:ext cx="9954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2351160" y="5452920"/>
            <a:ext cx="998640" cy="81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4424400" y="5084640"/>
            <a:ext cx="723960" cy="145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538280" y="4727520"/>
            <a:ext cx="0" cy="99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1538280" y="653724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2894040" y="6265800"/>
            <a:ext cx="0" cy="577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3843360" y="472428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2851200" y="4724280"/>
            <a:ext cx="0" cy="722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1266840" y="5813280"/>
            <a:ext cx="71748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1406520" y="577836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1247760" y="597996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1185840" y="63104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2441520" y="5632560"/>
            <a:ext cx="804960" cy="53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2627280" y="55976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 txBox="1"/>
          <p:nvPr/>
        </p:nvSpPr>
        <p:spPr>
          <a:xfrm>
            <a:off x="2468520" y="579924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2362320" y="613080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1628640" y="4367160"/>
            <a:ext cx="224964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2263680" y="433224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1628640" y="6897600"/>
            <a:ext cx="224964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 txBox="1"/>
          <p:nvPr/>
        </p:nvSpPr>
        <p:spPr>
          <a:xfrm>
            <a:off x="2279520" y="686268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65674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825480" y="393876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814320" y="4275000"/>
            <a:ext cx="4421160" cy="10008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814320" y="7170840"/>
            <a:ext cx="4421160" cy="8244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 txBox="1"/>
          <p:nvPr/>
        </p:nvSpPr>
        <p:spPr>
          <a:xfrm>
            <a:off x="5432400" y="695628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ialog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 txBox="1"/>
          <p:nvPr/>
        </p:nvSpPr>
        <p:spPr>
          <a:xfrm>
            <a:off x="5432400" y="7072200"/>
            <a:ext cx="52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5432400" y="718812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321160" y="432432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289480" y="4294080"/>
            <a:ext cx="43200" cy="60840"/>
          </a:xfrm>
          <a:custGeom>
            <a:avLst/>
            <a:gdLst/>
            <a:ahLst/>
            <a:rect l="0" t="0" r="r" b="b"/>
            <a:pathLst>
              <a:path w="120" h="169">
                <a:moveTo>
                  <a:pt x="120" y="169"/>
                </a:moveTo>
                <a:lnTo>
                  <a:pt x="120" y="0"/>
                </a:lnTo>
                <a:lnTo>
                  <a:pt x="0" y="84"/>
                </a:lnTo>
                <a:lnTo>
                  <a:pt x="120" y="1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 txBox="1"/>
          <p:nvPr/>
        </p:nvSpPr>
        <p:spPr>
          <a:xfrm>
            <a:off x="5432400" y="415296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5432400" y="4268880"/>
            <a:ext cx="52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5432400" y="438624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5321160" y="72183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289480" y="7188120"/>
            <a:ext cx="43200" cy="59040"/>
          </a:xfrm>
          <a:custGeom>
            <a:avLst/>
            <a:gdLst/>
            <a:ahLst/>
            <a:rect l="0" t="0" r="r" b="b"/>
            <a:pathLst>
              <a:path w="120" h="164">
                <a:moveTo>
                  <a:pt x="120" y="164"/>
                </a:moveTo>
                <a:lnTo>
                  <a:pt x="120" y="0"/>
                </a:lnTo>
                <a:lnTo>
                  <a:pt x="0" y="84"/>
                </a:lnTo>
                <a:lnTo>
                  <a:pt x="12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4602240" y="5468760"/>
            <a:ext cx="420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4433760" y="567072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077920" y="6442200"/>
            <a:ext cx="55440" cy="0"/>
          </a:xfrm>
          <a:custGeom>
            <a:avLst/>
            <a:gdLst/>
            <a:ahLst/>
            <a:rect l="0" t="0" r="r" b="b"/>
            <a:pathLst>
              <a:path w="154" h="0">
                <a:moveTo>
                  <a:pt x="0" y="0"/>
                </a:moveTo>
                <a:lnTo>
                  <a:pt x="0" y="0"/>
                </a:lnTo>
                <a:lnTo>
                  <a:pt x="154" y="0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217980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23344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289240" y="6442200"/>
            <a:ext cx="53640" cy="0"/>
          </a:xfrm>
          <a:custGeom>
            <a:avLst/>
            <a:gdLst/>
            <a:ahLst/>
            <a:rect l="0" t="0" r="r" b="b"/>
            <a:pathLst>
              <a:path w="149" h="0">
                <a:moveTo>
                  <a:pt x="0" y="0"/>
                </a:moveTo>
                <a:lnTo>
                  <a:pt x="0" y="0"/>
                </a:lnTo>
                <a:lnTo>
                  <a:pt x="149" y="0"/>
                </a:lnTo>
                <a:lnTo>
                  <a:pt x="1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38932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44476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500200" y="6442200"/>
            <a:ext cx="53640" cy="0"/>
          </a:xfrm>
          <a:custGeom>
            <a:avLst/>
            <a:gdLst/>
            <a:ahLst/>
            <a:rect l="0" t="0" r="r" b="b"/>
            <a:pathLst>
              <a:path w="149" h="0">
                <a:moveTo>
                  <a:pt x="0" y="0"/>
                </a:moveTo>
                <a:lnTo>
                  <a:pt x="0" y="0"/>
                </a:lnTo>
                <a:lnTo>
                  <a:pt x="149" y="0"/>
                </a:lnTo>
                <a:lnTo>
                  <a:pt x="1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60028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65572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709720" y="6442200"/>
            <a:ext cx="55440" cy="0"/>
          </a:xfrm>
          <a:custGeom>
            <a:avLst/>
            <a:gdLst/>
            <a:ahLst/>
            <a:rect l="0" t="0" r="r" b="b"/>
            <a:pathLst>
              <a:path w="154" h="0">
                <a:moveTo>
                  <a:pt x="0" y="0"/>
                </a:moveTo>
                <a:lnTo>
                  <a:pt x="0" y="0"/>
                </a:lnTo>
                <a:lnTo>
                  <a:pt x="154" y="0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81160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86560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921040" y="6442200"/>
            <a:ext cx="53640" cy="0"/>
          </a:xfrm>
          <a:custGeom>
            <a:avLst/>
            <a:gdLst/>
            <a:ahLst/>
            <a:rect l="0" t="0" r="r" b="b"/>
            <a:pathLst>
              <a:path w="149" h="0">
                <a:moveTo>
                  <a:pt x="0" y="0"/>
                </a:moveTo>
                <a:lnTo>
                  <a:pt x="0" y="0"/>
                </a:lnTo>
                <a:lnTo>
                  <a:pt x="149" y="0"/>
                </a:lnTo>
                <a:lnTo>
                  <a:pt x="1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02112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07656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3132000" y="6442200"/>
            <a:ext cx="53640" cy="0"/>
          </a:xfrm>
          <a:custGeom>
            <a:avLst/>
            <a:gdLst/>
            <a:ahLst/>
            <a:rect l="0" t="0" r="r" b="b"/>
            <a:pathLst>
              <a:path w="149" h="0">
                <a:moveTo>
                  <a:pt x="0" y="0"/>
                </a:moveTo>
                <a:lnTo>
                  <a:pt x="0" y="0"/>
                </a:lnTo>
                <a:lnTo>
                  <a:pt x="149" y="0"/>
                </a:lnTo>
                <a:lnTo>
                  <a:pt x="1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323208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328788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3341520" y="6442200"/>
            <a:ext cx="55440" cy="0"/>
          </a:xfrm>
          <a:custGeom>
            <a:avLst/>
            <a:gdLst/>
            <a:ahLst/>
            <a:rect l="0" t="0" r="r" b="b"/>
            <a:pathLst>
              <a:path w="154" h="0">
                <a:moveTo>
                  <a:pt x="0" y="0"/>
                </a:moveTo>
                <a:lnTo>
                  <a:pt x="0" y="0"/>
                </a:lnTo>
                <a:lnTo>
                  <a:pt x="154" y="0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443400" y="644220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497400" y="644220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344760" y="5629320"/>
            <a:ext cx="55440" cy="0"/>
          </a:xfrm>
          <a:custGeom>
            <a:avLst/>
            <a:gdLst/>
            <a:ahLst/>
            <a:rect l="0" t="0" r="r" b="b"/>
            <a:pathLst>
              <a:path w="154" h="0">
                <a:moveTo>
                  <a:pt x="0" y="0"/>
                </a:moveTo>
                <a:lnTo>
                  <a:pt x="0" y="0"/>
                </a:lnTo>
                <a:lnTo>
                  <a:pt x="154" y="0"/>
                </a:lnTo>
                <a:lnTo>
                  <a:pt x="15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3449520" y="5629320"/>
            <a:ext cx="7920" cy="0"/>
          </a:xfrm>
          <a:custGeom>
            <a:avLst/>
            <a:gdLst/>
            <a:ahLst/>
            <a:rect l="0" t="0" r="r" b="b"/>
            <a:pathLst>
              <a:path w="22" h="0">
                <a:moveTo>
                  <a:pt x="0" y="0"/>
                </a:moveTo>
                <a:lnTo>
                  <a:pt x="0" y="0"/>
                </a:lnTo>
                <a:lnTo>
                  <a:pt x="22" y="0"/>
                </a:lnTo>
                <a:lnTo>
                  <a:pt x="2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503520" y="5629320"/>
            <a:ext cx="9360" cy="0"/>
          </a:xfrm>
          <a:custGeom>
            <a:avLst/>
            <a:gdLst/>
            <a:ahLst/>
            <a:rect l="0" t="0" r="r" b="b"/>
            <a:pathLst>
              <a:path w="26" h="0">
                <a:moveTo>
                  <a:pt x="0" y="0"/>
                </a:moveTo>
                <a:lnTo>
                  <a:pt x="0" y="0"/>
                </a:lnTo>
                <a:lnTo>
                  <a:pt x="26" y="0"/>
                </a:lnTo>
                <a:lnTo>
                  <a:pt x="2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4746600" y="4724280"/>
            <a:ext cx="0" cy="36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3521160" y="5086440"/>
            <a:ext cx="72540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 txBox="1"/>
          <p:nvPr/>
        </p:nvSpPr>
        <p:spPr>
          <a:xfrm>
            <a:off x="3692520" y="55087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519360" y="571032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697280" y="656748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173340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17874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18432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189864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19526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00808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0620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1178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17332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22732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2827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23385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3922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244800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25020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25574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61288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26668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72268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77812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83212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8875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9415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9973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305280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31068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316224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2162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32716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32748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3814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43692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4923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35463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36021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36561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37116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376704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8210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387684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304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9862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04172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409572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1511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20696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426096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431640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437040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4258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448164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453564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4591080" y="4923000"/>
            <a:ext cx="8280" cy="1800"/>
          </a:xfrm>
          <a:custGeom>
            <a:avLst/>
            <a:gdLst/>
            <a:ahLst/>
            <a:rect l="0" t="0" r="r" b="b"/>
            <a:pathLst>
              <a:path w="23" h="5">
                <a:moveTo>
                  <a:pt x="0" y="5"/>
                </a:moveTo>
                <a:lnTo>
                  <a:pt x="0" y="0"/>
                </a:lnTo>
                <a:lnTo>
                  <a:pt x="23" y="0"/>
                </a:lnTo>
                <a:lnTo>
                  <a:pt x="23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645080" y="492300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0" y="5"/>
                </a:move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730520" y="492768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730520" y="49816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1730520" y="503712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1730520" y="50911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1730520" y="514656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1730520" y="520236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730520" y="525636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730520" y="531180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730520" y="536724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1730520" y="542124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730520" y="547704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730520" y="553248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730520" y="55864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730520" y="56419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730520" y="569736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2554200" y="492768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2554200" y="49816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554200" y="503712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554200" y="50911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2554200" y="514656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554200" y="520236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554200" y="525636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554200" y="531180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554200" y="536724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2554200" y="542124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695760" y="492768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695760" y="498168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695760" y="5037120"/>
            <a:ext cx="0" cy="7920"/>
          </a:xfrm>
          <a:custGeom>
            <a:avLst/>
            <a:gdLst/>
            <a:ahLst/>
            <a:rect l="0" t="0" r="r" b="b"/>
            <a:pathLst>
              <a:path w="0" h="22">
                <a:moveTo>
                  <a:pt x="0" y="0"/>
                </a:moveTo>
                <a:lnTo>
                  <a:pt x="0" y="0"/>
                </a:lnTo>
                <a:lnTo>
                  <a:pt x="0" y="22"/>
                </a:lnTo>
                <a:lnTo>
                  <a:pt x="0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3695760" y="5091120"/>
            <a:ext cx="0" cy="9360"/>
          </a:xfrm>
          <a:custGeom>
            <a:avLst/>
            <a:gdLst/>
            <a:ahLst/>
            <a:rect l="0" t="0" r="r" b="b"/>
            <a:pathLst>
              <a:path w="0" h="26">
                <a:moveTo>
                  <a:pt x="0" y="0"/>
                </a:moveTo>
                <a:lnTo>
                  <a:pt x="0" y="0"/>
                </a:lnTo>
                <a:lnTo>
                  <a:pt x="0" y="26"/>
                </a:lnTo>
                <a:lnTo>
                  <a:pt x="0" y="2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641840" y="491796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5" y="0"/>
                </a:moveTo>
                <a:lnTo>
                  <a:pt x="0" y="0"/>
                </a:lnTo>
                <a:lnTo>
                  <a:pt x="0" y="23"/>
                </a:lnTo>
                <a:lnTo>
                  <a:pt x="5" y="2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641840" y="497196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0"/>
                </a:moveTo>
                <a:lnTo>
                  <a:pt x="0" y="0"/>
                </a:lnTo>
                <a:lnTo>
                  <a:pt x="0" y="27"/>
                </a:lnTo>
                <a:lnTo>
                  <a:pt x="5" y="27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4641840" y="5027760"/>
            <a:ext cx="1800" cy="9720"/>
          </a:xfrm>
          <a:custGeom>
            <a:avLst/>
            <a:gdLst/>
            <a:ahLst/>
            <a:rect l="0" t="0" r="r" b="b"/>
            <a:pathLst>
              <a:path w="5" h="27">
                <a:moveTo>
                  <a:pt x="5" y="0"/>
                </a:moveTo>
                <a:lnTo>
                  <a:pt x="0" y="0"/>
                </a:lnTo>
                <a:lnTo>
                  <a:pt x="0" y="27"/>
                </a:lnTo>
                <a:lnTo>
                  <a:pt x="5" y="27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641840" y="5083200"/>
            <a:ext cx="1800" cy="8280"/>
          </a:xfrm>
          <a:custGeom>
            <a:avLst/>
            <a:gdLst/>
            <a:ahLst/>
            <a:rect l="0" t="0" r="r" b="b"/>
            <a:pathLst>
              <a:path w="5" h="23">
                <a:moveTo>
                  <a:pt x="5" y="0"/>
                </a:moveTo>
                <a:lnTo>
                  <a:pt x="0" y="0"/>
                </a:lnTo>
                <a:lnTo>
                  <a:pt x="0" y="23"/>
                </a:lnTo>
                <a:lnTo>
                  <a:pt x="5" y="2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"/>
          <p:cNvSpPr/>
          <p:nvPr/>
        </p:nvSpPr>
        <p:spPr>
          <a:xfrm>
            <a:off x="1579680" y="4494240"/>
            <a:ext cx="1266840" cy="4539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1509840" y="4468680"/>
            <a:ext cx="1155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C-update-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 txBox="1"/>
          <p:nvPr/>
        </p:nvSpPr>
        <p:spPr>
          <a:xfrm>
            <a:off x="1509840" y="4584600"/>
            <a:ext cx="687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C-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1509840" y="4700520"/>
            <a:ext cx="1427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UC-cancel-update-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316080" y="4494240"/>
            <a:ext cx="998640" cy="361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246240" y="4468680"/>
            <a:ext cx="1155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C-demand-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246240" y="4584600"/>
            <a:ext cx="658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C-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588960" y="4110120"/>
            <a:ext cx="4514760" cy="290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544680" y="7292880"/>
            <a:ext cx="465120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858960" y="5397480"/>
            <a:ext cx="995400" cy="81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17600" y="5403960"/>
            <a:ext cx="996840" cy="814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378320" y="5126040"/>
            <a:ext cx="72720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1495440" y="4440240"/>
            <a:ext cx="0" cy="9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1465200" y="535608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84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1465200" y="441000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0" y="120"/>
                </a:moveTo>
                <a:lnTo>
                  <a:pt x="160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398680" y="7691400"/>
            <a:ext cx="0" cy="798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2368440" y="847872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4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368440" y="765972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0" y="120"/>
                </a:moveTo>
                <a:lnTo>
                  <a:pt x="164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883040" y="444024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853160" y="508176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4853160" y="440676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3030480" y="444024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3000240" y="535932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164" y="0"/>
                </a:moveTo>
                <a:lnTo>
                  <a:pt x="0" y="0"/>
                </a:lnTo>
                <a:lnTo>
                  <a:pt x="84" y="120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3000240" y="441000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0" y="120"/>
                </a:moveTo>
                <a:lnTo>
                  <a:pt x="164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1044720" y="5492880"/>
            <a:ext cx="7142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 txBox="1"/>
          <p:nvPr/>
        </p:nvSpPr>
        <p:spPr>
          <a:xfrm>
            <a:off x="1184400" y="545796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1025640" y="565956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963720" y="59911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2308320" y="5581800"/>
            <a:ext cx="804960" cy="5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 txBox="1"/>
          <p:nvPr/>
        </p:nvSpPr>
        <p:spPr>
          <a:xfrm>
            <a:off x="2494080" y="554688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 txBox="1"/>
          <p:nvPr/>
        </p:nvSpPr>
        <p:spPr>
          <a:xfrm>
            <a:off x="2335320" y="574848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2227320" y="607860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855800" y="4141800"/>
            <a:ext cx="2252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2494080" y="410544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763640" y="7370640"/>
            <a:ext cx="2252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2419200" y="733428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2478240" y="391464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444760" y="388476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129" y="173"/>
                </a:moveTo>
                <a:lnTo>
                  <a:pt x="129" y="0"/>
                </a:lnTo>
                <a:lnTo>
                  <a:pt x="0" y="84"/>
                </a:lnTo>
                <a:lnTo>
                  <a:pt x="129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575080" y="3138480"/>
            <a:ext cx="1266840" cy="9064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2505240" y="3112920"/>
            <a:ext cx="125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 txBox="1"/>
          <p:nvPr/>
        </p:nvSpPr>
        <p:spPr>
          <a:xfrm>
            <a:off x="2505240" y="3228840"/>
            <a:ext cx="1195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2505240" y="3346560"/>
            <a:ext cx="754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2505240" y="3462480"/>
            <a:ext cx="1427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2505240" y="3578400"/>
            <a:ext cx="952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ser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2505240" y="3693960"/>
            <a:ext cx="1120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provider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2505240" y="3809880"/>
            <a:ext cx="1228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contra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4578480" y="5600520"/>
            <a:ext cx="420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4410000" y="580248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4916520" y="454644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4883040" y="451656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129" y="173"/>
                </a:moveTo>
                <a:lnTo>
                  <a:pt x="129" y="0"/>
                </a:lnTo>
                <a:lnTo>
                  <a:pt x="0" y="84"/>
                </a:lnTo>
                <a:lnTo>
                  <a:pt x="129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860560" y="45464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994120" y="451656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0" y="0"/>
                </a:moveTo>
                <a:lnTo>
                  <a:pt x="0" y="173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1309680" y="45464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1446120" y="451656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0" y="0"/>
                </a:moveTo>
                <a:lnTo>
                  <a:pt x="0" y="173"/>
                </a:lnTo>
                <a:lnTo>
                  <a:pt x="120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2428920" y="802008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398680" y="798984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4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2355840" y="3716280"/>
            <a:ext cx="0" cy="29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325600" y="400068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173" y="0"/>
                </a:moveTo>
                <a:lnTo>
                  <a:pt x="0" y="0"/>
                </a:lnTo>
                <a:lnTo>
                  <a:pt x="84" y="120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325600" y="368316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2575080" y="7835760"/>
            <a:ext cx="722160" cy="7239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 txBox="1"/>
          <p:nvPr/>
        </p:nvSpPr>
        <p:spPr>
          <a:xfrm>
            <a:off x="2505240" y="78105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2505240" y="79264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 txBox="1"/>
          <p:nvPr/>
        </p:nvSpPr>
        <p:spPr>
          <a:xfrm>
            <a:off x="2505240" y="804384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 txBox="1"/>
          <p:nvPr/>
        </p:nvSpPr>
        <p:spPr>
          <a:xfrm>
            <a:off x="2505240" y="8159760"/>
            <a:ext cx="698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2505240" y="827568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P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276880" y="535932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243400" y="5329080"/>
            <a:ext cx="46440" cy="60840"/>
          </a:xfrm>
          <a:custGeom>
            <a:avLst/>
            <a:gdLst/>
            <a:ahLst/>
            <a:rect l="0" t="0" r="r" b="b"/>
            <a:pathLst>
              <a:path w="129" h="169">
                <a:moveTo>
                  <a:pt x="129" y="169"/>
                </a:moveTo>
                <a:lnTo>
                  <a:pt x="129" y="0"/>
                </a:lnTo>
                <a:lnTo>
                  <a:pt x="0" y="84"/>
                </a:lnTo>
                <a:lnTo>
                  <a:pt x="129" y="16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5386320" y="527544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B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049720" y="4494240"/>
            <a:ext cx="995400" cy="361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 txBox="1"/>
          <p:nvPr/>
        </p:nvSpPr>
        <p:spPr>
          <a:xfrm>
            <a:off x="4979880" y="4468680"/>
            <a:ext cx="1069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B-provider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4979880" y="4584600"/>
            <a:ext cx="901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B-user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673280" y="623556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641600" y="723276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9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2755800" y="623556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725560" y="72327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84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318960" y="6532560"/>
            <a:ext cx="1177920" cy="2779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249120" y="6507000"/>
            <a:ext cx="11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nd_Initial (A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249120" y="6622920"/>
            <a:ext cx="1239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end_Normal (A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249120" y="69818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488960" y="665316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554120" y="6622920"/>
            <a:ext cx="44640" cy="60840"/>
          </a:xfrm>
          <a:custGeom>
            <a:avLst/>
            <a:gdLst/>
            <a:ahLst/>
            <a:rect l="0" t="0" r="r" b="b"/>
            <a:pathLst>
              <a:path w="124" h="169">
                <a:moveTo>
                  <a:pt x="0" y="0"/>
                </a:moveTo>
                <a:lnTo>
                  <a:pt x="0" y="169"/>
                </a:lnTo>
                <a:lnTo>
                  <a:pt x="12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495440" y="6756480"/>
            <a:ext cx="123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2712960" y="6726240"/>
            <a:ext cx="46440" cy="59040"/>
          </a:xfrm>
          <a:custGeom>
            <a:avLst/>
            <a:gdLst/>
            <a:ahLst/>
            <a:rect l="0" t="0" r="r" b="b"/>
            <a:pathLst>
              <a:path w="129" h="164">
                <a:moveTo>
                  <a:pt x="0" y="0"/>
                </a:moveTo>
                <a:lnTo>
                  <a:pt x="0" y="164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4578480" y="684540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716360" y="6815160"/>
            <a:ext cx="41760" cy="60840"/>
          </a:xfrm>
          <a:custGeom>
            <a:avLst/>
            <a:gdLst/>
            <a:ahLst/>
            <a:rect l="0" t="0" r="r" b="b"/>
            <a:pathLst>
              <a:path w="116" h="169">
                <a:moveTo>
                  <a:pt x="0" y="0"/>
                </a:moveTo>
                <a:lnTo>
                  <a:pt x="0" y="169"/>
                </a:lnTo>
                <a:lnTo>
                  <a:pt x="116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572000" y="660708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541760" y="724860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84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541760" y="65739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0" y="129"/>
                </a:moveTo>
                <a:lnTo>
                  <a:pt x="160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4745160" y="6661080"/>
            <a:ext cx="887400" cy="361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4675320" y="6635880"/>
            <a:ext cx="963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B_D-P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 txBox="1"/>
          <p:nvPr/>
        </p:nvSpPr>
        <p:spPr>
          <a:xfrm>
            <a:off x="4675320" y="675180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B_D-AB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4618080" y="671364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4584600" y="668340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129" y="173"/>
                </a:moveTo>
                <a:lnTo>
                  <a:pt x="129" y="0"/>
                </a:lnTo>
                <a:lnTo>
                  <a:pt x="0" y="84"/>
                </a:lnTo>
                <a:lnTo>
                  <a:pt x="129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2847960" y="6265800"/>
            <a:ext cx="0" cy="101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2820960" y="6232680"/>
            <a:ext cx="57600" cy="44640"/>
          </a:xfrm>
          <a:custGeom>
            <a:avLst/>
            <a:gdLst/>
            <a:ahLst/>
            <a:rect l="0" t="0" r="r" b="b"/>
            <a:pathLst>
              <a:path w="160" h="124">
                <a:moveTo>
                  <a:pt x="0" y="124"/>
                </a:moveTo>
                <a:lnTo>
                  <a:pt x="160" y="124"/>
                </a:lnTo>
                <a:lnTo>
                  <a:pt x="75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3044880" y="6913440"/>
            <a:ext cx="808200" cy="1843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2975040" y="6889680"/>
            <a:ext cx="833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xxx AP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2901960" y="6943680"/>
            <a:ext cx="14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868480" y="691200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129" y="173"/>
                </a:moveTo>
                <a:lnTo>
                  <a:pt x="129" y="0"/>
                </a:lnTo>
                <a:lnTo>
                  <a:pt x="0" y="89"/>
                </a:lnTo>
                <a:lnTo>
                  <a:pt x="129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870200" y="6913440"/>
            <a:ext cx="811080" cy="1843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1800360" y="6889680"/>
            <a:ext cx="833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xxx AP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1727280" y="694368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697040" y="691200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478320" y="5126040"/>
            <a:ext cx="722160" cy="144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 txBox="1"/>
          <p:nvPr/>
        </p:nvSpPr>
        <p:spPr>
          <a:xfrm>
            <a:off x="3629160" y="5600520"/>
            <a:ext cx="411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 txBox="1"/>
          <p:nvPr/>
        </p:nvSpPr>
        <p:spPr>
          <a:xfrm>
            <a:off x="3454560" y="5802480"/>
            <a:ext cx="76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029120" y="6607080"/>
            <a:ext cx="0" cy="68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998880" y="657396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0" y="129"/>
                </a:moveTo>
                <a:lnTo>
                  <a:pt x="169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529080" y="444024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3500280" y="508176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79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500280" y="440676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0" y="120"/>
                </a:moveTo>
                <a:lnTo>
                  <a:pt x="164" y="120"/>
                </a:lnTo>
                <a:lnTo>
                  <a:pt x="7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606840" y="4494240"/>
            <a:ext cx="1138320" cy="1825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 txBox="1"/>
          <p:nvPr/>
        </p:nvSpPr>
        <p:spPr>
          <a:xfrm>
            <a:off x="3537000" y="4468680"/>
            <a:ext cx="111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L-cancel-contra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3571920" y="47768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540240" y="474516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 flipV="1">
            <a:off x="3705120" y="467820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3863880" y="69436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3998880" y="6912000"/>
            <a:ext cx="46440" cy="62280"/>
          </a:xfrm>
          <a:custGeom>
            <a:avLst/>
            <a:gdLst/>
            <a:ahLst/>
            <a:rect l="0" t="0" r="r" b="b"/>
            <a:pathLst>
              <a:path w="129" h="173">
                <a:moveTo>
                  <a:pt x="0" y="0"/>
                </a:moveTo>
                <a:lnTo>
                  <a:pt x="0" y="173"/>
                </a:lnTo>
                <a:lnTo>
                  <a:pt x="129" y="8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608120" y="6265800"/>
            <a:ext cx="0" cy="101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1577880" y="6232680"/>
            <a:ext cx="60840" cy="44640"/>
          </a:xfrm>
          <a:custGeom>
            <a:avLst/>
            <a:gdLst/>
            <a:ahLst/>
            <a:rect l="0" t="0" r="r" b="b"/>
            <a:pathLst>
              <a:path w="169" h="124">
                <a:moveTo>
                  <a:pt x="0" y="124"/>
                </a:moveTo>
                <a:lnTo>
                  <a:pt x="169" y="124"/>
                </a:lnTo>
                <a:lnTo>
                  <a:pt x="84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6560" y="5130720"/>
            <a:ext cx="0" cy="19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79720" y="5130720"/>
            <a:ext cx="0" cy="19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65320" y="4675320"/>
            <a:ext cx="0" cy="24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62400" y="4675320"/>
            <a:ext cx="0" cy="24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32040" y="468936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52760" y="47037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79760" y="468324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19640" y="468936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17840" y="5216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59160" y="51768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2760" y="59007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57320" y="58644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057320" y="61722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9000" y="61358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265640" y="68612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95880" y="6819840"/>
            <a:ext cx="76680" cy="78120"/>
          </a:xfrm>
          <a:custGeom>
            <a:avLst/>
            <a:gdLst/>
            <a:ahLst/>
            <a:rect l="0" t="0" r="r" b="b"/>
            <a:pathLst>
              <a:path w="213" h="217">
                <a:moveTo>
                  <a:pt x="0" y="0"/>
                </a:moveTo>
                <a:lnTo>
                  <a:pt x="0" y="217"/>
                </a:lnTo>
                <a:lnTo>
                  <a:pt x="213" y="1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349800" y="5216400"/>
            <a:ext cx="909360" cy="300600"/>
            <a:chOff x="3349800" y="5216400"/>
            <a:chExt cx="909360" cy="300600"/>
          </a:xfrm>
        </p:grpSpPr>
        <p:sp>
          <p:nvSpPr>
            <p:cNvPr id="165" name=""/>
            <p:cNvSpPr/>
            <p:nvPr/>
          </p:nvSpPr>
          <p:spPr>
            <a:xfrm flipH="1">
              <a:off x="3987720" y="52164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2920" y="5487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9800" y="54579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621240" y="521640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073240" y="6172200"/>
            <a:ext cx="906840" cy="303840"/>
            <a:chOff x="2073240" y="6172200"/>
            <a:chExt cx="906840" cy="303840"/>
          </a:xfrm>
        </p:grpSpPr>
        <p:sp>
          <p:nvSpPr>
            <p:cNvPr id="170" name=""/>
            <p:cNvSpPr/>
            <p:nvPr/>
          </p:nvSpPr>
          <p:spPr>
            <a:xfrm>
              <a:off x="2073240" y="617220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708280" y="6445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38320" y="6415200"/>
              <a:ext cx="41760" cy="60840"/>
            </a:xfrm>
            <a:custGeom>
              <a:avLst/>
              <a:gdLst/>
              <a:ahLst/>
              <a:rect l="0" t="0" r="r" b="b"/>
              <a:pathLst>
                <a:path w="116" h="169">
                  <a:moveTo>
                    <a:pt x="0" y="0"/>
                  </a:moveTo>
                  <a:lnTo>
                    <a:pt x="0" y="169"/>
                  </a:lnTo>
                  <a:lnTo>
                    <a:pt x="11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57280" y="6172200"/>
              <a:ext cx="35100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073240" y="5632560"/>
            <a:ext cx="906480" cy="298800"/>
            <a:chOff x="2073240" y="5632560"/>
            <a:chExt cx="906480" cy="298800"/>
          </a:xfrm>
        </p:grpSpPr>
        <p:sp>
          <p:nvSpPr>
            <p:cNvPr id="175" name=""/>
            <p:cNvSpPr/>
            <p:nvPr/>
          </p:nvSpPr>
          <p:spPr>
            <a:xfrm flipH="1">
              <a:off x="2708280" y="5632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04920" y="5904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3240" y="587376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343240" y="56325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368520" y="6588000"/>
            <a:ext cx="910080" cy="300600"/>
            <a:chOff x="3368520" y="6588000"/>
            <a:chExt cx="910080" cy="300600"/>
          </a:xfrm>
        </p:grpSpPr>
        <p:sp>
          <p:nvSpPr>
            <p:cNvPr id="180" name=""/>
            <p:cNvSpPr/>
            <p:nvPr/>
          </p:nvSpPr>
          <p:spPr>
            <a:xfrm>
              <a:off x="3368520" y="6588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006800" y="68612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2160" y="68295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4360" y="6588000"/>
              <a:ext cx="3524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 txBox="1"/>
          <p:nvPr/>
        </p:nvSpPr>
        <p:spPr>
          <a:xfrm>
            <a:off x="4259160" y="503244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73560" y="668016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273560" y="6796080"/>
            <a:ext cx="1239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23960" y="568656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74640" y="599616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74640" y="6111720"/>
            <a:ext cx="1239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367080" y="503856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62240" y="54212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54320" y="6488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48160" y="639612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48080" y="55594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16400" y="652788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9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16400" y="552456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0" y="129"/>
                </a:moveTo>
                <a:lnTo>
                  <a:pt x="164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456000" y="59436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35400" y="54849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2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86080" y="550692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33880" y="552456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26" y="0"/>
                </a:moveTo>
                <a:lnTo>
                  <a:pt x="36" y="14"/>
                </a:lnTo>
                <a:lnTo>
                  <a:pt x="10" y="27"/>
                </a:lnTo>
                <a:lnTo>
                  <a:pt x="0" y="1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81320" y="55468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130560" y="55674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81240" y="55864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29040" y="560700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95560" y="558648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147" y="155"/>
                </a:moveTo>
                <a:lnTo>
                  <a:pt x="84" y="0"/>
                </a:lnTo>
                <a:lnTo>
                  <a:pt x="0" y="128"/>
                </a:lnTo>
                <a:lnTo>
                  <a:pt x="147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5560" y="64594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8120" y="64818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9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97080" y="64990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47840" y="65214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00400" y="65419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9720" y="65610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10" y="0"/>
                </a:moveTo>
                <a:lnTo>
                  <a:pt x="0" y="13"/>
                </a:lnTo>
                <a:lnTo>
                  <a:pt x="22" y="23"/>
                </a:lnTo>
                <a:lnTo>
                  <a:pt x="32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03720" y="65818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03720" y="656100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62" y="0"/>
                </a:moveTo>
                <a:lnTo>
                  <a:pt x="0" y="155"/>
                </a:lnTo>
                <a:lnTo>
                  <a:pt x="147" y="128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062760" y="5173560"/>
            <a:ext cx="525240" cy="1760760"/>
            <a:chOff x="6062760" y="5173560"/>
            <a:chExt cx="525240" cy="1760760"/>
          </a:xfrm>
        </p:grpSpPr>
        <p:grpSp>
          <p:nvGrpSpPr>
            <p:cNvPr id="215" name=""/>
            <p:cNvGrpSpPr/>
            <p:nvPr/>
          </p:nvGrpSpPr>
          <p:grpSpPr>
            <a:xfrm>
              <a:off x="6062760" y="5173560"/>
              <a:ext cx="187200" cy="1760760"/>
              <a:chOff x="6062760" y="5173560"/>
              <a:chExt cx="187200" cy="1760760"/>
            </a:xfrm>
          </p:grpSpPr>
          <p:sp>
            <p:nvSpPr>
              <p:cNvPr id="216" name=""/>
              <p:cNvSpPr/>
              <p:nvPr/>
            </p:nvSpPr>
            <p:spPr>
              <a:xfrm flipH="1">
                <a:off x="6157800" y="5173560"/>
                <a:ext cx="82800" cy="17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062760" y="6826320"/>
                <a:ext cx="9180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6157800" y="6826320"/>
                <a:ext cx="9216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81840" y="5186520"/>
                <a:ext cx="82440" cy="17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81840" y="5180040"/>
                <a:ext cx="9180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6141960" y="517356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 txBox="1"/>
            <p:nvPr/>
          </p:nvSpPr>
          <p:spPr>
            <a:xfrm>
              <a:off x="6288120" y="568656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6288120" y="584532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288120" y="600408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6288120" y="616428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3295800" y="7002360"/>
            <a:ext cx="907920" cy="300600"/>
            <a:chOff x="3295800" y="7002360"/>
            <a:chExt cx="907920" cy="300600"/>
          </a:xfrm>
        </p:grpSpPr>
        <p:sp>
          <p:nvSpPr>
            <p:cNvPr id="227" name=""/>
            <p:cNvSpPr/>
            <p:nvPr/>
          </p:nvSpPr>
          <p:spPr>
            <a:xfrm flipH="1">
              <a:off x="3933720" y="700236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330720" y="72709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95800" y="7240680"/>
              <a:ext cx="43200" cy="62280"/>
            </a:xfrm>
            <a:custGeom>
              <a:avLst/>
              <a:gdLst/>
              <a:ahLst/>
              <a:rect l="0" t="0" r="r" b="b"/>
              <a:pathLst>
                <a:path w="120" h="173">
                  <a:moveTo>
                    <a:pt x="120" y="173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568680" y="7002360"/>
              <a:ext cx="35100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3311640" y="686592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995480" y="72262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83000" y="7348680"/>
            <a:ext cx="0" cy="688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52760" y="80247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84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452760" y="73137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0" y="129"/>
                </a:moveTo>
                <a:lnTo>
                  <a:pt x="160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81400" y="725976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28840" y="728352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79880" y="7308720"/>
            <a:ext cx="16200" cy="8280"/>
          </a:xfrm>
          <a:custGeom>
            <a:avLst/>
            <a:gdLst/>
            <a:ahLst/>
            <a:rect l="0" t="0" r="r" b="b"/>
            <a:pathLst>
              <a:path w="45" h="23">
                <a:moveTo>
                  <a:pt x="34" y="0"/>
                </a:moveTo>
                <a:lnTo>
                  <a:pt x="45" y="10"/>
                </a:lnTo>
                <a:lnTo>
                  <a:pt x="11" y="23"/>
                </a:lnTo>
                <a:lnTo>
                  <a:pt x="0" y="1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733284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83040" y="735660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5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33720" y="738504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8"/>
                </a:lnTo>
                <a:lnTo>
                  <a:pt x="4" y="14"/>
                </a:lnTo>
                <a:lnTo>
                  <a:pt x="0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1160" y="74088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940120" y="7396200"/>
            <a:ext cx="54360" cy="52920"/>
          </a:xfrm>
          <a:custGeom>
            <a:avLst/>
            <a:gdLst/>
            <a:ahLst/>
            <a:rect l="0" t="0" r="r" b="b"/>
            <a:pathLst>
              <a:path w="151" h="147">
                <a:moveTo>
                  <a:pt x="151" y="147"/>
                </a:moveTo>
                <a:lnTo>
                  <a:pt x="75" y="0"/>
                </a:lnTo>
                <a:lnTo>
                  <a:pt x="0" y="129"/>
                </a:lnTo>
                <a:lnTo>
                  <a:pt x="151" y="14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664000" y="79516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0800" y="792180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0" y="0"/>
                </a:moveTo>
                <a:lnTo>
                  <a:pt x="0" y="173"/>
                </a:lnTo>
                <a:lnTo>
                  <a:pt x="120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14880" y="8083440"/>
            <a:ext cx="906480" cy="299160"/>
            <a:chOff x="3314880" y="8083440"/>
            <a:chExt cx="906480" cy="299160"/>
          </a:xfrm>
        </p:grpSpPr>
        <p:sp>
          <p:nvSpPr>
            <p:cNvPr id="247" name=""/>
            <p:cNvSpPr/>
            <p:nvPr/>
          </p:nvSpPr>
          <p:spPr>
            <a:xfrm>
              <a:off x="3314880" y="80834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949560" y="8352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78160" y="83250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98920" y="808344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 txBox="1"/>
          <p:nvPr/>
        </p:nvSpPr>
        <p:spPr>
          <a:xfrm>
            <a:off x="2050920" y="792648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181240" y="804240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460680" y="809640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460680" y="821376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03520" y="750744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08440" y="79516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960640" y="79707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30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13200" y="79884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7200" y="80074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9400" y="80247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30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71960" y="80438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22720" y="806292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19480" y="803736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53" y="0"/>
                </a:moveTo>
                <a:lnTo>
                  <a:pt x="0" y="155"/>
                </a:lnTo>
                <a:lnTo>
                  <a:pt x="147" y="120"/>
                </a:lnTo>
                <a:lnTo>
                  <a:pt x="5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30480" y="6545160"/>
            <a:ext cx="0" cy="40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03840" y="693576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164" y="0"/>
                </a:moveTo>
                <a:lnTo>
                  <a:pt x="0" y="0"/>
                </a:lnTo>
                <a:lnTo>
                  <a:pt x="74" y="120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03840" y="6512040"/>
            <a:ext cx="59040" cy="44640"/>
          </a:xfrm>
          <a:custGeom>
            <a:avLst/>
            <a:gdLst/>
            <a:ahLst/>
            <a:rect l="0" t="0" r="r" b="b"/>
            <a:pathLst>
              <a:path w="164" h="124">
                <a:moveTo>
                  <a:pt x="0" y="124"/>
                </a:moveTo>
                <a:lnTo>
                  <a:pt x="164" y="124"/>
                </a:lnTo>
                <a:lnTo>
                  <a:pt x="74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943440" y="6689880"/>
            <a:ext cx="2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79800" y="67071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90760" y="3978360"/>
            <a:ext cx="0" cy="41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24280" y="3978360"/>
            <a:ext cx="0" cy="41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08080" y="3522600"/>
            <a:ext cx="0" cy="486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05160" y="3522600"/>
            <a:ext cx="0" cy="486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78040" y="35370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498760" y="35481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27200" y="353052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67080" y="35370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60960" y="40622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03720" y="40226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58760" y="47466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1880" y="47102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001880" y="50180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932120" y="49816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208400" y="57056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40440" y="56656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295800" y="4062240"/>
            <a:ext cx="907920" cy="300600"/>
            <a:chOff x="3295800" y="4062240"/>
            <a:chExt cx="907920" cy="300600"/>
          </a:xfrm>
        </p:grpSpPr>
        <p:sp>
          <p:nvSpPr>
            <p:cNvPr id="286" name=""/>
            <p:cNvSpPr/>
            <p:nvPr/>
          </p:nvSpPr>
          <p:spPr>
            <a:xfrm flipH="1">
              <a:off x="3930480" y="4062240"/>
              <a:ext cx="27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27480" y="43354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95800" y="430380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120" y="164"/>
                  </a:moveTo>
                  <a:lnTo>
                    <a:pt x="120" y="0"/>
                  </a:lnTo>
                  <a:lnTo>
                    <a:pt x="0" y="89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565440" y="4062240"/>
              <a:ext cx="3542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017800" y="5018040"/>
            <a:ext cx="910080" cy="303480"/>
            <a:chOff x="2017800" y="5018040"/>
            <a:chExt cx="910080" cy="303480"/>
          </a:xfrm>
        </p:grpSpPr>
        <p:sp>
          <p:nvSpPr>
            <p:cNvPr id="291" name=""/>
            <p:cNvSpPr/>
            <p:nvPr/>
          </p:nvSpPr>
          <p:spPr>
            <a:xfrm>
              <a:off x="2017800" y="5018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655720" y="52894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81440" y="52592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01840" y="50180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017800" y="4478400"/>
            <a:ext cx="909720" cy="298800"/>
            <a:chOff x="2017800" y="4478400"/>
            <a:chExt cx="909720" cy="298800"/>
          </a:xfrm>
        </p:grpSpPr>
        <p:sp>
          <p:nvSpPr>
            <p:cNvPr id="296" name=""/>
            <p:cNvSpPr/>
            <p:nvPr/>
          </p:nvSpPr>
          <p:spPr>
            <a:xfrm flipH="1">
              <a:off x="2655720" y="4478400"/>
              <a:ext cx="2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50920" y="4749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17800" y="471960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129" y="160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289240" y="447840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301920" y="5433840"/>
            <a:ext cx="906840" cy="299160"/>
            <a:chOff x="3301920" y="5433840"/>
            <a:chExt cx="906840" cy="299160"/>
          </a:xfrm>
        </p:grpSpPr>
        <p:sp>
          <p:nvSpPr>
            <p:cNvPr id="301" name=""/>
            <p:cNvSpPr/>
            <p:nvPr/>
          </p:nvSpPr>
          <p:spPr>
            <a:xfrm>
              <a:off x="3301920" y="5433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3940200" y="57056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65560" y="56754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86320" y="5433840"/>
              <a:ext cx="353880" cy="27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 txBox="1"/>
          <p:nvPr/>
        </p:nvSpPr>
        <p:spPr>
          <a:xfrm>
            <a:off x="4214880" y="388620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214880" y="552132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14880" y="5638680"/>
            <a:ext cx="14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positive 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92280" y="453852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3360" y="484992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3360" y="4965840"/>
            <a:ext cx="14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positive 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381480" y="387504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144880" y="428148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00400" y="484020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603520" y="4956120"/>
            <a:ext cx="32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440160" y="524016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004760" y="57913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35000" y="57513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208400" y="64753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0440" y="643572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17800" y="5791320"/>
            <a:ext cx="906840" cy="298800"/>
            <a:chOff x="2017800" y="5791320"/>
            <a:chExt cx="906840" cy="298800"/>
          </a:xfrm>
        </p:grpSpPr>
        <p:sp>
          <p:nvSpPr>
            <p:cNvPr id="321" name=""/>
            <p:cNvSpPr/>
            <p:nvPr/>
          </p:nvSpPr>
          <p:spPr>
            <a:xfrm>
              <a:off x="2017800" y="579132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2652840" y="6059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81440" y="603252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01840" y="579132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301920" y="6205680"/>
            <a:ext cx="910080" cy="300240"/>
            <a:chOff x="3301920" y="6205680"/>
            <a:chExt cx="910080" cy="300240"/>
          </a:xfrm>
        </p:grpSpPr>
        <p:sp>
          <p:nvSpPr>
            <p:cNvPr id="326" name=""/>
            <p:cNvSpPr/>
            <p:nvPr/>
          </p:nvSpPr>
          <p:spPr>
            <a:xfrm>
              <a:off x="3301920" y="62056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940200" y="64753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65560" y="64436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89200" y="6205680"/>
              <a:ext cx="351000" cy="26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 txBox="1"/>
          <p:nvPr/>
        </p:nvSpPr>
        <p:spPr>
          <a:xfrm>
            <a:off x="4214880" y="623556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131840" y="557064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981080" y="556884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02000" y="605160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90840" y="440532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60600" y="532116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60600" y="4371840"/>
            <a:ext cx="60840" cy="44640"/>
          </a:xfrm>
          <a:custGeom>
            <a:avLst/>
            <a:gdLst/>
            <a:ahLst/>
            <a:rect l="0" t="0" r="r" b="b"/>
            <a:pathLst>
              <a:path w="169" h="124">
                <a:moveTo>
                  <a:pt x="0" y="124"/>
                </a:moveTo>
                <a:lnTo>
                  <a:pt x="169" y="124"/>
                </a:lnTo>
                <a:lnTo>
                  <a:pt x="84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83000" y="440532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52760" y="613584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160" y="0"/>
                </a:moveTo>
                <a:lnTo>
                  <a:pt x="0" y="0"/>
                </a:lnTo>
                <a:lnTo>
                  <a:pt x="84" y="120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52760" y="4371840"/>
            <a:ext cx="57600" cy="44640"/>
          </a:xfrm>
          <a:custGeom>
            <a:avLst/>
            <a:gdLst/>
            <a:ahLst/>
            <a:rect l="0" t="0" r="r" b="b"/>
            <a:pathLst>
              <a:path w="160" h="124">
                <a:moveTo>
                  <a:pt x="0" y="124"/>
                </a:moveTo>
                <a:lnTo>
                  <a:pt x="160" y="124"/>
                </a:lnTo>
                <a:lnTo>
                  <a:pt x="84" y="0"/>
                </a:lnTo>
                <a:lnTo>
                  <a:pt x="0" y="1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490920" y="569124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994120" y="46990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78160" y="43689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8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25960" y="43830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171960" y="440208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28" y="0"/>
                </a:moveTo>
                <a:lnTo>
                  <a:pt x="32" y="8"/>
                </a:lnTo>
                <a:lnTo>
                  <a:pt x="4" y="10"/>
                </a:lnTo>
                <a:lnTo>
                  <a:pt x="0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19400" y="44164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0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67200" y="443232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13200" y="4451400"/>
            <a:ext cx="11520" cy="1800"/>
          </a:xfrm>
          <a:custGeom>
            <a:avLst/>
            <a:gdLst/>
            <a:ahLst/>
            <a:rect l="0" t="0" r="r" b="b"/>
            <a:pathLst>
              <a:path w="32" h="5">
                <a:moveTo>
                  <a:pt x="28" y="0"/>
                </a:moveTo>
                <a:lnTo>
                  <a:pt x="32" y="4"/>
                </a:lnTo>
                <a:lnTo>
                  <a:pt x="4" y="5"/>
                </a:lnTo>
                <a:lnTo>
                  <a:pt x="0" y="1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67120" y="4465800"/>
            <a:ext cx="5040" cy="3600"/>
          </a:xfrm>
          <a:custGeom>
            <a:avLst/>
            <a:gdLst/>
            <a:ahLst/>
            <a:rect l="0" t="0" r="r" b="b"/>
            <a:pathLst>
              <a:path w="14" h="10">
                <a:moveTo>
                  <a:pt x="12" y="0"/>
                </a:moveTo>
                <a:lnTo>
                  <a:pt x="14" y="8"/>
                </a:lnTo>
                <a:lnTo>
                  <a:pt x="2" y="10"/>
                </a:lnTo>
                <a:lnTo>
                  <a:pt x="0" y="3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40120" y="4438800"/>
            <a:ext cx="51120" cy="57600"/>
          </a:xfrm>
          <a:custGeom>
            <a:avLst/>
            <a:gdLst/>
            <a:ahLst/>
            <a:rect l="0" t="0" r="r" b="b"/>
            <a:pathLst>
              <a:path w="142" h="160">
                <a:moveTo>
                  <a:pt x="142" y="160"/>
                </a:moveTo>
                <a:lnTo>
                  <a:pt x="93" y="0"/>
                </a:lnTo>
                <a:lnTo>
                  <a:pt x="0" y="121"/>
                </a:lnTo>
                <a:lnTo>
                  <a:pt x="142" y="1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40120" y="53053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90880" y="53244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43080" y="53420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95640" y="5361120"/>
            <a:ext cx="11520" cy="1800"/>
          </a:xfrm>
          <a:custGeom>
            <a:avLst/>
            <a:gdLst/>
            <a:ahLst/>
            <a:rect l="0" t="0" r="r" b="b"/>
            <a:pathLst>
              <a:path w="32" h="5">
                <a:moveTo>
                  <a:pt x="4" y="0"/>
                </a:moveTo>
                <a:lnTo>
                  <a:pt x="0" y="4"/>
                </a:lnTo>
                <a:lnTo>
                  <a:pt x="28" y="5"/>
                </a:lnTo>
                <a:lnTo>
                  <a:pt x="32" y="1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46400" y="53751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98960" y="539424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51160" y="54118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247920" y="539100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57" y="0"/>
                </a:moveTo>
                <a:lnTo>
                  <a:pt x="0" y="155"/>
                </a:lnTo>
                <a:lnTo>
                  <a:pt x="142" y="12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40120" y="60753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90880" y="60930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3080" y="61117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8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095640" y="61293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146400" y="614844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61657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51160" y="61848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47920" y="615960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57" y="0"/>
                </a:moveTo>
                <a:lnTo>
                  <a:pt x="0" y="155"/>
                </a:lnTo>
                <a:lnTo>
                  <a:pt x="142" y="12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119640" y="4832280"/>
            <a:ext cx="522360" cy="1758960"/>
            <a:chOff x="6119640" y="4832280"/>
            <a:chExt cx="522360" cy="1758960"/>
          </a:xfrm>
        </p:grpSpPr>
        <p:grpSp>
          <p:nvGrpSpPr>
            <p:cNvPr id="367" name=""/>
            <p:cNvGrpSpPr/>
            <p:nvPr/>
          </p:nvGrpSpPr>
          <p:grpSpPr>
            <a:xfrm>
              <a:off x="6119640" y="4832280"/>
              <a:ext cx="182880" cy="1758960"/>
              <a:chOff x="6119640" y="4832280"/>
              <a:chExt cx="182880" cy="175896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6215040" y="4832280"/>
                <a:ext cx="79560" cy="173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19640" y="6483240"/>
                <a:ext cx="8892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215040" y="6483240"/>
                <a:ext cx="87480" cy="10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400" bIns="50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37280" y="4844880"/>
                <a:ext cx="79200" cy="17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137280" y="483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199200" y="483228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 txBox="1"/>
            <p:nvPr/>
          </p:nvSpPr>
          <p:spPr>
            <a:xfrm>
              <a:off x="6342120" y="534672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342120" y="550548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6342120" y="566424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6342120" y="582300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H="1">
            <a:off x="2685960" y="742968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652840" y="7402680"/>
            <a:ext cx="46440" cy="59040"/>
          </a:xfrm>
          <a:custGeom>
            <a:avLst/>
            <a:gdLst/>
            <a:ahLst/>
            <a:rect l="0" t="0" r="r" b="b"/>
            <a:pathLst>
              <a:path w="129" h="164">
                <a:moveTo>
                  <a:pt x="129" y="164"/>
                </a:moveTo>
                <a:lnTo>
                  <a:pt x="129" y="0"/>
                </a:lnTo>
                <a:lnTo>
                  <a:pt x="0" y="74"/>
                </a:lnTo>
                <a:lnTo>
                  <a:pt x="129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290760" y="4824360"/>
            <a:ext cx="0" cy="277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24280" y="4824360"/>
            <a:ext cx="0" cy="277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008080" y="4368960"/>
            <a:ext cx="0" cy="324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205160" y="4368960"/>
            <a:ext cx="0" cy="324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78040" y="43830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498760" y="43941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527200" y="43768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67080" y="43830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0960" y="49100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03720" y="48704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58760" y="5594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01880" y="55576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001880" y="58658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32120" y="58294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208400" y="65530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140440" y="65134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295800" y="4910040"/>
            <a:ext cx="907920" cy="299160"/>
            <a:chOff x="3295800" y="4910040"/>
            <a:chExt cx="907920" cy="299160"/>
          </a:xfrm>
        </p:grpSpPr>
        <p:sp>
          <p:nvSpPr>
            <p:cNvPr id="397" name=""/>
            <p:cNvSpPr/>
            <p:nvPr/>
          </p:nvSpPr>
          <p:spPr>
            <a:xfrm flipH="1">
              <a:off x="3930480" y="4910040"/>
              <a:ext cx="27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27480" y="51814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95800" y="51516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3565440" y="491004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017800" y="5865840"/>
            <a:ext cx="910080" cy="302040"/>
            <a:chOff x="2017800" y="5865840"/>
            <a:chExt cx="910080" cy="302040"/>
          </a:xfrm>
        </p:grpSpPr>
        <p:sp>
          <p:nvSpPr>
            <p:cNvPr id="402" name=""/>
            <p:cNvSpPr/>
            <p:nvPr/>
          </p:nvSpPr>
          <p:spPr>
            <a:xfrm>
              <a:off x="2017800" y="5865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655720" y="61372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81440" y="61070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01840" y="58658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017800" y="5324400"/>
            <a:ext cx="909720" cy="300240"/>
            <a:chOff x="2017800" y="5324400"/>
            <a:chExt cx="909720" cy="300240"/>
          </a:xfrm>
        </p:grpSpPr>
        <p:sp>
          <p:nvSpPr>
            <p:cNvPr id="407" name=""/>
            <p:cNvSpPr/>
            <p:nvPr/>
          </p:nvSpPr>
          <p:spPr>
            <a:xfrm flipH="1">
              <a:off x="2655720" y="5324400"/>
              <a:ext cx="2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0920" y="55976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17800" y="556560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9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289240" y="5324400"/>
              <a:ext cx="3506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301920" y="6281640"/>
            <a:ext cx="906840" cy="299160"/>
            <a:chOff x="3301920" y="6281640"/>
            <a:chExt cx="906840" cy="299160"/>
          </a:xfrm>
        </p:grpSpPr>
        <p:sp>
          <p:nvSpPr>
            <p:cNvPr id="412" name=""/>
            <p:cNvSpPr/>
            <p:nvPr/>
          </p:nvSpPr>
          <p:spPr>
            <a:xfrm>
              <a:off x="3301920" y="62816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940200" y="6553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65560" y="65232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6320" y="62816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4214880" y="473220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08400" y="636912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08400" y="6485040"/>
            <a:ext cx="601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208400" y="660240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92280" y="5367240"/>
            <a:ext cx="1380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512640" y="5697360"/>
            <a:ext cx="138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demand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512640" y="5813280"/>
            <a:ext cx="14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positive 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219480" y="473076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209680" y="50943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2178000" y="56563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490920" y="59072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004760" y="66387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35000" y="65991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4208400" y="73231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0440" y="728352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017800" y="6638760"/>
            <a:ext cx="906840" cy="299160"/>
            <a:chOff x="2017800" y="6638760"/>
            <a:chExt cx="906840" cy="299160"/>
          </a:xfrm>
        </p:grpSpPr>
        <p:sp>
          <p:nvSpPr>
            <p:cNvPr id="432" name=""/>
            <p:cNvSpPr/>
            <p:nvPr/>
          </p:nvSpPr>
          <p:spPr>
            <a:xfrm>
              <a:off x="2017800" y="663876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652840" y="69073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81440" y="688032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01840" y="6638760"/>
              <a:ext cx="351000" cy="27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301920" y="7053120"/>
            <a:ext cx="910080" cy="300600"/>
            <a:chOff x="3301920" y="7053120"/>
            <a:chExt cx="910080" cy="300600"/>
          </a:xfrm>
        </p:grpSpPr>
        <p:sp>
          <p:nvSpPr>
            <p:cNvPr id="437" name=""/>
            <p:cNvSpPr/>
            <p:nvPr/>
          </p:nvSpPr>
          <p:spPr>
            <a:xfrm>
              <a:off x="3301920" y="7053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3940200" y="7323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65560" y="729288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9200" y="7053120"/>
              <a:ext cx="35100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"/>
          <p:cNvSpPr txBox="1"/>
          <p:nvPr/>
        </p:nvSpPr>
        <p:spPr>
          <a:xfrm>
            <a:off x="4214880" y="708516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144440" y="645156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2157480" y="64357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40240" y="68594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90840" y="5251320"/>
            <a:ext cx="0" cy="9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60600" y="616752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360600" y="521820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0" y="129"/>
                </a:moveTo>
                <a:lnTo>
                  <a:pt x="169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83000" y="5251320"/>
            <a:ext cx="0" cy="1741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452760" y="698328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160" y="0"/>
                </a:moveTo>
                <a:lnTo>
                  <a:pt x="0" y="0"/>
                </a:lnTo>
                <a:lnTo>
                  <a:pt x="84" y="120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52760" y="521820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0" y="129"/>
                </a:moveTo>
                <a:lnTo>
                  <a:pt x="160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490920" y="653904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2951280" y="55468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D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8160" y="52149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25960" y="52308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171960" y="524844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28" y="0"/>
                </a:moveTo>
                <a:lnTo>
                  <a:pt x="32" y="8"/>
                </a:lnTo>
                <a:lnTo>
                  <a:pt x="4" y="10"/>
                </a:lnTo>
                <a:lnTo>
                  <a:pt x="0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19400" y="52642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0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67200" y="528012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8"/>
                </a:lnTo>
                <a:lnTo>
                  <a:pt x="5" y="14"/>
                </a:lnTo>
                <a:lnTo>
                  <a:pt x="0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013200" y="529740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28" y="0"/>
                </a:moveTo>
                <a:lnTo>
                  <a:pt x="32" y="8"/>
                </a:lnTo>
                <a:lnTo>
                  <a:pt x="4" y="10"/>
                </a:lnTo>
                <a:lnTo>
                  <a:pt x="0" y="3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967120" y="5313240"/>
            <a:ext cx="5040" cy="1800"/>
          </a:xfrm>
          <a:custGeom>
            <a:avLst/>
            <a:gdLst/>
            <a:ahLst/>
            <a:rect l="0" t="0" r="r" b="b"/>
            <a:pathLst>
              <a:path w="14" h="5">
                <a:moveTo>
                  <a:pt x="12" y="0"/>
                </a:moveTo>
                <a:lnTo>
                  <a:pt x="14" y="4"/>
                </a:lnTo>
                <a:lnTo>
                  <a:pt x="2" y="5"/>
                </a:lnTo>
                <a:lnTo>
                  <a:pt x="0" y="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40120" y="5284800"/>
            <a:ext cx="51120" cy="59040"/>
          </a:xfrm>
          <a:custGeom>
            <a:avLst/>
            <a:gdLst/>
            <a:ahLst/>
            <a:rect l="0" t="0" r="r" b="b"/>
            <a:pathLst>
              <a:path w="142" h="164">
                <a:moveTo>
                  <a:pt x="142" y="164"/>
                </a:moveTo>
                <a:lnTo>
                  <a:pt x="93" y="0"/>
                </a:lnTo>
                <a:lnTo>
                  <a:pt x="0" y="120"/>
                </a:lnTo>
                <a:lnTo>
                  <a:pt x="142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940120" y="61531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990880" y="61707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43080" y="61898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095640" y="6207120"/>
            <a:ext cx="11520" cy="3600"/>
          </a:xfrm>
          <a:custGeom>
            <a:avLst/>
            <a:gdLst/>
            <a:ahLst/>
            <a:rect l="0" t="0" r="r" b="b"/>
            <a:pathLst>
              <a:path w="32" h="10">
                <a:moveTo>
                  <a:pt x="4" y="0"/>
                </a:moveTo>
                <a:lnTo>
                  <a:pt x="0" y="8"/>
                </a:lnTo>
                <a:lnTo>
                  <a:pt x="28" y="10"/>
                </a:lnTo>
                <a:lnTo>
                  <a:pt x="32" y="3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146400" y="62229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198960" y="624204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51160" y="6259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7920" y="623880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1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40120" y="69231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8"/>
                </a:lnTo>
                <a:lnTo>
                  <a:pt x="28" y="14"/>
                </a:lnTo>
                <a:lnTo>
                  <a:pt x="32" y="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90880" y="69404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043080" y="69595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95640" y="69771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46400" y="699624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98960" y="70135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51160" y="70326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47920" y="700884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1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119640" y="5227560"/>
            <a:ext cx="522360" cy="1758960"/>
            <a:chOff x="6119640" y="5227560"/>
            <a:chExt cx="522360" cy="1758960"/>
          </a:xfrm>
        </p:grpSpPr>
        <p:grpSp>
          <p:nvGrpSpPr>
            <p:cNvPr id="478" name=""/>
            <p:cNvGrpSpPr/>
            <p:nvPr/>
          </p:nvGrpSpPr>
          <p:grpSpPr>
            <a:xfrm>
              <a:off x="6119640" y="5227560"/>
              <a:ext cx="182880" cy="1758960"/>
              <a:chOff x="6119640" y="5227560"/>
              <a:chExt cx="182880" cy="1758960"/>
            </a:xfrm>
          </p:grpSpPr>
          <p:sp>
            <p:nvSpPr>
              <p:cNvPr id="479" name=""/>
              <p:cNvSpPr/>
              <p:nvPr/>
            </p:nvSpPr>
            <p:spPr>
              <a:xfrm flipH="1">
                <a:off x="6215040" y="5227560"/>
                <a:ext cx="79560" cy="173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19640" y="6880320"/>
                <a:ext cx="889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6215040" y="6880320"/>
                <a:ext cx="8748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137280" y="5240160"/>
                <a:ext cx="79200" cy="172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137280" y="5234040"/>
                <a:ext cx="8892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199200" y="522756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 txBox="1"/>
            <p:nvPr/>
          </p:nvSpPr>
          <p:spPr>
            <a:xfrm>
              <a:off x="6342120" y="574344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6342120" y="590220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6342120" y="606096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6342120" y="621972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854440" y="1790640"/>
            <a:ext cx="0" cy="648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87600" y="1790640"/>
            <a:ext cx="0" cy="6488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71760" y="1336680"/>
            <a:ext cx="0" cy="695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70280" y="1336680"/>
            <a:ext cx="0" cy="6956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39560" y="13492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060640" y="136224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087640" y="134460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27520" y="134928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24280" y="18763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767040" y="183672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9200" y="256068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5200" y="25239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65200" y="28321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95440" y="27957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772080" y="35179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03760" y="34783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857680" y="1876320"/>
            <a:ext cx="909360" cy="299160"/>
            <a:chOff x="2857680" y="1876320"/>
            <a:chExt cx="909360" cy="299160"/>
          </a:xfrm>
        </p:grpSpPr>
        <p:sp>
          <p:nvSpPr>
            <p:cNvPr id="506" name=""/>
            <p:cNvSpPr/>
            <p:nvPr/>
          </p:nvSpPr>
          <p:spPr>
            <a:xfrm flipH="1">
              <a:off x="3495600" y="18763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90800" y="2147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57680" y="211788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129" y="160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3129120" y="187632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581120" y="2832120"/>
            <a:ext cx="906840" cy="302040"/>
            <a:chOff x="1581120" y="2832120"/>
            <a:chExt cx="906840" cy="302040"/>
          </a:xfrm>
        </p:grpSpPr>
        <p:sp>
          <p:nvSpPr>
            <p:cNvPr id="511" name=""/>
            <p:cNvSpPr/>
            <p:nvPr/>
          </p:nvSpPr>
          <p:spPr>
            <a:xfrm>
              <a:off x="1581120" y="283212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2216160" y="31035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444760" y="307332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0" y="0"/>
                  </a:moveTo>
                  <a:lnTo>
                    <a:pt x="0" y="169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865160" y="283212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581120" y="2290680"/>
            <a:ext cx="906480" cy="300600"/>
            <a:chOff x="1581120" y="2290680"/>
            <a:chExt cx="906480" cy="300600"/>
          </a:xfrm>
        </p:grpSpPr>
        <p:sp>
          <p:nvSpPr>
            <p:cNvPr id="516" name=""/>
            <p:cNvSpPr/>
            <p:nvPr/>
          </p:nvSpPr>
          <p:spPr>
            <a:xfrm flipH="1">
              <a:off x="2216160" y="22906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11360" y="25639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81120" y="253224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120" y="164"/>
                  </a:moveTo>
                  <a:lnTo>
                    <a:pt x="120" y="0"/>
                  </a:lnTo>
                  <a:lnTo>
                    <a:pt x="0" y="89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849320" y="2290680"/>
              <a:ext cx="3542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863800" y="3246480"/>
            <a:ext cx="908280" cy="298800"/>
            <a:chOff x="2863800" y="3246480"/>
            <a:chExt cx="908280" cy="298800"/>
          </a:xfrm>
        </p:grpSpPr>
        <p:sp>
          <p:nvSpPr>
            <p:cNvPr id="521" name=""/>
            <p:cNvSpPr/>
            <p:nvPr/>
          </p:nvSpPr>
          <p:spPr>
            <a:xfrm>
              <a:off x="2863800" y="3246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500280" y="35179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27440" y="3487680"/>
              <a:ext cx="44640" cy="57600"/>
            </a:xfrm>
            <a:custGeom>
              <a:avLst/>
              <a:gdLst/>
              <a:ahLst/>
              <a:rect l="0" t="0" r="r" b="b"/>
              <a:pathLst>
                <a:path w="124" h="160">
                  <a:moveTo>
                    <a:pt x="0" y="0"/>
                  </a:moveTo>
                  <a:lnTo>
                    <a:pt x="0" y="160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49640" y="324648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 txBox="1"/>
          <p:nvPr/>
        </p:nvSpPr>
        <p:spPr>
          <a:xfrm>
            <a:off x="3778200" y="169848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55600" y="233352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41200" y="264168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41200" y="2757600"/>
            <a:ext cx="120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41200" y="2873520"/>
            <a:ext cx="1014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874960" y="169704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708200" y="206064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865160" y="26319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166840" y="2747880"/>
            <a:ext cx="32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874960" y="305280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71400" y="342252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766880" y="34210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71680" y="378936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01920" y="374976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774960" y="447372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07000" y="44370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1584360" y="3789360"/>
            <a:ext cx="910080" cy="300240"/>
            <a:chOff x="1584360" y="3789360"/>
            <a:chExt cx="910080" cy="300240"/>
          </a:xfrm>
        </p:grpSpPr>
        <p:sp>
          <p:nvSpPr>
            <p:cNvPr id="542" name=""/>
            <p:cNvSpPr/>
            <p:nvPr/>
          </p:nvSpPr>
          <p:spPr>
            <a:xfrm>
              <a:off x="1584360" y="37893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2222640" y="40608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48000" y="40305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71640" y="378936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2871720" y="4205160"/>
            <a:ext cx="910080" cy="298800"/>
            <a:chOff x="2871720" y="4205160"/>
            <a:chExt cx="910080" cy="298800"/>
          </a:xfrm>
        </p:grpSpPr>
        <p:sp>
          <p:nvSpPr>
            <p:cNvPr id="547" name=""/>
            <p:cNvSpPr/>
            <p:nvPr/>
          </p:nvSpPr>
          <p:spPr>
            <a:xfrm>
              <a:off x="2871720" y="4205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510000" y="44737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5360" y="444492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156120" y="42051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 txBox="1"/>
          <p:nvPr/>
        </p:nvSpPr>
        <p:spPr>
          <a:xfrm>
            <a:off x="3784680" y="447660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5200" y="4665600"/>
            <a:ext cx="1679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838600" y="44625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71680" y="361008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501920" y="35701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774960" y="429264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07000" y="42559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584360" y="3610080"/>
            <a:ext cx="910080" cy="298800"/>
            <a:chOff x="1584360" y="3610080"/>
            <a:chExt cx="910080" cy="298800"/>
          </a:xfrm>
        </p:grpSpPr>
        <p:sp>
          <p:nvSpPr>
            <p:cNvPr id="559" name=""/>
            <p:cNvSpPr/>
            <p:nvPr/>
          </p:nvSpPr>
          <p:spPr>
            <a:xfrm>
              <a:off x="1584360" y="3610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222640" y="38782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48000" y="385128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0" y="0"/>
                  </a:moveTo>
                  <a:lnTo>
                    <a:pt x="0" y="160"/>
                  </a:lnTo>
                  <a:lnTo>
                    <a:pt x="129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71640" y="361008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871720" y="4024440"/>
            <a:ext cx="910080" cy="300240"/>
            <a:chOff x="2871720" y="4024440"/>
            <a:chExt cx="910080" cy="300240"/>
          </a:xfrm>
        </p:grpSpPr>
        <p:sp>
          <p:nvSpPr>
            <p:cNvPr id="564" name=""/>
            <p:cNvSpPr/>
            <p:nvPr/>
          </p:nvSpPr>
          <p:spPr>
            <a:xfrm>
              <a:off x="2871720" y="4024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510000" y="42926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35360" y="426240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56120" y="4024440"/>
              <a:ext cx="35388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 txBox="1"/>
          <p:nvPr/>
        </p:nvSpPr>
        <p:spPr>
          <a:xfrm>
            <a:off x="3778200" y="411012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76360" y="397512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08040" y="39387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590840" y="3975120"/>
            <a:ext cx="909720" cy="303480"/>
            <a:chOff x="1590840" y="3975120"/>
            <a:chExt cx="909720" cy="303480"/>
          </a:xfrm>
        </p:grpSpPr>
        <p:sp>
          <p:nvSpPr>
            <p:cNvPr id="572" name=""/>
            <p:cNvSpPr/>
            <p:nvPr/>
          </p:nvSpPr>
          <p:spPr>
            <a:xfrm>
              <a:off x="1590840" y="3975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2228760" y="4248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54120" y="421632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78120" y="3975120"/>
              <a:ext cx="35064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878200" y="4390920"/>
            <a:ext cx="910080" cy="299160"/>
            <a:chOff x="2878200" y="4390920"/>
            <a:chExt cx="910080" cy="299160"/>
          </a:xfrm>
        </p:grpSpPr>
        <p:sp>
          <p:nvSpPr>
            <p:cNvPr id="577" name=""/>
            <p:cNvSpPr/>
            <p:nvPr/>
          </p:nvSpPr>
          <p:spPr>
            <a:xfrm>
              <a:off x="2878200" y="43909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516480" y="4662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41840" y="463248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0" y="0"/>
                  </a:moveTo>
                  <a:lnTo>
                    <a:pt x="0" y="160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62240" y="439092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 flipH="1">
            <a:off x="3781440" y="46623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713120" y="46227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41480" y="21448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92520" y="216684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8"/>
                </a:lnTo>
                <a:lnTo>
                  <a:pt x="4" y="14"/>
                </a:lnTo>
                <a:lnTo>
                  <a:pt x="0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741760" y="21844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7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89200" y="22068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8"/>
                </a:lnTo>
                <a:lnTo>
                  <a:pt x="4" y="14"/>
                </a:lnTo>
                <a:lnTo>
                  <a:pt x="0" y="4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37000" y="222732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87680" y="224640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26" y="0"/>
                </a:moveTo>
                <a:lnTo>
                  <a:pt x="36" y="10"/>
                </a:lnTo>
                <a:lnTo>
                  <a:pt x="10" y="23"/>
                </a:lnTo>
                <a:lnTo>
                  <a:pt x="0" y="1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36920" y="226692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3440" y="224640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142" y="151"/>
                </a:moveTo>
                <a:lnTo>
                  <a:pt x="84" y="0"/>
                </a:lnTo>
                <a:lnTo>
                  <a:pt x="0" y="121"/>
                </a:lnTo>
                <a:lnTo>
                  <a:pt x="142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487600" y="30942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40160" y="311472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87680" y="313380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10" y="0"/>
                </a:moveTo>
                <a:lnTo>
                  <a:pt x="0" y="13"/>
                </a:lnTo>
                <a:lnTo>
                  <a:pt x="26" y="23"/>
                </a:lnTo>
                <a:lnTo>
                  <a:pt x="36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39880" y="315432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92440" y="317664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41760" y="319392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795760" y="321624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795760" y="319716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62" y="0"/>
                </a:moveTo>
                <a:lnTo>
                  <a:pt x="0" y="155"/>
                </a:lnTo>
                <a:lnTo>
                  <a:pt x="147" y="120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87600" y="38656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40160" y="38876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87680" y="390528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639880" y="39276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92440" y="39481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741760" y="39672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0"/>
                </a:lnTo>
                <a:lnTo>
                  <a:pt x="22" y="23"/>
                </a:lnTo>
                <a:lnTo>
                  <a:pt x="32" y="1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795760" y="39877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795760" y="396720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29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87600" y="40734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540160" y="40942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585880" y="411624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7" y="0"/>
                </a:moveTo>
                <a:lnTo>
                  <a:pt x="0" y="13"/>
                </a:lnTo>
                <a:lnTo>
                  <a:pt x="30" y="23"/>
                </a:lnTo>
                <a:lnTo>
                  <a:pt x="41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37000" y="413712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685960" y="415908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11" y="0"/>
                </a:moveTo>
                <a:lnTo>
                  <a:pt x="0" y="13"/>
                </a:lnTo>
                <a:lnTo>
                  <a:pt x="33" y="23"/>
                </a:lnTo>
                <a:lnTo>
                  <a:pt x="41" y="13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38520" y="417996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0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789280" y="420228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10" y="0"/>
                </a:moveTo>
                <a:lnTo>
                  <a:pt x="0" y="10"/>
                </a:lnTo>
                <a:lnTo>
                  <a:pt x="26" y="23"/>
                </a:lnTo>
                <a:lnTo>
                  <a:pt x="36" y="1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95760" y="418320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71" y="0"/>
                </a:moveTo>
                <a:lnTo>
                  <a:pt x="0" y="155"/>
                </a:lnTo>
                <a:lnTo>
                  <a:pt x="147" y="128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7600" y="42530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40160" y="42750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9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87680" y="429264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639880" y="43149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92440" y="43354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1760" y="435456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3"/>
                </a:lnTo>
                <a:lnTo>
                  <a:pt x="22" y="23"/>
                </a:lnTo>
                <a:lnTo>
                  <a:pt x="32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95760" y="43750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795760" y="435456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21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830760" y="48672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771720" y="4827600"/>
            <a:ext cx="78120" cy="76680"/>
          </a:xfrm>
          <a:custGeom>
            <a:avLst/>
            <a:gdLst/>
            <a:ahLst/>
            <a:rect l="0" t="0" r="r" b="b"/>
            <a:pathLst>
              <a:path w="217" h="213">
                <a:moveTo>
                  <a:pt x="217" y="213"/>
                </a:moveTo>
                <a:lnTo>
                  <a:pt x="217" y="0"/>
                </a:lnTo>
                <a:lnTo>
                  <a:pt x="0" y="111"/>
                </a:lnTo>
                <a:lnTo>
                  <a:pt x="217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5320" y="55497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8440" y="55134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860560" y="4867200"/>
            <a:ext cx="909720" cy="298800"/>
            <a:chOff x="2860560" y="4867200"/>
            <a:chExt cx="909720" cy="298800"/>
          </a:xfrm>
        </p:grpSpPr>
        <p:sp>
          <p:nvSpPr>
            <p:cNvPr id="628" name=""/>
            <p:cNvSpPr/>
            <p:nvPr/>
          </p:nvSpPr>
          <p:spPr>
            <a:xfrm flipH="1">
              <a:off x="3497400" y="4867200"/>
              <a:ext cx="27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94040" y="51354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60560" y="5108400"/>
              <a:ext cx="44640" cy="57600"/>
            </a:xfrm>
            <a:custGeom>
              <a:avLst/>
              <a:gdLst/>
              <a:ahLst/>
              <a:rect l="0" t="0" r="r" b="b"/>
              <a:pathLst>
                <a:path w="124" h="160">
                  <a:moveTo>
                    <a:pt x="124" y="160"/>
                  </a:moveTo>
                  <a:lnTo>
                    <a:pt x="124" y="0"/>
                  </a:lnTo>
                  <a:lnTo>
                    <a:pt x="0" y="75"/>
                  </a:lnTo>
                  <a:lnTo>
                    <a:pt x="124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132000" y="486720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571760" y="5281560"/>
            <a:ext cx="909360" cy="298800"/>
            <a:chOff x="1571760" y="5281560"/>
            <a:chExt cx="909360" cy="298800"/>
          </a:xfrm>
        </p:grpSpPr>
        <p:sp>
          <p:nvSpPr>
            <p:cNvPr id="633" name=""/>
            <p:cNvSpPr/>
            <p:nvPr/>
          </p:nvSpPr>
          <p:spPr>
            <a:xfrm flipH="1">
              <a:off x="2209680" y="5281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04880" y="5549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71760" y="552276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129" y="160"/>
                  </a:moveTo>
                  <a:lnTo>
                    <a:pt x="129" y="0"/>
                  </a:lnTo>
                  <a:lnTo>
                    <a:pt x="0" y="75"/>
                  </a:lnTo>
                  <a:lnTo>
                    <a:pt x="12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843200" y="528156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>
            <a:off x="527040" y="5221440"/>
            <a:ext cx="109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527040" y="5337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757680" y="6043680"/>
            <a:ext cx="170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957400" y="50878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631880" y="50878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581120" y="554364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216160" y="58150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444760" y="578484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0" y="0"/>
                </a:moveTo>
                <a:lnTo>
                  <a:pt x="0" y="173"/>
                </a:lnTo>
                <a:lnTo>
                  <a:pt x="120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2860560" y="5959440"/>
            <a:ext cx="910080" cy="302040"/>
            <a:chOff x="2860560" y="5959440"/>
            <a:chExt cx="910080" cy="302040"/>
          </a:xfrm>
        </p:grpSpPr>
        <p:sp>
          <p:nvSpPr>
            <p:cNvPr id="646" name=""/>
            <p:cNvSpPr/>
            <p:nvPr/>
          </p:nvSpPr>
          <p:spPr>
            <a:xfrm>
              <a:off x="2860560" y="59594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97400" y="62308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24200" y="620064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143160" y="595944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 txBox="1"/>
          <p:nvPr/>
        </p:nvSpPr>
        <p:spPr>
          <a:xfrm>
            <a:off x="1812960" y="581040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017880" y="57704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774960" y="62276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07000" y="61912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24200" y="5116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2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4880" y="51386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722680" y="515628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26" y="0"/>
                </a:moveTo>
                <a:lnTo>
                  <a:pt x="36" y="14"/>
                </a:lnTo>
                <a:lnTo>
                  <a:pt x="10" y="27"/>
                </a:lnTo>
                <a:lnTo>
                  <a:pt x="0" y="1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670120" y="51786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619360" y="51991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70040" y="52182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17840" y="52387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484360" y="5218200"/>
            <a:ext cx="52920" cy="57600"/>
          </a:xfrm>
          <a:custGeom>
            <a:avLst/>
            <a:gdLst/>
            <a:ahLst/>
            <a:rect l="0" t="0" r="r" b="b"/>
            <a:pathLst>
              <a:path w="147" h="160">
                <a:moveTo>
                  <a:pt x="147" y="160"/>
                </a:moveTo>
                <a:lnTo>
                  <a:pt x="84" y="0"/>
                </a:lnTo>
                <a:lnTo>
                  <a:pt x="0" y="129"/>
                </a:lnTo>
                <a:lnTo>
                  <a:pt x="147" y="16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23960" y="58071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576520" y="58276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627280" y="58467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676600" y="58672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25560" y="588636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11" y="0"/>
                </a:moveTo>
                <a:lnTo>
                  <a:pt x="0" y="10"/>
                </a:lnTo>
                <a:lnTo>
                  <a:pt x="33" y="23"/>
                </a:lnTo>
                <a:lnTo>
                  <a:pt x="41" y="1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781360" y="59072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32120" y="59292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35360" y="5907240"/>
            <a:ext cx="52920" cy="59040"/>
          </a:xfrm>
          <a:custGeom>
            <a:avLst/>
            <a:gdLst/>
            <a:ahLst/>
            <a:rect l="0" t="0" r="r" b="b"/>
            <a:pathLst>
              <a:path w="147" h="164">
                <a:moveTo>
                  <a:pt x="62" y="0"/>
                </a:moveTo>
                <a:lnTo>
                  <a:pt x="0" y="164"/>
                </a:lnTo>
                <a:lnTo>
                  <a:pt x="147" y="128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754440" y="333540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754440" y="3451320"/>
            <a:ext cx="120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754440" y="3567240"/>
            <a:ext cx="1014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954160" y="2217600"/>
            <a:ext cx="0" cy="9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924280" y="313380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4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924280" y="218448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0" y="129"/>
                </a:moveTo>
                <a:lnTo>
                  <a:pt x="164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92400" y="2239920"/>
            <a:ext cx="0" cy="173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062160" y="396396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169" y="0"/>
                </a:moveTo>
                <a:lnTo>
                  <a:pt x="0" y="0"/>
                </a:lnTo>
                <a:lnTo>
                  <a:pt x="84" y="120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62160" y="220680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54240" y="35956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2 (*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478240" y="25131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71400" y="360360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71400" y="378288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778200" y="428940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954160" y="5195880"/>
            <a:ext cx="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924280" y="584028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4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924280" y="5165640"/>
            <a:ext cx="59040" cy="43200"/>
          </a:xfrm>
          <a:custGeom>
            <a:avLst/>
            <a:gdLst/>
            <a:ahLst/>
            <a:rect l="0" t="0" r="r" b="b"/>
            <a:pathLst>
              <a:path w="164" h="120">
                <a:moveTo>
                  <a:pt x="0" y="120"/>
                </a:moveTo>
                <a:lnTo>
                  <a:pt x="164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2948040" y="535932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043680" y="3276720"/>
            <a:ext cx="522000" cy="1757160"/>
            <a:chOff x="6043680" y="3276720"/>
            <a:chExt cx="522000" cy="1757160"/>
          </a:xfrm>
        </p:grpSpPr>
        <p:grpSp>
          <p:nvGrpSpPr>
            <p:cNvPr id="689" name=""/>
            <p:cNvGrpSpPr/>
            <p:nvPr/>
          </p:nvGrpSpPr>
          <p:grpSpPr>
            <a:xfrm>
              <a:off x="6043680" y="3276720"/>
              <a:ext cx="182520" cy="1757160"/>
              <a:chOff x="6043680" y="3276720"/>
              <a:chExt cx="182520" cy="175716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6138720" y="3276720"/>
                <a:ext cx="79560" cy="173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043680" y="4927680"/>
                <a:ext cx="889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138720" y="4927680"/>
                <a:ext cx="8748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060960" y="3289320"/>
                <a:ext cx="79560" cy="17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60960" y="3282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122880" y="3276720"/>
                <a:ext cx="921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"/>
            <p:cNvSpPr txBox="1"/>
            <p:nvPr/>
          </p:nvSpPr>
          <p:spPr>
            <a:xfrm>
              <a:off x="6265800" y="379080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 txBox="1"/>
            <p:nvPr/>
          </p:nvSpPr>
          <p:spPr>
            <a:xfrm>
              <a:off x="6265800" y="394956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6265800" y="410832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6265800" y="426708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874960" y="6710400"/>
            <a:ext cx="906480" cy="298800"/>
            <a:chOff x="2874960" y="6710400"/>
            <a:chExt cx="906480" cy="298800"/>
          </a:xfrm>
        </p:grpSpPr>
        <p:sp>
          <p:nvSpPr>
            <p:cNvPr id="701" name=""/>
            <p:cNvSpPr/>
            <p:nvPr/>
          </p:nvSpPr>
          <p:spPr>
            <a:xfrm flipH="1">
              <a:off x="3510000" y="67104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905200" y="69786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74960" y="69516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75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3143160" y="671040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"/>
          <p:cNvSpPr txBox="1"/>
          <p:nvPr/>
        </p:nvSpPr>
        <p:spPr>
          <a:xfrm>
            <a:off x="2890800" y="657396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574640" y="693432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59280" y="7054920"/>
            <a:ext cx="0" cy="69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027240" y="7736040"/>
            <a:ext cx="62280" cy="41760"/>
          </a:xfrm>
          <a:custGeom>
            <a:avLst/>
            <a:gdLst/>
            <a:ahLst/>
            <a:rect l="0" t="0" r="r" b="b"/>
            <a:pathLst>
              <a:path w="173" h="116">
                <a:moveTo>
                  <a:pt x="173" y="0"/>
                </a:moveTo>
                <a:lnTo>
                  <a:pt x="0" y="0"/>
                </a:lnTo>
                <a:lnTo>
                  <a:pt x="89" y="116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027240" y="702144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860560" y="696600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7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08360" y="699120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30" y="0"/>
                </a:moveTo>
                <a:lnTo>
                  <a:pt x="41" y="10"/>
                </a:lnTo>
                <a:lnTo>
                  <a:pt x="11" y="23"/>
                </a:lnTo>
                <a:lnTo>
                  <a:pt x="0" y="1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759040" y="7015320"/>
            <a:ext cx="16200" cy="8280"/>
          </a:xfrm>
          <a:custGeom>
            <a:avLst/>
            <a:gdLst/>
            <a:ahLst/>
            <a:rect l="0" t="0" r="r" b="b"/>
            <a:pathLst>
              <a:path w="45" h="23">
                <a:moveTo>
                  <a:pt x="34" y="0"/>
                </a:moveTo>
                <a:lnTo>
                  <a:pt x="45" y="13"/>
                </a:lnTo>
                <a:lnTo>
                  <a:pt x="11" y="23"/>
                </a:lnTo>
                <a:lnTo>
                  <a:pt x="0" y="13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709720" y="70423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62200" y="706752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4" y="14"/>
                </a:lnTo>
                <a:lnTo>
                  <a:pt x="0" y="4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12880" y="70912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560680" y="711504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517840" y="71042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147" y="151"/>
                </a:moveTo>
                <a:lnTo>
                  <a:pt x="71" y="0"/>
                </a:lnTo>
                <a:lnTo>
                  <a:pt x="0" y="125"/>
                </a:lnTo>
                <a:lnTo>
                  <a:pt x="147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2239920" y="765828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467080" y="7628040"/>
            <a:ext cx="44640" cy="62280"/>
          </a:xfrm>
          <a:custGeom>
            <a:avLst/>
            <a:gdLst/>
            <a:ahLst/>
            <a:rect l="0" t="0" r="r" b="b"/>
            <a:pathLst>
              <a:path w="124" h="173">
                <a:moveTo>
                  <a:pt x="0" y="0"/>
                </a:moveTo>
                <a:lnTo>
                  <a:pt x="0" y="173"/>
                </a:lnTo>
                <a:lnTo>
                  <a:pt x="12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2890800" y="7790040"/>
            <a:ext cx="910080" cy="298800"/>
            <a:chOff x="2890800" y="7790040"/>
            <a:chExt cx="910080" cy="298800"/>
          </a:xfrm>
        </p:grpSpPr>
        <p:sp>
          <p:nvSpPr>
            <p:cNvPr id="721" name=""/>
            <p:cNvSpPr/>
            <p:nvPr/>
          </p:nvSpPr>
          <p:spPr>
            <a:xfrm>
              <a:off x="2890800" y="7790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3529080" y="80614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54440" y="803124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0" y="0"/>
                  </a:moveTo>
                  <a:lnTo>
                    <a:pt x="0" y="160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178080" y="779004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"/>
          <p:cNvSpPr txBox="1"/>
          <p:nvPr/>
        </p:nvSpPr>
        <p:spPr>
          <a:xfrm>
            <a:off x="1627200" y="76359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757520" y="775188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3036960" y="78058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36960" y="792324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079800" y="721512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487600" y="76582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40160" y="76770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590920" y="76960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643120" y="771372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95680" y="77328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746440" y="77500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98640" y="77691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95760" y="774684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62" y="0"/>
                </a:moveTo>
                <a:lnTo>
                  <a:pt x="0" y="155"/>
                </a:lnTo>
                <a:lnTo>
                  <a:pt x="147" y="111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510000" y="6251400"/>
            <a:ext cx="0" cy="40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479760" y="664200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479760" y="621828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0" y="129"/>
                </a:moveTo>
                <a:lnTo>
                  <a:pt x="169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522600" y="639432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246400" y="71470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216160" y="711504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854440" y="1006560"/>
            <a:ext cx="0" cy="540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487600" y="1006560"/>
            <a:ext cx="0" cy="5408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571760" y="552600"/>
            <a:ext cx="0" cy="623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70280" y="552600"/>
            <a:ext cx="0" cy="6234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39560" y="5652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2060640" y="57780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087640" y="56052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827520" y="5652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24280" y="10922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67040" y="10526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19200" y="177624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65200" y="17398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565200" y="20480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95440" y="20113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3772080" y="27338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03760" y="26938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857680" y="1092240"/>
            <a:ext cx="909360" cy="300240"/>
            <a:chOff x="2857680" y="1092240"/>
            <a:chExt cx="909360" cy="300240"/>
          </a:xfrm>
        </p:grpSpPr>
        <p:sp>
          <p:nvSpPr>
            <p:cNvPr id="761" name=""/>
            <p:cNvSpPr/>
            <p:nvPr/>
          </p:nvSpPr>
          <p:spPr>
            <a:xfrm flipH="1">
              <a:off x="3495600" y="10922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90800" y="13636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57680" y="133344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129120" y="10922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581120" y="2048040"/>
            <a:ext cx="906840" cy="302040"/>
            <a:chOff x="1581120" y="2048040"/>
            <a:chExt cx="906840" cy="302040"/>
          </a:xfrm>
        </p:grpSpPr>
        <p:sp>
          <p:nvSpPr>
            <p:cNvPr id="766" name=""/>
            <p:cNvSpPr/>
            <p:nvPr/>
          </p:nvSpPr>
          <p:spPr>
            <a:xfrm>
              <a:off x="1581120" y="204804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2216160" y="23194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444760" y="228924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0" y="0"/>
                  </a:moveTo>
                  <a:lnTo>
                    <a:pt x="0" y="169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65160" y="204804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581120" y="1508040"/>
            <a:ext cx="906480" cy="298800"/>
            <a:chOff x="1581120" y="1508040"/>
            <a:chExt cx="906480" cy="298800"/>
          </a:xfrm>
        </p:grpSpPr>
        <p:sp>
          <p:nvSpPr>
            <p:cNvPr id="771" name=""/>
            <p:cNvSpPr/>
            <p:nvPr/>
          </p:nvSpPr>
          <p:spPr>
            <a:xfrm flipH="1">
              <a:off x="2216160" y="1508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11360" y="17794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581120" y="174780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120" y="164"/>
                  </a:moveTo>
                  <a:lnTo>
                    <a:pt x="120" y="0"/>
                  </a:lnTo>
                  <a:lnTo>
                    <a:pt x="0" y="89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1849320" y="150804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863800" y="2462040"/>
            <a:ext cx="908280" cy="300600"/>
            <a:chOff x="2863800" y="2462040"/>
            <a:chExt cx="908280" cy="300600"/>
          </a:xfrm>
        </p:grpSpPr>
        <p:sp>
          <p:nvSpPr>
            <p:cNvPr id="776" name=""/>
            <p:cNvSpPr/>
            <p:nvPr/>
          </p:nvSpPr>
          <p:spPr>
            <a:xfrm>
              <a:off x="2863800" y="2462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3500280" y="2733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27440" y="2703600"/>
              <a:ext cx="44640" cy="59040"/>
            </a:xfrm>
            <a:custGeom>
              <a:avLst/>
              <a:gdLst/>
              <a:ahLst/>
              <a:rect l="0" t="0" r="r" b="b"/>
              <a:pathLst>
                <a:path w="124" h="164">
                  <a:moveTo>
                    <a:pt x="0" y="0"/>
                  </a:moveTo>
                  <a:lnTo>
                    <a:pt x="0" y="164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49640" y="2462040"/>
              <a:ext cx="350640" cy="27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"/>
          <p:cNvSpPr txBox="1"/>
          <p:nvPr/>
        </p:nvSpPr>
        <p:spPr>
          <a:xfrm>
            <a:off x="3778200" y="91440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55600" y="154944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41200" y="185724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41200" y="1974960"/>
            <a:ext cx="120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41200" y="2090880"/>
            <a:ext cx="1014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874960" y="91296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708200" y="127620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1865160" y="184788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2166840" y="1963800"/>
            <a:ext cx="32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874960" y="226836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671400" y="254808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766880" y="2546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571680" y="291456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501920" y="28782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774960" y="36003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707000" y="35607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584360" y="2914560"/>
            <a:ext cx="910080" cy="302400"/>
            <a:chOff x="1584360" y="2914560"/>
            <a:chExt cx="910080" cy="302400"/>
          </a:xfrm>
        </p:grpSpPr>
        <p:sp>
          <p:nvSpPr>
            <p:cNvPr id="797" name=""/>
            <p:cNvSpPr/>
            <p:nvPr/>
          </p:nvSpPr>
          <p:spPr>
            <a:xfrm>
              <a:off x="1584360" y="2914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222640" y="3186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448000" y="315612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871640" y="291456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2871720" y="3328920"/>
            <a:ext cx="910080" cy="303480"/>
            <a:chOff x="2871720" y="3328920"/>
            <a:chExt cx="910080" cy="303480"/>
          </a:xfrm>
        </p:grpSpPr>
        <p:sp>
          <p:nvSpPr>
            <p:cNvPr id="802" name=""/>
            <p:cNvSpPr/>
            <p:nvPr/>
          </p:nvSpPr>
          <p:spPr>
            <a:xfrm>
              <a:off x="2871720" y="33289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10000" y="3600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35360" y="357012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56120" y="332892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"/>
          <p:cNvSpPr txBox="1"/>
          <p:nvPr/>
        </p:nvSpPr>
        <p:spPr>
          <a:xfrm>
            <a:off x="3784680" y="360360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87440" y="3514680"/>
            <a:ext cx="109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87440" y="3630600"/>
            <a:ext cx="7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838600" y="358632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71680" y="273384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501920" y="26971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774960" y="342108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07000" y="33814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1584360" y="2733840"/>
            <a:ext cx="910080" cy="303480"/>
            <a:chOff x="1584360" y="2733840"/>
            <a:chExt cx="910080" cy="303480"/>
          </a:xfrm>
        </p:grpSpPr>
        <p:sp>
          <p:nvSpPr>
            <p:cNvPr id="815" name=""/>
            <p:cNvSpPr/>
            <p:nvPr/>
          </p:nvSpPr>
          <p:spPr>
            <a:xfrm>
              <a:off x="1584360" y="2733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2222640" y="30052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48000" y="297504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71640" y="273384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871720" y="3149640"/>
            <a:ext cx="910080" cy="298800"/>
            <a:chOff x="2871720" y="3149640"/>
            <a:chExt cx="910080" cy="298800"/>
          </a:xfrm>
        </p:grpSpPr>
        <p:sp>
          <p:nvSpPr>
            <p:cNvPr id="820" name=""/>
            <p:cNvSpPr/>
            <p:nvPr/>
          </p:nvSpPr>
          <p:spPr>
            <a:xfrm>
              <a:off x="2871720" y="31496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510000" y="3421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735360" y="339084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0" y="0"/>
                  </a:moveTo>
                  <a:lnTo>
                    <a:pt x="0" y="160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56120" y="31496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 txBox="1"/>
          <p:nvPr/>
        </p:nvSpPr>
        <p:spPr>
          <a:xfrm>
            <a:off x="3778200" y="323388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76360" y="31035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508040" y="30639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590840" y="3103560"/>
            <a:ext cx="909720" cy="298800"/>
            <a:chOff x="1590840" y="3103560"/>
            <a:chExt cx="909720" cy="298800"/>
          </a:xfrm>
        </p:grpSpPr>
        <p:sp>
          <p:nvSpPr>
            <p:cNvPr id="828" name=""/>
            <p:cNvSpPr/>
            <p:nvPr/>
          </p:nvSpPr>
          <p:spPr>
            <a:xfrm>
              <a:off x="1590840" y="3103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228760" y="33717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54120" y="334152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78120" y="3103560"/>
              <a:ext cx="35064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2878200" y="3516480"/>
            <a:ext cx="910080" cy="301680"/>
            <a:chOff x="2878200" y="3516480"/>
            <a:chExt cx="910080" cy="301680"/>
          </a:xfrm>
        </p:grpSpPr>
        <p:sp>
          <p:nvSpPr>
            <p:cNvPr id="833" name=""/>
            <p:cNvSpPr/>
            <p:nvPr/>
          </p:nvSpPr>
          <p:spPr>
            <a:xfrm>
              <a:off x="2878200" y="3516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3516480" y="37879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741840" y="375588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62240" y="351648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"/>
          <p:cNvSpPr/>
          <p:nvPr/>
        </p:nvSpPr>
        <p:spPr>
          <a:xfrm flipH="1">
            <a:off x="3781440" y="378792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713120" y="374796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841480" y="13604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792520" y="13827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9"/>
                </a:lnTo>
                <a:lnTo>
                  <a:pt x="4" y="1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741760" y="140004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7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89200" y="14223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9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37000" y="14428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587680" y="146196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26" y="0"/>
                </a:moveTo>
                <a:lnTo>
                  <a:pt x="36" y="13"/>
                </a:lnTo>
                <a:lnTo>
                  <a:pt x="10" y="23"/>
                </a:lnTo>
                <a:lnTo>
                  <a:pt x="0" y="13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36920" y="14828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503440" y="146196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142" y="151"/>
                </a:moveTo>
                <a:lnTo>
                  <a:pt x="84" y="0"/>
                </a:lnTo>
                <a:lnTo>
                  <a:pt x="0" y="121"/>
                </a:lnTo>
                <a:lnTo>
                  <a:pt x="142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87600" y="23097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540160" y="233208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587680" y="234936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639880" y="23716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692440" y="23922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741760" y="24112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0"/>
                </a:lnTo>
                <a:lnTo>
                  <a:pt x="22" y="23"/>
                </a:lnTo>
                <a:lnTo>
                  <a:pt x="32" y="1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95760" y="243216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795760" y="241452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16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87600" y="29908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301140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87680" y="303048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10" y="0"/>
                </a:moveTo>
                <a:lnTo>
                  <a:pt x="0" y="13"/>
                </a:lnTo>
                <a:lnTo>
                  <a:pt x="26" y="23"/>
                </a:lnTo>
                <a:lnTo>
                  <a:pt x="36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639880" y="30510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692440" y="30733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741760" y="309096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795760" y="311292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795760" y="309420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62" y="0"/>
                </a:moveTo>
                <a:lnTo>
                  <a:pt x="0" y="155"/>
                </a:lnTo>
                <a:lnTo>
                  <a:pt x="147" y="120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487600" y="31989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40160" y="32194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85880" y="324180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7" y="0"/>
                </a:moveTo>
                <a:lnTo>
                  <a:pt x="0" y="10"/>
                </a:lnTo>
                <a:lnTo>
                  <a:pt x="30" y="23"/>
                </a:lnTo>
                <a:lnTo>
                  <a:pt x="41" y="1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37000" y="326232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10" y="0"/>
                </a:moveTo>
                <a:lnTo>
                  <a:pt x="0" y="13"/>
                </a:lnTo>
                <a:lnTo>
                  <a:pt x="26" y="23"/>
                </a:lnTo>
                <a:lnTo>
                  <a:pt x="36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685960" y="328284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3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738520" y="330516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11" y="0"/>
                </a:moveTo>
                <a:lnTo>
                  <a:pt x="0" y="13"/>
                </a:lnTo>
                <a:lnTo>
                  <a:pt x="30" y="23"/>
                </a:lnTo>
                <a:lnTo>
                  <a:pt x="41" y="13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89280" y="332568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795760" y="33116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71" y="0"/>
                </a:moveTo>
                <a:lnTo>
                  <a:pt x="0" y="151"/>
                </a:lnTo>
                <a:lnTo>
                  <a:pt x="147" y="129"/>
                </a:lnTo>
                <a:lnTo>
                  <a:pt x="7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487600" y="337824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40160" y="33987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587680" y="341784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10" y="0"/>
                </a:moveTo>
                <a:lnTo>
                  <a:pt x="0" y="14"/>
                </a:lnTo>
                <a:lnTo>
                  <a:pt x="26" y="27"/>
                </a:lnTo>
                <a:lnTo>
                  <a:pt x="36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39880" y="34383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92440" y="3460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741760" y="347832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795760" y="35002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795760" y="3478320"/>
            <a:ext cx="52920" cy="59040"/>
          </a:xfrm>
          <a:custGeom>
            <a:avLst/>
            <a:gdLst/>
            <a:ahLst/>
            <a:rect l="0" t="0" r="r" b="b"/>
            <a:pathLst>
              <a:path w="147" h="164">
                <a:moveTo>
                  <a:pt x="62" y="0"/>
                </a:moveTo>
                <a:lnTo>
                  <a:pt x="0" y="164"/>
                </a:lnTo>
                <a:lnTo>
                  <a:pt x="147" y="128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576360" y="38116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508040" y="37749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781440" y="44989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713120" y="445932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590840" y="3811680"/>
            <a:ext cx="906480" cy="302040"/>
            <a:chOff x="1590840" y="3811680"/>
            <a:chExt cx="906480" cy="302040"/>
          </a:xfrm>
        </p:grpSpPr>
        <p:sp>
          <p:nvSpPr>
            <p:cNvPr id="884" name=""/>
            <p:cNvSpPr/>
            <p:nvPr/>
          </p:nvSpPr>
          <p:spPr>
            <a:xfrm>
              <a:off x="1590840" y="381168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2225520" y="408312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54120" y="405288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0" y="0"/>
                  </a:moveTo>
                  <a:lnTo>
                    <a:pt x="0" y="169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874880" y="381168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874960" y="4226040"/>
            <a:ext cx="910080" cy="300240"/>
            <a:chOff x="2874960" y="4226040"/>
            <a:chExt cx="910080" cy="300240"/>
          </a:xfrm>
        </p:grpSpPr>
        <p:sp>
          <p:nvSpPr>
            <p:cNvPr id="889" name=""/>
            <p:cNvSpPr/>
            <p:nvPr/>
          </p:nvSpPr>
          <p:spPr>
            <a:xfrm>
              <a:off x="2874960" y="4226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13240" y="44989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38600" y="446724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2240" y="4226040"/>
              <a:ext cx="35100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 txBox="1"/>
          <p:nvPr/>
        </p:nvSpPr>
        <p:spPr>
          <a:xfrm>
            <a:off x="3787920" y="428472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519120" y="4854600"/>
            <a:ext cx="109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519120" y="497052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1730520" y="3581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841480" y="40323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3506760" y="4498920"/>
            <a:ext cx="268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903400" y="476712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868480" y="473544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1590840" y="4910040"/>
            <a:ext cx="906120" cy="302400"/>
            <a:chOff x="1590840" y="4910040"/>
            <a:chExt cx="906120" cy="302400"/>
          </a:xfrm>
        </p:grpSpPr>
        <p:sp>
          <p:nvSpPr>
            <p:cNvPr id="902" name=""/>
            <p:cNvSpPr/>
            <p:nvPr/>
          </p:nvSpPr>
          <p:spPr>
            <a:xfrm flipH="1">
              <a:off x="2225520" y="4910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620720" y="518148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590840" y="515160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120" y="169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1859040" y="491004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"/>
          <p:cNvSpPr txBox="1"/>
          <p:nvPr/>
        </p:nvSpPr>
        <p:spPr>
          <a:xfrm>
            <a:off x="2841480" y="45385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1782720" y="47228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31800" y="51786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74560" y="51418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511360" y="406224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563920" y="40831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612880" y="41022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10" y="0"/>
                </a:moveTo>
                <a:lnTo>
                  <a:pt x="0" y="10"/>
                </a:lnTo>
                <a:lnTo>
                  <a:pt x="22" y="23"/>
                </a:lnTo>
                <a:lnTo>
                  <a:pt x="32" y="1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65440" y="41227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716200" y="414504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65520" y="416232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10" y="0"/>
                </a:moveTo>
                <a:lnTo>
                  <a:pt x="0" y="14"/>
                </a:lnTo>
                <a:lnTo>
                  <a:pt x="25" y="27"/>
                </a:lnTo>
                <a:lnTo>
                  <a:pt x="32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820960" y="41846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820960" y="416556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57" y="0"/>
                </a:moveTo>
                <a:lnTo>
                  <a:pt x="0" y="155"/>
                </a:lnTo>
                <a:lnTo>
                  <a:pt x="142" y="12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811600" y="47577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62280" y="47782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709720" y="479736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658960" y="48182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606760" y="483696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33" y="0"/>
                </a:moveTo>
                <a:lnTo>
                  <a:pt x="41" y="13"/>
                </a:lnTo>
                <a:lnTo>
                  <a:pt x="11" y="23"/>
                </a:lnTo>
                <a:lnTo>
                  <a:pt x="0" y="13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57440" y="48578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06680" y="48798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470320" y="486108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142" y="155"/>
                </a:moveTo>
                <a:lnTo>
                  <a:pt x="84" y="0"/>
                </a:lnTo>
                <a:lnTo>
                  <a:pt x="0" y="120"/>
                </a:lnTo>
                <a:lnTo>
                  <a:pt x="142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754440" y="255096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3754440" y="2666880"/>
            <a:ext cx="120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3754440" y="2782800"/>
            <a:ext cx="1014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54160" y="1433520"/>
            <a:ext cx="0" cy="9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924280" y="234936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4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924280" y="140004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0" y="129"/>
                </a:moveTo>
                <a:lnTo>
                  <a:pt x="164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92400" y="1455840"/>
            <a:ext cx="0" cy="162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062160" y="307008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062160" y="142236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54240" y="28116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2 (*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2471760" y="172872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671400" y="272736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671400" y="290844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778200" y="341460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401920" y="414504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374920" y="482112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160" y="0"/>
                </a:moveTo>
                <a:lnTo>
                  <a:pt x="0" y="0"/>
                </a:lnTo>
                <a:lnTo>
                  <a:pt x="75" y="129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374920" y="411012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0" y="120"/>
                </a:moveTo>
                <a:lnTo>
                  <a:pt x="160" y="120"/>
                </a:lnTo>
                <a:lnTo>
                  <a:pt x="75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1978200" y="43038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043680" y="2494080"/>
            <a:ext cx="522000" cy="1757160"/>
            <a:chOff x="6043680" y="2494080"/>
            <a:chExt cx="522000" cy="1757160"/>
          </a:xfrm>
        </p:grpSpPr>
        <p:grpSp>
          <p:nvGrpSpPr>
            <p:cNvPr id="945" name=""/>
            <p:cNvGrpSpPr/>
            <p:nvPr/>
          </p:nvGrpSpPr>
          <p:grpSpPr>
            <a:xfrm>
              <a:off x="6043680" y="2494080"/>
              <a:ext cx="182520" cy="1757160"/>
              <a:chOff x="6043680" y="2494080"/>
              <a:chExt cx="182520" cy="1757160"/>
            </a:xfrm>
          </p:grpSpPr>
          <p:sp>
            <p:nvSpPr>
              <p:cNvPr id="946" name=""/>
              <p:cNvSpPr/>
              <p:nvPr/>
            </p:nvSpPr>
            <p:spPr>
              <a:xfrm flipH="1">
                <a:off x="6138720" y="2494080"/>
                <a:ext cx="79560" cy="173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043680" y="4145040"/>
                <a:ext cx="889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6138720" y="4145040"/>
                <a:ext cx="8748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060960" y="2505240"/>
                <a:ext cx="79560" cy="172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060960" y="249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6122880" y="2494080"/>
                <a:ext cx="92160" cy="9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2" name=""/>
            <p:cNvSpPr txBox="1"/>
            <p:nvPr/>
          </p:nvSpPr>
          <p:spPr>
            <a:xfrm>
              <a:off x="6265800" y="300672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 txBox="1"/>
            <p:nvPr/>
          </p:nvSpPr>
          <p:spPr>
            <a:xfrm>
              <a:off x="6265800" y="316548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 txBox="1"/>
            <p:nvPr/>
          </p:nvSpPr>
          <p:spPr>
            <a:xfrm>
              <a:off x="6265800" y="332424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 txBox="1"/>
            <p:nvPr/>
          </p:nvSpPr>
          <p:spPr>
            <a:xfrm>
              <a:off x="6265800" y="348300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860560" y="5049720"/>
            <a:ext cx="906480" cy="303840"/>
            <a:chOff x="2860560" y="5049720"/>
            <a:chExt cx="906480" cy="303840"/>
          </a:xfrm>
        </p:grpSpPr>
        <p:sp>
          <p:nvSpPr>
            <p:cNvPr id="957" name=""/>
            <p:cNvSpPr/>
            <p:nvPr/>
          </p:nvSpPr>
          <p:spPr>
            <a:xfrm flipH="1">
              <a:off x="3495600" y="50497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890800" y="53229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860560" y="5291280"/>
              <a:ext cx="43200" cy="62280"/>
            </a:xfrm>
            <a:custGeom>
              <a:avLst/>
              <a:gdLst/>
              <a:ahLst/>
              <a:rect l="0" t="0" r="r" b="b"/>
              <a:pathLst>
                <a:path w="120" h="173">
                  <a:moveTo>
                    <a:pt x="120" y="173"/>
                  </a:moveTo>
                  <a:lnTo>
                    <a:pt x="120" y="0"/>
                  </a:lnTo>
                  <a:lnTo>
                    <a:pt x="0" y="89"/>
                  </a:lnTo>
                  <a:lnTo>
                    <a:pt x="120" y="1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3129120" y="5049720"/>
              <a:ext cx="35388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"/>
          <p:cNvSpPr txBox="1"/>
          <p:nvPr/>
        </p:nvSpPr>
        <p:spPr>
          <a:xfrm>
            <a:off x="2874960" y="509760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1743120" y="546084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043080" y="5398920"/>
            <a:ext cx="0" cy="68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013200" y="607536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013200" y="536400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0" y="120"/>
                </a:moveTo>
                <a:lnTo>
                  <a:pt x="169" y="120"/>
                </a:lnTo>
                <a:lnTo>
                  <a:pt x="84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844720" y="531036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92520" y="533412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44640" y="5359320"/>
            <a:ext cx="14760" cy="8280"/>
          </a:xfrm>
          <a:custGeom>
            <a:avLst/>
            <a:gdLst/>
            <a:ahLst/>
            <a:rect l="0" t="0" r="r" b="b"/>
            <a:pathLst>
              <a:path w="41" h="23">
                <a:moveTo>
                  <a:pt x="30" y="0"/>
                </a:moveTo>
                <a:lnTo>
                  <a:pt x="41" y="10"/>
                </a:lnTo>
                <a:lnTo>
                  <a:pt x="7" y="23"/>
                </a:lnTo>
                <a:lnTo>
                  <a:pt x="0" y="1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695680" y="53830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646360" y="540720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5" y="0"/>
                </a:moveTo>
                <a:lnTo>
                  <a:pt x="32" y="14"/>
                </a:lnTo>
                <a:lnTo>
                  <a:pt x="10" y="27"/>
                </a:lnTo>
                <a:lnTo>
                  <a:pt x="0" y="14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597040" y="543240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26" y="0"/>
                </a:moveTo>
                <a:lnTo>
                  <a:pt x="36" y="13"/>
                </a:lnTo>
                <a:lnTo>
                  <a:pt x="10" y="23"/>
                </a:lnTo>
                <a:lnTo>
                  <a:pt x="0" y="13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546280" y="545616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30" y="0"/>
                </a:moveTo>
                <a:lnTo>
                  <a:pt x="41" y="14"/>
                </a:lnTo>
                <a:lnTo>
                  <a:pt x="7" y="27"/>
                </a:lnTo>
                <a:lnTo>
                  <a:pt x="0" y="14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503440" y="5446800"/>
            <a:ext cx="51120" cy="52920"/>
          </a:xfrm>
          <a:custGeom>
            <a:avLst/>
            <a:gdLst/>
            <a:ahLst/>
            <a:rect l="0" t="0" r="r" b="b"/>
            <a:pathLst>
              <a:path w="142" h="147">
                <a:moveTo>
                  <a:pt x="142" y="147"/>
                </a:moveTo>
                <a:lnTo>
                  <a:pt x="66" y="0"/>
                </a:lnTo>
                <a:lnTo>
                  <a:pt x="0" y="129"/>
                </a:lnTo>
                <a:lnTo>
                  <a:pt x="142" y="14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225520" y="600228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451240" y="5972040"/>
            <a:ext cx="46440" cy="60840"/>
          </a:xfrm>
          <a:custGeom>
            <a:avLst/>
            <a:gdLst/>
            <a:ahLst/>
            <a:rect l="0" t="0" r="r" b="b"/>
            <a:pathLst>
              <a:path w="129" h="169">
                <a:moveTo>
                  <a:pt x="0" y="0"/>
                </a:moveTo>
                <a:lnTo>
                  <a:pt x="0" y="169"/>
                </a:lnTo>
                <a:lnTo>
                  <a:pt x="129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2874960" y="6134040"/>
            <a:ext cx="910080" cy="299160"/>
            <a:chOff x="2874960" y="6134040"/>
            <a:chExt cx="910080" cy="299160"/>
          </a:xfrm>
        </p:grpSpPr>
        <p:sp>
          <p:nvSpPr>
            <p:cNvPr id="977" name=""/>
            <p:cNvSpPr/>
            <p:nvPr/>
          </p:nvSpPr>
          <p:spPr>
            <a:xfrm>
              <a:off x="2874960" y="61340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3513240" y="64022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738600" y="637236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162240" y="6134040"/>
              <a:ext cx="35100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 txBox="1"/>
          <p:nvPr/>
        </p:nvSpPr>
        <p:spPr>
          <a:xfrm>
            <a:off x="1611360" y="597708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1743120" y="609300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021120" y="614664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3021120" y="626256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3063960" y="555768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471760" y="60022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523960" y="60213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576520" y="60390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627280" y="6057720"/>
            <a:ext cx="12960" cy="3600"/>
          </a:xfrm>
          <a:custGeom>
            <a:avLst/>
            <a:gdLst/>
            <a:ahLst/>
            <a:rect l="0" t="0" r="r" b="b"/>
            <a:pathLst>
              <a:path w="36" h="10">
                <a:moveTo>
                  <a:pt x="5" y="0"/>
                </a:moveTo>
                <a:lnTo>
                  <a:pt x="0" y="8"/>
                </a:lnTo>
                <a:lnTo>
                  <a:pt x="31" y="10"/>
                </a:lnTo>
                <a:lnTo>
                  <a:pt x="36" y="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679840" y="607212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732040" y="60912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784600" y="611028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" y="0"/>
                </a:moveTo>
                <a:lnTo>
                  <a:pt x="0" y="8"/>
                </a:lnTo>
                <a:lnTo>
                  <a:pt x="28" y="14"/>
                </a:lnTo>
                <a:lnTo>
                  <a:pt x="32" y="4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81360" y="608796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57" y="0"/>
                </a:moveTo>
                <a:lnTo>
                  <a:pt x="0" y="155"/>
                </a:lnTo>
                <a:lnTo>
                  <a:pt x="142" y="120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95600" y="459576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463920" y="498636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173" y="0"/>
                </a:moveTo>
                <a:lnTo>
                  <a:pt x="0" y="0"/>
                </a:lnTo>
                <a:lnTo>
                  <a:pt x="89" y="120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463920" y="4562640"/>
            <a:ext cx="62280" cy="43200"/>
          </a:xfrm>
          <a:custGeom>
            <a:avLst/>
            <a:gdLst/>
            <a:ahLst/>
            <a:rect l="0" t="0" r="r" b="b"/>
            <a:pathLst>
              <a:path w="173" h="120">
                <a:moveTo>
                  <a:pt x="0" y="120"/>
                </a:moveTo>
                <a:lnTo>
                  <a:pt x="173" y="120"/>
                </a:lnTo>
                <a:lnTo>
                  <a:pt x="89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3506760" y="4710240"/>
            <a:ext cx="2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543120" y="472752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52520" y="5481720"/>
            <a:ext cx="23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219400" y="5450040"/>
            <a:ext cx="43200" cy="59040"/>
          </a:xfrm>
          <a:custGeom>
            <a:avLst/>
            <a:gdLst/>
            <a:ahLst/>
            <a:rect l="0" t="0" r="r" b="b"/>
            <a:pathLst>
              <a:path w="120" h="164">
                <a:moveTo>
                  <a:pt x="120" y="164"/>
                </a:moveTo>
                <a:lnTo>
                  <a:pt x="120" y="0"/>
                </a:lnTo>
                <a:lnTo>
                  <a:pt x="0" y="89"/>
                </a:lnTo>
                <a:lnTo>
                  <a:pt x="12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3290760" y="2128680"/>
            <a:ext cx="0" cy="505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924280" y="2128680"/>
            <a:ext cx="0" cy="505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08080" y="1674720"/>
            <a:ext cx="0" cy="551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205160" y="1674720"/>
            <a:ext cx="0" cy="551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878040" y="168912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2498760" y="170028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527200" y="168264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267080" y="168912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260960" y="22147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203720" y="217476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058760" y="28987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001880" y="286236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1001880" y="31701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932120" y="31338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4208400" y="38577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140440" y="38178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3295800" y="2214720"/>
            <a:ext cx="907920" cy="300240"/>
            <a:chOff x="3295800" y="2214720"/>
            <a:chExt cx="907920" cy="300240"/>
          </a:xfrm>
        </p:grpSpPr>
        <p:sp>
          <p:nvSpPr>
            <p:cNvPr id="1018" name=""/>
            <p:cNvSpPr/>
            <p:nvPr/>
          </p:nvSpPr>
          <p:spPr>
            <a:xfrm flipH="1">
              <a:off x="3930480" y="2214720"/>
              <a:ext cx="273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27480" y="24861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95800" y="245592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120" y="164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565440" y="221472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2017800" y="3170160"/>
            <a:ext cx="910080" cy="302040"/>
            <a:chOff x="2017800" y="3170160"/>
            <a:chExt cx="910080" cy="302040"/>
          </a:xfrm>
        </p:grpSpPr>
        <p:sp>
          <p:nvSpPr>
            <p:cNvPr id="1023" name=""/>
            <p:cNvSpPr/>
            <p:nvPr/>
          </p:nvSpPr>
          <p:spPr>
            <a:xfrm>
              <a:off x="2017800" y="3170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655720" y="34416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881440" y="341136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01840" y="31701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017800" y="2630520"/>
            <a:ext cx="909720" cy="298800"/>
            <a:chOff x="2017800" y="2630520"/>
            <a:chExt cx="909720" cy="298800"/>
          </a:xfrm>
        </p:grpSpPr>
        <p:sp>
          <p:nvSpPr>
            <p:cNvPr id="1028" name=""/>
            <p:cNvSpPr/>
            <p:nvPr/>
          </p:nvSpPr>
          <p:spPr>
            <a:xfrm flipH="1">
              <a:off x="2655720" y="2630520"/>
              <a:ext cx="27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050920" y="29019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017800" y="287172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129" y="160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2289240" y="263052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301920" y="3586320"/>
            <a:ext cx="906840" cy="298440"/>
            <a:chOff x="3301920" y="3586320"/>
            <a:chExt cx="906840" cy="298440"/>
          </a:xfrm>
        </p:grpSpPr>
        <p:sp>
          <p:nvSpPr>
            <p:cNvPr id="1033" name=""/>
            <p:cNvSpPr/>
            <p:nvPr/>
          </p:nvSpPr>
          <p:spPr>
            <a:xfrm>
              <a:off x="3301920" y="35863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940200" y="38577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165560" y="382572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0" y="0"/>
                  </a:moveTo>
                  <a:lnTo>
                    <a:pt x="0" y="164"/>
                  </a:lnTo>
                  <a:lnTo>
                    <a:pt x="12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586320" y="358632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"/>
          <p:cNvSpPr txBox="1"/>
          <p:nvPr/>
        </p:nvSpPr>
        <p:spPr>
          <a:xfrm>
            <a:off x="4303800" y="203832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4184640" y="367344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4184640" y="3789360"/>
            <a:ext cx="1460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postive 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744480" y="267336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692280" y="299880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692280" y="3114720"/>
            <a:ext cx="1228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ed or pos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692280" y="3230640"/>
            <a:ext cx="1069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cknowledgm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241800" y="20368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2209680" y="23986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2197080" y="29401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3490920" y="33908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1004760" y="547848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935000" y="543888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208400" y="61610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140440" y="61214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2017800" y="5478480"/>
            <a:ext cx="906840" cy="298800"/>
            <a:chOff x="2017800" y="5478480"/>
            <a:chExt cx="906840" cy="298800"/>
          </a:xfrm>
        </p:grpSpPr>
        <p:sp>
          <p:nvSpPr>
            <p:cNvPr id="1053" name=""/>
            <p:cNvSpPr/>
            <p:nvPr/>
          </p:nvSpPr>
          <p:spPr>
            <a:xfrm>
              <a:off x="2017800" y="547848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2652840" y="57466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881440" y="5716440"/>
              <a:ext cx="43200" cy="60840"/>
            </a:xfrm>
            <a:custGeom>
              <a:avLst/>
              <a:gdLst/>
              <a:ahLst/>
              <a:rect l="0" t="0" r="r" b="b"/>
              <a:pathLst>
                <a:path w="120" h="169">
                  <a:moveTo>
                    <a:pt x="0" y="0"/>
                  </a:moveTo>
                  <a:lnTo>
                    <a:pt x="0" y="169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01840" y="5478480"/>
              <a:ext cx="35100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301920" y="5889600"/>
            <a:ext cx="910080" cy="303480"/>
            <a:chOff x="3301920" y="5889600"/>
            <a:chExt cx="910080" cy="303480"/>
          </a:xfrm>
        </p:grpSpPr>
        <p:sp>
          <p:nvSpPr>
            <p:cNvPr id="1058" name=""/>
            <p:cNvSpPr/>
            <p:nvPr/>
          </p:nvSpPr>
          <p:spPr>
            <a:xfrm>
              <a:off x="3301920" y="58896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940200" y="61610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65560" y="613080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589200" y="588960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"/>
          <p:cNvSpPr txBox="1"/>
          <p:nvPr/>
        </p:nvSpPr>
        <p:spPr>
          <a:xfrm>
            <a:off x="4214880" y="592308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31920" y="665964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68800" y="55148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3933720" y="6161040"/>
            <a:ext cx="270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330720" y="643248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295800" y="6402240"/>
            <a:ext cx="43200" cy="59040"/>
          </a:xfrm>
          <a:custGeom>
            <a:avLst/>
            <a:gdLst/>
            <a:ahLst/>
            <a:rect l="0" t="0" r="r" b="b"/>
            <a:pathLst>
              <a:path w="120" h="164">
                <a:moveTo>
                  <a:pt x="120" y="164"/>
                </a:moveTo>
                <a:lnTo>
                  <a:pt x="120" y="0"/>
                </a:lnTo>
                <a:lnTo>
                  <a:pt x="0" y="84"/>
                </a:lnTo>
                <a:lnTo>
                  <a:pt x="12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2017800" y="6576840"/>
            <a:ext cx="906480" cy="299160"/>
            <a:chOff x="2017800" y="6576840"/>
            <a:chExt cx="906480" cy="299160"/>
          </a:xfrm>
        </p:grpSpPr>
        <p:sp>
          <p:nvSpPr>
            <p:cNvPr id="1069" name=""/>
            <p:cNvSpPr/>
            <p:nvPr/>
          </p:nvSpPr>
          <p:spPr>
            <a:xfrm flipH="1">
              <a:off x="2652840" y="6576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48040" y="68454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17800" y="681840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75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86000" y="6576840"/>
              <a:ext cx="353880" cy="27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"/>
          <p:cNvSpPr txBox="1"/>
          <p:nvPr/>
        </p:nvSpPr>
        <p:spPr>
          <a:xfrm>
            <a:off x="3268800" y="621180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2209680" y="665784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747720" y="403056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2206800" y="402912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1009800" y="44006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941480" y="43610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H="1">
            <a:off x="4214880" y="50846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6560" y="50450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023920" y="4400640"/>
            <a:ext cx="906840" cy="298800"/>
            <a:chOff x="2023920" y="4400640"/>
            <a:chExt cx="906840" cy="298800"/>
          </a:xfrm>
        </p:grpSpPr>
        <p:sp>
          <p:nvSpPr>
            <p:cNvPr id="1082" name=""/>
            <p:cNvSpPr/>
            <p:nvPr/>
          </p:nvSpPr>
          <p:spPr>
            <a:xfrm>
              <a:off x="2023920" y="4400640"/>
              <a:ext cx="26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2658960" y="4668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7560" y="464184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0" y="0"/>
                  </a:moveTo>
                  <a:lnTo>
                    <a:pt x="0" y="160"/>
                  </a:lnTo>
                  <a:lnTo>
                    <a:pt x="12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308320" y="440064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3308400" y="4815000"/>
            <a:ext cx="910080" cy="300240"/>
            <a:chOff x="3308400" y="4815000"/>
            <a:chExt cx="910080" cy="300240"/>
          </a:xfrm>
        </p:grpSpPr>
        <p:sp>
          <p:nvSpPr>
            <p:cNvPr id="1087" name=""/>
            <p:cNvSpPr/>
            <p:nvPr/>
          </p:nvSpPr>
          <p:spPr>
            <a:xfrm>
              <a:off x="3308400" y="4815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>
              <a:off x="3946680" y="50846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72040" y="505296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595680" y="4815000"/>
              <a:ext cx="351000" cy="26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"/>
          <p:cNvSpPr txBox="1"/>
          <p:nvPr/>
        </p:nvSpPr>
        <p:spPr>
          <a:xfrm>
            <a:off x="4221000" y="491652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241200" y="5254560"/>
            <a:ext cx="1679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cancel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2163600" y="516096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74920" y="43498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1009800" y="42195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41480" y="41814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4214880" y="490392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146560" y="486396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2023920" y="4219560"/>
            <a:ext cx="906840" cy="300600"/>
            <a:chOff x="2023920" y="4219560"/>
            <a:chExt cx="906840" cy="300600"/>
          </a:xfrm>
        </p:grpSpPr>
        <p:sp>
          <p:nvSpPr>
            <p:cNvPr id="1100" name=""/>
            <p:cNvSpPr/>
            <p:nvPr/>
          </p:nvSpPr>
          <p:spPr>
            <a:xfrm>
              <a:off x="2023920" y="4219560"/>
              <a:ext cx="268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658960" y="44895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887560" y="4457880"/>
              <a:ext cx="43200" cy="62280"/>
            </a:xfrm>
            <a:custGeom>
              <a:avLst/>
              <a:gdLst/>
              <a:ahLst/>
              <a:rect l="0" t="0" r="r" b="b"/>
              <a:pathLst>
                <a:path w="120" h="173">
                  <a:moveTo>
                    <a:pt x="0" y="0"/>
                  </a:moveTo>
                  <a:lnTo>
                    <a:pt x="0" y="173"/>
                  </a:lnTo>
                  <a:lnTo>
                    <a:pt x="120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08320" y="4219560"/>
              <a:ext cx="35064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"/>
          <p:cNvGrpSpPr/>
          <p:nvPr/>
        </p:nvGrpSpPr>
        <p:grpSpPr>
          <a:xfrm>
            <a:off x="3308400" y="4632480"/>
            <a:ext cx="910080" cy="302040"/>
            <a:chOff x="3308400" y="4632480"/>
            <a:chExt cx="910080" cy="302040"/>
          </a:xfrm>
        </p:grpSpPr>
        <p:sp>
          <p:nvSpPr>
            <p:cNvPr id="1105" name=""/>
            <p:cNvSpPr/>
            <p:nvPr/>
          </p:nvSpPr>
          <p:spPr>
            <a:xfrm>
              <a:off x="3308400" y="4632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>
              <a:off x="3946680" y="49039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172040" y="4873680"/>
              <a:ext cx="46440" cy="60840"/>
            </a:xfrm>
            <a:custGeom>
              <a:avLst/>
              <a:gdLst/>
              <a:ahLst/>
              <a:rect l="0" t="0" r="r" b="b"/>
              <a:pathLst>
                <a:path w="129" h="169">
                  <a:moveTo>
                    <a:pt x="0" y="0"/>
                  </a:moveTo>
                  <a:lnTo>
                    <a:pt x="0" y="169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595680" y="463248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9" name=""/>
          <p:cNvSpPr txBox="1"/>
          <p:nvPr/>
        </p:nvSpPr>
        <p:spPr>
          <a:xfrm>
            <a:off x="4221000" y="471168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1015920" y="4586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947960" y="45464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2030400" y="4586400"/>
            <a:ext cx="906840" cy="300240"/>
            <a:chOff x="2030400" y="4586400"/>
            <a:chExt cx="906840" cy="300240"/>
          </a:xfrm>
        </p:grpSpPr>
        <p:sp>
          <p:nvSpPr>
            <p:cNvPr id="1113" name=""/>
            <p:cNvSpPr/>
            <p:nvPr/>
          </p:nvSpPr>
          <p:spPr>
            <a:xfrm>
              <a:off x="2030400" y="458640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2664000" y="485784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894040" y="4827600"/>
              <a:ext cx="43200" cy="59040"/>
            </a:xfrm>
            <a:custGeom>
              <a:avLst/>
              <a:gdLst/>
              <a:ahLst/>
              <a:rect l="0" t="0" r="r" b="b"/>
              <a:pathLst>
                <a:path w="120" h="164">
                  <a:moveTo>
                    <a:pt x="0" y="0"/>
                  </a:moveTo>
                  <a:lnTo>
                    <a:pt x="0" y="164"/>
                  </a:lnTo>
                  <a:lnTo>
                    <a:pt x="120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313000" y="458640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3314880" y="5002200"/>
            <a:ext cx="909720" cy="298800"/>
            <a:chOff x="3314880" y="5002200"/>
            <a:chExt cx="909720" cy="298800"/>
          </a:xfrm>
        </p:grpSpPr>
        <p:sp>
          <p:nvSpPr>
            <p:cNvPr id="1118" name=""/>
            <p:cNvSpPr/>
            <p:nvPr/>
          </p:nvSpPr>
          <p:spPr>
            <a:xfrm>
              <a:off x="3314880" y="50022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952800" y="52704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78160" y="5243400"/>
              <a:ext cx="46440" cy="57600"/>
            </a:xfrm>
            <a:custGeom>
              <a:avLst/>
              <a:gdLst/>
              <a:ahLst/>
              <a:rect l="0" t="0" r="r" b="b"/>
              <a:pathLst>
                <a:path w="129" h="160">
                  <a:moveTo>
                    <a:pt x="0" y="0"/>
                  </a:moveTo>
                  <a:lnTo>
                    <a:pt x="0" y="160"/>
                  </a:lnTo>
                  <a:lnTo>
                    <a:pt x="129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02160" y="5002200"/>
              <a:ext cx="3506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 flipH="1">
            <a:off x="4221000" y="5270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151600" y="5234040"/>
            <a:ext cx="78120" cy="76680"/>
          </a:xfrm>
          <a:custGeom>
            <a:avLst/>
            <a:gdLst/>
            <a:ahLst/>
            <a:rect l="0" t="0" r="r" b="b"/>
            <a:pathLst>
              <a:path w="217" h="213">
                <a:moveTo>
                  <a:pt x="0" y="0"/>
                </a:moveTo>
                <a:lnTo>
                  <a:pt x="0" y="213"/>
                </a:lnTo>
                <a:lnTo>
                  <a:pt x="217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1058760" y="6845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1001880" y="680544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278160" y="24829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3228840" y="25052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3176640" y="252252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26" y="0"/>
                </a:moveTo>
                <a:lnTo>
                  <a:pt x="36" y="14"/>
                </a:lnTo>
                <a:lnTo>
                  <a:pt x="10" y="27"/>
                </a:lnTo>
                <a:lnTo>
                  <a:pt x="0" y="1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125880" y="25448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073320" y="256536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31" y="0"/>
                </a:moveTo>
                <a:lnTo>
                  <a:pt x="36" y="11"/>
                </a:lnTo>
                <a:lnTo>
                  <a:pt x="5" y="19"/>
                </a:lnTo>
                <a:lnTo>
                  <a:pt x="0" y="8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024360" y="258444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26" y="0"/>
                </a:moveTo>
                <a:lnTo>
                  <a:pt x="36" y="13"/>
                </a:lnTo>
                <a:lnTo>
                  <a:pt x="10" y="23"/>
                </a:lnTo>
                <a:lnTo>
                  <a:pt x="0" y="13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973240" y="26049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940120" y="258444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142" y="155"/>
                </a:moveTo>
                <a:lnTo>
                  <a:pt x="84" y="0"/>
                </a:lnTo>
                <a:lnTo>
                  <a:pt x="0" y="120"/>
                </a:lnTo>
                <a:lnTo>
                  <a:pt x="142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24280" y="34322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976480" y="34545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027240" y="34718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3076560" y="349416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125880" y="351144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0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3179880" y="35337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32080" y="35542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232080" y="3537000"/>
            <a:ext cx="55800" cy="54360"/>
          </a:xfrm>
          <a:custGeom>
            <a:avLst/>
            <a:gdLst/>
            <a:ahLst/>
            <a:rect l="0" t="0" r="r" b="b"/>
            <a:pathLst>
              <a:path w="155" h="151">
                <a:moveTo>
                  <a:pt x="66" y="0"/>
                </a:moveTo>
                <a:lnTo>
                  <a:pt x="0" y="151"/>
                </a:lnTo>
                <a:lnTo>
                  <a:pt x="155" y="121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924280" y="44766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976480" y="449748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027240" y="451656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3076560" y="45370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25880" y="455616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0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179880" y="45766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32080" y="459900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232080" y="4576680"/>
            <a:ext cx="55800" cy="55800"/>
          </a:xfrm>
          <a:custGeom>
            <a:avLst/>
            <a:gdLst/>
            <a:ahLst/>
            <a:rect l="0" t="0" r="r" b="b"/>
            <a:pathLst>
              <a:path w="155" h="155">
                <a:moveTo>
                  <a:pt x="66" y="0"/>
                </a:moveTo>
                <a:lnTo>
                  <a:pt x="0" y="155"/>
                </a:lnTo>
                <a:lnTo>
                  <a:pt x="155" y="120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924280" y="468144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976480" y="470232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024360" y="47242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076560" y="474516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129120" y="476712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176640" y="47880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28840" y="480996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232080" y="4794120"/>
            <a:ext cx="55800" cy="55800"/>
          </a:xfrm>
          <a:custGeom>
            <a:avLst/>
            <a:gdLst/>
            <a:ahLst/>
            <a:rect l="0" t="0" r="r" b="b"/>
            <a:pathLst>
              <a:path w="155" h="155">
                <a:moveTo>
                  <a:pt x="66" y="0"/>
                </a:moveTo>
                <a:lnTo>
                  <a:pt x="0" y="155"/>
                </a:lnTo>
                <a:lnTo>
                  <a:pt x="155" y="128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924280" y="48610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976480" y="488304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027240" y="49006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076560" y="49230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125880" y="494028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0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3179880" y="49626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8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232080" y="49831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232080" y="4965840"/>
            <a:ext cx="55800" cy="54360"/>
          </a:xfrm>
          <a:custGeom>
            <a:avLst/>
            <a:gdLst/>
            <a:ahLst/>
            <a:rect l="0" t="0" r="r" b="b"/>
            <a:pathLst>
              <a:path w="155" h="151">
                <a:moveTo>
                  <a:pt x="66" y="0"/>
                </a:moveTo>
                <a:lnTo>
                  <a:pt x="0" y="151"/>
                </a:lnTo>
                <a:lnTo>
                  <a:pt x="155" y="121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940120" y="57276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990880" y="574992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040200" y="576756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10" y="0"/>
                </a:moveTo>
                <a:lnTo>
                  <a:pt x="0" y="14"/>
                </a:lnTo>
                <a:lnTo>
                  <a:pt x="25" y="27"/>
                </a:lnTo>
                <a:lnTo>
                  <a:pt x="32" y="14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092400" y="578952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4" y="0"/>
                </a:moveTo>
                <a:lnTo>
                  <a:pt x="0" y="9"/>
                </a:lnTo>
                <a:lnTo>
                  <a:pt x="28" y="14"/>
                </a:lnTo>
                <a:lnTo>
                  <a:pt x="32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143160" y="58104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192480" y="5829480"/>
            <a:ext cx="12960" cy="8280"/>
          </a:xfrm>
          <a:custGeom>
            <a:avLst/>
            <a:gdLst/>
            <a:ahLst/>
            <a:rect l="0" t="0" r="r" b="b"/>
            <a:pathLst>
              <a:path w="36" h="23">
                <a:moveTo>
                  <a:pt x="10" y="0"/>
                </a:moveTo>
                <a:lnTo>
                  <a:pt x="0" y="13"/>
                </a:lnTo>
                <a:lnTo>
                  <a:pt x="26" y="23"/>
                </a:lnTo>
                <a:lnTo>
                  <a:pt x="36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3247920" y="585000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47920" y="5829480"/>
            <a:ext cx="51120" cy="54360"/>
          </a:xfrm>
          <a:custGeom>
            <a:avLst/>
            <a:gdLst/>
            <a:ahLst/>
            <a:rect l="0" t="0" r="r" b="b"/>
            <a:pathLst>
              <a:path w="142" h="151">
                <a:moveTo>
                  <a:pt x="57" y="0"/>
                </a:moveTo>
                <a:lnTo>
                  <a:pt x="0" y="151"/>
                </a:lnTo>
                <a:lnTo>
                  <a:pt x="142" y="129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238560" y="642456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8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3189240" y="64450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138480" y="646416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2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085920" y="648504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033720" y="6504120"/>
            <a:ext cx="16200" cy="8280"/>
          </a:xfrm>
          <a:custGeom>
            <a:avLst/>
            <a:gdLst/>
            <a:ahLst/>
            <a:rect l="0" t="0" r="r" b="b"/>
            <a:pathLst>
              <a:path w="45" h="23">
                <a:moveTo>
                  <a:pt x="34" y="0"/>
                </a:moveTo>
                <a:lnTo>
                  <a:pt x="45" y="10"/>
                </a:lnTo>
                <a:lnTo>
                  <a:pt x="11" y="23"/>
                </a:lnTo>
                <a:lnTo>
                  <a:pt x="0" y="1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984400" y="652464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33640" y="654696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8"/>
                </a:lnTo>
                <a:lnTo>
                  <a:pt x="4" y="14"/>
                </a:lnTo>
                <a:lnTo>
                  <a:pt x="0" y="4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897280" y="6524640"/>
            <a:ext cx="51120" cy="55800"/>
          </a:xfrm>
          <a:custGeom>
            <a:avLst/>
            <a:gdLst/>
            <a:ahLst/>
            <a:rect l="0" t="0" r="r" b="b"/>
            <a:pathLst>
              <a:path w="142" h="155">
                <a:moveTo>
                  <a:pt x="142" y="155"/>
                </a:moveTo>
                <a:lnTo>
                  <a:pt x="84" y="0"/>
                </a:lnTo>
                <a:lnTo>
                  <a:pt x="0" y="120"/>
                </a:lnTo>
                <a:lnTo>
                  <a:pt x="142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6119640" y="4159080"/>
            <a:ext cx="522360" cy="1758960"/>
            <a:chOff x="6119640" y="4159080"/>
            <a:chExt cx="522360" cy="1758960"/>
          </a:xfrm>
        </p:grpSpPr>
        <p:grpSp>
          <p:nvGrpSpPr>
            <p:cNvPr id="1183" name=""/>
            <p:cNvGrpSpPr/>
            <p:nvPr/>
          </p:nvGrpSpPr>
          <p:grpSpPr>
            <a:xfrm>
              <a:off x="6119640" y="4159080"/>
              <a:ext cx="182880" cy="1758960"/>
              <a:chOff x="6119640" y="4159080"/>
              <a:chExt cx="182880" cy="1758960"/>
            </a:xfrm>
          </p:grpSpPr>
          <p:sp>
            <p:nvSpPr>
              <p:cNvPr id="1184" name=""/>
              <p:cNvSpPr/>
              <p:nvPr/>
            </p:nvSpPr>
            <p:spPr>
              <a:xfrm flipH="1">
                <a:off x="6215040" y="4159080"/>
                <a:ext cx="79560" cy="17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119640" y="5810400"/>
                <a:ext cx="88920" cy="1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>
                <a:off x="6215040" y="5810400"/>
                <a:ext cx="87480" cy="10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37280" y="4172040"/>
                <a:ext cx="79200" cy="172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37280" y="4162320"/>
                <a:ext cx="8892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>
                <a:off x="6199200" y="4159080"/>
                <a:ext cx="92160" cy="9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"/>
            <p:cNvSpPr txBox="1"/>
            <p:nvPr/>
          </p:nvSpPr>
          <p:spPr>
            <a:xfrm>
              <a:off x="6342120" y="467028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 txBox="1"/>
            <p:nvPr/>
          </p:nvSpPr>
          <p:spPr>
            <a:xfrm>
              <a:off x="6342120" y="482904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6342120" y="498780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 txBox="1"/>
            <p:nvPr/>
          </p:nvSpPr>
          <p:spPr>
            <a:xfrm>
              <a:off x="6342120" y="514656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"/>
          <p:cNvSpPr/>
          <p:nvPr/>
        </p:nvSpPr>
        <p:spPr>
          <a:xfrm>
            <a:off x="3390840" y="255744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360600" y="347184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169" y="0"/>
                </a:moveTo>
                <a:lnTo>
                  <a:pt x="0" y="0"/>
                </a:lnTo>
                <a:lnTo>
                  <a:pt x="84" y="129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60600" y="252252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0" y="129"/>
                </a:moveTo>
                <a:lnTo>
                  <a:pt x="169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968560" y="294012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467160" y="2554200"/>
            <a:ext cx="0" cy="1876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436920" y="442116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169" y="0"/>
                </a:moveTo>
                <a:lnTo>
                  <a:pt x="0" y="0"/>
                </a:lnTo>
                <a:lnTo>
                  <a:pt x="84" y="120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436920" y="2521080"/>
            <a:ext cx="60840" cy="41760"/>
          </a:xfrm>
          <a:custGeom>
            <a:avLst/>
            <a:gdLst/>
            <a:ahLst/>
            <a:rect l="0" t="0" r="r" b="b"/>
            <a:pathLst>
              <a:path w="169" h="116">
                <a:moveTo>
                  <a:pt x="0" y="116"/>
                </a:moveTo>
                <a:lnTo>
                  <a:pt x="169" y="116"/>
                </a:lnTo>
                <a:lnTo>
                  <a:pt x="84" y="0"/>
                </a:lnTo>
                <a:lnTo>
                  <a:pt x="0" y="1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3421080" y="3935520"/>
            <a:ext cx="59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2(*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747720" y="421308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747720" y="4394160"/>
            <a:ext cx="85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4221000" y="5072040"/>
            <a:ext cx="851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repo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59040" y="580716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728800" y="6488280"/>
            <a:ext cx="60840" cy="43200"/>
          </a:xfrm>
          <a:custGeom>
            <a:avLst/>
            <a:gdLst/>
            <a:ahLst/>
            <a:rect l="0" t="0" r="r" b="b"/>
            <a:pathLst>
              <a:path w="169" h="120">
                <a:moveTo>
                  <a:pt x="169" y="0"/>
                </a:moveTo>
                <a:lnTo>
                  <a:pt x="0" y="0"/>
                </a:lnTo>
                <a:lnTo>
                  <a:pt x="84" y="120"/>
                </a:lnTo>
                <a:lnTo>
                  <a:pt x="169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728800" y="5773680"/>
            <a:ext cx="60840" cy="46440"/>
          </a:xfrm>
          <a:custGeom>
            <a:avLst/>
            <a:gdLst/>
            <a:ahLst/>
            <a:rect l="0" t="0" r="r" b="b"/>
            <a:pathLst>
              <a:path w="169" h="129">
                <a:moveTo>
                  <a:pt x="0" y="129"/>
                </a:moveTo>
                <a:lnTo>
                  <a:pt x="169" y="129"/>
                </a:lnTo>
                <a:lnTo>
                  <a:pt x="84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2336760" y="593712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3489480" y="1246320"/>
            <a:ext cx="0" cy="37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122640" y="1243080"/>
            <a:ext cx="0" cy="3778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208240" y="792000"/>
            <a:ext cx="0" cy="449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402080" y="792000"/>
            <a:ext cx="0" cy="449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982800" y="8002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2695680" y="81756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722680" y="8002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4459320" y="8064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454640" y="1332000"/>
            <a:ext cx="9507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398840" y="12924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258920" y="201456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03480" y="19782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1203480" y="2286000"/>
            <a:ext cx="947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131920" y="2249640"/>
            <a:ext cx="76680" cy="74880"/>
          </a:xfrm>
          <a:custGeom>
            <a:avLst/>
            <a:gdLst/>
            <a:ahLst/>
            <a:rect l="0" t="0" r="r" b="b"/>
            <a:pathLst>
              <a:path w="213" h="208">
                <a:moveTo>
                  <a:pt x="0" y="0"/>
                </a:moveTo>
                <a:lnTo>
                  <a:pt x="0" y="208"/>
                </a:lnTo>
                <a:lnTo>
                  <a:pt x="213" y="1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4398840" y="2992320"/>
            <a:ext cx="947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329080" y="295272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0" y="0"/>
                </a:moveTo>
                <a:lnTo>
                  <a:pt x="0" y="221"/>
                </a:lnTo>
                <a:lnTo>
                  <a:pt x="213" y="1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3492360" y="1332000"/>
            <a:ext cx="906480" cy="298800"/>
            <a:chOff x="3492360" y="1332000"/>
            <a:chExt cx="906480" cy="298800"/>
          </a:xfrm>
        </p:grpSpPr>
        <p:sp>
          <p:nvSpPr>
            <p:cNvPr id="1226" name=""/>
            <p:cNvSpPr/>
            <p:nvPr/>
          </p:nvSpPr>
          <p:spPr>
            <a:xfrm flipH="1">
              <a:off x="4129200" y="1332000"/>
              <a:ext cx="269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25840" y="16034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492360" y="1573200"/>
              <a:ext cx="44640" cy="57600"/>
            </a:xfrm>
            <a:custGeom>
              <a:avLst/>
              <a:gdLst/>
              <a:ahLst/>
              <a:rect l="0" t="0" r="r" b="b"/>
              <a:pathLst>
                <a:path w="124" h="160">
                  <a:moveTo>
                    <a:pt x="124" y="160"/>
                  </a:moveTo>
                  <a:lnTo>
                    <a:pt x="124" y="0"/>
                  </a:lnTo>
                  <a:lnTo>
                    <a:pt x="0" y="84"/>
                  </a:lnTo>
                  <a:lnTo>
                    <a:pt x="124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>
              <a:off x="3762360" y="1332000"/>
              <a:ext cx="35100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2214720" y="2286000"/>
            <a:ext cx="908280" cy="302040"/>
            <a:chOff x="2214720" y="2286000"/>
            <a:chExt cx="908280" cy="302040"/>
          </a:xfrm>
        </p:grpSpPr>
        <p:sp>
          <p:nvSpPr>
            <p:cNvPr id="1231" name=""/>
            <p:cNvSpPr/>
            <p:nvPr/>
          </p:nvSpPr>
          <p:spPr>
            <a:xfrm>
              <a:off x="2214720" y="2286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2851200" y="2556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76560" y="2525760"/>
              <a:ext cx="46440" cy="62280"/>
            </a:xfrm>
            <a:custGeom>
              <a:avLst/>
              <a:gdLst/>
              <a:ahLst/>
              <a:rect l="0" t="0" r="r" b="b"/>
              <a:pathLst>
                <a:path w="129" h="173">
                  <a:moveTo>
                    <a:pt x="0" y="0"/>
                  </a:moveTo>
                  <a:lnTo>
                    <a:pt x="0" y="173"/>
                  </a:lnTo>
                  <a:lnTo>
                    <a:pt x="129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02000" y="2286000"/>
              <a:ext cx="34920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2214720" y="1746360"/>
            <a:ext cx="907920" cy="298800"/>
            <a:chOff x="2214720" y="1746360"/>
            <a:chExt cx="907920" cy="298800"/>
          </a:xfrm>
        </p:grpSpPr>
        <p:sp>
          <p:nvSpPr>
            <p:cNvPr id="1236" name=""/>
            <p:cNvSpPr/>
            <p:nvPr/>
          </p:nvSpPr>
          <p:spPr>
            <a:xfrm flipH="1">
              <a:off x="2851200" y="17463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247840" y="20178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14720" y="198612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9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486160" y="17463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3497400" y="2700360"/>
            <a:ext cx="908280" cy="298800"/>
            <a:chOff x="3497400" y="2700360"/>
            <a:chExt cx="908280" cy="298800"/>
          </a:xfrm>
        </p:grpSpPr>
        <p:sp>
          <p:nvSpPr>
            <p:cNvPr id="1241" name=""/>
            <p:cNvSpPr/>
            <p:nvPr/>
          </p:nvSpPr>
          <p:spPr>
            <a:xfrm>
              <a:off x="3497400" y="27003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4135320" y="297036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61040" y="2940120"/>
              <a:ext cx="44640" cy="59040"/>
            </a:xfrm>
            <a:custGeom>
              <a:avLst/>
              <a:gdLst/>
              <a:ahLst/>
              <a:rect l="0" t="0" r="r" b="b"/>
              <a:pathLst>
                <a:path w="124" h="164">
                  <a:moveTo>
                    <a:pt x="0" y="0"/>
                  </a:moveTo>
                  <a:lnTo>
                    <a:pt x="0" y="164"/>
                  </a:lnTo>
                  <a:lnTo>
                    <a:pt x="124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84680" y="2700360"/>
              <a:ext cx="350640" cy="270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5" name=""/>
          <p:cNvSpPr txBox="1"/>
          <p:nvPr/>
        </p:nvSpPr>
        <p:spPr>
          <a:xfrm>
            <a:off x="4441680" y="115416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498920" y="282096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498920" y="29368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895320" y="1789200"/>
            <a:ext cx="1319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 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828720" y="211788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828720" y="223344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3470400" y="114156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2373480" y="1552680"/>
            <a:ext cx="7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336760" y="2093760"/>
            <a:ext cx="793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689280" y="250524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678120" y="1673280"/>
            <a:ext cx="0" cy="92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646440" y="2587680"/>
            <a:ext cx="62280" cy="44640"/>
          </a:xfrm>
          <a:custGeom>
            <a:avLst/>
            <a:gdLst/>
            <a:ahLst/>
            <a:rect l="0" t="0" r="r" b="b"/>
            <a:pathLst>
              <a:path w="173" h="124">
                <a:moveTo>
                  <a:pt x="173" y="0"/>
                </a:moveTo>
                <a:lnTo>
                  <a:pt x="0" y="0"/>
                </a:lnTo>
                <a:lnTo>
                  <a:pt x="89" y="124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646440" y="163980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597120" y="196704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UC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3476520" y="160020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28" y="0"/>
                </a:moveTo>
                <a:lnTo>
                  <a:pt x="32" y="9"/>
                </a:lnTo>
                <a:lnTo>
                  <a:pt x="4" y="14"/>
                </a:lnTo>
                <a:lnTo>
                  <a:pt x="0" y="5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427560" y="162072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376440" y="16398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2" y="0"/>
                </a:moveTo>
                <a:lnTo>
                  <a:pt x="32" y="10"/>
                </a:lnTo>
                <a:lnTo>
                  <a:pt x="7" y="23"/>
                </a:lnTo>
                <a:lnTo>
                  <a:pt x="0" y="1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324240" y="166068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271680" y="168264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8"/>
                </a:lnTo>
                <a:lnTo>
                  <a:pt x="5" y="14"/>
                </a:lnTo>
                <a:lnTo>
                  <a:pt x="0" y="4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224160" y="17002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22" y="0"/>
                </a:moveTo>
                <a:lnTo>
                  <a:pt x="32" y="14"/>
                </a:lnTo>
                <a:lnTo>
                  <a:pt x="7" y="27"/>
                </a:lnTo>
                <a:lnTo>
                  <a:pt x="0" y="14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3171960" y="17226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8"/>
                </a:lnTo>
                <a:lnTo>
                  <a:pt x="4" y="14"/>
                </a:lnTo>
                <a:lnTo>
                  <a:pt x="0" y="4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3138480" y="170028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147" y="155"/>
                </a:moveTo>
                <a:lnTo>
                  <a:pt x="84" y="0"/>
                </a:lnTo>
                <a:lnTo>
                  <a:pt x="0" y="120"/>
                </a:lnTo>
                <a:lnTo>
                  <a:pt x="147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122640" y="25480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8"/>
                </a:lnTo>
                <a:lnTo>
                  <a:pt x="31" y="14"/>
                </a:lnTo>
                <a:lnTo>
                  <a:pt x="36" y="4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174840" y="256860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21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224160" y="25876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0"/>
                </a:lnTo>
                <a:lnTo>
                  <a:pt x="22" y="23"/>
                </a:lnTo>
                <a:lnTo>
                  <a:pt x="32" y="1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274920" y="260820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327480" y="26287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376440" y="26478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7" y="0"/>
                </a:moveTo>
                <a:lnTo>
                  <a:pt x="0" y="13"/>
                </a:lnTo>
                <a:lnTo>
                  <a:pt x="22" y="23"/>
                </a:lnTo>
                <a:lnTo>
                  <a:pt x="32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3430440" y="26686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430440" y="26510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21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222800" y="301608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95800" y="3479760"/>
            <a:ext cx="57600" cy="43200"/>
          </a:xfrm>
          <a:custGeom>
            <a:avLst/>
            <a:gdLst/>
            <a:ahLst/>
            <a:rect l="0" t="0" r="r" b="b"/>
            <a:pathLst>
              <a:path w="160" h="120">
                <a:moveTo>
                  <a:pt x="160" y="0"/>
                </a:moveTo>
                <a:lnTo>
                  <a:pt x="0" y="0"/>
                </a:lnTo>
                <a:lnTo>
                  <a:pt x="75" y="120"/>
                </a:lnTo>
                <a:lnTo>
                  <a:pt x="16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195800" y="2982960"/>
            <a:ext cx="57600" cy="46440"/>
          </a:xfrm>
          <a:custGeom>
            <a:avLst/>
            <a:gdLst/>
            <a:ahLst/>
            <a:rect l="0" t="0" r="r" b="b"/>
            <a:pathLst>
              <a:path w="160" h="129">
                <a:moveTo>
                  <a:pt x="0" y="129"/>
                </a:moveTo>
                <a:lnTo>
                  <a:pt x="160" y="129"/>
                </a:lnTo>
                <a:lnTo>
                  <a:pt x="75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489480" y="3525840"/>
            <a:ext cx="907920" cy="298800"/>
            <a:chOff x="3489480" y="3525840"/>
            <a:chExt cx="907920" cy="298800"/>
          </a:xfrm>
        </p:grpSpPr>
        <p:sp>
          <p:nvSpPr>
            <p:cNvPr id="1279" name=""/>
            <p:cNvSpPr/>
            <p:nvPr/>
          </p:nvSpPr>
          <p:spPr>
            <a:xfrm flipH="1">
              <a:off x="4125960" y="3525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522600" y="379260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489480" y="3762360"/>
              <a:ext cx="44640" cy="62280"/>
            </a:xfrm>
            <a:custGeom>
              <a:avLst/>
              <a:gdLst/>
              <a:ahLst/>
              <a:rect l="0" t="0" r="r" b="b"/>
              <a:pathLst>
                <a:path w="124" h="173">
                  <a:moveTo>
                    <a:pt x="124" y="173"/>
                  </a:moveTo>
                  <a:lnTo>
                    <a:pt x="124" y="0"/>
                  </a:lnTo>
                  <a:lnTo>
                    <a:pt x="0" y="84"/>
                  </a:lnTo>
                  <a:lnTo>
                    <a:pt x="124" y="17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59120" y="3525840"/>
              <a:ext cx="351000" cy="266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 flipH="1">
            <a:off x="2849400" y="4478400"/>
            <a:ext cx="23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75120" y="4448160"/>
            <a:ext cx="44640" cy="57600"/>
          </a:xfrm>
          <a:custGeom>
            <a:avLst/>
            <a:gdLst/>
            <a:ahLst/>
            <a:rect l="0" t="0" r="r" b="b"/>
            <a:pathLst>
              <a:path w="124" h="160">
                <a:moveTo>
                  <a:pt x="0" y="0"/>
                </a:moveTo>
                <a:lnTo>
                  <a:pt x="0" y="160"/>
                </a:lnTo>
                <a:lnTo>
                  <a:pt x="124" y="8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3494160" y="4621320"/>
            <a:ext cx="908280" cy="298800"/>
            <a:chOff x="3494160" y="4621320"/>
            <a:chExt cx="908280" cy="298800"/>
          </a:xfrm>
        </p:grpSpPr>
        <p:sp>
          <p:nvSpPr>
            <p:cNvPr id="1286" name=""/>
            <p:cNvSpPr/>
            <p:nvPr/>
          </p:nvSpPr>
          <p:spPr>
            <a:xfrm>
              <a:off x="3494160" y="46213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4132440" y="4889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57800" y="4862520"/>
              <a:ext cx="44640" cy="57600"/>
            </a:xfrm>
            <a:custGeom>
              <a:avLst/>
              <a:gdLst/>
              <a:ahLst/>
              <a:rect l="0" t="0" r="r" b="b"/>
              <a:pathLst>
                <a:path w="124" h="160">
                  <a:moveTo>
                    <a:pt x="0" y="0"/>
                  </a:moveTo>
                  <a:lnTo>
                    <a:pt x="0" y="160"/>
                  </a:lnTo>
                  <a:lnTo>
                    <a:pt x="124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78200" y="4621320"/>
              <a:ext cx="35424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"/>
          <p:cNvSpPr txBox="1"/>
          <p:nvPr/>
        </p:nvSpPr>
        <p:spPr>
          <a:xfrm>
            <a:off x="2390760" y="3700440"/>
            <a:ext cx="698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333520" y="424188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2333520" y="435780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675240" y="3865680"/>
            <a:ext cx="0" cy="65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643200" y="450540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173" y="0"/>
                </a:moveTo>
                <a:lnTo>
                  <a:pt x="0" y="0"/>
                </a:lnTo>
                <a:lnTo>
                  <a:pt x="89" y="129"/>
                </a:lnTo>
                <a:lnTo>
                  <a:pt x="17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643200" y="3832200"/>
            <a:ext cx="62280" cy="46440"/>
          </a:xfrm>
          <a:custGeom>
            <a:avLst/>
            <a:gdLst/>
            <a:ahLst/>
            <a:rect l="0" t="0" r="r" b="b"/>
            <a:pathLst>
              <a:path w="173" h="129">
                <a:moveTo>
                  <a:pt x="0" y="129"/>
                </a:moveTo>
                <a:lnTo>
                  <a:pt x="173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3473280" y="37893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30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424320" y="381168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23" y="0"/>
                </a:moveTo>
                <a:lnTo>
                  <a:pt x="27" y="9"/>
                </a:lnTo>
                <a:lnTo>
                  <a:pt x="4" y="14"/>
                </a:lnTo>
                <a:lnTo>
                  <a:pt x="0" y="5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3373560" y="382896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19" y="0"/>
                </a:moveTo>
                <a:lnTo>
                  <a:pt x="23" y="11"/>
                </a:lnTo>
                <a:lnTo>
                  <a:pt x="4" y="19"/>
                </a:lnTo>
                <a:lnTo>
                  <a:pt x="0" y="8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321000" y="3851280"/>
            <a:ext cx="11520" cy="5040"/>
          </a:xfrm>
          <a:custGeom>
            <a:avLst/>
            <a:gdLst/>
            <a:ahLst/>
            <a:rect l="0" t="0" r="r" b="b"/>
            <a:pathLst>
              <a:path w="32" h="14">
                <a:moveTo>
                  <a:pt x="30" y="0"/>
                </a:moveTo>
                <a:lnTo>
                  <a:pt x="32" y="9"/>
                </a:lnTo>
                <a:lnTo>
                  <a:pt x="4" y="14"/>
                </a:lnTo>
                <a:lnTo>
                  <a:pt x="0" y="5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268800" y="3868560"/>
            <a:ext cx="16200" cy="9720"/>
          </a:xfrm>
          <a:custGeom>
            <a:avLst/>
            <a:gdLst/>
            <a:ahLst/>
            <a:rect l="0" t="0" r="r" b="b"/>
            <a:pathLst>
              <a:path w="45" h="27">
                <a:moveTo>
                  <a:pt x="34" y="0"/>
                </a:moveTo>
                <a:lnTo>
                  <a:pt x="45" y="14"/>
                </a:lnTo>
                <a:lnTo>
                  <a:pt x="11" y="27"/>
                </a:lnTo>
                <a:lnTo>
                  <a:pt x="0" y="1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3220920" y="389088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168720" y="391176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132000" y="389412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147" y="151"/>
                </a:moveTo>
                <a:lnTo>
                  <a:pt x="84" y="0"/>
                </a:lnTo>
                <a:lnTo>
                  <a:pt x="0" y="121"/>
                </a:lnTo>
                <a:lnTo>
                  <a:pt x="147" y="15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116160" y="44686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168720" y="4491000"/>
            <a:ext cx="9720" cy="5040"/>
          </a:xfrm>
          <a:custGeom>
            <a:avLst/>
            <a:gdLst/>
            <a:ahLst/>
            <a:rect l="0" t="0" r="r" b="b"/>
            <a:pathLst>
              <a:path w="27" h="14">
                <a:moveTo>
                  <a:pt x="4" y="0"/>
                </a:moveTo>
                <a:lnTo>
                  <a:pt x="0" y="9"/>
                </a:lnTo>
                <a:lnTo>
                  <a:pt x="23" y="14"/>
                </a:lnTo>
                <a:lnTo>
                  <a:pt x="27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220920" y="4508640"/>
            <a:ext cx="8280" cy="6840"/>
          </a:xfrm>
          <a:custGeom>
            <a:avLst/>
            <a:gdLst/>
            <a:ahLst/>
            <a:rect l="0" t="0" r="r" b="b"/>
            <a:pathLst>
              <a:path w="23" h="19">
                <a:moveTo>
                  <a:pt x="4" y="0"/>
                </a:moveTo>
                <a:lnTo>
                  <a:pt x="0" y="11"/>
                </a:lnTo>
                <a:lnTo>
                  <a:pt x="19" y="19"/>
                </a:lnTo>
                <a:lnTo>
                  <a:pt x="23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268800" y="45306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317760" y="4548240"/>
            <a:ext cx="14760" cy="9720"/>
          </a:xfrm>
          <a:custGeom>
            <a:avLst/>
            <a:gdLst/>
            <a:ahLst/>
            <a:rect l="0" t="0" r="r" b="b"/>
            <a:pathLst>
              <a:path w="41" h="27">
                <a:moveTo>
                  <a:pt x="11" y="0"/>
                </a:moveTo>
                <a:lnTo>
                  <a:pt x="0" y="14"/>
                </a:lnTo>
                <a:lnTo>
                  <a:pt x="33" y="27"/>
                </a:lnTo>
                <a:lnTo>
                  <a:pt x="41" y="14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373560" y="457056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8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424320" y="45910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427560" y="4573440"/>
            <a:ext cx="52920" cy="54360"/>
          </a:xfrm>
          <a:custGeom>
            <a:avLst/>
            <a:gdLst/>
            <a:ahLst/>
            <a:rect l="0" t="0" r="r" b="b"/>
            <a:pathLst>
              <a:path w="147" h="151">
                <a:moveTo>
                  <a:pt x="62" y="0"/>
                </a:moveTo>
                <a:lnTo>
                  <a:pt x="0" y="151"/>
                </a:lnTo>
                <a:lnTo>
                  <a:pt x="147" y="116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3470400" y="3392640"/>
            <a:ext cx="6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506760" y="313704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ina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689280" y="466884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END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3689280" y="4784760"/>
            <a:ext cx="550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accep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3597120" y="394956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-LI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6330960" y="2413080"/>
            <a:ext cx="525240" cy="1754280"/>
            <a:chOff x="6330960" y="2413080"/>
            <a:chExt cx="525240" cy="1754280"/>
          </a:xfrm>
        </p:grpSpPr>
        <p:grpSp>
          <p:nvGrpSpPr>
            <p:cNvPr id="1318" name=""/>
            <p:cNvGrpSpPr/>
            <p:nvPr/>
          </p:nvGrpSpPr>
          <p:grpSpPr>
            <a:xfrm>
              <a:off x="6330960" y="2413080"/>
              <a:ext cx="185760" cy="1754280"/>
              <a:chOff x="6330960" y="2413080"/>
              <a:chExt cx="185760" cy="1754280"/>
            </a:xfrm>
          </p:grpSpPr>
          <p:sp>
            <p:nvSpPr>
              <p:cNvPr id="1319" name=""/>
              <p:cNvSpPr/>
              <p:nvPr/>
            </p:nvSpPr>
            <p:spPr>
              <a:xfrm flipH="1">
                <a:off x="6426360" y="2413080"/>
                <a:ext cx="82440" cy="17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30960" y="4060800"/>
                <a:ext cx="921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6426360" y="4060800"/>
                <a:ext cx="90360" cy="10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350040" y="2425680"/>
                <a:ext cx="82440" cy="172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350040" y="2416320"/>
                <a:ext cx="9036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6413400" y="24130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5" name=""/>
            <p:cNvSpPr txBox="1"/>
            <p:nvPr/>
          </p:nvSpPr>
          <p:spPr>
            <a:xfrm>
              <a:off x="6556320" y="292248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 txBox="1"/>
            <p:nvPr/>
          </p:nvSpPr>
          <p:spPr>
            <a:xfrm>
              <a:off x="6556320" y="308124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 txBox="1"/>
            <p:nvPr/>
          </p:nvSpPr>
          <p:spPr>
            <a:xfrm>
              <a:off x="6556320" y="324000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 txBox="1"/>
            <p:nvPr/>
          </p:nvSpPr>
          <p:spPr>
            <a:xfrm>
              <a:off x="6556320" y="339876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2897280" y="393696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867040" y="3905280"/>
            <a:ext cx="43200" cy="62280"/>
          </a:xfrm>
          <a:custGeom>
            <a:avLst/>
            <a:gdLst/>
            <a:ahLst/>
            <a:rect l="0" t="0" r="r" b="b"/>
            <a:pathLst>
              <a:path w="120" h="173">
                <a:moveTo>
                  <a:pt x="120" y="173"/>
                </a:moveTo>
                <a:lnTo>
                  <a:pt x="120" y="0"/>
                </a:lnTo>
                <a:lnTo>
                  <a:pt x="0" y="89"/>
                </a:lnTo>
                <a:lnTo>
                  <a:pt x="120" y="17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"/>
          <p:cNvSpPr/>
          <p:nvPr/>
        </p:nvSpPr>
        <p:spPr>
          <a:xfrm>
            <a:off x="3346560" y="2844720"/>
            <a:ext cx="0" cy="19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979720" y="2844720"/>
            <a:ext cx="0" cy="198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065320" y="2389320"/>
            <a:ext cx="0" cy="24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262400" y="2389320"/>
            <a:ext cx="0" cy="247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932040" y="240660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Ground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2552760" y="2419200"/>
            <a:ext cx="2127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2579760" y="2400480"/>
            <a:ext cx="1419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 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4319640" y="2406600"/>
            <a:ext cx="925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IS-Air-U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4317840" y="29304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4259160" y="2890800"/>
            <a:ext cx="76680" cy="79560"/>
          </a:xfrm>
          <a:custGeom>
            <a:avLst/>
            <a:gdLst/>
            <a:ahLst/>
            <a:rect l="0" t="0" r="r" b="b"/>
            <a:pathLst>
              <a:path w="213" h="221">
                <a:moveTo>
                  <a:pt x="213" y="221"/>
                </a:moveTo>
                <a:lnTo>
                  <a:pt x="213" y="0"/>
                </a:lnTo>
                <a:lnTo>
                  <a:pt x="0" y="111"/>
                </a:lnTo>
                <a:lnTo>
                  <a:pt x="213" y="2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112760" y="3614760"/>
            <a:ext cx="9525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057320" y="357840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213" y="213"/>
                </a:moveTo>
                <a:lnTo>
                  <a:pt x="213" y="0"/>
                </a:lnTo>
                <a:lnTo>
                  <a:pt x="0" y="102"/>
                </a:lnTo>
                <a:lnTo>
                  <a:pt x="213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057320" y="388620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989000" y="3849840"/>
            <a:ext cx="76680" cy="76680"/>
          </a:xfrm>
          <a:custGeom>
            <a:avLst/>
            <a:gdLst/>
            <a:ahLst/>
            <a:rect l="0" t="0" r="r" b="b"/>
            <a:pathLst>
              <a:path w="213" h="213">
                <a:moveTo>
                  <a:pt x="0" y="0"/>
                </a:moveTo>
                <a:lnTo>
                  <a:pt x="0" y="213"/>
                </a:lnTo>
                <a:lnTo>
                  <a:pt x="213" y="10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265640" y="4575240"/>
            <a:ext cx="9493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195880" y="4533840"/>
            <a:ext cx="76680" cy="78120"/>
          </a:xfrm>
          <a:custGeom>
            <a:avLst/>
            <a:gdLst/>
            <a:ahLst/>
            <a:rect l="0" t="0" r="r" b="b"/>
            <a:pathLst>
              <a:path w="213" h="217">
                <a:moveTo>
                  <a:pt x="0" y="0"/>
                </a:moveTo>
                <a:lnTo>
                  <a:pt x="0" y="217"/>
                </a:lnTo>
                <a:lnTo>
                  <a:pt x="213" y="1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3349800" y="2930400"/>
            <a:ext cx="909360" cy="300600"/>
            <a:chOff x="3349800" y="2930400"/>
            <a:chExt cx="909360" cy="300600"/>
          </a:xfrm>
        </p:grpSpPr>
        <p:sp>
          <p:nvSpPr>
            <p:cNvPr id="1348" name=""/>
            <p:cNvSpPr/>
            <p:nvPr/>
          </p:nvSpPr>
          <p:spPr>
            <a:xfrm flipH="1">
              <a:off x="3987720" y="29304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382920" y="32018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49800" y="31719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129" y="164"/>
                  </a:moveTo>
                  <a:lnTo>
                    <a:pt x="129" y="0"/>
                  </a:lnTo>
                  <a:lnTo>
                    <a:pt x="0" y="84"/>
                  </a:lnTo>
                  <a:lnTo>
                    <a:pt x="129" y="16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3621240" y="293040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2073240" y="3886200"/>
            <a:ext cx="906840" cy="303840"/>
            <a:chOff x="2073240" y="3886200"/>
            <a:chExt cx="906840" cy="303840"/>
          </a:xfrm>
        </p:grpSpPr>
        <p:sp>
          <p:nvSpPr>
            <p:cNvPr id="1353" name=""/>
            <p:cNvSpPr/>
            <p:nvPr/>
          </p:nvSpPr>
          <p:spPr>
            <a:xfrm>
              <a:off x="2073240" y="3886200"/>
              <a:ext cx="270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2708280" y="415908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938320" y="4129200"/>
              <a:ext cx="41760" cy="60840"/>
            </a:xfrm>
            <a:custGeom>
              <a:avLst/>
              <a:gdLst/>
              <a:ahLst/>
              <a:rect l="0" t="0" r="r" b="b"/>
              <a:pathLst>
                <a:path w="116" h="169">
                  <a:moveTo>
                    <a:pt x="0" y="0"/>
                  </a:moveTo>
                  <a:lnTo>
                    <a:pt x="0" y="169"/>
                  </a:lnTo>
                  <a:lnTo>
                    <a:pt x="116" y="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57280" y="3886200"/>
              <a:ext cx="35100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2073240" y="3346560"/>
            <a:ext cx="906480" cy="298800"/>
            <a:chOff x="2073240" y="3346560"/>
            <a:chExt cx="906480" cy="298800"/>
          </a:xfrm>
        </p:grpSpPr>
        <p:sp>
          <p:nvSpPr>
            <p:cNvPr id="1358" name=""/>
            <p:cNvSpPr/>
            <p:nvPr/>
          </p:nvSpPr>
          <p:spPr>
            <a:xfrm flipH="1">
              <a:off x="2708280" y="3346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04920" y="361800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73240" y="3587760"/>
              <a:ext cx="43200" cy="57600"/>
            </a:xfrm>
            <a:custGeom>
              <a:avLst/>
              <a:gdLst/>
              <a:ahLst/>
              <a:rect l="0" t="0" r="r" b="b"/>
              <a:pathLst>
                <a:path w="120" h="160">
                  <a:moveTo>
                    <a:pt x="120" y="160"/>
                  </a:moveTo>
                  <a:lnTo>
                    <a:pt x="120" y="0"/>
                  </a:lnTo>
                  <a:lnTo>
                    <a:pt x="0" y="84"/>
                  </a:lnTo>
                  <a:lnTo>
                    <a:pt x="120" y="16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2343240" y="3346560"/>
              <a:ext cx="353880" cy="27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368520" y="4302000"/>
            <a:ext cx="910080" cy="300600"/>
            <a:chOff x="3368520" y="4302000"/>
            <a:chExt cx="910080" cy="300600"/>
          </a:xfrm>
        </p:grpSpPr>
        <p:sp>
          <p:nvSpPr>
            <p:cNvPr id="1363" name=""/>
            <p:cNvSpPr/>
            <p:nvPr/>
          </p:nvSpPr>
          <p:spPr>
            <a:xfrm>
              <a:off x="3368520" y="4302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4006800" y="45752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232160" y="4543560"/>
              <a:ext cx="46440" cy="59040"/>
            </a:xfrm>
            <a:custGeom>
              <a:avLst/>
              <a:gdLst/>
              <a:ahLst/>
              <a:rect l="0" t="0" r="r" b="b"/>
              <a:pathLst>
                <a:path w="129" h="164">
                  <a:moveTo>
                    <a:pt x="0" y="0"/>
                  </a:moveTo>
                  <a:lnTo>
                    <a:pt x="0" y="164"/>
                  </a:lnTo>
                  <a:lnTo>
                    <a:pt x="129" y="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54360" y="4302000"/>
              <a:ext cx="35244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 txBox="1"/>
          <p:nvPr/>
        </p:nvSpPr>
        <p:spPr>
          <a:xfrm>
            <a:off x="4259160" y="275580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 txBox="1"/>
          <p:nvPr/>
        </p:nvSpPr>
        <p:spPr>
          <a:xfrm>
            <a:off x="4273560" y="44038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cn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4273560" y="45291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 txBox="1"/>
          <p:nvPr/>
        </p:nvSpPr>
        <p:spPr>
          <a:xfrm>
            <a:off x="723960" y="340992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74640" y="3719520"/>
            <a:ext cx="1330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IS-update-contract r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674640" y="38433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rejec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3548160" y="276228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2265480" y="31258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2254320" y="3727440"/>
            <a:ext cx="73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3548160" y="411948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448080" y="3273480"/>
            <a:ext cx="0" cy="97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3416400" y="424188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164" y="0"/>
                </a:moveTo>
                <a:lnTo>
                  <a:pt x="0" y="0"/>
                </a:lnTo>
                <a:lnTo>
                  <a:pt x="89" y="129"/>
                </a:lnTo>
                <a:lnTo>
                  <a:pt x="16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16400" y="3238560"/>
            <a:ext cx="59040" cy="46440"/>
          </a:xfrm>
          <a:custGeom>
            <a:avLst/>
            <a:gdLst/>
            <a:ahLst/>
            <a:rect l="0" t="0" r="r" b="b"/>
            <a:pathLst>
              <a:path w="164" h="129">
                <a:moveTo>
                  <a:pt x="0" y="129"/>
                </a:moveTo>
                <a:lnTo>
                  <a:pt x="164" y="129"/>
                </a:lnTo>
                <a:lnTo>
                  <a:pt x="89" y="0"/>
                </a:lnTo>
                <a:lnTo>
                  <a:pt x="0" y="12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456000" y="3662280"/>
            <a:ext cx="558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-UC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335400" y="319896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2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3286080" y="322092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19" y="0"/>
                </a:moveTo>
                <a:lnTo>
                  <a:pt x="23" y="9"/>
                </a:lnTo>
                <a:lnTo>
                  <a:pt x="4" y="14"/>
                </a:lnTo>
                <a:lnTo>
                  <a:pt x="0" y="5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233880" y="3238560"/>
            <a:ext cx="12960" cy="9720"/>
          </a:xfrm>
          <a:custGeom>
            <a:avLst/>
            <a:gdLst/>
            <a:ahLst/>
            <a:rect l="0" t="0" r="r" b="b"/>
            <a:pathLst>
              <a:path w="36" h="27">
                <a:moveTo>
                  <a:pt x="26" y="0"/>
                </a:moveTo>
                <a:lnTo>
                  <a:pt x="36" y="14"/>
                </a:lnTo>
                <a:lnTo>
                  <a:pt x="10" y="27"/>
                </a:lnTo>
                <a:lnTo>
                  <a:pt x="0" y="14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181320" y="326088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31" y="0"/>
                </a:moveTo>
                <a:lnTo>
                  <a:pt x="36" y="9"/>
                </a:lnTo>
                <a:lnTo>
                  <a:pt x="5" y="14"/>
                </a:lnTo>
                <a:lnTo>
                  <a:pt x="0" y="5"/>
                </a:lnTo>
                <a:lnTo>
                  <a:pt x="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130560" y="328140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28" y="0"/>
                </a:moveTo>
                <a:lnTo>
                  <a:pt x="32" y="11"/>
                </a:lnTo>
                <a:lnTo>
                  <a:pt x="4" y="19"/>
                </a:lnTo>
                <a:lnTo>
                  <a:pt x="0" y="8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3081240" y="330048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25" y="0"/>
                </a:moveTo>
                <a:lnTo>
                  <a:pt x="32" y="13"/>
                </a:lnTo>
                <a:lnTo>
                  <a:pt x="10" y="23"/>
                </a:lnTo>
                <a:lnTo>
                  <a:pt x="0" y="13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029040" y="332100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23" y="0"/>
                </a:moveTo>
                <a:lnTo>
                  <a:pt x="27" y="11"/>
                </a:lnTo>
                <a:lnTo>
                  <a:pt x="4" y="19"/>
                </a:lnTo>
                <a:lnTo>
                  <a:pt x="0" y="8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995560" y="330048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147" y="155"/>
                </a:moveTo>
                <a:lnTo>
                  <a:pt x="84" y="0"/>
                </a:lnTo>
                <a:lnTo>
                  <a:pt x="0" y="128"/>
                </a:lnTo>
                <a:lnTo>
                  <a:pt x="147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95560" y="4173480"/>
            <a:ext cx="12960" cy="6840"/>
          </a:xfrm>
          <a:custGeom>
            <a:avLst/>
            <a:gdLst/>
            <a:ahLst/>
            <a:rect l="0" t="0" r="r" b="b"/>
            <a:pathLst>
              <a:path w="36" h="19">
                <a:moveTo>
                  <a:pt x="5" y="0"/>
                </a:moveTo>
                <a:lnTo>
                  <a:pt x="0" y="11"/>
                </a:lnTo>
                <a:lnTo>
                  <a:pt x="31" y="19"/>
                </a:lnTo>
                <a:lnTo>
                  <a:pt x="36" y="8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048120" y="4195800"/>
            <a:ext cx="8280" cy="5040"/>
          </a:xfrm>
          <a:custGeom>
            <a:avLst/>
            <a:gdLst/>
            <a:ahLst/>
            <a:rect l="0" t="0" r="r" b="b"/>
            <a:pathLst>
              <a:path w="23" h="14">
                <a:moveTo>
                  <a:pt x="4" y="0"/>
                </a:moveTo>
                <a:lnTo>
                  <a:pt x="0" y="9"/>
                </a:lnTo>
                <a:lnTo>
                  <a:pt x="19" y="14"/>
                </a:lnTo>
                <a:lnTo>
                  <a:pt x="23" y="5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097080" y="4213080"/>
            <a:ext cx="11520" cy="9720"/>
          </a:xfrm>
          <a:custGeom>
            <a:avLst/>
            <a:gdLst/>
            <a:ahLst/>
            <a:rect l="0" t="0" r="r" b="b"/>
            <a:pathLst>
              <a:path w="32" h="27">
                <a:moveTo>
                  <a:pt x="7" y="0"/>
                </a:moveTo>
                <a:lnTo>
                  <a:pt x="0" y="14"/>
                </a:lnTo>
                <a:lnTo>
                  <a:pt x="22" y="27"/>
                </a:lnTo>
                <a:lnTo>
                  <a:pt x="32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147840" y="4235400"/>
            <a:ext cx="12960" cy="5040"/>
          </a:xfrm>
          <a:custGeom>
            <a:avLst/>
            <a:gdLst/>
            <a:ahLst/>
            <a:rect l="0" t="0" r="r" b="b"/>
            <a:pathLst>
              <a:path w="36" h="14">
                <a:moveTo>
                  <a:pt x="5" y="0"/>
                </a:moveTo>
                <a:lnTo>
                  <a:pt x="0" y="9"/>
                </a:lnTo>
                <a:lnTo>
                  <a:pt x="31" y="14"/>
                </a:lnTo>
                <a:lnTo>
                  <a:pt x="36" y="5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200400" y="4255920"/>
            <a:ext cx="11520" cy="6840"/>
          </a:xfrm>
          <a:custGeom>
            <a:avLst/>
            <a:gdLst/>
            <a:ahLst/>
            <a:rect l="0" t="0" r="r" b="b"/>
            <a:pathLst>
              <a:path w="32" h="19">
                <a:moveTo>
                  <a:pt x="4" y="0"/>
                </a:moveTo>
                <a:lnTo>
                  <a:pt x="0" y="11"/>
                </a:lnTo>
                <a:lnTo>
                  <a:pt x="28" y="19"/>
                </a:lnTo>
                <a:lnTo>
                  <a:pt x="32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249720" y="4275000"/>
            <a:ext cx="11520" cy="8280"/>
          </a:xfrm>
          <a:custGeom>
            <a:avLst/>
            <a:gdLst/>
            <a:ahLst/>
            <a:rect l="0" t="0" r="r" b="b"/>
            <a:pathLst>
              <a:path w="32" h="23">
                <a:moveTo>
                  <a:pt x="10" y="0"/>
                </a:moveTo>
                <a:lnTo>
                  <a:pt x="0" y="13"/>
                </a:lnTo>
                <a:lnTo>
                  <a:pt x="22" y="23"/>
                </a:lnTo>
                <a:lnTo>
                  <a:pt x="32" y="13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303720" y="4295880"/>
            <a:ext cx="9720" cy="6840"/>
          </a:xfrm>
          <a:custGeom>
            <a:avLst/>
            <a:gdLst/>
            <a:ahLst/>
            <a:rect l="0" t="0" r="r" b="b"/>
            <a:pathLst>
              <a:path w="27" h="19">
                <a:moveTo>
                  <a:pt x="4" y="0"/>
                </a:moveTo>
                <a:lnTo>
                  <a:pt x="0" y="11"/>
                </a:lnTo>
                <a:lnTo>
                  <a:pt x="23" y="19"/>
                </a:lnTo>
                <a:lnTo>
                  <a:pt x="27" y="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3303720" y="4275000"/>
            <a:ext cx="52920" cy="55800"/>
          </a:xfrm>
          <a:custGeom>
            <a:avLst/>
            <a:gdLst/>
            <a:ahLst/>
            <a:rect l="0" t="0" r="r" b="b"/>
            <a:pathLst>
              <a:path w="147" h="155">
                <a:moveTo>
                  <a:pt x="62" y="0"/>
                </a:moveTo>
                <a:lnTo>
                  <a:pt x="0" y="155"/>
                </a:lnTo>
                <a:lnTo>
                  <a:pt x="147" y="128"/>
                </a:lnTo>
                <a:lnTo>
                  <a:pt x="6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6014880" y="2838600"/>
            <a:ext cx="525600" cy="1760400"/>
            <a:chOff x="6014880" y="2838600"/>
            <a:chExt cx="525600" cy="1760400"/>
          </a:xfrm>
        </p:grpSpPr>
        <p:grpSp>
          <p:nvGrpSpPr>
            <p:cNvPr id="1398" name=""/>
            <p:cNvGrpSpPr/>
            <p:nvPr/>
          </p:nvGrpSpPr>
          <p:grpSpPr>
            <a:xfrm>
              <a:off x="6014880" y="2838600"/>
              <a:ext cx="185760" cy="1760400"/>
              <a:chOff x="6014880" y="2838600"/>
              <a:chExt cx="185760" cy="1760400"/>
            </a:xfrm>
          </p:grpSpPr>
          <p:sp>
            <p:nvSpPr>
              <p:cNvPr id="1399" name=""/>
              <p:cNvSpPr/>
              <p:nvPr/>
            </p:nvSpPr>
            <p:spPr>
              <a:xfrm flipH="1">
                <a:off x="6108840" y="2838600"/>
                <a:ext cx="82440" cy="173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014880" y="4492800"/>
                <a:ext cx="9072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 flipH="1">
                <a:off x="6108840" y="4492800"/>
                <a:ext cx="91800" cy="106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032520" y="2851200"/>
                <a:ext cx="82440" cy="17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032520" y="2844720"/>
                <a:ext cx="921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6097680" y="2838600"/>
                <a:ext cx="87120" cy="9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5" name=""/>
            <p:cNvSpPr txBox="1"/>
            <p:nvPr/>
          </p:nvSpPr>
          <p:spPr>
            <a:xfrm>
              <a:off x="6240600" y="3351240"/>
              <a:ext cx="2700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 txBox="1"/>
            <p:nvPr/>
          </p:nvSpPr>
          <p:spPr>
            <a:xfrm>
              <a:off x="6240600" y="3516480"/>
              <a:ext cx="2221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 txBox="1"/>
            <p:nvPr/>
          </p:nvSpPr>
          <p:spPr>
            <a:xfrm>
              <a:off x="6240600" y="3681360"/>
              <a:ext cx="2998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 txBox="1"/>
            <p:nvPr/>
          </p:nvSpPr>
          <p:spPr>
            <a:xfrm>
              <a:off x="6240600" y="3846600"/>
              <a:ext cx="2779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enatls</cp:lastModifiedBy>
  <cp:revision>0</cp:revision>
  <dc:subject/>
  <dc:title/>
</cp:coreProperties>
</file>