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73152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2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27240"/>
            <a:ext cx="82292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272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27240"/>
            <a:ext cx="2649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27240"/>
            <a:ext cx="2649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27240"/>
            <a:ext cx="26496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24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24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9240" cy="56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272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7240"/>
            <a:ext cx="8229240" cy="20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4160" y="1380960"/>
            <a:ext cx="8635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762120" y="244440"/>
          <a:ext cx="104436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44440"/>
                    <a:ext cx="104436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685800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3/18W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ADL_Logo" descr=""/>
          <p:cNvPicPr/>
          <p:nvPr/>
        </p:nvPicPr>
        <p:blipFill>
          <a:blip r:embed="rId4"/>
          <a:stretch/>
        </p:blipFill>
        <p:spPr>
          <a:xfrm>
            <a:off x="6934320" y="533520"/>
            <a:ext cx="2000160" cy="7729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391520" y="30492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C3C958-2F0D-44BF-9564-D3656ACC2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f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240" cy="12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24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09320" y="6094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Briefing of 3 Nov. 1999</a:t>
            </a:r>
            <a:br>
              <a:rPr sz="24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 November 1999 - Montreal, Cana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6002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ttached 15 pages was the presentation delivered 3 November 1999 to the Air Navigation Commissioners at ICAO, Montreal,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2133720"/>
          <a:ext cx="8458200" cy="190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33720"/>
                    <a:ext cx="84582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765000" y="2540160"/>
          <a:ext cx="7662960" cy="1357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000" y="2540160"/>
                    <a:ext cx="76629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95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tential impact on the ATM missio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ty, cost, delay, capacity, and public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 traveler safety is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cer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past, threats rarely had a safety impact because ATM is richly provided with redundancy and backup to cope with anomali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immediate future, threats impact capacity and delay, which often results in significant cos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mmon measure is moneta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ing public confidence in monetary terms is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53352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440" y="1625760"/>
            <a:ext cx="8077320" cy="477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nam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verall Security Concep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ATNP/WG 1, WP/6-1 (199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s analysis of specific threats to ATN &amp; selected counter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specific attacks and their impact are ident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 threat analysis, vulnerability assessment countermeasure identification, and recommendations on use of security mechanisms in 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rt on Agenda Item 4 from ATNP/2 - Accepted by meeting 5 to be a final deliverable of WG1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-level summary of security threats and vulnerabilities and technical security mechanisms is incorporated in the report on agenda item 4 from ATNP (ATNP/2 WP67) 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entine,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ummary of the Security Issues, Status and Recommendations for ATN SARP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ATNP/WG 1, WP6-10 (199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approved by meeting 6 as the final paper to be submitted to ATNP/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8120" y="533520"/>
            <a:ext cx="389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or ICAO Threa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08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eption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umstance or event that may result in an authorized user receiving false data and believing it to be tru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ruption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umstance or event that interrupts or prevents the correct operation of services and function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urpation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umstance or event that results in control of services or functions by a threat source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losure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umstance or event in which a threat source gains unauthorized access to data, such as certificate of authority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ud and theft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rcumstance or event in which a threat source profits from an unauthorized action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5335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tential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84872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unauthorized person may gain logical access to syste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user, or an unauthorized person masquerading as a user, may gain access to system resources or perform operations for which no access rights have been gran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one may engage in a denial of service attack which may cause the resources of system to be unavaila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one may physically attack system and compromise its information secur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utsiders may intrude via communications capabiliti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unication may be recorded and retransmitted out of sequence (mimicking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6094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ary Thre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going  international threat assessment and risk mitigation plan -- in keeping with requirements (see Slide #10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 digital environment,  communication sources MUST BE confirmable.  ATNP proposes a well-recognized but extremely difficult to “break” key exchange between air and ground, where each has a unique key component. This uses a cryptographic technique employing  called the “elliptical curve algorithm”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so us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uthentication certificates for confi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cure transmission is optional for EACH independent national doma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owever, secure or insecure transmission mode will be visible on the heads-up display in the cockpi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6094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kay, so NOW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625760"/>
            <a:ext cx="7848720" cy="477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prevent “Re-Transmission” threat - message sequencing is being applied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NP/3 will consider enhancements to the Core ATN SARPs to add the high level requirements for Security, Systems Management and Directory Service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NP/3 will consider three new ATN Technical Provision Sub-Volumes (i.e., Doc 9705)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-Volume 6:  System Management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ssage sequencing, validation protoco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timing, and potential for business/billing informatio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-Volume 7: Directory Services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ludes distribution of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ertifica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-Volume 8: Security 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verview and description of signature technology, Security algorithm and optional implementat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modifications of prior to existing Sub-Volumes to reflect these new chapters as well as other enhancement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6094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 Mo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16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rlines can protect their business confidentiality by encrypting NON-ATS messages under the proposed umbrella of the new SARP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ber Nation-States can maintain their own desired level of security within their domain, which may include encryption -- should such a member desir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6094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About Business Confidentiality or National Domai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17870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y i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eronautical Data Communications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treal, Canada</a:t>
            </a: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 November 199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18240" y="5486400"/>
            <a:ext cx="3425760" cy="874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529480" y="2690640"/>
            <a:ext cx="6080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95600" y="4714920"/>
            <a:ext cx="518148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rnard Ramsey,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.S. ATNP Delegation Security 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ronautical Data Link, AND-3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deral Aviation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0 Independence Avenue S.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shington, D.C. 20591 U.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202) 267-87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rnard.ramsey@faa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x: (202) 493-50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ernie" descr=""/>
          <p:cNvPicPr/>
          <p:nvPr/>
        </p:nvPicPr>
        <p:blipFill>
          <a:blip r:embed="rId2"/>
          <a:stretch/>
        </p:blipFill>
        <p:spPr>
          <a:xfrm>
            <a:off x="1752480" y="5410080"/>
            <a:ext cx="914400" cy="10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y Worry About “Information Security?”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ssible (theoretical and ACTUAL) impact on Air Traffic movement international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o you know who you are talking to?  Authentication issue with possible impact from threats on Air Traffic Management, as we move towards a predominance of digital messaging to solve communication conges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ing threats for Risk Management. NOTE: “Eavesdropping is NOT a threat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briefing and the threat overview allows ANC to evaluate the need for applying information security to the work being done at ALL ICAO panels.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tape addresses some actual threats documented by the United States, and lays the groundwork for international threat assessment and risk mitigatio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  10 MINUTE VIDEO TAP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438280" y="609480"/>
            <a:ext cx="3252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THREAT OVERVIE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1463400"/>
            <a:ext cx="8229600" cy="544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ea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“Any circumstance or event with the potential to cause harm to an information system in the form of destruction, disclosure, adverse modification of data, and/or denial of service.” Note that a threa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have to be intentional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rors and omissions by well-intentioned and authorized personnel are considered threa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eat Ag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“A method used to exploit a vulnerability in a system, operation, or facility.”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ta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“Attempt to gain unauthorized access to an Information System’s (IS) services, resources, or information or the attempt to compromise an IS's integrity, availability, or confidentiality, as applicable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457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ulnerability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A weakness in system security procedures, system design, implementation, internal controls, etc., that could be exploited to violate system security policy.”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sk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The expected loss due to, or impact of, anticipated threats in light of system vulnerabilities and strength or determination of relevant threat agents.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The process concerned with the identification, measurement, control, and minimization of security risks in information systems to a level commensurate with the value of the assets protected.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eat sour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The person, organization, or circumstance that implements the threat.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6094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s (continu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360" y="1763640"/>
          <a:ext cx="9391680" cy="55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1763640"/>
                    <a:ext cx="9391680" cy="55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056960" y="5918040"/>
            <a:ext cx="37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U.S. Defense Science Board, 199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6094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formation 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1625400"/>
            <a:ext cx="7848720" cy="46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et is a primary vehicle for attac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s vehicles include dial-up modems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ate branch exchange (PBX) systems, direct intrusion into telecommunications subsyste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— such as operations, administration, maintenance, and provisioning (OAM&amp;P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vulnerability in commercial off-the-shelf (COTS) software (system &amp; applica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ary electronic intrusion threat continues to be trusted insider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609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 System Vuln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625760"/>
            <a:ext cx="7848720" cy="43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ckers remain a significant threat.  News articles and even movies on this threat category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vasive interconnection of information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ssible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twork administrators and telecommunications carri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completely understand the composition and vulnerability of their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ckers are expanding and learn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d SHA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sources with others.  New threats (virus, trojan horse, etc.) are reported DAI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y, Jimmy, I just directed an aircraft.”  The SPOOFING Threat in a world of digital messag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ctronic Intrusion Thr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countries are developing formal information warfare (IW) progra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rorist organizations adept at using electronic information systems and advanced technolog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ecurity practices have not kept pace with the electronic intrusion thre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onymity limits retaliation and identification of attack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antially lower cost than military hardware and physical armed conflic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r with Anonym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5T06:09:22Z</dcterms:created>
  <dc:creator>Jim Lenz &amp; Steve Van Trees</dc:creator>
  <dc:description/>
  <dc:language>en-US</dc:language>
  <cp:lastModifiedBy>James L. Lenz</cp:lastModifiedBy>
  <cp:lastPrinted>1999-11-08T19:32:15Z</cp:lastPrinted>
  <dcterms:modified xsi:type="dcterms:W3CDTF">1999-11-08T19:36:23Z</dcterms:modified>
  <cp:revision>271</cp:revision>
  <dc:subject/>
  <dc:title>ATNP</dc:title>
</cp:coreProperties>
</file>