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C5FE9E-C52D-4E3B-8EA2-1086FFB46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Generic regulatory framework for appro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5846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ance materia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2286000"/>
            <a:ext cx="45846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1-3: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lationship of guidance material to standards and evi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04180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-1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of guidance material to planning, requirements determination, qualification, and operat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45846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2-2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requirements determin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3670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zard Classification/Safety Objectives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511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4-3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the Relationships Among RCP, RCTP, ICP and ACP Within the OPA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85920" y="1706400"/>
            <a:ext cx="6585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7-1: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D characteristics called out in the OSA are monitored in operations for changes so that, if necessary, alternative mitigation can be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97160" y="2120760"/>
            <a:ext cx="4560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 7-2: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ects of Continued Operational Safety.  OSA allocated objectives are ensured through monitoring.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94040" y="2257560"/>
            <a:ext cx="336852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</dc:creator>
  <dc:description/>
  <dc:language>en-US</dc:language>
  <cp:lastModifiedBy>Steve</cp:lastModifiedBy>
  <cp:revision>0</cp:revision>
  <dc:subject/>
  <dc:title>Figure 1-1:  Generic regulatory framework for approval.</dc:title>
</cp:coreProperties>
</file>