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77423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61718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5248080"/>
            <a:ext cx="61718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287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5248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5248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198720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287080"/>
            <a:ext cx="198720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287080"/>
            <a:ext cx="198720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5248080"/>
            <a:ext cx="198720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5248080"/>
            <a:ext cx="198720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5248080"/>
            <a:ext cx="198720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287080"/>
            <a:ext cx="617184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617184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301176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287080"/>
            <a:ext cx="301176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89880"/>
            <a:ext cx="6171840" cy="75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287080"/>
            <a:ext cx="301176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5248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301176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287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5248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287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5248080"/>
            <a:ext cx="61718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287080"/>
            <a:ext cx="617184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608040" y="3546360"/>
            <a:ext cx="1496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S-Ground-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4886280" y="3546360"/>
            <a:ext cx="1496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S-Ground-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2565360" y="3546360"/>
            <a:ext cx="176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S-Service-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82480" y="4005360"/>
            <a:ext cx="13780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DS-start-forward 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55680" y="4056120"/>
            <a:ext cx="89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START 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82480" y="550872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DS-start-forward cn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9520" y="5724360"/>
            <a:ext cx="1924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(forwardFunctionNotSuppor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58920" y="5324400"/>
            <a:ext cx="888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START cn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25520" y="6189840"/>
            <a:ext cx="75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END 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28760" y="7261200"/>
            <a:ext cx="749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END cn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08360" y="45831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DS-start-forward i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08360" y="4968720"/>
            <a:ext cx="13780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DS-start-forward rs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08360" y="5176800"/>
            <a:ext cx="1924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(forwardFunctionNotSuppor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705120" y="4397400"/>
            <a:ext cx="888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START i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701880" y="5010120"/>
            <a:ext cx="89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START rs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774960" y="6504120"/>
            <a:ext cx="749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END i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771720" y="6954840"/>
            <a:ext cx="75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END rs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12920" y="3581280"/>
            <a:ext cx="0" cy="424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33920" y="3581280"/>
            <a:ext cx="0" cy="424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3876840"/>
            <a:ext cx="0" cy="395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45000" y="3876840"/>
            <a:ext cx="0" cy="395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1120" y="4191120"/>
            <a:ext cx="1519560" cy="74880"/>
            <a:chOff x="681120" y="4191120"/>
            <a:chExt cx="1519560" cy="74880"/>
          </a:xfrm>
        </p:grpSpPr>
        <p:sp>
          <p:nvSpPr>
            <p:cNvPr id="60" name=""/>
            <p:cNvSpPr/>
            <p:nvPr/>
          </p:nvSpPr>
          <p:spPr>
            <a:xfrm>
              <a:off x="681120" y="4235400"/>
              <a:ext cx="145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68560" y="4191120"/>
              <a:ext cx="132120" cy="74880"/>
            </a:xfrm>
            <a:custGeom>
              <a:avLst/>
              <a:gdLst/>
              <a:ahLst/>
              <a:rect l="0" t="0" r="r" b="b"/>
              <a:pathLst>
                <a:path w="367" h="208">
                  <a:moveTo>
                    <a:pt x="367" y="106"/>
                  </a:moveTo>
                  <a:lnTo>
                    <a:pt x="0" y="0"/>
                  </a:lnTo>
                  <a:lnTo>
                    <a:pt x="0" y="208"/>
                  </a:lnTo>
                  <a:lnTo>
                    <a:pt x="36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200320" y="4229280"/>
            <a:ext cx="982800" cy="257400"/>
            <a:chOff x="2200320" y="4229280"/>
            <a:chExt cx="982800" cy="257400"/>
          </a:xfrm>
        </p:grpSpPr>
        <p:grpSp>
          <p:nvGrpSpPr>
            <p:cNvPr id="63" name=""/>
            <p:cNvGrpSpPr/>
            <p:nvPr/>
          </p:nvGrpSpPr>
          <p:grpSpPr>
            <a:xfrm>
              <a:off x="2754360" y="4425840"/>
              <a:ext cx="428760" cy="60840"/>
              <a:chOff x="2754360" y="4425840"/>
              <a:chExt cx="428760" cy="60840"/>
            </a:xfrm>
          </p:grpSpPr>
          <p:sp>
            <p:nvSpPr>
              <p:cNvPr id="64" name=""/>
              <p:cNvSpPr/>
              <p:nvPr/>
            </p:nvSpPr>
            <p:spPr>
              <a:xfrm flipH="1">
                <a:off x="2754360" y="446256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73320" y="4425840"/>
                <a:ext cx="109800" cy="60840"/>
              </a:xfrm>
              <a:custGeom>
                <a:avLst/>
                <a:gdLst/>
                <a:ahLst/>
                <a:rect l="0" t="0" r="r" b="b"/>
                <a:pathLst>
                  <a:path w="305" h="169">
                    <a:moveTo>
                      <a:pt x="305" y="84"/>
                    </a:moveTo>
                    <a:lnTo>
                      <a:pt x="0" y="0"/>
                    </a:lnTo>
                    <a:lnTo>
                      <a:pt x="0" y="169"/>
                    </a:lnTo>
                    <a:lnTo>
                      <a:pt x="30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200320" y="4232160"/>
              <a:ext cx="325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25760" y="4229280"/>
              <a:ext cx="237960" cy="237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627440" y="4756320"/>
            <a:ext cx="1518120" cy="74880"/>
            <a:chOff x="4627440" y="4756320"/>
            <a:chExt cx="1518120" cy="74880"/>
          </a:xfrm>
        </p:grpSpPr>
        <p:sp>
          <p:nvSpPr>
            <p:cNvPr id="69" name=""/>
            <p:cNvSpPr/>
            <p:nvPr/>
          </p:nvSpPr>
          <p:spPr>
            <a:xfrm>
              <a:off x="4627440" y="4800600"/>
              <a:ext cx="145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14880" y="4756320"/>
              <a:ext cx="130680" cy="74880"/>
            </a:xfrm>
            <a:custGeom>
              <a:avLst/>
              <a:gdLst/>
              <a:ahLst/>
              <a:rect l="0" t="0" r="r" b="b"/>
              <a:pathLst>
                <a:path w="363" h="208">
                  <a:moveTo>
                    <a:pt x="363" y="106"/>
                  </a:moveTo>
                  <a:lnTo>
                    <a:pt x="0" y="0"/>
                  </a:lnTo>
                  <a:lnTo>
                    <a:pt x="0" y="208"/>
                  </a:lnTo>
                  <a:lnTo>
                    <a:pt x="363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633920" y="5138640"/>
            <a:ext cx="1538280" cy="74880"/>
            <a:chOff x="4633920" y="5138640"/>
            <a:chExt cx="1538280" cy="74880"/>
          </a:xfrm>
        </p:grpSpPr>
        <p:sp>
          <p:nvSpPr>
            <p:cNvPr id="72" name=""/>
            <p:cNvSpPr/>
            <p:nvPr/>
          </p:nvSpPr>
          <p:spPr>
            <a:xfrm>
              <a:off x="4707000" y="5183280"/>
              <a:ext cx="1465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33920" y="5138640"/>
              <a:ext cx="130680" cy="74880"/>
            </a:xfrm>
            <a:custGeom>
              <a:avLst/>
              <a:gdLst/>
              <a:ahLst/>
              <a:rect l="0" t="0" r="r" b="b"/>
              <a:pathLst>
                <a:path w="363" h="208">
                  <a:moveTo>
                    <a:pt x="0" y="106"/>
                  </a:moveTo>
                  <a:lnTo>
                    <a:pt x="363" y="208"/>
                  </a:lnTo>
                  <a:lnTo>
                    <a:pt x="363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82560" y="5688000"/>
            <a:ext cx="1538280" cy="74880"/>
            <a:chOff x="682560" y="5688000"/>
            <a:chExt cx="1538280" cy="74880"/>
          </a:xfrm>
        </p:grpSpPr>
        <p:sp>
          <p:nvSpPr>
            <p:cNvPr id="75" name=""/>
            <p:cNvSpPr/>
            <p:nvPr/>
          </p:nvSpPr>
          <p:spPr>
            <a:xfrm>
              <a:off x="755640" y="5732640"/>
              <a:ext cx="1465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2560" y="5688000"/>
              <a:ext cx="130680" cy="74880"/>
            </a:xfrm>
            <a:custGeom>
              <a:avLst/>
              <a:gdLst/>
              <a:ahLst/>
              <a:rect l="0" t="0" r="r" b="b"/>
              <a:pathLst>
                <a:path w="363" h="208">
                  <a:moveTo>
                    <a:pt x="0" y="106"/>
                  </a:moveTo>
                  <a:lnTo>
                    <a:pt x="363" y="208"/>
                  </a:lnTo>
                  <a:lnTo>
                    <a:pt x="363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645000" y="4565520"/>
            <a:ext cx="984240" cy="257760"/>
            <a:chOff x="3645000" y="4565520"/>
            <a:chExt cx="984240" cy="257760"/>
          </a:xfrm>
        </p:grpSpPr>
        <p:grpSp>
          <p:nvGrpSpPr>
            <p:cNvPr id="78" name=""/>
            <p:cNvGrpSpPr/>
            <p:nvPr/>
          </p:nvGrpSpPr>
          <p:grpSpPr>
            <a:xfrm>
              <a:off x="4199040" y="4762440"/>
              <a:ext cx="430200" cy="60840"/>
              <a:chOff x="4199040" y="4762440"/>
              <a:chExt cx="430200" cy="60840"/>
            </a:xfrm>
          </p:grpSpPr>
          <p:sp>
            <p:nvSpPr>
              <p:cNvPr id="79" name=""/>
              <p:cNvSpPr/>
              <p:nvPr/>
            </p:nvSpPr>
            <p:spPr>
              <a:xfrm flipH="1">
                <a:off x="4199040" y="479916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19440" y="4762440"/>
                <a:ext cx="109800" cy="60840"/>
              </a:xfrm>
              <a:custGeom>
                <a:avLst/>
                <a:gdLst/>
                <a:ahLst/>
                <a:rect l="0" t="0" r="r" b="b"/>
                <a:pathLst>
                  <a:path w="305" h="169">
                    <a:moveTo>
                      <a:pt x="305" y="84"/>
                    </a:moveTo>
                    <a:lnTo>
                      <a:pt x="0" y="0"/>
                    </a:lnTo>
                    <a:lnTo>
                      <a:pt x="0" y="169"/>
                    </a:lnTo>
                    <a:lnTo>
                      <a:pt x="30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645000" y="4568760"/>
              <a:ext cx="326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70440" y="4565520"/>
              <a:ext cx="237960" cy="238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638520" y="5183280"/>
            <a:ext cx="998640" cy="254520"/>
            <a:chOff x="3638520" y="5183280"/>
            <a:chExt cx="998640" cy="254520"/>
          </a:xfrm>
        </p:grpSpPr>
        <p:grpSp>
          <p:nvGrpSpPr>
            <p:cNvPr id="84" name=""/>
            <p:cNvGrpSpPr/>
            <p:nvPr/>
          </p:nvGrpSpPr>
          <p:grpSpPr>
            <a:xfrm>
              <a:off x="3638520" y="5376960"/>
              <a:ext cx="449280" cy="60840"/>
              <a:chOff x="3638520" y="5376960"/>
              <a:chExt cx="449280" cy="60840"/>
            </a:xfrm>
          </p:grpSpPr>
          <p:sp>
            <p:nvSpPr>
              <p:cNvPr id="85" name=""/>
              <p:cNvSpPr/>
              <p:nvPr/>
            </p:nvSpPr>
            <p:spPr>
              <a:xfrm>
                <a:off x="3699000" y="5413320"/>
                <a:ext cx="38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638520" y="5376960"/>
                <a:ext cx="109800" cy="60840"/>
              </a:xfrm>
              <a:custGeom>
                <a:avLst/>
                <a:gdLst/>
                <a:ahLst/>
                <a:rect l="0" t="0" r="r" b="b"/>
                <a:pathLst>
                  <a:path w="305" h="169">
                    <a:moveTo>
                      <a:pt x="0" y="84"/>
                    </a:moveTo>
                    <a:lnTo>
                      <a:pt x="305" y="169"/>
                    </a:lnTo>
                    <a:lnTo>
                      <a:pt x="305" y="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 flipH="1">
              <a:off x="4311720" y="5186520"/>
              <a:ext cx="325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079880" y="5183280"/>
              <a:ext cx="23004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206800" y="5502240"/>
            <a:ext cx="1001520" cy="253080"/>
            <a:chOff x="2206800" y="5502240"/>
            <a:chExt cx="1001520" cy="253080"/>
          </a:xfrm>
        </p:grpSpPr>
        <p:grpSp>
          <p:nvGrpSpPr>
            <p:cNvPr id="90" name=""/>
            <p:cNvGrpSpPr/>
            <p:nvPr/>
          </p:nvGrpSpPr>
          <p:grpSpPr>
            <a:xfrm>
              <a:off x="2206800" y="5694480"/>
              <a:ext cx="450720" cy="60840"/>
              <a:chOff x="2206800" y="5694480"/>
              <a:chExt cx="450720" cy="60840"/>
            </a:xfrm>
          </p:grpSpPr>
          <p:sp>
            <p:nvSpPr>
              <p:cNvPr id="91" name=""/>
              <p:cNvSpPr/>
              <p:nvPr/>
            </p:nvSpPr>
            <p:spPr>
              <a:xfrm>
                <a:off x="2268360" y="5732640"/>
                <a:ext cx="389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206800" y="5694480"/>
                <a:ext cx="111600" cy="60840"/>
              </a:xfrm>
              <a:custGeom>
                <a:avLst/>
                <a:gdLst/>
                <a:ahLst/>
                <a:rect l="0" t="0" r="r" b="b"/>
                <a:pathLst>
                  <a:path w="310" h="169">
                    <a:moveTo>
                      <a:pt x="0" y="88"/>
                    </a:moveTo>
                    <a:lnTo>
                      <a:pt x="310" y="169"/>
                    </a:lnTo>
                    <a:lnTo>
                      <a:pt x="31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>
              <a:off x="2882880" y="5504040"/>
              <a:ext cx="325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649600" y="5502240"/>
              <a:ext cx="23004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212920" y="6370560"/>
            <a:ext cx="982800" cy="256320"/>
            <a:chOff x="2212920" y="6370560"/>
            <a:chExt cx="982800" cy="256320"/>
          </a:xfrm>
        </p:grpSpPr>
        <p:grpSp>
          <p:nvGrpSpPr>
            <p:cNvPr id="96" name=""/>
            <p:cNvGrpSpPr/>
            <p:nvPr/>
          </p:nvGrpSpPr>
          <p:grpSpPr>
            <a:xfrm>
              <a:off x="2765520" y="6566040"/>
              <a:ext cx="430200" cy="60840"/>
              <a:chOff x="2765520" y="6566040"/>
              <a:chExt cx="430200" cy="60840"/>
            </a:xfrm>
          </p:grpSpPr>
          <p:sp>
            <p:nvSpPr>
              <p:cNvPr id="97" name=""/>
              <p:cNvSpPr/>
              <p:nvPr/>
            </p:nvSpPr>
            <p:spPr>
              <a:xfrm flipH="1">
                <a:off x="2765520" y="660240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085920" y="6566040"/>
                <a:ext cx="109800" cy="60840"/>
              </a:xfrm>
              <a:custGeom>
                <a:avLst/>
                <a:gdLst/>
                <a:ahLst/>
                <a:rect l="0" t="0" r="r" b="b"/>
                <a:pathLst>
                  <a:path w="305" h="169">
                    <a:moveTo>
                      <a:pt x="305" y="84"/>
                    </a:moveTo>
                    <a:lnTo>
                      <a:pt x="0" y="0"/>
                    </a:lnTo>
                    <a:lnTo>
                      <a:pt x="0" y="169"/>
                    </a:lnTo>
                    <a:lnTo>
                      <a:pt x="30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2212920" y="6372360"/>
              <a:ext cx="325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8360" y="6370560"/>
              <a:ext cx="238320" cy="238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645000" y="6678720"/>
            <a:ext cx="984240" cy="255960"/>
            <a:chOff x="3645000" y="6678720"/>
            <a:chExt cx="984240" cy="255960"/>
          </a:xfrm>
        </p:grpSpPr>
        <p:grpSp>
          <p:nvGrpSpPr>
            <p:cNvPr id="102" name=""/>
            <p:cNvGrpSpPr/>
            <p:nvPr/>
          </p:nvGrpSpPr>
          <p:grpSpPr>
            <a:xfrm>
              <a:off x="4199040" y="6873840"/>
              <a:ext cx="430200" cy="60840"/>
              <a:chOff x="4199040" y="6873840"/>
              <a:chExt cx="430200" cy="60840"/>
            </a:xfrm>
          </p:grpSpPr>
          <p:sp>
            <p:nvSpPr>
              <p:cNvPr id="103" name=""/>
              <p:cNvSpPr/>
              <p:nvPr/>
            </p:nvSpPr>
            <p:spPr>
              <a:xfrm flipH="1">
                <a:off x="4199040" y="691200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519440" y="6873840"/>
                <a:ext cx="109800" cy="60840"/>
              </a:xfrm>
              <a:custGeom>
                <a:avLst/>
                <a:gdLst/>
                <a:ahLst/>
                <a:rect l="0" t="0" r="r" b="b"/>
                <a:pathLst>
                  <a:path w="305" h="169">
                    <a:moveTo>
                      <a:pt x="305" y="88"/>
                    </a:moveTo>
                    <a:lnTo>
                      <a:pt x="0" y="0"/>
                    </a:lnTo>
                    <a:lnTo>
                      <a:pt x="0" y="169"/>
                    </a:lnTo>
                    <a:lnTo>
                      <a:pt x="305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3645000" y="6681960"/>
              <a:ext cx="326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70440" y="6678720"/>
              <a:ext cx="237960" cy="237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638520" y="7129440"/>
            <a:ext cx="998640" cy="254520"/>
            <a:chOff x="3638520" y="7129440"/>
            <a:chExt cx="998640" cy="254520"/>
          </a:xfrm>
        </p:grpSpPr>
        <p:grpSp>
          <p:nvGrpSpPr>
            <p:cNvPr id="108" name=""/>
            <p:cNvGrpSpPr/>
            <p:nvPr/>
          </p:nvGrpSpPr>
          <p:grpSpPr>
            <a:xfrm>
              <a:off x="3638520" y="7321680"/>
              <a:ext cx="449280" cy="62280"/>
              <a:chOff x="3638520" y="7321680"/>
              <a:chExt cx="449280" cy="62280"/>
            </a:xfrm>
          </p:grpSpPr>
          <p:sp>
            <p:nvSpPr>
              <p:cNvPr id="109" name=""/>
              <p:cNvSpPr/>
              <p:nvPr/>
            </p:nvSpPr>
            <p:spPr>
              <a:xfrm>
                <a:off x="3699000" y="7359480"/>
                <a:ext cx="38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638520" y="7321680"/>
                <a:ext cx="109800" cy="62280"/>
              </a:xfrm>
              <a:custGeom>
                <a:avLst/>
                <a:gdLst/>
                <a:ahLst/>
                <a:rect l="0" t="0" r="r" b="b"/>
                <a:pathLst>
                  <a:path w="305" h="173">
                    <a:moveTo>
                      <a:pt x="0" y="88"/>
                    </a:moveTo>
                    <a:lnTo>
                      <a:pt x="305" y="173"/>
                    </a:lnTo>
                    <a:lnTo>
                      <a:pt x="305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 flipH="1">
              <a:off x="4311720" y="7132680"/>
              <a:ext cx="325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079880" y="7129440"/>
              <a:ext cx="230040" cy="230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205000" y="7434360"/>
            <a:ext cx="1000080" cy="254520"/>
            <a:chOff x="2205000" y="7434360"/>
            <a:chExt cx="1000080" cy="254520"/>
          </a:xfrm>
        </p:grpSpPr>
        <p:grpSp>
          <p:nvGrpSpPr>
            <p:cNvPr id="114" name=""/>
            <p:cNvGrpSpPr/>
            <p:nvPr/>
          </p:nvGrpSpPr>
          <p:grpSpPr>
            <a:xfrm>
              <a:off x="2205000" y="7628040"/>
              <a:ext cx="449280" cy="60840"/>
              <a:chOff x="2205000" y="7628040"/>
              <a:chExt cx="449280" cy="60840"/>
            </a:xfrm>
          </p:grpSpPr>
          <p:sp>
            <p:nvSpPr>
              <p:cNvPr id="115" name=""/>
              <p:cNvSpPr/>
              <p:nvPr/>
            </p:nvSpPr>
            <p:spPr>
              <a:xfrm>
                <a:off x="2265480" y="7664400"/>
                <a:ext cx="38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5000" y="7628040"/>
                <a:ext cx="109800" cy="60840"/>
              </a:xfrm>
              <a:custGeom>
                <a:avLst/>
                <a:gdLst/>
                <a:ahLst/>
                <a:rect l="0" t="0" r="r" b="b"/>
                <a:pathLst>
                  <a:path w="305" h="169">
                    <a:moveTo>
                      <a:pt x="0" y="84"/>
                    </a:moveTo>
                    <a:lnTo>
                      <a:pt x="305" y="169"/>
                    </a:lnTo>
                    <a:lnTo>
                      <a:pt x="305" y="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 flipH="1">
              <a:off x="2878200" y="7437600"/>
              <a:ext cx="326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647800" y="7434360"/>
              <a:ext cx="228600" cy="22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002040" y="4462560"/>
            <a:ext cx="59040" cy="1032120"/>
            <a:chOff x="3002040" y="4462560"/>
            <a:chExt cx="59040" cy="1032120"/>
          </a:xfrm>
        </p:grpSpPr>
        <p:sp>
          <p:nvSpPr>
            <p:cNvPr id="120" name=""/>
            <p:cNvSpPr/>
            <p:nvPr/>
          </p:nvSpPr>
          <p:spPr>
            <a:xfrm>
              <a:off x="3038400" y="4525920"/>
              <a:ext cx="0" cy="9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02040" y="5384880"/>
              <a:ext cx="59040" cy="109800"/>
            </a:xfrm>
            <a:custGeom>
              <a:avLst/>
              <a:gdLst/>
              <a:ahLst/>
              <a:rect l="0" t="0" r="r" b="b"/>
              <a:pathLst>
                <a:path w="164" h="305">
                  <a:moveTo>
                    <a:pt x="84" y="305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84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02040" y="4462560"/>
              <a:ext cx="59040" cy="109800"/>
            </a:xfrm>
            <a:custGeom>
              <a:avLst/>
              <a:gdLst/>
              <a:ahLst/>
              <a:rect l="0" t="0" r="r" b="b"/>
              <a:pathLst>
                <a:path w="164" h="305">
                  <a:moveTo>
                    <a:pt x="84" y="0"/>
                  </a:moveTo>
                  <a:lnTo>
                    <a:pt x="0" y="305"/>
                  </a:lnTo>
                  <a:lnTo>
                    <a:pt x="164" y="305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 txBox="1"/>
          <p:nvPr/>
        </p:nvSpPr>
        <p:spPr>
          <a:xfrm>
            <a:off x="2529000" y="4854600"/>
            <a:ext cx="51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-FC-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002040" y="6599160"/>
            <a:ext cx="59040" cy="821160"/>
            <a:chOff x="3002040" y="6599160"/>
            <a:chExt cx="59040" cy="821160"/>
          </a:xfrm>
        </p:grpSpPr>
        <p:sp>
          <p:nvSpPr>
            <p:cNvPr id="125" name=""/>
            <p:cNvSpPr/>
            <p:nvPr/>
          </p:nvSpPr>
          <p:spPr>
            <a:xfrm>
              <a:off x="3038400" y="6662880"/>
              <a:ext cx="0" cy="707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02040" y="7313760"/>
              <a:ext cx="59040" cy="106560"/>
            </a:xfrm>
            <a:custGeom>
              <a:avLst/>
              <a:gdLst/>
              <a:ahLst/>
              <a:rect l="0" t="0" r="r" b="b"/>
              <a:pathLst>
                <a:path w="164" h="296">
                  <a:moveTo>
                    <a:pt x="84" y="296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84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02040" y="6599160"/>
              <a:ext cx="59040" cy="108360"/>
            </a:xfrm>
            <a:custGeom>
              <a:avLst/>
              <a:gdLst/>
              <a:ahLst/>
              <a:rect l="0" t="0" r="r" b="b"/>
              <a:pathLst>
                <a:path w="164" h="301">
                  <a:moveTo>
                    <a:pt x="84" y="0"/>
                  </a:moveTo>
                  <a:lnTo>
                    <a:pt x="0" y="301"/>
                  </a:lnTo>
                  <a:lnTo>
                    <a:pt x="164" y="30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 txBox="1"/>
          <p:nvPr/>
        </p:nvSpPr>
        <p:spPr>
          <a:xfrm>
            <a:off x="2590920" y="6888240"/>
            <a:ext cx="463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-LI-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13000" y="4481640"/>
            <a:ext cx="432360" cy="82800"/>
            <a:chOff x="3213000" y="4481640"/>
            <a:chExt cx="432360" cy="82800"/>
          </a:xfrm>
        </p:grpSpPr>
        <p:sp>
          <p:nvSpPr>
            <p:cNvPr id="130" name=""/>
            <p:cNvSpPr/>
            <p:nvPr/>
          </p:nvSpPr>
          <p:spPr>
            <a:xfrm>
              <a:off x="3213000" y="4481640"/>
              <a:ext cx="3168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8160" y="4494240"/>
              <a:ext cx="31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44760" y="4505400"/>
              <a:ext cx="3168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09920" y="4518000"/>
              <a:ext cx="31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76520" y="4529160"/>
              <a:ext cx="316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41680" y="4541760"/>
              <a:ext cx="31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08280" y="4552920"/>
              <a:ext cx="316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32320" y="4506840"/>
              <a:ext cx="113040" cy="57600"/>
            </a:xfrm>
            <a:custGeom>
              <a:avLst/>
              <a:gdLst/>
              <a:ahLst/>
              <a:rect l="0" t="0" r="r" b="b"/>
              <a:pathLst>
                <a:path w="314" h="160">
                  <a:moveTo>
                    <a:pt x="314" y="128"/>
                  </a:moveTo>
                  <a:lnTo>
                    <a:pt x="31" y="0"/>
                  </a:lnTo>
                  <a:lnTo>
                    <a:pt x="0" y="160"/>
                  </a:lnTo>
                  <a:lnTo>
                    <a:pt x="314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195720" y="5413320"/>
            <a:ext cx="436320" cy="81360"/>
            <a:chOff x="3195720" y="5413320"/>
            <a:chExt cx="436320" cy="81360"/>
          </a:xfrm>
        </p:grpSpPr>
        <p:sp>
          <p:nvSpPr>
            <p:cNvPr id="139" name=""/>
            <p:cNvSpPr/>
            <p:nvPr/>
          </p:nvSpPr>
          <p:spPr>
            <a:xfrm flipH="1">
              <a:off x="3600360" y="5413320"/>
              <a:ext cx="316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535200" y="5425920"/>
              <a:ext cx="3204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468600" y="5437080"/>
              <a:ext cx="316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403440" y="5450040"/>
              <a:ext cx="3204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336840" y="5462640"/>
              <a:ext cx="3168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71680" y="5475240"/>
              <a:ext cx="3204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205080" y="5486400"/>
              <a:ext cx="316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95720" y="5437080"/>
              <a:ext cx="114840" cy="57600"/>
            </a:xfrm>
            <a:custGeom>
              <a:avLst/>
              <a:gdLst/>
              <a:ahLst/>
              <a:rect l="0" t="0" r="r" b="b"/>
              <a:pathLst>
                <a:path w="319" h="160">
                  <a:moveTo>
                    <a:pt x="0" y="135"/>
                  </a:moveTo>
                  <a:lnTo>
                    <a:pt x="319" y="160"/>
                  </a:lnTo>
                  <a:lnTo>
                    <a:pt x="287" y="0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219480" y="6605640"/>
            <a:ext cx="432000" cy="82800"/>
            <a:chOff x="3219480" y="6605640"/>
            <a:chExt cx="432000" cy="82800"/>
          </a:xfrm>
        </p:grpSpPr>
        <p:sp>
          <p:nvSpPr>
            <p:cNvPr id="148" name=""/>
            <p:cNvSpPr/>
            <p:nvPr/>
          </p:nvSpPr>
          <p:spPr>
            <a:xfrm>
              <a:off x="3219480" y="6605640"/>
              <a:ext cx="3168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84640" y="6618240"/>
              <a:ext cx="31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51240" y="6629400"/>
              <a:ext cx="316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16400" y="6642000"/>
              <a:ext cx="3168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83000" y="6653160"/>
              <a:ext cx="316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48160" y="6665760"/>
              <a:ext cx="3168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14760" y="6676920"/>
              <a:ext cx="316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38440" y="6630840"/>
              <a:ext cx="113040" cy="57600"/>
            </a:xfrm>
            <a:custGeom>
              <a:avLst/>
              <a:gdLst/>
              <a:ahLst/>
              <a:rect l="0" t="0" r="r" b="b"/>
              <a:pathLst>
                <a:path w="314" h="160">
                  <a:moveTo>
                    <a:pt x="314" y="128"/>
                  </a:moveTo>
                  <a:lnTo>
                    <a:pt x="31" y="0"/>
                  </a:lnTo>
                  <a:lnTo>
                    <a:pt x="0" y="160"/>
                  </a:lnTo>
                  <a:lnTo>
                    <a:pt x="314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225960" y="7359480"/>
            <a:ext cx="438120" cy="81720"/>
            <a:chOff x="3225960" y="7359480"/>
            <a:chExt cx="438120" cy="81720"/>
          </a:xfrm>
        </p:grpSpPr>
        <p:sp>
          <p:nvSpPr>
            <p:cNvPr id="157" name=""/>
            <p:cNvSpPr/>
            <p:nvPr/>
          </p:nvSpPr>
          <p:spPr>
            <a:xfrm flipH="1">
              <a:off x="3632040" y="7359480"/>
              <a:ext cx="3204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565440" y="7372440"/>
              <a:ext cx="31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500280" y="7383600"/>
              <a:ext cx="3204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433680" y="7396200"/>
              <a:ext cx="31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368520" y="7407360"/>
              <a:ext cx="3204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301920" y="7419960"/>
              <a:ext cx="31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236760" y="7431120"/>
              <a:ext cx="3204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25960" y="7383600"/>
              <a:ext cx="116280" cy="57600"/>
            </a:xfrm>
            <a:custGeom>
              <a:avLst/>
              <a:gdLst/>
              <a:ahLst/>
              <a:rect l="0" t="0" r="r" b="b"/>
              <a:pathLst>
                <a:path w="323" h="160">
                  <a:moveTo>
                    <a:pt x="0" y="131"/>
                  </a:moveTo>
                  <a:lnTo>
                    <a:pt x="323" y="160"/>
                  </a:lnTo>
                  <a:lnTo>
                    <a:pt x="292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99320" y="5513400"/>
            <a:ext cx="279360" cy="873360"/>
            <a:chOff x="5899320" y="5513400"/>
            <a:chExt cx="279360" cy="873360"/>
          </a:xfrm>
        </p:grpSpPr>
        <p:sp>
          <p:nvSpPr>
            <p:cNvPr id="166" name=""/>
            <p:cNvSpPr/>
            <p:nvPr/>
          </p:nvSpPr>
          <p:spPr>
            <a:xfrm>
              <a:off x="5911920" y="5513400"/>
              <a:ext cx="238320" cy="873360"/>
            </a:xfrm>
            <a:custGeom>
              <a:avLst/>
              <a:gdLst/>
              <a:ahLst/>
              <a:rect l="0" t="0" r="r" b="b"/>
              <a:pathLst>
                <a:path fill="none" w="662" h="2426">
                  <a:moveTo>
                    <a:pt x="330" y="2426"/>
                  </a:moveTo>
                  <a:lnTo>
                    <a:pt x="662" y="1212"/>
                  </a:lnTo>
                  <a:lnTo>
                    <a:pt x="499" y="1212"/>
                  </a:lnTo>
                  <a:lnTo>
                    <a:pt x="499" y="0"/>
                  </a:lnTo>
                  <a:lnTo>
                    <a:pt x="163" y="0"/>
                  </a:lnTo>
                  <a:lnTo>
                    <a:pt x="163" y="1212"/>
                  </a:lnTo>
                  <a:lnTo>
                    <a:pt x="0" y="1212"/>
                  </a:lnTo>
                  <a:lnTo>
                    <a:pt x="330" y="242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899320" y="5522760"/>
              <a:ext cx="279360" cy="642960"/>
              <a:chOff x="5899320" y="5522760"/>
              <a:chExt cx="279360" cy="642960"/>
            </a:xfrm>
          </p:grpSpPr>
          <p:sp>
            <p:nvSpPr>
              <p:cNvPr id="168" name=""/>
              <p:cNvSpPr txBox="1"/>
              <p:nvPr/>
            </p:nvSpPr>
            <p:spPr>
              <a:xfrm>
                <a:off x="5911920" y="5522760"/>
                <a:ext cx="2541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5931000" y="5661000"/>
                <a:ext cx="2160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>
                <a:off x="5899320" y="5799240"/>
                <a:ext cx="279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5908680" y="5937120"/>
                <a:ext cx="26028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"/>
          <p:cNvSpPr txBox="1"/>
          <p:nvPr/>
        </p:nvSpPr>
        <p:spPr>
          <a:xfrm>
            <a:off x="514440" y="11271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ing a Forward Contract (rejec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62040" y="3549600"/>
            <a:ext cx="1496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S-Ground-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946760" y="3549600"/>
            <a:ext cx="1496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S-Ground-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622600" y="3549600"/>
            <a:ext cx="176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S-Service-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36480" y="4010040"/>
            <a:ext cx="13780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DS-start-forward 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212920" y="4060800"/>
            <a:ext cx="89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START 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36480" y="55148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DS-start-forward cn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97040" y="5732640"/>
            <a:ext cx="75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(accep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216160" y="5330880"/>
            <a:ext cx="888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START cn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760" y="6197760"/>
            <a:ext cx="831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68840" y="45878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DS-start-forward i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68840" y="4975200"/>
            <a:ext cx="13780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DS-start-forward rs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68840" y="5183280"/>
            <a:ext cx="75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(accep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763800" y="4402080"/>
            <a:ext cx="888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START i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60920" y="5016600"/>
            <a:ext cx="89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START rs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33640" y="6513480"/>
            <a:ext cx="82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47840" y="359100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359100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51160" y="3895560"/>
            <a:ext cx="0" cy="4496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20960" y="3895560"/>
            <a:ext cx="0" cy="4496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35120" y="4195800"/>
            <a:ext cx="1522440" cy="74880"/>
            <a:chOff x="735120" y="4195800"/>
            <a:chExt cx="1522440" cy="74880"/>
          </a:xfrm>
        </p:grpSpPr>
        <p:sp>
          <p:nvSpPr>
            <p:cNvPr id="193" name=""/>
            <p:cNvSpPr/>
            <p:nvPr/>
          </p:nvSpPr>
          <p:spPr>
            <a:xfrm>
              <a:off x="735120" y="4240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24000" y="419580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371" y="106"/>
                  </a:moveTo>
                  <a:lnTo>
                    <a:pt x="0" y="0"/>
                  </a:lnTo>
                  <a:lnTo>
                    <a:pt x="0" y="208"/>
                  </a:lnTo>
                  <a:lnTo>
                    <a:pt x="371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257560" y="4233960"/>
            <a:ext cx="982800" cy="257760"/>
            <a:chOff x="2257560" y="4233960"/>
            <a:chExt cx="982800" cy="257760"/>
          </a:xfrm>
        </p:grpSpPr>
        <p:grpSp>
          <p:nvGrpSpPr>
            <p:cNvPr id="196" name=""/>
            <p:cNvGrpSpPr/>
            <p:nvPr/>
          </p:nvGrpSpPr>
          <p:grpSpPr>
            <a:xfrm>
              <a:off x="2811600" y="4430880"/>
              <a:ext cx="428760" cy="60840"/>
              <a:chOff x="2811600" y="4430880"/>
              <a:chExt cx="428760" cy="60840"/>
            </a:xfrm>
          </p:grpSpPr>
          <p:sp>
            <p:nvSpPr>
              <p:cNvPr id="197" name=""/>
              <p:cNvSpPr/>
              <p:nvPr/>
            </p:nvSpPr>
            <p:spPr>
              <a:xfrm flipH="1">
                <a:off x="2811600" y="4467240"/>
                <a:ext cx="39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130560" y="4430880"/>
                <a:ext cx="109800" cy="60840"/>
              </a:xfrm>
              <a:custGeom>
                <a:avLst/>
                <a:gdLst/>
                <a:ahLst/>
                <a:rect l="0" t="0" r="r" b="b"/>
                <a:pathLst>
                  <a:path w="305" h="169">
                    <a:moveTo>
                      <a:pt x="305" y="84"/>
                    </a:moveTo>
                    <a:lnTo>
                      <a:pt x="0" y="0"/>
                    </a:lnTo>
                    <a:lnTo>
                      <a:pt x="0" y="169"/>
                    </a:lnTo>
                    <a:lnTo>
                      <a:pt x="30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2257560" y="4237200"/>
              <a:ext cx="338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83000" y="4233960"/>
              <a:ext cx="250560" cy="250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686480" y="4761000"/>
            <a:ext cx="1521000" cy="76680"/>
            <a:chOff x="4686480" y="4761000"/>
            <a:chExt cx="1521000" cy="76680"/>
          </a:xfrm>
        </p:grpSpPr>
        <p:sp>
          <p:nvSpPr>
            <p:cNvPr id="202" name=""/>
            <p:cNvSpPr/>
            <p:nvPr/>
          </p:nvSpPr>
          <p:spPr>
            <a:xfrm>
              <a:off x="4686480" y="48052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76800" y="4761000"/>
              <a:ext cx="130680" cy="76680"/>
            </a:xfrm>
            <a:custGeom>
              <a:avLst/>
              <a:gdLst/>
              <a:ahLst/>
              <a:rect l="0" t="0" r="r" b="b"/>
              <a:pathLst>
                <a:path w="363" h="213">
                  <a:moveTo>
                    <a:pt x="363" y="106"/>
                  </a:moveTo>
                  <a:lnTo>
                    <a:pt x="0" y="0"/>
                  </a:lnTo>
                  <a:lnTo>
                    <a:pt x="0" y="213"/>
                  </a:lnTo>
                  <a:lnTo>
                    <a:pt x="363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692600" y="5145120"/>
            <a:ext cx="1554120" cy="74880"/>
            <a:chOff x="4692600" y="5145120"/>
            <a:chExt cx="1554120" cy="74880"/>
          </a:xfrm>
        </p:grpSpPr>
        <p:sp>
          <p:nvSpPr>
            <p:cNvPr id="205" name=""/>
            <p:cNvSpPr/>
            <p:nvPr/>
          </p:nvSpPr>
          <p:spPr>
            <a:xfrm>
              <a:off x="4767120" y="5189400"/>
              <a:ext cx="147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92600" y="5145120"/>
              <a:ext cx="132120" cy="74880"/>
            </a:xfrm>
            <a:custGeom>
              <a:avLst/>
              <a:gdLst/>
              <a:ahLst/>
              <a:rect l="0" t="0" r="r" b="b"/>
              <a:pathLst>
                <a:path w="367" h="208">
                  <a:moveTo>
                    <a:pt x="0" y="106"/>
                  </a:moveTo>
                  <a:lnTo>
                    <a:pt x="367" y="208"/>
                  </a:lnTo>
                  <a:lnTo>
                    <a:pt x="367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36560" y="5694480"/>
            <a:ext cx="1554120" cy="76680"/>
            <a:chOff x="736560" y="5694480"/>
            <a:chExt cx="1554120" cy="76680"/>
          </a:xfrm>
        </p:grpSpPr>
        <p:sp>
          <p:nvSpPr>
            <p:cNvPr id="208" name=""/>
            <p:cNvSpPr/>
            <p:nvPr/>
          </p:nvSpPr>
          <p:spPr>
            <a:xfrm>
              <a:off x="809640" y="5740560"/>
              <a:ext cx="14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6560" y="5694480"/>
              <a:ext cx="130680" cy="76680"/>
            </a:xfrm>
            <a:custGeom>
              <a:avLst/>
              <a:gdLst/>
              <a:ahLst/>
              <a:rect l="0" t="0" r="r" b="b"/>
              <a:pathLst>
                <a:path w="363" h="213">
                  <a:moveTo>
                    <a:pt x="0" y="110"/>
                  </a:moveTo>
                  <a:lnTo>
                    <a:pt x="363" y="213"/>
                  </a:lnTo>
                  <a:lnTo>
                    <a:pt x="363" y="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703680" y="4570560"/>
            <a:ext cx="984600" cy="258840"/>
            <a:chOff x="3703680" y="4570560"/>
            <a:chExt cx="984600" cy="258840"/>
          </a:xfrm>
        </p:grpSpPr>
        <p:grpSp>
          <p:nvGrpSpPr>
            <p:cNvPr id="211" name=""/>
            <p:cNvGrpSpPr/>
            <p:nvPr/>
          </p:nvGrpSpPr>
          <p:grpSpPr>
            <a:xfrm>
              <a:off x="4257720" y="4767120"/>
              <a:ext cx="430560" cy="62280"/>
              <a:chOff x="4257720" y="4767120"/>
              <a:chExt cx="430560" cy="62280"/>
            </a:xfrm>
          </p:grpSpPr>
          <p:sp>
            <p:nvSpPr>
              <p:cNvPr id="212" name=""/>
              <p:cNvSpPr/>
              <p:nvPr/>
            </p:nvSpPr>
            <p:spPr>
              <a:xfrm flipH="1">
                <a:off x="4257720" y="4803840"/>
                <a:ext cx="39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78480" y="4767120"/>
                <a:ext cx="109800" cy="62280"/>
              </a:xfrm>
              <a:custGeom>
                <a:avLst/>
                <a:gdLst/>
                <a:ahLst/>
                <a:rect l="0" t="0" r="r" b="b"/>
                <a:pathLst>
                  <a:path w="305" h="173">
                    <a:moveTo>
                      <a:pt x="305" y="85"/>
                    </a:moveTo>
                    <a:lnTo>
                      <a:pt x="0" y="0"/>
                    </a:lnTo>
                    <a:lnTo>
                      <a:pt x="0" y="173"/>
                    </a:lnTo>
                    <a:lnTo>
                      <a:pt x="305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3703680" y="4573440"/>
              <a:ext cx="3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29120" y="4570560"/>
              <a:ext cx="250920" cy="250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97200" y="5189400"/>
            <a:ext cx="1013040" cy="254520"/>
            <a:chOff x="3697200" y="5189400"/>
            <a:chExt cx="1013040" cy="254520"/>
          </a:xfrm>
        </p:grpSpPr>
        <p:grpSp>
          <p:nvGrpSpPr>
            <p:cNvPr id="217" name=""/>
            <p:cNvGrpSpPr/>
            <p:nvPr/>
          </p:nvGrpSpPr>
          <p:grpSpPr>
            <a:xfrm>
              <a:off x="3697200" y="5383080"/>
              <a:ext cx="461880" cy="60840"/>
              <a:chOff x="3697200" y="5383080"/>
              <a:chExt cx="461880" cy="60840"/>
            </a:xfrm>
          </p:grpSpPr>
          <p:sp>
            <p:nvSpPr>
              <p:cNvPr id="218" name=""/>
              <p:cNvSpPr/>
              <p:nvPr/>
            </p:nvSpPr>
            <p:spPr>
              <a:xfrm>
                <a:off x="3757680" y="5419800"/>
                <a:ext cx="401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697200" y="5383080"/>
                <a:ext cx="109800" cy="60840"/>
              </a:xfrm>
              <a:custGeom>
                <a:avLst/>
                <a:gdLst/>
                <a:ahLst/>
                <a:rect l="0" t="0" r="r" b="b"/>
                <a:pathLst>
                  <a:path w="305" h="169">
                    <a:moveTo>
                      <a:pt x="0" y="84"/>
                    </a:moveTo>
                    <a:lnTo>
                      <a:pt x="305" y="169"/>
                    </a:lnTo>
                    <a:lnTo>
                      <a:pt x="305" y="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 flipH="1">
              <a:off x="4370400" y="5192640"/>
              <a:ext cx="3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138560" y="5189400"/>
              <a:ext cx="2304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263680" y="5508720"/>
            <a:ext cx="1014480" cy="254160"/>
            <a:chOff x="2263680" y="5508720"/>
            <a:chExt cx="1014480" cy="254160"/>
          </a:xfrm>
        </p:grpSpPr>
        <p:grpSp>
          <p:nvGrpSpPr>
            <p:cNvPr id="223" name=""/>
            <p:cNvGrpSpPr/>
            <p:nvPr/>
          </p:nvGrpSpPr>
          <p:grpSpPr>
            <a:xfrm>
              <a:off x="2263680" y="5700600"/>
              <a:ext cx="463680" cy="62280"/>
              <a:chOff x="2263680" y="5700600"/>
              <a:chExt cx="463680" cy="62280"/>
            </a:xfrm>
          </p:grpSpPr>
          <p:sp>
            <p:nvSpPr>
              <p:cNvPr id="224" name=""/>
              <p:cNvSpPr/>
              <p:nvPr/>
            </p:nvSpPr>
            <p:spPr>
              <a:xfrm>
                <a:off x="2325600" y="5740560"/>
                <a:ext cx="401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263680" y="5700600"/>
                <a:ext cx="111600" cy="62280"/>
              </a:xfrm>
              <a:custGeom>
                <a:avLst/>
                <a:gdLst/>
                <a:ahLst/>
                <a:rect l="0" t="0" r="r" b="b"/>
                <a:pathLst>
                  <a:path w="310" h="173">
                    <a:moveTo>
                      <a:pt x="0" y="92"/>
                    </a:moveTo>
                    <a:lnTo>
                      <a:pt x="310" y="173"/>
                    </a:lnTo>
                    <a:lnTo>
                      <a:pt x="310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H="1">
              <a:off x="2940120" y="5510160"/>
              <a:ext cx="338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706840" y="5508720"/>
              <a:ext cx="23004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70160" y="6378480"/>
            <a:ext cx="982800" cy="257760"/>
            <a:chOff x="2270160" y="6378480"/>
            <a:chExt cx="982800" cy="257760"/>
          </a:xfrm>
        </p:grpSpPr>
        <p:grpSp>
          <p:nvGrpSpPr>
            <p:cNvPr id="229" name=""/>
            <p:cNvGrpSpPr/>
            <p:nvPr/>
          </p:nvGrpSpPr>
          <p:grpSpPr>
            <a:xfrm>
              <a:off x="2822400" y="6575400"/>
              <a:ext cx="430560" cy="60840"/>
              <a:chOff x="2822400" y="6575400"/>
              <a:chExt cx="430560" cy="6084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2822400" y="6611760"/>
                <a:ext cx="39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143160" y="6575400"/>
                <a:ext cx="109800" cy="60840"/>
              </a:xfrm>
              <a:custGeom>
                <a:avLst/>
                <a:gdLst/>
                <a:ahLst/>
                <a:rect l="0" t="0" r="r" b="b"/>
                <a:pathLst>
                  <a:path w="305" h="169">
                    <a:moveTo>
                      <a:pt x="305" y="84"/>
                    </a:moveTo>
                    <a:lnTo>
                      <a:pt x="0" y="0"/>
                    </a:lnTo>
                    <a:lnTo>
                      <a:pt x="0" y="169"/>
                    </a:lnTo>
                    <a:lnTo>
                      <a:pt x="30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2270160" y="6380280"/>
              <a:ext cx="338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95600" y="6378480"/>
              <a:ext cx="250920" cy="250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703680" y="6688080"/>
            <a:ext cx="984600" cy="256320"/>
            <a:chOff x="3703680" y="6688080"/>
            <a:chExt cx="984600" cy="256320"/>
          </a:xfrm>
        </p:grpSpPr>
        <p:grpSp>
          <p:nvGrpSpPr>
            <p:cNvPr id="235" name=""/>
            <p:cNvGrpSpPr/>
            <p:nvPr/>
          </p:nvGrpSpPr>
          <p:grpSpPr>
            <a:xfrm>
              <a:off x="4257720" y="6883560"/>
              <a:ext cx="430560" cy="60840"/>
              <a:chOff x="4257720" y="6883560"/>
              <a:chExt cx="430560" cy="60840"/>
            </a:xfrm>
          </p:grpSpPr>
          <p:sp>
            <p:nvSpPr>
              <p:cNvPr id="236" name=""/>
              <p:cNvSpPr/>
              <p:nvPr/>
            </p:nvSpPr>
            <p:spPr>
              <a:xfrm flipH="1">
                <a:off x="4257720" y="6921360"/>
                <a:ext cx="39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578480" y="6883560"/>
                <a:ext cx="109800" cy="60840"/>
              </a:xfrm>
              <a:custGeom>
                <a:avLst/>
                <a:gdLst/>
                <a:ahLst/>
                <a:rect l="0" t="0" r="r" b="b"/>
                <a:pathLst>
                  <a:path w="305" h="169">
                    <a:moveTo>
                      <a:pt x="305" y="88"/>
                    </a:moveTo>
                    <a:lnTo>
                      <a:pt x="0" y="0"/>
                    </a:lnTo>
                    <a:lnTo>
                      <a:pt x="0" y="169"/>
                    </a:lnTo>
                    <a:lnTo>
                      <a:pt x="305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3703680" y="6691320"/>
              <a:ext cx="3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29120" y="6688080"/>
              <a:ext cx="250920" cy="250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059280" y="4467240"/>
            <a:ext cx="59040" cy="1033560"/>
            <a:chOff x="3059280" y="4467240"/>
            <a:chExt cx="59040" cy="1033560"/>
          </a:xfrm>
        </p:grpSpPr>
        <p:sp>
          <p:nvSpPr>
            <p:cNvPr id="241" name=""/>
            <p:cNvSpPr/>
            <p:nvPr/>
          </p:nvSpPr>
          <p:spPr>
            <a:xfrm>
              <a:off x="3095640" y="4530600"/>
              <a:ext cx="0" cy="9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59280" y="5391000"/>
              <a:ext cx="59040" cy="109800"/>
            </a:xfrm>
            <a:custGeom>
              <a:avLst/>
              <a:gdLst/>
              <a:ahLst/>
              <a:rect l="0" t="0" r="r" b="b"/>
              <a:pathLst>
                <a:path w="164" h="305">
                  <a:moveTo>
                    <a:pt x="84" y="305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84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59280" y="4467240"/>
              <a:ext cx="59040" cy="109800"/>
            </a:xfrm>
            <a:custGeom>
              <a:avLst/>
              <a:gdLst/>
              <a:ahLst/>
              <a:rect l="0" t="0" r="r" b="b"/>
              <a:pathLst>
                <a:path w="164" h="305">
                  <a:moveTo>
                    <a:pt x="84" y="0"/>
                  </a:moveTo>
                  <a:lnTo>
                    <a:pt x="0" y="305"/>
                  </a:lnTo>
                  <a:lnTo>
                    <a:pt x="164" y="305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 txBox="1"/>
          <p:nvPr/>
        </p:nvSpPr>
        <p:spPr>
          <a:xfrm>
            <a:off x="2585880" y="4861080"/>
            <a:ext cx="51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-FC-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270240" y="4486320"/>
            <a:ext cx="441360" cy="82800"/>
            <a:chOff x="3270240" y="4486320"/>
            <a:chExt cx="441360" cy="82800"/>
          </a:xfrm>
        </p:grpSpPr>
        <p:sp>
          <p:nvSpPr>
            <p:cNvPr id="246" name=""/>
            <p:cNvSpPr/>
            <p:nvPr/>
          </p:nvSpPr>
          <p:spPr>
            <a:xfrm>
              <a:off x="3270240" y="4486320"/>
              <a:ext cx="4464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35400" y="4498920"/>
              <a:ext cx="442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02000" y="4508640"/>
              <a:ext cx="4608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68600" y="4522680"/>
              <a:ext cx="4464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35200" y="4533840"/>
              <a:ext cx="4464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00360" y="4546440"/>
              <a:ext cx="4464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66960" y="4557600"/>
              <a:ext cx="4464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91000" y="4511520"/>
              <a:ext cx="113040" cy="57600"/>
            </a:xfrm>
            <a:custGeom>
              <a:avLst/>
              <a:gdLst/>
              <a:ahLst/>
              <a:rect l="0" t="0" r="r" b="b"/>
              <a:pathLst>
                <a:path w="314" h="160">
                  <a:moveTo>
                    <a:pt x="314" y="128"/>
                  </a:moveTo>
                  <a:lnTo>
                    <a:pt x="31" y="0"/>
                  </a:lnTo>
                  <a:lnTo>
                    <a:pt x="0" y="160"/>
                  </a:lnTo>
                  <a:lnTo>
                    <a:pt x="314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252960" y="5416560"/>
            <a:ext cx="450720" cy="84600"/>
            <a:chOff x="3252960" y="5416560"/>
            <a:chExt cx="450720" cy="84600"/>
          </a:xfrm>
        </p:grpSpPr>
        <p:sp>
          <p:nvSpPr>
            <p:cNvPr id="255" name=""/>
            <p:cNvSpPr/>
            <p:nvPr/>
          </p:nvSpPr>
          <p:spPr>
            <a:xfrm flipH="1">
              <a:off x="3659040" y="5416560"/>
              <a:ext cx="4464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594240" y="5429160"/>
              <a:ext cx="442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527280" y="5440320"/>
              <a:ext cx="4464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3462480" y="5452920"/>
              <a:ext cx="4428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394080" y="5465880"/>
              <a:ext cx="4608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328920" y="5478480"/>
              <a:ext cx="4464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3262320" y="5489640"/>
              <a:ext cx="4428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52960" y="5443560"/>
              <a:ext cx="114840" cy="57600"/>
            </a:xfrm>
            <a:custGeom>
              <a:avLst/>
              <a:gdLst/>
              <a:ahLst/>
              <a:rect l="0" t="0" r="r" b="b"/>
              <a:pathLst>
                <a:path w="319" h="160">
                  <a:moveTo>
                    <a:pt x="0" y="135"/>
                  </a:moveTo>
                  <a:lnTo>
                    <a:pt x="319" y="160"/>
                  </a:lnTo>
                  <a:lnTo>
                    <a:pt x="287" y="0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276720" y="6615000"/>
            <a:ext cx="441360" cy="83160"/>
            <a:chOff x="3276720" y="6615000"/>
            <a:chExt cx="441360" cy="83160"/>
          </a:xfrm>
        </p:grpSpPr>
        <p:sp>
          <p:nvSpPr>
            <p:cNvPr id="264" name=""/>
            <p:cNvSpPr/>
            <p:nvPr/>
          </p:nvSpPr>
          <p:spPr>
            <a:xfrm>
              <a:off x="3276720" y="6615000"/>
              <a:ext cx="4428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341520" y="6627960"/>
              <a:ext cx="4464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08480" y="6637320"/>
              <a:ext cx="4608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75080" y="6651720"/>
              <a:ext cx="4428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41680" y="6662880"/>
              <a:ext cx="4464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06840" y="6675480"/>
              <a:ext cx="442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73440" y="6686640"/>
              <a:ext cx="4464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97120" y="6640560"/>
              <a:ext cx="113040" cy="57600"/>
            </a:xfrm>
            <a:custGeom>
              <a:avLst/>
              <a:gdLst/>
              <a:ahLst/>
              <a:rect l="0" t="0" r="r" b="b"/>
              <a:pathLst>
                <a:path w="314" h="160">
                  <a:moveTo>
                    <a:pt x="314" y="128"/>
                  </a:moveTo>
                  <a:lnTo>
                    <a:pt x="31" y="0"/>
                  </a:lnTo>
                  <a:lnTo>
                    <a:pt x="0" y="160"/>
                  </a:lnTo>
                  <a:lnTo>
                    <a:pt x="314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961240" y="5519880"/>
            <a:ext cx="279360" cy="875160"/>
            <a:chOff x="5961240" y="5519880"/>
            <a:chExt cx="279360" cy="875160"/>
          </a:xfrm>
        </p:grpSpPr>
        <p:sp>
          <p:nvSpPr>
            <p:cNvPr id="273" name=""/>
            <p:cNvSpPr/>
            <p:nvPr/>
          </p:nvSpPr>
          <p:spPr>
            <a:xfrm>
              <a:off x="5973840" y="5519880"/>
              <a:ext cx="238320" cy="875160"/>
            </a:xfrm>
            <a:custGeom>
              <a:avLst/>
              <a:gdLst/>
              <a:ahLst/>
              <a:rect l="0" t="0" r="r" b="b"/>
              <a:pathLst>
                <a:path fill="none" w="662" h="2431">
                  <a:moveTo>
                    <a:pt x="330" y="2431"/>
                  </a:moveTo>
                  <a:lnTo>
                    <a:pt x="662" y="1218"/>
                  </a:lnTo>
                  <a:lnTo>
                    <a:pt x="499" y="1218"/>
                  </a:lnTo>
                  <a:lnTo>
                    <a:pt x="499" y="0"/>
                  </a:lnTo>
                  <a:lnTo>
                    <a:pt x="163" y="0"/>
                  </a:lnTo>
                  <a:lnTo>
                    <a:pt x="163" y="1218"/>
                  </a:lnTo>
                  <a:lnTo>
                    <a:pt x="0" y="1218"/>
                  </a:lnTo>
                  <a:lnTo>
                    <a:pt x="330" y="243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5961240" y="5529240"/>
              <a:ext cx="279360" cy="644400"/>
              <a:chOff x="5961240" y="5529240"/>
              <a:chExt cx="279360" cy="644400"/>
            </a:xfrm>
          </p:grpSpPr>
          <p:sp>
            <p:nvSpPr>
              <p:cNvPr id="275" name=""/>
              <p:cNvSpPr txBox="1"/>
              <p:nvPr/>
            </p:nvSpPr>
            <p:spPr>
              <a:xfrm>
                <a:off x="5973840" y="5529240"/>
                <a:ext cx="2541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5992920" y="5668920"/>
                <a:ext cx="2160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 txBox="1"/>
              <p:nvPr/>
            </p:nvSpPr>
            <p:spPr>
              <a:xfrm>
                <a:off x="5961240" y="5807160"/>
                <a:ext cx="279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>
                <a:off x="5970600" y="5945040"/>
                <a:ext cx="26028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"/>
          <p:cNvSpPr txBox="1"/>
          <p:nvPr/>
        </p:nvSpPr>
        <p:spPr>
          <a:xfrm>
            <a:off x="636480" y="6143760"/>
            <a:ext cx="1460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DS-forward-report 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35120" y="6329520"/>
            <a:ext cx="1522440" cy="74880"/>
            <a:chOff x="735120" y="6329520"/>
            <a:chExt cx="1522440" cy="74880"/>
          </a:xfrm>
        </p:grpSpPr>
        <p:sp>
          <p:nvSpPr>
            <p:cNvPr id="281" name=""/>
            <p:cNvSpPr/>
            <p:nvPr/>
          </p:nvSpPr>
          <p:spPr>
            <a:xfrm>
              <a:off x="735120" y="637380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24000" y="63295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371" y="106"/>
                  </a:moveTo>
                  <a:lnTo>
                    <a:pt x="0" y="0"/>
                  </a:lnTo>
                  <a:lnTo>
                    <a:pt x="0" y="208"/>
                  </a:lnTo>
                  <a:lnTo>
                    <a:pt x="371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"/>
          <p:cNvSpPr txBox="1"/>
          <p:nvPr/>
        </p:nvSpPr>
        <p:spPr>
          <a:xfrm>
            <a:off x="4668840" y="6707160"/>
            <a:ext cx="1454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DS-forward-report i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686480" y="6880320"/>
            <a:ext cx="1521000" cy="76680"/>
            <a:chOff x="4686480" y="6880320"/>
            <a:chExt cx="1521000" cy="76680"/>
          </a:xfrm>
        </p:grpSpPr>
        <p:sp>
          <p:nvSpPr>
            <p:cNvPr id="285" name=""/>
            <p:cNvSpPr/>
            <p:nvPr/>
          </p:nvSpPr>
          <p:spPr>
            <a:xfrm>
              <a:off x="4686480" y="692460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76800" y="6880320"/>
              <a:ext cx="130680" cy="76680"/>
            </a:xfrm>
            <a:custGeom>
              <a:avLst/>
              <a:gdLst/>
              <a:ahLst/>
              <a:rect l="0" t="0" r="r" b="b"/>
              <a:pathLst>
                <a:path w="363" h="213">
                  <a:moveTo>
                    <a:pt x="363" y="106"/>
                  </a:moveTo>
                  <a:lnTo>
                    <a:pt x="0" y="0"/>
                  </a:lnTo>
                  <a:lnTo>
                    <a:pt x="0" y="213"/>
                  </a:lnTo>
                  <a:lnTo>
                    <a:pt x="363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50880" y="6676920"/>
            <a:ext cx="5571000" cy="813240"/>
            <a:chOff x="650880" y="6676920"/>
            <a:chExt cx="5571000" cy="813240"/>
          </a:xfrm>
        </p:grpSpPr>
        <p:sp>
          <p:nvSpPr>
            <p:cNvPr id="288" name=""/>
            <p:cNvSpPr txBox="1"/>
            <p:nvPr/>
          </p:nvSpPr>
          <p:spPr>
            <a:xfrm>
              <a:off x="2297160" y="6730920"/>
              <a:ext cx="8319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-DATA req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3848040" y="7047000"/>
              <a:ext cx="8254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-DATA in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2284560" y="6912000"/>
              <a:ext cx="982800" cy="257760"/>
              <a:chOff x="2284560" y="6912000"/>
              <a:chExt cx="982800" cy="2577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2836800" y="7108920"/>
                <a:ext cx="430560" cy="60840"/>
                <a:chOff x="2836800" y="7108920"/>
                <a:chExt cx="430560" cy="60840"/>
              </a:xfrm>
            </p:grpSpPr>
            <p:sp>
              <p:nvSpPr>
                <p:cNvPr id="292" name=""/>
                <p:cNvSpPr/>
                <p:nvPr/>
              </p:nvSpPr>
              <p:spPr>
                <a:xfrm flipH="1">
                  <a:off x="2836800" y="7145280"/>
                  <a:ext cx="393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157560" y="7108920"/>
                  <a:ext cx="109800" cy="60840"/>
                </a:xfrm>
                <a:custGeom>
                  <a:avLst/>
                  <a:gdLst/>
                  <a:ahLst/>
                  <a:rect l="0" t="0" r="r" b="b"/>
                  <a:pathLst>
                    <a:path w="305" h="169">
                      <a:moveTo>
                        <a:pt x="305" y="84"/>
                      </a:moveTo>
                      <a:lnTo>
                        <a:pt x="0" y="0"/>
                      </a:lnTo>
                      <a:lnTo>
                        <a:pt x="0" y="169"/>
                      </a:lnTo>
                      <a:lnTo>
                        <a:pt x="305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>
                <a:off x="2284560" y="6913440"/>
                <a:ext cx="33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610000" y="6912000"/>
                <a:ext cx="250560" cy="25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3718080" y="7221600"/>
              <a:ext cx="984240" cy="255960"/>
              <a:chOff x="3718080" y="7221600"/>
              <a:chExt cx="984240" cy="25596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4272120" y="7416720"/>
                <a:ext cx="430200" cy="60840"/>
                <a:chOff x="4272120" y="7416720"/>
                <a:chExt cx="430200" cy="60840"/>
              </a:xfrm>
            </p:grpSpPr>
            <p:sp>
              <p:nvSpPr>
                <p:cNvPr id="298" name=""/>
                <p:cNvSpPr/>
                <p:nvPr/>
              </p:nvSpPr>
              <p:spPr>
                <a:xfrm flipH="1">
                  <a:off x="4272120" y="7454880"/>
                  <a:ext cx="393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592520" y="7416720"/>
                  <a:ext cx="109800" cy="60840"/>
                </a:xfrm>
                <a:custGeom>
                  <a:avLst/>
                  <a:gdLst/>
                  <a:ahLst/>
                  <a:rect l="0" t="0" r="r" b="b"/>
                  <a:pathLst>
                    <a:path w="305" h="169">
                      <a:moveTo>
                        <a:pt x="305" y="88"/>
                      </a:moveTo>
                      <a:lnTo>
                        <a:pt x="0" y="0"/>
                      </a:lnTo>
                      <a:lnTo>
                        <a:pt x="0" y="169"/>
                      </a:lnTo>
                      <a:lnTo>
                        <a:pt x="305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3718080" y="7224840"/>
                <a:ext cx="33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043520" y="7221600"/>
                <a:ext cx="250560" cy="25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3290760" y="7148520"/>
              <a:ext cx="441360" cy="83160"/>
              <a:chOff x="3290760" y="7148520"/>
              <a:chExt cx="441360" cy="83160"/>
            </a:xfrm>
          </p:grpSpPr>
          <p:sp>
            <p:nvSpPr>
              <p:cNvPr id="303" name=""/>
              <p:cNvSpPr/>
              <p:nvPr/>
            </p:nvSpPr>
            <p:spPr>
              <a:xfrm>
                <a:off x="3290760" y="7148520"/>
                <a:ext cx="4464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55920" y="7161120"/>
                <a:ext cx="446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422520" y="7170840"/>
                <a:ext cx="4608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89480" y="7184880"/>
                <a:ext cx="4428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556080" y="7196040"/>
                <a:ext cx="4428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621240" y="7209000"/>
                <a:ext cx="4428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687840" y="7219800"/>
                <a:ext cx="4428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11520" y="7174080"/>
                <a:ext cx="113040" cy="57600"/>
              </a:xfrm>
              <a:custGeom>
                <a:avLst/>
                <a:gdLst/>
                <a:ahLst/>
                <a:rect l="0" t="0" r="r" b="b"/>
                <a:pathLst>
                  <a:path w="314" h="160">
                    <a:moveTo>
                      <a:pt x="314" y="128"/>
                    </a:moveTo>
                    <a:lnTo>
                      <a:pt x="31" y="0"/>
                    </a:lnTo>
                    <a:lnTo>
                      <a:pt x="0" y="160"/>
                    </a:lnTo>
                    <a:lnTo>
                      <a:pt x="31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 txBox="1"/>
            <p:nvPr/>
          </p:nvSpPr>
          <p:spPr>
            <a:xfrm>
              <a:off x="650880" y="6676920"/>
              <a:ext cx="14605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S-forward-report req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49160" y="6862680"/>
              <a:ext cx="1522800" cy="74880"/>
              <a:chOff x="749160" y="6862680"/>
              <a:chExt cx="1522800" cy="74880"/>
            </a:xfrm>
          </p:grpSpPr>
          <p:sp>
            <p:nvSpPr>
              <p:cNvPr id="313" name=""/>
              <p:cNvSpPr/>
              <p:nvPr/>
            </p:nvSpPr>
            <p:spPr>
              <a:xfrm>
                <a:off x="749160" y="6907320"/>
                <a:ext cx="147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8400" y="6862680"/>
                <a:ext cx="133560" cy="74880"/>
              </a:xfrm>
              <a:custGeom>
                <a:avLst/>
                <a:gdLst/>
                <a:ahLst/>
                <a:rect l="0" t="0" r="r" b="b"/>
                <a:pathLst>
                  <a:path w="371" h="208">
                    <a:moveTo>
                      <a:pt x="371" y="106"/>
                    </a:moveTo>
                    <a:lnTo>
                      <a:pt x="0" y="0"/>
                    </a:lnTo>
                    <a:lnTo>
                      <a:pt x="0" y="208"/>
                    </a:lnTo>
                    <a:lnTo>
                      <a:pt x="371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 txBox="1"/>
            <p:nvPr/>
          </p:nvSpPr>
          <p:spPr>
            <a:xfrm>
              <a:off x="4683240" y="7240680"/>
              <a:ext cx="1454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S-forward-report in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4700520" y="7413480"/>
              <a:ext cx="1521360" cy="76680"/>
              <a:chOff x="4700520" y="7413480"/>
              <a:chExt cx="1521360" cy="76680"/>
            </a:xfrm>
          </p:grpSpPr>
          <p:sp>
            <p:nvSpPr>
              <p:cNvPr id="317" name=""/>
              <p:cNvSpPr/>
              <p:nvPr/>
            </p:nvSpPr>
            <p:spPr>
              <a:xfrm>
                <a:off x="4700520" y="7458120"/>
                <a:ext cx="147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091200" y="7413480"/>
                <a:ext cx="130680" cy="76680"/>
              </a:xfrm>
              <a:custGeom>
                <a:avLst/>
                <a:gdLst/>
                <a:ahLst/>
                <a:rect l="0" t="0" r="r" b="b"/>
                <a:pathLst>
                  <a:path w="363" h="213">
                    <a:moveTo>
                      <a:pt x="363" y="106"/>
                    </a:moveTo>
                    <a:lnTo>
                      <a:pt x="0" y="0"/>
                    </a:lnTo>
                    <a:lnTo>
                      <a:pt x="0" y="213"/>
                    </a:lnTo>
                    <a:lnTo>
                      <a:pt x="363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650880" y="7210440"/>
            <a:ext cx="5571000" cy="813240"/>
            <a:chOff x="650880" y="7210440"/>
            <a:chExt cx="5571000" cy="813240"/>
          </a:xfrm>
        </p:grpSpPr>
        <p:sp>
          <p:nvSpPr>
            <p:cNvPr id="320" name=""/>
            <p:cNvSpPr txBox="1"/>
            <p:nvPr/>
          </p:nvSpPr>
          <p:spPr>
            <a:xfrm>
              <a:off x="2297160" y="7264440"/>
              <a:ext cx="8319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-DATA req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3848040" y="7580160"/>
              <a:ext cx="8254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-DATA in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2284560" y="7445520"/>
              <a:ext cx="982800" cy="257400"/>
              <a:chOff x="2284560" y="7445520"/>
              <a:chExt cx="982800" cy="25740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2836800" y="7642080"/>
                <a:ext cx="430560" cy="60840"/>
                <a:chOff x="2836800" y="7642080"/>
                <a:chExt cx="430560" cy="60840"/>
              </a:xfrm>
            </p:grpSpPr>
            <p:sp>
              <p:nvSpPr>
                <p:cNvPr id="324" name=""/>
                <p:cNvSpPr/>
                <p:nvPr/>
              </p:nvSpPr>
              <p:spPr>
                <a:xfrm flipH="1">
                  <a:off x="2836800" y="7678800"/>
                  <a:ext cx="393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157560" y="7642080"/>
                  <a:ext cx="109800" cy="60840"/>
                </a:xfrm>
                <a:custGeom>
                  <a:avLst/>
                  <a:gdLst/>
                  <a:ahLst/>
                  <a:rect l="0" t="0" r="r" b="b"/>
                  <a:pathLst>
                    <a:path w="305" h="169">
                      <a:moveTo>
                        <a:pt x="305" y="84"/>
                      </a:moveTo>
                      <a:lnTo>
                        <a:pt x="0" y="0"/>
                      </a:lnTo>
                      <a:lnTo>
                        <a:pt x="0" y="169"/>
                      </a:lnTo>
                      <a:lnTo>
                        <a:pt x="305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2284560" y="7446960"/>
                <a:ext cx="33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610000" y="7445520"/>
                <a:ext cx="250560" cy="25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3718080" y="7754760"/>
              <a:ext cx="984240" cy="256320"/>
              <a:chOff x="3718080" y="7754760"/>
              <a:chExt cx="984240" cy="25632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4272120" y="7950240"/>
                <a:ext cx="430200" cy="60840"/>
                <a:chOff x="4272120" y="7950240"/>
                <a:chExt cx="430200" cy="60840"/>
              </a:xfrm>
            </p:grpSpPr>
            <p:sp>
              <p:nvSpPr>
                <p:cNvPr id="330" name=""/>
                <p:cNvSpPr/>
                <p:nvPr/>
              </p:nvSpPr>
              <p:spPr>
                <a:xfrm flipH="1">
                  <a:off x="4272120" y="7988400"/>
                  <a:ext cx="393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592520" y="7950240"/>
                  <a:ext cx="109800" cy="60840"/>
                </a:xfrm>
                <a:custGeom>
                  <a:avLst/>
                  <a:gdLst/>
                  <a:ahLst/>
                  <a:rect l="0" t="0" r="r" b="b"/>
                  <a:pathLst>
                    <a:path w="305" h="169">
                      <a:moveTo>
                        <a:pt x="305" y="88"/>
                      </a:moveTo>
                      <a:lnTo>
                        <a:pt x="0" y="0"/>
                      </a:lnTo>
                      <a:lnTo>
                        <a:pt x="0" y="169"/>
                      </a:lnTo>
                      <a:lnTo>
                        <a:pt x="305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3718080" y="7758000"/>
                <a:ext cx="33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043520" y="7754760"/>
                <a:ext cx="250560" cy="25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3290760" y="7682040"/>
              <a:ext cx="441360" cy="82800"/>
              <a:chOff x="3290760" y="7682040"/>
              <a:chExt cx="441360" cy="82800"/>
            </a:xfrm>
          </p:grpSpPr>
          <p:sp>
            <p:nvSpPr>
              <p:cNvPr id="335" name=""/>
              <p:cNvSpPr/>
              <p:nvPr/>
            </p:nvSpPr>
            <p:spPr>
              <a:xfrm>
                <a:off x="3290760" y="7682040"/>
                <a:ext cx="4464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355920" y="7694640"/>
                <a:ext cx="446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422520" y="7704000"/>
                <a:ext cx="4608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489480" y="7718400"/>
                <a:ext cx="4428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56080" y="7729560"/>
                <a:ext cx="4428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21240" y="7742160"/>
                <a:ext cx="4428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687840" y="7753320"/>
                <a:ext cx="4428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611520" y="7707240"/>
                <a:ext cx="113040" cy="57600"/>
              </a:xfrm>
              <a:custGeom>
                <a:avLst/>
                <a:gdLst/>
                <a:ahLst/>
                <a:rect l="0" t="0" r="r" b="b"/>
                <a:pathLst>
                  <a:path w="314" h="160">
                    <a:moveTo>
                      <a:pt x="314" y="128"/>
                    </a:moveTo>
                    <a:lnTo>
                      <a:pt x="31" y="0"/>
                    </a:lnTo>
                    <a:lnTo>
                      <a:pt x="0" y="160"/>
                    </a:lnTo>
                    <a:lnTo>
                      <a:pt x="31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 txBox="1"/>
            <p:nvPr/>
          </p:nvSpPr>
          <p:spPr>
            <a:xfrm>
              <a:off x="650880" y="7210440"/>
              <a:ext cx="14605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S-forward-report req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749160" y="7396200"/>
              <a:ext cx="1522800" cy="74880"/>
              <a:chOff x="749160" y="7396200"/>
              <a:chExt cx="1522800" cy="74880"/>
            </a:xfrm>
          </p:grpSpPr>
          <p:sp>
            <p:nvSpPr>
              <p:cNvPr id="345" name=""/>
              <p:cNvSpPr/>
              <p:nvPr/>
            </p:nvSpPr>
            <p:spPr>
              <a:xfrm>
                <a:off x="749160" y="7440480"/>
                <a:ext cx="147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138400" y="7396200"/>
                <a:ext cx="133560" cy="74880"/>
              </a:xfrm>
              <a:custGeom>
                <a:avLst/>
                <a:gdLst/>
                <a:ahLst/>
                <a:rect l="0" t="0" r="r" b="b"/>
                <a:pathLst>
                  <a:path w="371" h="208">
                    <a:moveTo>
                      <a:pt x="371" y="106"/>
                    </a:moveTo>
                    <a:lnTo>
                      <a:pt x="0" y="0"/>
                    </a:lnTo>
                    <a:lnTo>
                      <a:pt x="0" y="208"/>
                    </a:lnTo>
                    <a:lnTo>
                      <a:pt x="371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 txBox="1"/>
            <p:nvPr/>
          </p:nvSpPr>
          <p:spPr>
            <a:xfrm>
              <a:off x="4683240" y="7773840"/>
              <a:ext cx="1454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S-forward-report in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4700520" y="7947000"/>
              <a:ext cx="1521360" cy="76680"/>
              <a:chOff x="4700520" y="7947000"/>
              <a:chExt cx="1521360" cy="76680"/>
            </a:xfrm>
          </p:grpSpPr>
          <p:sp>
            <p:nvSpPr>
              <p:cNvPr id="349" name=""/>
              <p:cNvSpPr/>
              <p:nvPr/>
            </p:nvSpPr>
            <p:spPr>
              <a:xfrm>
                <a:off x="4700520" y="7991640"/>
                <a:ext cx="147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91200" y="7947000"/>
                <a:ext cx="130680" cy="76680"/>
              </a:xfrm>
              <a:custGeom>
                <a:avLst/>
                <a:gdLst/>
                <a:ahLst/>
                <a:rect l="0" t="0" r="r" b="b"/>
                <a:pathLst>
                  <a:path w="363" h="213">
                    <a:moveTo>
                      <a:pt x="363" y="106"/>
                    </a:moveTo>
                    <a:lnTo>
                      <a:pt x="0" y="0"/>
                    </a:lnTo>
                    <a:lnTo>
                      <a:pt x="0" y="213"/>
                    </a:lnTo>
                    <a:lnTo>
                      <a:pt x="363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1" name=""/>
          <p:cNvSpPr txBox="1"/>
          <p:nvPr/>
        </p:nvSpPr>
        <p:spPr>
          <a:xfrm>
            <a:off x="4861080" y="7827840"/>
            <a:ext cx="488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14440" y="11271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ing a Forward Contract (accep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514440" y="11271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ing a Forward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42880" y="3262320"/>
            <a:ext cx="1496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S-Ground-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834080" y="3262320"/>
            <a:ext cx="1496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S-Ground-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506680" y="3262320"/>
            <a:ext cx="176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S-Service-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17680" y="3724200"/>
            <a:ext cx="1333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DS-end-forward 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095560" y="3774960"/>
            <a:ext cx="831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17680" y="5230800"/>
            <a:ext cx="1327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DS-end-forward cn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098800" y="5046840"/>
            <a:ext cx="831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165400" y="5915160"/>
            <a:ext cx="75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END 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56160" y="4302000"/>
            <a:ext cx="1327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DS-end-forward i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649680" y="4116240"/>
            <a:ext cx="82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646440" y="4732200"/>
            <a:ext cx="831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719520" y="6230880"/>
            <a:ext cx="75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END rs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30480" y="3303720"/>
            <a:ext cx="0" cy="482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84600" y="3303720"/>
            <a:ext cx="0" cy="482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35240" y="3608280"/>
            <a:ext cx="0" cy="4516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606840" y="3608280"/>
            <a:ext cx="0" cy="4516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15960" y="3909960"/>
            <a:ext cx="1524240" cy="74880"/>
            <a:chOff x="615960" y="3909960"/>
            <a:chExt cx="1524240" cy="74880"/>
          </a:xfrm>
        </p:grpSpPr>
        <p:sp>
          <p:nvSpPr>
            <p:cNvPr id="371" name=""/>
            <p:cNvSpPr/>
            <p:nvPr/>
          </p:nvSpPr>
          <p:spPr>
            <a:xfrm>
              <a:off x="615960" y="3954600"/>
              <a:ext cx="148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06640" y="390996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371" y="106"/>
                  </a:moveTo>
                  <a:lnTo>
                    <a:pt x="0" y="0"/>
                  </a:lnTo>
                  <a:lnTo>
                    <a:pt x="0" y="208"/>
                  </a:lnTo>
                  <a:lnTo>
                    <a:pt x="371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2139840" y="3948120"/>
            <a:ext cx="984600" cy="263520"/>
            <a:chOff x="2139840" y="3948120"/>
            <a:chExt cx="984600" cy="263520"/>
          </a:xfrm>
        </p:grpSpPr>
        <p:grpSp>
          <p:nvGrpSpPr>
            <p:cNvPr id="374" name=""/>
            <p:cNvGrpSpPr/>
            <p:nvPr/>
          </p:nvGrpSpPr>
          <p:grpSpPr>
            <a:xfrm>
              <a:off x="2695680" y="4145040"/>
              <a:ext cx="428760" cy="60840"/>
              <a:chOff x="2695680" y="4145040"/>
              <a:chExt cx="428760" cy="60840"/>
            </a:xfrm>
          </p:grpSpPr>
          <p:sp>
            <p:nvSpPr>
              <p:cNvPr id="375" name=""/>
              <p:cNvSpPr/>
              <p:nvPr/>
            </p:nvSpPr>
            <p:spPr>
              <a:xfrm flipH="1">
                <a:off x="2695680" y="4181400"/>
                <a:ext cx="40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14640" y="4145040"/>
                <a:ext cx="109800" cy="60840"/>
              </a:xfrm>
              <a:custGeom>
                <a:avLst/>
                <a:gdLst/>
                <a:ahLst/>
                <a:rect l="0" t="0" r="r" b="b"/>
                <a:pathLst>
                  <a:path w="305" h="169">
                    <a:moveTo>
                      <a:pt x="305" y="84"/>
                    </a:moveTo>
                    <a:lnTo>
                      <a:pt x="0" y="0"/>
                    </a:lnTo>
                    <a:lnTo>
                      <a:pt x="0" y="169"/>
                    </a:lnTo>
                    <a:lnTo>
                      <a:pt x="30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2139840" y="395136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67080" y="3948120"/>
              <a:ext cx="263520" cy="263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572000" y="4475160"/>
            <a:ext cx="1524600" cy="76680"/>
            <a:chOff x="4572000" y="4475160"/>
            <a:chExt cx="1524600" cy="76680"/>
          </a:xfrm>
        </p:grpSpPr>
        <p:sp>
          <p:nvSpPr>
            <p:cNvPr id="380" name=""/>
            <p:cNvSpPr/>
            <p:nvPr/>
          </p:nvSpPr>
          <p:spPr>
            <a:xfrm>
              <a:off x="4572000" y="4519440"/>
              <a:ext cx="1488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65920" y="4475160"/>
              <a:ext cx="130680" cy="76680"/>
            </a:xfrm>
            <a:custGeom>
              <a:avLst/>
              <a:gdLst/>
              <a:ahLst/>
              <a:rect l="0" t="0" r="r" b="b"/>
              <a:pathLst>
                <a:path w="363" h="213">
                  <a:moveTo>
                    <a:pt x="363" y="106"/>
                  </a:moveTo>
                  <a:lnTo>
                    <a:pt x="0" y="0"/>
                  </a:lnTo>
                  <a:lnTo>
                    <a:pt x="0" y="213"/>
                  </a:lnTo>
                  <a:lnTo>
                    <a:pt x="363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17400" y="5410080"/>
            <a:ext cx="1568520" cy="76680"/>
            <a:chOff x="617400" y="5410080"/>
            <a:chExt cx="1568520" cy="76680"/>
          </a:xfrm>
        </p:grpSpPr>
        <p:sp>
          <p:nvSpPr>
            <p:cNvPr id="383" name=""/>
            <p:cNvSpPr/>
            <p:nvPr/>
          </p:nvSpPr>
          <p:spPr>
            <a:xfrm>
              <a:off x="690480" y="5456160"/>
              <a:ext cx="1495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400" y="5410080"/>
              <a:ext cx="130680" cy="76680"/>
            </a:xfrm>
            <a:custGeom>
              <a:avLst/>
              <a:gdLst/>
              <a:ahLst/>
              <a:rect l="0" t="0" r="r" b="b"/>
              <a:pathLst>
                <a:path w="363" h="213">
                  <a:moveTo>
                    <a:pt x="0" y="110"/>
                  </a:moveTo>
                  <a:lnTo>
                    <a:pt x="363" y="213"/>
                  </a:lnTo>
                  <a:lnTo>
                    <a:pt x="363" y="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3589200" y="4284720"/>
            <a:ext cx="984600" cy="263520"/>
            <a:chOff x="3589200" y="4284720"/>
            <a:chExt cx="984600" cy="263520"/>
          </a:xfrm>
        </p:grpSpPr>
        <p:grpSp>
          <p:nvGrpSpPr>
            <p:cNvPr id="386" name=""/>
            <p:cNvGrpSpPr/>
            <p:nvPr/>
          </p:nvGrpSpPr>
          <p:grpSpPr>
            <a:xfrm>
              <a:off x="4143240" y="4481640"/>
              <a:ext cx="430560" cy="62280"/>
              <a:chOff x="4143240" y="4481640"/>
              <a:chExt cx="430560" cy="62280"/>
            </a:xfrm>
          </p:grpSpPr>
          <p:sp>
            <p:nvSpPr>
              <p:cNvPr id="387" name=""/>
              <p:cNvSpPr/>
              <p:nvPr/>
            </p:nvSpPr>
            <p:spPr>
              <a:xfrm flipH="1">
                <a:off x="4143240" y="4518000"/>
                <a:ext cx="40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464000" y="4481640"/>
                <a:ext cx="109800" cy="62280"/>
              </a:xfrm>
              <a:custGeom>
                <a:avLst/>
                <a:gdLst/>
                <a:ahLst/>
                <a:rect l="0" t="0" r="r" b="b"/>
                <a:pathLst>
                  <a:path w="305" h="173">
                    <a:moveTo>
                      <a:pt x="305" y="85"/>
                    </a:moveTo>
                    <a:lnTo>
                      <a:pt x="0" y="0"/>
                    </a:lnTo>
                    <a:lnTo>
                      <a:pt x="0" y="173"/>
                    </a:lnTo>
                    <a:lnTo>
                      <a:pt x="305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3589200" y="428796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14640" y="4284720"/>
              <a:ext cx="263520" cy="263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583080" y="4905360"/>
            <a:ext cx="1027080" cy="254520"/>
            <a:chOff x="3583080" y="4905360"/>
            <a:chExt cx="1027080" cy="254520"/>
          </a:xfrm>
        </p:grpSpPr>
        <p:grpSp>
          <p:nvGrpSpPr>
            <p:cNvPr id="392" name=""/>
            <p:cNvGrpSpPr/>
            <p:nvPr/>
          </p:nvGrpSpPr>
          <p:grpSpPr>
            <a:xfrm>
              <a:off x="3583080" y="5099040"/>
              <a:ext cx="474480" cy="60840"/>
              <a:chOff x="3583080" y="5099040"/>
              <a:chExt cx="474480" cy="60840"/>
            </a:xfrm>
          </p:grpSpPr>
          <p:sp>
            <p:nvSpPr>
              <p:cNvPr id="393" name=""/>
              <p:cNvSpPr/>
              <p:nvPr/>
            </p:nvSpPr>
            <p:spPr>
              <a:xfrm>
                <a:off x="3643200" y="5135400"/>
                <a:ext cx="41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583080" y="5099040"/>
                <a:ext cx="109800" cy="60840"/>
              </a:xfrm>
              <a:custGeom>
                <a:avLst/>
                <a:gdLst/>
                <a:ahLst/>
                <a:rect l="0" t="0" r="r" b="b"/>
                <a:pathLst>
                  <a:path w="305" h="169">
                    <a:moveTo>
                      <a:pt x="0" y="84"/>
                    </a:moveTo>
                    <a:lnTo>
                      <a:pt x="305" y="169"/>
                    </a:lnTo>
                    <a:lnTo>
                      <a:pt x="305" y="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 flipH="1">
              <a:off x="4255920" y="4908600"/>
              <a:ext cx="354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024440" y="4905360"/>
              <a:ext cx="228600" cy="22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146320" y="5224320"/>
            <a:ext cx="1028520" cy="254520"/>
            <a:chOff x="2146320" y="5224320"/>
            <a:chExt cx="1028520" cy="254520"/>
          </a:xfrm>
        </p:grpSpPr>
        <p:grpSp>
          <p:nvGrpSpPr>
            <p:cNvPr id="398" name=""/>
            <p:cNvGrpSpPr/>
            <p:nvPr/>
          </p:nvGrpSpPr>
          <p:grpSpPr>
            <a:xfrm>
              <a:off x="2146320" y="5416560"/>
              <a:ext cx="477720" cy="62280"/>
              <a:chOff x="2146320" y="5416560"/>
              <a:chExt cx="477720" cy="62280"/>
            </a:xfrm>
          </p:grpSpPr>
          <p:sp>
            <p:nvSpPr>
              <p:cNvPr id="399" name=""/>
              <p:cNvSpPr/>
              <p:nvPr/>
            </p:nvSpPr>
            <p:spPr>
              <a:xfrm>
                <a:off x="2208240" y="5456160"/>
                <a:ext cx="41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146320" y="5416560"/>
                <a:ext cx="113040" cy="62280"/>
              </a:xfrm>
              <a:custGeom>
                <a:avLst/>
                <a:gdLst/>
                <a:ahLst/>
                <a:rect l="0" t="0" r="r" b="b"/>
                <a:pathLst>
                  <a:path w="314" h="173">
                    <a:moveTo>
                      <a:pt x="0" y="92"/>
                    </a:moveTo>
                    <a:lnTo>
                      <a:pt x="314" y="173"/>
                    </a:lnTo>
                    <a:lnTo>
                      <a:pt x="314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 flipH="1">
              <a:off x="2824200" y="5226120"/>
              <a:ext cx="350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590920" y="5224320"/>
              <a:ext cx="23004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152800" y="6095880"/>
            <a:ext cx="984240" cy="262080"/>
            <a:chOff x="2152800" y="6095880"/>
            <a:chExt cx="984240" cy="262080"/>
          </a:xfrm>
        </p:grpSpPr>
        <p:grpSp>
          <p:nvGrpSpPr>
            <p:cNvPr id="404" name=""/>
            <p:cNvGrpSpPr/>
            <p:nvPr/>
          </p:nvGrpSpPr>
          <p:grpSpPr>
            <a:xfrm>
              <a:off x="2706840" y="6292800"/>
              <a:ext cx="430200" cy="60840"/>
              <a:chOff x="2706840" y="6292800"/>
              <a:chExt cx="430200" cy="60840"/>
            </a:xfrm>
          </p:grpSpPr>
          <p:sp>
            <p:nvSpPr>
              <p:cNvPr id="405" name=""/>
              <p:cNvSpPr/>
              <p:nvPr/>
            </p:nvSpPr>
            <p:spPr>
              <a:xfrm flipH="1">
                <a:off x="2706840" y="6329520"/>
                <a:ext cx="40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027240" y="6292800"/>
                <a:ext cx="109800" cy="60840"/>
              </a:xfrm>
              <a:custGeom>
                <a:avLst/>
                <a:gdLst/>
                <a:ahLst/>
                <a:rect l="0" t="0" r="r" b="b"/>
                <a:pathLst>
                  <a:path w="305" h="169">
                    <a:moveTo>
                      <a:pt x="305" y="84"/>
                    </a:moveTo>
                    <a:lnTo>
                      <a:pt x="0" y="0"/>
                    </a:lnTo>
                    <a:lnTo>
                      <a:pt x="0" y="169"/>
                    </a:lnTo>
                    <a:lnTo>
                      <a:pt x="30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2152800" y="609768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79680" y="6095880"/>
              <a:ext cx="263520" cy="262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3589200" y="6405480"/>
            <a:ext cx="984600" cy="263520"/>
            <a:chOff x="3589200" y="6405480"/>
            <a:chExt cx="984600" cy="263520"/>
          </a:xfrm>
        </p:grpSpPr>
        <p:grpSp>
          <p:nvGrpSpPr>
            <p:cNvPr id="410" name=""/>
            <p:cNvGrpSpPr/>
            <p:nvPr/>
          </p:nvGrpSpPr>
          <p:grpSpPr>
            <a:xfrm>
              <a:off x="4143240" y="6600960"/>
              <a:ext cx="430560" cy="60840"/>
              <a:chOff x="4143240" y="6600960"/>
              <a:chExt cx="430560" cy="60840"/>
            </a:xfrm>
          </p:grpSpPr>
          <p:sp>
            <p:nvSpPr>
              <p:cNvPr id="411" name=""/>
              <p:cNvSpPr/>
              <p:nvPr/>
            </p:nvSpPr>
            <p:spPr>
              <a:xfrm flipH="1">
                <a:off x="4143240" y="6638760"/>
                <a:ext cx="40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64000" y="6600960"/>
                <a:ext cx="109800" cy="60840"/>
              </a:xfrm>
              <a:custGeom>
                <a:avLst/>
                <a:gdLst/>
                <a:ahLst/>
                <a:rect l="0" t="0" r="r" b="b"/>
                <a:pathLst>
                  <a:path w="305" h="169">
                    <a:moveTo>
                      <a:pt x="305" y="88"/>
                    </a:moveTo>
                    <a:lnTo>
                      <a:pt x="0" y="0"/>
                    </a:lnTo>
                    <a:lnTo>
                      <a:pt x="0" y="169"/>
                    </a:lnTo>
                    <a:lnTo>
                      <a:pt x="305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3589200" y="64087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14640" y="6405480"/>
              <a:ext cx="263520" cy="263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943360" y="4181400"/>
            <a:ext cx="59040" cy="1035360"/>
            <a:chOff x="2943360" y="4181400"/>
            <a:chExt cx="59040" cy="1035360"/>
          </a:xfrm>
        </p:grpSpPr>
        <p:sp>
          <p:nvSpPr>
            <p:cNvPr id="416" name=""/>
            <p:cNvSpPr/>
            <p:nvPr/>
          </p:nvSpPr>
          <p:spPr>
            <a:xfrm>
              <a:off x="2979720" y="4245120"/>
              <a:ext cx="0" cy="9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943360" y="5106960"/>
              <a:ext cx="59040" cy="109800"/>
            </a:xfrm>
            <a:custGeom>
              <a:avLst/>
              <a:gdLst/>
              <a:ahLst/>
              <a:rect l="0" t="0" r="r" b="b"/>
              <a:pathLst>
                <a:path w="164" h="305">
                  <a:moveTo>
                    <a:pt x="84" y="305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84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43360" y="4181400"/>
              <a:ext cx="59040" cy="109800"/>
            </a:xfrm>
            <a:custGeom>
              <a:avLst/>
              <a:gdLst/>
              <a:ahLst/>
              <a:rect l="0" t="0" r="r" b="b"/>
              <a:pathLst>
                <a:path w="164" h="305">
                  <a:moveTo>
                    <a:pt x="84" y="0"/>
                  </a:moveTo>
                  <a:lnTo>
                    <a:pt x="0" y="305"/>
                  </a:lnTo>
                  <a:lnTo>
                    <a:pt x="164" y="305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"/>
          <p:cNvSpPr txBox="1"/>
          <p:nvPr/>
        </p:nvSpPr>
        <p:spPr>
          <a:xfrm>
            <a:off x="2470320" y="4575240"/>
            <a:ext cx="51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-FC-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3154320" y="4200480"/>
            <a:ext cx="455760" cy="83160"/>
            <a:chOff x="3154320" y="4200480"/>
            <a:chExt cx="455760" cy="83160"/>
          </a:xfrm>
        </p:grpSpPr>
        <p:sp>
          <p:nvSpPr>
            <p:cNvPr id="421" name=""/>
            <p:cNvSpPr/>
            <p:nvPr/>
          </p:nvSpPr>
          <p:spPr>
            <a:xfrm>
              <a:off x="3154320" y="4200480"/>
              <a:ext cx="57240" cy="9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19480" y="4213080"/>
              <a:ext cx="5724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86080" y="4222800"/>
              <a:ext cx="58680" cy="9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52680" y="4235400"/>
              <a:ext cx="5724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19640" y="4246560"/>
              <a:ext cx="58680" cy="9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86240" y="4260960"/>
              <a:ext cx="5724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52840" y="4272120"/>
              <a:ext cx="57240" cy="9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76520" y="4226040"/>
              <a:ext cx="113040" cy="57600"/>
            </a:xfrm>
            <a:custGeom>
              <a:avLst/>
              <a:gdLst/>
              <a:ahLst/>
              <a:rect l="0" t="0" r="r" b="b"/>
              <a:pathLst>
                <a:path w="314" h="160">
                  <a:moveTo>
                    <a:pt x="314" y="128"/>
                  </a:moveTo>
                  <a:lnTo>
                    <a:pt x="31" y="0"/>
                  </a:lnTo>
                  <a:lnTo>
                    <a:pt x="0" y="160"/>
                  </a:lnTo>
                  <a:lnTo>
                    <a:pt x="314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137040" y="5129280"/>
            <a:ext cx="465120" cy="87840"/>
            <a:chOff x="3137040" y="5129280"/>
            <a:chExt cx="465120" cy="87840"/>
          </a:xfrm>
        </p:grpSpPr>
        <p:sp>
          <p:nvSpPr>
            <p:cNvPr id="430" name=""/>
            <p:cNvSpPr/>
            <p:nvPr/>
          </p:nvSpPr>
          <p:spPr>
            <a:xfrm flipH="1">
              <a:off x="3544920" y="5129280"/>
              <a:ext cx="57240" cy="9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3479760" y="5141880"/>
              <a:ext cx="5724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411360" y="5153040"/>
              <a:ext cx="59040" cy="9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3346560" y="5165640"/>
              <a:ext cx="56880" cy="9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3278160" y="5178600"/>
              <a:ext cx="58680" cy="9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3213000" y="5191200"/>
              <a:ext cx="5724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3146400" y="5202360"/>
              <a:ext cx="57240" cy="9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37040" y="5159520"/>
              <a:ext cx="114840" cy="57600"/>
            </a:xfrm>
            <a:custGeom>
              <a:avLst/>
              <a:gdLst/>
              <a:ahLst/>
              <a:rect l="0" t="0" r="r" b="b"/>
              <a:pathLst>
                <a:path w="319" h="160">
                  <a:moveTo>
                    <a:pt x="0" y="135"/>
                  </a:moveTo>
                  <a:lnTo>
                    <a:pt x="319" y="160"/>
                  </a:lnTo>
                  <a:lnTo>
                    <a:pt x="287" y="0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160800" y="6332400"/>
            <a:ext cx="455400" cy="83160"/>
            <a:chOff x="3160800" y="6332400"/>
            <a:chExt cx="455400" cy="83160"/>
          </a:xfrm>
        </p:grpSpPr>
        <p:sp>
          <p:nvSpPr>
            <p:cNvPr id="439" name=""/>
            <p:cNvSpPr/>
            <p:nvPr/>
          </p:nvSpPr>
          <p:spPr>
            <a:xfrm>
              <a:off x="3160800" y="6332400"/>
              <a:ext cx="57240" cy="9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225960" y="6345360"/>
              <a:ext cx="5688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92560" y="6354720"/>
              <a:ext cx="58680" cy="9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59160" y="6367320"/>
              <a:ext cx="5724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25760" y="6378480"/>
              <a:ext cx="58680" cy="9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492360" y="6392880"/>
              <a:ext cx="5724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59320" y="6404040"/>
              <a:ext cx="56880" cy="9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83000" y="6357960"/>
              <a:ext cx="113040" cy="57600"/>
            </a:xfrm>
            <a:custGeom>
              <a:avLst/>
              <a:gdLst/>
              <a:ahLst/>
              <a:rect l="0" t="0" r="r" b="b"/>
              <a:pathLst>
                <a:path w="314" h="160">
                  <a:moveTo>
                    <a:pt x="314" y="128"/>
                  </a:moveTo>
                  <a:lnTo>
                    <a:pt x="31" y="0"/>
                  </a:lnTo>
                  <a:lnTo>
                    <a:pt x="0" y="160"/>
                  </a:lnTo>
                  <a:lnTo>
                    <a:pt x="314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850000" y="5235480"/>
            <a:ext cx="279360" cy="876600"/>
            <a:chOff x="5850000" y="5235480"/>
            <a:chExt cx="279360" cy="876600"/>
          </a:xfrm>
        </p:grpSpPr>
        <p:sp>
          <p:nvSpPr>
            <p:cNvPr id="448" name=""/>
            <p:cNvSpPr/>
            <p:nvPr/>
          </p:nvSpPr>
          <p:spPr>
            <a:xfrm>
              <a:off x="5862600" y="5235480"/>
              <a:ext cx="238320" cy="876600"/>
            </a:xfrm>
            <a:custGeom>
              <a:avLst/>
              <a:gdLst/>
              <a:ahLst/>
              <a:rect l="0" t="0" r="r" b="b"/>
              <a:pathLst>
                <a:path fill="none" w="662" h="2435">
                  <a:moveTo>
                    <a:pt x="330" y="2435"/>
                  </a:moveTo>
                  <a:lnTo>
                    <a:pt x="662" y="1218"/>
                  </a:lnTo>
                  <a:lnTo>
                    <a:pt x="499" y="1218"/>
                  </a:lnTo>
                  <a:lnTo>
                    <a:pt x="499" y="0"/>
                  </a:lnTo>
                  <a:lnTo>
                    <a:pt x="163" y="0"/>
                  </a:lnTo>
                  <a:lnTo>
                    <a:pt x="163" y="1218"/>
                  </a:lnTo>
                  <a:lnTo>
                    <a:pt x="0" y="1218"/>
                  </a:lnTo>
                  <a:lnTo>
                    <a:pt x="330" y="243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5850000" y="5245200"/>
              <a:ext cx="279360" cy="645840"/>
              <a:chOff x="5850000" y="5245200"/>
              <a:chExt cx="279360" cy="645840"/>
            </a:xfrm>
          </p:grpSpPr>
          <p:sp>
            <p:nvSpPr>
              <p:cNvPr id="450" name=""/>
              <p:cNvSpPr txBox="1"/>
              <p:nvPr/>
            </p:nvSpPr>
            <p:spPr>
              <a:xfrm>
                <a:off x="5862600" y="5245200"/>
                <a:ext cx="2541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 txBox="1"/>
              <p:nvPr/>
            </p:nvSpPr>
            <p:spPr>
              <a:xfrm>
                <a:off x="5881680" y="5384880"/>
                <a:ext cx="2160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 txBox="1"/>
              <p:nvPr/>
            </p:nvSpPr>
            <p:spPr>
              <a:xfrm>
                <a:off x="5850000" y="5522760"/>
                <a:ext cx="279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 txBox="1"/>
              <p:nvPr/>
            </p:nvSpPr>
            <p:spPr>
              <a:xfrm>
                <a:off x="5859360" y="5662440"/>
                <a:ext cx="26028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"/>
          <p:cNvSpPr txBox="1"/>
          <p:nvPr/>
        </p:nvSpPr>
        <p:spPr>
          <a:xfrm>
            <a:off x="2085840" y="7205760"/>
            <a:ext cx="749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END cn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633840" y="6891480"/>
            <a:ext cx="75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END rs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3570120" y="7064280"/>
            <a:ext cx="1027440" cy="254520"/>
            <a:chOff x="3570120" y="7064280"/>
            <a:chExt cx="1027440" cy="254520"/>
          </a:xfrm>
        </p:grpSpPr>
        <p:grpSp>
          <p:nvGrpSpPr>
            <p:cNvPr id="457" name=""/>
            <p:cNvGrpSpPr/>
            <p:nvPr/>
          </p:nvGrpSpPr>
          <p:grpSpPr>
            <a:xfrm>
              <a:off x="3570120" y="7257960"/>
              <a:ext cx="474840" cy="60840"/>
              <a:chOff x="3570120" y="7257960"/>
              <a:chExt cx="474840" cy="60840"/>
            </a:xfrm>
          </p:grpSpPr>
          <p:sp>
            <p:nvSpPr>
              <p:cNvPr id="458" name=""/>
              <p:cNvSpPr/>
              <p:nvPr/>
            </p:nvSpPr>
            <p:spPr>
              <a:xfrm>
                <a:off x="3630600" y="7294680"/>
                <a:ext cx="41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570120" y="7257960"/>
                <a:ext cx="109800" cy="60840"/>
              </a:xfrm>
              <a:custGeom>
                <a:avLst/>
                <a:gdLst/>
                <a:ahLst/>
                <a:rect l="0" t="0" r="r" b="b"/>
                <a:pathLst>
                  <a:path w="305" h="169">
                    <a:moveTo>
                      <a:pt x="0" y="84"/>
                    </a:moveTo>
                    <a:lnTo>
                      <a:pt x="305" y="169"/>
                    </a:lnTo>
                    <a:lnTo>
                      <a:pt x="305" y="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 flipH="1">
              <a:off x="4243320" y="7067520"/>
              <a:ext cx="354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4011480" y="7064280"/>
              <a:ext cx="228600" cy="22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2133720" y="7383600"/>
            <a:ext cx="1028520" cy="254160"/>
            <a:chOff x="2133720" y="7383600"/>
            <a:chExt cx="1028520" cy="254160"/>
          </a:xfrm>
        </p:grpSpPr>
        <p:grpSp>
          <p:nvGrpSpPr>
            <p:cNvPr id="463" name=""/>
            <p:cNvGrpSpPr/>
            <p:nvPr/>
          </p:nvGrpSpPr>
          <p:grpSpPr>
            <a:xfrm>
              <a:off x="2133720" y="7575480"/>
              <a:ext cx="477720" cy="62280"/>
              <a:chOff x="2133720" y="7575480"/>
              <a:chExt cx="477720" cy="62280"/>
            </a:xfrm>
          </p:grpSpPr>
          <p:sp>
            <p:nvSpPr>
              <p:cNvPr id="464" name=""/>
              <p:cNvSpPr/>
              <p:nvPr/>
            </p:nvSpPr>
            <p:spPr>
              <a:xfrm>
                <a:off x="2195640" y="7615080"/>
                <a:ext cx="41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133720" y="7575480"/>
                <a:ext cx="113040" cy="62280"/>
              </a:xfrm>
              <a:custGeom>
                <a:avLst/>
                <a:gdLst/>
                <a:ahLst/>
                <a:rect l="0" t="0" r="r" b="b"/>
                <a:pathLst>
                  <a:path w="314" h="173">
                    <a:moveTo>
                      <a:pt x="0" y="92"/>
                    </a:moveTo>
                    <a:lnTo>
                      <a:pt x="314" y="173"/>
                    </a:lnTo>
                    <a:lnTo>
                      <a:pt x="314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 flipH="1">
              <a:off x="2811600" y="7385040"/>
              <a:ext cx="350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2577960" y="7383600"/>
              <a:ext cx="2304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124080" y="7288200"/>
            <a:ext cx="465120" cy="87840"/>
            <a:chOff x="3124080" y="7288200"/>
            <a:chExt cx="465120" cy="87840"/>
          </a:xfrm>
        </p:grpSpPr>
        <p:sp>
          <p:nvSpPr>
            <p:cNvPr id="469" name=""/>
            <p:cNvSpPr/>
            <p:nvPr/>
          </p:nvSpPr>
          <p:spPr>
            <a:xfrm flipH="1">
              <a:off x="3532320" y="7288200"/>
              <a:ext cx="56880" cy="9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3467160" y="7300800"/>
              <a:ext cx="5724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3398760" y="7311960"/>
              <a:ext cx="58680" cy="9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3333600" y="7324560"/>
              <a:ext cx="57240" cy="9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3265560" y="7337520"/>
              <a:ext cx="58680" cy="9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3200400" y="7350120"/>
              <a:ext cx="57240" cy="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3133800" y="7361280"/>
              <a:ext cx="57240" cy="9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24080" y="7318440"/>
              <a:ext cx="114840" cy="57600"/>
            </a:xfrm>
            <a:custGeom>
              <a:avLst/>
              <a:gdLst/>
              <a:ahLst/>
              <a:rect l="0" t="0" r="r" b="b"/>
              <a:pathLst>
                <a:path w="319" h="160">
                  <a:moveTo>
                    <a:pt x="0" y="135"/>
                  </a:moveTo>
                  <a:lnTo>
                    <a:pt x="319" y="160"/>
                  </a:lnTo>
                  <a:lnTo>
                    <a:pt x="287" y="0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943360" y="6353280"/>
            <a:ext cx="59040" cy="1035360"/>
            <a:chOff x="2943360" y="6353280"/>
            <a:chExt cx="59040" cy="1035360"/>
          </a:xfrm>
        </p:grpSpPr>
        <p:sp>
          <p:nvSpPr>
            <p:cNvPr id="478" name=""/>
            <p:cNvSpPr/>
            <p:nvPr/>
          </p:nvSpPr>
          <p:spPr>
            <a:xfrm>
              <a:off x="2979720" y="6416640"/>
              <a:ext cx="0" cy="9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943360" y="7278840"/>
              <a:ext cx="59040" cy="109800"/>
            </a:xfrm>
            <a:custGeom>
              <a:avLst/>
              <a:gdLst/>
              <a:ahLst/>
              <a:rect l="0" t="0" r="r" b="b"/>
              <a:pathLst>
                <a:path w="164" h="305">
                  <a:moveTo>
                    <a:pt x="84" y="305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84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43360" y="6353280"/>
              <a:ext cx="59040" cy="109800"/>
            </a:xfrm>
            <a:custGeom>
              <a:avLst/>
              <a:gdLst/>
              <a:ahLst/>
              <a:rect l="0" t="0" r="r" b="b"/>
              <a:pathLst>
                <a:path w="164" h="305">
                  <a:moveTo>
                    <a:pt x="84" y="0"/>
                  </a:moveTo>
                  <a:lnTo>
                    <a:pt x="0" y="305"/>
                  </a:lnTo>
                  <a:lnTo>
                    <a:pt x="164" y="305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"/>
          <p:cNvSpPr txBox="1"/>
          <p:nvPr/>
        </p:nvSpPr>
        <p:spPr>
          <a:xfrm>
            <a:off x="2470320" y="6746760"/>
            <a:ext cx="463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-LI-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514440" y="1127160"/>
            <a:ext cx="582948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rt a Forward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590400" y="2193840"/>
            <a:ext cx="582948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608040" y="3546360"/>
            <a:ext cx="1496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S-Ground-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886280" y="3546360"/>
            <a:ext cx="1496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S-Ground-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565360" y="3546360"/>
            <a:ext cx="176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S-Service-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582480" y="4005360"/>
            <a:ext cx="1238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DS-user-abort 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2155680" y="4056120"/>
            <a:ext cx="920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ABORT 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608360" y="4583160"/>
            <a:ext cx="1231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DS-user-abort i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705120" y="439740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ABORT i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209680" y="3581280"/>
            <a:ext cx="3240" cy="214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633920" y="3581280"/>
            <a:ext cx="14400" cy="214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3876840"/>
            <a:ext cx="0" cy="1860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645000" y="3876840"/>
            <a:ext cx="12600" cy="1860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681120" y="4191120"/>
            <a:ext cx="1519560" cy="71640"/>
            <a:chOff x="681120" y="4191120"/>
            <a:chExt cx="1519560" cy="71640"/>
          </a:xfrm>
        </p:grpSpPr>
        <p:sp>
          <p:nvSpPr>
            <p:cNvPr id="496" name=""/>
            <p:cNvSpPr/>
            <p:nvPr/>
          </p:nvSpPr>
          <p:spPr>
            <a:xfrm>
              <a:off x="681120" y="4233960"/>
              <a:ext cx="145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68560" y="4191120"/>
              <a:ext cx="132120" cy="71640"/>
            </a:xfrm>
            <a:custGeom>
              <a:avLst/>
              <a:gdLst/>
              <a:ahLst/>
              <a:rect l="0" t="0" r="r" b="b"/>
              <a:pathLst>
                <a:path w="367" h="199">
                  <a:moveTo>
                    <a:pt x="367" y="102"/>
                  </a:moveTo>
                  <a:lnTo>
                    <a:pt x="0" y="0"/>
                  </a:lnTo>
                  <a:lnTo>
                    <a:pt x="0" y="199"/>
                  </a:lnTo>
                  <a:lnTo>
                    <a:pt x="36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2200320" y="4229280"/>
            <a:ext cx="982800" cy="249480"/>
            <a:chOff x="2200320" y="4229280"/>
            <a:chExt cx="982800" cy="249480"/>
          </a:xfrm>
        </p:grpSpPr>
        <p:grpSp>
          <p:nvGrpSpPr>
            <p:cNvPr id="499" name=""/>
            <p:cNvGrpSpPr/>
            <p:nvPr/>
          </p:nvGrpSpPr>
          <p:grpSpPr>
            <a:xfrm>
              <a:off x="2754360" y="4419720"/>
              <a:ext cx="428760" cy="59040"/>
              <a:chOff x="2754360" y="4419720"/>
              <a:chExt cx="428760" cy="59040"/>
            </a:xfrm>
          </p:grpSpPr>
          <p:sp>
            <p:nvSpPr>
              <p:cNvPr id="500" name=""/>
              <p:cNvSpPr/>
              <p:nvPr/>
            </p:nvSpPr>
            <p:spPr>
              <a:xfrm flipH="1">
                <a:off x="2754360" y="445464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073320" y="4419720"/>
                <a:ext cx="109800" cy="59040"/>
              </a:xfrm>
              <a:custGeom>
                <a:avLst/>
                <a:gdLst/>
                <a:ahLst/>
                <a:rect l="0" t="0" r="r" b="b"/>
                <a:pathLst>
                  <a:path w="305" h="164">
                    <a:moveTo>
                      <a:pt x="305" y="81"/>
                    </a:moveTo>
                    <a:lnTo>
                      <a:pt x="0" y="0"/>
                    </a:lnTo>
                    <a:lnTo>
                      <a:pt x="0" y="164"/>
                    </a:lnTo>
                    <a:lnTo>
                      <a:pt x="305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2200320" y="4232160"/>
              <a:ext cx="325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25760" y="4229280"/>
              <a:ext cx="237960" cy="230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627440" y="4756320"/>
            <a:ext cx="1518120" cy="71640"/>
            <a:chOff x="4627440" y="4756320"/>
            <a:chExt cx="1518120" cy="71640"/>
          </a:xfrm>
        </p:grpSpPr>
        <p:sp>
          <p:nvSpPr>
            <p:cNvPr id="505" name=""/>
            <p:cNvSpPr/>
            <p:nvPr/>
          </p:nvSpPr>
          <p:spPr>
            <a:xfrm>
              <a:off x="4627440" y="4799160"/>
              <a:ext cx="145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14880" y="4756320"/>
              <a:ext cx="130680" cy="71640"/>
            </a:xfrm>
            <a:custGeom>
              <a:avLst/>
              <a:gdLst/>
              <a:ahLst/>
              <a:rect l="0" t="0" r="r" b="b"/>
              <a:pathLst>
                <a:path w="363" h="199">
                  <a:moveTo>
                    <a:pt x="363" y="102"/>
                  </a:moveTo>
                  <a:lnTo>
                    <a:pt x="0" y="0"/>
                  </a:lnTo>
                  <a:lnTo>
                    <a:pt x="0" y="199"/>
                  </a:lnTo>
                  <a:lnTo>
                    <a:pt x="363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3645000" y="4565520"/>
            <a:ext cx="984240" cy="249840"/>
            <a:chOff x="3645000" y="4565520"/>
            <a:chExt cx="984240" cy="249840"/>
          </a:xfrm>
        </p:grpSpPr>
        <p:grpSp>
          <p:nvGrpSpPr>
            <p:cNvPr id="508" name=""/>
            <p:cNvGrpSpPr/>
            <p:nvPr/>
          </p:nvGrpSpPr>
          <p:grpSpPr>
            <a:xfrm>
              <a:off x="4199040" y="4756320"/>
              <a:ext cx="430200" cy="59040"/>
              <a:chOff x="4199040" y="4756320"/>
              <a:chExt cx="430200" cy="59040"/>
            </a:xfrm>
          </p:grpSpPr>
          <p:sp>
            <p:nvSpPr>
              <p:cNvPr id="509" name=""/>
              <p:cNvSpPr/>
              <p:nvPr/>
            </p:nvSpPr>
            <p:spPr>
              <a:xfrm flipH="1">
                <a:off x="4199040" y="479124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19440" y="4756320"/>
                <a:ext cx="109800" cy="59040"/>
              </a:xfrm>
              <a:custGeom>
                <a:avLst/>
                <a:gdLst/>
                <a:ahLst/>
                <a:rect l="0" t="0" r="r" b="b"/>
                <a:pathLst>
                  <a:path w="305" h="164">
                    <a:moveTo>
                      <a:pt x="305" y="81"/>
                    </a:moveTo>
                    <a:lnTo>
                      <a:pt x="0" y="0"/>
                    </a:lnTo>
                    <a:lnTo>
                      <a:pt x="0" y="164"/>
                    </a:lnTo>
                    <a:lnTo>
                      <a:pt x="305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3645000" y="4568760"/>
              <a:ext cx="326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70440" y="4565520"/>
              <a:ext cx="237960" cy="230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3213000" y="4481640"/>
            <a:ext cx="432360" cy="79560"/>
            <a:chOff x="3213000" y="4481640"/>
            <a:chExt cx="432360" cy="79560"/>
          </a:xfrm>
        </p:grpSpPr>
        <p:sp>
          <p:nvSpPr>
            <p:cNvPr id="514" name=""/>
            <p:cNvSpPr/>
            <p:nvPr/>
          </p:nvSpPr>
          <p:spPr>
            <a:xfrm>
              <a:off x="3213000" y="4481640"/>
              <a:ext cx="3168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78160" y="4494240"/>
              <a:ext cx="31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344760" y="4503600"/>
              <a:ext cx="316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09920" y="4516560"/>
              <a:ext cx="316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76520" y="4527720"/>
              <a:ext cx="3168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41680" y="4540320"/>
              <a:ext cx="31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08280" y="4549680"/>
              <a:ext cx="316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532320" y="4505400"/>
              <a:ext cx="113040" cy="55800"/>
            </a:xfrm>
            <a:custGeom>
              <a:avLst/>
              <a:gdLst/>
              <a:ahLst/>
              <a:rect l="0" t="0" r="r" b="b"/>
              <a:pathLst>
                <a:path w="314" h="155">
                  <a:moveTo>
                    <a:pt x="314" y="123"/>
                  </a:moveTo>
                  <a:lnTo>
                    <a:pt x="31" y="0"/>
                  </a:lnTo>
                  <a:lnTo>
                    <a:pt x="0" y="155"/>
                  </a:lnTo>
                  <a:lnTo>
                    <a:pt x="314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697360" y="4930920"/>
            <a:ext cx="279360" cy="848160"/>
            <a:chOff x="5697360" y="4930920"/>
            <a:chExt cx="279360" cy="848160"/>
          </a:xfrm>
        </p:grpSpPr>
        <p:sp>
          <p:nvSpPr>
            <p:cNvPr id="523" name=""/>
            <p:cNvSpPr/>
            <p:nvPr/>
          </p:nvSpPr>
          <p:spPr>
            <a:xfrm>
              <a:off x="5710320" y="4930920"/>
              <a:ext cx="238320" cy="848160"/>
            </a:xfrm>
            <a:custGeom>
              <a:avLst/>
              <a:gdLst/>
              <a:ahLst/>
              <a:rect l="0" t="0" r="r" b="b"/>
              <a:pathLst>
                <a:path fill="none" w="662" h="2356">
                  <a:moveTo>
                    <a:pt x="330" y="2356"/>
                  </a:moveTo>
                  <a:lnTo>
                    <a:pt x="662" y="1178"/>
                  </a:lnTo>
                  <a:lnTo>
                    <a:pt x="499" y="1178"/>
                  </a:lnTo>
                  <a:lnTo>
                    <a:pt x="499" y="0"/>
                  </a:lnTo>
                  <a:lnTo>
                    <a:pt x="163" y="0"/>
                  </a:lnTo>
                  <a:lnTo>
                    <a:pt x="163" y="1178"/>
                  </a:lnTo>
                  <a:lnTo>
                    <a:pt x="0" y="1178"/>
                  </a:lnTo>
                  <a:lnTo>
                    <a:pt x="330" y="235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5697360" y="4938840"/>
              <a:ext cx="279360" cy="631800"/>
              <a:chOff x="5697360" y="4938840"/>
              <a:chExt cx="279360" cy="631800"/>
            </a:xfrm>
          </p:grpSpPr>
          <p:sp>
            <p:nvSpPr>
              <p:cNvPr id="525" name=""/>
              <p:cNvSpPr txBox="1"/>
              <p:nvPr/>
            </p:nvSpPr>
            <p:spPr>
              <a:xfrm>
                <a:off x="5710320" y="4938840"/>
                <a:ext cx="2541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 txBox="1"/>
              <p:nvPr/>
            </p:nvSpPr>
            <p:spPr>
              <a:xfrm>
                <a:off x="5729400" y="5073480"/>
                <a:ext cx="2160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 txBox="1"/>
              <p:nvPr/>
            </p:nvSpPr>
            <p:spPr>
              <a:xfrm>
                <a:off x="5697360" y="5207040"/>
                <a:ext cx="279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 txBox="1"/>
              <p:nvPr/>
            </p:nvSpPr>
            <p:spPr>
              <a:xfrm>
                <a:off x="5707080" y="5342040"/>
                <a:ext cx="26028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577800" y="4287960"/>
            <a:ext cx="1496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S-Ground-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867200" y="4287960"/>
            <a:ext cx="1496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S-Ground-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2540160" y="4287960"/>
            <a:ext cx="176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S-Service-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185920" y="4322880"/>
            <a:ext cx="2425680" cy="2253960"/>
            <a:chOff x="2185920" y="4322880"/>
            <a:chExt cx="2425680" cy="2253960"/>
          </a:xfrm>
        </p:grpSpPr>
        <p:sp>
          <p:nvSpPr>
            <p:cNvPr id="533" name=""/>
            <p:cNvSpPr/>
            <p:nvPr/>
          </p:nvSpPr>
          <p:spPr>
            <a:xfrm>
              <a:off x="2185920" y="4322880"/>
              <a:ext cx="0" cy="2251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611600" y="4322880"/>
              <a:ext cx="0" cy="225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76640" y="4478400"/>
              <a:ext cx="0" cy="209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622680" y="4478400"/>
              <a:ext cx="0" cy="209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 txBox="1"/>
          <p:nvPr/>
        </p:nvSpPr>
        <p:spPr>
          <a:xfrm>
            <a:off x="719280" y="5332320"/>
            <a:ext cx="1447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DS-provider-abort i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158920" y="5140440"/>
            <a:ext cx="1028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P-ABORT i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621320" y="5332320"/>
            <a:ext cx="1447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DS-provider-abort i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605040" y="5140440"/>
            <a:ext cx="1028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-P-ABORT i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77800" y="5510160"/>
            <a:ext cx="1612800" cy="74880"/>
            <a:chOff x="577800" y="5510160"/>
            <a:chExt cx="1612800" cy="74880"/>
          </a:xfrm>
        </p:grpSpPr>
        <p:sp>
          <p:nvSpPr>
            <p:cNvPr id="542" name=""/>
            <p:cNvSpPr/>
            <p:nvPr/>
          </p:nvSpPr>
          <p:spPr>
            <a:xfrm flipH="1">
              <a:off x="650880" y="5554800"/>
              <a:ext cx="1539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7800" y="5510160"/>
              <a:ext cx="125640" cy="74880"/>
            </a:xfrm>
            <a:custGeom>
              <a:avLst/>
              <a:gdLst/>
              <a:ahLst/>
              <a:rect l="0" t="0" r="r" b="b"/>
              <a:pathLst>
                <a:path w="349" h="208">
                  <a:moveTo>
                    <a:pt x="0" y="106"/>
                  </a:moveTo>
                  <a:lnTo>
                    <a:pt x="349" y="208"/>
                  </a:lnTo>
                  <a:lnTo>
                    <a:pt x="349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622760" y="5510160"/>
            <a:ext cx="1605600" cy="74880"/>
            <a:chOff x="4622760" y="5510160"/>
            <a:chExt cx="1605600" cy="74880"/>
          </a:xfrm>
        </p:grpSpPr>
        <p:sp>
          <p:nvSpPr>
            <p:cNvPr id="545" name=""/>
            <p:cNvSpPr/>
            <p:nvPr/>
          </p:nvSpPr>
          <p:spPr>
            <a:xfrm>
              <a:off x="4622760" y="5554800"/>
              <a:ext cx="1542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00920" y="5510160"/>
              <a:ext cx="127440" cy="74880"/>
            </a:xfrm>
            <a:custGeom>
              <a:avLst/>
              <a:gdLst/>
              <a:ahLst/>
              <a:rect l="0" t="0" r="r" b="b"/>
              <a:pathLst>
                <a:path w="354" h="208">
                  <a:moveTo>
                    <a:pt x="354" y="106"/>
                  </a:moveTo>
                  <a:lnTo>
                    <a:pt x="0" y="0"/>
                  </a:lnTo>
                  <a:lnTo>
                    <a:pt x="0" y="208"/>
                  </a:lnTo>
                  <a:lnTo>
                    <a:pt x="354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3625920" y="5321160"/>
            <a:ext cx="986400" cy="257760"/>
            <a:chOff x="3625920" y="5321160"/>
            <a:chExt cx="986400" cy="257760"/>
          </a:xfrm>
        </p:grpSpPr>
        <p:grpSp>
          <p:nvGrpSpPr>
            <p:cNvPr id="548" name=""/>
            <p:cNvGrpSpPr/>
            <p:nvPr/>
          </p:nvGrpSpPr>
          <p:grpSpPr>
            <a:xfrm>
              <a:off x="4179960" y="5518080"/>
              <a:ext cx="432360" cy="60840"/>
              <a:chOff x="4179960" y="5518080"/>
              <a:chExt cx="432360" cy="60840"/>
            </a:xfrm>
          </p:grpSpPr>
          <p:sp>
            <p:nvSpPr>
              <p:cNvPr id="549" name=""/>
              <p:cNvSpPr/>
              <p:nvPr/>
            </p:nvSpPr>
            <p:spPr>
              <a:xfrm flipH="1">
                <a:off x="4179960" y="5554800"/>
                <a:ext cx="382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500720" y="5518080"/>
                <a:ext cx="111600" cy="60840"/>
              </a:xfrm>
              <a:custGeom>
                <a:avLst/>
                <a:gdLst/>
                <a:ahLst/>
                <a:rect l="0" t="0" r="r" b="b"/>
                <a:pathLst>
                  <a:path w="310" h="169">
                    <a:moveTo>
                      <a:pt x="310" y="84"/>
                    </a:moveTo>
                    <a:lnTo>
                      <a:pt x="0" y="0"/>
                    </a:lnTo>
                    <a:lnTo>
                      <a:pt x="0" y="169"/>
                    </a:lnTo>
                    <a:lnTo>
                      <a:pt x="31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3625920" y="5324400"/>
              <a:ext cx="326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51360" y="5321160"/>
              <a:ext cx="239760" cy="239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5321160"/>
            <a:ext cx="1004760" cy="256320"/>
            <a:chOff x="2176560" y="5321160"/>
            <a:chExt cx="1004760" cy="256320"/>
          </a:xfrm>
        </p:grpSpPr>
        <p:grpSp>
          <p:nvGrpSpPr>
            <p:cNvPr id="554" name=""/>
            <p:cNvGrpSpPr/>
            <p:nvPr/>
          </p:nvGrpSpPr>
          <p:grpSpPr>
            <a:xfrm>
              <a:off x="2176560" y="5516640"/>
              <a:ext cx="449280" cy="60840"/>
              <a:chOff x="2176560" y="5516640"/>
              <a:chExt cx="449280" cy="60840"/>
            </a:xfrm>
          </p:grpSpPr>
          <p:sp>
            <p:nvSpPr>
              <p:cNvPr id="555" name=""/>
              <p:cNvSpPr/>
              <p:nvPr/>
            </p:nvSpPr>
            <p:spPr>
              <a:xfrm>
                <a:off x="2236680" y="5553000"/>
                <a:ext cx="389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176560" y="5516640"/>
                <a:ext cx="109800" cy="60840"/>
              </a:xfrm>
              <a:custGeom>
                <a:avLst/>
                <a:gdLst/>
                <a:ahLst/>
                <a:rect l="0" t="0" r="r" b="b"/>
                <a:pathLst>
                  <a:path w="305" h="169">
                    <a:moveTo>
                      <a:pt x="0" y="84"/>
                    </a:moveTo>
                    <a:lnTo>
                      <a:pt x="305" y="169"/>
                    </a:lnTo>
                    <a:lnTo>
                      <a:pt x="305" y="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 flipH="1">
              <a:off x="2854440" y="5321160"/>
              <a:ext cx="326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617920" y="5321160"/>
              <a:ext cx="231480" cy="231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173400" y="5216400"/>
            <a:ext cx="446400" cy="189360"/>
            <a:chOff x="3173400" y="5216400"/>
            <a:chExt cx="446400" cy="189360"/>
          </a:xfrm>
        </p:grpSpPr>
        <p:sp>
          <p:nvSpPr>
            <p:cNvPr id="560" name=""/>
            <p:cNvSpPr/>
            <p:nvPr/>
          </p:nvSpPr>
          <p:spPr>
            <a:xfrm>
              <a:off x="3281400" y="5216400"/>
              <a:ext cx="113040" cy="97560"/>
            </a:xfrm>
            <a:custGeom>
              <a:avLst/>
              <a:gdLst/>
              <a:ahLst/>
              <a:rect l="0" t="0" r="r" b="b"/>
              <a:pathLst>
                <a:path fill="none" w="314" h="271">
                  <a:moveTo>
                    <a:pt x="314" y="271"/>
                  </a:moveTo>
                  <a:lnTo>
                    <a:pt x="314" y="271"/>
                  </a:lnTo>
                  <a:cubicBezTo>
                    <a:pt x="314" y="270"/>
                    <a:pt x="314" y="268"/>
                    <a:pt x="314" y="267"/>
                  </a:cubicBezTo>
                  <a:cubicBezTo>
                    <a:pt x="314" y="220"/>
                    <a:pt x="300" y="174"/>
                    <a:pt x="272" y="133"/>
                  </a:cubicBezTo>
                  <a:cubicBezTo>
                    <a:pt x="244" y="93"/>
                    <a:pt x="205" y="59"/>
                    <a:pt x="157" y="36"/>
                  </a:cubicBezTo>
                  <a:cubicBezTo>
                    <a:pt x="109" y="12"/>
                    <a:pt x="55" y="0"/>
                    <a:pt x="0" y="0"/>
                  </a:cubicBez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173400" y="5216400"/>
              <a:ext cx="110520" cy="106560"/>
            </a:xfrm>
            <a:custGeom>
              <a:avLst/>
              <a:gdLst/>
              <a:ahLst/>
              <a:rect l="0" t="0" r="r" b="b"/>
              <a:pathLst>
                <a:path fill="none" w="307" h="296">
                  <a:moveTo>
                    <a:pt x="307" y="0"/>
                  </a:moveTo>
                  <a:lnTo>
                    <a:pt x="307" y="0"/>
                  </a:lnTo>
                  <a:cubicBezTo>
                    <a:pt x="306" y="0"/>
                    <a:pt x="304" y="0"/>
                    <a:pt x="303" y="0"/>
                  </a:cubicBezTo>
                  <a:cubicBezTo>
                    <a:pt x="250" y="0"/>
                    <a:pt x="198" y="14"/>
                    <a:pt x="151" y="40"/>
                  </a:cubicBezTo>
                  <a:cubicBezTo>
                    <a:pt x="105" y="66"/>
                    <a:pt x="67" y="103"/>
                    <a:pt x="41" y="148"/>
                  </a:cubicBezTo>
                  <a:cubicBezTo>
                    <a:pt x="14" y="193"/>
                    <a:pt x="0" y="244"/>
                    <a:pt x="0" y="296"/>
                  </a:cubicBezTo>
                  <a:lnTo>
                    <a:pt x="0" y="29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02800" y="5308560"/>
              <a:ext cx="117000" cy="97200"/>
            </a:xfrm>
            <a:custGeom>
              <a:avLst/>
              <a:gdLst/>
              <a:ahLst/>
              <a:rect l="0" t="0" r="r" b="b"/>
              <a:pathLst>
                <a:path fill="none" w="325" h="270">
                  <a:moveTo>
                    <a:pt x="0" y="270"/>
                  </a:moveTo>
                  <a:lnTo>
                    <a:pt x="0" y="270"/>
                  </a:lnTo>
                  <a:cubicBezTo>
                    <a:pt x="57" y="270"/>
                    <a:pt x="113" y="258"/>
                    <a:pt x="163" y="234"/>
                  </a:cubicBezTo>
                  <a:cubicBezTo>
                    <a:pt x="212" y="210"/>
                    <a:pt x="253" y="176"/>
                    <a:pt x="281" y="135"/>
                  </a:cubicBezTo>
                  <a:cubicBezTo>
                    <a:pt x="310" y="94"/>
                    <a:pt x="325" y="47"/>
                    <a:pt x="325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392640" y="5301360"/>
              <a:ext cx="110520" cy="102960"/>
            </a:xfrm>
            <a:custGeom>
              <a:avLst/>
              <a:gdLst/>
              <a:ahLst/>
              <a:rect l="0" t="0" r="r" b="b"/>
              <a:pathLst>
                <a:path fill="none" w="307" h="286">
                  <a:moveTo>
                    <a:pt x="0" y="0"/>
                  </a:moveTo>
                  <a:lnTo>
                    <a:pt x="0" y="0"/>
                  </a:lnTo>
                  <a:cubicBezTo>
                    <a:pt x="1" y="50"/>
                    <a:pt x="15" y="98"/>
                    <a:pt x="41" y="141"/>
                  </a:cubicBezTo>
                  <a:cubicBezTo>
                    <a:pt x="68" y="185"/>
                    <a:pt x="107" y="222"/>
                    <a:pt x="153" y="247"/>
                  </a:cubicBezTo>
                  <a:cubicBezTo>
                    <a:pt x="200" y="273"/>
                    <a:pt x="253" y="286"/>
                    <a:pt x="307" y="286"/>
                  </a:cubicBezTo>
                  <a:lnTo>
                    <a:pt x="307" y="2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5894280" y="5640480"/>
            <a:ext cx="279360" cy="875160"/>
            <a:chOff x="5894280" y="5640480"/>
            <a:chExt cx="279360" cy="875160"/>
          </a:xfrm>
        </p:grpSpPr>
        <p:sp>
          <p:nvSpPr>
            <p:cNvPr id="565" name=""/>
            <p:cNvSpPr/>
            <p:nvPr/>
          </p:nvSpPr>
          <p:spPr>
            <a:xfrm>
              <a:off x="5905440" y="5640480"/>
              <a:ext cx="240120" cy="875160"/>
            </a:xfrm>
            <a:custGeom>
              <a:avLst/>
              <a:gdLst/>
              <a:ahLst/>
              <a:rect l="0" t="0" r="r" b="b"/>
              <a:pathLst>
                <a:path fill="none" w="667" h="2431">
                  <a:moveTo>
                    <a:pt x="336" y="2431"/>
                  </a:moveTo>
                  <a:lnTo>
                    <a:pt x="667" y="1218"/>
                  </a:lnTo>
                  <a:lnTo>
                    <a:pt x="499" y="1218"/>
                  </a:lnTo>
                  <a:lnTo>
                    <a:pt x="499" y="0"/>
                  </a:lnTo>
                  <a:lnTo>
                    <a:pt x="168" y="0"/>
                  </a:lnTo>
                  <a:lnTo>
                    <a:pt x="168" y="1218"/>
                  </a:lnTo>
                  <a:lnTo>
                    <a:pt x="0" y="1218"/>
                  </a:lnTo>
                  <a:lnTo>
                    <a:pt x="336" y="243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5894280" y="5649840"/>
              <a:ext cx="279360" cy="644760"/>
              <a:chOff x="5894280" y="5649840"/>
              <a:chExt cx="279360" cy="644760"/>
            </a:xfrm>
          </p:grpSpPr>
          <p:sp>
            <p:nvSpPr>
              <p:cNvPr id="567" name=""/>
              <p:cNvSpPr txBox="1"/>
              <p:nvPr/>
            </p:nvSpPr>
            <p:spPr>
              <a:xfrm>
                <a:off x="5907240" y="5649840"/>
                <a:ext cx="2541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 txBox="1"/>
              <p:nvPr/>
            </p:nvSpPr>
            <p:spPr>
              <a:xfrm>
                <a:off x="5925960" y="5788080"/>
                <a:ext cx="2160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 txBox="1"/>
              <p:nvPr/>
            </p:nvSpPr>
            <p:spPr>
              <a:xfrm>
                <a:off x="5894280" y="5927760"/>
                <a:ext cx="279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 txBox="1"/>
              <p:nvPr/>
            </p:nvSpPr>
            <p:spPr>
              <a:xfrm>
                <a:off x="5904000" y="6066000"/>
                <a:ext cx="26028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1" name=""/>
          <p:cNvSpPr txBox="1"/>
          <p:nvPr/>
        </p:nvSpPr>
        <p:spPr>
          <a:xfrm>
            <a:off x="514440" y="1127160"/>
            <a:ext cx="582948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r Abort with a Forward Contract i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514440" y="11271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SE aborts with a Forward Contract i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601560" y="4459320"/>
            <a:ext cx="5791320" cy="2457360"/>
            <a:chOff x="601560" y="4459320"/>
            <a:chExt cx="5791320" cy="2457360"/>
          </a:xfrm>
        </p:grpSpPr>
        <p:sp>
          <p:nvSpPr>
            <p:cNvPr id="574" name=""/>
            <p:cNvSpPr txBox="1"/>
            <p:nvPr/>
          </p:nvSpPr>
          <p:spPr>
            <a:xfrm>
              <a:off x="606600" y="4459320"/>
              <a:ext cx="1496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S-Ground-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4896000" y="4459320"/>
              <a:ext cx="1496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S-Ground-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2568600" y="4459320"/>
              <a:ext cx="17683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S-Service-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2216160" y="4494240"/>
              <a:ext cx="2425680" cy="2422440"/>
              <a:chOff x="2216160" y="4494240"/>
              <a:chExt cx="2425680" cy="2422440"/>
            </a:xfrm>
          </p:grpSpPr>
          <p:sp>
            <p:nvSpPr>
              <p:cNvPr id="578" name=""/>
              <p:cNvSpPr/>
              <p:nvPr/>
            </p:nvSpPr>
            <p:spPr>
              <a:xfrm>
                <a:off x="2216160" y="4494240"/>
                <a:ext cx="0" cy="241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641840" y="4494240"/>
                <a:ext cx="0" cy="242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206880" y="4662360"/>
                <a:ext cx="0" cy="22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651120" y="4662360"/>
                <a:ext cx="0" cy="22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 txBox="1"/>
            <p:nvPr/>
          </p:nvSpPr>
          <p:spPr>
            <a:xfrm>
              <a:off x="736560" y="5275440"/>
              <a:ext cx="14479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S-provider-abort in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 txBox="1"/>
            <p:nvPr/>
          </p:nvSpPr>
          <p:spPr>
            <a:xfrm>
              <a:off x="2179800" y="5064120"/>
              <a:ext cx="9208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-ABORT req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 txBox="1"/>
            <p:nvPr/>
          </p:nvSpPr>
          <p:spPr>
            <a:xfrm>
              <a:off x="4649760" y="5584680"/>
              <a:ext cx="14479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S-provider-abort in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 txBox="1"/>
            <p:nvPr/>
          </p:nvSpPr>
          <p:spPr>
            <a:xfrm>
              <a:off x="3610080" y="539748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-ABORT in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601560" y="5451480"/>
              <a:ext cx="1621080" cy="76680"/>
              <a:chOff x="601560" y="5451480"/>
              <a:chExt cx="1621080" cy="76680"/>
            </a:xfrm>
          </p:grpSpPr>
          <p:sp>
            <p:nvSpPr>
              <p:cNvPr id="587" name=""/>
              <p:cNvSpPr/>
              <p:nvPr/>
            </p:nvSpPr>
            <p:spPr>
              <a:xfrm flipH="1">
                <a:off x="674640" y="5495760"/>
                <a:ext cx="154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01560" y="5451480"/>
                <a:ext cx="125640" cy="76680"/>
              </a:xfrm>
              <a:custGeom>
                <a:avLst/>
                <a:gdLst/>
                <a:ahLst/>
                <a:rect l="0" t="0" r="r" b="b"/>
                <a:pathLst>
                  <a:path w="349" h="213">
                    <a:moveTo>
                      <a:pt x="0" y="106"/>
                    </a:moveTo>
                    <a:lnTo>
                      <a:pt x="349" y="213"/>
                    </a:lnTo>
                    <a:lnTo>
                      <a:pt x="349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638600" y="5761080"/>
              <a:ext cx="1605240" cy="76680"/>
              <a:chOff x="4638600" y="5761080"/>
              <a:chExt cx="1605240" cy="76680"/>
            </a:xfrm>
          </p:grpSpPr>
          <p:sp>
            <p:nvSpPr>
              <p:cNvPr id="590" name=""/>
              <p:cNvSpPr/>
              <p:nvPr/>
            </p:nvSpPr>
            <p:spPr>
              <a:xfrm>
                <a:off x="4638600" y="5805360"/>
                <a:ext cx="1552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118200" y="5761080"/>
                <a:ext cx="125640" cy="76680"/>
              </a:xfrm>
              <a:custGeom>
                <a:avLst/>
                <a:gdLst/>
                <a:ahLst/>
                <a:rect l="0" t="0" r="r" b="b"/>
                <a:pathLst>
                  <a:path w="349" h="213">
                    <a:moveTo>
                      <a:pt x="349" y="106"/>
                    </a:moveTo>
                    <a:lnTo>
                      <a:pt x="0" y="0"/>
                    </a:lnTo>
                    <a:lnTo>
                      <a:pt x="0" y="213"/>
                    </a:lnTo>
                    <a:lnTo>
                      <a:pt x="349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3651120" y="5573880"/>
              <a:ext cx="986400" cy="257400"/>
              <a:chOff x="3651120" y="5573880"/>
              <a:chExt cx="986400" cy="25740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4205160" y="5769000"/>
                <a:ext cx="432360" cy="62280"/>
                <a:chOff x="4205160" y="5769000"/>
                <a:chExt cx="432360" cy="62280"/>
              </a:xfrm>
            </p:grpSpPr>
            <p:sp>
              <p:nvSpPr>
                <p:cNvPr id="594" name=""/>
                <p:cNvSpPr/>
                <p:nvPr/>
              </p:nvSpPr>
              <p:spPr>
                <a:xfrm flipH="1">
                  <a:off x="4205160" y="5807160"/>
                  <a:ext cx="390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525920" y="5769000"/>
                  <a:ext cx="111600" cy="62280"/>
                </a:xfrm>
                <a:custGeom>
                  <a:avLst/>
                  <a:gdLst/>
                  <a:ahLst/>
                  <a:rect l="0" t="0" r="r" b="b"/>
                  <a:pathLst>
                    <a:path w="310" h="173">
                      <a:moveTo>
                        <a:pt x="310" y="88"/>
                      </a:moveTo>
                      <a:lnTo>
                        <a:pt x="0" y="0"/>
                      </a:lnTo>
                      <a:lnTo>
                        <a:pt x="0" y="173"/>
                      </a:lnTo>
                      <a:lnTo>
                        <a:pt x="31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3651120" y="5576760"/>
                <a:ext cx="335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978360" y="5573880"/>
                <a:ext cx="245880" cy="244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3218040" y="5487840"/>
              <a:ext cx="436320" cy="84600"/>
              <a:chOff x="3218040" y="5487840"/>
              <a:chExt cx="436320" cy="84600"/>
            </a:xfrm>
          </p:grpSpPr>
          <p:sp>
            <p:nvSpPr>
              <p:cNvPr id="599" name=""/>
              <p:cNvSpPr/>
              <p:nvPr/>
            </p:nvSpPr>
            <p:spPr>
              <a:xfrm>
                <a:off x="3218040" y="5487840"/>
                <a:ext cx="4104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284640" y="5500800"/>
                <a:ext cx="3960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351240" y="5511960"/>
                <a:ext cx="3960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416400" y="5524560"/>
                <a:ext cx="3960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481560" y="5535720"/>
                <a:ext cx="3960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548160" y="5548320"/>
                <a:ext cx="3960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613320" y="5559480"/>
                <a:ext cx="410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537000" y="5513400"/>
                <a:ext cx="114840" cy="59040"/>
              </a:xfrm>
              <a:custGeom>
                <a:avLst/>
                <a:gdLst/>
                <a:ahLst/>
                <a:rect l="0" t="0" r="r" b="b"/>
                <a:pathLst>
                  <a:path w="319" h="164">
                    <a:moveTo>
                      <a:pt x="319" y="131"/>
                    </a:moveTo>
                    <a:lnTo>
                      <a:pt x="31" y="0"/>
                    </a:lnTo>
                    <a:lnTo>
                      <a:pt x="0" y="164"/>
                    </a:lnTo>
                    <a:lnTo>
                      <a:pt x="319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2220840" y="5286240"/>
              <a:ext cx="970560" cy="391320"/>
              <a:chOff x="2220840" y="5286240"/>
              <a:chExt cx="970560" cy="391320"/>
            </a:xfrm>
          </p:grpSpPr>
          <p:sp>
            <p:nvSpPr>
              <p:cNvPr id="608" name=""/>
              <p:cNvSpPr/>
              <p:nvPr/>
            </p:nvSpPr>
            <p:spPr>
              <a:xfrm>
                <a:off x="2457360" y="5286240"/>
                <a:ext cx="244800" cy="198720"/>
              </a:xfrm>
              <a:custGeom>
                <a:avLst/>
                <a:gdLst/>
                <a:ahLst/>
                <a:rect l="0" t="0" r="r" b="b"/>
                <a:pathLst>
                  <a:path fill="none" w="680" h="552">
                    <a:moveTo>
                      <a:pt x="680" y="552"/>
                    </a:moveTo>
                    <a:lnTo>
                      <a:pt x="680" y="552"/>
                    </a:lnTo>
                    <a:lnTo>
                      <a:pt x="680" y="552"/>
                    </a:lnTo>
                    <a:cubicBezTo>
                      <a:pt x="680" y="455"/>
                      <a:pt x="649" y="360"/>
                      <a:pt x="589" y="276"/>
                    </a:cubicBezTo>
                    <a:cubicBezTo>
                      <a:pt x="529" y="192"/>
                      <a:pt x="443" y="122"/>
                      <a:pt x="340" y="74"/>
                    </a:cubicBezTo>
                    <a:cubicBezTo>
                      <a:pt x="237" y="26"/>
                      <a:pt x="119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220840" y="5286240"/>
                <a:ext cx="238320" cy="221760"/>
              </a:xfrm>
              <a:custGeom>
                <a:avLst/>
                <a:gdLst/>
                <a:ahLst/>
                <a:rect l="0" t="0" r="r" b="b"/>
                <a:pathLst>
                  <a:path fill="none" w="662" h="616">
                    <a:moveTo>
                      <a:pt x="662" y="0"/>
                    </a:moveTo>
                    <a:lnTo>
                      <a:pt x="662" y="0"/>
                    </a:lnTo>
                    <a:lnTo>
                      <a:pt x="662" y="0"/>
                    </a:lnTo>
                    <a:cubicBezTo>
                      <a:pt x="546" y="0"/>
                      <a:pt x="432" y="28"/>
                      <a:pt x="331" y="82"/>
                    </a:cubicBezTo>
                    <a:cubicBezTo>
                      <a:pt x="230" y="136"/>
                      <a:pt x="147" y="213"/>
                      <a:pt x="89" y="306"/>
                    </a:cubicBezTo>
                    <a:cubicBezTo>
                      <a:pt x="31" y="399"/>
                      <a:pt x="0" y="505"/>
                      <a:pt x="0" y="612"/>
                    </a:cubicBezTo>
                    <a:cubicBezTo>
                      <a:pt x="0" y="613"/>
                      <a:pt x="0" y="615"/>
                      <a:pt x="0" y="616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936160" y="5475960"/>
                <a:ext cx="255240" cy="201240"/>
              </a:xfrm>
              <a:custGeom>
                <a:avLst/>
                <a:gdLst/>
                <a:ahLst/>
                <a:rect l="0" t="0" r="r" b="b"/>
                <a:pathLst>
                  <a:path fill="none" w="709" h="559">
                    <a:moveTo>
                      <a:pt x="0" y="559"/>
                    </a:moveTo>
                    <a:lnTo>
                      <a:pt x="0" y="559"/>
                    </a:lnTo>
                    <a:cubicBezTo>
                      <a:pt x="124" y="559"/>
                      <a:pt x="247" y="533"/>
                      <a:pt x="355" y="484"/>
                    </a:cubicBezTo>
                    <a:cubicBezTo>
                      <a:pt x="462" y="435"/>
                      <a:pt x="552" y="364"/>
                      <a:pt x="614" y="279"/>
                    </a:cubicBezTo>
                    <a:cubicBezTo>
                      <a:pt x="676" y="195"/>
                      <a:pt x="709" y="98"/>
                      <a:pt x="709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695680" y="5459760"/>
                <a:ext cx="239400" cy="217800"/>
              </a:xfrm>
              <a:custGeom>
                <a:avLst/>
                <a:gdLst/>
                <a:ahLst/>
                <a:rect l="0" t="0" r="r" b="b"/>
                <a:pathLst>
                  <a:path fill="none" w="665" h="605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"/>
                      <a:pt x="0" y="3"/>
                      <a:pt x="0" y="4"/>
                    </a:cubicBezTo>
                    <a:cubicBezTo>
                      <a:pt x="0" y="110"/>
                      <a:pt x="31" y="213"/>
                      <a:pt x="89" y="305"/>
                    </a:cubicBezTo>
                    <a:cubicBezTo>
                      <a:pt x="147" y="396"/>
                      <a:pt x="231" y="472"/>
                      <a:pt x="332" y="524"/>
                    </a:cubicBezTo>
                    <a:cubicBezTo>
                      <a:pt x="434" y="577"/>
                      <a:pt x="548" y="605"/>
                      <a:pt x="665" y="605"/>
                    </a:cubicBezTo>
                    <a:lnTo>
                      <a:pt x="665" y="60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5935680" y="5884920"/>
              <a:ext cx="279360" cy="875160"/>
              <a:chOff x="5935680" y="5884920"/>
              <a:chExt cx="279360" cy="875160"/>
            </a:xfrm>
          </p:grpSpPr>
          <p:sp>
            <p:nvSpPr>
              <p:cNvPr id="613" name=""/>
              <p:cNvSpPr/>
              <p:nvPr/>
            </p:nvSpPr>
            <p:spPr>
              <a:xfrm>
                <a:off x="5946840" y="5884920"/>
                <a:ext cx="240120" cy="875160"/>
              </a:xfrm>
              <a:custGeom>
                <a:avLst/>
                <a:gdLst/>
                <a:ahLst/>
                <a:rect l="0" t="0" r="r" b="b"/>
                <a:pathLst>
                  <a:path fill="none" w="667" h="2431">
                    <a:moveTo>
                      <a:pt x="336" y="2431"/>
                    </a:moveTo>
                    <a:lnTo>
                      <a:pt x="667" y="1218"/>
                    </a:lnTo>
                    <a:lnTo>
                      <a:pt x="499" y="1218"/>
                    </a:lnTo>
                    <a:lnTo>
                      <a:pt x="499" y="0"/>
                    </a:lnTo>
                    <a:lnTo>
                      <a:pt x="168" y="0"/>
                    </a:lnTo>
                    <a:lnTo>
                      <a:pt x="168" y="1218"/>
                    </a:lnTo>
                    <a:lnTo>
                      <a:pt x="0" y="1218"/>
                    </a:lnTo>
                    <a:lnTo>
                      <a:pt x="336" y="243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5935680" y="5894280"/>
                <a:ext cx="279360" cy="644760"/>
                <a:chOff x="5935680" y="5894280"/>
                <a:chExt cx="279360" cy="644760"/>
              </a:xfrm>
            </p:grpSpPr>
            <p:sp>
              <p:nvSpPr>
                <p:cNvPr id="615" name=""/>
                <p:cNvSpPr txBox="1"/>
                <p:nvPr/>
              </p:nvSpPr>
              <p:spPr>
                <a:xfrm>
                  <a:off x="5948280" y="5894280"/>
                  <a:ext cx="254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 txBox="1"/>
                <p:nvPr/>
              </p:nvSpPr>
              <p:spPr>
                <a:xfrm>
                  <a:off x="5967360" y="6032520"/>
                  <a:ext cx="2160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 txBox="1"/>
                <p:nvPr/>
              </p:nvSpPr>
              <p:spPr>
                <a:xfrm>
                  <a:off x="5935680" y="6170760"/>
                  <a:ext cx="279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 txBox="1"/>
                <p:nvPr/>
              </p:nvSpPr>
              <p:spPr>
                <a:xfrm>
                  <a:off x="5945040" y="6310440"/>
                  <a:ext cx="260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2489040" y="5207040"/>
            <a:ext cx="0" cy="184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073320" y="5207040"/>
            <a:ext cx="0" cy="184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621240" y="5207040"/>
            <a:ext cx="0" cy="184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70240" y="5207040"/>
            <a:ext cx="0" cy="184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718160" y="5207040"/>
            <a:ext cx="0" cy="184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267160" y="5207040"/>
            <a:ext cx="0" cy="184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301920" y="5527800"/>
            <a:ext cx="1797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49840" y="5800680"/>
            <a:ext cx="1249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398840" y="6029280"/>
            <a:ext cx="700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398840" y="6259680"/>
            <a:ext cx="700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006640" y="4795920"/>
            <a:ext cx="352908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846520" y="5435640"/>
            <a:ext cx="45072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2870280" y="5504040"/>
            <a:ext cx="44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394080" y="5710320"/>
            <a:ext cx="450720" cy="63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392640" y="5776920"/>
            <a:ext cx="43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941640" y="5938920"/>
            <a:ext cx="452520" cy="63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940200" y="6005520"/>
            <a:ext cx="43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489560" y="6165720"/>
            <a:ext cx="45252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489560" y="6234120"/>
            <a:ext cx="450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084640" y="5280120"/>
            <a:ext cx="450720" cy="152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083200" y="5686560"/>
            <a:ext cx="420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538440" y="4827600"/>
            <a:ext cx="993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676680" y="706608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41240" y="4637160"/>
            <a:ext cx="1349280" cy="425160"/>
            <a:chOff x="741240" y="4637160"/>
            <a:chExt cx="1349280" cy="425160"/>
          </a:xfrm>
        </p:grpSpPr>
        <p:sp>
          <p:nvSpPr>
            <p:cNvPr id="643" name=""/>
            <p:cNvSpPr txBox="1"/>
            <p:nvPr/>
          </p:nvSpPr>
          <p:spPr>
            <a:xfrm>
              <a:off x="741240" y="4637160"/>
              <a:ext cx="13492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S-ASE Abstra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 txBox="1"/>
            <p:nvPr/>
          </p:nvSpPr>
          <p:spPr>
            <a:xfrm>
              <a:off x="741240" y="4802040"/>
              <a:ext cx="1231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Interfa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723960" y="7240680"/>
            <a:ext cx="1239840" cy="425160"/>
            <a:chOff x="723960" y="7240680"/>
            <a:chExt cx="1239840" cy="425160"/>
          </a:xfrm>
        </p:grpSpPr>
        <p:sp>
          <p:nvSpPr>
            <p:cNvPr id="646" name=""/>
            <p:cNvSpPr txBox="1"/>
            <p:nvPr/>
          </p:nvSpPr>
          <p:spPr>
            <a:xfrm>
              <a:off x="723960" y="7240680"/>
              <a:ext cx="123984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ogue Servi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 txBox="1"/>
            <p:nvPr/>
          </p:nvSpPr>
          <p:spPr>
            <a:xfrm>
              <a:off x="723960" y="7405560"/>
              <a:ext cx="7272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711360" y="4657680"/>
            <a:ext cx="48448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711360" y="7628040"/>
            <a:ext cx="48448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262240" y="5321160"/>
            <a:ext cx="45072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2286000" y="5351400"/>
            <a:ext cx="420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2717640" y="5343480"/>
            <a:ext cx="2362320" cy="2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994040" y="7034040"/>
            <a:ext cx="3541680" cy="40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120760" y="5219640"/>
            <a:ext cx="0" cy="1841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natls</cp:lastModifiedBy>
  <cp:revision>0</cp:revision>
  <dc:subject/>
  <dc:title/>
</cp:coreProperties>
</file>