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907588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09920" y="640080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04160" y="64897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151000" y="6037200"/>
            <a:ext cx="557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2.  Functional view of the ATS message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819520" y="1828800"/>
            <a:ext cx="3200400" cy="3800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4114800"/>
            <a:ext cx="3189240" cy="150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5120" y="3925800"/>
            <a:ext cx="3203640" cy="1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828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971800" y="2209680"/>
            <a:ext cx="914400" cy="914400"/>
            <a:chOff x="2971800" y="2209680"/>
            <a:chExt cx="914400" cy="914400"/>
          </a:xfrm>
        </p:grpSpPr>
        <p:sp>
          <p:nvSpPr>
            <p:cNvPr id="46" name=""/>
            <p:cNvSpPr/>
            <p:nvPr/>
          </p:nvSpPr>
          <p:spPr>
            <a:xfrm>
              <a:off x="2971800" y="2209680"/>
              <a:ext cx="91440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71800" y="2819520"/>
              <a:ext cx="91440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1800" y="23623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86200" y="23623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447920" y="51814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51055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172200" y="40384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3429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3733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9810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o ATS message user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9080" y="3352680"/>
            <a:ext cx="114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S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590920"/>
            <a:ext cx="2743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tocol for MTS or MS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can be P3 or P7 over upper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876920"/>
            <a:ext cx="1828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ces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 sub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4800600"/>
            <a:ext cx="1828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ces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 sub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259092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o other ATS message servers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r AMHS gate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19051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o ATN directory system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2971800"/>
            <a:ext cx="22096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tocol for MTA to MTA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P1 over upper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8862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 transpor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3276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182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05740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mandatory in the extended ATS message serv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286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330120" y="2971800"/>
            <a:ext cx="911160" cy="416160"/>
            <a:chOff x="330120" y="2971800"/>
            <a:chExt cx="911160" cy="416160"/>
          </a:xfrm>
        </p:grpSpPr>
        <p:pic>
          <p:nvPicPr>
            <p:cNvPr id="548" name="" descr=""/>
            <p:cNvPicPr/>
            <p:nvPr/>
          </p:nvPicPr>
          <p:blipFill>
            <a:blip r:embed="rId1"/>
            <a:stretch/>
          </p:blipFill>
          <p:spPr>
            <a:xfrm>
              <a:off x="400320" y="2971800"/>
              <a:ext cx="7707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330120" y="2979360"/>
              <a:ext cx="91116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056040" y="3295800"/>
            <a:ext cx="3798720" cy="3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7240" y="4102200"/>
            <a:ext cx="3575160" cy="2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54240" y="2438280"/>
            <a:ext cx="3560760" cy="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762200" y="1003320"/>
            <a:ext cx="1869840" cy="3398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68520" y="1066680"/>
            <a:ext cx="2154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Control Position</a:t>
            </a: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744560" y="2133720"/>
            <a:ext cx="1320840" cy="2209320"/>
            <a:chOff x="1744560" y="2133720"/>
            <a:chExt cx="1320840" cy="2209320"/>
          </a:xfrm>
        </p:grpSpPr>
        <p:sp>
          <p:nvSpPr>
            <p:cNvPr id="556" name=""/>
            <p:cNvSpPr/>
            <p:nvPr/>
          </p:nvSpPr>
          <p:spPr>
            <a:xfrm>
              <a:off x="1749960" y="2133720"/>
              <a:ext cx="1310400" cy="22093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44560" y="2343600"/>
              <a:ext cx="1320840" cy="10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569960" y="838080"/>
            <a:ext cx="6645240" cy="459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1198440" y="2597040"/>
            <a:ext cx="427320" cy="2304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55520" y="2590920"/>
            <a:ext cx="387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12920" y="2529000"/>
            <a:ext cx="831600" cy="368280"/>
            <a:chOff x="412920" y="2529000"/>
            <a:chExt cx="831600" cy="368280"/>
          </a:xfrm>
        </p:grpSpPr>
        <p:pic>
          <p:nvPicPr>
            <p:cNvPr id="562" name="" descr=""/>
            <p:cNvPicPr/>
            <p:nvPr/>
          </p:nvPicPr>
          <p:blipFill>
            <a:blip r:embed="rId3"/>
            <a:stretch/>
          </p:blipFill>
          <p:spPr>
            <a:xfrm>
              <a:off x="412920" y="2529000"/>
              <a:ext cx="77652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457560" y="2576520"/>
              <a:ext cx="786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CIDIN/AMH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3916440" y="2119320"/>
            <a:ext cx="1611360" cy="587520"/>
            <a:chOff x="3916440" y="2119320"/>
            <a:chExt cx="1611360" cy="587520"/>
          </a:xfrm>
        </p:grpSpPr>
        <p:sp>
          <p:nvSpPr>
            <p:cNvPr id="565" name=""/>
            <p:cNvSpPr/>
            <p:nvPr/>
          </p:nvSpPr>
          <p:spPr>
            <a:xfrm>
              <a:off x="4066200" y="2119320"/>
              <a:ext cx="1310760" cy="587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916440" y="2125440"/>
              <a:ext cx="16113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IDIN (AFT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TC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MCF =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797280" y="2971800"/>
            <a:ext cx="1816200" cy="590040"/>
            <a:chOff x="3797280" y="2971800"/>
            <a:chExt cx="1816200" cy="590040"/>
          </a:xfrm>
        </p:grpSpPr>
        <p:sp>
          <p:nvSpPr>
            <p:cNvPr id="568" name=""/>
            <p:cNvSpPr/>
            <p:nvPr/>
          </p:nvSpPr>
          <p:spPr>
            <a:xfrm>
              <a:off x="4050360" y="2974680"/>
              <a:ext cx="1310400" cy="587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97280" y="2971800"/>
              <a:ext cx="1816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IDIN (OPME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TC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MCF =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3962520" y="3809880"/>
            <a:ext cx="1473120" cy="635040"/>
            <a:chOff x="3962520" y="3809880"/>
            <a:chExt cx="1473120" cy="635040"/>
          </a:xfrm>
        </p:grpSpPr>
        <p:sp>
          <p:nvSpPr>
            <p:cNvPr id="571" name=""/>
            <p:cNvSpPr/>
            <p:nvPr/>
          </p:nvSpPr>
          <p:spPr>
            <a:xfrm>
              <a:off x="4044240" y="3857400"/>
              <a:ext cx="1310040" cy="587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962520" y="3809880"/>
              <a:ext cx="14731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IDIN (OPMS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TC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MCF =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2724120" y="4648320"/>
            <a:ext cx="1397160" cy="587160"/>
            <a:chOff x="2724120" y="4648320"/>
            <a:chExt cx="1397160" cy="587160"/>
          </a:xfrm>
        </p:grpSpPr>
        <p:sp>
          <p:nvSpPr>
            <p:cNvPr id="574" name=""/>
            <p:cNvSpPr/>
            <p:nvPr/>
          </p:nvSpPr>
          <p:spPr>
            <a:xfrm>
              <a:off x="2791440" y="4648320"/>
              <a:ext cx="1311120" cy="587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724120" y="4687560"/>
              <a:ext cx="13971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ansfer-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ISO/IEC 10021-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65800" y="4648320"/>
            <a:ext cx="1320840" cy="587160"/>
            <a:chOff x="5365800" y="4648320"/>
            <a:chExt cx="1320840" cy="587160"/>
          </a:xfrm>
        </p:grpSpPr>
        <p:sp>
          <p:nvSpPr>
            <p:cNvPr id="577" name=""/>
            <p:cNvSpPr/>
            <p:nvPr/>
          </p:nvSpPr>
          <p:spPr>
            <a:xfrm>
              <a:off x="5371200" y="4648320"/>
              <a:ext cx="1310400" cy="587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65800" y="4688280"/>
              <a:ext cx="1320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IDI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6521400" y="1676520"/>
            <a:ext cx="1604880" cy="2882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6643800" y="2057400"/>
            <a:ext cx="1320840" cy="2286000"/>
            <a:chOff x="6643800" y="2057400"/>
            <a:chExt cx="1320840" cy="2286000"/>
          </a:xfrm>
        </p:grpSpPr>
        <p:sp>
          <p:nvSpPr>
            <p:cNvPr id="581" name=""/>
            <p:cNvSpPr/>
            <p:nvPr/>
          </p:nvSpPr>
          <p:spPr>
            <a:xfrm>
              <a:off x="6649920" y="2057400"/>
              <a:ext cx="1310400" cy="22860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43800" y="2974680"/>
              <a:ext cx="1320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ID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6605640" y="1952640"/>
            <a:ext cx="1320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8667720" y="2448000"/>
            <a:ext cx="990720" cy="520560"/>
            <a:chOff x="8667720" y="2448000"/>
            <a:chExt cx="990720" cy="520560"/>
          </a:xfrm>
        </p:grpSpPr>
        <p:sp>
          <p:nvSpPr>
            <p:cNvPr id="585" name=""/>
            <p:cNvSpPr/>
            <p:nvPr/>
          </p:nvSpPr>
          <p:spPr>
            <a:xfrm>
              <a:off x="8708760" y="2448000"/>
              <a:ext cx="907920" cy="5205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667720" y="2479680"/>
              <a:ext cx="990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IDIN Cent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7" name="" descr=""/>
          <p:cNvPicPr/>
          <p:nvPr/>
        </p:nvPicPr>
        <p:blipFill>
          <a:blip r:embed="rId4"/>
          <a:stretch/>
        </p:blipFill>
        <p:spPr>
          <a:xfrm>
            <a:off x="8159760" y="2610000"/>
            <a:ext cx="426960" cy="23004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10960" y="3505320"/>
            <a:ext cx="112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1) Only for the s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type of 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19480" y="5791320"/>
            <a:ext cx="389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Figure III-6-26.  Functional view of the CIDIN/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62520" y="990720"/>
            <a:ext cx="1869840" cy="339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42440" y="1752480"/>
            <a:ext cx="12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IDIN 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93000" y="1066680"/>
            <a:ext cx="122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Directory User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457880" y="152280"/>
            <a:ext cx="990360" cy="520920"/>
            <a:chOff x="4457880" y="152280"/>
            <a:chExt cx="990360" cy="520920"/>
          </a:xfrm>
        </p:grpSpPr>
        <p:sp>
          <p:nvSpPr>
            <p:cNvPr id="594" name=""/>
            <p:cNvSpPr/>
            <p:nvPr/>
          </p:nvSpPr>
          <p:spPr>
            <a:xfrm>
              <a:off x="4498920" y="152280"/>
              <a:ext cx="907560" cy="520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457880" y="183960"/>
              <a:ext cx="990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irecto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412920" y="2057400"/>
            <a:ext cx="831600" cy="368280"/>
            <a:chOff x="412920" y="2057400"/>
            <a:chExt cx="831600" cy="368280"/>
          </a:xfrm>
        </p:grpSpPr>
        <p:pic>
          <p:nvPicPr>
            <p:cNvPr id="597" name="" descr=""/>
            <p:cNvPicPr/>
            <p:nvPr/>
          </p:nvPicPr>
          <p:blipFill>
            <a:blip r:embed="rId5"/>
            <a:stretch/>
          </p:blipFill>
          <p:spPr>
            <a:xfrm>
              <a:off x="412920" y="2057400"/>
              <a:ext cx="77652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457560" y="2104920"/>
              <a:ext cx="786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AFTN/AMH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218160" y="4038480"/>
            <a:ext cx="127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2) Only for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IDIN (AFTN) 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840200" y="590400"/>
            <a:ext cx="247680" cy="304920"/>
          </a:xfrm>
          <a:prstGeom prst="upDownArrow">
            <a:avLst>
              <a:gd name="adj1" fmla="val 50000"/>
              <a:gd name="adj2" fmla="val 2450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0920" y="2039760"/>
            <a:ext cx="2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46716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467160" y="3809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436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943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943600" y="3809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4127400" y="762120"/>
            <a:ext cx="1650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98640" y="1828800"/>
            <a:ext cx="1650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38400" y="2590920"/>
            <a:ext cx="12380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54240" y="2590920"/>
            <a:ext cx="12384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705200" y="2590920"/>
            <a:ext cx="1486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nagement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099200" y="2590920"/>
            <a:ext cx="1486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nagement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4" name=""/>
          <p:cNvCxnSpPr>
            <a:stCxn id="609" idx="0"/>
            <a:endCxn id="613" idx="0"/>
          </p:cNvCxnSpPr>
          <p:nvPr/>
        </p:nvCxnSpPr>
        <p:spPr>
          <a:xfrm flipH="1" rot="16200000">
            <a:off x="4901760" y="-350280"/>
            <a:ext cx="762840" cy="511884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5" name=""/>
          <p:cNvSpPr/>
          <p:nvPr/>
        </p:nvSpPr>
        <p:spPr>
          <a:xfrm>
            <a:off x="4952880" y="121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43040" y="3505320"/>
            <a:ext cx="9903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898640" y="3505320"/>
            <a:ext cx="907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ervice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759800" y="3505320"/>
            <a:ext cx="825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nqui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s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375080" y="3505320"/>
            <a:ext cx="1073160" cy="406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perator Mes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age Ex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30680" y="3505320"/>
            <a:ext cx="1238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ff-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anagement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51520" y="3505320"/>
            <a:ext cx="825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cknow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led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750160" y="3505320"/>
            <a:ext cx="825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C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rr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467160" y="4267080"/>
            <a:ext cx="1073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pet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4" name=""/>
          <p:cNvCxnSpPr>
            <a:endCxn id="623" idx="0"/>
          </p:cNvCxnSpPr>
          <p:nvPr/>
        </p:nvCxnSpPr>
        <p:spPr>
          <a:xfrm flipH="1" rot="16200000">
            <a:off x="2821680" y="3085200"/>
            <a:ext cx="2160" cy="236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25" name=""/>
          <p:cNvSpPr/>
          <p:nvPr/>
        </p:nvSpPr>
        <p:spPr>
          <a:xfrm>
            <a:off x="231156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588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7" name=""/>
          <p:cNvCxnSpPr>
            <a:stCxn id="610" idx="0"/>
            <a:endCxn id="612" idx="0"/>
          </p:cNvCxnSpPr>
          <p:nvPr/>
        </p:nvCxnSpPr>
        <p:spPr>
          <a:xfrm flipH="1" rot="16200000">
            <a:off x="3642840" y="784800"/>
            <a:ext cx="19800" cy="3591720"/>
          </a:xfrm>
          <a:prstGeom prst="bentConnector3">
            <a:avLst>
              <a:gd name="adj1" fmla="val -11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28" name=""/>
          <p:cNvSpPr/>
          <p:nvPr/>
        </p:nvSpPr>
        <p:spPr>
          <a:xfrm>
            <a:off x="2724120" y="2286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16" idx="0"/>
            <a:endCxn id="617" idx="0"/>
          </p:cNvCxnSpPr>
          <p:nvPr/>
        </p:nvCxnSpPr>
        <p:spPr>
          <a:xfrm flipH="1" rot="16200000">
            <a:off x="1794600" y="2948760"/>
            <a:ext cx="2160" cy="1114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1816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63204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4824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3" name=""/>
          <p:cNvCxnSpPr>
            <a:stCxn id="621" idx="0"/>
            <a:endCxn id="622" idx="0"/>
          </p:cNvCxnSpPr>
          <p:nvPr/>
        </p:nvCxnSpPr>
        <p:spPr>
          <a:xfrm flipH="1" rot="16200000">
            <a:off x="8213040" y="2556360"/>
            <a:ext cx="2160" cy="18993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784224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17236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05040" y="609480"/>
            <a:ext cx="108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IDIN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1240" y="158256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 =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93320" y="23623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3204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224080" y="2362320"/>
            <a:ext cx="59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CF =2                                          =3                                                      = 1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                              MT =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301920" y="2666880"/>
            <a:ext cx="60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PM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3" name=""/>
          <p:cNvCxnSpPr>
            <a:stCxn id="619" idx="0"/>
            <a:endCxn id="632" idx="0"/>
          </p:cNvCxnSpPr>
          <p:nvPr/>
        </p:nvCxnSpPr>
        <p:spPr>
          <a:xfrm flipH="1" flipV="1" rot="5400000">
            <a:off x="5074920" y="3112920"/>
            <a:ext cx="210240" cy="536760"/>
          </a:xfrm>
          <a:prstGeom prst="bentConnector3">
            <a:avLst>
              <a:gd name="adj1" fmla="val 452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4" name=""/>
          <p:cNvCxnSpPr/>
          <p:nvPr/>
        </p:nvCxnSpPr>
        <p:spPr>
          <a:xfrm>
            <a:off x="5028840" y="3390480"/>
            <a:ext cx="470520" cy="127800"/>
          </a:xfrm>
          <a:prstGeom prst="bentConnector3">
            <a:avLst>
              <a:gd name="adj1" fmla="val 10000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645" name=""/>
          <p:cNvSpPr/>
          <p:nvPr/>
        </p:nvSpPr>
        <p:spPr>
          <a:xfrm>
            <a:off x="7486560" y="3259080"/>
            <a:ext cx="200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NMF = 3          =4                              =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25480" y="5029200"/>
            <a:ext cx="14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2548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851560" y="4876920"/>
            <a:ext cx="111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57880" y="5029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43896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1520" y="5029200"/>
            <a:ext cx="57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152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565400" y="4876920"/>
            <a:ext cx="12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Transport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915400" y="5029200"/>
            <a:ext cx="66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57564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412280" y="5316480"/>
            <a:ext cx="609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 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418400" y="5697360"/>
            <a:ext cx="74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from 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995640" y="5595840"/>
            <a:ext cx="432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27. CIDIN messages exchanged betwee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CIDIN Component and MT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43040" y="3733920"/>
            <a:ext cx="1648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rot="5328000">
            <a:off x="749160" y="3498840"/>
            <a:ext cx="152280" cy="1648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054240" y="3505320"/>
            <a:ext cx="107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PM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rot="5328000">
            <a:off x="4416120" y="3530160"/>
            <a:ext cx="152280" cy="1652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5328000">
            <a:off x="3060360" y="3498480"/>
            <a:ext cx="152280" cy="1652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54240" y="3733920"/>
            <a:ext cx="16524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5328000">
            <a:off x="6857640" y="3498480"/>
            <a:ext cx="152280" cy="1652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328000">
            <a:off x="7765920" y="3498840"/>
            <a:ext cx="152280" cy="1648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5328000">
            <a:off x="8756280" y="3498480"/>
            <a:ext cx="152280" cy="1652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43040" y="5257800"/>
            <a:ext cx="577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rot="5328000">
            <a:off x="749160" y="5251320"/>
            <a:ext cx="152280" cy="1648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43040" y="5715000"/>
            <a:ext cx="577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rot="5328000">
            <a:off x="749160" y="5708520"/>
            <a:ext cx="152280" cy="1648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43040" y="5943600"/>
            <a:ext cx="1648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25480" y="42670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cknowledge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ent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25480" y="4495680"/>
            <a:ext cx="165240" cy="1526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rot="5328000">
            <a:off x="831240" y="4260600"/>
            <a:ext cx="152640" cy="1652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81080" y="4267080"/>
            <a:ext cx="1238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nknown address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Indic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981080" y="4495680"/>
            <a:ext cx="165240" cy="1526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rot="5328000">
            <a:off x="1986840" y="4260600"/>
            <a:ext cx="152640" cy="1652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5328000">
            <a:off x="3473280" y="4260600"/>
            <a:ext cx="152640" cy="1648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068560" y="3030480"/>
            <a:ext cx="48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967200" y="3030480"/>
            <a:ext cx="48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041080" y="3944880"/>
            <a:ext cx="50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10000" y="3733920"/>
            <a:ext cx="16524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"/>
          <p:cNvGraphicFramePr/>
          <p:nvPr/>
        </p:nvGraphicFramePr>
        <p:xfrm>
          <a:off x="749160" y="303120"/>
          <a:ext cx="8256600" cy="49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303120"/>
                    <a:ext cx="8256600" cy="49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"/>
          <p:cNvSpPr/>
          <p:nvPr/>
        </p:nvSpPr>
        <p:spPr>
          <a:xfrm>
            <a:off x="2476440" y="5638680"/>
            <a:ext cx="47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28.  Use of transport service primi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907920" y="1371600"/>
            <a:ext cx="8089920" cy="3886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92640" y="304920"/>
            <a:ext cx="11556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Dire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146320" y="1600200"/>
            <a:ext cx="132084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ccess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MHS Dire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27400" y="1600200"/>
            <a:ext cx="14860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DUA 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476360" y="2314440"/>
            <a:ext cx="1486080" cy="457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d5d5d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20840" y="3137040"/>
            <a:ext cx="1320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dashDot"/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28760" y="4191120"/>
            <a:ext cx="1320840" cy="761760"/>
          </a:xfrm>
          <a:prstGeom prst="rect">
            <a:avLst/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375080" y="4038480"/>
            <a:ext cx="1320840" cy="762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ff99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4191120"/>
            <a:ext cx="1320480" cy="761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ff99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521400" y="4140360"/>
            <a:ext cx="1320840" cy="7617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943600" y="2209680"/>
            <a:ext cx="14032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934240" y="3429000"/>
            <a:ext cx="14032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dashDot"/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7880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971440" y="2057400"/>
            <a:ext cx="1733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2889360" y="2057400"/>
            <a:ext cx="189864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635200" y="3340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806560" y="2057400"/>
            <a:ext cx="9493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902120" y="206676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4890960" y="2438280"/>
            <a:ext cx="105264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911840" y="2990880"/>
            <a:ext cx="1031760" cy="59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311560" y="4343400"/>
            <a:ext cx="1049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153840" y="2190600"/>
            <a:ext cx="1047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Level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cipient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691160" y="965160"/>
            <a:ext cx="330120" cy="609480"/>
          </a:xfrm>
          <a:prstGeom prst="upDownArrow">
            <a:avLst>
              <a:gd name="adj1" fmla="val 50000"/>
              <a:gd name="adj2" fmla="val 3675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163640" y="1523880"/>
            <a:ext cx="14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CIDIN/AMHS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971800" y="5486400"/>
            <a:ext cx="471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29.  Use of the ATN Directory by component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CIDIN/AMHS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907920" y="5410080"/>
            <a:ext cx="330480" cy="152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907920" y="5638680"/>
            <a:ext cx="330480" cy="152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90240" y="5400720"/>
            <a:ext cx="122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Mandatory requir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303200" y="5614920"/>
            <a:ext cx="96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Recommend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964120" y="2743200"/>
            <a:ext cx="1382760" cy="504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4946760" y="2971440"/>
            <a:ext cx="99684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07920" y="5867280"/>
            <a:ext cx="330480" cy="152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313280" y="5811840"/>
            <a:ext cx="118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Implementation mat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981800" y="2363760"/>
            <a:ext cx="59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541160" y="319248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L-Expan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175440" y="2725560"/>
            <a:ext cx="100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trieval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ser Certific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(Securi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271920" y="3382920"/>
            <a:ext cx="81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dre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onvers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4292640" y="838080"/>
            <a:ext cx="1403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85120" y="5079960"/>
            <a:ext cx="1397160" cy="6476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311720" y="1676520"/>
            <a:ext cx="1403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57880" y="3200400"/>
            <a:ext cx="1320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03280" y="1066680"/>
            <a:ext cx="288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69592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695920" y="106668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778360" y="1828800"/>
            <a:ext cx="2394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389240" y="2437920"/>
            <a:ext cx="678312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1520" y="4572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054240" y="533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367640" y="185760"/>
            <a:ext cx="151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. Nomi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510200" y="515880"/>
            <a:ext cx="103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ATN  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MHS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622760" y="38088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MT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081920" y="200160"/>
            <a:ext cx="110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CIDIN Compo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937200" y="782640"/>
            <a:ext cx="162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Information ms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737600" y="2109960"/>
            <a:ext cx="84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 3.1.2.4.3.2.1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778360" y="3276720"/>
            <a:ext cx="1960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745400" y="3162240"/>
            <a:ext cx="2476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3" name=""/>
          <p:cNvCxnSpPr/>
          <p:nvPr/>
        </p:nvCxnSpPr>
        <p:spPr>
          <a:xfrm>
            <a:off x="5333760" y="3428640"/>
            <a:ext cx="1981800" cy="229320"/>
          </a:xfrm>
          <a:prstGeom prst="bentConnector3">
            <a:avLst>
              <a:gd name="adj1" fmla="val 281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4" name=""/>
          <p:cNvCxnSpPr/>
          <p:nvPr/>
        </p:nvCxnSpPr>
        <p:spPr>
          <a:xfrm rot="10800000">
            <a:off x="1586880" y="4247280"/>
            <a:ext cx="2832840" cy="80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5" name=""/>
          <p:cNvCxnSpPr/>
          <p:nvPr/>
        </p:nvCxnSpPr>
        <p:spPr>
          <a:xfrm flipV="1" rot="10800000">
            <a:off x="1599480" y="4437720"/>
            <a:ext cx="2791440" cy="114840"/>
          </a:xfrm>
          <a:prstGeom prst="bentConnector3">
            <a:avLst>
              <a:gd name="adj1" fmla="val 49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6" name=""/>
          <p:cNvSpPr/>
          <p:nvPr/>
        </p:nvSpPr>
        <p:spPr>
          <a:xfrm>
            <a:off x="5778360" y="43434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786800" y="4216320"/>
            <a:ext cx="2476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/>
          <p:nvPr/>
        </p:nvCxnSpPr>
        <p:spPr>
          <a:xfrm rot="10800000">
            <a:off x="1573920" y="5139720"/>
            <a:ext cx="2832840" cy="79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9" name=""/>
          <p:cNvCxnSpPr/>
          <p:nvPr/>
        </p:nvCxnSpPr>
        <p:spPr>
          <a:xfrm flipV="1" rot="10800000">
            <a:off x="1599480" y="5333040"/>
            <a:ext cx="2791440" cy="114840"/>
          </a:xfrm>
          <a:prstGeom prst="bentConnector3">
            <a:avLst>
              <a:gd name="adj1" fmla="val 49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0" name=""/>
          <p:cNvSpPr/>
          <p:nvPr/>
        </p:nvSpPr>
        <p:spPr>
          <a:xfrm>
            <a:off x="5778360" y="5276880"/>
            <a:ext cx="2455920" cy="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457880" y="4191120"/>
            <a:ext cx="1320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57880" y="5105520"/>
            <a:ext cx="1320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54240" y="3276720"/>
            <a:ext cx="0" cy="255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1520" y="3200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03280" y="3879720"/>
            <a:ext cx="68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400040" y="4861080"/>
            <a:ext cx="682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403280" y="586728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190560" y="303048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3b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924960" y="2801880"/>
            <a:ext cx="168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issing CIDIN netw. ack.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3.2.2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052760" y="3373560"/>
            <a:ext cx="133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information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668120" y="3595680"/>
            <a:ext cx="91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3.1.2.4.3.2.2c)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996920" y="4014720"/>
            <a:ext cx="7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 N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996200" y="4281480"/>
            <a:ext cx="6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 I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647880" y="403848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4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670200" y="4255920"/>
            <a:ext cx="28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59400" y="44593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4b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05640" y="463068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3.1.2.4.3.2.2d)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025680" y="406548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3b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932880" y="3881520"/>
            <a:ext cx="168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issing CIDIN netw. ack.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3.2.2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990440" y="4878360"/>
            <a:ext cx="7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 N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996200" y="5164200"/>
            <a:ext cx="6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 I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643200" y="5138640"/>
            <a:ext cx="28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631320" y="489744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4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631680" y="539280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4b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107760" y="493560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3c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02040" y="5500800"/>
            <a:ext cx="8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3.1.2.4.3.2.5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978240" y="4846680"/>
            <a:ext cx="125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MCF error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1.3b)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369800" y="285264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b. Out-of-line sit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784680" y="6078600"/>
            <a:ext cx="3774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Figure III-6-30.  Handling of CIDIN service confirmations 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Times New Roman"/>
              </a:rPr>
              <a:t>sent 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CIDIN information mess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299040" y="744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23160" y="744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2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025320" y="150660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3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148880" y="1447920"/>
            <a:ext cx="126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netw. ack.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1.3.a)/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stCxn id="724" idx="2"/>
          </p:cNvCxnSpPr>
          <p:nvPr/>
        </p:nvCxnSpPr>
        <p:spPr>
          <a:xfrm rot="5400000">
            <a:off x="3564720" y="18720"/>
            <a:ext cx="229320" cy="2629800"/>
          </a:xfrm>
          <a:prstGeom prst="bent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785" name=""/>
          <p:cNvSpPr/>
          <p:nvPr/>
        </p:nvSpPr>
        <p:spPr>
          <a:xfrm>
            <a:off x="2258640" y="1143000"/>
            <a:ext cx="66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 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2874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4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43880" y="1430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(on reque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793840" y="10936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3.1.2.4.2.3.1.b)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461080" y="5119560"/>
            <a:ext cx="13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x/ Reference to cla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in Doc. 9705, SV II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[x] Sequence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640400" y="833400"/>
            <a:ext cx="75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757760" y="174780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Log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674600" y="318276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se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econdary 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739760" y="4183200"/>
            <a:ext cx="75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NDR or I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720680" y="5097600"/>
            <a:ext cx="75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NDR or I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3632040" y="1219320"/>
            <a:ext cx="1320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02840" y="457200"/>
            <a:ext cx="151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. Nomi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1485720" y="1371600"/>
            <a:ext cx="214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952880" y="1371600"/>
            <a:ext cx="313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9" name=""/>
          <p:cNvCxnSpPr>
            <a:stCxn id="795" idx="2"/>
          </p:cNvCxnSpPr>
          <p:nvPr/>
        </p:nvCxnSpPr>
        <p:spPr>
          <a:xfrm flipH="1" rot="16200000">
            <a:off x="5929920" y="-38520"/>
            <a:ext cx="229320" cy="3506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0" name=""/>
          <p:cNvSpPr/>
          <p:nvPr/>
        </p:nvSpPr>
        <p:spPr>
          <a:xfrm>
            <a:off x="1238400" y="2209680"/>
            <a:ext cx="701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806560" y="1066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943600" y="990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632040" y="3124080"/>
            <a:ext cx="13208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952880" y="3276720"/>
            <a:ext cx="330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5" name=""/>
          <p:cNvCxnSpPr>
            <a:stCxn id="803" idx="2"/>
          </p:cNvCxnSpPr>
          <p:nvPr/>
        </p:nvCxnSpPr>
        <p:spPr>
          <a:xfrm flipH="1" rot="16200000">
            <a:off x="5549760" y="2247480"/>
            <a:ext cx="229320" cy="274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6" name=""/>
          <p:cNvSpPr/>
          <p:nvPr/>
        </p:nvSpPr>
        <p:spPr>
          <a:xfrm>
            <a:off x="1238400" y="4267080"/>
            <a:ext cx="709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806560" y="29718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43600" y="29718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26444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686640" y="4876920"/>
            <a:ext cx="1320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1" name=""/>
          <p:cNvCxnSpPr>
            <a:stCxn id="810" idx="0"/>
          </p:cNvCxnSpPr>
          <p:nvPr/>
        </p:nvCxnSpPr>
        <p:spPr>
          <a:xfrm flipH="1" flipV="1" rot="5400000">
            <a:off x="7651440" y="4190400"/>
            <a:ext cx="381960" cy="991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12" name=""/>
          <p:cNvCxnSpPr/>
          <p:nvPr/>
        </p:nvCxnSpPr>
        <p:spPr>
          <a:xfrm flipH="1" rot="16200000">
            <a:off x="7162560" y="4876200"/>
            <a:ext cx="229320" cy="991440"/>
          </a:xfrm>
          <a:prstGeom prst="bentConnector3">
            <a:avLst>
              <a:gd name="adj1" fmla="val 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3" name=""/>
          <p:cNvSpPr/>
          <p:nvPr/>
        </p:nvSpPr>
        <p:spPr>
          <a:xfrm>
            <a:off x="1238400" y="5867280"/>
            <a:ext cx="71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279440" y="762120"/>
            <a:ext cx="100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ATN 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MHS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657480" y="762120"/>
            <a:ext cx="133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CIDIN 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information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051360" y="1049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3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051440" y="74448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MT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62920" y="1049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850120" y="1378080"/>
            <a:ext cx="77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/3.1.2.4.2.3.1b)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65080" y="158256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2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676920" y="1420920"/>
            <a:ext cx="12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netw. ack.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1.7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305000" y="2438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b. Out-of-line sit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805440" y="2954160"/>
            <a:ext cx="133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information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92440" y="3801960"/>
            <a:ext cx="8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3.1.2.4.3.2.8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301800" y="3868560"/>
            <a:ext cx="202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uppression of CIDIN netw. ack.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1.8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309720" y="5468760"/>
            <a:ext cx="125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MCF error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1.5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486840" y="4249800"/>
            <a:ext cx="168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information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220920" y="6002280"/>
            <a:ext cx="3584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Figure III-6-31. Handling of CIDIN service confirmations 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Times New Roman"/>
              </a:rPr>
              <a:t>received 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CIDIN information mess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362920" y="3030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365080" y="348768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2b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8004240" y="4478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002440" y="556272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2c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344840" y="1798560"/>
            <a:ext cx="19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385880" y="1855800"/>
            <a:ext cx="8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3.1.2.4.3.2.8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469360" y="4768920"/>
            <a:ext cx="1396800" cy="6476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545320" y="4808520"/>
            <a:ext cx="13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x/ Reference to cla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in Doc. 9705, SV II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[x] Sequence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654360" y="1220760"/>
            <a:ext cx="126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essage Acceptanc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867120" y="320184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No Accep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978960" y="4878360"/>
            <a:ext cx="69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CF no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uppor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0" name=""/>
          <p:cNvGraphicFramePr/>
          <p:nvPr/>
        </p:nvGraphicFramePr>
        <p:xfrm>
          <a:off x="1374840" y="1600200"/>
          <a:ext cx="1297080" cy="10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1600200"/>
                    <a:ext cx="129708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"/>
          <p:cNvGraphicFramePr/>
          <p:nvPr/>
        </p:nvGraphicFramePr>
        <p:xfrm>
          <a:off x="7070760" y="1600200"/>
          <a:ext cx="1297080" cy="10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70760" y="1600200"/>
                    <a:ext cx="129708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"/>
          <p:cNvGraphicFramePr/>
          <p:nvPr/>
        </p:nvGraphicFramePr>
        <p:xfrm>
          <a:off x="1292400" y="4038480"/>
          <a:ext cx="1296720" cy="100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2400" y="4038480"/>
                    <a:ext cx="129672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"/>
          <p:cNvGraphicFramePr/>
          <p:nvPr/>
        </p:nvGraphicFramePr>
        <p:xfrm>
          <a:off x="7153200" y="4038480"/>
          <a:ext cx="1297080" cy="1005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53200" y="4038480"/>
                    <a:ext cx="129708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"/>
          <p:cNvSpPr/>
          <p:nvPr/>
        </p:nvSpPr>
        <p:spPr>
          <a:xfrm>
            <a:off x="3219480" y="4114800"/>
            <a:ext cx="99072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283360" y="4114800"/>
            <a:ext cx="990360" cy="6094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220400" y="990720"/>
            <a:ext cx="161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)  Native AFTN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11560" y="1828800"/>
            <a:ext cx="51181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088520" y="152388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-M {Ad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022240" y="1676520"/>
            <a:ext cx="3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605960" y="2438280"/>
            <a:ext cx="869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igin 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227000" y="2438280"/>
            <a:ext cx="113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estination 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21480" y="3429000"/>
            <a:ext cx="162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b)  AFTN/CIDIN Environ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98640" y="38862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9864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561760" y="3767040"/>
            <a:ext cx="4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054240" y="38862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735360" y="3800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879720" y="3886200"/>
            <a:ext cx="57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543920" y="376092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952880" y="388620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77836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861160" y="3886200"/>
            <a:ext cx="74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631200" y="3772080"/>
            <a:ext cx="4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099200" y="3886200"/>
            <a:ext cx="66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75980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29264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356520" y="4343400"/>
            <a:ext cx="11556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22876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338200" y="409104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-M {Ad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434680" y="4325760"/>
            <a:ext cx="52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(AFT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425400" y="4267080"/>
            <a:ext cx="64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 </a:t>
            </a:r>
            <a:r>
              <a:rPr b="1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A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72120" y="4071960"/>
            <a:ext cx="102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-M {Ax, Ad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458760" y="40971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-M {Ad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087400" y="4097160"/>
            <a:ext cx="3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74920" y="4800600"/>
            <a:ext cx="869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igin 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344400" y="4789440"/>
            <a:ext cx="80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ntry 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16200" y="478296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xit 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196760" y="4782960"/>
            <a:ext cx="113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estination 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137040" y="5715000"/>
            <a:ext cx="451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32a). Handling of recipient‘s address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combined AFTN/CIDIN/AMHS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4" name=""/>
          <p:cNvGraphicFramePr/>
          <p:nvPr/>
        </p:nvGraphicFramePr>
        <p:xfrm>
          <a:off x="6445080" y="1639800"/>
          <a:ext cx="1733760" cy="12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5080" y="1639800"/>
                    <a:ext cx="173376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6" name=""/>
          <p:cNvSpPr/>
          <p:nvPr/>
        </p:nvSpPr>
        <p:spPr>
          <a:xfrm>
            <a:off x="4805280" y="1763640"/>
            <a:ext cx="990720" cy="48276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392040" y="1676520"/>
          <a:ext cx="1527120" cy="118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040" y="1676520"/>
                    <a:ext cx="152712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"/>
          <p:cNvSpPr/>
          <p:nvPr/>
        </p:nvSpPr>
        <p:spPr>
          <a:xfrm>
            <a:off x="2394000" y="1781280"/>
            <a:ext cx="990720" cy="501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6480" y="838080"/>
            <a:ext cx="197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)  AFTN/CIDIN/AMHS Environment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155600" y="1523880"/>
            <a:ext cx="18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986200" y="160020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817440" y="144792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162080" y="1606680"/>
            <a:ext cx="53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729800" y="1479600"/>
            <a:ext cx="4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181240" y="1606680"/>
            <a:ext cx="67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930400" y="1535040"/>
            <a:ext cx="18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292640" y="1600200"/>
            <a:ext cx="82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289480" y="1486080"/>
            <a:ext cx="180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372280" y="160164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966640" y="144792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438960" y="1600200"/>
            <a:ext cx="82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343640" y="1506600"/>
            <a:ext cx="18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486080" y="2057400"/>
            <a:ext cx="9079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467160" y="2057400"/>
            <a:ext cx="1044360" cy="1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92640" y="205740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784840" y="2021040"/>
            <a:ext cx="1174680" cy="1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40720" y="182880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-M {Ad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493440" y="179244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-M {Ax,Ad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990400" y="177336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-M {MF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000400" y="186840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d 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M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598120" y="1905120"/>
            <a:ext cx="61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 </a:t>
            </a:r>
            <a:r>
              <a:rPr b="1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97680" y="2514600"/>
            <a:ext cx="869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igin 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476080" y="2344680"/>
            <a:ext cx="80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ntry 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994640" y="2325600"/>
            <a:ext cx="7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/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049520" y="255420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cip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682760" y="17748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01560" y="3192480"/>
            <a:ext cx="80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 Narrow"/>
              </a:rPr>
              <a:t>Legen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28920" y="3411360"/>
            <a:ext cx="1756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      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     CIDIN exit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     AFTN destination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F    AMHS recipient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641680" y="4572000"/>
            <a:ext cx="479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32b).  Handling of recipient‘s address in a 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AFTN/CIDIN/AMHS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558720" y="3552840"/>
            <a:ext cx="1395360" cy="511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12920" y="3552840"/>
            <a:ext cx="1542960" cy="512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00240" y="2787480"/>
            <a:ext cx="1484280" cy="513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081240" y="4200480"/>
            <a:ext cx="1484280" cy="512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530680" y="1511280"/>
            <a:ext cx="1221120" cy="511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530680" y="2276640"/>
            <a:ext cx="1221120" cy="512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10480" y="1339920"/>
            <a:ext cx="1655640" cy="221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710480" y="1339920"/>
            <a:ext cx="1657440" cy="2214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702560" y="4116240"/>
            <a:ext cx="1744560" cy="679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702560" y="4116240"/>
            <a:ext cx="1746360" cy="681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957320" y="3084480"/>
            <a:ext cx="952560" cy="674640"/>
          </a:xfrm>
          <a:custGeom>
            <a:avLst/>
            <a:gdLst/>
            <a:ahLst/>
            <a:rect l="l" t="t" r="r" b="b"/>
            <a:pathLst>
              <a:path w="554" h="425">
                <a:moveTo>
                  <a:pt x="554" y="0"/>
                </a:moveTo>
                <a:lnTo>
                  <a:pt x="326" y="0"/>
                </a:lnTo>
                <a:lnTo>
                  <a:pt x="316" y="1"/>
                </a:lnTo>
                <a:lnTo>
                  <a:pt x="305" y="5"/>
                </a:lnTo>
                <a:lnTo>
                  <a:pt x="297" y="12"/>
                </a:lnTo>
                <a:lnTo>
                  <a:pt x="291" y="21"/>
                </a:lnTo>
                <a:lnTo>
                  <a:pt x="287" y="32"/>
                </a:lnTo>
                <a:lnTo>
                  <a:pt x="286" y="42"/>
                </a:lnTo>
                <a:lnTo>
                  <a:pt x="286" y="213"/>
                </a:lnTo>
                <a:lnTo>
                  <a:pt x="286" y="383"/>
                </a:lnTo>
                <a:lnTo>
                  <a:pt x="284" y="394"/>
                </a:lnTo>
                <a:lnTo>
                  <a:pt x="280" y="404"/>
                </a:lnTo>
                <a:lnTo>
                  <a:pt x="274" y="413"/>
                </a:lnTo>
                <a:lnTo>
                  <a:pt x="265" y="420"/>
                </a:lnTo>
                <a:lnTo>
                  <a:pt x="256" y="424"/>
                </a:lnTo>
                <a:lnTo>
                  <a:pt x="245" y="425"/>
                </a:lnTo>
                <a:lnTo>
                  <a:pt x="0" y="42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908440" y="3046320"/>
            <a:ext cx="61920" cy="60480"/>
          </a:xfrm>
          <a:custGeom>
            <a:avLst/>
            <a:gdLst/>
            <a:ahLst/>
            <a:rect l="l" t="t" r="r" b="b"/>
            <a:pathLst>
              <a:path w="36" h="38">
                <a:moveTo>
                  <a:pt x="0" y="0"/>
                </a:moveTo>
                <a:lnTo>
                  <a:pt x="36" y="19"/>
                </a:lnTo>
                <a:lnTo>
                  <a:pt x="0" y="3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954080" y="3936960"/>
            <a:ext cx="1074960" cy="519120"/>
          </a:xfrm>
          <a:custGeom>
            <a:avLst/>
            <a:gdLst/>
            <a:ahLst/>
            <a:rect l="l" t="t" r="r" b="b"/>
            <a:pathLst>
              <a:path w="625" h="327">
                <a:moveTo>
                  <a:pt x="0" y="0"/>
                </a:moveTo>
                <a:lnTo>
                  <a:pt x="288" y="0"/>
                </a:lnTo>
                <a:lnTo>
                  <a:pt x="298" y="1"/>
                </a:lnTo>
                <a:lnTo>
                  <a:pt x="308" y="5"/>
                </a:lnTo>
                <a:lnTo>
                  <a:pt x="317" y="12"/>
                </a:lnTo>
                <a:lnTo>
                  <a:pt x="324" y="22"/>
                </a:lnTo>
                <a:lnTo>
                  <a:pt x="328" y="32"/>
                </a:lnTo>
                <a:lnTo>
                  <a:pt x="329" y="42"/>
                </a:lnTo>
                <a:lnTo>
                  <a:pt x="329" y="163"/>
                </a:lnTo>
                <a:lnTo>
                  <a:pt x="329" y="284"/>
                </a:lnTo>
                <a:lnTo>
                  <a:pt x="330" y="295"/>
                </a:lnTo>
                <a:lnTo>
                  <a:pt x="334" y="306"/>
                </a:lnTo>
                <a:lnTo>
                  <a:pt x="341" y="314"/>
                </a:lnTo>
                <a:lnTo>
                  <a:pt x="349" y="321"/>
                </a:lnTo>
                <a:lnTo>
                  <a:pt x="359" y="326"/>
                </a:lnTo>
                <a:lnTo>
                  <a:pt x="369" y="327"/>
                </a:lnTo>
                <a:lnTo>
                  <a:pt x="625" y="32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019320" y="4425840"/>
            <a:ext cx="61920" cy="60480"/>
          </a:xfrm>
          <a:custGeom>
            <a:avLst/>
            <a:gdLst/>
            <a:ahLst/>
            <a:rect l="l" t="t" r="r" b="b"/>
            <a:pathLst>
              <a:path w="36" h="38">
                <a:moveTo>
                  <a:pt x="0" y="0"/>
                </a:moveTo>
                <a:lnTo>
                  <a:pt x="36" y="19"/>
                </a:lnTo>
                <a:lnTo>
                  <a:pt x="0" y="3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564080" y="4456080"/>
            <a:ext cx="3079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635960" y="4422600"/>
            <a:ext cx="66600" cy="66960"/>
          </a:xfrm>
          <a:custGeom>
            <a:avLst/>
            <a:gdLst/>
            <a:ahLst/>
            <a:rect l="l" t="t" r="r" b="b"/>
            <a:pathLst>
              <a:path w="39" h="42">
                <a:moveTo>
                  <a:pt x="0" y="0"/>
                </a:moveTo>
                <a:lnTo>
                  <a:pt x="39" y="21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83080" y="3170160"/>
            <a:ext cx="3171960" cy="212760"/>
          </a:xfrm>
          <a:custGeom>
            <a:avLst/>
            <a:gdLst/>
            <a:ahLst/>
            <a:rect l="l" t="t" r="r" b="b"/>
            <a:pathLst>
              <a:path w="1844" h="134">
                <a:moveTo>
                  <a:pt x="0" y="0"/>
                </a:moveTo>
                <a:lnTo>
                  <a:pt x="424" y="0"/>
                </a:lnTo>
                <a:lnTo>
                  <a:pt x="434" y="1"/>
                </a:lnTo>
                <a:lnTo>
                  <a:pt x="443" y="6"/>
                </a:lnTo>
                <a:lnTo>
                  <a:pt x="450" y="14"/>
                </a:lnTo>
                <a:lnTo>
                  <a:pt x="455" y="23"/>
                </a:lnTo>
                <a:lnTo>
                  <a:pt x="456" y="33"/>
                </a:lnTo>
                <a:lnTo>
                  <a:pt x="456" y="67"/>
                </a:lnTo>
                <a:lnTo>
                  <a:pt x="456" y="91"/>
                </a:lnTo>
                <a:lnTo>
                  <a:pt x="457" y="102"/>
                </a:lnTo>
                <a:lnTo>
                  <a:pt x="462" y="112"/>
                </a:lnTo>
                <a:lnTo>
                  <a:pt x="468" y="121"/>
                </a:lnTo>
                <a:lnTo>
                  <a:pt x="476" y="129"/>
                </a:lnTo>
                <a:lnTo>
                  <a:pt x="486" y="132"/>
                </a:lnTo>
                <a:lnTo>
                  <a:pt x="497" y="134"/>
                </a:lnTo>
                <a:lnTo>
                  <a:pt x="1844" y="13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648560" y="3352680"/>
            <a:ext cx="61920" cy="60480"/>
          </a:xfrm>
          <a:custGeom>
            <a:avLst/>
            <a:gdLst/>
            <a:ahLst/>
            <a:rect l="l" t="t" r="r" b="b"/>
            <a:pathLst>
              <a:path w="36" h="38">
                <a:moveTo>
                  <a:pt x="0" y="0"/>
                </a:moveTo>
                <a:lnTo>
                  <a:pt x="36" y="19"/>
                </a:lnTo>
                <a:lnTo>
                  <a:pt x="0" y="3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488280" y="2583000"/>
            <a:ext cx="1161720" cy="460080"/>
          </a:xfrm>
          <a:custGeom>
            <a:avLst/>
            <a:gdLst/>
            <a:ahLst/>
            <a:rect l="l" t="t" r="r" b="b"/>
            <a:pathLst>
              <a:path w="675" h="290">
                <a:moveTo>
                  <a:pt x="675" y="0"/>
                </a:moveTo>
                <a:lnTo>
                  <a:pt x="394" y="0"/>
                </a:lnTo>
                <a:lnTo>
                  <a:pt x="384" y="2"/>
                </a:lnTo>
                <a:lnTo>
                  <a:pt x="374" y="5"/>
                </a:lnTo>
                <a:lnTo>
                  <a:pt x="365" y="13"/>
                </a:lnTo>
                <a:lnTo>
                  <a:pt x="359" y="22"/>
                </a:lnTo>
                <a:lnTo>
                  <a:pt x="355" y="32"/>
                </a:lnTo>
                <a:lnTo>
                  <a:pt x="354" y="43"/>
                </a:lnTo>
                <a:lnTo>
                  <a:pt x="354" y="144"/>
                </a:lnTo>
                <a:lnTo>
                  <a:pt x="354" y="247"/>
                </a:lnTo>
                <a:lnTo>
                  <a:pt x="352" y="258"/>
                </a:lnTo>
                <a:lnTo>
                  <a:pt x="348" y="268"/>
                </a:lnTo>
                <a:lnTo>
                  <a:pt x="342" y="277"/>
                </a:lnTo>
                <a:lnTo>
                  <a:pt x="333" y="283"/>
                </a:lnTo>
                <a:lnTo>
                  <a:pt x="323" y="288"/>
                </a:lnTo>
                <a:lnTo>
                  <a:pt x="313" y="290"/>
                </a:lnTo>
                <a:lnTo>
                  <a:pt x="0" y="29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640640" y="2552760"/>
            <a:ext cx="61920" cy="60120"/>
          </a:xfrm>
          <a:custGeom>
            <a:avLst/>
            <a:gdLst/>
            <a:ahLst/>
            <a:rect l="l" t="t" r="r" b="b"/>
            <a:pathLst>
              <a:path w="36" h="38">
                <a:moveTo>
                  <a:pt x="0" y="0"/>
                </a:moveTo>
                <a:lnTo>
                  <a:pt x="36" y="19"/>
                </a:lnTo>
                <a:lnTo>
                  <a:pt x="0" y="3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483080" y="2914560"/>
            <a:ext cx="2005200" cy="128520"/>
          </a:xfrm>
          <a:custGeom>
            <a:avLst/>
            <a:gdLst/>
            <a:ahLst/>
            <a:rect l="l" t="t" r="r" b="b"/>
            <a:pathLst>
              <a:path w="1166" h="81">
                <a:moveTo>
                  <a:pt x="0" y="0"/>
                </a:moveTo>
                <a:lnTo>
                  <a:pt x="538" y="0"/>
                </a:lnTo>
                <a:lnTo>
                  <a:pt x="546" y="2"/>
                </a:lnTo>
                <a:lnTo>
                  <a:pt x="552" y="6"/>
                </a:lnTo>
                <a:lnTo>
                  <a:pt x="556" y="13"/>
                </a:lnTo>
                <a:lnTo>
                  <a:pt x="557" y="20"/>
                </a:lnTo>
                <a:lnTo>
                  <a:pt x="557" y="41"/>
                </a:lnTo>
                <a:lnTo>
                  <a:pt x="559" y="51"/>
                </a:lnTo>
                <a:lnTo>
                  <a:pt x="562" y="61"/>
                </a:lnTo>
                <a:lnTo>
                  <a:pt x="568" y="69"/>
                </a:lnTo>
                <a:lnTo>
                  <a:pt x="577" y="75"/>
                </a:lnTo>
                <a:lnTo>
                  <a:pt x="585" y="79"/>
                </a:lnTo>
                <a:lnTo>
                  <a:pt x="596" y="81"/>
                </a:lnTo>
                <a:lnTo>
                  <a:pt x="1166" y="8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750000" y="1851120"/>
            <a:ext cx="9018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640640" y="1817640"/>
            <a:ext cx="69840" cy="66600"/>
          </a:xfrm>
          <a:custGeom>
            <a:avLst/>
            <a:gdLst/>
            <a:ahLst/>
            <a:rect l="l" t="t" r="r" b="b"/>
            <a:pathLst>
              <a:path w="40" h="42">
                <a:moveTo>
                  <a:pt x="0" y="0"/>
                </a:moveTo>
                <a:lnTo>
                  <a:pt x="40" y="21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710480" y="2108160"/>
            <a:ext cx="217440" cy="849240"/>
          </a:xfrm>
          <a:custGeom>
            <a:avLst/>
            <a:gdLst/>
            <a:ahLst/>
            <a:rect l="l" t="t" r="r" b="b"/>
            <a:pathLst>
              <a:path w="127" h="535">
                <a:moveTo>
                  <a:pt x="127" y="535"/>
                </a:moveTo>
                <a:lnTo>
                  <a:pt x="111" y="534"/>
                </a:lnTo>
                <a:lnTo>
                  <a:pt x="97" y="531"/>
                </a:lnTo>
                <a:lnTo>
                  <a:pt x="84" y="523"/>
                </a:lnTo>
                <a:lnTo>
                  <a:pt x="72" y="513"/>
                </a:lnTo>
                <a:lnTo>
                  <a:pt x="63" y="502"/>
                </a:lnTo>
                <a:lnTo>
                  <a:pt x="63" y="300"/>
                </a:lnTo>
                <a:lnTo>
                  <a:pt x="53" y="289"/>
                </a:lnTo>
                <a:lnTo>
                  <a:pt x="42" y="279"/>
                </a:lnTo>
                <a:lnTo>
                  <a:pt x="28" y="273"/>
                </a:lnTo>
                <a:lnTo>
                  <a:pt x="14" y="268"/>
                </a:lnTo>
                <a:lnTo>
                  <a:pt x="0" y="267"/>
                </a:lnTo>
                <a:lnTo>
                  <a:pt x="14" y="266"/>
                </a:lnTo>
                <a:lnTo>
                  <a:pt x="28" y="261"/>
                </a:lnTo>
                <a:lnTo>
                  <a:pt x="42" y="255"/>
                </a:lnTo>
                <a:lnTo>
                  <a:pt x="53" y="245"/>
                </a:lnTo>
                <a:lnTo>
                  <a:pt x="63" y="234"/>
                </a:lnTo>
                <a:lnTo>
                  <a:pt x="63" y="33"/>
                </a:lnTo>
                <a:lnTo>
                  <a:pt x="72" y="20"/>
                </a:lnTo>
                <a:lnTo>
                  <a:pt x="84" y="11"/>
                </a:lnTo>
                <a:lnTo>
                  <a:pt x="97" y="3"/>
                </a:lnTo>
                <a:lnTo>
                  <a:pt x="111" y="0"/>
                </a:lnTo>
                <a:lnTo>
                  <a:pt x="127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974000" y="2166840"/>
            <a:ext cx="13320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980120" y="2171880"/>
            <a:ext cx="11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102520" y="2243160"/>
            <a:ext cx="7164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119440" y="2246400"/>
            <a:ext cx="35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043840" y="2309760"/>
            <a:ext cx="795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067600" y="2314440"/>
            <a:ext cx="2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972560" y="2598840"/>
            <a:ext cx="13320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978680" y="2603520"/>
            <a:ext cx="11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101080" y="2676600"/>
            <a:ext cx="7452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118000" y="2679840"/>
            <a:ext cx="3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886960" y="2106720"/>
            <a:ext cx="217440" cy="849240"/>
          </a:xfrm>
          <a:custGeom>
            <a:avLst/>
            <a:gdLst/>
            <a:ahLst/>
            <a:rect l="l" t="t" r="r" b="b"/>
            <a:pathLst>
              <a:path w="127" h="535">
                <a:moveTo>
                  <a:pt x="0" y="0"/>
                </a:moveTo>
                <a:lnTo>
                  <a:pt x="15" y="1"/>
                </a:lnTo>
                <a:lnTo>
                  <a:pt x="29" y="4"/>
                </a:lnTo>
                <a:lnTo>
                  <a:pt x="43" y="12"/>
                </a:lnTo>
                <a:lnTo>
                  <a:pt x="54" y="22"/>
                </a:lnTo>
                <a:lnTo>
                  <a:pt x="63" y="34"/>
                </a:lnTo>
                <a:lnTo>
                  <a:pt x="63" y="235"/>
                </a:lnTo>
                <a:lnTo>
                  <a:pt x="73" y="246"/>
                </a:lnTo>
                <a:lnTo>
                  <a:pt x="85" y="256"/>
                </a:lnTo>
                <a:lnTo>
                  <a:pt x="98" y="262"/>
                </a:lnTo>
                <a:lnTo>
                  <a:pt x="112" y="267"/>
                </a:lnTo>
                <a:lnTo>
                  <a:pt x="127" y="267"/>
                </a:lnTo>
                <a:lnTo>
                  <a:pt x="112" y="269"/>
                </a:lnTo>
                <a:lnTo>
                  <a:pt x="98" y="274"/>
                </a:lnTo>
                <a:lnTo>
                  <a:pt x="85" y="280"/>
                </a:lnTo>
                <a:lnTo>
                  <a:pt x="73" y="290"/>
                </a:lnTo>
                <a:lnTo>
                  <a:pt x="63" y="301"/>
                </a:lnTo>
                <a:lnTo>
                  <a:pt x="63" y="503"/>
                </a:lnTo>
                <a:lnTo>
                  <a:pt x="54" y="514"/>
                </a:lnTo>
                <a:lnTo>
                  <a:pt x="43" y="524"/>
                </a:lnTo>
                <a:lnTo>
                  <a:pt x="29" y="532"/>
                </a:lnTo>
                <a:lnTo>
                  <a:pt x="15" y="535"/>
                </a:lnTo>
                <a:lnTo>
                  <a:pt x="0" y="53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145360" y="2108160"/>
            <a:ext cx="87480" cy="338040"/>
          </a:xfrm>
          <a:custGeom>
            <a:avLst/>
            <a:gdLst/>
            <a:ahLst/>
            <a:rect l="l" t="t" r="r" b="b"/>
            <a:pathLst>
              <a:path w="51" h="213">
                <a:moveTo>
                  <a:pt x="51" y="213"/>
                </a:moveTo>
                <a:lnTo>
                  <a:pt x="44" y="213"/>
                </a:lnTo>
                <a:lnTo>
                  <a:pt x="36" y="211"/>
                </a:lnTo>
                <a:lnTo>
                  <a:pt x="30" y="206"/>
                </a:lnTo>
                <a:lnTo>
                  <a:pt x="26" y="201"/>
                </a:lnTo>
                <a:lnTo>
                  <a:pt x="26" y="120"/>
                </a:lnTo>
                <a:lnTo>
                  <a:pt x="19" y="112"/>
                </a:lnTo>
                <a:lnTo>
                  <a:pt x="9" y="108"/>
                </a:lnTo>
                <a:lnTo>
                  <a:pt x="0" y="106"/>
                </a:lnTo>
                <a:lnTo>
                  <a:pt x="9" y="105"/>
                </a:lnTo>
                <a:lnTo>
                  <a:pt x="19" y="100"/>
                </a:lnTo>
                <a:lnTo>
                  <a:pt x="26" y="93"/>
                </a:lnTo>
                <a:lnTo>
                  <a:pt x="26" y="13"/>
                </a:lnTo>
                <a:lnTo>
                  <a:pt x="30" y="6"/>
                </a:lnTo>
                <a:lnTo>
                  <a:pt x="36" y="2"/>
                </a:lnTo>
                <a:lnTo>
                  <a:pt x="44" y="0"/>
                </a:lnTo>
                <a:lnTo>
                  <a:pt x="51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237520" y="2155680"/>
            <a:ext cx="1634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266680" y="2162160"/>
            <a:ext cx="125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8358120" y="2216160"/>
            <a:ext cx="10152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8375760" y="2220840"/>
            <a:ext cx="70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8427960" y="2155680"/>
            <a:ext cx="2444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460720" y="2162160"/>
            <a:ext cx="21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..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8632800" y="2216160"/>
            <a:ext cx="9828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650440" y="2220840"/>
            <a:ext cx="676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8756640" y="2114640"/>
            <a:ext cx="87480" cy="339480"/>
          </a:xfrm>
          <a:custGeom>
            <a:avLst/>
            <a:gdLst/>
            <a:ahLst/>
            <a:rect l="l" t="t" r="r" b="b"/>
            <a:pathLst>
              <a:path w="50" h="214">
                <a:moveTo>
                  <a:pt x="0" y="214"/>
                </a:moveTo>
                <a:lnTo>
                  <a:pt x="7" y="214"/>
                </a:lnTo>
                <a:lnTo>
                  <a:pt x="14" y="211"/>
                </a:lnTo>
                <a:lnTo>
                  <a:pt x="20" y="207"/>
                </a:lnTo>
                <a:lnTo>
                  <a:pt x="25" y="201"/>
                </a:lnTo>
                <a:lnTo>
                  <a:pt x="25" y="121"/>
                </a:lnTo>
                <a:lnTo>
                  <a:pt x="31" y="113"/>
                </a:lnTo>
                <a:lnTo>
                  <a:pt x="40" y="109"/>
                </a:lnTo>
                <a:lnTo>
                  <a:pt x="50" y="107"/>
                </a:lnTo>
                <a:lnTo>
                  <a:pt x="40" y="105"/>
                </a:lnTo>
                <a:lnTo>
                  <a:pt x="31" y="101"/>
                </a:lnTo>
                <a:lnTo>
                  <a:pt x="25" y="93"/>
                </a:lnTo>
                <a:lnTo>
                  <a:pt x="25" y="14"/>
                </a:lnTo>
                <a:lnTo>
                  <a:pt x="20" y="7"/>
                </a:lnTo>
                <a:lnTo>
                  <a:pt x="14" y="3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145360" y="2532240"/>
            <a:ext cx="87480" cy="341280"/>
          </a:xfrm>
          <a:custGeom>
            <a:avLst/>
            <a:gdLst/>
            <a:ahLst/>
            <a:rect l="l" t="t" r="r" b="b"/>
            <a:pathLst>
              <a:path w="51" h="215">
                <a:moveTo>
                  <a:pt x="51" y="215"/>
                </a:moveTo>
                <a:lnTo>
                  <a:pt x="44" y="214"/>
                </a:lnTo>
                <a:lnTo>
                  <a:pt x="36" y="211"/>
                </a:lnTo>
                <a:lnTo>
                  <a:pt x="30" y="207"/>
                </a:lnTo>
                <a:lnTo>
                  <a:pt x="26" y="201"/>
                </a:lnTo>
                <a:lnTo>
                  <a:pt x="26" y="120"/>
                </a:lnTo>
                <a:lnTo>
                  <a:pt x="19" y="113"/>
                </a:lnTo>
                <a:lnTo>
                  <a:pt x="9" y="108"/>
                </a:lnTo>
                <a:lnTo>
                  <a:pt x="0" y="107"/>
                </a:lnTo>
                <a:lnTo>
                  <a:pt x="9" y="106"/>
                </a:lnTo>
                <a:lnTo>
                  <a:pt x="19" y="101"/>
                </a:lnTo>
                <a:lnTo>
                  <a:pt x="26" y="94"/>
                </a:lnTo>
                <a:lnTo>
                  <a:pt x="26" y="13"/>
                </a:lnTo>
                <a:lnTo>
                  <a:pt x="30" y="8"/>
                </a:lnTo>
                <a:lnTo>
                  <a:pt x="36" y="3"/>
                </a:lnTo>
                <a:lnTo>
                  <a:pt x="44" y="0"/>
                </a:lnTo>
                <a:lnTo>
                  <a:pt x="51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237520" y="2581200"/>
            <a:ext cx="1634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266680" y="2587680"/>
            <a:ext cx="125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8358120" y="2641680"/>
            <a:ext cx="101520" cy="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375040" y="2646360"/>
            <a:ext cx="70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427960" y="2581200"/>
            <a:ext cx="2444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8460720" y="2587680"/>
            <a:ext cx="21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..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8632800" y="2641680"/>
            <a:ext cx="55440" cy="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634960" y="2646360"/>
            <a:ext cx="4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n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756640" y="2532240"/>
            <a:ext cx="87480" cy="341280"/>
          </a:xfrm>
          <a:custGeom>
            <a:avLst/>
            <a:gdLst/>
            <a:ahLst/>
            <a:rect l="l" t="t" r="r" b="b"/>
            <a:pathLst>
              <a:path w="50" h="215">
                <a:moveTo>
                  <a:pt x="0" y="215"/>
                </a:moveTo>
                <a:lnTo>
                  <a:pt x="7" y="214"/>
                </a:lnTo>
                <a:lnTo>
                  <a:pt x="14" y="211"/>
                </a:lnTo>
                <a:lnTo>
                  <a:pt x="20" y="207"/>
                </a:lnTo>
                <a:lnTo>
                  <a:pt x="25" y="201"/>
                </a:lnTo>
                <a:lnTo>
                  <a:pt x="25" y="120"/>
                </a:lnTo>
                <a:lnTo>
                  <a:pt x="31" y="113"/>
                </a:lnTo>
                <a:lnTo>
                  <a:pt x="40" y="108"/>
                </a:lnTo>
                <a:lnTo>
                  <a:pt x="50" y="107"/>
                </a:lnTo>
                <a:lnTo>
                  <a:pt x="40" y="106"/>
                </a:lnTo>
                <a:lnTo>
                  <a:pt x="31" y="101"/>
                </a:lnTo>
                <a:lnTo>
                  <a:pt x="25" y="94"/>
                </a:lnTo>
                <a:lnTo>
                  <a:pt x="25" y="13"/>
                </a:lnTo>
                <a:lnTo>
                  <a:pt x="20" y="8"/>
                </a:lnTo>
                <a:lnTo>
                  <a:pt x="14" y="3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996160" y="1582560"/>
            <a:ext cx="4204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013080" y="1587600"/>
            <a:ext cx="38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958000" y="1727280"/>
            <a:ext cx="546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001200" y="1731960"/>
            <a:ext cx="45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Parame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432480" y="1314360"/>
            <a:ext cx="393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74240" y="131904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ID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280200" y="2063880"/>
            <a:ext cx="6969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331680" y="2068560"/>
            <a:ext cx="59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CIDIN (AFT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996160" y="2309760"/>
            <a:ext cx="4172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010200" y="231444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846760" y="2598840"/>
            <a:ext cx="70956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875920" y="2603520"/>
            <a:ext cx="12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001920" y="2603520"/>
            <a:ext cx="53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842240" y="4535640"/>
            <a:ext cx="13176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47640" y="4540320"/>
            <a:ext cx="11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70760" y="4611600"/>
            <a:ext cx="730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988760" y="4614840"/>
            <a:ext cx="35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008920" y="4535640"/>
            <a:ext cx="21600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034840" y="4540320"/>
            <a:ext cx="78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8096760" y="4540320"/>
            <a:ext cx="11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8221680" y="4611600"/>
            <a:ext cx="763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239320" y="4614840"/>
            <a:ext cx="3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8047080" y="3255840"/>
            <a:ext cx="9475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8081640" y="3260880"/>
            <a:ext cx="87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Originator Indic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432640" y="3817800"/>
            <a:ext cx="8668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8470440" y="3822840"/>
            <a:ext cx="309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CIDIN (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8776440" y="3822840"/>
            <a:ext cx="174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n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8995320" y="382284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AFT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8499600" y="873000"/>
            <a:ext cx="6969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550360" y="878040"/>
            <a:ext cx="59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CIDIN (AFT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053040" y="2703600"/>
            <a:ext cx="2016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246720" y="2670120"/>
            <a:ext cx="68400" cy="66600"/>
          </a:xfrm>
          <a:custGeom>
            <a:avLst/>
            <a:gdLst/>
            <a:ahLst/>
            <a:rect l="l" t="t" r="r" b="b"/>
            <a:pathLst>
              <a:path w="40" h="42">
                <a:moveTo>
                  <a:pt x="0" y="0"/>
                </a:moveTo>
                <a:lnTo>
                  <a:pt x="40" y="21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919680" y="2506680"/>
            <a:ext cx="649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967200" y="2511360"/>
            <a:ext cx="55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MHS/AFT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268800" y="2822400"/>
            <a:ext cx="9968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307320" y="2827440"/>
            <a:ext cx="918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Address Conver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425760" y="3110040"/>
            <a:ext cx="725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471840" y="3114720"/>
            <a:ext cx="6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MF              A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611520" y="3213000"/>
            <a:ext cx="2016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803760" y="3179880"/>
            <a:ext cx="69840" cy="66600"/>
          </a:xfrm>
          <a:custGeom>
            <a:avLst/>
            <a:gdLst/>
            <a:ahLst/>
            <a:rect l="l" t="t" r="r" b="b"/>
            <a:pathLst>
              <a:path w="40" h="42">
                <a:moveTo>
                  <a:pt x="0" y="0"/>
                </a:moveTo>
                <a:lnTo>
                  <a:pt x="40" y="21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693960" y="3919680"/>
            <a:ext cx="83196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730680" y="3924360"/>
            <a:ext cx="30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MH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027680" y="3924360"/>
            <a:ext cx="18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N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255200" y="392436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AFT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147840" y="430380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286080" y="4352760"/>
            <a:ext cx="101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dress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417840" y="4505400"/>
            <a:ext cx="18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606480" y="4505400"/>
            <a:ext cx="2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643200" y="4505400"/>
            <a:ext cx="20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832200" y="4505400"/>
            <a:ext cx="16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027680" y="4505400"/>
            <a:ext cx="2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036680" y="4505400"/>
            <a:ext cx="16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530360" y="2398680"/>
            <a:ext cx="90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657080" y="2452680"/>
            <a:ext cx="65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Use of 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809360" y="263520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430280" y="3219480"/>
            <a:ext cx="533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542600" y="326880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7200" y="3618000"/>
            <a:ext cx="15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79240" y="3666960"/>
            <a:ext cx="53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iginat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167120" y="3666960"/>
            <a:ext cx="18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F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50360" y="3666960"/>
            <a:ext cx="41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73840" y="3819600"/>
            <a:ext cx="47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cip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095480" y="3819600"/>
            <a:ext cx="21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F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308960" y="3819600"/>
            <a:ext cx="41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775160" y="3819600"/>
            <a:ext cx="18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(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117440" y="4608360"/>
            <a:ext cx="12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440" y="4662360"/>
            <a:ext cx="24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530720" y="4662360"/>
            <a:ext cx="4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555920" y="4662360"/>
            <a:ext cx="36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us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973520" y="4662360"/>
            <a:ext cx="3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987200" y="4662360"/>
            <a:ext cx="23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387800" y="4844880"/>
            <a:ext cx="4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408680" y="4844880"/>
            <a:ext cx="24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712520" y="484488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-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22360" y="5403960"/>
            <a:ext cx="15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73200" y="5457960"/>
            <a:ext cx="44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Leg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0400" y="5635800"/>
            <a:ext cx="852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d    Destin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552680" y="5635800"/>
            <a:ext cx="39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28560" y="578808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838080" y="5788080"/>
            <a:ext cx="39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50280" y="578808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ntry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28560" y="594036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826200" y="5940360"/>
            <a:ext cx="8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922320" y="5940360"/>
            <a:ext cx="90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exit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328920" y="5784840"/>
            <a:ext cx="49626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371760" y="5886360"/>
            <a:ext cx="499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33.  Translation from MF-addresses into CIDIN addres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6751800" y="2367000"/>
            <a:ext cx="969480" cy="65160"/>
            <a:chOff x="6751800" y="2367000"/>
            <a:chExt cx="969480" cy="65160"/>
          </a:xfrm>
        </p:grpSpPr>
        <p:sp>
          <p:nvSpPr>
            <p:cNvPr id="1063" name=""/>
            <p:cNvSpPr/>
            <p:nvPr/>
          </p:nvSpPr>
          <p:spPr>
            <a:xfrm flipV="1">
              <a:off x="6751800" y="2398680"/>
              <a:ext cx="9039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652520" y="2367000"/>
              <a:ext cx="68760" cy="65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41"/>
                  </a:moveTo>
                  <a:lnTo>
                    <a:pt x="40" y="20"/>
                  </a:lnTo>
                  <a:lnTo>
                    <a:pt x="0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3581280" y="4551480"/>
            <a:ext cx="247320" cy="64800"/>
            <a:chOff x="3581280" y="4551480"/>
            <a:chExt cx="247320" cy="64800"/>
          </a:xfrm>
        </p:grpSpPr>
        <p:sp>
          <p:nvSpPr>
            <p:cNvPr id="1066" name=""/>
            <p:cNvSpPr/>
            <p:nvPr/>
          </p:nvSpPr>
          <p:spPr>
            <a:xfrm>
              <a:off x="3581280" y="4583160"/>
              <a:ext cx="18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760200" y="4551480"/>
              <a:ext cx="68400" cy="6480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41"/>
                  </a:moveTo>
                  <a:lnTo>
                    <a:pt x="40" y="20"/>
                  </a:lnTo>
                  <a:lnTo>
                    <a:pt x="0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7745400" y="428616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850160" y="4335480"/>
            <a:ext cx="133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667400" y="2627280"/>
            <a:ext cx="48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803840" y="267660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d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043760" y="2152800"/>
            <a:ext cx="5443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72280" y="220176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210440" y="2201760"/>
            <a:ext cx="133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379280" y="22017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824960" y="1731960"/>
            <a:ext cx="34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929360" y="1781280"/>
            <a:ext cx="133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079960" y="2779560"/>
            <a:ext cx="165240" cy="127080"/>
          </a:xfrm>
          <a:custGeom>
            <a:avLst/>
            <a:gdLst/>
            <a:ahLst/>
            <a:rect l="l" t="t" r="r" b="b"/>
            <a:pathLst>
              <a:path w="96" h="80">
                <a:moveTo>
                  <a:pt x="0" y="80"/>
                </a:moveTo>
                <a:lnTo>
                  <a:pt x="19" y="78"/>
                </a:lnTo>
                <a:lnTo>
                  <a:pt x="37" y="74"/>
                </a:lnTo>
                <a:lnTo>
                  <a:pt x="54" y="66"/>
                </a:lnTo>
                <a:lnTo>
                  <a:pt x="68" y="57"/>
                </a:lnTo>
                <a:lnTo>
                  <a:pt x="80" y="45"/>
                </a:lnTo>
                <a:lnTo>
                  <a:pt x="88" y="31"/>
                </a:lnTo>
                <a:lnTo>
                  <a:pt x="94" y="16"/>
                </a:lnTo>
                <a:lnTo>
                  <a:pt x="96" y="8"/>
                </a:lnTo>
                <a:lnTo>
                  <a:pt x="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5246640" y="2579760"/>
            <a:ext cx="275760" cy="199800"/>
            <a:chOff x="5246640" y="2579760"/>
            <a:chExt cx="275760" cy="199800"/>
          </a:xfrm>
        </p:grpSpPr>
        <p:sp>
          <p:nvSpPr>
            <p:cNvPr id="1080" name=""/>
            <p:cNvSpPr/>
            <p:nvPr/>
          </p:nvSpPr>
          <p:spPr>
            <a:xfrm>
              <a:off x="5246640" y="2629080"/>
              <a:ext cx="210240" cy="150480"/>
            </a:xfrm>
            <a:custGeom>
              <a:avLst/>
              <a:gdLst/>
              <a:ahLst/>
              <a:rect l="l" t="t" r="r" b="b"/>
              <a:pathLst>
                <a:path w="122" h="95">
                  <a:moveTo>
                    <a:pt x="122" y="0"/>
                  </a:moveTo>
                  <a:lnTo>
                    <a:pt x="122" y="0"/>
                  </a:lnTo>
                  <a:lnTo>
                    <a:pt x="120" y="0"/>
                  </a:lnTo>
                  <a:lnTo>
                    <a:pt x="95" y="4"/>
                  </a:lnTo>
                  <a:lnTo>
                    <a:pt x="72" y="11"/>
                  </a:lnTo>
                  <a:lnTo>
                    <a:pt x="52" y="21"/>
                  </a:lnTo>
                  <a:lnTo>
                    <a:pt x="34" y="32"/>
                  </a:lnTo>
                  <a:lnTo>
                    <a:pt x="20" y="46"/>
                  </a:lnTo>
                  <a:lnTo>
                    <a:pt x="14" y="53"/>
                  </a:lnTo>
                  <a:lnTo>
                    <a:pt x="9" y="61"/>
                  </a:lnTo>
                  <a:lnTo>
                    <a:pt x="5" y="69"/>
                  </a:lnTo>
                  <a:lnTo>
                    <a:pt x="2" y="77"/>
                  </a:lnTo>
                  <a:lnTo>
                    <a:pt x="1" y="86"/>
                  </a:lnTo>
                  <a:lnTo>
                    <a:pt x="0" y="9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453280" y="2579760"/>
              <a:ext cx="69120" cy="10008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0" y="63"/>
                  </a:moveTo>
                  <a:lnTo>
                    <a:pt x="40" y="31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6108840" y="2209680"/>
            <a:ext cx="907920" cy="2171880"/>
          </a:xfrm>
          <a:custGeom>
            <a:avLst/>
            <a:gdLst>
              <a:gd name="textAreaLeft" fmla="*/ 0 w 907920"/>
              <a:gd name="textAreaRight" fmla="*/ 327960 w 907920"/>
              <a:gd name="textAreaTop" fmla="*/ 56520 h 2171880"/>
              <a:gd name="textAreaBottom" fmla="*/ 2115360 h 217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37"/>
                </a:lnTo>
                <a:cubicBezTo>
                  <a:pt x="10800" y="10137"/>
                  <a:pt x="16200" y="11037"/>
                  <a:pt x="21600" y="11037"/>
                </a:cubicBezTo>
                <a:cubicBezTo>
                  <a:pt x="16200" y="11037"/>
                  <a:pt x="10800" y="11937"/>
                  <a:pt x="10800" y="1283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108840" y="2514600"/>
            <a:ext cx="618840" cy="2209680"/>
          </a:xfrm>
          <a:custGeom>
            <a:avLst/>
            <a:gdLst>
              <a:gd name="textAreaLeft" fmla="*/ 0 w 618840"/>
              <a:gd name="textAreaRight" fmla="*/ 223560 w 6188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59"/>
                </a:lnTo>
                <a:cubicBezTo>
                  <a:pt x="10800" y="10459"/>
                  <a:pt x="16200" y="11359"/>
                  <a:pt x="21600" y="11359"/>
                </a:cubicBezTo>
                <a:cubicBezTo>
                  <a:pt x="16200" y="11359"/>
                  <a:pt x="10800" y="12259"/>
                  <a:pt x="10800" y="1315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650960" y="1752480"/>
            <a:ext cx="17337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733400" y="3962520"/>
            <a:ext cx="17337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182000" y="2971800"/>
            <a:ext cx="22287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0320" y="1905120"/>
            <a:ext cx="15685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ddress 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F           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540320" y="4114800"/>
            <a:ext cx="15685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ddress 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e, A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 Narrow"/>
              </a:rPr>
              <a:t>x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            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384720" y="220968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384720" y="251460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467160" y="441972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467160" y="472428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79680" y="2090880"/>
            <a:ext cx="83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Use of 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(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3160" y="4376880"/>
            <a:ext cx="110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Non-use of 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(Non-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107440" y="12952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IDIN (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562560" y="1811160"/>
            <a:ext cx="68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igin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Indic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651840" y="25909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d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794760" y="4097160"/>
            <a:ext cx="3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798720" y="447840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664520" y="1447920"/>
            <a:ext cx="9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FTN/AM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145120" y="24130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036880" y="3581280"/>
            <a:ext cx="125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CIDIN (Non-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759200" y="3733920"/>
            <a:ext cx="119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Non-AFTN/AM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289480" y="462924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930800" y="217188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52880" y="5291280"/>
            <a:ext cx="146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Leg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     Destination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e     CIDIN entry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     CIDIN exit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054240" y="5562720"/>
            <a:ext cx="493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34. Translation from CIDIN addresses into MF-addr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751800" y="4859280"/>
            <a:ext cx="199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738840" y="3676680"/>
            <a:ext cx="49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023240" y="3327480"/>
            <a:ext cx="1825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859040" y="1862280"/>
            <a:ext cx="1387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Originator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x{Ad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...Ad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 Narrow"/>
              </a:rPr>
              <a:t>k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144520" y="4157640"/>
            <a:ext cx="76032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x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...Ax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472880" y="3205080"/>
            <a:ext cx="172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Originator MF-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Recipient MF-Address(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51000" y="6037200"/>
            <a:ext cx="557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3.  Functional view of the AFTN/AMH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51814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51055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7162920" y="40384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3733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2286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4876920"/>
            <a:ext cx="1828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ces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4800600"/>
            <a:ext cx="1828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ces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 sub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62920" y="19051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o ATN directory system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2895480"/>
            <a:ext cx="25146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tocol for MTA to MTA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P1 over upper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01000" y="38862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 transpor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1828800"/>
            <a:ext cx="4952880" cy="3809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4114800"/>
            <a:ext cx="28195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819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1911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FTN procedure handler 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(AFTN compon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32767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TA (ATN Compon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182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205740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mandatory in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extended ATS message serv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39625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28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1828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2133720"/>
            <a:ext cx="29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essage transfer and control unit (A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1523880"/>
            <a:ext cx="5410080" cy="4343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304920"/>
            <a:ext cx="10666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990720"/>
            <a:ext cx="1371600" cy="228600"/>
          </a:xfrm>
          <a:prstGeom prst="flowChartInputOutpu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1219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7360" y="457200"/>
            <a:ext cx="77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ntrol 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7924680" y="1905120"/>
            <a:ext cx="74304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60240" y="1676520"/>
            <a:ext cx="1816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AFTN-Priority-Indic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60240" y="2590920"/>
            <a:ext cx="1816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CIDIN-Message-Pri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49160" y="4575240"/>
            <a:ext cx="1816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CIDIN-Message Pri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044960" y="1371600"/>
            <a:ext cx="1650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044960" y="2362320"/>
            <a:ext cx="16509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099200" y="1600200"/>
            <a:ext cx="1816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AFTN-Priority-Indic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044960" y="1650960"/>
            <a:ext cx="1650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030560" y="2616120"/>
            <a:ext cx="165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044960" y="4343400"/>
            <a:ext cx="1650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044960" y="4622760"/>
            <a:ext cx="165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686640" y="2590920"/>
            <a:ext cx="107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700680" y="279396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240760" y="2590920"/>
            <a:ext cx="125244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8245440" y="2809800"/>
            <a:ext cx="123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8255160" y="3352680"/>
            <a:ext cx="125244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8269200" y="3581280"/>
            <a:ext cx="123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476440" y="182880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724120" y="1828800"/>
            <a:ext cx="907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632040" y="2743200"/>
            <a:ext cx="41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476440" y="274320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724120" y="1828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714840" y="182880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695920" y="27432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6273720" y="1828800"/>
            <a:ext cx="4953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769080" y="182880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675400" y="1819440"/>
            <a:ext cx="82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7264080" y="1905120"/>
            <a:ext cx="577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089920" y="1905120"/>
            <a:ext cx="825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182000" y="4572000"/>
            <a:ext cx="1815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69080" y="5562720"/>
            <a:ext cx="107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783480" y="576576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8323200" y="5562720"/>
            <a:ext cx="125244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8337600" y="5791320"/>
            <a:ext cx="12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7346520" y="4876920"/>
            <a:ext cx="577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8172360" y="4876920"/>
            <a:ext cx="825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556000" y="4749840"/>
            <a:ext cx="149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695920" y="4762440"/>
            <a:ext cx="148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300560" y="1403280"/>
            <a:ext cx="12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Packet 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419000" y="167652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Message-Pri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87044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426560" y="2351160"/>
            <a:ext cx="97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User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215600" y="2617920"/>
            <a:ext cx="133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AFTN-Priority-Indic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304520" y="4373640"/>
            <a:ext cx="12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Packet 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335480" y="4648320"/>
            <a:ext cx="101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Message Pri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402680" y="4572000"/>
            <a:ext cx="133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CIDIN-Message-Pri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367080" y="5850000"/>
            <a:ext cx="20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090920" y="555480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042680" y="5715000"/>
            <a:ext cx="54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Pri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6438600" y="1752480"/>
            <a:ext cx="82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035480" y="259092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980760" y="2752560"/>
            <a:ext cx="54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Pri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8224200" y="2590920"/>
            <a:ext cx="12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S-Message-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8380440" y="3352680"/>
            <a:ext cx="97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IPM-Header-Ex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52080" y="350532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Preced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598240" y="2057400"/>
            <a:ext cx="2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8763480" y="3048120"/>
            <a:ext cx="2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16160" y="3259080"/>
            <a:ext cx="118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1)  Basic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2)  Extended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462880" y="5562720"/>
            <a:ext cx="97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IPM-Header-Ex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8493120" y="576252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Preced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889360" y="6095880"/>
            <a:ext cx="434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35.  Priority mappings CIDIN to AM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12920" y="1219320"/>
            <a:ext cx="9080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219480" y="9144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108840" y="939960"/>
            <a:ext cx="0" cy="5105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12920" y="4114800"/>
            <a:ext cx="9080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109520" y="87156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CIDIN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095000" y="91440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IDIN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813720" y="87156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DIN/AMHS / 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613480" y="457200"/>
            <a:ext cx="107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798880" y="496800"/>
            <a:ext cx="74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-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rame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19040" y="12524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48840" y="4148280"/>
            <a:ext cx="79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Non-AF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8216640" y="2771640"/>
            <a:ext cx="126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ATS-Message-Pri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660240" y="114300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8667720" y="990720"/>
            <a:ext cx="9907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77800" y="5343480"/>
            <a:ext cx="908280" cy="5335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641680" y="533520"/>
            <a:ext cx="1155600" cy="60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641680" y="1371600"/>
            <a:ext cx="1155600" cy="60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558880" y="5334120"/>
            <a:ext cx="1238400" cy="6094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375080" y="1295280"/>
            <a:ext cx="577800" cy="3733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816200" y="2676600"/>
            <a:ext cx="57780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898640" y="5191200"/>
            <a:ext cx="49536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12920" y="5419800"/>
            <a:ext cx="990360" cy="4590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724120" y="609480"/>
            <a:ext cx="990720" cy="4590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724120" y="1447920"/>
            <a:ext cx="990720" cy="4590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tend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365800" y="1905120"/>
            <a:ext cx="1403280" cy="259056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264440" y="1295280"/>
            <a:ext cx="5778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502480" y="1066680"/>
            <a:ext cx="1073160" cy="4590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502480" y="1981080"/>
            <a:ext cx="107316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IDI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8502480" y="2819520"/>
            <a:ext cx="1073160" cy="4590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PMET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502480" y="3657600"/>
            <a:ext cx="1073160" cy="64152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IDIN OPMSG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530680" y="3657600"/>
            <a:ext cx="1073160" cy="641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DIN OPMS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530680" y="2870280"/>
            <a:ext cx="1073160" cy="45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M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530680" y="1981080"/>
            <a:ext cx="1073160" cy="459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41680" y="2565360"/>
            <a:ext cx="1073160" cy="459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641680" y="3276720"/>
            <a:ext cx="1073160" cy="45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M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641680" y="4038480"/>
            <a:ext cx="1073160" cy="641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DIN OPMS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292640" y="315432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182000" y="315432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D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816200" y="3581280"/>
            <a:ext cx="74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D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816200" y="541008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724120" y="2286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MHS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879720" y="762120"/>
            <a:ext cx="107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95360" y="1219320"/>
            <a:ext cx="1073160" cy="459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2920" y="4200480"/>
            <a:ext cx="990360" cy="61128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IDIN OPMSG</a:t>
            </a:r>
            <a:br>
              <a:rPr sz="12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2920" y="3286080"/>
            <a:ext cx="1073160" cy="4590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PMET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2920" y="2514600"/>
            <a:ext cx="1073160" cy="459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IDI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394000" y="5029200"/>
            <a:ext cx="20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FTN/AMHS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403280" y="571500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320840" y="4495680"/>
            <a:ext cx="90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907920" y="1828800"/>
            <a:ext cx="90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228760" y="2133720"/>
            <a:ext cx="247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therCIDIN/AMHS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77800" y="68580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FTN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256400" y="3710160"/>
            <a:ext cx="40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200560" y="1371600"/>
            <a:ext cx="189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IDIN/AMHS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924680" y="396252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A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9080640" y="152388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8089920" y="2209680"/>
            <a:ext cx="66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924680" y="318456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255160" y="609480"/>
            <a:ext cx="165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FTN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90792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486080" y="365760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1403280" y="4495680"/>
            <a:ext cx="247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403280" y="56386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394000" y="56386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14840" y="56386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3962160" y="4800600"/>
            <a:ext cx="577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714840" y="4266720"/>
            <a:ext cx="7430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3714840" y="3429000"/>
            <a:ext cx="660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3714840" y="2666880"/>
            <a:ext cx="660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797280" y="17524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714840" y="914400"/>
            <a:ext cx="330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311560" y="4267080"/>
            <a:ext cx="330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2311560" y="2742840"/>
            <a:ext cx="3301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394000" y="342900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4952520" y="22860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4952520" y="32004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4952520" y="403848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603840" y="2209680"/>
            <a:ext cx="33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603840" y="3124080"/>
            <a:ext cx="66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603840" y="3962520"/>
            <a:ext cx="66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908064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842240" y="3124080"/>
            <a:ext cx="41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842240" y="3962520"/>
            <a:ext cx="41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842240" y="2209680"/>
            <a:ext cx="41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851520" y="2209680"/>
            <a:ext cx="4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558880" y="2438280"/>
            <a:ext cx="1238400" cy="2362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952880" y="5105520"/>
            <a:ext cx="4127760" cy="120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Legend: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mponent visible to CIDIN/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mponent not visible to CIDIN/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MF, Ax, Ae, Ad user addresses in their native environ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Type of  user 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118120" y="5410080"/>
            <a:ext cx="3301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108400" y="5657760"/>
            <a:ext cx="33048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558880" y="6507000"/>
            <a:ext cx="734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36.   System components visible to the CIDIN / AMHS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049280" y="49053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049280" y="9428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754480" y="14763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724200" y="2719440"/>
            <a:ext cx="180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856560" y="28224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957920" y="2898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094960" y="2771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884760" y="30765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491120" y="32288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912240" y="20098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957200" y="1908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855840" y="18572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490400" y="52862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79720" y="1447920"/>
            <a:ext cx="82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094240" y="18572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88600" y="367812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714840" y="2719440"/>
            <a:ext cx="19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955040" y="373680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8092080" y="36100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964320" y="40672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884040" y="23907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487880" y="412740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486080" y="2752560"/>
            <a:ext cx="412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9079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650960" y="56386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1650960" y="4429080"/>
            <a:ext cx="247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1568520" y="3581280"/>
            <a:ext cx="247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044960" y="1752480"/>
            <a:ext cx="4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044960" y="1143000"/>
            <a:ext cx="4953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934320" y="220968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8255160" y="2209680"/>
            <a:ext cx="24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908064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8255160" y="3124080"/>
            <a:ext cx="24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255160" y="3962520"/>
            <a:ext cx="24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952880" y="441972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769080" y="441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641680" y="5410080"/>
            <a:ext cx="10731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394000" y="35812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834280" y="548640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044600" y="178920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976320" y="1854360"/>
            <a:ext cx="10605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as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TS Messa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017720" y="3263760"/>
            <a:ext cx="1060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xten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S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544840" y="1536840"/>
            <a:ext cx="8398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Text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329520" y="1562040"/>
            <a:ext cx="8380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Text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471920" y="1917720"/>
            <a:ext cx="94932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457880" y="2924280"/>
            <a:ext cx="9493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per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464000" y="3914640"/>
            <a:ext cx="94932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PM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095560" y="4311720"/>
            <a:ext cx="8380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Text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019320" y="4317840"/>
            <a:ext cx="8398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Bin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945560" y="1889280"/>
            <a:ext cx="10587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939080" y="2854440"/>
            <a:ext cx="10587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perat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956720" y="3787920"/>
            <a:ext cx="10587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PM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902200" y="4708440"/>
            <a:ext cx="8398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Text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907320" y="4708440"/>
            <a:ext cx="8380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Bin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2503440" y="3943440"/>
            <a:ext cx="44784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957400" y="3936960"/>
            <a:ext cx="52416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2028960" y="2063520"/>
            <a:ext cx="241452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2077560" y="2063880"/>
            <a:ext cx="2379960" cy="147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2077920" y="3111480"/>
            <a:ext cx="2394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084400" y="3543480"/>
            <a:ext cx="2387520" cy="60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127400" y="1533600"/>
            <a:ext cx="1641600" cy="3238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18320" y="187632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407200" y="215280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418000" y="3124080"/>
            <a:ext cx="251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418000" y="4133880"/>
            <a:ext cx="253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831000" y="4029120"/>
            <a:ext cx="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6305400" y="4257720"/>
            <a:ext cx="52560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831000" y="4257720"/>
            <a:ext cx="54756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74440" y="1144440"/>
            <a:ext cx="154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Level of AMHS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363200" y="1170000"/>
            <a:ext cx="15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CIDIN / AMHS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702680" y="1589040"/>
            <a:ext cx="48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730760" y="2617920"/>
            <a:ext cx="48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730760" y="3621240"/>
            <a:ext cx="48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948440" y="119556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CIDIN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57480" y="5398920"/>
            <a:ext cx="475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37. Interoperability between CIDIN application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AMHS service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2950920" y="1866960"/>
            <a:ext cx="111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2957400" y="3625920"/>
            <a:ext cx="7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2" name=""/>
          <p:cNvGraphicFramePr/>
          <p:nvPr/>
        </p:nvGraphicFramePr>
        <p:xfrm>
          <a:off x="2565360" y="4191120"/>
          <a:ext cx="1297080" cy="10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5360" y="4191120"/>
                    <a:ext cx="129708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4" name=""/>
          <p:cNvGraphicFramePr/>
          <p:nvPr/>
        </p:nvGraphicFramePr>
        <p:xfrm>
          <a:off x="2305080" y="609480"/>
          <a:ext cx="1733400" cy="12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5080" y="609480"/>
                    <a:ext cx="173340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"/>
          <p:cNvSpPr/>
          <p:nvPr/>
        </p:nvSpPr>
        <p:spPr>
          <a:xfrm>
            <a:off x="5695920" y="2438280"/>
            <a:ext cx="990720" cy="457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779560" y="1746360"/>
            <a:ext cx="82548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sg.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907920" y="1828800"/>
            <a:ext cx="82548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(AFT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733400" y="2362320"/>
            <a:ext cx="990720" cy="457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809880" y="2400480"/>
            <a:ext cx="990720" cy="457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f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724120" y="3276720"/>
            <a:ext cx="990720" cy="457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99f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FTN/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705200" y="3276720"/>
            <a:ext cx="990720" cy="4572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f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FTN/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3" name=""/>
          <p:cNvGraphicFramePr/>
          <p:nvPr/>
        </p:nvGraphicFramePr>
        <p:xfrm>
          <a:off x="7400880" y="2362320"/>
          <a:ext cx="1297080" cy="10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00880" y="2362320"/>
                    <a:ext cx="129708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5" name=""/>
          <p:cNvSpPr/>
          <p:nvPr/>
        </p:nvSpPr>
        <p:spPr>
          <a:xfrm>
            <a:off x="318456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6" name=""/>
          <p:cNvCxnSpPr>
            <a:stCxn id="1347" idx="2"/>
          </p:cNvCxnSpPr>
          <p:nvPr/>
        </p:nvCxnSpPr>
        <p:spPr>
          <a:xfrm flipH="1" rot="16200000">
            <a:off x="3201120" y="2117520"/>
            <a:ext cx="1378800" cy="13978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</a:ln>
        </p:spPr>
      </p:cxnSp>
      <p:sp>
        <p:nvSpPr>
          <p:cNvPr id="1357" name=""/>
          <p:cNvSpPr/>
          <p:nvPr/>
        </p:nvSpPr>
        <p:spPr>
          <a:xfrm>
            <a:off x="3467160" y="259092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3219480" y="2743200"/>
            <a:ext cx="11548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219480" y="37339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3847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 flipV="1">
            <a:off x="3384720" y="2284920"/>
            <a:ext cx="1641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769080" y="259092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695920" y="3505320"/>
            <a:ext cx="9079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6026040" y="2894760"/>
            <a:ext cx="11556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7182000" y="2819520"/>
            <a:ext cx="82440" cy="380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7264440" y="2590920"/>
            <a:ext cx="494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788000" y="2590920"/>
            <a:ext cx="9079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23840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 flipV="1">
            <a:off x="1238400" y="2361600"/>
            <a:ext cx="3290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403280" y="266688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840040" y="30492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MHS 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159200" y="26496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825920" y="2387520"/>
            <a:ext cx="7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/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332160" y="230508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747880" y="243828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038920" y="231948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102440" y="2344680"/>
            <a:ext cx="45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48200" y="3124080"/>
            <a:ext cx="80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AFTN 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747880" y="29718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821040" y="34290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22800" y="3886200"/>
            <a:ext cx="45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276960" y="3487680"/>
            <a:ext cx="45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759400" y="4952880"/>
            <a:ext cx="84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 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971800" y="5486400"/>
            <a:ext cx="54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38.   Interoperability requirements for the CIDIN/AMHS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724120" y="266688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907080" y="2430360"/>
            <a:ext cx="7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/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965200" y="2487600"/>
            <a:ext cx="528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 Narrow"/>
              </a:rPr>
              <a:t>(AFT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1733400" y="1457280"/>
            <a:ext cx="23115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568520" y="1676520"/>
            <a:ext cx="22287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816200" y="1066680"/>
            <a:ext cx="181584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035800" y="1066680"/>
            <a:ext cx="126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essage Priority (M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816200" y="1752480"/>
            <a:ext cx="181584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xit Address (A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816200" y="2209680"/>
            <a:ext cx="1815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898640" y="3276720"/>
            <a:ext cx="181620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ntry Address (A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863720" y="4151160"/>
            <a:ext cx="181620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Priority Indic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857240" y="4462560"/>
            <a:ext cx="181620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Filing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63720" y="4761000"/>
            <a:ext cx="181620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iginator Indic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863720" y="5065560"/>
            <a:ext cx="181620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ptional Heading Infor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863720" y="5370480"/>
            <a:ext cx="181620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273720" y="1066680"/>
            <a:ext cx="18162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essage Priority (M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273720" y="1981080"/>
            <a:ext cx="18162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xit Address (A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273720" y="2286000"/>
            <a:ext cx="181620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Destination Address (A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273720" y="3276720"/>
            <a:ext cx="181620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ntry Address (A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191280" y="4343400"/>
            <a:ext cx="181620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ser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733400" y="2362320"/>
            <a:ext cx="181620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Destination Address (A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927600" y="4151160"/>
            <a:ext cx="164880" cy="1600200"/>
          </a:xfrm>
          <a:custGeom>
            <a:avLst/>
            <a:gdLst>
              <a:gd name="textAreaLeft" fmla="*/ 0 w 164880"/>
              <a:gd name="textAreaRight" fmla="*/ 59400 w 164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2829"/>
                </a:lnTo>
                <a:cubicBezTo>
                  <a:pt x="10800" y="3729"/>
                  <a:pt x="16200" y="4629"/>
                  <a:pt x="21600" y="4629"/>
                </a:cubicBezTo>
                <a:cubicBezTo>
                  <a:pt x="16200" y="4629"/>
                  <a:pt x="10800" y="5529"/>
                  <a:pt x="10800" y="642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210200" y="4495680"/>
            <a:ext cx="1815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210200" y="2286000"/>
            <a:ext cx="1815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210200" y="3429000"/>
            <a:ext cx="1815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210200" y="1219320"/>
            <a:ext cx="1815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118120" y="8380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72400" y="2390760"/>
            <a:ext cx="23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041560" y="2982960"/>
            <a:ext cx="135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CIDIN Transport 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031120" y="3886200"/>
            <a:ext cx="124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CIDIN User Data Fi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448880" y="5087880"/>
            <a:ext cx="1431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Component of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FTN message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777440" y="4419720"/>
            <a:ext cx="23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860240" y="2362320"/>
            <a:ext cx="23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890640" y="1430280"/>
            <a:ext cx="638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 (</a:t>
            </a: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&lt;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1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 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911160" y="241452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d 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030400" y="762120"/>
            <a:ext cx="12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CIDIN Packet 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350960" y="457200"/>
            <a:ext cx="145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Component / 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731600" y="380880"/>
            <a:ext cx="188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CIDIN Messag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273720" y="380880"/>
            <a:ext cx="18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T-Message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971800" y="6172200"/>
            <a:ext cx="555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39.  Relationship betweeen CIDIN message component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T-Message paramaters for CIDIN/AFTN-AMHS conver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424160" y="1562040"/>
            <a:ext cx="30312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327320" y="1866960"/>
            <a:ext cx="488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320840" y="252720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846000" y="2162160"/>
            <a:ext cx="8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d (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Narrow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1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403280" y="2286000"/>
            <a:ext cx="42696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402360" y="4191120"/>
            <a:ext cx="23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405600" y="4478400"/>
            <a:ext cx="23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405600" y="4751280"/>
            <a:ext cx="23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420000" y="5075280"/>
            <a:ext cx="23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413520" y="5373720"/>
            <a:ext cx="23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"/>
          <p:cNvSpPr/>
          <p:nvPr/>
        </p:nvSpPr>
        <p:spPr>
          <a:xfrm>
            <a:off x="495360" y="1066680"/>
            <a:ext cx="743040" cy="2895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816200" y="2514600"/>
            <a:ext cx="990360" cy="550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Generation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of  MT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054240" y="2514600"/>
            <a:ext cx="990720" cy="550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of  RN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613480" y="2514600"/>
            <a:ext cx="990360" cy="550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Initial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Processing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375080" y="1371600"/>
            <a:ext cx="990720" cy="550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of  IPM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292640" y="3429000"/>
            <a:ext cx="990720" cy="5223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Generation of  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346880" y="838080"/>
            <a:ext cx="763560" cy="40068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50000">
                <a:srgbClr val="ffffff"/>
              </a:gs>
              <a:gs pos="100000">
                <a:srgbClr val="99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FTN SV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UNKNOWN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613480" y="3429000"/>
            <a:ext cx="990360" cy="3985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Initial Processing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613480" y="4648320"/>
            <a:ext cx="990360" cy="40068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50000">
                <a:srgbClr val="ffffff"/>
              </a:gs>
              <a:gs pos="100000">
                <a:srgbClr val="99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Ini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Process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769080" y="5486400"/>
            <a:ext cx="1052640" cy="3373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50000">
                <a:srgbClr val="ffffff"/>
              </a:gs>
              <a:gs pos="100000">
                <a:srgbClr val="99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Generation of CIDIN/AFTN 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8502480" y="685800"/>
            <a:ext cx="660600" cy="555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Compo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n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624640" y="1371600"/>
            <a:ext cx="990360" cy="459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Use of CIDIN/AFTN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054240" y="1371600"/>
            <a:ext cx="990720" cy="550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of  MT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191280" y="4343400"/>
            <a:ext cx="82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Disca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686640" y="4495680"/>
            <a:ext cx="825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FTN SV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EQ RPT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6603840" y="495288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448240" y="4419720"/>
            <a:ext cx="49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5861160" y="4343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238400" y="106668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(IP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238400" y="320040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(ND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17520" y="220032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(IPN/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20840" y="2743200"/>
            <a:ext cx="412560" cy="152280"/>
          </a:xfrm>
          <a:prstGeom prst="leftArrow">
            <a:avLst>
              <a:gd name="adj1" fmla="val 50000"/>
              <a:gd name="adj2" fmla="val 677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320840" y="1600200"/>
            <a:ext cx="412560" cy="152280"/>
          </a:xfrm>
          <a:prstGeom prst="leftArrow">
            <a:avLst>
              <a:gd name="adj1" fmla="val 50000"/>
              <a:gd name="adj2" fmla="val 677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320840" y="3809880"/>
            <a:ext cx="412560" cy="152640"/>
          </a:xfrm>
          <a:prstGeom prst="leftArrow">
            <a:avLst>
              <a:gd name="adj1" fmla="val 50000"/>
              <a:gd name="adj2" fmla="val 675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8007480" y="3048120"/>
            <a:ext cx="412560" cy="152280"/>
          </a:xfrm>
          <a:prstGeom prst="leftArrow">
            <a:avLst>
              <a:gd name="adj1" fmla="val 50000"/>
              <a:gd name="adj2" fmla="val 677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8121600" y="990720"/>
            <a:ext cx="330120" cy="152280"/>
          </a:xfrm>
          <a:prstGeom prst="rightArrow">
            <a:avLst>
              <a:gd name="adj1" fmla="val 50000"/>
              <a:gd name="adj2" fmla="val 541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2806560" y="281952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>
            <a:off x="4044960" y="281952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 flipV="1">
            <a:off x="5344920" y="2809440"/>
            <a:ext cx="26820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568520" y="380880"/>
            <a:ext cx="6700680" cy="6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054240" y="15228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IDIN (AFTN) 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H="1">
            <a:off x="5365800" y="167652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H="1">
            <a:off x="4044600" y="167652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586116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6603840" y="160020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586116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478800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6603840" y="281952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6603840" y="380988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5283000" y="380988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8089920" y="5791320"/>
            <a:ext cx="412560" cy="152280"/>
          </a:xfrm>
          <a:prstGeom prst="rightArrow">
            <a:avLst>
              <a:gd name="adj1" fmla="val 50000"/>
              <a:gd name="adj2" fmla="val 677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108840" y="5105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108840" y="5867280"/>
            <a:ext cx="66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10884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3565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6603840" y="1828800"/>
            <a:ext cx="33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93432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6356160" y="32004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35652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356520" y="22860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61960" y="4200480"/>
            <a:ext cx="2714760" cy="1473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65240" y="5943600"/>
            <a:ext cx="693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40. Organisation of SARPs clauses for the CIDIN (AFTN)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to AMHS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943600" y="4343400"/>
            <a:ext cx="82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6190920" y="4343400"/>
            <a:ext cx="82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6025680" y="449568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603840" y="3429000"/>
            <a:ext cx="82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FTN SVC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“UNKNOWN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603840" y="2514600"/>
            <a:ext cx="82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FTN SVC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“ACK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69343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8007480" y="2666880"/>
            <a:ext cx="74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T-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Ind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120720" y="32130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375080" y="2286000"/>
            <a:ext cx="57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120720" y="228456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613480" y="2286000"/>
            <a:ext cx="57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686640" y="1066680"/>
            <a:ext cx="660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 Narrow"/>
              </a:rPr>
              <a:t>CUD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FTN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63565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356520" y="990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8007480" y="5486400"/>
            <a:ext cx="74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T-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Request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544360" y="91296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292640" y="2514600"/>
            <a:ext cx="1073160" cy="5857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Use o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CIDIN/ AFT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ck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24880" y="1676520"/>
            <a:ext cx="718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0" y="2743200"/>
            <a:ext cx="412920" cy="152280"/>
          </a:xfrm>
          <a:prstGeom prst="leftArrow">
            <a:avLst>
              <a:gd name="adj1" fmla="val 50000"/>
              <a:gd name="adj2" fmla="val 677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2680" y="2157480"/>
            <a:ext cx="54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Messag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8027640" y="68580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T-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Req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346880" y="1371600"/>
            <a:ext cx="660600" cy="3657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451640" y="2362320"/>
            <a:ext cx="50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Identifi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c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of CUD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Cont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9245520" y="3048120"/>
            <a:ext cx="412920" cy="152280"/>
          </a:xfrm>
          <a:prstGeom prst="leftRightArrow">
            <a:avLst>
              <a:gd name="adj1" fmla="val 50000"/>
              <a:gd name="adj2" fmla="val 53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9188640" y="2590920"/>
            <a:ext cx="60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419600" y="1746360"/>
            <a:ext cx="5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395120" y="3689280"/>
            <a:ext cx="6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cknow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led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of recei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CIDIN 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8034480" y="3809880"/>
            <a:ext cx="453960" cy="152640"/>
          </a:xfrm>
          <a:prstGeom prst="rightArrow">
            <a:avLst>
              <a:gd name="adj1" fmla="val 50000"/>
              <a:gd name="adj2" fmla="val 74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8004960" y="35053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T-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36480" y="4268880"/>
            <a:ext cx="261468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Legen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P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ontrol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TE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essage Tranfer Envel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SVC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Service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UDF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IDIN User Data Fi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1)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IPM  with AFTN SVC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1916280" y="1541520"/>
            <a:ext cx="99036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062240" y="1541520"/>
            <a:ext cx="9907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796000" y="1541520"/>
            <a:ext cx="99072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2028240" y="1617840"/>
            <a:ext cx="67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ser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1" name=""/>
          <p:cNvGraphicFramePr/>
          <p:nvPr/>
        </p:nvGraphicFramePr>
        <p:xfrm>
          <a:off x="466560" y="2438280"/>
          <a:ext cx="1297080" cy="10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438280"/>
                    <a:ext cx="129708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3" name=""/>
          <p:cNvSpPr/>
          <p:nvPr/>
        </p:nvSpPr>
        <p:spPr>
          <a:xfrm>
            <a:off x="3243240" y="2436840"/>
            <a:ext cx="825480" cy="6094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141880" y="2430360"/>
            <a:ext cx="825480" cy="6098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99"/>
              </a:gs>
            </a:gsLst>
            <a:lin ang="13500000"/>
          </a:gra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777080" y="2455920"/>
            <a:ext cx="908280" cy="6094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cc99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791480" y="3592440"/>
            <a:ext cx="949320" cy="6098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cc99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744560" y="3402000"/>
            <a:ext cx="82548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8" name=""/>
          <p:cNvGraphicFramePr/>
          <p:nvPr/>
        </p:nvGraphicFramePr>
        <p:xfrm>
          <a:off x="7446960" y="1389240"/>
          <a:ext cx="1409760" cy="98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46960" y="1389240"/>
                    <a:ext cx="140976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0" name=""/>
          <p:cNvSpPr/>
          <p:nvPr/>
        </p:nvSpPr>
        <p:spPr>
          <a:xfrm>
            <a:off x="2576520" y="4437000"/>
            <a:ext cx="825480" cy="5335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402000" y="3675240"/>
            <a:ext cx="907920" cy="5331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379520" y="2792520"/>
            <a:ext cx="18572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411280" y="20750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916280" y="2798640"/>
            <a:ext cx="0" cy="61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989440" y="3998880"/>
            <a:ext cx="41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062240" y="260820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062240" y="279864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557600" y="2075040"/>
            <a:ext cx="0" cy="72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961240" y="2697120"/>
            <a:ext cx="18158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0" name=""/>
          <p:cNvCxnSpPr/>
          <p:nvPr/>
        </p:nvCxnSpPr>
        <p:spPr>
          <a:xfrm flipV="1">
            <a:off x="6035760" y="1617120"/>
            <a:ext cx="1242000" cy="1067400"/>
          </a:xfrm>
          <a:prstGeom prst="curvedConnector5">
            <a:avLst>
              <a:gd name="adj1" fmla="val 44737"/>
              <a:gd name="adj2" fmla="val 50000"/>
              <a:gd name="adj3" fmla="val 44737"/>
            </a:avLst>
          </a:prstGeom>
          <a:ln w="9360">
            <a:solidFill>
              <a:srgbClr val="000000"/>
            </a:solidFill>
            <a:prstDash val="dashDot"/>
            <a:miter/>
            <a:tailEnd len="lg" type="stealth" w="med"/>
          </a:ln>
        </p:spPr>
      </p:cxnSp>
      <p:cxnSp>
        <p:nvCxnSpPr>
          <p:cNvPr id="1541" name=""/>
          <p:cNvCxnSpPr/>
          <p:nvPr/>
        </p:nvCxnSpPr>
        <p:spPr>
          <a:xfrm>
            <a:off x="6035400" y="2684160"/>
            <a:ext cx="1197360" cy="1175400"/>
          </a:xfrm>
          <a:prstGeom prst="curvedConnector5">
            <a:avLst>
              <a:gd name="adj1" fmla="val 43097"/>
              <a:gd name="adj2" fmla="val 50000"/>
              <a:gd name="adj3" fmla="val 43097"/>
            </a:avLst>
          </a:prstGeom>
          <a:ln w="9360">
            <a:solidFill>
              <a:srgbClr val="000000"/>
            </a:solidFill>
            <a:prstDash val="dashDot"/>
            <a:miter/>
            <a:tailEnd len="lg" type="stealth" w="med"/>
          </a:ln>
        </p:spPr>
      </p:cxnSp>
      <p:sp>
        <p:nvSpPr>
          <p:cNvPr id="1542" name=""/>
          <p:cNvSpPr/>
          <p:nvPr/>
        </p:nvSpPr>
        <p:spPr>
          <a:xfrm>
            <a:off x="6291360" y="2075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249960" y="2658960"/>
            <a:ext cx="8244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1379520" y="2607840"/>
            <a:ext cx="1857240" cy="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376360" y="2544840"/>
            <a:ext cx="8280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881360" y="2773440"/>
            <a:ext cx="8244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4475160" y="2532240"/>
            <a:ext cx="165240" cy="30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2948040" y="3941640"/>
            <a:ext cx="8244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834560" y="932040"/>
            <a:ext cx="4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128480" y="9144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293520" y="91296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1090440" y="105552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038240" y="1008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255760" y="1065240"/>
            <a:ext cx="119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567240" y="1008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608360" y="1046160"/>
            <a:ext cx="70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548320" y="103680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413320" y="1008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869160" y="1027080"/>
            <a:ext cx="10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251000" y="3675240"/>
            <a:ext cx="29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1582200" y="1693800"/>
            <a:ext cx="29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176720" y="1541520"/>
            <a:ext cx="75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837040" y="1617840"/>
            <a:ext cx="98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/Re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8587440" y="144792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MHS 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7733520" y="2608200"/>
            <a:ext cx="94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ther CIDIN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812000" y="3675240"/>
            <a:ext cx="79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FTN/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60240" y="3200400"/>
            <a:ext cx="91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 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764720" y="3376440"/>
            <a:ext cx="75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pet. Re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482120" y="3354480"/>
            <a:ext cx="29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392720" y="3827520"/>
            <a:ext cx="3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693800" y="3675240"/>
            <a:ext cx="62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585800" y="3598920"/>
            <a:ext cx="82548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97040" y="3675240"/>
            <a:ext cx="62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609640" y="4513320"/>
            <a:ext cx="78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OM 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359160" y="3751200"/>
            <a:ext cx="95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nknown Add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Indic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206240" y="2363760"/>
            <a:ext cx="29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484440" y="2468520"/>
            <a:ext cx="247680" cy="2286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486240" y="2475000"/>
            <a:ext cx="25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438880" y="2792520"/>
            <a:ext cx="247680" cy="2286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498840" y="2779560"/>
            <a:ext cx="247680" cy="2286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438880" y="2494080"/>
            <a:ext cx="247680" cy="2286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475160" y="2760840"/>
            <a:ext cx="80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459760" y="1617840"/>
            <a:ext cx="296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11400" y="5087880"/>
            <a:ext cx="1279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Legen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:    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Encapsu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D:    Decapsual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T:    Trans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R:    Message repet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548160" y="5410080"/>
            <a:ext cx="362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41.  Flow of AFTN servic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and related AMHS Messages/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989440" y="277956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189240" y="3124080"/>
            <a:ext cx="97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Entry/Ex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906640" y="169380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175360" y="3124080"/>
            <a:ext cx="7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/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638520" y="105552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"/>
          <p:cNvSpPr/>
          <p:nvPr/>
        </p:nvSpPr>
        <p:spPr>
          <a:xfrm>
            <a:off x="550800" y="1892160"/>
            <a:ext cx="619200" cy="295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930400" y="1066680"/>
            <a:ext cx="990720" cy="6112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rocessing</a:t>
            </a:r>
            <a:br>
              <a:rPr sz="10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852560" y="4400640"/>
            <a:ext cx="412920" cy="152280"/>
          </a:xfrm>
          <a:prstGeom prst="leftArrow">
            <a:avLst>
              <a:gd name="adj1" fmla="val 50000"/>
              <a:gd name="adj2" fmla="val 677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568520" y="380880"/>
            <a:ext cx="6527880" cy="12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3054240" y="15228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 (AFTN) 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264360" y="3781440"/>
            <a:ext cx="3219480" cy="1168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712880" y="5533920"/>
            <a:ext cx="693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42.  Organisation of SARPs clauses for the AMHS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to CIDIN (AFTN) 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1600" y="2798640"/>
            <a:ext cx="56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781280" y="1079640"/>
            <a:ext cx="592200" cy="29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dent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f 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8353440" y="1095480"/>
            <a:ext cx="706320" cy="21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82440" y="3314880"/>
            <a:ext cx="330480" cy="164880"/>
          </a:xfrm>
          <a:prstGeom prst="leftRightArrow">
            <a:avLst>
              <a:gd name="adj1" fmla="val 50000"/>
              <a:gd name="adj2" fmla="val 39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238400" y="2438280"/>
            <a:ext cx="350640" cy="146160"/>
          </a:xfrm>
          <a:prstGeom prst="rightArrow">
            <a:avLst>
              <a:gd name="adj1" fmla="val 50000"/>
              <a:gd name="adj2" fmla="val 599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181880" y="1981080"/>
            <a:ext cx="64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1898640" y="83808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2228760" y="83808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373480" y="1365120"/>
            <a:ext cx="5569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414160" y="99072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(IP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378160" y="210024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414160" y="175248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(IPN/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373480" y="292896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461680" y="25732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(ND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368440" y="36860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439360" y="3444840"/>
            <a:ext cx="42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Prob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838160" y="4572000"/>
            <a:ext cx="50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DR/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706040" y="57168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995840" y="57168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3405240" y="80928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192840" y="57168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921040" y="1852560"/>
            <a:ext cx="990720" cy="5806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rocessing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914560" y="2652840"/>
            <a:ext cx="990720" cy="5806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rocessing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925720" y="3438360"/>
            <a:ext cx="990720" cy="611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rocessing 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robe</a:t>
            </a:r>
            <a:br>
              <a:rPr sz="10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930400" y="4272120"/>
            <a:ext cx="990720" cy="580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Generation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Reports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V="1">
            <a:off x="3132000" y="1719360"/>
            <a:ext cx="504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V="1">
            <a:off x="3668760" y="1709280"/>
            <a:ext cx="468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820240" y="167652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738960" y="167652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3389400" y="2495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074400" y="243828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389400" y="405756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583800" y="403848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DR or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H="1">
            <a:off x="3916440" y="457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397400" y="444492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DR or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210200" y="1066680"/>
            <a:ext cx="1056960" cy="6001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IDIN/AF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230720" y="1881360"/>
            <a:ext cx="1057320" cy="5997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IDIN/AF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ACK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V="1">
            <a:off x="4700520" y="2514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353840" y="248436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214880" y="2671920"/>
            <a:ext cx="1058760" cy="5997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IDIN/AF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UNKNOWN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895560" y="2952720"/>
            <a:ext cx="29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008600" y="294804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3994200" y="3529080"/>
            <a:ext cx="46836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4505040" y="341136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nly if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(unrecognized -OR-nam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526000" y="1076400"/>
            <a:ext cx="1057320" cy="6001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Us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V="1">
            <a:off x="3916440" y="1380960"/>
            <a:ext cx="30960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257800" y="136692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535720" y="1881360"/>
            <a:ext cx="1058760" cy="5997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Us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RN Fiel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905280" y="211464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278320" y="21430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541840" y="2676600"/>
            <a:ext cx="1057320" cy="6001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Use of 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nd Cont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arame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267160" y="2952720"/>
            <a:ext cx="2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846840" y="1095480"/>
            <a:ext cx="1057320" cy="6001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Us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M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arame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842160" y="1871640"/>
            <a:ext cx="1057320" cy="6001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Us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M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arame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578640" y="137160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588000" y="2147760"/>
            <a:ext cx="2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981920" y="2157480"/>
            <a:ext cx="236520" cy="104760"/>
          </a:xfrm>
          <a:prstGeom prst="rightArrow">
            <a:avLst>
              <a:gd name="adj1" fmla="val 50000"/>
              <a:gd name="adj2" fmla="val 564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885800" y="1835280"/>
            <a:ext cx="5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T-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Req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8365680" y="1835280"/>
            <a:ext cx="6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9158400" y="2166840"/>
            <a:ext cx="236520" cy="104760"/>
          </a:xfrm>
          <a:prstGeom prst="rightArrow">
            <a:avLst>
              <a:gd name="adj1" fmla="val 50000"/>
              <a:gd name="adj2" fmla="val 564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9099720" y="1735200"/>
            <a:ext cx="64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988400" y="2925720"/>
            <a:ext cx="237960" cy="104760"/>
          </a:xfrm>
          <a:prstGeom prst="rightArrow">
            <a:avLst>
              <a:gd name="adj1" fmla="val 50000"/>
              <a:gd name="adj2" fmla="val 567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8002440" y="1332000"/>
            <a:ext cx="236520" cy="104760"/>
          </a:xfrm>
          <a:prstGeom prst="rightArrow">
            <a:avLst>
              <a:gd name="adj1" fmla="val 50000"/>
              <a:gd name="adj2" fmla="val 564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4732200" y="81576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6060960" y="82188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7043760" y="84096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H="1" flipV="1">
            <a:off x="7559640" y="920880"/>
            <a:ext cx="792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492800" y="55872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884920" y="5652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802920" y="565200"/>
            <a:ext cx="51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351560" y="69840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811520" y="147960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583680" y="3906720"/>
            <a:ext cx="23965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Legen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P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ontrol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RTE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Report Transfer Envel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TE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essage Transfer Envel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"/>
          <p:cNvSpPr/>
          <p:nvPr/>
        </p:nvSpPr>
        <p:spPr>
          <a:xfrm>
            <a:off x="2655720" y="1384200"/>
            <a:ext cx="990720" cy="520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 flipV="1">
            <a:off x="2255760" y="901440"/>
            <a:ext cx="5692680" cy="21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406520" y="4124160"/>
            <a:ext cx="3219480" cy="1168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300320" y="5826240"/>
            <a:ext cx="693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43.   Organisation of SARPs clauses for the CIDIN (OPMET)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to AMHS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090440" y="1371600"/>
            <a:ext cx="870120" cy="2324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8250120" y="1419120"/>
            <a:ext cx="774720" cy="21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935520" y="1384200"/>
            <a:ext cx="1057320" cy="511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249880" y="1393920"/>
            <a:ext cx="1058760" cy="5047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Use of CIDIN/OP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Message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9086040" y="1487520"/>
            <a:ext cx="64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929280" y="1393920"/>
            <a:ext cx="809640" cy="21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093200" y="50976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IDIN (OPMET) 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862000" y="146700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f M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128120" y="146700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f I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6287760" y="165096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4946760" y="16257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H="1">
            <a:off x="3632040" y="163188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V="1">
            <a:off x="5772240" y="114912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064960" y="1092240"/>
            <a:ext cx="53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(IP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7800" y="1587600"/>
            <a:ext cx="406440" cy="158760"/>
          </a:xfrm>
          <a:prstGeom prst="leftArrow">
            <a:avLst>
              <a:gd name="adj1" fmla="val 50000"/>
              <a:gd name="adj2" fmla="val 640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24160" y="116208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327640" y="11430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343920" y="1092240"/>
            <a:ext cx="53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 Narrow"/>
              </a:rPr>
              <a:t>CUD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OP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7291440" y="11494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143840" y="94608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012080" y="182880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870600" y="280044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cknowled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f recei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IDIN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835760" y="1955880"/>
            <a:ext cx="289080" cy="133200"/>
          </a:xfrm>
          <a:prstGeom prst="leftArrow">
            <a:avLst>
              <a:gd name="adj1" fmla="val 50000"/>
              <a:gd name="adj2" fmla="val 542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679880" y="1593720"/>
            <a:ext cx="5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T-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d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827840" y="3098880"/>
            <a:ext cx="351000" cy="145800"/>
          </a:xfrm>
          <a:prstGeom prst="rightArrow">
            <a:avLst>
              <a:gd name="adj1" fmla="val 50000"/>
              <a:gd name="adj2" fmla="val 601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678440" y="27241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T-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8319600" y="2216160"/>
            <a:ext cx="6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IDI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9169560" y="1968480"/>
            <a:ext cx="288720" cy="133200"/>
          </a:xfrm>
          <a:prstGeom prst="leftArrow">
            <a:avLst>
              <a:gd name="adj1" fmla="val 50000"/>
              <a:gd name="adj2" fmla="val 541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9156600" y="3143160"/>
            <a:ext cx="351000" cy="146160"/>
          </a:xfrm>
          <a:prstGeom prst="rightArrow">
            <a:avLst>
              <a:gd name="adj1" fmla="val 50000"/>
              <a:gd name="adj2" fmla="val 600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8845920" y="2692440"/>
            <a:ext cx="111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cknowledgeme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Mes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2084400" y="1606680"/>
            <a:ext cx="406440" cy="158760"/>
          </a:xfrm>
          <a:prstGeom prst="leftArrow">
            <a:avLst>
              <a:gd name="adj1" fmla="val 50000"/>
              <a:gd name="adj2" fmla="val 640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1764000" y="4230720"/>
            <a:ext cx="23965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Legen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P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ontrol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TE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essage Transfer Envel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UDF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IDIN User Data Fi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"/>
          <p:cNvSpPr/>
          <p:nvPr/>
        </p:nvSpPr>
        <p:spPr>
          <a:xfrm>
            <a:off x="2874960" y="1384200"/>
            <a:ext cx="990720" cy="520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1479600" y="901440"/>
            <a:ext cx="6761160" cy="12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043680" y="3886200"/>
            <a:ext cx="3219480" cy="1168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1300320" y="5826240"/>
            <a:ext cx="693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44.   Organisation of SARPs clauses for the AMHS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to CIDIN (OPMET)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1771560" y="1384200"/>
            <a:ext cx="663840" cy="2597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8318520" y="1393920"/>
            <a:ext cx="776160" cy="1190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154400" y="1384200"/>
            <a:ext cx="1059120" cy="511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470560" y="1393920"/>
            <a:ext cx="1057320" cy="5047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Use o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PM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9133920" y="1442880"/>
            <a:ext cx="64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093200" y="50976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IDIN (OPMET) 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081240" y="146700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rocess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214160" y="146700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Generation CIDIN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OPMET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H="1">
            <a:off x="3852720" y="163188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452680" y="4645080"/>
            <a:ext cx="333360" cy="158760"/>
          </a:xfrm>
          <a:prstGeom prst="leftArrow">
            <a:avLst>
              <a:gd name="adj1" fmla="val 50000"/>
              <a:gd name="adj2" fmla="val 524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8395560" y="1765440"/>
            <a:ext cx="6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IDI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9272520" y="1949400"/>
            <a:ext cx="351000" cy="146160"/>
          </a:xfrm>
          <a:prstGeom prst="rightArrow">
            <a:avLst>
              <a:gd name="adj1" fmla="val 50000"/>
              <a:gd name="adj2" fmla="val 600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818400" y="1406520"/>
            <a:ext cx="1058760" cy="4921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Use o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MTE Parame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01560" y="2654280"/>
            <a:ext cx="636840" cy="2324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2862360" y="2108160"/>
            <a:ext cx="990360" cy="520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874960" y="2895480"/>
            <a:ext cx="990720" cy="520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889360" y="3683160"/>
            <a:ext cx="990360" cy="520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903400" y="4470480"/>
            <a:ext cx="990720" cy="520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00160" y="3759120"/>
            <a:ext cx="322200" cy="127080"/>
          </a:xfrm>
          <a:prstGeom prst="leftRightArrow">
            <a:avLst>
              <a:gd name="adj1" fmla="val 50000"/>
              <a:gd name="adj2" fmla="val 504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04040" y="3162240"/>
            <a:ext cx="56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389240" y="3016080"/>
            <a:ext cx="338040" cy="152640"/>
          </a:xfrm>
          <a:prstGeom prst="rightArrow">
            <a:avLst>
              <a:gd name="adj1" fmla="val 50000"/>
              <a:gd name="adj2" fmla="val 553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1181880" y="2590920"/>
            <a:ext cx="64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333520" y="4857840"/>
            <a:ext cx="50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DR/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1809360" y="173988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Fun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768320" y="2552760"/>
            <a:ext cx="70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dent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f 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435400" y="16765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441520" y="2349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2449440" y="31305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2441520" y="38926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2984400" y="2241720"/>
            <a:ext cx="78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No Con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2998440" y="3054240"/>
            <a:ext cx="78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No Con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2909880" y="378468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rocessing 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rob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047400" y="455940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Generation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3336840" y="1980720"/>
            <a:ext cx="648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2982240" y="189864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2988720" y="266688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390840" y="420372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424320" y="421020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DR or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404800" y="133344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(IP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2414160" y="195588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(IP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2437560" y="27496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(ND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439360" y="3600360"/>
            <a:ext cx="42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Prob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3328920" y="1162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1933560" y="1162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2255760" y="11682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771200" y="93996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923840" y="939960"/>
            <a:ext cx="62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4664160" y="1155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073680" y="95256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415040" y="95868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985000" y="11746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5830200" y="98424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214960" y="1644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7051680" y="11239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7547040" y="12319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815520" y="95868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333920" y="102888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931160" y="1574640"/>
            <a:ext cx="330120" cy="140040"/>
          </a:xfrm>
          <a:prstGeom prst="rightArrow">
            <a:avLst>
              <a:gd name="adj1" fmla="val 50000"/>
              <a:gd name="adj2" fmla="val 589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836480" y="1295280"/>
            <a:ext cx="5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T-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Req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3879720" y="47242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4525200" y="461016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DR or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V="1">
            <a:off x="3328920" y="271764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372360" y="4021200"/>
            <a:ext cx="25354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Legen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P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ontrol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TE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essage Transfer Envel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1)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UDF = CIDIN User Data Fi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51000" y="6037200"/>
            <a:ext cx="557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4.  Functional view of the CIDIN/AMH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51814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51055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238520" y="45720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3733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2286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4876920"/>
            <a:ext cx="1828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ces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D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4800600"/>
            <a:ext cx="1828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ces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 sub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2895480"/>
            <a:ext cx="25146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tocol for MTA to MTA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P1 over upper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47242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28195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41911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IDIN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733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TA (ATN Compon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182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205740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mandatory in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extended ATS message serv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4572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1523880"/>
            <a:ext cx="5410080" cy="4343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1828800"/>
            <a:ext cx="10666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9760" y="1828800"/>
            <a:ext cx="77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ntrol 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2819520"/>
            <a:ext cx="1981080" cy="2819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2819520"/>
            <a:ext cx="1523880" cy="2819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1752480"/>
            <a:ext cx="152388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581280" y="2666880"/>
            <a:ext cx="1146600" cy="685800"/>
            <a:chOff x="3581280" y="2666880"/>
            <a:chExt cx="1146600" cy="685800"/>
          </a:xfrm>
        </p:grpSpPr>
        <p:sp>
          <p:nvSpPr>
            <p:cNvPr id="119" name=""/>
            <p:cNvSpPr/>
            <p:nvPr/>
          </p:nvSpPr>
          <p:spPr>
            <a:xfrm>
              <a:off x="3581280" y="2666880"/>
              <a:ext cx="114300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4160" y="2819520"/>
              <a:ext cx="1143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IDIN (AFTN)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TC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581280" y="4343400"/>
            <a:ext cx="11430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IDIN (OPMSG)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507840" y="3505320"/>
            <a:ext cx="1280880" cy="685800"/>
            <a:chOff x="3507840" y="3505320"/>
            <a:chExt cx="1280880" cy="685800"/>
          </a:xfrm>
        </p:grpSpPr>
        <p:sp>
          <p:nvSpPr>
            <p:cNvPr id="123" name=""/>
            <p:cNvSpPr/>
            <p:nvPr/>
          </p:nvSpPr>
          <p:spPr>
            <a:xfrm>
              <a:off x="3581280" y="3505320"/>
              <a:ext cx="114300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07840" y="3581280"/>
              <a:ext cx="128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IDIN (OPMET)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TC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8001000" y="44197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 transpor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19051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o ATN directory system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4419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/>
          <p:nvPr/>
        </p:nvSpPr>
        <p:spPr>
          <a:xfrm>
            <a:off x="2655720" y="1384200"/>
            <a:ext cx="990720" cy="520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1925640" y="901440"/>
            <a:ext cx="5724360" cy="12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425680" y="3578400"/>
            <a:ext cx="3219480" cy="13968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093680" y="5356080"/>
            <a:ext cx="693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45.   Organisation of SARPs clauses for the CIDIN (OPMSG)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to AMHS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090440" y="1371600"/>
            <a:ext cx="870120" cy="2324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8250120" y="1419120"/>
            <a:ext cx="774720" cy="21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935520" y="1384200"/>
            <a:ext cx="1057320" cy="511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249880" y="1393920"/>
            <a:ext cx="1058760" cy="5047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Use of CIDIN/OPM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Message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9079200" y="1474920"/>
            <a:ext cx="64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929280" y="1393920"/>
            <a:ext cx="809640" cy="21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099680" y="509760"/>
            <a:ext cx="166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IDIN (OPMSG)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862000" y="146700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f M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128120" y="146700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f I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H="1">
            <a:off x="6287760" y="165096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flipH="1">
            <a:off x="4946760" y="16257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3632040" y="163188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131920" y="1600200"/>
            <a:ext cx="406440" cy="158760"/>
          </a:xfrm>
          <a:prstGeom prst="leftArrow">
            <a:avLst>
              <a:gd name="adj1" fmla="val 50000"/>
              <a:gd name="adj2" fmla="val 640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5772240" y="114912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2064960" y="1092240"/>
            <a:ext cx="53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(IP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50800" y="1587600"/>
            <a:ext cx="405000" cy="158760"/>
          </a:xfrm>
          <a:prstGeom prst="leftArrow">
            <a:avLst>
              <a:gd name="adj1" fmla="val 50000"/>
              <a:gd name="adj2" fmla="val 637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62240" y="114300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327640" y="11430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343560" y="1092240"/>
            <a:ext cx="53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 Narrow"/>
              </a:rPr>
              <a:t>CUD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OPM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 flipV="1">
            <a:off x="7291440" y="11494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143840" y="94608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7012080" y="182880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870600" y="280044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cknowled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f recei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IDIN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7835760" y="1955880"/>
            <a:ext cx="289080" cy="133200"/>
          </a:xfrm>
          <a:prstGeom prst="leftArrow">
            <a:avLst>
              <a:gd name="adj1" fmla="val 50000"/>
              <a:gd name="adj2" fmla="val 542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679880" y="1593720"/>
            <a:ext cx="5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T-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d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7827840" y="3098880"/>
            <a:ext cx="351000" cy="145800"/>
          </a:xfrm>
          <a:prstGeom prst="rightArrow">
            <a:avLst>
              <a:gd name="adj1" fmla="val 50000"/>
              <a:gd name="adj2" fmla="val 601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7678440" y="27241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T-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8319600" y="2216160"/>
            <a:ext cx="6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IDI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9183600" y="1968480"/>
            <a:ext cx="289080" cy="133200"/>
          </a:xfrm>
          <a:prstGeom prst="leftArrow">
            <a:avLst>
              <a:gd name="adj1" fmla="val 50000"/>
              <a:gd name="adj2" fmla="val 542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190080" y="3111480"/>
            <a:ext cx="350640" cy="146160"/>
          </a:xfrm>
          <a:prstGeom prst="rightArrow">
            <a:avLst>
              <a:gd name="adj1" fmla="val 50000"/>
              <a:gd name="adj2" fmla="val 599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8853840" y="2679840"/>
            <a:ext cx="106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cknowled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Mes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2822400" y="3621240"/>
            <a:ext cx="239400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Legen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P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ontrol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TE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essage Transfer Envel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UDF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IDIN User Data Fi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OPMSG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IDIN Operator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"/>
          <p:cNvSpPr/>
          <p:nvPr/>
        </p:nvSpPr>
        <p:spPr>
          <a:xfrm>
            <a:off x="2944800" y="1384200"/>
            <a:ext cx="990720" cy="520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 flipV="1">
            <a:off x="1554120" y="901440"/>
            <a:ext cx="6783480" cy="12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878440" y="4022640"/>
            <a:ext cx="3219480" cy="1397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355760" y="5813280"/>
            <a:ext cx="693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46.   Organisation of SARPs clauses for AMHS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to CIDIN (OPMSG)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765440" y="1409760"/>
            <a:ext cx="690480" cy="2539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6920" y="1419120"/>
            <a:ext cx="776160" cy="1470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4224240" y="1384200"/>
            <a:ext cx="1057320" cy="511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5538960" y="1393920"/>
            <a:ext cx="1058760" cy="5047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Use o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PM Eleme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9236880" y="1512720"/>
            <a:ext cx="64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231800" y="509760"/>
            <a:ext cx="149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IDIN (OPMSG) 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151080" y="1397160"/>
            <a:ext cx="63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rocess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335480" y="1467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IDIN / OPM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457480" y="1905120"/>
            <a:ext cx="6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IDI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9383760" y="1968480"/>
            <a:ext cx="350640" cy="146160"/>
          </a:xfrm>
          <a:prstGeom prst="rightArrow">
            <a:avLst>
              <a:gd name="adj1" fmla="val 50000"/>
              <a:gd name="adj2" fmla="val 599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851520" y="1397160"/>
            <a:ext cx="1057320" cy="5108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677880" y="2666880"/>
            <a:ext cx="677880" cy="2324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944800" y="2082960"/>
            <a:ext cx="990720" cy="520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2944800" y="2781360"/>
            <a:ext cx="990720" cy="520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944800" y="3479760"/>
            <a:ext cx="990720" cy="520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2944800" y="4178160"/>
            <a:ext cx="990720" cy="5508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1444680" y="3181320"/>
            <a:ext cx="282600" cy="120600"/>
          </a:xfrm>
          <a:prstGeom prst="rightArrow">
            <a:avLst>
              <a:gd name="adj1" fmla="val 50000"/>
              <a:gd name="adj2" fmla="val 585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1845720" y="170820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1768320" y="2470320"/>
            <a:ext cx="70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dent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f 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247680" y="3835440"/>
            <a:ext cx="336600" cy="120600"/>
          </a:xfrm>
          <a:prstGeom prst="leftRightArrow">
            <a:avLst>
              <a:gd name="adj1" fmla="val 50000"/>
              <a:gd name="adj2" fmla="val 555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92160" y="3314880"/>
            <a:ext cx="56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2401560" y="4546440"/>
            <a:ext cx="50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DR/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2462040" y="1676520"/>
            <a:ext cx="48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455920" y="233676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455920" y="30416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2455920" y="368316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3398760" y="1943280"/>
            <a:ext cx="648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H="1" flipV="1">
            <a:off x="3398760" y="2660400"/>
            <a:ext cx="648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2425320" y="128268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(IP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410920" y="194328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(IP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465640" y="26542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(ND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453760" y="3409920"/>
            <a:ext cx="42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Prob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3106080" y="188604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3046320" y="2203560"/>
            <a:ext cx="78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No Con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087360" y="2946240"/>
            <a:ext cx="78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No Con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2992680" y="3594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rocessing 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rob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111480" y="430524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f 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3112560" y="258444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390840" y="40006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3956040" y="448956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452040" y="399420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DR or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497480" y="435600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DR or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V="1">
            <a:off x="3419640" y="117468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 flipV="1">
            <a:off x="4732200" y="116208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 flipV="1">
            <a:off x="6046920" y="11811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7037280" y="112392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 flipV="1">
            <a:off x="7608960" y="119988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941640" y="161928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964560" y="1492200"/>
            <a:ext cx="8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Us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MTE Parame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154680" y="93348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518360" y="95868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5898600" y="97776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6788520" y="93348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39584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8007480" y="1606680"/>
            <a:ext cx="274680" cy="114120"/>
          </a:xfrm>
          <a:prstGeom prst="rightArrow">
            <a:avLst>
              <a:gd name="adj1" fmla="val 50000"/>
              <a:gd name="adj2" fmla="val 601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862040" y="1295280"/>
            <a:ext cx="5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T-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Req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5276880" y="1625760"/>
            <a:ext cx="26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597720" y="1650960"/>
            <a:ext cx="26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2421000" y="4400640"/>
            <a:ext cx="379440" cy="139680"/>
          </a:xfrm>
          <a:prstGeom prst="leftArrow">
            <a:avLst>
              <a:gd name="adj1" fmla="val 50000"/>
              <a:gd name="adj2" fmla="val 679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210360" y="4078440"/>
            <a:ext cx="2535480" cy="13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Legen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P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ontrol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TE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essage Transfer Envel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OPMSG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IDIN Operator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1)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DUF = CIDIN User Data Fi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0" y="3049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3049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3049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3049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12952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7621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7621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2952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7524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2209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4560" y="3200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99360" y="3200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7760" y="3200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6160" y="3200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56160" y="41911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S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9936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S 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776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S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4560" y="41911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S 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7760" y="46483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S 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6160" y="51055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S 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533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533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33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356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196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036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762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072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8912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762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1219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232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07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89120" y="4648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9120" y="57913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703920" y="41144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072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232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492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652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990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990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33920" y="1981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1523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3212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372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212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052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50640" y="22860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3840" y="22860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45920" y="22860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9400" y="762120"/>
            <a:ext cx="60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12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41000" y="762120"/>
            <a:ext cx="60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12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41000" y="1752480"/>
            <a:ext cx="60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13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2600" y="1219320"/>
            <a:ext cx="60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13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840" y="31240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4480" y="31240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92040" y="31240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96760" y="556272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4280" y="3657600"/>
            <a:ext cx="60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3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5880" y="3657600"/>
            <a:ext cx="60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3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840" y="4648320"/>
            <a:ext cx="60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4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1160" y="4114800"/>
            <a:ext cx="60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4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69280" y="2666880"/>
            <a:ext cx="32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MH1n profiles specified in ISO/IEC 106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1560" y="5791320"/>
            <a:ext cx="32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MH2n profiles specified in ISO/IEC 120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6324480"/>
            <a:ext cx="557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6.  Applicability of AMH 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4382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53080" y="2286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S 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81480" y="2286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S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28195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S 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32767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S 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8640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3276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858000" y="27428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22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2920" y="17524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98200" y="17524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6120" y="17524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5920" y="44956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8000" y="2286000"/>
            <a:ext cx="60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3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65240" y="2743200"/>
            <a:ext cx="60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4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5486400"/>
            <a:ext cx="557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9.  Use of AMH profilesin the extended ATS messag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72400" y="18288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72400" y="22860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0592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T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o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371600" y="18288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85080" y="22860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850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T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o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05120" y="2057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07640" y="17524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41400" y="17524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0760" y="2057400"/>
            <a:ext cx="511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th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993880" y="2057400"/>
            <a:ext cx="511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th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991720" y="2057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2743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2743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441972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84200" y="281952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o-located 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5160" y="3429000"/>
            <a:ext cx="175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TS message user ag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09560" y="137160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TS message 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440" y="1371600"/>
            <a:ext cx="146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FTN/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98960" y="1371600"/>
            <a:ext cx="146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FTN/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981080" y="5410080"/>
            <a:ext cx="33048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16200" y="3200400"/>
            <a:ext cx="1485720" cy="10666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84720" y="2438280"/>
            <a:ext cx="4952880" cy="259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035680" y="1066680"/>
          <a:ext cx="1409400" cy="9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5680" y="1066680"/>
                    <a:ext cx="1409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5283360" y="2057400"/>
            <a:ext cx="9079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37040" y="2833560"/>
            <a:ext cx="206388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75080" y="3581280"/>
            <a:ext cx="1320840" cy="381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08840" y="3581280"/>
            <a:ext cx="165096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3581280"/>
            <a:ext cx="907920" cy="457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c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/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3429000"/>
            <a:ext cx="577800" cy="4572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5480" y="3657600"/>
            <a:ext cx="577800" cy="4572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0240" y="3886200"/>
            <a:ext cx="578160" cy="4572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94560" y="2743200"/>
            <a:ext cx="7430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18400" y="4343400"/>
            <a:ext cx="7430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568520" y="3809880"/>
            <a:ext cx="14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86116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24640" y="175248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91360" y="1125360"/>
            <a:ext cx="8575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S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19040" y="1981080"/>
            <a:ext cx="7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nd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191280" y="2133360"/>
            <a:ext cx="577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12120" y="2286000"/>
            <a:ext cx="412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12640" y="335268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37440" y="2971800"/>
            <a:ext cx="74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2520" y="3429000"/>
            <a:ext cx="4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8360" y="36576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PM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1320" y="3962520"/>
            <a:ext cx="4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55440" y="3657600"/>
            <a:ext cx="81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84240" y="4267080"/>
            <a:ext cx="83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ub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56520" y="4343400"/>
            <a:ext cx="7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nd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219120" y="4038480"/>
            <a:ext cx="82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13840" y="518148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TN 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1160" y="5029200"/>
            <a:ext cx="164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49880" y="5826240"/>
            <a:ext cx="43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23.  The two specified positions of the CIDIN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AT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402760" y="60022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72280" y="2795760"/>
            <a:ext cx="3301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78760" y="2743200"/>
            <a:ext cx="2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62520" y="3728880"/>
            <a:ext cx="3301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3960" y="3747960"/>
            <a:ext cx="2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70600" y="3321000"/>
            <a:ext cx="3301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72040" y="3321000"/>
            <a:ext cx="2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73720" y="3352680"/>
            <a:ext cx="3301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49960" y="3352680"/>
            <a:ext cx="2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49920" y="4200480"/>
            <a:ext cx="33048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46680" y="4238640"/>
            <a:ext cx="2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34000" y="2546280"/>
            <a:ext cx="3301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41560" y="252108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83360" y="3962520"/>
            <a:ext cx="412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108840" y="3886200"/>
            <a:ext cx="2476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08680" y="3276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2520" y="5410080"/>
            <a:ext cx="2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56920" y="540540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"/>
          <p:cNvCxnSpPr>
            <a:stCxn id="261" idx="2"/>
            <a:endCxn id="265" idx="3"/>
          </p:cNvCxnSpPr>
          <p:nvPr/>
        </p:nvCxnSpPr>
        <p:spPr>
          <a:xfrm rot="5400000">
            <a:off x="4174560" y="2247840"/>
            <a:ext cx="1281600" cy="18439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9" name=""/>
          <p:cNvCxnSpPr>
            <a:stCxn id="269" idx="1"/>
            <a:endCxn id="270" idx="1"/>
          </p:cNvCxnSpPr>
          <p:nvPr/>
        </p:nvCxnSpPr>
        <p:spPr>
          <a:xfrm flipH="1" flipV="1" rot="10800000">
            <a:off x="7594200" y="2932560"/>
            <a:ext cx="124560" cy="1600920"/>
          </a:xfrm>
          <a:prstGeom prst="curvedConnector5">
            <a:avLst>
              <a:gd name="adj1" fmla="val -184347"/>
              <a:gd name="adj2" fmla="val 50000"/>
              <a:gd name="adj3" fmla="val -184347"/>
            </a:avLst>
          </a:prstGeom>
          <a:ln w="9360">
            <a:solidFill>
              <a:srgbClr val="000000"/>
            </a:solidFill>
            <a:prstDash val="dashDot"/>
            <a:miter/>
          </a:ln>
        </p:spPr>
      </p:cxnSp>
      <p:grpSp>
        <p:nvGrpSpPr>
          <p:cNvPr id="310" name=""/>
          <p:cNvGrpSpPr/>
          <p:nvPr/>
        </p:nvGrpSpPr>
        <p:grpSpPr>
          <a:xfrm>
            <a:off x="581040" y="4645080"/>
            <a:ext cx="761400" cy="617040"/>
            <a:chOff x="581040" y="4645080"/>
            <a:chExt cx="761400" cy="617040"/>
          </a:xfrm>
        </p:grpSpPr>
        <p:sp>
          <p:nvSpPr>
            <p:cNvPr id="311" name=""/>
            <p:cNvSpPr/>
            <p:nvPr/>
          </p:nvSpPr>
          <p:spPr>
            <a:xfrm>
              <a:off x="581040" y="4645080"/>
              <a:ext cx="761400" cy="61704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33" y="131"/>
                  </a:moveTo>
                  <a:lnTo>
                    <a:pt x="52" y="131"/>
                  </a:lnTo>
                  <a:lnTo>
                    <a:pt x="52" y="142"/>
                  </a:lnTo>
                  <a:lnTo>
                    <a:pt x="175" y="142"/>
                  </a:lnTo>
                  <a:lnTo>
                    <a:pt x="175" y="131"/>
                  </a:lnTo>
                  <a:lnTo>
                    <a:pt x="194" y="131"/>
                  </a:lnTo>
                  <a:lnTo>
                    <a:pt x="194" y="0"/>
                  </a:lnTo>
                  <a:lnTo>
                    <a:pt x="33" y="0"/>
                  </a:lnTo>
                  <a:lnTo>
                    <a:pt x="33" y="131"/>
                  </a:lnTo>
                  <a:close/>
                  <a:moveTo>
                    <a:pt x="217" y="162"/>
                  </a:moveTo>
                  <a:lnTo>
                    <a:pt x="10" y="162"/>
                  </a:lnTo>
                  <a:lnTo>
                    <a:pt x="6" y="164"/>
                  </a:lnTo>
                  <a:lnTo>
                    <a:pt x="0" y="223"/>
                  </a:lnTo>
                  <a:lnTo>
                    <a:pt x="2" y="227"/>
                  </a:lnTo>
                  <a:lnTo>
                    <a:pt x="225" y="227"/>
                  </a:lnTo>
                  <a:lnTo>
                    <a:pt x="227" y="223"/>
                  </a:lnTo>
                  <a:lnTo>
                    <a:pt x="219" y="164"/>
                  </a:lnTo>
                  <a:lnTo>
                    <a:pt x="217" y="162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7320" y="5096160"/>
              <a:ext cx="708120" cy="155160"/>
            </a:xfrm>
            <a:custGeom>
              <a:avLst/>
              <a:gdLst/>
              <a:ahLst/>
              <a:rect l="l" t="t" r="r" b="b"/>
              <a:pathLst>
                <a:path w="211" h="57">
                  <a:moveTo>
                    <a:pt x="167" y="44"/>
                  </a:moveTo>
                  <a:lnTo>
                    <a:pt x="165" y="42"/>
                  </a:lnTo>
                  <a:lnTo>
                    <a:pt x="159" y="42"/>
                  </a:lnTo>
                  <a:lnTo>
                    <a:pt x="159" y="44"/>
                  </a:lnTo>
                  <a:lnTo>
                    <a:pt x="159" y="40"/>
                  </a:lnTo>
                  <a:lnTo>
                    <a:pt x="157" y="36"/>
                  </a:lnTo>
                  <a:lnTo>
                    <a:pt x="151" y="36"/>
                  </a:lnTo>
                  <a:lnTo>
                    <a:pt x="150" y="40"/>
                  </a:lnTo>
                  <a:lnTo>
                    <a:pt x="150" y="44"/>
                  </a:lnTo>
                  <a:lnTo>
                    <a:pt x="148" y="42"/>
                  </a:lnTo>
                  <a:lnTo>
                    <a:pt x="142" y="42"/>
                  </a:lnTo>
                  <a:lnTo>
                    <a:pt x="140" y="44"/>
                  </a:lnTo>
                  <a:lnTo>
                    <a:pt x="140" y="53"/>
                  </a:lnTo>
                  <a:lnTo>
                    <a:pt x="150" y="53"/>
                  </a:lnTo>
                  <a:lnTo>
                    <a:pt x="159" y="53"/>
                  </a:lnTo>
                  <a:lnTo>
                    <a:pt x="167" y="53"/>
                  </a:lnTo>
                  <a:lnTo>
                    <a:pt x="167" y="44"/>
                  </a:lnTo>
                  <a:close/>
                  <a:moveTo>
                    <a:pt x="196" y="19"/>
                  </a:moveTo>
                  <a:lnTo>
                    <a:pt x="194" y="17"/>
                  </a:lnTo>
                  <a:lnTo>
                    <a:pt x="188" y="17"/>
                  </a:lnTo>
                  <a:lnTo>
                    <a:pt x="188" y="19"/>
                  </a:lnTo>
                  <a:lnTo>
                    <a:pt x="186" y="17"/>
                  </a:lnTo>
                  <a:lnTo>
                    <a:pt x="180" y="17"/>
                  </a:lnTo>
                  <a:lnTo>
                    <a:pt x="178" y="19"/>
                  </a:lnTo>
                  <a:lnTo>
                    <a:pt x="176" y="17"/>
                  </a:lnTo>
                  <a:lnTo>
                    <a:pt x="171" y="17"/>
                  </a:lnTo>
                  <a:lnTo>
                    <a:pt x="169" y="19"/>
                  </a:lnTo>
                  <a:lnTo>
                    <a:pt x="169" y="53"/>
                  </a:lnTo>
                  <a:lnTo>
                    <a:pt x="207" y="53"/>
                  </a:lnTo>
                  <a:lnTo>
                    <a:pt x="205" y="19"/>
                  </a:lnTo>
                  <a:lnTo>
                    <a:pt x="203" y="17"/>
                  </a:lnTo>
                  <a:lnTo>
                    <a:pt x="198" y="17"/>
                  </a:lnTo>
                  <a:lnTo>
                    <a:pt x="196" y="19"/>
                  </a:lnTo>
                  <a:close/>
                  <a:moveTo>
                    <a:pt x="167" y="19"/>
                  </a:moveTo>
                  <a:lnTo>
                    <a:pt x="165" y="17"/>
                  </a:lnTo>
                  <a:lnTo>
                    <a:pt x="159" y="17"/>
                  </a:lnTo>
                  <a:lnTo>
                    <a:pt x="159" y="19"/>
                  </a:lnTo>
                  <a:lnTo>
                    <a:pt x="157" y="17"/>
                  </a:lnTo>
                  <a:lnTo>
                    <a:pt x="151" y="17"/>
                  </a:lnTo>
                  <a:lnTo>
                    <a:pt x="150" y="19"/>
                  </a:lnTo>
                  <a:lnTo>
                    <a:pt x="148" y="17"/>
                  </a:lnTo>
                  <a:lnTo>
                    <a:pt x="144" y="17"/>
                  </a:lnTo>
                  <a:lnTo>
                    <a:pt x="142" y="19"/>
                  </a:lnTo>
                  <a:lnTo>
                    <a:pt x="142" y="32"/>
                  </a:lnTo>
                  <a:lnTo>
                    <a:pt x="150" y="32"/>
                  </a:lnTo>
                  <a:lnTo>
                    <a:pt x="159" y="32"/>
                  </a:lnTo>
                  <a:lnTo>
                    <a:pt x="167" y="32"/>
                  </a:lnTo>
                  <a:lnTo>
                    <a:pt x="167" y="19"/>
                  </a:lnTo>
                  <a:close/>
                  <a:moveTo>
                    <a:pt x="5" y="19"/>
                  </a:moveTo>
                  <a:lnTo>
                    <a:pt x="3" y="53"/>
                  </a:lnTo>
                  <a:lnTo>
                    <a:pt x="21" y="53"/>
                  </a:lnTo>
                  <a:lnTo>
                    <a:pt x="23" y="44"/>
                  </a:lnTo>
                  <a:lnTo>
                    <a:pt x="32" y="44"/>
                  </a:lnTo>
                  <a:lnTo>
                    <a:pt x="32" y="53"/>
                  </a:lnTo>
                  <a:lnTo>
                    <a:pt x="109" y="53"/>
                  </a:lnTo>
                  <a:lnTo>
                    <a:pt x="113" y="44"/>
                  </a:lnTo>
                  <a:lnTo>
                    <a:pt x="121" y="44"/>
                  </a:lnTo>
                  <a:lnTo>
                    <a:pt x="125" y="53"/>
                  </a:lnTo>
                  <a:lnTo>
                    <a:pt x="140" y="53"/>
                  </a:lnTo>
                  <a:lnTo>
                    <a:pt x="138" y="19"/>
                  </a:lnTo>
                  <a:lnTo>
                    <a:pt x="136" y="17"/>
                  </a:lnTo>
                  <a:lnTo>
                    <a:pt x="130" y="17"/>
                  </a:lnTo>
                  <a:lnTo>
                    <a:pt x="128" y="19"/>
                  </a:lnTo>
                  <a:lnTo>
                    <a:pt x="128" y="17"/>
                  </a:lnTo>
                  <a:lnTo>
                    <a:pt x="123" y="17"/>
                  </a:lnTo>
                  <a:lnTo>
                    <a:pt x="121" y="19"/>
                  </a:lnTo>
                  <a:lnTo>
                    <a:pt x="119" y="17"/>
                  </a:lnTo>
                  <a:lnTo>
                    <a:pt x="113" y="17"/>
                  </a:lnTo>
                  <a:lnTo>
                    <a:pt x="111" y="19"/>
                  </a:lnTo>
                  <a:lnTo>
                    <a:pt x="109" y="17"/>
                  </a:lnTo>
                  <a:lnTo>
                    <a:pt x="105" y="17"/>
                  </a:lnTo>
                  <a:lnTo>
                    <a:pt x="103" y="19"/>
                  </a:lnTo>
                  <a:lnTo>
                    <a:pt x="101" y="17"/>
                  </a:lnTo>
                  <a:lnTo>
                    <a:pt x="96" y="17"/>
                  </a:lnTo>
                  <a:lnTo>
                    <a:pt x="94" y="19"/>
                  </a:lnTo>
                  <a:lnTo>
                    <a:pt x="92" y="17"/>
                  </a:lnTo>
                  <a:lnTo>
                    <a:pt x="88" y="17"/>
                  </a:lnTo>
                  <a:lnTo>
                    <a:pt x="86" y="19"/>
                  </a:lnTo>
                  <a:lnTo>
                    <a:pt x="84" y="17"/>
                  </a:lnTo>
                  <a:lnTo>
                    <a:pt x="78" y="17"/>
                  </a:lnTo>
                  <a:lnTo>
                    <a:pt x="77" y="19"/>
                  </a:lnTo>
                  <a:lnTo>
                    <a:pt x="75" y="17"/>
                  </a:lnTo>
                  <a:lnTo>
                    <a:pt x="69" y="17"/>
                  </a:lnTo>
                  <a:lnTo>
                    <a:pt x="67" y="19"/>
                  </a:lnTo>
                  <a:lnTo>
                    <a:pt x="67" y="17"/>
                  </a:lnTo>
                  <a:lnTo>
                    <a:pt x="61" y="17"/>
                  </a:lnTo>
                  <a:lnTo>
                    <a:pt x="59" y="19"/>
                  </a:lnTo>
                  <a:lnTo>
                    <a:pt x="57" y="17"/>
                  </a:lnTo>
                  <a:lnTo>
                    <a:pt x="52" y="17"/>
                  </a:lnTo>
                  <a:lnTo>
                    <a:pt x="50" y="19"/>
                  </a:lnTo>
                  <a:lnTo>
                    <a:pt x="48" y="17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17"/>
                  </a:lnTo>
                  <a:lnTo>
                    <a:pt x="34" y="17"/>
                  </a:lnTo>
                  <a:lnTo>
                    <a:pt x="32" y="19"/>
                  </a:lnTo>
                  <a:lnTo>
                    <a:pt x="30" y="17"/>
                  </a:lnTo>
                  <a:lnTo>
                    <a:pt x="25" y="17"/>
                  </a:lnTo>
                  <a:lnTo>
                    <a:pt x="25" y="19"/>
                  </a:lnTo>
                  <a:lnTo>
                    <a:pt x="23" y="17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17"/>
                  </a:lnTo>
                  <a:lnTo>
                    <a:pt x="7" y="17"/>
                  </a:lnTo>
                  <a:lnTo>
                    <a:pt x="5" y="19"/>
                  </a:lnTo>
                  <a:close/>
                  <a:moveTo>
                    <a:pt x="167" y="7"/>
                  </a:moveTo>
                  <a:lnTo>
                    <a:pt x="167" y="5"/>
                  </a:lnTo>
                  <a:lnTo>
                    <a:pt x="161" y="5"/>
                  </a:lnTo>
                  <a:lnTo>
                    <a:pt x="159" y="7"/>
                  </a:lnTo>
                  <a:lnTo>
                    <a:pt x="157" y="5"/>
                  </a:lnTo>
                  <a:lnTo>
                    <a:pt x="151" y="5"/>
                  </a:lnTo>
                  <a:lnTo>
                    <a:pt x="150" y="7"/>
                  </a:lnTo>
                  <a:lnTo>
                    <a:pt x="148" y="5"/>
                  </a:lnTo>
                  <a:lnTo>
                    <a:pt x="144" y="5"/>
                  </a:lnTo>
                  <a:lnTo>
                    <a:pt x="142" y="7"/>
                  </a:lnTo>
                  <a:lnTo>
                    <a:pt x="142" y="13"/>
                  </a:lnTo>
                  <a:lnTo>
                    <a:pt x="150" y="13"/>
                  </a:lnTo>
                  <a:lnTo>
                    <a:pt x="159" y="13"/>
                  </a:lnTo>
                  <a:lnTo>
                    <a:pt x="169" y="13"/>
                  </a:lnTo>
                  <a:lnTo>
                    <a:pt x="167" y="7"/>
                  </a:lnTo>
                  <a:close/>
                  <a:moveTo>
                    <a:pt x="17" y="13"/>
                  </a:moveTo>
                  <a:lnTo>
                    <a:pt x="15" y="7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9" y="5"/>
                  </a:lnTo>
                  <a:lnTo>
                    <a:pt x="7" y="7"/>
                  </a:lnTo>
                  <a:lnTo>
                    <a:pt x="7" y="13"/>
                  </a:lnTo>
                  <a:lnTo>
                    <a:pt x="15" y="13"/>
                  </a:lnTo>
                  <a:lnTo>
                    <a:pt x="17" y="13"/>
                  </a:lnTo>
                  <a:close/>
                  <a:moveTo>
                    <a:pt x="128" y="7"/>
                  </a:moveTo>
                  <a:lnTo>
                    <a:pt x="126" y="5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5"/>
                  </a:lnTo>
                  <a:lnTo>
                    <a:pt x="113" y="5"/>
                  </a:lnTo>
                  <a:lnTo>
                    <a:pt x="111" y="7"/>
                  </a:lnTo>
                  <a:lnTo>
                    <a:pt x="109" y="5"/>
                  </a:lnTo>
                  <a:lnTo>
                    <a:pt x="105" y="5"/>
                  </a:lnTo>
                  <a:lnTo>
                    <a:pt x="103" y="7"/>
                  </a:lnTo>
                  <a:lnTo>
                    <a:pt x="101" y="13"/>
                  </a:lnTo>
                  <a:lnTo>
                    <a:pt x="111" y="13"/>
                  </a:lnTo>
                  <a:lnTo>
                    <a:pt x="121" y="13"/>
                  </a:lnTo>
                  <a:lnTo>
                    <a:pt x="128" y="13"/>
                  </a:lnTo>
                  <a:lnTo>
                    <a:pt x="138" y="13"/>
                  </a:lnTo>
                  <a:lnTo>
                    <a:pt x="138" y="7"/>
                  </a:lnTo>
                  <a:lnTo>
                    <a:pt x="136" y="5"/>
                  </a:lnTo>
                  <a:lnTo>
                    <a:pt x="130" y="5"/>
                  </a:lnTo>
                  <a:lnTo>
                    <a:pt x="128" y="7"/>
                  </a:lnTo>
                  <a:close/>
                  <a:moveTo>
                    <a:pt x="90" y="7"/>
                  </a:moveTo>
                  <a:lnTo>
                    <a:pt x="88" y="5"/>
                  </a:lnTo>
                  <a:lnTo>
                    <a:pt x="82" y="5"/>
                  </a:lnTo>
                  <a:lnTo>
                    <a:pt x="80" y="7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7"/>
                  </a:lnTo>
                  <a:lnTo>
                    <a:pt x="71" y="5"/>
                  </a:lnTo>
                  <a:lnTo>
                    <a:pt x="65" y="5"/>
                  </a:lnTo>
                  <a:lnTo>
                    <a:pt x="63" y="7"/>
                  </a:lnTo>
                  <a:lnTo>
                    <a:pt x="63" y="13"/>
                  </a:lnTo>
                  <a:lnTo>
                    <a:pt x="73" y="13"/>
                  </a:lnTo>
                  <a:lnTo>
                    <a:pt x="80" y="13"/>
                  </a:lnTo>
                  <a:lnTo>
                    <a:pt x="90" y="13"/>
                  </a:lnTo>
                  <a:lnTo>
                    <a:pt x="100" y="13"/>
                  </a:lnTo>
                  <a:lnTo>
                    <a:pt x="98" y="7"/>
                  </a:lnTo>
                  <a:lnTo>
                    <a:pt x="98" y="5"/>
                  </a:lnTo>
                  <a:lnTo>
                    <a:pt x="92" y="5"/>
                  </a:lnTo>
                  <a:lnTo>
                    <a:pt x="90" y="7"/>
                  </a:lnTo>
                  <a:close/>
                  <a:moveTo>
                    <a:pt x="50" y="7"/>
                  </a:moveTo>
                  <a:lnTo>
                    <a:pt x="48" y="5"/>
                  </a:lnTo>
                  <a:lnTo>
                    <a:pt x="44" y="5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4" y="5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7" y="5"/>
                  </a:lnTo>
                  <a:lnTo>
                    <a:pt x="25" y="7"/>
                  </a:lnTo>
                  <a:lnTo>
                    <a:pt x="23" y="13"/>
                  </a:lnTo>
                  <a:lnTo>
                    <a:pt x="32" y="13"/>
                  </a:lnTo>
                  <a:lnTo>
                    <a:pt x="42" y="13"/>
                  </a:lnTo>
                  <a:lnTo>
                    <a:pt x="50" y="13"/>
                  </a:lnTo>
                  <a:lnTo>
                    <a:pt x="59" y="13"/>
                  </a:lnTo>
                  <a:lnTo>
                    <a:pt x="59" y="7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50" y="7"/>
                  </a:lnTo>
                  <a:close/>
                  <a:moveTo>
                    <a:pt x="0" y="57"/>
                  </a:moveTo>
                  <a:lnTo>
                    <a:pt x="211" y="57"/>
                  </a:lnTo>
                  <a:lnTo>
                    <a:pt x="205" y="0"/>
                  </a:lnTo>
                  <a:lnTo>
                    <a:pt x="5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2320" y="4688640"/>
              <a:ext cx="469440" cy="279720"/>
            </a:xfrm>
            <a:custGeom>
              <a:avLst/>
              <a:gdLst/>
              <a:ahLst/>
              <a:rect l="l" t="t" r="r" b="b"/>
              <a:pathLst>
                <a:path w="140" h="103">
                  <a:moveTo>
                    <a:pt x="133" y="103"/>
                  </a:moveTo>
                  <a:lnTo>
                    <a:pt x="140" y="103"/>
                  </a:lnTo>
                  <a:lnTo>
                    <a:pt x="140" y="100"/>
                  </a:lnTo>
                  <a:lnTo>
                    <a:pt x="133" y="100"/>
                  </a:lnTo>
                  <a:lnTo>
                    <a:pt x="133" y="103"/>
                  </a:lnTo>
                  <a:close/>
                  <a:moveTo>
                    <a:pt x="10" y="84"/>
                  </a:moveTo>
                  <a:lnTo>
                    <a:pt x="10" y="9"/>
                  </a:lnTo>
                  <a:lnTo>
                    <a:pt x="121" y="9"/>
                  </a:lnTo>
                  <a:lnTo>
                    <a:pt x="121" y="84"/>
                  </a:lnTo>
                  <a:lnTo>
                    <a:pt x="10" y="84"/>
                  </a:lnTo>
                  <a:close/>
                  <a:moveTo>
                    <a:pt x="4" y="90"/>
                  </a:moveTo>
                  <a:lnTo>
                    <a:pt x="127" y="90"/>
                  </a:lnTo>
                  <a:lnTo>
                    <a:pt x="127" y="3"/>
                  </a:lnTo>
                  <a:lnTo>
                    <a:pt x="131" y="3"/>
                  </a:lnTo>
                  <a:lnTo>
                    <a:pt x="131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96"/>
                  </a:lnTo>
                  <a:lnTo>
                    <a:pt x="4" y="96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1920" y="4979520"/>
              <a:ext cx="5400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073160" y="4343400"/>
            <a:ext cx="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9880" y="434988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49920" y="4605480"/>
            <a:ext cx="84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ser of 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200560" y="1371600"/>
            <a:ext cx="82548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17800" y="4095720"/>
            <a:ext cx="1162080" cy="685800"/>
          </a:xfrm>
          <a:custGeom>
            <a:avLst/>
            <a:gdLst/>
            <a:ahLst/>
            <a:rect l="l" t="t" r="r" b="b"/>
            <a:pathLst>
              <a:path w="676" h="432">
                <a:moveTo>
                  <a:pt x="0" y="215"/>
                </a:moveTo>
                <a:lnTo>
                  <a:pt x="3" y="188"/>
                </a:lnTo>
                <a:lnTo>
                  <a:pt x="10" y="160"/>
                </a:lnTo>
                <a:lnTo>
                  <a:pt x="26" y="133"/>
                </a:lnTo>
                <a:lnTo>
                  <a:pt x="44" y="108"/>
                </a:lnTo>
                <a:lnTo>
                  <a:pt x="68" y="84"/>
                </a:lnTo>
                <a:lnTo>
                  <a:pt x="99" y="63"/>
                </a:lnTo>
                <a:lnTo>
                  <a:pt x="131" y="44"/>
                </a:lnTo>
                <a:lnTo>
                  <a:pt x="167" y="28"/>
                </a:lnTo>
                <a:lnTo>
                  <a:pt x="207" y="16"/>
                </a:lnTo>
                <a:lnTo>
                  <a:pt x="250" y="8"/>
                </a:lnTo>
                <a:lnTo>
                  <a:pt x="293" y="2"/>
                </a:lnTo>
                <a:lnTo>
                  <a:pt x="337" y="0"/>
                </a:lnTo>
                <a:lnTo>
                  <a:pt x="381" y="2"/>
                </a:lnTo>
                <a:lnTo>
                  <a:pt x="424" y="8"/>
                </a:lnTo>
                <a:lnTo>
                  <a:pt x="467" y="16"/>
                </a:lnTo>
                <a:lnTo>
                  <a:pt x="506" y="28"/>
                </a:lnTo>
                <a:lnTo>
                  <a:pt x="543" y="44"/>
                </a:lnTo>
                <a:lnTo>
                  <a:pt x="576" y="63"/>
                </a:lnTo>
                <a:lnTo>
                  <a:pt x="605" y="84"/>
                </a:lnTo>
                <a:lnTo>
                  <a:pt x="630" y="108"/>
                </a:lnTo>
                <a:lnTo>
                  <a:pt x="650" y="133"/>
                </a:lnTo>
                <a:lnTo>
                  <a:pt x="663" y="160"/>
                </a:lnTo>
                <a:lnTo>
                  <a:pt x="672" y="188"/>
                </a:lnTo>
                <a:lnTo>
                  <a:pt x="676" y="215"/>
                </a:lnTo>
                <a:lnTo>
                  <a:pt x="672" y="243"/>
                </a:lnTo>
                <a:lnTo>
                  <a:pt x="663" y="271"/>
                </a:lnTo>
                <a:lnTo>
                  <a:pt x="650" y="299"/>
                </a:lnTo>
                <a:lnTo>
                  <a:pt x="630" y="324"/>
                </a:lnTo>
                <a:lnTo>
                  <a:pt x="605" y="348"/>
                </a:lnTo>
                <a:lnTo>
                  <a:pt x="576" y="370"/>
                </a:lnTo>
                <a:lnTo>
                  <a:pt x="543" y="387"/>
                </a:lnTo>
                <a:lnTo>
                  <a:pt x="506" y="403"/>
                </a:lnTo>
                <a:lnTo>
                  <a:pt x="467" y="416"/>
                </a:lnTo>
                <a:lnTo>
                  <a:pt x="424" y="425"/>
                </a:lnTo>
                <a:lnTo>
                  <a:pt x="381" y="431"/>
                </a:lnTo>
                <a:lnTo>
                  <a:pt x="337" y="432"/>
                </a:lnTo>
                <a:lnTo>
                  <a:pt x="293" y="431"/>
                </a:lnTo>
                <a:lnTo>
                  <a:pt x="250" y="425"/>
                </a:lnTo>
                <a:lnTo>
                  <a:pt x="207" y="416"/>
                </a:lnTo>
                <a:lnTo>
                  <a:pt x="167" y="403"/>
                </a:lnTo>
                <a:lnTo>
                  <a:pt x="131" y="387"/>
                </a:lnTo>
                <a:lnTo>
                  <a:pt x="99" y="370"/>
                </a:lnTo>
                <a:lnTo>
                  <a:pt x="68" y="348"/>
                </a:lnTo>
                <a:lnTo>
                  <a:pt x="44" y="324"/>
                </a:lnTo>
                <a:lnTo>
                  <a:pt x="26" y="299"/>
                </a:lnTo>
                <a:lnTo>
                  <a:pt x="10" y="271"/>
                </a:lnTo>
                <a:lnTo>
                  <a:pt x="3" y="243"/>
                </a:lnTo>
                <a:lnTo>
                  <a:pt x="0" y="215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56080" y="2654280"/>
            <a:ext cx="3100320" cy="1370160"/>
          </a:xfrm>
          <a:custGeom>
            <a:avLst/>
            <a:gdLst/>
            <a:ahLst/>
            <a:rect l="l" t="t" r="r" b="b"/>
            <a:pathLst>
              <a:path w="1802" h="863">
                <a:moveTo>
                  <a:pt x="0" y="431"/>
                </a:moveTo>
                <a:lnTo>
                  <a:pt x="3" y="396"/>
                </a:lnTo>
                <a:lnTo>
                  <a:pt x="10" y="363"/>
                </a:lnTo>
                <a:lnTo>
                  <a:pt x="26" y="327"/>
                </a:lnTo>
                <a:lnTo>
                  <a:pt x="45" y="294"/>
                </a:lnTo>
                <a:lnTo>
                  <a:pt x="71" y="262"/>
                </a:lnTo>
                <a:lnTo>
                  <a:pt x="102" y="230"/>
                </a:lnTo>
                <a:lnTo>
                  <a:pt x="138" y="201"/>
                </a:lnTo>
                <a:lnTo>
                  <a:pt x="180" y="172"/>
                </a:lnTo>
                <a:lnTo>
                  <a:pt x="225" y="145"/>
                </a:lnTo>
                <a:lnTo>
                  <a:pt x="276" y="120"/>
                </a:lnTo>
                <a:lnTo>
                  <a:pt x="331" y="97"/>
                </a:lnTo>
                <a:lnTo>
                  <a:pt x="389" y="76"/>
                </a:lnTo>
                <a:lnTo>
                  <a:pt x="450" y="58"/>
                </a:lnTo>
                <a:lnTo>
                  <a:pt x="514" y="41"/>
                </a:lnTo>
                <a:lnTo>
                  <a:pt x="581" y="27"/>
                </a:lnTo>
                <a:lnTo>
                  <a:pt x="650" y="16"/>
                </a:lnTo>
                <a:lnTo>
                  <a:pt x="720" y="9"/>
                </a:lnTo>
                <a:lnTo>
                  <a:pt x="791" y="3"/>
                </a:lnTo>
                <a:lnTo>
                  <a:pt x="865" y="0"/>
                </a:lnTo>
                <a:lnTo>
                  <a:pt x="936" y="0"/>
                </a:lnTo>
                <a:lnTo>
                  <a:pt x="1008" y="3"/>
                </a:lnTo>
                <a:lnTo>
                  <a:pt x="1080" y="9"/>
                </a:lnTo>
                <a:lnTo>
                  <a:pt x="1152" y="16"/>
                </a:lnTo>
                <a:lnTo>
                  <a:pt x="1220" y="27"/>
                </a:lnTo>
                <a:lnTo>
                  <a:pt x="1286" y="41"/>
                </a:lnTo>
                <a:lnTo>
                  <a:pt x="1351" y="58"/>
                </a:lnTo>
                <a:lnTo>
                  <a:pt x="1412" y="76"/>
                </a:lnTo>
                <a:lnTo>
                  <a:pt x="1470" y="97"/>
                </a:lnTo>
                <a:lnTo>
                  <a:pt x="1524" y="120"/>
                </a:lnTo>
                <a:lnTo>
                  <a:pt x="1574" y="145"/>
                </a:lnTo>
                <a:lnTo>
                  <a:pt x="1620" y="172"/>
                </a:lnTo>
                <a:lnTo>
                  <a:pt x="1661" y="201"/>
                </a:lnTo>
                <a:lnTo>
                  <a:pt x="1698" y="230"/>
                </a:lnTo>
                <a:lnTo>
                  <a:pt x="1730" y="262"/>
                </a:lnTo>
                <a:lnTo>
                  <a:pt x="1754" y="294"/>
                </a:lnTo>
                <a:lnTo>
                  <a:pt x="1776" y="327"/>
                </a:lnTo>
                <a:lnTo>
                  <a:pt x="1789" y="363"/>
                </a:lnTo>
                <a:lnTo>
                  <a:pt x="1799" y="396"/>
                </a:lnTo>
                <a:lnTo>
                  <a:pt x="1802" y="431"/>
                </a:lnTo>
                <a:lnTo>
                  <a:pt x="1799" y="466"/>
                </a:lnTo>
                <a:lnTo>
                  <a:pt x="1789" y="500"/>
                </a:lnTo>
                <a:lnTo>
                  <a:pt x="1776" y="535"/>
                </a:lnTo>
                <a:lnTo>
                  <a:pt x="1754" y="568"/>
                </a:lnTo>
                <a:lnTo>
                  <a:pt x="1730" y="600"/>
                </a:lnTo>
                <a:lnTo>
                  <a:pt x="1698" y="632"/>
                </a:lnTo>
                <a:lnTo>
                  <a:pt x="1661" y="661"/>
                </a:lnTo>
                <a:lnTo>
                  <a:pt x="1620" y="690"/>
                </a:lnTo>
                <a:lnTo>
                  <a:pt x="1574" y="718"/>
                </a:lnTo>
                <a:lnTo>
                  <a:pt x="1524" y="742"/>
                </a:lnTo>
                <a:lnTo>
                  <a:pt x="1470" y="765"/>
                </a:lnTo>
                <a:lnTo>
                  <a:pt x="1412" y="786"/>
                </a:lnTo>
                <a:lnTo>
                  <a:pt x="1351" y="805"/>
                </a:lnTo>
                <a:lnTo>
                  <a:pt x="1286" y="822"/>
                </a:lnTo>
                <a:lnTo>
                  <a:pt x="1220" y="835"/>
                </a:lnTo>
                <a:lnTo>
                  <a:pt x="1152" y="846"/>
                </a:lnTo>
                <a:lnTo>
                  <a:pt x="1080" y="854"/>
                </a:lnTo>
                <a:lnTo>
                  <a:pt x="1008" y="860"/>
                </a:lnTo>
                <a:lnTo>
                  <a:pt x="936" y="863"/>
                </a:lnTo>
                <a:lnTo>
                  <a:pt x="865" y="863"/>
                </a:lnTo>
                <a:lnTo>
                  <a:pt x="791" y="860"/>
                </a:lnTo>
                <a:lnTo>
                  <a:pt x="720" y="854"/>
                </a:lnTo>
                <a:lnTo>
                  <a:pt x="650" y="846"/>
                </a:lnTo>
                <a:lnTo>
                  <a:pt x="581" y="835"/>
                </a:lnTo>
                <a:lnTo>
                  <a:pt x="514" y="822"/>
                </a:lnTo>
                <a:lnTo>
                  <a:pt x="450" y="805"/>
                </a:lnTo>
                <a:lnTo>
                  <a:pt x="389" y="786"/>
                </a:lnTo>
                <a:lnTo>
                  <a:pt x="331" y="765"/>
                </a:lnTo>
                <a:lnTo>
                  <a:pt x="276" y="742"/>
                </a:lnTo>
                <a:lnTo>
                  <a:pt x="225" y="718"/>
                </a:lnTo>
                <a:lnTo>
                  <a:pt x="180" y="690"/>
                </a:lnTo>
                <a:lnTo>
                  <a:pt x="138" y="661"/>
                </a:lnTo>
                <a:lnTo>
                  <a:pt x="102" y="632"/>
                </a:lnTo>
                <a:lnTo>
                  <a:pt x="71" y="600"/>
                </a:lnTo>
                <a:lnTo>
                  <a:pt x="45" y="568"/>
                </a:lnTo>
                <a:lnTo>
                  <a:pt x="26" y="535"/>
                </a:lnTo>
                <a:lnTo>
                  <a:pt x="10" y="500"/>
                </a:lnTo>
                <a:lnTo>
                  <a:pt x="3" y="466"/>
                </a:lnTo>
                <a:lnTo>
                  <a:pt x="0" y="43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73600" y="3116160"/>
            <a:ext cx="7621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25440" y="3119400"/>
            <a:ext cx="653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46480" y="3260880"/>
            <a:ext cx="466560" cy="430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76400" y="2867040"/>
            <a:ext cx="620640" cy="57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66840" y="2905200"/>
            <a:ext cx="24120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74400" y="2909880"/>
            <a:ext cx="22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22320" y="3075120"/>
            <a:ext cx="620640" cy="573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8480" y="3112920"/>
            <a:ext cx="36972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99800" y="3117960"/>
            <a:ext cx="30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OP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21440" y="1455840"/>
            <a:ext cx="736560" cy="677880"/>
          </a:xfrm>
          <a:custGeom>
            <a:avLst/>
            <a:gdLst/>
            <a:ahLst/>
            <a:rect l="l" t="t" r="r" b="b"/>
            <a:pathLst>
              <a:path w="428" h="427">
                <a:moveTo>
                  <a:pt x="62" y="247"/>
                </a:moveTo>
                <a:lnTo>
                  <a:pt x="100" y="247"/>
                </a:lnTo>
                <a:lnTo>
                  <a:pt x="100" y="267"/>
                </a:lnTo>
                <a:lnTo>
                  <a:pt x="329" y="267"/>
                </a:lnTo>
                <a:lnTo>
                  <a:pt x="329" y="247"/>
                </a:lnTo>
                <a:lnTo>
                  <a:pt x="367" y="247"/>
                </a:lnTo>
                <a:lnTo>
                  <a:pt x="367" y="0"/>
                </a:lnTo>
                <a:lnTo>
                  <a:pt x="62" y="0"/>
                </a:lnTo>
                <a:lnTo>
                  <a:pt x="62" y="247"/>
                </a:lnTo>
                <a:lnTo>
                  <a:pt x="62" y="247"/>
                </a:lnTo>
                <a:close/>
                <a:moveTo>
                  <a:pt x="409" y="305"/>
                </a:moveTo>
                <a:lnTo>
                  <a:pt x="19" y="305"/>
                </a:lnTo>
                <a:lnTo>
                  <a:pt x="14" y="306"/>
                </a:lnTo>
                <a:lnTo>
                  <a:pt x="13" y="309"/>
                </a:lnTo>
                <a:lnTo>
                  <a:pt x="0" y="422"/>
                </a:lnTo>
                <a:lnTo>
                  <a:pt x="0" y="425"/>
                </a:lnTo>
                <a:lnTo>
                  <a:pt x="4" y="427"/>
                </a:lnTo>
                <a:lnTo>
                  <a:pt x="423" y="427"/>
                </a:lnTo>
                <a:lnTo>
                  <a:pt x="428" y="425"/>
                </a:lnTo>
                <a:lnTo>
                  <a:pt x="428" y="422"/>
                </a:lnTo>
                <a:lnTo>
                  <a:pt x="414" y="309"/>
                </a:lnTo>
                <a:lnTo>
                  <a:pt x="412" y="306"/>
                </a:lnTo>
                <a:lnTo>
                  <a:pt x="409" y="305"/>
                </a:lnTo>
                <a:lnTo>
                  <a:pt x="409" y="305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92800" y="1847880"/>
            <a:ext cx="393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45200" y="1952640"/>
            <a:ext cx="689040" cy="168120"/>
          </a:xfrm>
          <a:custGeom>
            <a:avLst/>
            <a:gdLst/>
            <a:ahLst/>
            <a:rect l="l" t="t" r="r" b="b"/>
            <a:pathLst>
              <a:path w="400" h="106">
                <a:moveTo>
                  <a:pt x="316" y="82"/>
                </a:moveTo>
                <a:lnTo>
                  <a:pt x="313" y="77"/>
                </a:lnTo>
                <a:lnTo>
                  <a:pt x="304" y="77"/>
                </a:lnTo>
                <a:lnTo>
                  <a:pt x="299" y="82"/>
                </a:lnTo>
                <a:lnTo>
                  <a:pt x="299" y="73"/>
                </a:lnTo>
                <a:lnTo>
                  <a:pt x="298" y="70"/>
                </a:lnTo>
                <a:lnTo>
                  <a:pt x="287" y="70"/>
                </a:lnTo>
                <a:lnTo>
                  <a:pt x="284" y="73"/>
                </a:lnTo>
                <a:lnTo>
                  <a:pt x="284" y="82"/>
                </a:lnTo>
                <a:lnTo>
                  <a:pt x="279" y="77"/>
                </a:lnTo>
                <a:lnTo>
                  <a:pt x="270" y="77"/>
                </a:lnTo>
                <a:lnTo>
                  <a:pt x="267" y="82"/>
                </a:lnTo>
                <a:lnTo>
                  <a:pt x="267" y="99"/>
                </a:lnTo>
                <a:lnTo>
                  <a:pt x="284" y="99"/>
                </a:lnTo>
                <a:lnTo>
                  <a:pt x="301" y="99"/>
                </a:lnTo>
                <a:lnTo>
                  <a:pt x="318" y="99"/>
                </a:lnTo>
                <a:lnTo>
                  <a:pt x="316" y="82"/>
                </a:lnTo>
                <a:lnTo>
                  <a:pt x="316" y="82"/>
                </a:lnTo>
                <a:close/>
                <a:moveTo>
                  <a:pt x="371" y="35"/>
                </a:moveTo>
                <a:lnTo>
                  <a:pt x="368" y="30"/>
                </a:lnTo>
                <a:lnTo>
                  <a:pt x="357" y="30"/>
                </a:lnTo>
                <a:lnTo>
                  <a:pt x="354" y="35"/>
                </a:lnTo>
                <a:lnTo>
                  <a:pt x="351" y="30"/>
                </a:lnTo>
                <a:lnTo>
                  <a:pt x="340" y="30"/>
                </a:lnTo>
                <a:lnTo>
                  <a:pt x="337" y="35"/>
                </a:lnTo>
                <a:lnTo>
                  <a:pt x="334" y="30"/>
                </a:lnTo>
                <a:lnTo>
                  <a:pt x="325" y="30"/>
                </a:lnTo>
                <a:lnTo>
                  <a:pt x="321" y="35"/>
                </a:lnTo>
                <a:lnTo>
                  <a:pt x="322" y="99"/>
                </a:lnTo>
                <a:lnTo>
                  <a:pt x="392" y="99"/>
                </a:lnTo>
                <a:lnTo>
                  <a:pt x="388" y="36"/>
                </a:lnTo>
                <a:lnTo>
                  <a:pt x="385" y="30"/>
                </a:lnTo>
                <a:lnTo>
                  <a:pt x="374" y="30"/>
                </a:lnTo>
                <a:lnTo>
                  <a:pt x="371" y="35"/>
                </a:lnTo>
                <a:lnTo>
                  <a:pt x="371" y="35"/>
                </a:lnTo>
                <a:close/>
                <a:moveTo>
                  <a:pt x="316" y="35"/>
                </a:moveTo>
                <a:lnTo>
                  <a:pt x="313" y="30"/>
                </a:lnTo>
                <a:lnTo>
                  <a:pt x="304" y="30"/>
                </a:lnTo>
                <a:lnTo>
                  <a:pt x="301" y="35"/>
                </a:lnTo>
                <a:lnTo>
                  <a:pt x="298" y="30"/>
                </a:lnTo>
                <a:lnTo>
                  <a:pt x="287" y="30"/>
                </a:lnTo>
                <a:lnTo>
                  <a:pt x="284" y="35"/>
                </a:lnTo>
                <a:lnTo>
                  <a:pt x="281" y="30"/>
                </a:lnTo>
                <a:lnTo>
                  <a:pt x="272" y="30"/>
                </a:lnTo>
                <a:lnTo>
                  <a:pt x="269" y="35"/>
                </a:lnTo>
                <a:lnTo>
                  <a:pt x="267" y="59"/>
                </a:lnTo>
                <a:lnTo>
                  <a:pt x="284" y="59"/>
                </a:lnTo>
                <a:lnTo>
                  <a:pt x="301" y="59"/>
                </a:lnTo>
                <a:lnTo>
                  <a:pt x="318" y="59"/>
                </a:lnTo>
                <a:lnTo>
                  <a:pt x="316" y="35"/>
                </a:lnTo>
                <a:lnTo>
                  <a:pt x="316" y="35"/>
                </a:lnTo>
                <a:close/>
                <a:moveTo>
                  <a:pt x="14" y="35"/>
                </a:moveTo>
                <a:lnTo>
                  <a:pt x="6" y="99"/>
                </a:lnTo>
                <a:lnTo>
                  <a:pt x="43" y="99"/>
                </a:lnTo>
                <a:lnTo>
                  <a:pt x="44" y="82"/>
                </a:lnTo>
                <a:lnTo>
                  <a:pt x="61" y="82"/>
                </a:lnTo>
                <a:lnTo>
                  <a:pt x="64" y="99"/>
                </a:lnTo>
                <a:lnTo>
                  <a:pt x="208" y="99"/>
                </a:lnTo>
                <a:lnTo>
                  <a:pt x="214" y="83"/>
                </a:lnTo>
                <a:lnTo>
                  <a:pt x="229" y="83"/>
                </a:lnTo>
                <a:lnTo>
                  <a:pt x="235" y="99"/>
                </a:lnTo>
                <a:lnTo>
                  <a:pt x="264" y="99"/>
                </a:lnTo>
                <a:lnTo>
                  <a:pt x="263" y="35"/>
                </a:lnTo>
                <a:lnTo>
                  <a:pt x="258" y="30"/>
                </a:lnTo>
                <a:lnTo>
                  <a:pt x="249" y="30"/>
                </a:lnTo>
                <a:lnTo>
                  <a:pt x="246" y="35"/>
                </a:lnTo>
                <a:lnTo>
                  <a:pt x="243" y="30"/>
                </a:lnTo>
                <a:lnTo>
                  <a:pt x="232" y="30"/>
                </a:lnTo>
                <a:lnTo>
                  <a:pt x="229" y="35"/>
                </a:lnTo>
                <a:lnTo>
                  <a:pt x="226" y="30"/>
                </a:lnTo>
                <a:lnTo>
                  <a:pt x="215" y="30"/>
                </a:lnTo>
                <a:lnTo>
                  <a:pt x="212" y="35"/>
                </a:lnTo>
                <a:lnTo>
                  <a:pt x="209" y="30"/>
                </a:lnTo>
                <a:lnTo>
                  <a:pt x="199" y="30"/>
                </a:lnTo>
                <a:lnTo>
                  <a:pt x="196" y="35"/>
                </a:lnTo>
                <a:lnTo>
                  <a:pt x="192" y="30"/>
                </a:lnTo>
                <a:lnTo>
                  <a:pt x="182" y="30"/>
                </a:lnTo>
                <a:lnTo>
                  <a:pt x="179" y="35"/>
                </a:lnTo>
                <a:lnTo>
                  <a:pt x="176" y="30"/>
                </a:lnTo>
                <a:lnTo>
                  <a:pt x="167" y="30"/>
                </a:lnTo>
                <a:lnTo>
                  <a:pt x="162" y="35"/>
                </a:lnTo>
                <a:lnTo>
                  <a:pt x="159" y="30"/>
                </a:lnTo>
                <a:lnTo>
                  <a:pt x="150" y="30"/>
                </a:lnTo>
                <a:lnTo>
                  <a:pt x="147" y="35"/>
                </a:lnTo>
                <a:lnTo>
                  <a:pt x="142" y="30"/>
                </a:lnTo>
                <a:lnTo>
                  <a:pt x="133" y="30"/>
                </a:lnTo>
                <a:lnTo>
                  <a:pt x="130" y="35"/>
                </a:lnTo>
                <a:lnTo>
                  <a:pt x="127" y="30"/>
                </a:lnTo>
                <a:lnTo>
                  <a:pt x="116" y="30"/>
                </a:lnTo>
                <a:lnTo>
                  <a:pt x="113" y="35"/>
                </a:lnTo>
                <a:lnTo>
                  <a:pt x="110" y="30"/>
                </a:lnTo>
                <a:lnTo>
                  <a:pt x="99" y="30"/>
                </a:lnTo>
                <a:lnTo>
                  <a:pt x="96" y="35"/>
                </a:lnTo>
                <a:lnTo>
                  <a:pt x="93" y="30"/>
                </a:lnTo>
                <a:lnTo>
                  <a:pt x="83" y="30"/>
                </a:lnTo>
                <a:lnTo>
                  <a:pt x="80" y="35"/>
                </a:lnTo>
                <a:lnTo>
                  <a:pt x="76" y="30"/>
                </a:lnTo>
                <a:lnTo>
                  <a:pt x="66" y="30"/>
                </a:lnTo>
                <a:lnTo>
                  <a:pt x="63" y="35"/>
                </a:lnTo>
                <a:lnTo>
                  <a:pt x="60" y="30"/>
                </a:lnTo>
                <a:lnTo>
                  <a:pt x="51" y="30"/>
                </a:lnTo>
                <a:lnTo>
                  <a:pt x="46" y="35"/>
                </a:lnTo>
                <a:lnTo>
                  <a:pt x="43" y="30"/>
                </a:lnTo>
                <a:lnTo>
                  <a:pt x="34" y="30"/>
                </a:lnTo>
                <a:lnTo>
                  <a:pt x="29" y="35"/>
                </a:lnTo>
                <a:lnTo>
                  <a:pt x="26" y="30"/>
                </a:lnTo>
                <a:lnTo>
                  <a:pt x="17" y="30"/>
                </a:lnTo>
                <a:lnTo>
                  <a:pt x="14" y="35"/>
                </a:lnTo>
                <a:lnTo>
                  <a:pt x="14" y="35"/>
                </a:lnTo>
                <a:close/>
                <a:moveTo>
                  <a:pt x="318" y="13"/>
                </a:moveTo>
                <a:lnTo>
                  <a:pt x="315" y="9"/>
                </a:lnTo>
                <a:lnTo>
                  <a:pt x="305" y="9"/>
                </a:lnTo>
                <a:lnTo>
                  <a:pt x="301" y="13"/>
                </a:lnTo>
                <a:lnTo>
                  <a:pt x="298" y="9"/>
                </a:lnTo>
                <a:lnTo>
                  <a:pt x="289" y="9"/>
                </a:lnTo>
                <a:lnTo>
                  <a:pt x="284" y="13"/>
                </a:lnTo>
                <a:lnTo>
                  <a:pt x="281" y="9"/>
                </a:lnTo>
                <a:lnTo>
                  <a:pt x="272" y="9"/>
                </a:lnTo>
                <a:lnTo>
                  <a:pt x="269" y="13"/>
                </a:lnTo>
                <a:lnTo>
                  <a:pt x="267" y="25"/>
                </a:lnTo>
                <a:lnTo>
                  <a:pt x="284" y="25"/>
                </a:lnTo>
                <a:lnTo>
                  <a:pt x="301" y="25"/>
                </a:lnTo>
                <a:lnTo>
                  <a:pt x="318" y="25"/>
                </a:lnTo>
                <a:lnTo>
                  <a:pt x="318" y="13"/>
                </a:lnTo>
                <a:lnTo>
                  <a:pt x="318" y="13"/>
                </a:lnTo>
                <a:close/>
                <a:moveTo>
                  <a:pt x="32" y="25"/>
                </a:moveTo>
                <a:lnTo>
                  <a:pt x="32" y="13"/>
                </a:lnTo>
                <a:lnTo>
                  <a:pt x="31" y="13"/>
                </a:lnTo>
                <a:lnTo>
                  <a:pt x="28" y="9"/>
                </a:lnTo>
                <a:lnTo>
                  <a:pt x="19" y="9"/>
                </a:lnTo>
                <a:lnTo>
                  <a:pt x="15" y="13"/>
                </a:lnTo>
                <a:lnTo>
                  <a:pt x="14" y="25"/>
                </a:lnTo>
                <a:lnTo>
                  <a:pt x="31" y="25"/>
                </a:lnTo>
                <a:lnTo>
                  <a:pt x="32" y="25"/>
                </a:lnTo>
                <a:lnTo>
                  <a:pt x="32" y="25"/>
                </a:lnTo>
                <a:close/>
                <a:moveTo>
                  <a:pt x="246" y="13"/>
                </a:moveTo>
                <a:lnTo>
                  <a:pt x="241" y="9"/>
                </a:lnTo>
                <a:lnTo>
                  <a:pt x="232" y="9"/>
                </a:lnTo>
                <a:lnTo>
                  <a:pt x="229" y="13"/>
                </a:lnTo>
                <a:lnTo>
                  <a:pt x="225" y="9"/>
                </a:lnTo>
                <a:lnTo>
                  <a:pt x="215" y="9"/>
                </a:lnTo>
                <a:lnTo>
                  <a:pt x="212" y="13"/>
                </a:lnTo>
                <a:lnTo>
                  <a:pt x="209" y="9"/>
                </a:lnTo>
                <a:lnTo>
                  <a:pt x="199" y="9"/>
                </a:lnTo>
                <a:lnTo>
                  <a:pt x="196" y="13"/>
                </a:lnTo>
                <a:lnTo>
                  <a:pt x="194" y="25"/>
                </a:lnTo>
                <a:lnTo>
                  <a:pt x="212" y="25"/>
                </a:lnTo>
                <a:lnTo>
                  <a:pt x="229" y="25"/>
                </a:lnTo>
                <a:lnTo>
                  <a:pt x="246" y="25"/>
                </a:lnTo>
                <a:lnTo>
                  <a:pt x="263" y="25"/>
                </a:lnTo>
                <a:lnTo>
                  <a:pt x="261" y="13"/>
                </a:lnTo>
                <a:lnTo>
                  <a:pt x="258" y="9"/>
                </a:lnTo>
                <a:lnTo>
                  <a:pt x="249" y="9"/>
                </a:lnTo>
                <a:lnTo>
                  <a:pt x="246" y="13"/>
                </a:lnTo>
                <a:lnTo>
                  <a:pt x="246" y="13"/>
                </a:lnTo>
                <a:close/>
                <a:moveTo>
                  <a:pt x="171" y="13"/>
                </a:moveTo>
                <a:lnTo>
                  <a:pt x="168" y="9"/>
                </a:lnTo>
                <a:lnTo>
                  <a:pt x="157" y="9"/>
                </a:lnTo>
                <a:lnTo>
                  <a:pt x="154" y="13"/>
                </a:lnTo>
                <a:lnTo>
                  <a:pt x="151" y="9"/>
                </a:lnTo>
                <a:lnTo>
                  <a:pt x="141" y="9"/>
                </a:lnTo>
                <a:lnTo>
                  <a:pt x="138" y="13"/>
                </a:lnTo>
                <a:lnTo>
                  <a:pt x="134" y="9"/>
                </a:lnTo>
                <a:lnTo>
                  <a:pt x="124" y="9"/>
                </a:lnTo>
                <a:lnTo>
                  <a:pt x="121" y="13"/>
                </a:lnTo>
                <a:lnTo>
                  <a:pt x="121" y="25"/>
                </a:lnTo>
                <a:lnTo>
                  <a:pt x="138" y="25"/>
                </a:lnTo>
                <a:lnTo>
                  <a:pt x="154" y="25"/>
                </a:lnTo>
                <a:lnTo>
                  <a:pt x="171" y="25"/>
                </a:lnTo>
                <a:lnTo>
                  <a:pt x="188" y="25"/>
                </a:lnTo>
                <a:lnTo>
                  <a:pt x="188" y="13"/>
                </a:lnTo>
                <a:lnTo>
                  <a:pt x="183" y="9"/>
                </a:lnTo>
                <a:lnTo>
                  <a:pt x="174" y="9"/>
                </a:lnTo>
                <a:lnTo>
                  <a:pt x="171" y="13"/>
                </a:lnTo>
                <a:lnTo>
                  <a:pt x="171" y="13"/>
                </a:lnTo>
                <a:close/>
                <a:moveTo>
                  <a:pt x="96" y="13"/>
                </a:moveTo>
                <a:lnTo>
                  <a:pt x="93" y="9"/>
                </a:lnTo>
                <a:lnTo>
                  <a:pt x="84" y="9"/>
                </a:lnTo>
                <a:lnTo>
                  <a:pt x="80" y="13"/>
                </a:lnTo>
                <a:lnTo>
                  <a:pt x="76" y="9"/>
                </a:lnTo>
                <a:lnTo>
                  <a:pt x="67" y="9"/>
                </a:lnTo>
                <a:lnTo>
                  <a:pt x="63" y="13"/>
                </a:lnTo>
                <a:lnTo>
                  <a:pt x="60" y="9"/>
                </a:lnTo>
                <a:lnTo>
                  <a:pt x="51" y="9"/>
                </a:lnTo>
                <a:lnTo>
                  <a:pt x="48" y="13"/>
                </a:lnTo>
                <a:lnTo>
                  <a:pt x="46" y="25"/>
                </a:lnTo>
                <a:lnTo>
                  <a:pt x="63" y="25"/>
                </a:lnTo>
                <a:lnTo>
                  <a:pt x="80" y="25"/>
                </a:lnTo>
                <a:lnTo>
                  <a:pt x="96" y="25"/>
                </a:lnTo>
                <a:lnTo>
                  <a:pt x="115" y="25"/>
                </a:lnTo>
                <a:lnTo>
                  <a:pt x="113" y="13"/>
                </a:lnTo>
                <a:lnTo>
                  <a:pt x="110" y="9"/>
                </a:lnTo>
                <a:lnTo>
                  <a:pt x="99" y="9"/>
                </a:lnTo>
                <a:lnTo>
                  <a:pt x="96" y="13"/>
                </a:lnTo>
                <a:lnTo>
                  <a:pt x="96" y="13"/>
                </a:lnTo>
                <a:close/>
                <a:moveTo>
                  <a:pt x="0" y="106"/>
                </a:moveTo>
                <a:lnTo>
                  <a:pt x="400" y="106"/>
                </a:lnTo>
                <a:lnTo>
                  <a:pt x="389" y="0"/>
                </a:lnTo>
                <a:lnTo>
                  <a:pt x="11" y="0"/>
                </a:lnTo>
                <a:lnTo>
                  <a:pt x="0" y="106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73720" y="1498680"/>
            <a:ext cx="463680" cy="312480"/>
          </a:xfrm>
          <a:custGeom>
            <a:avLst/>
            <a:gdLst/>
            <a:ahLst/>
            <a:rect l="l" t="t" r="r" b="b"/>
            <a:pathLst>
              <a:path w="269" h="197">
                <a:moveTo>
                  <a:pt x="253" y="197"/>
                </a:moveTo>
                <a:lnTo>
                  <a:pt x="269" y="197"/>
                </a:lnTo>
                <a:lnTo>
                  <a:pt x="269" y="193"/>
                </a:lnTo>
                <a:lnTo>
                  <a:pt x="253" y="193"/>
                </a:lnTo>
                <a:lnTo>
                  <a:pt x="253" y="197"/>
                </a:lnTo>
                <a:lnTo>
                  <a:pt x="253" y="197"/>
                </a:lnTo>
                <a:close/>
                <a:moveTo>
                  <a:pt x="20" y="164"/>
                </a:moveTo>
                <a:lnTo>
                  <a:pt x="20" y="20"/>
                </a:lnTo>
                <a:lnTo>
                  <a:pt x="230" y="20"/>
                </a:lnTo>
                <a:lnTo>
                  <a:pt x="230" y="164"/>
                </a:lnTo>
                <a:lnTo>
                  <a:pt x="20" y="164"/>
                </a:lnTo>
                <a:lnTo>
                  <a:pt x="20" y="164"/>
                </a:lnTo>
                <a:close/>
                <a:moveTo>
                  <a:pt x="11" y="173"/>
                </a:moveTo>
                <a:lnTo>
                  <a:pt x="240" y="173"/>
                </a:lnTo>
                <a:lnTo>
                  <a:pt x="240" y="11"/>
                </a:lnTo>
                <a:lnTo>
                  <a:pt x="249" y="11"/>
                </a:lnTo>
                <a:lnTo>
                  <a:pt x="249" y="0"/>
                </a:lnTo>
                <a:lnTo>
                  <a:pt x="0" y="0"/>
                </a:lnTo>
                <a:lnTo>
                  <a:pt x="0" y="10"/>
                </a:lnTo>
                <a:lnTo>
                  <a:pt x="0" y="182"/>
                </a:lnTo>
                <a:lnTo>
                  <a:pt x="11" y="182"/>
                </a:lnTo>
                <a:lnTo>
                  <a:pt x="11" y="173"/>
                </a:lnTo>
                <a:lnTo>
                  <a:pt x="11" y="173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27640" y="1825560"/>
            <a:ext cx="5256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459400" y="1825560"/>
            <a:ext cx="1440" cy="22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589720" y="1825560"/>
            <a:ext cx="1440" cy="22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6800" y="3297240"/>
            <a:ext cx="620640" cy="573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57240" y="3454560"/>
            <a:ext cx="28260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86040" y="345924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84400" y="3011400"/>
            <a:ext cx="1162080" cy="714600"/>
          </a:xfrm>
          <a:custGeom>
            <a:avLst/>
            <a:gdLst/>
            <a:ahLst/>
            <a:rect l="l" t="t" r="r" b="b"/>
            <a:pathLst>
              <a:path w="676" h="450">
                <a:moveTo>
                  <a:pt x="0" y="224"/>
                </a:moveTo>
                <a:lnTo>
                  <a:pt x="3" y="196"/>
                </a:lnTo>
                <a:lnTo>
                  <a:pt x="10" y="167"/>
                </a:lnTo>
                <a:lnTo>
                  <a:pt x="26" y="139"/>
                </a:lnTo>
                <a:lnTo>
                  <a:pt x="44" y="112"/>
                </a:lnTo>
                <a:lnTo>
                  <a:pt x="68" y="87"/>
                </a:lnTo>
                <a:lnTo>
                  <a:pt x="99" y="66"/>
                </a:lnTo>
                <a:lnTo>
                  <a:pt x="131" y="46"/>
                </a:lnTo>
                <a:lnTo>
                  <a:pt x="167" y="29"/>
                </a:lnTo>
                <a:lnTo>
                  <a:pt x="207" y="17"/>
                </a:lnTo>
                <a:lnTo>
                  <a:pt x="250" y="8"/>
                </a:lnTo>
                <a:lnTo>
                  <a:pt x="293" y="2"/>
                </a:lnTo>
                <a:lnTo>
                  <a:pt x="337" y="0"/>
                </a:lnTo>
                <a:lnTo>
                  <a:pt x="381" y="2"/>
                </a:lnTo>
                <a:lnTo>
                  <a:pt x="424" y="8"/>
                </a:lnTo>
                <a:lnTo>
                  <a:pt x="467" y="17"/>
                </a:lnTo>
                <a:lnTo>
                  <a:pt x="506" y="29"/>
                </a:lnTo>
                <a:lnTo>
                  <a:pt x="543" y="46"/>
                </a:lnTo>
                <a:lnTo>
                  <a:pt x="576" y="66"/>
                </a:lnTo>
                <a:lnTo>
                  <a:pt x="605" y="87"/>
                </a:lnTo>
                <a:lnTo>
                  <a:pt x="630" y="112"/>
                </a:lnTo>
                <a:lnTo>
                  <a:pt x="650" y="139"/>
                </a:lnTo>
                <a:lnTo>
                  <a:pt x="663" y="167"/>
                </a:lnTo>
                <a:lnTo>
                  <a:pt x="672" y="196"/>
                </a:lnTo>
                <a:lnTo>
                  <a:pt x="676" y="224"/>
                </a:lnTo>
                <a:lnTo>
                  <a:pt x="672" y="253"/>
                </a:lnTo>
                <a:lnTo>
                  <a:pt x="663" y="282"/>
                </a:lnTo>
                <a:lnTo>
                  <a:pt x="650" y="311"/>
                </a:lnTo>
                <a:lnTo>
                  <a:pt x="630" y="337"/>
                </a:lnTo>
                <a:lnTo>
                  <a:pt x="605" y="362"/>
                </a:lnTo>
                <a:lnTo>
                  <a:pt x="576" y="385"/>
                </a:lnTo>
                <a:lnTo>
                  <a:pt x="543" y="403"/>
                </a:lnTo>
                <a:lnTo>
                  <a:pt x="506" y="420"/>
                </a:lnTo>
                <a:lnTo>
                  <a:pt x="467" y="433"/>
                </a:lnTo>
                <a:lnTo>
                  <a:pt x="424" y="443"/>
                </a:lnTo>
                <a:lnTo>
                  <a:pt x="381" y="449"/>
                </a:lnTo>
                <a:lnTo>
                  <a:pt x="337" y="450"/>
                </a:lnTo>
                <a:lnTo>
                  <a:pt x="293" y="449"/>
                </a:lnTo>
                <a:lnTo>
                  <a:pt x="250" y="443"/>
                </a:lnTo>
                <a:lnTo>
                  <a:pt x="207" y="433"/>
                </a:lnTo>
                <a:lnTo>
                  <a:pt x="167" y="420"/>
                </a:lnTo>
                <a:lnTo>
                  <a:pt x="131" y="403"/>
                </a:lnTo>
                <a:lnTo>
                  <a:pt x="99" y="385"/>
                </a:lnTo>
                <a:lnTo>
                  <a:pt x="68" y="362"/>
                </a:lnTo>
                <a:lnTo>
                  <a:pt x="44" y="337"/>
                </a:lnTo>
                <a:lnTo>
                  <a:pt x="26" y="311"/>
                </a:lnTo>
                <a:lnTo>
                  <a:pt x="10" y="282"/>
                </a:lnTo>
                <a:lnTo>
                  <a:pt x="3" y="253"/>
                </a:lnTo>
                <a:lnTo>
                  <a:pt x="0" y="22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16040" y="3071880"/>
            <a:ext cx="360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53480" y="3075120"/>
            <a:ext cx="28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46920" y="3041640"/>
            <a:ext cx="1162080" cy="712800"/>
          </a:xfrm>
          <a:custGeom>
            <a:avLst/>
            <a:gdLst/>
            <a:ahLst/>
            <a:rect l="l" t="t" r="r" b="b"/>
            <a:pathLst>
              <a:path w="676" h="449">
                <a:moveTo>
                  <a:pt x="0" y="224"/>
                </a:moveTo>
                <a:lnTo>
                  <a:pt x="3" y="195"/>
                </a:lnTo>
                <a:lnTo>
                  <a:pt x="12" y="166"/>
                </a:lnTo>
                <a:lnTo>
                  <a:pt x="26" y="138"/>
                </a:lnTo>
                <a:lnTo>
                  <a:pt x="46" y="112"/>
                </a:lnTo>
                <a:lnTo>
                  <a:pt x="70" y="87"/>
                </a:lnTo>
                <a:lnTo>
                  <a:pt x="99" y="65"/>
                </a:lnTo>
                <a:lnTo>
                  <a:pt x="133" y="45"/>
                </a:lnTo>
                <a:lnTo>
                  <a:pt x="169" y="29"/>
                </a:lnTo>
                <a:lnTo>
                  <a:pt x="209" y="16"/>
                </a:lnTo>
                <a:lnTo>
                  <a:pt x="250" y="7"/>
                </a:lnTo>
                <a:lnTo>
                  <a:pt x="294" y="1"/>
                </a:lnTo>
                <a:lnTo>
                  <a:pt x="339" y="0"/>
                </a:lnTo>
                <a:lnTo>
                  <a:pt x="383" y="1"/>
                </a:lnTo>
                <a:lnTo>
                  <a:pt x="426" y="7"/>
                </a:lnTo>
                <a:lnTo>
                  <a:pt x="468" y="16"/>
                </a:lnTo>
                <a:lnTo>
                  <a:pt x="508" y="29"/>
                </a:lnTo>
                <a:lnTo>
                  <a:pt x="545" y="45"/>
                </a:lnTo>
                <a:lnTo>
                  <a:pt x="577" y="65"/>
                </a:lnTo>
                <a:lnTo>
                  <a:pt x="606" y="87"/>
                </a:lnTo>
                <a:lnTo>
                  <a:pt x="632" y="112"/>
                </a:lnTo>
                <a:lnTo>
                  <a:pt x="650" y="138"/>
                </a:lnTo>
                <a:lnTo>
                  <a:pt x="665" y="166"/>
                </a:lnTo>
                <a:lnTo>
                  <a:pt x="673" y="195"/>
                </a:lnTo>
                <a:lnTo>
                  <a:pt x="676" y="224"/>
                </a:lnTo>
                <a:lnTo>
                  <a:pt x="673" y="254"/>
                </a:lnTo>
                <a:lnTo>
                  <a:pt x="665" y="283"/>
                </a:lnTo>
                <a:lnTo>
                  <a:pt x="650" y="311"/>
                </a:lnTo>
                <a:lnTo>
                  <a:pt x="632" y="337"/>
                </a:lnTo>
                <a:lnTo>
                  <a:pt x="606" y="361"/>
                </a:lnTo>
                <a:lnTo>
                  <a:pt x="577" y="384"/>
                </a:lnTo>
                <a:lnTo>
                  <a:pt x="545" y="402"/>
                </a:lnTo>
                <a:lnTo>
                  <a:pt x="508" y="419"/>
                </a:lnTo>
                <a:lnTo>
                  <a:pt x="468" y="433"/>
                </a:lnTo>
                <a:lnTo>
                  <a:pt x="426" y="442"/>
                </a:lnTo>
                <a:lnTo>
                  <a:pt x="383" y="448"/>
                </a:lnTo>
                <a:lnTo>
                  <a:pt x="339" y="449"/>
                </a:lnTo>
                <a:lnTo>
                  <a:pt x="294" y="448"/>
                </a:lnTo>
                <a:lnTo>
                  <a:pt x="250" y="442"/>
                </a:lnTo>
                <a:lnTo>
                  <a:pt x="209" y="433"/>
                </a:lnTo>
                <a:lnTo>
                  <a:pt x="169" y="419"/>
                </a:lnTo>
                <a:lnTo>
                  <a:pt x="133" y="402"/>
                </a:lnTo>
                <a:lnTo>
                  <a:pt x="99" y="384"/>
                </a:lnTo>
                <a:lnTo>
                  <a:pt x="70" y="361"/>
                </a:lnTo>
                <a:lnTo>
                  <a:pt x="46" y="337"/>
                </a:lnTo>
                <a:lnTo>
                  <a:pt x="26" y="311"/>
                </a:lnTo>
                <a:lnTo>
                  <a:pt x="12" y="283"/>
                </a:lnTo>
                <a:lnTo>
                  <a:pt x="3" y="254"/>
                </a:lnTo>
                <a:lnTo>
                  <a:pt x="0" y="22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81800" y="3100320"/>
            <a:ext cx="360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18880" y="3103560"/>
            <a:ext cx="28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827440" y="4629240"/>
            <a:ext cx="737640" cy="681120"/>
            <a:chOff x="2827440" y="4629240"/>
            <a:chExt cx="737640" cy="681120"/>
          </a:xfrm>
        </p:grpSpPr>
        <p:sp>
          <p:nvSpPr>
            <p:cNvPr id="347" name=""/>
            <p:cNvSpPr/>
            <p:nvPr/>
          </p:nvSpPr>
          <p:spPr>
            <a:xfrm>
              <a:off x="2827440" y="4629240"/>
              <a:ext cx="737640" cy="681120"/>
            </a:xfrm>
            <a:custGeom>
              <a:avLst/>
              <a:gdLst/>
              <a:ahLst/>
              <a:rect l="l" t="t" r="r" b="b"/>
              <a:pathLst>
                <a:path w="429" h="429">
                  <a:moveTo>
                    <a:pt x="61" y="249"/>
                  </a:moveTo>
                  <a:lnTo>
                    <a:pt x="100" y="249"/>
                  </a:lnTo>
                  <a:lnTo>
                    <a:pt x="100" y="268"/>
                  </a:lnTo>
                  <a:lnTo>
                    <a:pt x="330" y="268"/>
                  </a:lnTo>
                  <a:lnTo>
                    <a:pt x="330" y="249"/>
                  </a:lnTo>
                  <a:lnTo>
                    <a:pt x="368" y="249"/>
                  </a:lnTo>
                  <a:lnTo>
                    <a:pt x="368" y="0"/>
                  </a:lnTo>
                  <a:lnTo>
                    <a:pt x="61" y="0"/>
                  </a:lnTo>
                  <a:lnTo>
                    <a:pt x="61" y="249"/>
                  </a:lnTo>
                  <a:lnTo>
                    <a:pt x="61" y="249"/>
                  </a:lnTo>
                  <a:close/>
                  <a:moveTo>
                    <a:pt x="411" y="307"/>
                  </a:moveTo>
                  <a:lnTo>
                    <a:pt x="19" y="307"/>
                  </a:lnTo>
                  <a:lnTo>
                    <a:pt x="16" y="308"/>
                  </a:lnTo>
                  <a:lnTo>
                    <a:pt x="14" y="311"/>
                  </a:lnTo>
                  <a:lnTo>
                    <a:pt x="0" y="424"/>
                  </a:lnTo>
                  <a:lnTo>
                    <a:pt x="2" y="427"/>
                  </a:lnTo>
                  <a:lnTo>
                    <a:pt x="5" y="429"/>
                  </a:lnTo>
                  <a:lnTo>
                    <a:pt x="425" y="429"/>
                  </a:lnTo>
                  <a:lnTo>
                    <a:pt x="428" y="427"/>
                  </a:lnTo>
                  <a:lnTo>
                    <a:pt x="429" y="424"/>
                  </a:lnTo>
                  <a:lnTo>
                    <a:pt x="415" y="311"/>
                  </a:lnTo>
                  <a:lnTo>
                    <a:pt x="414" y="308"/>
                  </a:lnTo>
                  <a:lnTo>
                    <a:pt x="411" y="307"/>
                  </a:lnTo>
                  <a:lnTo>
                    <a:pt x="411" y="307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99520" y="5024520"/>
              <a:ext cx="395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51200" y="5127480"/>
              <a:ext cx="690120" cy="169920"/>
            </a:xfrm>
            <a:custGeom>
              <a:avLst/>
              <a:gdLst/>
              <a:ahLst/>
              <a:rect l="l" t="t" r="r" b="b"/>
              <a:pathLst>
                <a:path w="401" h="107">
                  <a:moveTo>
                    <a:pt x="317" y="81"/>
                  </a:moveTo>
                  <a:lnTo>
                    <a:pt x="314" y="78"/>
                  </a:lnTo>
                  <a:lnTo>
                    <a:pt x="305" y="78"/>
                  </a:lnTo>
                  <a:lnTo>
                    <a:pt x="301" y="82"/>
                  </a:lnTo>
                  <a:lnTo>
                    <a:pt x="301" y="73"/>
                  </a:lnTo>
                  <a:lnTo>
                    <a:pt x="298" y="69"/>
                  </a:lnTo>
                  <a:lnTo>
                    <a:pt x="287" y="69"/>
                  </a:lnTo>
                  <a:lnTo>
                    <a:pt x="284" y="73"/>
                  </a:lnTo>
                  <a:lnTo>
                    <a:pt x="284" y="82"/>
                  </a:lnTo>
                  <a:lnTo>
                    <a:pt x="281" y="78"/>
                  </a:lnTo>
                  <a:lnTo>
                    <a:pt x="272" y="78"/>
                  </a:lnTo>
                  <a:lnTo>
                    <a:pt x="269" y="81"/>
                  </a:lnTo>
                  <a:lnTo>
                    <a:pt x="269" y="99"/>
                  </a:lnTo>
                  <a:lnTo>
                    <a:pt x="285" y="99"/>
                  </a:lnTo>
                  <a:lnTo>
                    <a:pt x="302" y="99"/>
                  </a:lnTo>
                  <a:lnTo>
                    <a:pt x="319" y="99"/>
                  </a:lnTo>
                  <a:lnTo>
                    <a:pt x="317" y="81"/>
                  </a:lnTo>
                  <a:lnTo>
                    <a:pt x="317" y="81"/>
                  </a:lnTo>
                  <a:close/>
                  <a:moveTo>
                    <a:pt x="372" y="35"/>
                  </a:moveTo>
                  <a:lnTo>
                    <a:pt x="369" y="31"/>
                  </a:lnTo>
                  <a:lnTo>
                    <a:pt x="359" y="31"/>
                  </a:lnTo>
                  <a:lnTo>
                    <a:pt x="356" y="35"/>
                  </a:lnTo>
                  <a:lnTo>
                    <a:pt x="353" y="31"/>
                  </a:lnTo>
                  <a:lnTo>
                    <a:pt x="342" y="31"/>
                  </a:lnTo>
                  <a:lnTo>
                    <a:pt x="339" y="35"/>
                  </a:lnTo>
                  <a:lnTo>
                    <a:pt x="336" y="31"/>
                  </a:lnTo>
                  <a:lnTo>
                    <a:pt x="325" y="31"/>
                  </a:lnTo>
                  <a:lnTo>
                    <a:pt x="322" y="35"/>
                  </a:lnTo>
                  <a:lnTo>
                    <a:pt x="322" y="99"/>
                  </a:lnTo>
                  <a:lnTo>
                    <a:pt x="394" y="99"/>
                  </a:lnTo>
                  <a:lnTo>
                    <a:pt x="389" y="35"/>
                  </a:lnTo>
                  <a:lnTo>
                    <a:pt x="385" y="31"/>
                  </a:lnTo>
                  <a:lnTo>
                    <a:pt x="375" y="31"/>
                  </a:lnTo>
                  <a:lnTo>
                    <a:pt x="372" y="35"/>
                  </a:lnTo>
                  <a:lnTo>
                    <a:pt x="372" y="35"/>
                  </a:lnTo>
                  <a:close/>
                  <a:moveTo>
                    <a:pt x="317" y="35"/>
                  </a:moveTo>
                  <a:lnTo>
                    <a:pt x="314" y="31"/>
                  </a:lnTo>
                  <a:lnTo>
                    <a:pt x="305" y="31"/>
                  </a:lnTo>
                  <a:lnTo>
                    <a:pt x="301" y="35"/>
                  </a:lnTo>
                  <a:lnTo>
                    <a:pt x="298" y="31"/>
                  </a:lnTo>
                  <a:lnTo>
                    <a:pt x="288" y="31"/>
                  </a:lnTo>
                  <a:lnTo>
                    <a:pt x="285" y="35"/>
                  </a:lnTo>
                  <a:lnTo>
                    <a:pt x="282" y="31"/>
                  </a:lnTo>
                  <a:lnTo>
                    <a:pt x="272" y="31"/>
                  </a:lnTo>
                  <a:lnTo>
                    <a:pt x="269" y="35"/>
                  </a:lnTo>
                  <a:lnTo>
                    <a:pt x="269" y="60"/>
                  </a:lnTo>
                  <a:lnTo>
                    <a:pt x="285" y="60"/>
                  </a:lnTo>
                  <a:lnTo>
                    <a:pt x="301" y="60"/>
                  </a:lnTo>
                  <a:lnTo>
                    <a:pt x="319" y="60"/>
                  </a:lnTo>
                  <a:lnTo>
                    <a:pt x="317" y="35"/>
                  </a:lnTo>
                  <a:lnTo>
                    <a:pt x="317" y="35"/>
                  </a:lnTo>
                  <a:close/>
                  <a:moveTo>
                    <a:pt x="14" y="35"/>
                  </a:moveTo>
                  <a:lnTo>
                    <a:pt x="8" y="99"/>
                  </a:lnTo>
                  <a:lnTo>
                    <a:pt x="43" y="99"/>
                  </a:lnTo>
                  <a:lnTo>
                    <a:pt x="46" y="81"/>
                  </a:lnTo>
                  <a:lnTo>
                    <a:pt x="63" y="81"/>
                  </a:lnTo>
                  <a:lnTo>
                    <a:pt x="66" y="99"/>
                  </a:lnTo>
                  <a:lnTo>
                    <a:pt x="208" y="99"/>
                  </a:lnTo>
                  <a:lnTo>
                    <a:pt x="215" y="84"/>
                  </a:lnTo>
                  <a:lnTo>
                    <a:pt x="229" y="84"/>
                  </a:lnTo>
                  <a:lnTo>
                    <a:pt x="237" y="99"/>
                  </a:lnTo>
                  <a:lnTo>
                    <a:pt x="266" y="99"/>
                  </a:lnTo>
                  <a:lnTo>
                    <a:pt x="263" y="35"/>
                  </a:lnTo>
                  <a:lnTo>
                    <a:pt x="259" y="31"/>
                  </a:lnTo>
                  <a:lnTo>
                    <a:pt x="250" y="31"/>
                  </a:lnTo>
                  <a:lnTo>
                    <a:pt x="246" y="35"/>
                  </a:lnTo>
                  <a:lnTo>
                    <a:pt x="243" y="31"/>
                  </a:lnTo>
                  <a:lnTo>
                    <a:pt x="234" y="31"/>
                  </a:lnTo>
                  <a:lnTo>
                    <a:pt x="231" y="35"/>
                  </a:lnTo>
                  <a:lnTo>
                    <a:pt x="226" y="31"/>
                  </a:lnTo>
                  <a:lnTo>
                    <a:pt x="217" y="31"/>
                  </a:lnTo>
                  <a:lnTo>
                    <a:pt x="214" y="35"/>
                  </a:lnTo>
                  <a:lnTo>
                    <a:pt x="211" y="31"/>
                  </a:lnTo>
                  <a:lnTo>
                    <a:pt x="200" y="31"/>
                  </a:lnTo>
                  <a:lnTo>
                    <a:pt x="197" y="35"/>
                  </a:lnTo>
                  <a:lnTo>
                    <a:pt x="194" y="31"/>
                  </a:lnTo>
                  <a:lnTo>
                    <a:pt x="183" y="31"/>
                  </a:lnTo>
                  <a:lnTo>
                    <a:pt x="180" y="35"/>
                  </a:lnTo>
                  <a:lnTo>
                    <a:pt x="177" y="31"/>
                  </a:lnTo>
                  <a:lnTo>
                    <a:pt x="166" y="31"/>
                  </a:lnTo>
                  <a:lnTo>
                    <a:pt x="163" y="35"/>
                  </a:lnTo>
                  <a:lnTo>
                    <a:pt x="160" y="31"/>
                  </a:lnTo>
                  <a:lnTo>
                    <a:pt x="150" y="31"/>
                  </a:lnTo>
                  <a:lnTo>
                    <a:pt x="147" y="35"/>
                  </a:lnTo>
                  <a:lnTo>
                    <a:pt x="144" y="31"/>
                  </a:lnTo>
                  <a:lnTo>
                    <a:pt x="134" y="31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118" y="31"/>
                  </a:lnTo>
                  <a:lnTo>
                    <a:pt x="115" y="35"/>
                  </a:lnTo>
                  <a:lnTo>
                    <a:pt x="110" y="31"/>
                  </a:lnTo>
                  <a:lnTo>
                    <a:pt x="101" y="31"/>
                  </a:lnTo>
                  <a:lnTo>
                    <a:pt x="98" y="35"/>
                  </a:lnTo>
                  <a:lnTo>
                    <a:pt x="93" y="31"/>
                  </a:lnTo>
                  <a:lnTo>
                    <a:pt x="84" y="31"/>
                  </a:lnTo>
                  <a:lnTo>
                    <a:pt x="81" y="35"/>
                  </a:lnTo>
                  <a:lnTo>
                    <a:pt x="78" y="31"/>
                  </a:lnTo>
                  <a:lnTo>
                    <a:pt x="67" y="31"/>
                  </a:lnTo>
                  <a:lnTo>
                    <a:pt x="64" y="35"/>
                  </a:lnTo>
                  <a:lnTo>
                    <a:pt x="61" y="31"/>
                  </a:lnTo>
                  <a:lnTo>
                    <a:pt x="50" y="31"/>
                  </a:lnTo>
                  <a:lnTo>
                    <a:pt x="47" y="35"/>
                  </a:lnTo>
                  <a:lnTo>
                    <a:pt x="44" y="31"/>
                  </a:lnTo>
                  <a:lnTo>
                    <a:pt x="34" y="31"/>
                  </a:lnTo>
                  <a:lnTo>
                    <a:pt x="31" y="35"/>
                  </a:lnTo>
                  <a:lnTo>
                    <a:pt x="28" y="31"/>
                  </a:lnTo>
                  <a:lnTo>
                    <a:pt x="17" y="31"/>
                  </a:lnTo>
                  <a:lnTo>
                    <a:pt x="14" y="35"/>
                  </a:lnTo>
                  <a:lnTo>
                    <a:pt x="14" y="35"/>
                  </a:lnTo>
                  <a:close/>
                  <a:moveTo>
                    <a:pt x="319" y="12"/>
                  </a:moveTo>
                  <a:lnTo>
                    <a:pt x="316" y="8"/>
                  </a:lnTo>
                  <a:lnTo>
                    <a:pt x="305" y="8"/>
                  </a:lnTo>
                  <a:lnTo>
                    <a:pt x="302" y="12"/>
                  </a:lnTo>
                  <a:lnTo>
                    <a:pt x="299" y="8"/>
                  </a:lnTo>
                  <a:lnTo>
                    <a:pt x="288" y="8"/>
                  </a:lnTo>
                  <a:lnTo>
                    <a:pt x="285" y="12"/>
                  </a:lnTo>
                  <a:lnTo>
                    <a:pt x="282" y="8"/>
                  </a:lnTo>
                  <a:lnTo>
                    <a:pt x="272" y="8"/>
                  </a:lnTo>
                  <a:lnTo>
                    <a:pt x="269" y="12"/>
                  </a:lnTo>
                  <a:lnTo>
                    <a:pt x="269" y="26"/>
                  </a:lnTo>
                  <a:lnTo>
                    <a:pt x="285" y="26"/>
                  </a:lnTo>
                  <a:lnTo>
                    <a:pt x="302" y="26"/>
                  </a:lnTo>
                  <a:lnTo>
                    <a:pt x="319" y="26"/>
                  </a:lnTo>
                  <a:lnTo>
                    <a:pt x="319" y="12"/>
                  </a:lnTo>
                  <a:lnTo>
                    <a:pt x="319" y="12"/>
                  </a:lnTo>
                  <a:close/>
                  <a:moveTo>
                    <a:pt x="34" y="26"/>
                  </a:moveTo>
                  <a:lnTo>
                    <a:pt x="32" y="12"/>
                  </a:lnTo>
                  <a:lnTo>
                    <a:pt x="29" y="8"/>
                  </a:lnTo>
                  <a:lnTo>
                    <a:pt x="18" y="8"/>
                  </a:lnTo>
                  <a:lnTo>
                    <a:pt x="15" y="12"/>
                  </a:lnTo>
                  <a:lnTo>
                    <a:pt x="15" y="26"/>
                  </a:lnTo>
                  <a:lnTo>
                    <a:pt x="32" y="26"/>
                  </a:lnTo>
                  <a:lnTo>
                    <a:pt x="34" y="26"/>
                  </a:lnTo>
                  <a:lnTo>
                    <a:pt x="34" y="26"/>
                  </a:lnTo>
                  <a:close/>
                  <a:moveTo>
                    <a:pt x="246" y="12"/>
                  </a:moveTo>
                  <a:lnTo>
                    <a:pt x="243" y="8"/>
                  </a:lnTo>
                  <a:lnTo>
                    <a:pt x="234" y="8"/>
                  </a:lnTo>
                  <a:lnTo>
                    <a:pt x="229" y="12"/>
                  </a:lnTo>
                  <a:lnTo>
                    <a:pt x="226" y="8"/>
                  </a:lnTo>
                  <a:lnTo>
                    <a:pt x="217" y="8"/>
                  </a:lnTo>
                  <a:lnTo>
                    <a:pt x="212" y="12"/>
                  </a:lnTo>
                  <a:lnTo>
                    <a:pt x="209" y="8"/>
                  </a:lnTo>
                  <a:lnTo>
                    <a:pt x="200" y="8"/>
                  </a:lnTo>
                  <a:lnTo>
                    <a:pt x="197" y="12"/>
                  </a:lnTo>
                  <a:lnTo>
                    <a:pt x="195" y="26"/>
                  </a:lnTo>
                  <a:lnTo>
                    <a:pt x="212" y="26"/>
                  </a:lnTo>
                  <a:lnTo>
                    <a:pt x="229" y="26"/>
                  </a:lnTo>
                  <a:lnTo>
                    <a:pt x="246" y="26"/>
                  </a:lnTo>
                  <a:lnTo>
                    <a:pt x="263" y="26"/>
                  </a:lnTo>
                  <a:lnTo>
                    <a:pt x="263" y="12"/>
                  </a:lnTo>
                  <a:lnTo>
                    <a:pt x="259" y="8"/>
                  </a:lnTo>
                  <a:lnTo>
                    <a:pt x="249" y="8"/>
                  </a:lnTo>
                  <a:lnTo>
                    <a:pt x="246" y="12"/>
                  </a:lnTo>
                  <a:lnTo>
                    <a:pt x="246" y="12"/>
                  </a:lnTo>
                  <a:close/>
                  <a:moveTo>
                    <a:pt x="171" y="12"/>
                  </a:moveTo>
                  <a:lnTo>
                    <a:pt x="168" y="8"/>
                  </a:lnTo>
                  <a:lnTo>
                    <a:pt x="159" y="8"/>
                  </a:lnTo>
                  <a:lnTo>
                    <a:pt x="156" y="12"/>
                  </a:lnTo>
                  <a:lnTo>
                    <a:pt x="151" y="8"/>
                  </a:lnTo>
                  <a:lnTo>
                    <a:pt x="142" y="8"/>
                  </a:lnTo>
                  <a:lnTo>
                    <a:pt x="139" y="12"/>
                  </a:lnTo>
                  <a:lnTo>
                    <a:pt x="136" y="8"/>
                  </a:lnTo>
                  <a:lnTo>
                    <a:pt x="125" y="8"/>
                  </a:lnTo>
                  <a:lnTo>
                    <a:pt x="122" y="12"/>
                  </a:lnTo>
                  <a:lnTo>
                    <a:pt x="121" y="26"/>
                  </a:lnTo>
                  <a:lnTo>
                    <a:pt x="139" y="26"/>
                  </a:lnTo>
                  <a:lnTo>
                    <a:pt x="156" y="26"/>
                  </a:lnTo>
                  <a:lnTo>
                    <a:pt x="171" y="26"/>
                  </a:lnTo>
                  <a:lnTo>
                    <a:pt x="189" y="26"/>
                  </a:lnTo>
                  <a:lnTo>
                    <a:pt x="188" y="12"/>
                  </a:lnTo>
                  <a:lnTo>
                    <a:pt x="185" y="8"/>
                  </a:lnTo>
                  <a:lnTo>
                    <a:pt x="176" y="8"/>
                  </a:lnTo>
                  <a:lnTo>
                    <a:pt x="171" y="12"/>
                  </a:lnTo>
                  <a:lnTo>
                    <a:pt x="171" y="12"/>
                  </a:lnTo>
                  <a:close/>
                  <a:moveTo>
                    <a:pt x="98" y="12"/>
                  </a:moveTo>
                  <a:lnTo>
                    <a:pt x="95" y="8"/>
                  </a:lnTo>
                  <a:lnTo>
                    <a:pt x="84" y="8"/>
                  </a:lnTo>
                  <a:lnTo>
                    <a:pt x="81" y="12"/>
                  </a:lnTo>
                  <a:lnTo>
                    <a:pt x="78" y="8"/>
                  </a:lnTo>
                  <a:lnTo>
                    <a:pt x="67" y="8"/>
                  </a:lnTo>
                  <a:lnTo>
                    <a:pt x="64" y="12"/>
                  </a:lnTo>
                  <a:lnTo>
                    <a:pt x="61" y="8"/>
                  </a:lnTo>
                  <a:lnTo>
                    <a:pt x="50" y="8"/>
                  </a:lnTo>
                  <a:lnTo>
                    <a:pt x="47" y="12"/>
                  </a:lnTo>
                  <a:lnTo>
                    <a:pt x="47" y="26"/>
                  </a:lnTo>
                  <a:lnTo>
                    <a:pt x="64" y="26"/>
                  </a:lnTo>
                  <a:lnTo>
                    <a:pt x="81" y="26"/>
                  </a:lnTo>
                  <a:lnTo>
                    <a:pt x="98" y="26"/>
                  </a:lnTo>
                  <a:lnTo>
                    <a:pt x="115" y="26"/>
                  </a:lnTo>
                  <a:lnTo>
                    <a:pt x="115" y="12"/>
                  </a:lnTo>
                  <a:lnTo>
                    <a:pt x="111" y="8"/>
                  </a:lnTo>
                  <a:lnTo>
                    <a:pt x="101" y="8"/>
                  </a:lnTo>
                  <a:lnTo>
                    <a:pt x="98" y="12"/>
                  </a:lnTo>
                  <a:lnTo>
                    <a:pt x="98" y="12"/>
                  </a:lnTo>
                  <a:close/>
                  <a:moveTo>
                    <a:pt x="0" y="107"/>
                  </a:moveTo>
                  <a:lnTo>
                    <a:pt x="401" y="107"/>
                  </a:lnTo>
                  <a:lnTo>
                    <a:pt x="391" y="0"/>
                  </a:lnTo>
                  <a:lnTo>
                    <a:pt x="11" y="0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81880" y="4675320"/>
              <a:ext cx="462960" cy="309600"/>
            </a:xfrm>
            <a:custGeom>
              <a:avLst/>
              <a:gdLst/>
              <a:ahLst/>
              <a:rect l="l" t="t" r="r" b="b"/>
              <a:pathLst>
                <a:path w="269" h="195">
                  <a:moveTo>
                    <a:pt x="254" y="195"/>
                  </a:moveTo>
                  <a:lnTo>
                    <a:pt x="269" y="195"/>
                  </a:lnTo>
                  <a:lnTo>
                    <a:pt x="269" y="191"/>
                  </a:lnTo>
                  <a:lnTo>
                    <a:pt x="254" y="191"/>
                  </a:lnTo>
                  <a:lnTo>
                    <a:pt x="254" y="195"/>
                  </a:lnTo>
                  <a:lnTo>
                    <a:pt x="254" y="195"/>
                  </a:lnTo>
                  <a:close/>
                  <a:moveTo>
                    <a:pt x="20" y="163"/>
                  </a:moveTo>
                  <a:lnTo>
                    <a:pt x="20" y="20"/>
                  </a:lnTo>
                  <a:lnTo>
                    <a:pt x="229" y="20"/>
                  </a:lnTo>
                  <a:lnTo>
                    <a:pt x="229" y="163"/>
                  </a:lnTo>
                  <a:lnTo>
                    <a:pt x="20" y="163"/>
                  </a:lnTo>
                  <a:lnTo>
                    <a:pt x="20" y="163"/>
                  </a:lnTo>
                  <a:close/>
                  <a:moveTo>
                    <a:pt x="10" y="172"/>
                  </a:moveTo>
                  <a:lnTo>
                    <a:pt x="240" y="172"/>
                  </a:lnTo>
                  <a:lnTo>
                    <a:pt x="240" y="9"/>
                  </a:lnTo>
                  <a:lnTo>
                    <a:pt x="249" y="9"/>
                  </a:lnTo>
                  <a:lnTo>
                    <a:pt x="24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81"/>
                  </a:lnTo>
                  <a:lnTo>
                    <a:pt x="10" y="181"/>
                  </a:lnTo>
                  <a:lnTo>
                    <a:pt x="10" y="172"/>
                  </a:lnTo>
                  <a:lnTo>
                    <a:pt x="10" y="1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32200" y="5002200"/>
              <a:ext cx="5277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3064680" y="500220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3198960" y="5002200"/>
              <a:ext cx="14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3168720" y="3189240"/>
            <a:ext cx="465120" cy="43200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561000" y="3290760"/>
            <a:ext cx="466920" cy="430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81800" y="3219480"/>
            <a:ext cx="466560" cy="43020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33960" y="1504800"/>
            <a:ext cx="906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69600" y="150804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T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03240" y="1508040"/>
            <a:ext cx="19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50560" y="1508040"/>
            <a:ext cx="39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24840" y="166068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(AMH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798040" y="2525760"/>
            <a:ext cx="3063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835840" y="2529000"/>
            <a:ext cx="28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651880" y="2646360"/>
            <a:ext cx="6746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674920" y="2649600"/>
            <a:ext cx="62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57560" y="3867120"/>
            <a:ext cx="73008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11560" y="3870360"/>
            <a:ext cx="67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 / 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40000" y="4019400"/>
            <a:ext cx="46188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55480" y="40226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41920" y="3867120"/>
            <a:ext cx="7304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95920" y="3870360"/>
            <a:ext cx="67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 / 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624720" y="4019400"/>
            <a:ext cx="46188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640200" y="40226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767800" y="2898720"/>
            <a:ext cx="620640" cy="573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958240" y="2935440"/>
            <a:ext cx="24120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965800" y="2940120"/>
            <a:ext cx="22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612280" y="3103560"/>
            <a:ext cx="620640" cy="573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758080" y="3143160"/>
            <a:ext cx="3700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790120" y="3147840"/>
            <a:ext cx="30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OP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458200" y="3327480"/>
            <a:ext cx="620640" cy="571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48640" y="3484440"/>
            <a:ext cx="28260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677440" y="34894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66840" y="5619600"/>
            <a:ext cx="5613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38480" y="5776920"/>
            <a:ext cx="557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24.  Traffic flows supported by the CIDIN/AMHS Gatewa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8800" y="2419200"/>
            <a:ext cx="87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49920" y="2468520"/>
            <a:ext cx="28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50840" y="2620800"/>
            <a:ext cx="62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836720" y="3359160"/>
            <a:ext cx="6438600" cy="101520"/>
            <a:chOff x="1836720" y="3359160"/>
            <a:chExt cx="6438600" cy="101520"/>
          </a:xfrm>
        </p:grpSpPr>
        <p:sp>
          <p:nvSpPr>
            <p:cNvPr id="389" name=""/>
            <p:cNvSpPr/>
            <p:nvPr/>
          </p:nvSpPr>
          <p:spPr>
            <a:xfrm>
              <a:off x="1906920" y="3409920"/>
              <a:ext cx="629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36720" y="3359160"/>
              <a:ext cx="10620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62" y="0"/>
                  </a:moveTo>
                  <a:lnTo>
                    <a:pt x="0" y="32"/>
                  </a:lnTo>
                  <a:lnTo>
                    <a:pt x="62" y="63"/>
                  </a:lnTo>
                  <a:lnTo>
                    <a:pt x="43" y="3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68760" y="3360600"/>
              <a:ext cx="10656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0" y="63"/>
                  </a:moveTo>
                  <a:lnTo>
                    <a:pt x="62" y="31"/>
                  </a:lnTo>
                  <a:lnTo>
                    <a:pt x="0" y="0"/>
                  </a:lnTo>
                  <a:lnTo>
                    <a:pt x="19" y="31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1836720" y="3206880"/>
            <a:ext cx="1485720" cy="99720"/>
            <a:chOff x="1836720" y="3206880"/>
            <a:chExt cx="1485720" cy="99720"/>
          </a:xfrm>
        </p:grpSpPr>
        <p:sp>
          <p:nvSpPr>
            <p:cNvPr id="393" name=""/>
            <p:cNvSpPr/>
            <p:nvPr/>
          </p:nvSpPr>
          <p:spPr>
            <a:xfrm>
              <a:off x="1906920" y="3257640"/>
              <a:ext cx="1415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36720" y="3206880"/>
              <a:ext cx="106200" cy="9972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62" y="0"/>
                  </a:moveTo>
                  <a:lnTo>
                    <a:pt x="0" y="32"/>
                  </a:lnTo>
                  <a:lnTo>
                    <a:pt x="62" y="63"/>
                  </a:lnTo>
                  <a:lnTo>
                    <a:pt x="43" y="3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322800" y="2181240"/>
            <a:ext cx="2202840" cy="1076400"/>
            <a:chOff x="3322800" y="2181240"/>
            <a:chExt cx="2202840" cy="1076400"/>
          </a:xfrm>
        </p:grpSpPr>
        <p:sp>
          <p:nvSpPr>
            <p:cNvPr id="396" name=""/>
            <p:cNvSpPr/>
            <p:nvPr/>
          </p:nvSpPr>
          <p:spPr>
            <a:xfrm>
              <a:off x="3322800" y="2276640"/>
              <a:ext cx="2148120" cy="981000"/>
            </a:xfrm>
            <a:custGeom>
              <a:avLst/>
              <a:gdLst/>
              <a:ahLst/>
              <a:rect l="l" t="t" r="r" b="b"/>
              <a:pathLst>
                <a:path w="1249" h="618">
                  <a:moveTo>
                    <a:pt x="0" y="618"/>
                  </a:moveTo>
                  <a:lnTo>
                    <a:pt x="61" y="617"/>
                  </a:lnTo>
                  <a:lnTo>
                    <a:pt x="121" y="615"/>
                  </a:lnTo>
                  <a:lnTo>
                    <a:pt x="181" y="611"/>
                  </a:lnTo>
                  <a:lnTo>
                    <a:pt x="239" y="606"/>
                  </a:lnTo>
                  <a:lnTo>
                    <a:pt x="297" y="599"/>
                  </a:lnTo>
                  <a:lnTo>
                    <a:pt x="354" y="591"/>
                  </a:lnTo>
                  <a:lnTo>
                    <a:pt x="409" y="581"/>
                  </a:lnTo>
                  <a:lnTo>
                    <a:pt x="464" y="570"/>
                  </a:lnTo>
                  <a:lnTo>
                    <a:pt x="517" y="558"/>
                  </a:lnTo>
                  <a:lnTo>
                    <a:pt x="568" y="544"/>
                  </a:lnTo>
                  <a:lnTo>
                    <a:pt x="619" y="530"/>
                  </a:lnTo>
                  <a:lnTo>
                    <a:pt x="668" y="514"/>
                  </a:lnTo>
                  <a:lnTo>
                    <a:pt x="716" y="497"/>
                  </a:lnTo>
                  <a:lnTo>
                    <a:pt x="762" y="478"/>
                  </a:lnTo>
                  <a:lnTo>
                    <a:pt x="806" y="459"/>
                  </a:lnTo>
                  <a:lnTo>
                    <a:pt x="849" y="439"/>
                  </a:lnTo>
                  <a:lnTo>
                    <a:pt x="890" y="417"/>
                  </a:lnTo>
                  <a:lnTo>
                    <a:pt x="929" y="395"/>
                  </a:lnTo>
                  <a:lnTo>
                    <a:pt x="966" y="372"/>
                  </a:lnTo>
                  <a:lnTo>
                    <a:pt x="1001" y="348"/>
                  </a:lnTo>
                  <a:lnTo>
                    <a:pt x="1035" y="323"/>
                  </a:lnTo>
                  <a:lnTo>
                    <a:pt x="1066" y="297"/>
                  </a:lnTo>
                  <a:lnTo>
                    <a:pt x="1095" y="270"/>
                  </a:lnTo>
                  <a:lnTo>
                    <a:pt x="1122" y="243"/>
                  </a:lnTo>
                  <a:lnTo>
                    <a:pt x="1147" y="214"/>
                  </a:lnTo>
                  <a:lnTo>
                    <a:pt x="1169" y="186"/>
                  </a:lnTo>
                  <a:lnTo>
                    <a:pt x="1189" y="156"/>
                  </a:lnTo>
                  <a:lnTo>
                    <a:pt x="1206" y="126"/>
                  </a:lnTo>
                  <a:lnTo>
                    <a:pt x="1221" y="95"/>
                  </a:lnTo>
                  <a:lnTo>
                    <a:pt x="1233" y="64"/>
                  </a:lnTo>
                  <a:lnTo>
                    <a:pt x="1242" y="32"/>
                  </a:lnTo>
                  <a:lnTo>
                    <a:pt x="124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17640" y="2181240"/>
              <a:ext cx="10800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64"/>
                  </a:moveTo>
                  <a:lnTo>
                    <a:pt x="36" y="0"/>
                  </a:lnTo>
                  <a:lnTo>
                    <a:pt x="0" y="59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395960" y="3867120"/>
            <a:ext cx="466560" cy="43200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836720" y="3511440"/>
            <a:ext cx="2558880" cy="100080"/>
            <a:chOff x="1836720" y="3511440"/>
            <a:chExt cx="2558880" cy="100080"/>
          </a:xfrm>
        </p:grpSpPr>
        <p:sp>
          <p:nvSpPr>
            <p:cNvPr id="400" name=""/>
            <p:cNvSpPr/>
            <p:nvPr/>
          </p:nvSpPr>
          <p:spPr>
            <a:xfrm>
              <a:off x="1906920" y="3562200"/>
              <a:ext cx="248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36720" y="3511440"/>
              <a:ext cx="10620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62" y="0"/>
                  </a:moveTo>
                  <a:lnTo>
                    <a:pt x="0" y="32"/>
                  </a:lnTo>
                  <a:lnTo>
                    <a:pt x="62" y="63"/>
                  </a:lnTo>
                  <a:lnTo>
                    <a:pt x="43" y="3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3560760" y="4019400"/>
            <a:ext cx="1082160" cy="804960"/>
            <a:chOff x="3560760" y="4019400"/>
            <a:chExt cx="1082160" cy="804960"/>
          </a:xfrm>
        </p:grpSpPr>
        <p:sp>
          <p:nvSpPr>
            <p:cNvPr id="403" name=""/>
            <p:cNvSpPr/>
            <p:nvPr/>
          </p:nvSpPr>
          <p:spPr>
            <a:xfrm flipH="1">
              <a:off x="3614040" y="4019400"/>
              <a:ext cx="102888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60760" y="4722840"/>
              <a:ext cx="116640" cy="101520"/>
            </a:xfrm>
            <a:custGeom>
              <a:avLst/>
              <a:gdLst/>
              <a:ahLst/>
              <a:rect l="l" t="t" r="r" b="b"/>
              <a:pathLst>
                <a:path w="68" h="64">
                  <a:moveTo>
                    <a:pt x="28" y="0"/>
                  </a:moveTo>
                  <a:lnTo>
                    <a:pt x="0" y="64"/>
                  </a:lnTo>
                  <a:lnTo>
                    <a:pt x="68" y="49"/>
                  </a:lnTo>
                  <a:lnTo>
                    <a:pt x="33" y="3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551560" y="4552920"/>
            <a:ext cx="737640" cy="681120"/>
            <a:chOff x="5551560" y="4552920"/>
            <a:chExt cx="737640" cy="681120"/>
          </a:xfrm>
        </p:grpSpPr>
        <p:sp>
          <p:nvSpPr>
            <p:cNvPr id="406" name=""/>
            <p:cNvSpPr/>
            <p:nvPr/>
          </p:nvSpPr>
          <p:spPr>
            <a:xfrm>
              <a:off x="5551560" y="4552920"/>
              <a:ext cx="737640" cy="681120"/>
            </a:xfrm>
            <a:custGeom>
              <a:avLst/>
              <a:gdLst/>
              <a:ahLst/>
              <a:rect l="l" t="t" r="r" b="b"/>
              <a:pathLst>
                <a:path w="429" h="429">
                  <a:moveTo>
                    <a:pt x="61" y="249"/>
                  </a:moveTo>
                  <a:lnTo>
                    <a:pt x="100" y="249"/>
                  </a:lnTo>
                  <a:lnTo>
                    <a:pt x="100" y="268"/>
                  </a:lnTo>
                  <a:lnTo>
                    <a:pt x="330" y="268"/>
                  </a:lnTo>
                  <a:lnTo>
                    <a:pt x="330" y="249"/>
                  </a:lnTo>
                  <a:lnTo>
                    <a:pt x="368" y="249"/>
                  </a:lnTo>
                  <a:lnTo>
                    <a:pt x="368" y="0"/>
                  </a:lnTo>
                  <a:lnTo>
                    <a:pt x="61" y="0"/>
                  </a:lnTo>
                  <a:lnTo>
                    <a:pt x="61" y="249"/>
                  </a:lnTo>
                  <a:lnTo>
                    <a:pt x="61" y="249"/>
                  </a:lnTo>
                  <a:close/>
                  <a:moveTo>
                    <a:pt x="411" y="307"/>
                  </a:moveTo>
                  <a:lnTo>
                    <a:pt x="19" y="307"/>
                  </a:lnTo>
                  <a:lnTo>
                    <a:pt x="16" y="308"/>
                  </a:lnTo>
                  <a:lnTo>
                    <a:pt x="14" y="311"/>
                  </a:lnTo>
                  <a:lnTo>
                    <a:pt x="0" y="424"/>
                  </a:lnTo>
                  <a:lnTo>
                    <a:pt x="2" y="427"/>
                  </a:lnTo>
                  <a:lnTo>
                    <a:pt x="5" y="429"/>
                  </a:lnTo>
                  <a:lnTo>
                    <a:pt x="425" y="429"/>
                  </a:lnTo>
                  <a:lnTo>
                    <a:pt x="428" y="427"/>
                  </a:lnTo>
                  <a:lnTo>
                    <a:pt x="429" y="424"/>
                  </a:lnTo>
                  <a:lnTo>
                    <a:pt x="415" y="311"/>
                  </a:lnTo>
                  <a:lnTo>
                    <a:pt x="414" y="308"/>
                  </a:lnTo>
                  <a:lnTo>
                    <a:pt x="411" y="307"/>
                  </a:lnTo>
                  <a:lnTo>
                    <a:pt x="411" y="307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23640" y="4948200"/>
              <a:ext cx="395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75320" y="5051520"/>
              <a:ext cx="690120" cy="169920"/>
            </a:xfrm>
            <a:custGeom>
              <a:avLst/>
              <a:gdLst/>
              <a:ahLst/>
              <a:rect l="l" t="t" r="r" b="b"/>
              <a:pathLst>
                <a:path w="401" h="107">
                  <a:moveTo>
                    <a:pt x="317" y="81"/>
                  </a:moveTo>
                  <a:lnTo>
                    <a:pt x="314" y="78"/>
                  </a:lnTo>
                  <a:lnTo>
                    <a:pt x="305" y="78"/>
                  </a:lnTo>
                  <a:lnTo>
                    <a:pt x="301" y="82"/>
                  </a:lnTo>
                  <a:lnTo>
                    <a:pt x="301" y="73"/>
                  </a:lnTo>
                  <a:lnTo>
                    <a:pt x="298" y="69"/>
                  </a:lnTo>
                  <a:lnTo>
                    <a:pt x="287" y="69"/>
                  </a:lnTo>
                  <a:lnTo>
                    <a:pt x="284" y="73"/>
                  </a:lnTo>
                  <a:lnTo>
                    <a:pt x="284" y="82"/>
                  </a:lnTo>
                  <a:lnTo>
                    <a:pt x="281" y="78"/>
                  </a:lnTo>
                  <a:lnTo>
                    <a:pt x="272" y="78"/>
                  </a:lnTo>
                  <a:lnTo>
                    <a:pt x="269" y="81"/>
                  </a:lnTo>
                  <a:lnTo>
                    <a:pt x="269" y="99"/>
                  </a:lnTo>
                  <a:lnTo>
                    <a:pt x="285" y="99"/>
                  </a:lnTo>
                  <a:lnTo>
                    <a:pt x="302" y="99"/>
                  </a:lnTo>
                  <a:lnTo>
                    <a:pt x="319" y="99"/>
                  </a:lnTo>
                  <a:lnTo>
                    <a:pt x="317" y="81"/>
                  </a:lnTo>
                  <a:lnTo>
                    <a:pt x="317" y="81"/>
                  </a:lnTo>
                  <a:close/>
                  <a:moveTo>
                    <a:pt x="372" y="35"/>
                  </a:moveTo>
                  <a:lnTo>
                    <a:pt x="369" y="31"/>
                  </a:lnTo>
                  <a:lnTo>
                    <a:pt x="359" y="31"/>
                  </a:lnTo>
                  <a:lnTo>
                    <a:pt x="356" y="35"/>
                  </a:lnTo>
                  <a:lnTo>
                    <a:pt x="353" y="31"/>
                  </a:lnTo>
                  <a:lnTo>
                    <a:pt x="342" y="31"/>
                  </a:lnTo>
                  <a:lnTo>
                    <a:pt x="339" y="35"/>
                  </a:lnTo>
                  <a:lnTo>
                    <a:pt x="336" y="31"/>
                  </a:lnTo>
                  <a:lnTo>
                    <a:pt x="325" y="31"/>
                  </a:lnTo>
                  <a:lnTo>
                    <a:pt x="322" y="35"/>
                  </a:lnTo>
                  <a:lnTo>
                    <a:pt x="322" y="99"/>
                  </a:lnTo>
                  <a:lnTo>
                    <a:pt x="394" y="99"/>
                  </a:lnTo>
                  <a:lnTo>
                    <a:pt x="389" y="35"/>
                  </a:lnTo>
                  <a:lnTo>
                    <a:pt x="385" y="31"/>
                  </a:lnTo>
                  <a:lnTo>
                    <a:pt x="375" y="31"/>
                  </a:lnTo>
                  <a:lnTo>
                    <a:pt x="372" y="35"/>
                  </a:lnTo>
                  <a:lnTo>
                    <a:pt x="372" y="35"/>
                  </a:lnTo>
                  <a:close/>
                  <a:moveTo>
                    <a:pt x="317" y="35"/>
                  </a:moveTo>
                  <a:lnTo>
                    <a:pt x="314" y="31"/>
                  </a:lnTo>
                  <a:lnTo>
                    <a:pt x="305" y="31"/>
                  </a:lnTo>
                  <a:lnTo>
                    <a:pt x="301" y="35"/>
                  </a:lnTo>
                  <a:lnTo>
                    <a:pt x="298" y="31"/>
                  </a:lnTo>
                  <a:lnTo>
                    <a:pt x="288" y="31"/>
                  </a:lnTo>
                  <a:lnTo>
                    <a:pt x="285" y="35"/>
                  </a:lnTo>
                  <a:lnTo>
                    <a:pt x="282" y="31"/>
                  </a:lnTo>
                  <a:lnTo>
                    <a:pt x="272" y="31"/>
                  </a:lnTo>
                  <a:lnTo>
                    <a:pt x="269" y="35"/>
                  </a:lnTo>
                  <a:lnTo>
                    <a:pt x="269" y="60"/>
                  </a:lnTo>
                  <a:lnTo>
                    <a:pt x="285" y="60"/>
                  </a:lnTo>
                  <a:lnTo>
                    <a:pt x="301" y="60"/>
                  </a:lnTo>
                  <a:lnTo>
                    <a:pt x="319" y="60"/>
                  </a:lnTo>
                  <a:lnTo>
                    <a:pt x="317" y="35"/>
                  </a:lnTo>
                  <a:lnTo>
                    <a:pt x="317" y="35"/>
                  </a:lnTo>
                  <a:close/>
                  <a:moveTo>
                    <a:pt x="14" y="35"/>
                  </a:moveTo>
                  <a:lnTo>
                    <a:pt x="8" y="99"/>
                  </a:lnTo>
                  <a:lnTo>
                    <a:pt x="43" y="99"/>
                  </a:lnTo>
                  <a:lnTo>
                    <a:pt x="46" y="81"/>
                  </a:lnTo>
                  <a:lnTo>
                    <a:pt x="63" y="81"/>
                  </a:lnTo>
                  <a:lnTo>
                    <a:pt x="66" y="99"/>
                  </a:lnTo>
                  <a:lnTo>
                    <a:pt x="208" y="99"/>
                  </a:lnTo>
                  <a:lnTo>
                    <a:pt x="215" y="84"/>
                  </a:lnTo>
                  <a:lnTo>
                    <a:pt x="229" y="84"/>
                  </a:lnTo>
                  <a:lnTo>
                    <a:pt x="237" y="99"/>
                  </a:lnTo>
                  <a:lnTo>
                    <a:pt x="266" y="99"/>
                  </a:lnTo>
                  <a:lnTo>
                    <a:pt x="263" y="35"/>
                  </a:lnTo>
                  <a:lnTo>
                    <a:pt x="259" y="31"/>
                  </a:lnTo>
                  <a:lnTo>
                    <a:pt x="250" y="31"/>
                  </a:lnTo>
                  <a:lnTo>
                    <a:pt x="246" y="35"/>
                  </a:lnTo>
                  <a:lnTo>
                    <a:pt x="243" y="31"/>
                  </a:lnTo>
                  <a:lnTo>
                    <a:pt x="234" y="31"/>
                  </a:lnTo>
                  <a:lnTo>
                    <a:pt x="231" y="35"/>
                  </a:lnTo>
                  <a:lnTo>
                    <a:pt x="226" y="31"/>
                  </a:lnTo>
                  <a:lnTo>
                    <a:pt x="217" y="31"/>
                  </a:lnTo>
                  <a:lnTo>
                    <a:pt x="214" y="35"/>
                  </a:lnTo>
                  <a:lnTo>
                    <a:pt x="211" y="31"/>
                  </a:lnTo>
                  <a:lnTo>
                    <a:pt x="200" y="31"/>
                  </a:lnTo>
                  <a:lnTo>
                    <a:pt x="197" y="35"/>
                  </a:lnTo>
                  <a:lnTo>
                    <a:pt x="194" y="31"/>
                  </a:lnTo>
                  <a:lnTo>
                    <a:pt x="183" y="31"/>
                  </a:lnTo>
                  <a:lnTo>
                    <a:pt x="180" y="35"/>
                  </a:lnTo>
                  <a:lnTo>
                    <a:pt x="177" y="31"/>
                  </a:lnTo>
                  <a:lnTo>
                    <a:pt x="166" y="31"/>
                  </a:lnTo>
                  <a:lnTo>
                    <a:pt x="163" y="35"/>
                  </a:lnTo>
                  <a:lnTo>
                    <a:pt x="160" y="31"/>
                  </a:lnTo>
                  <a:lnTo>
                    <a:pt x="150" y="31"/>
                  </a:lnTo>
                  <a:lnTo>
                    <a:pt x="147" y="35"/>
                  </a:lnTo>
                  <a:lnTo>
                    <a:pt x="144" y="31"/>
                  </a:lnTo>
                  <a:lnTo>
                    <a:pt x="134" y="31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118" y="31"/>
                  </a:lnTo>
                  <a:lnTo>
                    <a:pt x="115" y="35"/>
                  </a:lnTo>
                  <a:lnTo>
                    <a:pt x="110" y="31"/>
                  </a:lnTo>
                  <a:lnTo>
                    <a:pt x="101" y="31"/>
                  </a:lnTo>
                  <a:lnTo>
                    <a:pt x="98" y="35"/>
                  </a:lnTo>
                  <a:lnTo>
                    <a:pt x="93" y="31"/>
                  </a:lnTo>
                  <a:lnTo>
                    <a:pt x="84" y="31"/>
                  </a:lnTo>
                  <a:lnTo>
                    <a:pt x="81" y="35"/>
                  </a:lnTo>
                  <a:lnTo>
                    <a:pt x="78" y="31"/>
                  </a:lnTo>
                  <a:lnTo>
                    <a:pt x="67" y="31"/>
                  </a:lnTo>
                  <a:lnTo>
                    <a:pt x="64" y="35"/>
                  </a:lnTo>
                  <a:lnTo>
                    <a:pt x="61" y="31"/>
                  </a:lnTo>
                  <a:lnTo>
                    <a:pt x="50" y="31"/>
                  </a:lnTo>
                  <a:lnTo>
                    <a:pt x="47" y="35"/>
                  </a:lnTo>
                  <a:lnTo>
                    <a:pt x="44" y="31"/>
                  </a:lnTo>
                  <a:lnTo>
                    <a:pt x="34" y="31"/>
                  </a:lnTo>
                  <a:lnTo>
                    <a:pt x="31" y="35"/>
                  </a:lnTo>
                  <a:lnTo>
                    <a:pt x="28" y="31"/>
                  </a:lnTo>
                  <a:lnTo>
                    <a:pt x="17" y="31"/>
                  </a:lnTo>
                  <a:lnTo>
                    <a:pt x="14" y="35"/>
                  </a:lnTo>
                  <a:lnTo>
                    <a:pt x="14" y="35"/>
                  </a:lnTo>
                  <a:close/>
                  <a:moveTo>
                    <a:pt x="319" y="12"/>
                  </a:moveTo>
                  <a:lnTo>
                    <a:pt x="316" y="8"/>
                  </a:lnTo>
                  <a:lnTo>
                    <a:pt x="305" y="8"/>
                  </a:lnTo>
                  <a:lnTo>
                    <a:pt x="302" y="12"/>
                  </a:lnTo>
                  <a:lnTo>
                    <a:pt x="299" y="8"/>
                  </a:lnTo>
                  <a:lnTo>
                    <a:pt x="288" y="8"/>
                  </a:lnTo>
                  <a:lnTo>
                    <a:pt x="285" y="12"/>
                  </a:lnTo>
                  <a:lnTo>
                    <a:pt x="282" y="8"/>
                  </a:lnTo>
                  <a:lnTo>
                    <a:pt x="272" y="8"/>
                  </a:lnTo>
                  <a:lnTo>
                    <a:pt x="269" y="12"/>
                  </a:lnTo>
                  <a:lnTo>
                    <a:pt x="269" y="26"/>
                  </a:lnTo>
                  <a:lnTo>
                    <a:pt x="285" y="26"/>
                  </a:lnTo>
                  <a:lnTo>
                    <a:pt x="302" y="26"/>
                  </a:lnTo>
                  <a:lnTo>
                    <a:pt x="319" y="26"/>
                  </a:lnTo>
                  <a:lnTo>
                    <a:pt x="319" y="12"/>
                  </a:lnTo>
                  <a:lnTo>
                    <a:pt x="319" y="12"/>
                  </a:lnTo>
                  <a:close/>
                  <a:moveTo>
                    <a:pt x="34" y="26"/>
                  </a:moveTo>
                  <a:lnTo>
                    <a:pt x="32" y="12"/>
                  </a:lnTo>
                  <a:lnTo>
                    <a:pt x="29" y="8"/>
                  </a:lnTo>
                  <a:lnTo>
                    <a:pt x="18" y="8"/>
                  </a:lnTo>
                  <a:lnTo>
                    <a:pt x="15" y="12"/>
                  </a:lnTo>
                  <a:lnTo>
                    <a:pt x="15" y="26"/>
                  </a:lnTo>
                  <a:lnTo>
                    <a:pt x="32" y="26"/>
                  </a:lnTo>
                  <a:lnTo>
                    <a:pt x="34" y="26"/>
                  </a:lnTo>
                  <a:lnTo>
                    <a:pt x="34" y="26"/>
                  </a:lnTo>
                  <a:close/>
                  <a:moveTo>
                    <a:pt x="246" y="12"/>
                  </a:moveTo>
                  <a:lnTo>
                    <a:pt x="243" y="8"/>
                  </a:lnTo>
                  <a:lnTo>
                    <a:pt x="234" y="8"/>
                  </a:lnTo>
                  <a:lnTo>
                    <a:pt x="229" y="12"/>
                  </a:lnTo>
                  <a:lnTo>
                    <a:pt x="226" y="8"/>
                  </a:lnTo>
                  <a:lnTo>
                    <a:pt x="217" y="8"/>
                  </a:lnTo>
                  <a:lnTo>
                    <a:pt x="212" y="12"/>
                  </a:lnTo>
                  <a:lnTo>
                    <a:pt x="209" y="8"/>
                  </a:lnTo>
                  <a:lnTo>
                    <a:pt x="200" y="8"/>
                  </a:lnTo>
                  <a:lnTo>
                    <a:pt x="197" y="12"/>
                  </a:lnTo>
                  <a:lnTo>
                    <a:pt x="195" y="26"/>
                  </a:lnTo>
                  <a:lnTo>
                    <a:pt x="212" y="26"/>
                  </a:lnTo>
                  <a:lnTo>
                    <a:pt x="229" y="26"/>
                  </a:lnTo>
                  <a:lnTo>
                    <a:pt x="246" y="26"/>
                  </a:lnTo>
                  <a:lnTo>
                    <a:pt x="263" y="26"/>
                  </a:lnTo>
                  <a:lnTo>
                    <a:pt x="263" y="12"/>
                  </a:lnTo>
                  <a:lnTo>
                    <a:pt x="259" y="8"/>
                  </a:lnTo>
                  <a:lnTo>
                    <a:pt x="249" y="8"/>
                  </a:lnTo>
                  <a:lnTo>
                    <a:pt x="246" y="12"/>
                  </a:lnTo>
                  <a:lnTo>
                    <a:pt x="246" y="12"/>
                  </a:lnTo>
                  <a:close/>
                  <a:moveTo>
                    <a:pt x="171" y="12"/>
                  </a:moveTo>
                  <a:lnTo>
                    <a:pt x="168" y="8"/>
                  </a:lnTo>
                  <a:lnTo>
                    <a:pt x="159" y="8"/>
                  </a:lnTo>
                  <a:lnTo>
                    <a:pt x="156" y="12"/>
                  </a:lnTo>
                  <a:lnTo>
                    <a:pt x="151" y="8"/>
                  </a:lnTo>
                  <a:lnTo>
                    <a:pt x="142" y="8"/>
                  </a:lnTo>
                  <a:lnTo>
                    <a:pt x="139" y="12"/>
                  </a:lnTo>
                  <a:lnTo>
                    <a:pt x="136" y="8"/>
                  </a:lnTo>
                  <a:lnTo>
                    <a:pt x="125" y="8"/>
                  </a:lnTo>
                  <a:lnTo>
                    <a:pt x="122" y="12"/>
                  </a:lnTo>
                  <a:lnTo>
                    <a:pt x="121" y="26"/>
                  </a:lnTo>
                  <a:lnTo>
                    <a:pt x="139" y="26"/>
                  </a:lnTo>
                  <a:lnTo>
                    <a:pt x="156" y="26"/>
                  </a:lnTo>
                  <a:lnTo>
                    <a:pt x="171" y="26"/>
                  </a:lnTo>
                  <a:lnTo>
                    <a:pt x="189" y="26"/>
                  </a:lnTo>
                  <a:lnTo>
                    <a:pt x="188" y="12"/>
                  </a:lnTo>
                  <a:lnTo>
                    <a:pt x="185" y="8"/>
                  </a:lnTo>
                  <a:lnTo>
                    <a:pt x="176" y="8"/>
                  </a:lnTo>
                  <a:lnTo>
                    <a:pt x="171" y="12"/>
                  </a:lnTo>
                  <a:lnTo>
                    <a:pt x="171" y="12"/>
                  </a:lnTo>
                  <a:close/>
                  <a:moveTo>
                    <a:pt x="98" y="12"/>
                  </a:moveTo>
                  <a:lnTo>
                    <a:pt x="95" y="8"/>
                  </a:lnTo>
                  <a:lnTo>
                    <a:pt x="84" y="8"/>
                  </a:lnTo>
                  <a:lnTo>
                    <a:pt x="81" y="12"/>
                  </a:lnTo>
                  <a:lnTo>
                    <a:pt x="78" y="8"/>
                  </a:lnTo>
                  <a:lnTo>
                    <a:pt x="67" y="8"/>
                  </a:lnTo>
                  <a:lnTo>
                    <a:pt x="64" y="12"/>
                  </a:lnTo>
                  <a:lnTo>
                    <a:pt x="61" y="8"/>
                  </a:lnTo>
                  <a:lnTo>
                    <a:pt x="50" y="8"/>
                  </a:lnTo>
                  <a:lnTo>
                    <a:pt x="47" y="12"/>
                  </a:lnTo>
                  <a:lnTo>
                    <a:pt x="47" y="26"/>
                  </a:lnTo>
                  <a:lnTo>
                    <a:pt x="64" y="26"/>
                  </a:lnTo>
                  <a:lnTo>
                    <a:pt x="81" y="26"/>
                  </a:lnTo>
                  <a:lnTo>
                    <a:pt x="98" y="26"/>
                  </a:lnTo>
                  <a:lnTo>
                    <a:pt x="115" y="26"/>
                  </a:lnTo>
                  <a:lnTo>
                    <a:pt x="115" y="12"/>
                  </a:lnTo>
                  <a:lnTo>
                    <a:pt x="111" y="8"/>
                  </a:lnTo>
                  <a:lnTo>
                    <a:pt x="101" y="8"/>
                  </a:lnTo>
                  <a:lnTo>
                    <a:pt x="98" y="12"/>
                  </a:lnTo>
                  <a:lnTo>
                    <a:pt x="98" y="12"/>
                  </a:lnTo>
                  <a:close/>
                  <a:moveTo>
                    <a:pt x="0" y="107"/>
                  </a:moveTo>
                  <a:lnTo>
                    <a:pt x="401" y="107"/>
                  </a:lnTo>
                  <a:lnTo>
                    <a:pt x="391" y="0"/>
                  </a:lnTo>
                  <a:lnTo>
                    <a:pt x="11" y="0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06000" y="4599000"/>
              <a:ext cx="462960" cy="309600"/>
            </a:xfrm>
            <a:custGeom>
              <a:avLst/>
              <a:gdLst/>
              <a:ahLst/>
              <a:rect l="l" t="t" r="r" b="b"/>
              <a:pathLst>
                <a:path w="269" h="195">
                  <a:moveTo>
                    <a:pt x="254" y="195"/>
                  </a:moveTo>
                  <a:lnTo>
                    <a:pt x="269" y="195"/>
                  </a:lnTo>
                  <a:lnTo>
                    <a:pt x="269" y="191"/>
                  </a:lnTo>
                  <a:lnTo>
                    <a:pt x="254" y="191"/>
                  </a:lnTo>
                  <a:lnTo>
                    <a:pt x="254" y="195"/>
                  </a:lnTo>
                  <a:lnTo>
                    <a:pt x="254" y="195"/>
                  </a:lnTo>
                  <a:close/>
                  <a:moveTo>
                    <a:pt x="20" y="163"/>
                  </a:moveTo>
                  <a:lnTo>
                    <a:pt x="20" y="20"/>
                  </a:lnTo>
                  <a:lnTo>
                    <a:pt x="229" y="20"/>
                  </a:lnTo>
                  <a:lnTo>
                    <a:pt x="229" y="163"/>
                  </a:lnTo>
                  <a:lnTo>
                    <a:pt x="20" y="163"/>
                  </a:lnTo>
                  <a:lnTo>
                    <a:pt x="20" y="163"/>
                  </a:lnTo>
                  <a:close/>
                  <a:moveTo>
                    <a:pt x="10" y="172"/>
                  </a:moveTo>
                  <a:lnTo>
                    <a:pt x="240" y="172"/>
                  </a:lnTo>
                  <a:lnTo>
                    <a:pt x="240" y="9"/>
                  </a:lnTo>
                  <a:lnTo>
                    <a:pt x="249" y="9"/>
                  </a:lnTo>
                  <a:lnTo>
                    <a:pt x="24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81"/>
                  </a:lnTo>
                  <a:lnTo>
                    <a:pt x="10" y="181"/>
                  </a:lnTo>
                  <a:lnTo>
                    <a:pt x="10" y="172"/>
                  </a:lnTo>
                  <a:lnTo>
                    <a:pt x="10" y="1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56320" y="4925880"/>
              <a:ext cx="527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788800" y="492588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5923080" y="4925880"/>
              <a:ext cx="14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796000" y="2181240"/>
            <a:ext cx="109080" cy="2133720"/>
            <a:chOff x="5796000" y="2181240"/>
            <a:chExt cx="109080" cy="2133720"/>
          </a:xfrm>
        </p:grpSpPr>
        <p:sp>
          <p:nvSpPr>
            <p:cNvPr id="414" name=""/>
            <p:cNvSpPr/>
            <p:nvPr/>
          </p:nvSpPr>
          <p:spPr>
            <a:xfrm>
              <a:off x="5845320" y="224172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4"/>
                  </a:moveTo>
                  <a:lnTo>
                    <a:pt x="6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45320" y="230832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45320" y="234648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45320" y="241308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45320" y="245124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45320" y="251784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45320" y="255600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45320" y="262260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45320" y="266076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45320" y="272736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45320" y="276552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45320" y="283212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45320" y="287028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45320" y="293688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845320" y="297504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45320" y="304164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45320" y="307980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14640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845320" y="318456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845320" y="325116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45320" y="328932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45320" y="335592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45320" y="339408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845320" y="346068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45320" y="349884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45320" y="356544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845320" y="360360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845320" y="367020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845320" y="370836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845320" y="377496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45320" y="381312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45320" y="387972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45320" y="391788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45320" y="398448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45320" y="4022640"/>
              <a:ext cx="1008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45320" y="408924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45320" y="4127400"/>
              <a:ext cx="1008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845320" y="419400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845320" y="4232160"/>
              <a:ext cx="1008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797440" y="2181240"/>
              <a:ext cx="10764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63" y="62"/>
                  </a:moveTo>
                  <a:lnTo>
                    <a:pt x="31" y="0"/>
                  </a:lnTo>
                  <a:lnTo>
                    <a:pt x="0" y="62"/>
                  </a:lnTo>
                  <a:lnTo>
                    <a:pt x="31" y="43"/>
                  </a:lnTo>
                  <a:lnTo>
                    <a:pt x="63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796000" y="4216320"/>
              <a:ext cx="107640" cy="9864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0" y="0"/>
                  </a:moveTo>
                  <a:lnTo>
                    <a:pt x="32" y="62"/>
                  </a:lnTo>
                  <a:lnTo>
                    <a:pt x="63" y="0"/>
                  </a:lnTo>
                  <a:lnTo>
                    <a:pt x="32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2249640" y="4629240"/>
            <a:ext cx="58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27840" y="4678200"/>
            <a:ext cx="27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389680" y="4830840"/>
            <a:ext cx="3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735360" y="4629240"/>
            <a:ext cx="3016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864600" y="4678200"/>
            <a:ext cx="9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211800" y="4629240"/>
            <a:ext cx="1106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347520" y="467820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T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81880" y="4678200"/>
            <a:ext cx="226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7280" y="467820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602040" y="483084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(AMH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81040" y="4459320"/>
            <a:ext cx="121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98760" y="5086440"/>
            <a:ext cx="12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1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46000" y="5086440"/>
            <a:ext cx="53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Only for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10640" y="5238720"/>
            <a:ext cx="42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IDI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75400" y="5238720"/>
            <a:ext cx="508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3160" y="53910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“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FTN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8520" y="401940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60440" y="4068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/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4160" y="422100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95960" y="3562200"/>
            <a:ext cx="582480" cy="457200"/>
          </a:xfrm>
          <a:custGeom>
            <a:avLst/>
            <a:gdLst/>
            <a:ahLst/>
            <a:rect l="l" t="t" r="r" b="b"/>
            <a:pathLst>
              <a:path w="339" h="288">
                <a:moveTo>
                  <a:pt x="144" y="288"/>
                </a:moveTo>
                <a:lnTo>
                  <a:pt x="184" y="261"/>
                </a:lnTo>
                <a:lnTo>
                  <a:pt x="223" y="234"/>
                </a:lnTo>
                <a:lnTo>
                  <a:pt x="241" y="221"/>
                </a:lnTo>
                <a:lnTo>
                  <a:pt x="259" y="208"/>
                </a:lnTo>
                <a:lnTo>
                  <a:pt x="275" y="196"/>
                </a:lnTo>
                <a:lnTo>
                  <a:pt x="290" y="183"/>
                </a:lnTo>
                <a:lnTo>
                  <a:pt x="303" y="171"/>
                </a:lnTo>
                <a:lnTo>
                  <a:pt x="314" y="159"/>
                </a:lnTo>
                <a:lnTo>
                  <a:pt x="324" y="147"/>
                </a:lnTo>
                <a:lnTo>
                  <a:pt x="331" y="136"/>
                </a:lnTo>
                <a:lnTo>
                  <a:pt x="336" y="125"/>
                </a:lnTo>
                <a:lnTo>
                  <a:pt x="339" y="115"/>
                </a:lnTo>
                <a:lnTo>
                  <a:pt x="339" y="105"/>
                </a:lnTo>
                <a:lnTo>
                  <a:pt x="336" y="96"/>
                </a:lnTo>
                <a:lnTo>
                  <a:pt x="330" y="87"/>
                </a:lnTo>
                <a:lnTo>
                  <a:pt x="321" y="79"/>
                </a:lnTo>
                <a:lnTo>
                  <a:pt x="309" y="71"/>
                </a:lnTo>
                <a:lnTo>
                  <a:pt x="295" y="64"/>
                </a:lnTo>
                <a:lnTo>
                  <a:pt x="279" y="57"/>
                </a:lnTo>
                <a:lnTo>
                  <a:pt x="260" y="51"/>
                </a:lnTo>
                <a:lnTo>
                  <a:pt x="240" y="45"/>
                </a:lnTo>
                <a:lnTo>
                  <a:pt x="218" y="39"/>
                </a:lnTo>
                <a:lnTo>
                  <a:pt x="194" y="34"/>
                </a:lnTo>
                <a:lnTo>
                  <a:pt x="169" y="28"/>
                </a:lnTo>
                <a:lnTo>
                  <a:pt x="142" y="23"/>
                </a:lnTo>
                <a:lnTo>
                  <a:pt x="115" y="18"/>
                </a:lnTo>
                <a:lnTo>
                  <a:pt x="58" y="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13080" y="4307040"/>
            <a:ext cx="500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50240" y="4356000"/>
            <a:ext cx="27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728640" y="4197240"/>
            <a:ext cx="738000" cy="681120"/>
            <a:chOff x="728640" y="4197240"/>
            <a:chExt cx="738000" cy="681120"/>
          </a:xfrm>
        </p:grpSpPr>
        <p:sp>
          <p:nvSpPr>
            <p:cNvPr id="478" name=""/>
            <p:cNvSpPr/>
            <p:nvPr/>
          </p:nvSpPr>
          <p:spPr>
            <a:xfrm>
              <a:off x="728640" y="4197240"/>
              <a:ext cx="738000" cy="681120"/>
            </a:xfrm>
            <a:custGeom>
              <a:avLst/>
              <a:gdLst/>
              <a:ahLst/>
              <a:rect l="l" t="t" r="r" b="b"/>
              <a:pathLst>
                <a:path w="429" h="429">
                  <a:moveTo>
                    <a:pt x="61" y="249"/>
                  </a:moveTo>
                  <a:lnTo>
                    <a:pt x="100" y="249"/>
                  </a:lnTo>
                  <a:lnTo>
                    <a:pt x="100" y="268"/>
                  </a:lnTo>
                  <a:lnTo>
                    <a:pt x="330" y="268"/>
                  </a:lnTo>
                  <a:lnTo>
                    <a:pt x="330" y="249"/>
                  </a:lnTo>
                  <a:lnTo>
                    <a:pt x="368" y="249"/>
                  </a:lnTo>
                  <a:lnTo>
                    <a:pt x="368" y="0"/>
                  </a:lnTo>
                  <a:lnTo>
                    <a:pt x="61" y="0"/>
                  </a:lnTo>
                  <a:lnTo>
                    <a:pt x="61" y="249"/>
                  </a:lnTo>
                  <a:lnTo>
                    <a:pt x="61" y="249"/>
                  </a:lnTo>
                  <a:close/>
                  <a:moveTo>
                    <a:pt x="411" y="307"/>
                  </a:moveTo>
                  <a:lnTo>
                    <a:pt x="19" y="307"/>
                  </a:lnTo>
                  <a:lnTo>
                    <a:pt x="16" y="308"/>
                  </a:lnTo>
                  <a:lnTo>
                    <a:pt x="14" y="311"/>
                  </a:lnTo>
                  <a:lnTo>
                    <a:pt x="0" y="424"/>
                  </a:lnTo>
                  <a:lnTo>
                    <a:pt x="2" y="427"/>
                  </a:lnTo>
                  <a:lnTo>
                    <a:pt x="5" y="429"/>
                  </a:lnTo>
                  <a:lnTo>
                    <a:pt x="425" y="429"/>
                  </a:lnTo>
                  <a:lnTo>
                    <a:pt x="428" y="427"/>
                  </a:lnTo>
                  <a:lnTo>
                    <a:pt x="429" y="424"/>
                  </a:lnTo>
                  <a:lnTo>
                    <a:pt x="415" y="311"/>
                  </a:lnTo>
                  <a:lnTo>
                    <a:pt x="414" y="308"/>
                  </a:lnTo>
                  <a:lnTo>
                    <a:pt x="411" y="307"/>
                  </a:lnTo>
                  <a:lnTo>
                    <a:pt x="411" y="307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0720" y="4592520"/>
              <a:ext cx="395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2400" y="4695480"/>
              <a:ext cx="690480" cy="169920"/>
            </a:xfrm>
            <a:custGeom>
              <a:avLst/>
              <a:gdLst/>
              <a:ahLst/>
              <a:rect l="l" t="t" r="r" b="b"/>
              <a:pathLst>
                <a:path w="401" h="107">
                  <a:moveTo>
                    <a:pt x="317" y="81"/>
                  </a:moveTo>
                  <a:lnTo>
                    <a:pt x="314" y="78"/>
                  </a:lnTo>
                  <a:lnTo>
                    <a:pt x="305" y="78"/>
                  </a:lnTo>
                  <a:lnTo>
                    <a:pt x="301" y="82"/>
                  </a:lnTo>
                  <a:lnTo>
                    <a:pt x="301" y="73"/>
                  </a:lnTo>
                  <a:lnTo>
                    <a:pt x="298" y="69"/>
                  </a:lnTo>
                  <a:lnTo>
                    <a:pt x="287" y="69"/>
                  </a:lnTo>
                  <a:lnTo>
                    <a:pt x="284" y="73"/>
                  </a:lnTo>
                  <a:lnTo>
                    <a:pt x="284" y="82"/>
                  </a:lnTo>
                  <a:lnTo>
                    <a:pt x="281" y="78"/>
                  </a:lnTo>
                  <a:lnTo>
                    <a:pt x="272" y="78"/>
                  </a:lnTo>
                  <a:lnTo>
                    <a:pt x="269" y="81"/>
                  </a:lnTo>
                  <a:lnTo>
                    <a:pt x="269" y="99"/>
                  </a:lnTo>
                  <a:lnTo>
                    <a:pt x="285" y="99"/>
                  </a:lnTo>
                  <a:lnTo>
                    <a:pt x="302" y="99"/>
                  </a:lnTo>
                  <a:lnTo>
                    <a:pt x="319" y="99"/>
                  </a:lnTo>
                  <a:lnTo>
                    <a:pt x="317" y="81"/>
                  </a:lnTo>
                  <a:lnTo>
                    <a:pt x="317" y="81"/>
                  </a:lnTo>
                  <a:close/>
                  <a:moveTo>
                    <a:pt x="372" y="35"/>
                  </a:moveTo>
                  <a:lnTo>
                    <a:pt x="369" y="31"/>
                  </a:lnTo>
                  <a:lnTo>
                    <a:pt x="359" y="31"/>
                  </a:lnTo>
                  <a:lnTo>
                    <a:pt x="356" y="35"/>
                  </a:lnTo>
                  <a:lnTo>
                    <a:pt x="353" y="31"/>
                  </a:lnTo>
                  <a:lnTo>
                    <a:pt x="342" y="31"/>
                  </a:lnTo>
                  <a:lnTo>
                    <a:pt x="339" y="35"/>
                  </a:lnTo>
                  <a:lnTo>
                    <a:pt x="336" y="31"/>
                  </a:lnTo>
                  <a:lnTo>
                    <a:pt x="325" y="31"/>
                  </a:lnTo>
                  <a:lnTo>
                    <a:pt x="322" y="35"/>
                  </a:lnTo>
                  <a:lnTo>
                    <a:pt x="322" y="99"/>
                  </a:lnTo>
                  <a:lnTo>
                    <a:pt x="394" y="99"/>
                  </a:lnTo>
                  <a:lnTo>
                    <a:pt x="389" y="35"/>
                  </a:lnTo>
                  <a:lnTo>
                    <a:pt x="385" y="31"/>
                  </a:lnTo>
                  <a:lnTo>
                    <a:pt x="375" y="31"/>
                  </a:lnTo>
                  <a:lnTo>
                    <a:pt x="372" y="35"/>
                  </a:lnTo>
                  <a:lnTo>
                    <a:pt x="372" y="35"/>
                  </a:lnTo>
                  <a:close/>
                  <a:moveTo>
                    <a:pt x="317" y="35"/>
                  </a:moveTo>
                  <a:lnTo>
                    <a:pt x="314" y="31"/>
                  </a:lnTo>
                  <a:lnTo>
                    <a:pt x="305" y="31"/>
                  </a:lnTo>
                  <a:lnTo>
                    <a:pt x="301" y="35"/>
                  </a:lnTo>
                  <a:lnTo>
                    <a:pt x="298" y="31"/>
                  </a:lnTo>
                  <a:lnTo>
                    <a:pt x="288" y="31"/>
                  </a:lnTo>
                  <a:lnTo>
                    <a:pt x="285" y="35"/>
                  </a:lnTo>
                  <a:lnTo>
                    <a:pt x="282" y="31"/>
                  </a:lnTo>
                  <a:lnTo>
                    <a:pt x="272" y="31"/>
                  </a:lnTo>
                  <a:lnTo>
                    <a:pt x="269" y="35"/>
                  </a:lnTo>
                  <a:lnTo>
                    <a:pt x="269" y="60"/>
                  </a:lnTo>
                  <a:lnTo>
                    <a:pt x="285" y="60"/>
                  </a:lnTo>
                  <a:lnTo>
                    <a:pt x="301" y="60"/>
                  </a:lnTo>
                  <a:lnTo>
                    <a:pt x="319" y="60"/>
                  </a:lnTo>
                  <a:lnTo>
                    <a:pt x="317" y="35"/>
                  </a:lnTo>
                  <a:lnTo>
                    <a:pt x="317" y="35"/>
                  </a:lnTo>
                  <a:close/>
                  <a:moveTo>
                    <a:pt x="14" y="35"/>
                  </a:moveTo>
                  <a:lnTo>
                    <a:pt x="8" y="99"/>
                  </a:lnTo>
                  <a:lnTo>
                    <a:pt x="43" y="99"/>
                  </a:lnTo>
                  <a:lnTo>
                    <a:pt x="46" y="81"/>
                  </a:lnTo>
                  <a:lnTo>
                    <a:pt x="63" y="81"/>
                  </a:lnTo>
                  <a:lnTo>
                    <a:pt x="66" y="99"/>
                  </a:lnTo>
                  <a:lnTo>
                    <a:pt x="208" y="99"/>
                  </a:lnTo>
                  <a:lnTo>
                    <a:pt x="215" y="84"/>
                  </a:lnTo>
                  <a:lnTo>
                    <a:pt x="229" y="84"/>
                  </a:lnTo>
                  <a:lnTo>
                    <a:pt x="237" y="99"/>
                  </a:lnTo>
                  <a:lnTo>
                    <a:pt x="266" y="99"/>
                  </a:lnTo>
                  <a:lnTo>
                    <a:pt x="263" y="35"/>
                  </a:lnTo>
                  <a:lnTo>
                    <a:pt x="259" y="31"/>
                  </a:lnTo>
                  <a:lnTo>
                    <a:pt x="250" y="31"/>
                  </a:lnTo>
                  <a:lnTo>
                    <a:pt x="246" y="35"/>
                  </a:lnTo>
                  <a:lnTo>
                    <a:pt x="243" y="31"/>
                  </a:lnTo>
                  <a:lnTo>
                    <a:pt x="234" y="31"/>
                  </a:lnTo>
                  <a:lnTo>
                    <a:pt x="231" y="35"/>
                  </a:lnTo>
                  <a:lnTo>
                    <a:pt x="226" y="31"/>
                  </a:lnTo>
                  <a:lnTo>
                    <a:pt x="217" y="31"/>
                  </a:lnTo>
                  <a:lnTo>
                    <a:pt x="214" y="35"/>
                  </a:lnTo>
                  <a:lnTo>
                    <a:pt x="211" y="31"/>
                  </a:lnTo>
                  <a:lnTo>
                    <a:pt x="200" y="31"/>
                  </a:lnTo>
                  <a:lnTo>
                    <a:pt x="197" y="35"/>
                  </a:lnTo>
                  <a:lnTo>
                    <a:pt x="194" y="31"/>
                  </a:lnTo>
                  <a:lnTo>
                    <a:pt x="183" y="31"/>
                  </a:lnTo>
                  <a:lnTo>
                    <a:pt x="180" y="35"/>
                  </a:lnTo>
                  <a:lnTo>
                    <a:pt x="177" y="31"/>
                  </a:lnTo>
                  <a:lnTo>
                    <a:pt x="166" y="31"/>
                  </a:lnTo>
                  <a:lnTo>
                    <a:pt x="163" y="35"/>
                  </a:lnTo>
                  <a:lnTo>
                    <a:pt x="160" y="31"/>
                  </a:lnTo>
                  <a:lnTo>
                    <a:pt x="150" y="31"/>
                  </a:lnTo>
                  <a:lnTo>
                    <a:pt x="147" y="35"/>
                  </a:lnTo>
                  <a:lnTo>
                    <a:pt x="144" y="31"/>
                  </a:lnTo>
                  <a:lnTo>
                    <a:pt x="134" y="31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118" y="31"/>
                  </a:lnTo>
                  <a:lnTo>
                    <a:pt x="115" y="35"/>
                  </a:lnTo>
                  <a:lnTo>
                    <a:pt x="110" y="31"/>
                  </a:lnTo>
                  <a:lnTo>
                    <a:pt x="101" y="31"/>
                  </a:lnTo>
                  <a:lnTo>
                    <a:pt x="98" y="35"/>
                  </a:lnTo>
                  <a:lnTo>
                    <a:pt x="93" y="31"/>
                  </a:lnTo>
                  <a:lnTo>
                    <a:pt x="84" y="31"/>
                  </a:lnTo>
                  <a:lnTo>
                    <a:pt x="81" y="35"/>
                  </a:lnTo>
                  <a:lnTo>
                    <a:pt x="78" y="31"/>
                  </a:lnTo>
                  <a:lnTo>
                    <a:pt x="67" y="31"/>
                  </a:lnTo>
                  <a:lnTo>
                    <a:pt x="64" y="35"/>
                  </a:lnTo>
                  <a:lnTo>
                    <a:pt x="61" y="31"/>
                  </a:lnTo>
                  <a:lnTo>
                    <a:pt x="50" y="31"/>
                  </a:lnTo>
                  <a:lnTo>
                    <a:pt x="47" y="35"/>
                  </a:lnTo>
                  <a:lnTo>
                    <a:pt x="44" y="31"/>
                  </a:lnTo>
                  <a:lnTo>
                    <a:pt x="34" y="31"/>
                  </a:lnTo>
                  <a:lnTo>
                    <a:pt x="31" y="35"/>
                  </a:lnTo>
                  <a:lnTo>
                    <a:pt x="28" y="31"/>
                  </a:lnTo>
                  <a:lnTo>
                    <a:pt x="17" y="31"/>
                  </a:lnTo>
                  <a:lnTo>
                    <a:pt x="14" y="35"/>
                  </a:lnTo>
                  <a:lnTo>
                    <a:pt x="14" y="35"/>
                  </a:lnTo>
                  <a:close/>
                  <a:moveTo>
                    <a:pt x="319" y="12"/>
                  </a:moveTo>
                  <a:lnTo>
                    <a:pt x="316" y="8"/>
                  </a:lnTo>
                  <a:lnTo>
                    <a:pt x="305" y="8"/>
                  </a:lnTo>
                  <a:lnTo>
                    <a:pt x="302" y="12"/>
                  </a:lnTo>
                  <a:lnTo>
                    <a:pt x="299" y="8"/>
                  </a:lnTo>
                  <a:lnTo>
                    <a:pt x="288" y="8"/>
                  </a:lnTo>
                  <a:lnTo>
                    <a:pt x="285" y="12"/>
                  </a:lnTo>
                  <a:lnTo>
                    <a:pt x="282" y="8"/>
                  </a:lnTo>
                  <a:lnTo>
                    <a:pt x="272" y="8"/>
                  </a:lnTo>
                  <a:lnTo>
                    <a:pt x="269" y="12"/>
                  </a:lnTo>
                  <a:lnTo>
                    <a:pt x="269" y="26"/>
                  </a:lnTo>
                  <a:lnTo>
                    <a:pt x="285" y="26"/>
                  </a:lnTo>
                  <a:lnTo>
                    <a:pt x="302" y="26"/>
                  </a:lnTo>
                  <a:lnTo>
                    <a:pt x="319" y="26"/>
                  </a:lnTo>
                  <a:lnTo>
                    <a:pt x="319" y="12"/>
                  </a:lnTo>
                  <a:lnTo>
                    <a:pt x="319" y="12"/>
                  </a:lnTo>
                  <a:close/>
                  <a:moveTo>
                    <a:pt x="34" y="26"/>
                  </a:moveTo>
                  <a:lnTo>
                    <a:pt x="32" y="12"/>
                  </a:lnTo>
                  <a:lnTo>
                    <a:pt x="29" y="8"/>
                  </a:lnTo>
                  <a:lnTo>
                    <a:pt x="18" y="8"/>
                  </a:lnTo>
                  <a:lnTo>
                    <a:pt x="15" y="12"/>
                  </a:lnTo>
                  <a:lnTo>
                    <a:pt x="15" y="26"/>
                  </a:lnTo>
                  <a:lnTo>
                    <a:pt x="32" y="26"/>
                  </a:lnTo>
                  <a:lnTo>
                    <a:pt x="34" y="26"/>
                  </a:lnTo>
                  <a:lnTo>
                    <a:pt x="34" y="26"/>
                  </a:lnTo>
                  <a:close/>
                  <a:moveTo>
                    <a:pt x="246" y="12"/>
                  </a:moveTo>
                  <a:lnTo>
                    <a:pt x="243" y="8"/>
                  </a:lnTo>
                  <a:lnTo>
                    <a:pt x="234" y="8"/>
                  </a:lnTo>
                  <a:lnTo>
                    <a:pt x="229" y="12"/>
                  </a:lnTo>
                  <a:lnTo>
                    <a:pt x="226" y="8"/>
                  </a:lnTo>
                  <a:lnTo>
                    <a:pt x="217" y="8"/>
                  </a:lnTo>
                  <a:lnTo>
                    <a:pt x="212" y="12"/>
                  </a:lnTo>
                  <a:lnTo>
                    <a:pt x="209" y="8"/>
                  </a:lnTo>
                  <a:lnTo>
                    <a:pt x="200" y="8"/>
                  </a:lnTo>
                  <a:lnTo>
                    <a:pt x="197" y="12"/>
                  </a:lnTo>
                  <a:lnTo>
                    <a:pt x="195" y="26"/>
                  </a:lnTo>
                  <a:lnTo>
                    <a:pt x="212" y="26"/>
                  </a:lnTo>
                  <a:lnTo>
                    <a:pt x="229" y="26"/>
                  </a:lnTo>
                  <a:lnTo>
                    <a:pt x="246" y="26"/>
                  </a:lnTo>
                  <a:lnTo>
                    <a:pt x="263" y="26"/>
                  </a:lnTo>
                  <a:lnTo>
                    <a:pt x="263" y="12"/>
                  </a:lnTo>
                  <a:lnTo>
                    <a:pt x="259" y="8"/>
                  </a:lnTo>
                  <a:lnTo>
                    <a:pt x="249" y="8"/>
                  </a:lnTo>
                  <a:lnTo>
                    <a:pt x="246" y="12"/>
                  </a:lnTo>
                  <a:lnTo>
                    <a:pt x="246" y="12"/>
                  </a:lnTo>
                  <a:close/>
                  <a:moveTo>
                    <a:pt x="171" y="12"/>
                  </a:moveTo>
                  <a:lnTo>
                    <a:pt x="168" y="8"/>
                  </a:lnTo>
                  <a:lnTo>
                    <a:pt x="159" y="8"/>
                  </a:lnTo>
                  <a:lnTo>
                    <a:pt x="156" y="12"/>
                  </a:lnTo>
                  <a:lnTo>
                    <a:pt x="151" y="8"/>
                  </a:lnTo>
                  <a:lnTo>
                    <a:pt x="142" y="8"/>
                  </a:lnTo>
                  <a:lnTo>
                    <a:pt x="139" y="12"/>
                  </a:lnTo>
                  <a:lnTo>
                    <a:pt x="136" y="8"/>
                  </a:lnTo>
                  <a:lnTo>
                    <a:pt x="125" y="8"/>
                  </a:lnTo>
                  <a:lnTo>
                    <a:pt x="122" y="12"/>
                  </a:lnTo>
                  <a:lnTo>
                    <a:pt x="121" y="26"/>
                  </a:lnTo>
                  <a:lnTo>
                    <a:pt x="139" y="26"/>
                  </a:lnTo>
                  <a:lnTo>
                    <a:pt x="156" y="26"/>
                  </a:lnTo>
                  <a:lnTo>
                    <a:pt x="171" y="26"/>
                  </a:lnTo>
                  <a:lnTo>
                    <a:pt x="189" y="26"/>
                  </a:lnTo>
                  <a:lnTo>
                    <a:pt x="188" y="12"/>
                  </a:lnTo>
                  <a:lnTo>
                    <a:pt x="185" y="8"/>
                  </a:lnTo>
                  <a:lnTo>
                    <a:pt x="176" y="8"/>
                  </a:lnTo>
                  <a:lnTo>
                    <a:pt x="171" y="12"/>
                  </a:lnTo>
                  <a:lnTo>
                    <a:pt x="171" y="12"/>
                  </a:lnTo>
                  <a:close/>
                  <a:moveTo>
                    <a:pt x="98" y="12"/>
                  </a:moveTo>
                  <a:lnTo>
                    <a:pt x="95" y="8"/>
                  </a:lnTo>
                  <a:lnTo>
                    <a:pt x="84" y="8"/>
                  </a:lnTo>
                  <a:lnTo>
                    <a:pt x="81" y="12"/>
                  </a:lnTo>
                  <a:lnTo>
                    <a:pt x="78" y="8"/>
                  </a:lnTo>
                  <a:lnTo>
                    <a:pt x="67" y="8"/>
                  </a:lnTo>
                  <a:lnTo>
                    <a:pt x="64" y="12"/>
                  </a:lnTo>
                  <a:lnTo>
                    <a:pt x="61" y="8"/>
                  </a:lnTo>
                  <a:lnTo>
                    <a:pt x="50" y="8"/>
                  </a:lnTo>
                  <a:lnTo>
                    <a:pt x="47" y="12"/>
                  </a:lnTo>
                  <a:lnTo>
                    <a:pt x="47" y="26"/>
                  </a:lnTo>
                  <a:lnTo>
                    <a:pt x="64" y="26"/>
                  </a:lnTo>
                  <a:lnTo>
                    <a:pt x="81" y="26"/>
                  </a:lnTo>
                  <a:lnTo>
                    <a:pt x="98" y="26"/>
                  </a:lnTo>
                  <a:lnTo>
                    <a:pt x="115" y="26"/>
                  </a:lnTo>
                  <a:lnTo>
                    <a:pt x="115" y="12"/>
                  </a:lnTo>
                  <a:lnTo>
                    <a:pt x="111" y="8"/>
                  </a:lnTo>
                  <a:lnTo>
                    <a:pt x="101" y="8"/>
                  </a:lnTo>
                  <a:lnTo>
                    <a:pt x="98" y="12"/>
                  </a:lnTo>
                  <a:lnTo>
                    <a:pt x="98" y="12"/>
                  </a:lnTo>
                  <a:close/>
                  <a:moveTo>
                    <a:pt x="0" y="107"/>
                  </a:moveTo>
                  <a:lnTo>
                    <a:pt x="401" y="107"/>
                  </a:lnTo>
                  <a:lnTo>
                    <a:pt x="391" y="0"/>
                  </a:lnTo>
                  <a:lnTo>
                    <a:pt x="11" y="0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83080" y="4243320"/>
              <a:ext cx="463320" cy="309600"/>
            </a:xfrm>
            <a:custGeom>
              <a:avLst/>
              <a:gdLst/>
              <a:ahLst/>
              <a:rect l="l" t="t" r="r" b="b"/>
              <a:pathLst>
                <a:path w="269" h="195">
                  <a:moveTo>
                    <a:pt x="254" y="195"/>
                  </a:moveTo>
                  <a:lnTo>
                    <a:pt x="269" y="195"/>
                  </a:lnTo>
                  <a:lnTo>
                    <a:pt x="269" y="191"/>
                  </a:lnTo>
                  <a:lnTo>
                    <a:pt x="254" y="191"/>
                  </a:lnTo>
                  <a:lnTo>
                    <a:pt x="254" y="195"/>
                  </a:lnTo>
                  <a:lnTo>
                    <a:pt x="254" y="195"/>
                  </a:lnTo>
                  <a:close/>
                  <a:moveTo>
                    <a:pt x="20" y="163"/>
                  </a:moveTo>
                  <a:lnTo>
                    <a:pt x="20" y="20"/>
                  </a:lnTo>
                  <a:lnTo>
                    <a:pt x="229" y="20"/>
                  </a:lnTo>
                  <a:lnTo>
                    <a:pt x="229" y="163"/>
                  </a:lnTo>
                  <a:lnTo>
                    <a:pt x="20" y="163"/>
                  </a:lnTo>
                  <a:lnTo>
                    <a:pt x="20" y="163"/>
                  </a:lnTo>
                  <a:close/>
                  <a:moveTo>
                    <a:pt x="10" y="172"/>
                  </a:moveTo>
                  <a:lnTo>
                    <a:pt x="240" y="172"/>
                  </a:lnTo>
                  <a:lnTo>
                    <a:pt x="240" y="9"/>
                  </a:lnTo>
                  <a:lnTo>
                    <a:pt x="249" y="9"/>
                  </a:lnTo>
                  <a:lnTo>
                    <a:pt x="24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81"/>
                  </a:lnTo>
                  <a:lnTo>
                    <a:pt x="10" y="181"/>
                  </a:lnTo>
                  <a:lnTo>
                    <a:pt x="10" y="172"/>
                  </a:lnTo>
                  <a:lnTo>
                    <a:pt x="10" y="1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33400" y="4570200"/>
              <a:ext cx="528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965880" y="457020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1100160" y="4570200"/>
              <a:ext cx="14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1217520" y="38736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55800" y="3867120"/>
            <a:ext cx="0" cy="324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05080" y="4205160"/>
            <a:ext cx="106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ser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8373960" y="4213080"/>
            <a:ext cx="738000" cy="681120"/>
            <a:chOff x="8373960" y="4213080"/>
            <a:chExt cx="738000" cy="681120"/>
          </a:xfrm>
        </p:grpSpPr>
        <p:sp>
          <p:nvSpPr>
            <p:cNvPr id="489" name=""/>
            <p:cNvSpPr/>
            <p:nvPr/>
          </p:nvSpPr>
          <p:spPr>
            <a:xfrm>
              <a:off x="8373960" y="4213080"/>
              <a:ext cx="738000" cy="681120"/>
            </a:xfrm>
            <a:custGeom>
              <a:avLst/>
              <a:gdLst/>
              <a:ahLst/>
              <a:rect l="l" t="t" r="r" b="b"/>
              <a:pathLst>
                <a:path w="429" h="429">
                  <a:moveTo>
                    <a:pt x="61" y="249"/>
                  </a:moveTo>
                  <a:lnTo>
                    <a:pt x="100" y="249"/>
                  </a:lnTo>
                  <a:lnTo>
                    <a:pt x="100" y="268"/>
                  </a:lnTo>
                  <a:lnTo>
                    <a:pt x="330" y="268"/>
                  </a:lnTo>
                  <a:lnTo>
                    <a:pt x="330" y="249"/>
                  </a:lnTo>
                  <a:lnTo>
                    <a:pt x="368" y="249"/>
                  </a:lnTo>
                  <a:lnTo>
                    <a:pt x="368" y="0"/>
                  </a:lnTo>
                  <a:lnTo>
                    <a:pt x="61" y="0"/>
                  </a:lnTo>
                  <a:lnTo>
                    <a:pt x="61" y="249"/>
                  </a:lnTo>
                  <a:lnTo>
                    <a:pt x="61" y="249"/>
                  </a:lnTo>
                  <a:close/>
                  <a:moveTo>
                    <a:pt x="411" y="307"/>
                  </a:moveTo>
                  <a:lnTo>
                    <a:pt x="19" y="307"/>
                  </a:lnTo>
                  <a:lnTo>
                    <a:pt x="16" y="308"/>
                  </a:lnTo>
                  <a:lnTo>
                    <a:pt x="14" y="311"/>
                  </a:lnTo>
                  <a:lnTo>
                    <a:pt x="0" y="424"/>
                  </a:lnTo>
                  <a:lnTo>
                    <a:pt x="2" y="427"/>
                  </a:lnTo>
                  <a:lnTo>
                    <a:pt x="5" y="429"/>
                  </a:lnTo>
                  <a:lnTo>
                    <a:pt x="425" y="429"/>
                  </a:lnTo>
                  <a:lnTo>
                    <a:pt x="428" y="427"/>
                  </a:lnTo>
                  <a:lnTo>
                    <a:pt x="429" y="424"/>
                  </a:lnTo>
                  <a:lnTo>
                    <a:pt x="415" y="311"/>
                  </a:lnTo>
                  <a:lnTo>
                    <a:pt x="414" y="308"/>
                  </a:lnTo>
                  <a:lnTo>
                    <a:pt x="411" y="307"/>
                  </a:lnTo>
                  <a:lnTo>
                    <a:pt x="411" y="307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546040" y="4608360"/>
              <a:ext cx="395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397720" y="4711680"/>
              <a:ext cx="690480" cy="169920"/>
            </a:xfrm>
            <a:custGeom>
              <a:avLst/>
              <a:gdLst/>
              <a:ahLst/>
              <a:rect l="l" t="t" r="r" b="b"/>
              <a:pathLst>
                <a:path w="401" h="107">
                  <a:moveTo>
                    <a:pt x="317" y="81"/>
                  </a:moveTo>
                  <a:lnTo>
                    <a:pt x="314" y="78"/>
                  </a:lnTo>
                  <a:lnTo>
                    <a:pt x="305" y="78"/>
                  </a:lnTo>
                  <a:lnTo>
                    <a:pt x="301" y="82"/>
                  </a:lnTo>
                  <a:lnTo>
                    <a:pt x="301" y="73"/>
                  </a:lnTo>
                  <a:lnTo>
                    <a:pt x="298" y="69"/>
                  </a:lnTo>
                  <a:lnTo>
                    <a:pt x="287" y="69"/>
                  </a:lnTo>
                  <a:lnTo>
                    <a:pt x="284" y="73"/>
                  </a:lnTo>
                  <a:lnTo>
                    <a:pt x="284" y="82"/>
                  </a:lnTo>
                  <a:lnTo>
                    <a:pt x="281" y="78"/>
                  </a:lnTo>
                  <a:lnTo>
                    <a:pt x="272" y="78"/>
                  </a:lnTo>
                  <a:lnTo>
                    <a:pt x="269" y="81"/>
                  </a:lnTo>
                  <a:lnTo>
                    <a:pt x="269" y="99"/>
                  </a:lnTo>
                  <a:lnTo>
                    <a:pt x="285" y="99"/>
                  </a:lnTo>
                  <a:lnTo>
                    <a:pt x="302" y="99"/>
                  </a:lnTo>
                  <a:lnTo>
                    <a:pt x="319" y="99"/>
                  </a:lnTo>
                  <a:lnTo>
                    <a:pt x="317" y="81"/>
                  </a:lnTo>
                  <a:lnTo>
                    <a:pt x="317" y="81"/>
                  </a:lnTo>
                  <a:close/>
                  <a:moveTo>
                    <a:pt x="372" y="35"/>
                  </a:moveTo>
                  <a:lnTo>
                    <a:pt x="369" y="31"/>
                  </a:lnTo>
                  <a:lnTo>
                    <a:pt x="359" y="31"/>
                  </a:lnTo>
                  <a:lnTo>
                    <a:pt x="356" y="35"/>
                  </a:lnTo>
                  <a:lnTo>
                    <a:pt x="353" y="31"/>
                  </a:lnTo>
                  <a:lnTo>
                    <a:pt x="342" y="31"/>
                  </a:lnTo>
                  <a:lnTo>
                    <a:pt x="339" y="35"/>
                  </a:lnTo>
                  <a:lnTo>
                    <a:pt x="336" y="31"/>
                  </a:lnTo>
                  <a:lnTo>
                    <a:pt x="325" y="31"/>
                  </a:lnTo>
                  <a:lnTo>
                    <a:pt x="322" y="35"/>
                  </a:lnTo>
                  <a:lnTo>
                    <a:pt x="322" y="99"/>
                  </a:lnTo>
                  <a:lnTo>
                    <a:pt x="394" y="99"/>
                  </a:lnTo>
                  <a:lnTo>
                    <a:pt x="389" y="35"/>
                  </a:lnTo>
                  <a:lnTo>
                    <a:pt x="385" y="31"/>
                  </a:lnTo>
                  <a:lnTo>
                    <a:pt x="375" y="31"/>
                  </a:lnTo>
                  <a:lnTo>
                    <a:pt x="372" y="35"/>
                  </a:lnTo>
                  <a:lnTo>
                    <a:pt x="372" y="35"/>
                  </a:lnTo>
                  <a:close/>
                  <a:moveTo>
                    <a:pt x="317" y="35"/>
                  </a:moveTo>
                  <a:lnTo>
                    <a:pt x="314" y="31"/>
                  </a:lnTo>
                  <a:lnTo>
                    <a:pt x="305" y="31"/>
                  </a:lnTo>
                  <a:lnTo>
                    <a:pt x="301" y="35"/>
                  </a:lnTo>
                  <a:lnTo>
                    <a:pt x="298" y="31"/>
                  </a:lnTo>
                  <a:lnTo>
                    <a:pt x="288" y="31"/>
                  </a:lnTo>
                  <a:lnTo>
                    <a:pt x="285" y="35"/>
                  </a:lnTo>
                  <a:lnTo>
                    <a:pt x="282" y="31"/>
                  </a:lnTo>
                  <a:lnTo>
                    <a:pt x="272" y="31"/>
                  </a:lnTo>
                  <a:lnTo>
                    <a:pt x="269" y="35"/>
                  </a:lnTo>
                  <a:lnTo>
                    <a:pt x="269" y="60"/>
                  </a:lnTo>
                  <a:lnTo>
                    <a:pt x="285" y="60"/>
                  </a:lnTo>
                  <a:lnTo>
                    <a:pt x="301" y="60"/>
                  </a:lnTo>
                  <a:lnTo>
                    <a:pt x="319" y="60"/>
                  </a:lnTo>
                  <a:lnTo>
                    <a:pt x="317" y="35"/>
                  </a:lnTo>
                  <a:lnTo>
                    <a:pt x="317" y="35"/>
                  </a:lnTo>
                  <a:close/>
                  <a:moveTo>
                    <a:pt x="14" y="35"/>
                  </a:moveTo>
                  <a:lnTo>
                    <a:pt x="8" y="99"/>
                  </a:lnTo>
                  <a:lnTo>
                    <a:pt x="43" y="99"/>
                  </a:lnTo>
                  <a:lnTo>
                    <a:pt x="46" y="81"/>
                  </a:lnTo>
                  <a:lnTo>
                    <a:pt x="63" y="81"/>
                  </a:lnTo>
                  <a:lnTo>
                    <a:pt x="66" y="99"/>
                  </a:lnTo>
                  <a:lnTo>
                    <a:pt x="208" y="99"/>
                  </a:lnTo>
                  <a:lnTo>
                    <a:pt x="215" y="84"/>
                  </a:lnTo>
                  <a:lnTo>
                    <a:pt x="229" y="84"/>
                  </a:lnTo>
                  <a:lnTo>
                    <a:pt x="237" y="99"/>
                  </a:lnTo>
                  <a:lnTo>
                    <a:pt x="266" y="99"/>
                  </a:lnTo>
                  <a:lnTo>
                    <a:pt x="263" y="35"/>
                  </a:lnTo>
                  <a:lnTo>
                    <a:pt x="259" y="31"/>
                  </a:lnTo>
                  <a:lnTo>
                    <a:pt x="250" y="31"/>
                  </a:lnTo>
                  <a:lnTo>
                    <a:pt x="246" y="35"/>
                  </a:lnTo>
                  <a:lnTo>
                    <a:pt x="243" y="31"/>
                  </a:lnTo>
                  <a:lnTo>
                    <a:pt x="234" y="31"/>
                  </a:lnTo>
                  <a:lnTo>
                    <a:pt x="231" y="35"/>
                  </a:lnTo>
                  <a:lnTo>
                    <a:pt x="226" y="31"/>
                  </a:lnTo>
                  <a:lnTo>
                    <a:pt x="217" y="31"/>
                  </a:lnTo>
                  <a:lnTo>
                    <a:pt x="214" y="35"/>
                  </a:lnTo>
                  <a:lnTo>
                    <a:pt x="211" y="31"/>
                  </a:lnTo>
                  <a:lnTo>
                    <a:pt x="200" y="31"/>
                  </a:lnTo>
                  <a:lnTo>
                    <a:pt x="197" y="35"/>
                  </a:lnTo>
                  <a:lnTo>
                    <a:pt x="194" y="31"/>
                  </a:lnTo>
                  <a:lnTo>
                    <a:pt x="183" y="31"/>
                  </a:lnTo>
                  <a:lnTo>
                    <a:pt x="180" y="35"/>
                  </a:lnTo>
                  <a:lnTo>
                    <a:pt x="177" y="31"/>
                  </a:lnTo>
                  <a:lnTo>
                    <a:pt x="166" y="31"/>
                  </a:lnTo>
                  <a:lnTo>
                    <a:pt x="163" y="35"/>
                  </a:lnTo>
                  <a:lnTo>
                    <a:pt x="160" y="31"/>
                  </a:lnTo>
                  <a:lnTo>
                    <a:pt x="150" y="31"/>
                  </a:lnTo>
                  <a:lnTo>
                    <a:pt x="147" y="35"/>
                  </a:lnTo>
                  <a:lnTo>
                    <a:pt x="144" y="31"/>
                  </a:lnTo>
                  <a:lnTo>
                    <a:pt x="134" y="31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118" y="31"/>
                  </a:lnTo>
                  <a:lnTo>
                    <a:pt x="115" y="35"/>
                  </a:lnTo>
                  <a:lnTo>
                    <a:pt x="110" y="31"/>
                  </a:lnTo>
                  <a:lnTo>
                    <a:pt x="101" y="31"/>
                  </a:lnTo>
                  <a:lnTo>
                    <a:pt x="98" y="35"/>
                  </a:lnTo>
                  <a:lnTo>
                    <a:pt x="93" y="31"/>
                  </a:lnTo>
                  <a:lnTo>
                    <a:pt x="84" y="31"/>
                  </a:lnTo>
                  <a:lnTo>
                    <a:pt x="81" y="35"/>
                  </a:lnTo>
                  <a:lnTo>
                    <a:pt x="78" y="31"/>
                  </a:lnTo>
                  <a:lnTo>
                    <a:pt x="67" y="31"/>
                  </a:lnTo>
                  <a:lnTo>
                    <a:pt x="64" y="35"/>
                  </a:lnTo>
                  <a:lnTo>
                    <a:pt x="61" y="31"/>
                  </a:lnTo>
                  <a:lnTo>
                    <a:pt x="50" y="31"/>
                  </a:lnTo>
                  <a:lnTo>
                    <a:pt x="47" y="35"/>
                  </a:lnTo>
                  <a:lnTo>
                    <a:pt x="44" y="31"/>
                  </a:lnTo>
                  <a:lnTo>
                    <a:pt x="34" y="31"/>
                  </a:lnTo>
                  <a:lnTo>
                    <a:pt x="31" y="35"/>
                  </a:lnTo>
                  <a:lnTo>
                    <a:pt x="28" y="31"/>
                  </a:lnTo>
                  <a:lnTo>
                    <a:pt x="17" y="31"/>
                  </a:lnTo>
                  <a:lnTo>
                    <a:pt x="14" y="35"/>
                  </a:lnTo>
                  <a:lnTo>
                    <a:pt x="14" y="35"/>
                  </a:lnTo>
                  <a:close/>
                  <a:moveTo>
                    <a:pt x="319" y="12"/>
                  </a:moveTo>
                  <a:lnTo>
                    <a:pt x="316" y="8"/>
                  </a:lnTo>
                  <a:lnTo>
                    <a:pt x="305" y="8"/>
                  </a:lnTo>
                  <a:lnTo>
                    <a:pt x="302" y="12"/>
                  </a:lnTo>
                  <a:lnTo>
                    <a:pt x="299" y="8"/>
                  </a:lnTo>
                  <a:lnTo>
                    <a:pt x="288" y="8"/>
                  </a:lnTo>
                  <a:lnTo>
                    <a:pt x="285" y="12"/>
                  </a:lnTo>
                  <a:lnTo>
                    <a:pt x="282" y="8"/>
                  </a:lnTo>
                  <a:lnTo>
                    <a:pt x="272" y="8"/>
                  </a:lnTo>
                  <a:lnTo>
                    <a:pt x="269" y="12"/>
                  </a:lnTo>
                  <a:lnTo>
                    <a:pt x="269" y="26"/>
                  </a:lnTo>
                  <a:lnTo>
                    <a:pt x="285" y="26"/>
                  </a:lnTo>
                  <a:lnTo>
                    <a:pt x="302" y="26"/>
                  </a:lnTo>
                  <a:lnTo>
                    <a:pt x="319" y="26"/>
                  </a:lnTo>
                  <a:lnTo>
                    <a:pt x="319" y="12"/>
                  </a:lnTo>
                  <a:lnTo>
                    <a:pt x="319" y="12"/>
                  </a:lnTo>
                  <a:close/>
                  <a:moveTo>
                    <a:pt x="34" y="26"/>
                  </a:moveTo>
                  <a:lnTo>
                    <a:pt x="32" y="12"/>
                  </a:lnTo>
                  <a:lnTo>
                    <a:pt x="29" y="8"/>
                  </a:lnTo>
                  <a:lnTo>
                    <a:pt x="18" y="8"/>
                  </a:lnTo>
                  <a:lnTo>
                    <a:pt x="15" y="12"/>
                  </a:lnTo>
                  <a:lnTo>
                    <a:pt x="15" y="26"/>
                  </a:lnTo>
                  <a:lnTo>
                    <a:pt x="32" y="26"/>
                  </a:lnTo>
                  <a:lnTo>
                    <a:pt x="34" y="26"/>
                  </a:lnTo>
                  <a:lnTo>
                    <a:pt x="34" y="26"/>
                  </a:lnTo>
                  <a:close/>
                  <a:moveTo>
                    <a:pt x="246" y="12"/>
                  </a:moveTo>
                  <a:lnTo>
                    <a:pt x="243" y="8"/>
                  </a:lnTo>
                  <a:lnTo>
                    <a:pt x="234" y="8"/>
                  </a:lnTo>
                  <a:lnTo>
                    <a:pt x="229" y="12"/>
                  </a:lnTo>
                  <a:lnTo>
                    <a:pt x="226" y="8"/>
                  </a:lnTo>
                  <a:lnTo>
                    <a:pt x="217" y="8"/>
                  </a:lnTo>
                  <a:lnTo>
                    <a:pt x="212" y="12"/>
                  </a:lnTo>
                  <a:lnTo>
                    <a:pt x="209" y="8"/>
                  </a:lnTo>
                  <a:lnTo>
                    <a:pt x="200" y="8"/>
                  </a:lnTo>
                  <a:lnTo>
                    <a:pt x="197" y="12"/>
                  </a:lnTo>
                  <a:lnTo>
                    <a:pt x="195" y="26"/>
                  </a:lnTo>
                  <a:lnTo>
                    <a:pt x="212" y="26"/>
                  </a:lnTo>
                  <a:lnTo>
                    <a:pt x="229" y="26"/>
                  </a:lnTo>
                  <a:lnTo>
                    <a:pt x="246" y="26"/>
                  </a:lnTo>
                  <a:lnTo>
                    <a:pt x="263" y="26"/>
                  </a:lnTo>
                  <a:lnTo>
                    <a:pt x="263" y="12"/>
                  </a:lnTo>
                  <a:lnTo>
                    <a:pt x="259" y="8"/>
                  </a:lnTo>
                  <a:lnTo>
                    <a:pt x="249" y="8"/>
                  </a:lnTo>
                  <a:lnTo>
                    <a:pt x="246" y="12"/>
                  </a:lnTo>
                  <a:lnTo>
                    <a:pt x="246" y="12"/>
                  </a:lnTo>
                  <a:close/>
                  <a:moveTo>
                    <a:pt x="171" y="12"/>
                  </a:moveTo>
                  <a:lnTo>
                    <a:pt x="168" y="8"/>
                  </a:lnTo>
                  <a:lnTo>
                    <a:pt x="159" y="8"/>
                  </a:lnTo>
                  <a:lnTo>
                    <a:pt x="156" y="12"/>
                  </a:lnTo>
                  <a:lnTo>
                    <a:pt x="151" y="8"/>
                  </a:lnTo>
                  <a:lnTo>
                    <a:pt x="142" y="8"/>
                  </a:lnTo>
                  <a:lnTo>
                    <a:pt x="139" y="12"/>
                  </a:lnTo>
                  <a:lnTo>
                    <a:pt x="136" y="8"/>
                  </a:lnTo>
                  <a:lnTo>
                    <a:pt x="125" y="8"/>
                  </a:lnTo>
                  <a:lnTo>
                    <a:pt x="122" y="12"/>
                  </a:lnTo>
                  <a:lnTo>
                    <a:pt x="121" y="26"/>
                  </a:lnTo>
                  <a:lnTo>
                    <a:pt x="139" y="26"/>
                  </a:lnTo>
                  <a:lnTo>
                    <a:pt x="156" y="26"/>
                  </a:lnTo>
                  <a:lnTo>
                    <a:pt x="171" y="26"/>
                  </a:lnTo>
                  <a:lnTo>
                    <a:pt x="189" y="26"/>
                  </a:lnTo>
                  <a:lnTo>
                    <a:pt x="188" y="12"/>
                  </a:lnTo>
                  <a:lnTo>
                    <a:pt x="185" y="8"/>
                  </a:lnTo>
                  <a:lnTo>
                    <a:pt x="176" y="8"/>
                  </a:lnTo>
                  <a:lnTo>
                    <a:pt x="171" y="12"/>
                  </a:lnTo>
                  <a:lnTo>
                    <a:pt x="171" y="12"/>
                  </a:lnTo>
                  <a:close/>
                  <a:moveTo>
                    <a:pt x="98" y="12"/>
                  </a:moveTo>
                  <a:lnTo>
                    <a:pt x="95" y="8"/>
                  </a:lnTo>
                  <a:lnTo>
                    <a:pt x="84" y="8"/>
                  </a:lnTo>
                  <a:lnTo>
                    <a:pt x="81" y="12"/>
                  </a:lnTo>
                  <a:lnTo>
                    <a:pt x="78" y="8"/>
                  </a:lnTo>
                  <a:lnTo>
                    <a:pt x="67" y="8"/>
                  </a:lnTo>
                  <a:lnTo>
                    <a:pt x="64" y="12"/>
                  </a:lnTo>
                  <a:lnTo>
                    <a:pt x="61" y="8"/>
                  </a:lnTo>
                  <a:lnTo>
                    <a:pt x="50" y="8"/>
                  </a:lnTo>
                  <a:lnTo>
                    <a:pt x="47" y="12"/>
                  </a:lnTo>
                  <a:lnTo>
                    <a:pt x="47" y="26"/>
                  </a:lnTo>
                  <a:lnTo>
                    <a:pt x="64" y="26"/>
                  </a:lnTo>
                  <a:lnTo>
                    <a:pt x="81" y="26"/>
                  </a:lnTo>
                  <a:lnTo>
                    <a:pt x="98" y="26"/>
                  </a:lnTo>
                  <a:lnTo>
                    <a:pt x="115" y="26"/>
                  </a:lnTo>
                  <a:lnTo>
                    <a:pt x="115" y="12"/>
                  </a:lnTo>
                  <a:lnTo>
                    <a:pt x="111" y="8"/>
                  </a:lnTo>
                  <a:lnTo>
                    <a:pt x="101" y="8"/>
                  </a:lnTo>
                  <a:lnTo>
                    <a:pt x="98" y="12"/>
                  </a:lnTo>
                  <a:lnTo>
                    <a:pt x="98" y="12"/>
                  </a:lnTo>
                  <a:close/>
                  <a:moveTo>
                    <a:pt x="0" y="107"/>
                  </a:moveTo>
                  <a:lnTo>
                    <a:pt x="401" y="107"/>
                  </a:lnTo>
                  <a:lnTo>
                    <a:pt x="391" y="0"/>
                  </a:lnTo>
                  <a:lnTo>
                    <a:pt x="11" y="0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528400" y="4259160"/>
              <a:ext cx="463320" cy="309600"/>
            </a:xfrm>
            <a:custGeom>
              <a:avLst/>
              <a:gdLst/>
              <a:ahLst/>
              <a:rect l="l" t="t" r="r" b="b"/>
              <a:pathLst>
                <a:path w="269" h="195">
                  <a:moveTo>
                    <a:pt x="254" y="195"/>
                  </a:moveTo>
                  <a:lnTo>
                    <a:pt x="269" y="195"/>
                  </a:lnTo>
                  <a:lnTo>
                    <a:pt x="269" y="191"/>
                  </a:lnTo>
                  <a:lnTo>
                    <a:pt x="254" y="191"/>
                  </a:lnTo>
                  <a:lnTo>
                    <a:pt x="254" y="195"/>
                  </a:lnTo>
                  <a:lnTo>
                    <a:pt x="254" y="195"/>
                  </a:lnTo>
                  <a:close/>
                  <a:moveTo>
                    <a:pt x="20" y="163"/>
                  </a:moveTo>
                  <a:lnTo>
                    <a:pt x="20" y="20"/>
                  </a:lnTo>
                  <a:lnTo>
                    <a:pt x="229" y="20"/>
                  </a:lnTo>
                  <a:lnTo>
                    <a:pt x="229" y="163"/>
                  </a:lnTo>
                  <a:lnTo>
                    <a:pt x="20" y="163"/>
                  </a:lnTo>
                  <a:lnTo>
                    <a:pt x="20" y="163"/>
                  </a:lnTo>
                  <a:close/>
                  <a:moveTo>
                    <a:pt x="10" y="172"/>
                  </a:moveTo>
                  <a:lnTo>
                    <a:pt x="240" y="172"/>
                  </a:lnTo>
                  <a:lnTo>
                    <a:pt x="240" y="9"/>
                  </a:lnTo>
                  <a:lnTo>
                    <a:pt x="249" y="9"/>
                  </a:lnTo>
                  <a:lnTo>
                    <a:pt x="24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81"/>
                  </a:lnTo>
                  <a:lnTo>
                    <a:pt x="10" y="181"/>
                  </a:lnTo>
                  <a:lnTo>
                    <a:pt x="10" y="172"/>
                  </a:lnTo>
                  <a:lnTo>
                    <a:pt x="10" y="1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78720" y="4586040"/>
              <a:ext cx="528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8611200" y="458604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8745480" y="4586040"/>
              <a:ext cx="14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8667720" y="3905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901000" y="389268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9157680" y="4176720"/>
            <a:ext cx="74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ser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311560" y="1600200"/>
            <a:ext cx="90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64440" y="1600200"/>
            <a:ext cx="90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89360" y="2514600"/>
            <a:ext cx="907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86640" y="2514600"/>
            <a:ext cx="907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394000" y="4724280"/>
            <a:ext cx="82548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429680" y="4724280"/>
            <a:ext cx="82548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889360" y="3429000"/>
            <a:ext cx="48704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505" idx="1"/>
            <a:endCxn id="505" idx="7"/>
          </p:cNvCxnSpPr>
          <p:nvPr/>
        </p:nvCxnSpPr>
        <p:spPr>
          <a:xfrm flipH="1" rot="16200000">
            <a:off x="5323680" y="1829520"/>
            <a:ext cx="2160" cy="3445560"/>
          </a:xfrm>
          <a:prstGeom prst="curvedConnector5">
            <a:avLst>
              <a:gd name="adj1" fmla="val -22100000"/>
              <a:gd name="adj2" fmla="val 50000"/>
              <a:gd name="adj3" fmla="val -22100000"/>
            </a:avLst>
          </a:prstGeom>
          <a:ln w="9360">
            <a:solidFill>
              <a:srgbClr val="000000"/>
            </a:solidFill>
            <a:prstDash val="dashDot"/>
            <a:miter/>
          </a:ln>
        </p:spPr>
      </p:cxnSp>
      <p:sp>
        <p:nvSpPr>
          <p:cNvPr id="507" name=""/>
          <p:cNvSpPr/>
          <p:nvPr/>
        </p:nvSpPr>
        <p:spPr>
          <a:xfrm flipH="1">
            <a:off x="7016400" y="2895480"/>
            <a:ext cx="165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301920" y="2895480"/>
            <a:ext cx="32076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06560" y="2209680"/>
            <a:ext cx="495360" cy="304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7181640" y="2209680"/>
            <a:ext cx="547560" cy="304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1" name=""/>
          <p:cNvCxnSpPr>
            <a:stCxn id="505" idx="3"/>
            <a:endCxn id="505" idx="5"/>
          </p:cNvCxnSpPr>
          <p:nvPr/>
        </p:nvCxnSpPr>
        <p:spPr>
          <a:xfrm flipH="1" rot="16200000">
            <a:off x="5322960" y="2423160"/>
            <a:ext cx="2160" cy="3445560"/>
          </a:xfrm>
          <a:prstGeom prst="curvedConnector5">
            <a:avLst>
              <a:gd name="adj1" fmla="val 22100000"/>
              <a:gd name="adj2" fmla="val 50000"/>
              <a:gd name="adj3" fmla="val 22100000"/>
            </a:avLst>
          </a:prstGeom>
          <a:ln w="9360">
            <a:solidFill>
              <a:srgbClr val="000000"/>
            </a:solidFill>
            <a:prstDash val="dashDot"/>
            <a:miter/>
          </a:ln>
        </p:spPr>
      </p:cxnSp>
      <p:sp>
        <p:nvSpPr>
          <p:cNvPr id="512" name=""/>
          <p:cNvSpPr/>
          <p:nvPr/>
        </p:nvSpPr>
        <p:spPr>
          <a:xfrm flipH="1">
            <a:off x="2806200" y="4114800"/>
            <a:ext cx="825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16760" y="4114800"/>
            <a:ext cx="825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486080" y="914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860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4860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486080" y="5105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55600" y="571500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394000" y="5181480"/>
            <a:ext cx="247680" cy="381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971800" y="5181480"/>
            <a:ext cx="247680" cy="381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7512120" y="5181480"/>
            <a:ext cx="164880" cy="381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007480" y="5181480"/>
            <a:ext cx="247680" cy="381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32400" y="4707000"/>
            <a:ext cx="111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ommunications </a:t>
            </a:r>
            <a:r>
              <a:rPr b="1" lang="de-DE" sz="10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155600" y="3962520"/>
            <a:ext cx="66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55600" y="3505320"/>
            <a:ext cx="66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28760" y="5410080"/>
            <a:ext cx="1201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To 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compon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308360" y="5486400"/>
            <a:ext cx="1113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To 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compon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81920" y="4724280"/>
            <a:ext cx="50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617600" y="4724280"/>
            <a:ext cx="50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12320" y="373392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PSN (X.25)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89360" y="449568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64440" y="4419720"/>
            <a:ext cx="41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719840" y="4249800"/>
            <a:ext cx="150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ccess at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X.25 packet Protocol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934320" y="3200400"/>
            <a:ext cx="41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703280" y="3030480"/>
            <a:ext cx="101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 Sub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ference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48600" y="2133720"/>
            <a:ext cx="102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/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38400" y="914400"/>
            <a:ext cx="49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2806560" y="1066680"/>
            <a:ext cx="41292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2311200" y="1066680"/>
            <a:ext cx="33012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194200" y="609480"/>
            <a:ext cx="115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To 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MHS Compon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7842240" y="1066680"/>
            <a:ext cx="24768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 flipV="1">
            <a:off x="7264080" y="1066680"/>
            <a:ext cx="33012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064640" y="609480"/>
            <a:ext cx="115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To 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MHS Compon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01920" y="320040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80000" y="6053040"/>
            <a:ext cx="428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25. Shared use of a PSN infrastructur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CIDIN and ATN/AMHS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75880" y="5773680"/>
            <a:ext cx="1715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1) Out of scope of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technical provisions for A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07:18:23Z</dcterms:created>
  <dc:creator>Spaerke-Ingrid</dc:creator>
  <dc:description/>
  <dc:language>en-US</dc:language>
  <cp:lastModifiedBy>ON-X</cp:lastModifiedBy>
  <cp:lastPrinted>2000-07-26T12:24:51Z</cp:lastPrinted>
  <dcterms:modified xsi:type="dcterms:W3CDTF">2001-01-05T13:28:13Z</dcterms:modified>
  <cp:revision>120</cp:revision>
  <dc:subject/>
  <dc:title>Kein Folientitel</dc:title>
</cp:coreProperties>
</file>