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907588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09920" y="640080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04160" y="64897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133720" y="6172200"/>
            <a:ext cx="557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1.  ATSMHS traffic fl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370320" y="3048120"/>
            <a:ext cx="2924280" cy="1663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80120" y="3233880"/>
            <a:ext cx="2049480" cy="1353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233880"/>
            <a:ext cx="2049480" cy="1353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82760" y="3730680"/>
            <a:ext cx="363600" cy="360360"/>
          </a:xfrm>
          <a:prstGeom prst="rect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54840" y="3730680"/>
            <a:ext cx="363600" cy="360360"/>
          </a:xfrm>
          <a:prstGeom prst="rect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5480" y="3481560"/>
            <a:ext cx="79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F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65920" y="3481560"/>
            <a:ext cx="1135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F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30880" y="341964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M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191120" y="5105520"/>
          <a:ext cx="10332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5105520"/>
                    <a:ext cx="10332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943600" y="838080"/>
          <a:ext cx="1033560" cy="7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838080"/>
                    <a:ext cx="10335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28600" y="3505320"/>
          <a:ext cx="81108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505320"/>
                    <a:ext cx="8110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8686800" y="3505320"/>
          <a:ext cx="811080" cy="67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86800" y="3505320"/>
                    <a:ext cx="8110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514600" y="4114800"/>
            <a:ext cx="1828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FTN/AMH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4114800"/>
            <a:ext cx="1828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FTN/AMH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2666880"/>
            <a:ext cx="1219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FTN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1880" y="2666880"/>
            <a:ext cx="1219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FTN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4952880"/>
            <a:ext cx="15242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TN End System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AMH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3962520"/>
            <a:ext cx="7238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800600" y="1676160"/>
            <a:ext cx="1447920" cy="3352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219320" y="1752480"/>
            <a:ext cx="4800600" cy="2057400"/>
            <a:chOff x="1219320" y="1752480"/>
            <a:chExt cx="4800600" cy="2057400"/>
          </a:xfrm>
        </p:grpSpPr>
        <p:sp>
          <p:nvSpPr>
            <p:cNvPr id="65" name=""/>
            <p:cNvSpPr/>
            <p:nvPr/>
          </p:nvSpPr>
          <p:spPr>
            <a:xfrm>
              <a:off x="1219320" y="3809880"/>
              <a:ext cx="259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09880" y="1752480"/>
              <a:ext cx="2210040" cy="2057400"/>
            </a:xfrm>
            <a:custGeom>
              <a:avLst/>
              <a:gdLst/>
              <a:ahLst/>
              <a:rect l="l" t="t" r="r" b="b"/>
              <a:pathLst>
                <a:path w="1392" h="1296">
                  <a:moveTo>
                    <a:pt x="0" y="1296"/>
                  </a:moveTo>
                  <a:cubicBezTo>
                    <a:pt x="292" y="1236"/>
                    <a:pt x="584" y="1176"/>
                    <a:pt x="816" y="960"/>
                  </a:cubicBezTo>
                  <a:cubicBezTo>
                    <a:pt x="1048" y="744"/>
                    <a:pt x="1368" y="112"/>
                    <a:pt x="1392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4343400" y="762120"/>
            <a:ext cx="15238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TN End System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AMH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151000" y="6037200"/>
            <a:ext cx="585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10.  Relationship of elements of service and functional gro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39800" y="566640"/>
            <a:ext cx="22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on Messaging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4000" y="236232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asic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200040" y="231948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unctional grou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549480" y="2286000"/>
            <a:ext cx="13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unctional group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50480" y="3809880"/>
            <a:ext cx="156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ement of servic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7600" y="419112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ement of service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98400" y="4952880"/>
            <a:ext cx="156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ement of service d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partial sup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93680" y="3809880"/>
            <a:ext cx="156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ement of service d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full sup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76920" y="4419720"/>
            <a:ext cx="152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ement of service 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542360" y="4267080"/>
            <a:ext cx="155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ement of service 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10640" y="3733920"/>
            <a:ext cx="152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ement of service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1371240" y="914400"/>
            <a:ext cx="68580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362320" y="914400"/>
            <a:ext cx="12952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43200" y="914400"/>
            <a:ext cx="259092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914400"/>
            <a:ext cx="411480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914040" y="266688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26668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81080" y="2666880"/>
            <a:ext cx="4572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200040" y="266688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6629040" y="259092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2666880"/>
            <a:ext cx="68580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238880" y="259092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20120" y="2590920"/>
            <a:ext cx="83808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1981080" y="5486400"/>
            <a:ext cx="632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11.  Use of AMH profiles in support of the Basic ATS Messag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812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9132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41972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91320" y="2286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M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791320" y="32767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M 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7712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10552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73392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588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5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0384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4100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816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12400" y="17524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08040" y="17524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555600" y="17524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55400" y="44956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19920" y="2895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ocal ma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162920" y="18288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162920" y="2286000"/>
            <a:ext cx="12189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960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FT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o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981080" y="18288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294560" y="22860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29456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FT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o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14600" y="205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195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517120" y="17524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62120" y="2057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40240" y="2057400"/>
            <a:ext cx="511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th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384040" y="2057400"/>
            <a:ext cx="511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th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381880" y="205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209680" y="2743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467480" y="2743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09680" y="44197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59760" y="25146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o-located 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650120" y="3429000"/>
            <a:ext cx="103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TS Message 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User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0600" y="1371600"/>
            <a:ext cx="100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TS message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295280" y="1371600"/>
            <a:ext cx="146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FTN/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089480" y="1371600"/>
            <a:ext cx="146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FTN/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48120" y="2286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M 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3352680" y="27428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973240" y="1371600"/>
            <a:ext cx="100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TS message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640120" y="1371600"/>
            <a:ext cx="1009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TS message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4382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5530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814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098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553080" y="2286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MS 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81480" y="2286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MS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8280" y="28195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MS 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81480" y="32767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MS 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86728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9568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2408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74320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8640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743200" y="3276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858000" y="27428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290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8006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1722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25780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51460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02920" y="17524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98200" y="17524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946120" y="17524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345920" y="44956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98000" y="2286000"/>
            <a:ext cx="60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3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565240" y="2743200"/>
            <a:ext cx="60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4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81080" y="5486400"/>
            <a:ext cx="647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12.  Use of AMH profiles in the extended ATS messag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772400" y="18288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772400" y="22860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30592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FT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o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1371600" y="18288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685080" y="22860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6850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FT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o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05120" y="2057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2096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907640" y="17524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38880" y="205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5438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41400" y="17524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52280" y="205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30760" y="2057400"/>
            <a:ext cx="511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th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993880" y="2057400"/>
            <a:ext cx="511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to the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991720" y="2057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600200" y="2743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077320" y="27432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00200" y="441972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4200" y="281952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o-located 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5160" y="3429000"/>
            <a:ext cx="175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TS message user ag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09560" y="137160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TS message 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5440" y="1371600"/>
            <a:ext cx="146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FTN/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98960" y="1371600"/>
            <a:ext cx="146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FTN/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1676520" y="5867280"/>
            <a:ext cx="647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13.  AMHS over ATN transport service implementation infra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2208960" y="990720"/>
            <a:ext cx="1557360" cy="1551240"/>
            <a:chOff x="2208960" y="990720"/>
            <a:chExt cx="1557360" cy="1551240"/>
          </a:xfrm>
        </p:grpSpPr>
        <p:sp>
          <p:nvSpPr>
            <p:cNvPr id="604" name=""/>
            <p:cNvSpPr/>
            <p:nvPr/>
          </p:nvSpPr>
          <p:spPr>
            <a:xfrm>
              <a:off x="2208960" y="990720"/>
              <a:ext cx="155736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Arial"/>
                </a:rPr>
                <a:t>AMHS</a:t>
              </a:r>
              <a:br>
                <a:rPr sz="3200"/>
              </a:br>
              <a:r>
                <a:rPr b="1" lang="fr-FR" sz="3200" spc="-1" strike="noStrike">
                  <a:solidFill>
                    <a:srgbClr val="000000"/>
                  </a:solidFill>
                  <a:latin typeface="Arial"/>
                </a:rPr>
                <a:t>Upper</a:t>
              </a:r>
              <a:br>
                <a:rPr sz="3200"/>
              </a:br>
              <a:r>
                <a:rPr b="1" lang="fr-FR" sz="3200" spc="-1" strike="noStrike">
                  <a:solidFill>
                    <a:srgbClr val="000000"/>
                  </a:solidFill>
                  <a:latin typeface="Arial"/>
                </a:rPr>
                <a:t>Layers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214360" y="1300320"/>
              <a:ext cx="1063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2208960" y="3886200"/>
            <a:ext cx="1490400" cy="1551240"/>
            <a:chOff x="2208960" y="3886200"/>
            <a:chExt cx="1490400" cy="1551240"/>
          </a:xfrm>
        </p:grpSpPr>
        <p:sp>
          <p:nvSpPr>
            <p:cNvPr id="607" name=""/>
            <p:cNvSpPr/>
            <p:nvPr/>
          </p:nvSpPr>
          <p:spPr>
            <a:xfrm>
              <a:off x="2208960" y="3886200"/>
              <a:ext cx="149040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0000"/>
                  </a:solidFill>
                  <a:latin typeface="Arial"/>
                </a:rPr>
                <a:t>ATN</a:t>
              </a:r>
              <a:br>
                <a:rPr sz="3200"/>
              </a:br>
              <a:r>
                <a:rPr b="1" lang="fr-FR" sz="3200" spc="-1" strike="noStrike">
                  <a:solidFill>
                    <a:srgbClr val="000000"/>
                  </a:solidFill>
                  <a:latin typeface="Arial"/>
                </a:rPr>
                <a:t>Lower</a:t>
              </a:r>
              <a:br>
                <a:rPr sz="3200"/>
              </a:br>
              <a:r>
                <a:rPr b="1" lang="fr-FR" sz="3200" spc="-1" strike="noStrike">
                  <a:solidFill>
                    <a:srgbClr val="000000"/>
                  </a:solidFill>
                  <a:latin typeface="Arial"/>
                </a:rPr>
                <a:t>Laye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214360" y="4181400"/>
              <a:ext cx="14144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3886200" y="609480"/>
            <a:ext cx="2027160" cy="1597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86200" y="2209680"/>
            <a:ext cx="2027160" cy="606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6200" y="2819520"/>
            <a:ext cx="2027160" cy="606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60640" y="574560"/>
            <a:ext cx="1486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7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83960" y="2327400"/>
            <a:ext cx="1652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6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012200" y="2860560"/>
            <a:ext cx="11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886200" y="3733920"/>
            <a:ext cx="2027160" cy="6062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86200" y="4343400"/>
            <a:ext cx="2027160" cy="987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935520" y="3774960"/>
            <a:ext cx="134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008600" y="4568760"/>
            <a:ext cx="150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yers 1 t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218120" y="1787400"/>
            <a:ext cx="520560" cy="3682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827600" y="1558800"/>
            <a:ext cx="520560" cy="3682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70400" y="949320"/>
            <a:ext cx="749160" cy="5205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343040" y="1066680"/>
            <a:ext cx="81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T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91480" y="1874880"/>
            <a:ext cx="67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800600" y="1646280"/>
            <a:ext cx="65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T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86200" y="34290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ansport service map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219320" y="3352680"/>
            <a:ext cx="205740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ditional parameter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76720" y="3581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943600" y="2514600"/>
            <a:ext cx="990720" cy="914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 flipV="1">
            <a:off x="5943600" y="3733560"/>
            <a:ext cx="990720" cy="5331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548760" y="2133720"/>
            <a:ext cx="156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nsport service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780240" y="3886200"/>
            <a:ext cx="13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TN Transport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247680" y="3962520"/>
            <a:ext cx="4788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95360" y="4343400"/>
            <a:ext cx="99072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pping Procedure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M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981080" y="4343400"/>
            <a:ext cx="107316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Gateway'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pping Tables (AM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632040" y="4343400"/>
            <a:ext cx="115596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pping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Import Process (AM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75280" y="4038480"/>
            <a:ext cx="419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Gateway to ATSO3 MD (ATSO without a directo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7" name=""/>
          <p:cNvCxnSpPr>
            <a:stCxn id="635" idx="1"/>
            <a:endCxn id="634" idx="3"/>
          </p:cNvCxnSpPr>
          <p:nvPr/>
        </p:nvCxnSpPr>
        <p:spPr>
          <a:xfrm flipH="1">
            <a:off x="3053520" y="4698720"/>
            <a:ext cx="578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8" name=""/>
          <p:cNvCxnSpPr>
            <a:stCxn id="634" idx="1"/>
            <a:endCxn id="633" idx="3"/>
          </p:cNvCxnSpPr>
          <p:nvPr/>
        </p:nvCxnSpPr>
        <p:spPr>
          <a:xfrm flipH="1">
            <a:off x="1485360" y="4698720"/>
            <a:ext cx="495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39" name=""/>
          <p:cNvSpPr/>
          <p:nvPr/>
        </p:nvSpPr>
        <p:spPr>
          <a:xfrm>
            <a:off x="5200560" y="914400"/>
            <a:ext cx="222912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ddress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77000" y="914400"/>
            <a:ext cx="198144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CAO Registration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Public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48240" y="1295280"/>
            <a:ext cx="11556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istributed 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ublishing Service (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48240" y="2819520"/>
            <a:ext cx="11556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istributed 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ublishing Service (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47680" y="914400"/>
            <a:ext cx="4787640" cy="1295280"/>
            <a:chOff x="247680" y="914400"/>
            <a:chExt cx="4787640" cy="1295280"/>
          </a:xfrm>
        </p:grpSpPr>
        <p:sp>
          <p:nvSpPr>
            <p:cNvPr id="644" name=""/>
            <p:cNvSpPr/>
            <p:nvPr/>
          </p:nvSpPr>
          <p:spPr>
            <a:xfrm>
              <a:off x="247680" y="914400"/>
              <a:ext cx="478764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95000" y="1295280"/>
              <a:ext cx="990360" cy="70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br>
                <a:rPr sz="1000"/>
              </a:b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apping Procedures</a:t>
              </a:r>
              <a:br>
                <a:rPr sz="1000"/>
              </a:b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(AM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81080" y="1295280"/>
              <a:ext cx="1072800" cy="70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Gateway's</a:t>
              </a:r>
              <a:br>
                <a:rPr sz="1000"/>
              </a:b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br>
                <a:rPr sz="1000"/>
              </a:b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apping Tables (AM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32040" y="1295280"/>
              <a:ext cx="1155600" cy="70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br>
                <a:rPr sz="1000"/>
              </a:b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apping </a:t>
              </a:r>
              <a:br>
                <a:rPr sz="1000"/>
              </a:b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 Import Process (AMI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49880" y="990360"/>
              <a:ext cx="204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Gateway to ATSO1 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9" name=""/>
            <p:cNvCxnSpPr>
              <a:stCxn id="647" idx="1"/>
              <a:endCxn id="646" idx="3"/>
            </p:cNvCxnSpPr>
            <p:nvPr/>
          </p:nvCxnSpPr>
          <p:spPr>
            <a:xfrm flipH="1">
              <a:off x="3053520" y="1650600"/>
              <a:ext cx="578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0" name=""/>
            <p:cNvCxnSpPr>
              <a:stCxn id="646" idx="1"/>
              <a:endCxn id="645" idx="3"/>
            </p:cNvCxnSpPr>
            <p:nvPr/>
          </p:nvCxnSpPr>
          <p:spPr>
            <a:xfrm flipH="1">
              <a:off x="1485000" y="1650600"/>
              <a:ext cx="495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651" name=""/>
          <p:cNvGrpSpPr/>
          <p:nvPr/>
        </p:nvGrpSpPr>
        <p:grpSpPr>
          <a:xfrm>
            <a:off x="247680" y="2438280"/>
            <a:ext cx="4787640" cy="1295280"/>
            <a:chOff x="247680" y="2438280"/>
            <a:chExt cx="4787640" cy="1295280"/>
          </a:xfrm>
        </p:grpSpPr>
        <p:sp>
          <p:nvSpPr>
            <p:cNvPr id="652" name=""/>
            <p:cNvSpPr/>
            <p:nvPr/>
          </p:nvSpPr>
          <p:spPr>
            <a:xfrm>
              <a:off x="247680" y="2438280"/>
              <a:ext cx="478764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95000" y="2819160"/>
              <a:ext cx="990360" cy="70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br>
                <a:rPr sz="1000"/>
              </a:b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apping Procedures</a:t>
              </a:r>
              <a:br>
                <a:rPr sz="1000"/>
              </a:b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(AM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81080" y="2819160"/>
              <a:ext cx="1072800" cy="70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Gateway's</a:t>
              </a:r>
              <a:br>
                <a:rPr sz="1000"/>
              </a:b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br>
                <a:rPr sz="1000"/>
              </a:b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apping Tables (AM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632040" y="2819160"/>
              <a:ext cx="1155600" cy="70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br>
                <a:rPr sz="1000"/>
              </a:b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apping </a:t>
              </a:r>
              <a:br>
                <a:rPr sz="1000"/>
              </a:b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Data Import Process (AMI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49880" y="2514240"/>
              <a:ext cx="204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Gateway to ATSO2 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7" name=""/>
            <p:cNvCxnSpPr>
              <a:stCxn id="655" idx="1"/>
              <a:endCxn id="654" idx="3"/>
            </p:cNvCxnSpPr>
            <p:nvPr/>
          </p:nvCxnSpPr>
          <p:spPr>
            <a:xfrm flipH="1">
              <a:off x="3053520" y="3174480"/>
              <a:ext cx="578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8" name=""/>
            <p:cNvCxnSpPr>
              <a:stCxn id="654" idx="1"/>
              <a:endCxn id="653" idx="3"/>
            </p:cNvCxnSpPr>
            <p:nvPr/>
          </p:nvCxnSpPr>
          <p:spPr>
            <a:xfrm flipH="1">
              <a:off x="1485000" y="3174480"/>
              <a:ext cx="495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659" name=""/>
          <p:cNvCxnSpPr/>
          <p:nvPr/>
        </p:nvCxnSpPr>
        <p:spPr>
          <a:xfrm>
            <a:off x="4419360" y="1523520"/>
            <a:ext cx="610200" cy="1080"/>
          </a:xfrm>
          <a:prstGeom prst="straightConnector1">
            <a:avLst/>
          </a:prstGeom>
          <a:ln w="93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60" name=""/>
          <p:cNvSpPr/>
          <p:nvPr/>
        </p:nvSpPr>
        <p:spPr>
          <a:xfrm>
            <a:off x="8089920" y="1600200"/>
            <a:ext cx="11556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CAO Published 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formation (A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089920" y="3886200"/>
            <a:ext cx="115560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TSO 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egistrations  (A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2" name=""/>
          <p:cNvCxnSpPr>
            <a:stCxn id="642" idx="1"/>
            <a:endCxn id="647" idx="3"/>
          </p:cNvCxnSpPr>
          <p:nvPr/>
        </p:nvCxnSpPr>
        <p:spPr>
          <a:xfrm rot="10800000">
            <a:off x="4788000" y="1650240"/>
            <a:ext cx="660600" cy="1524600"/>
          </a:xfrm>
          <a:prstGeom prst="bentConnector3">
            <a:avLst>
              <a:gd name="adj1" fmla="val 50000"/>
            </a:avLst>
          </a:prstGeom>
          <a:ln w="93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3" name=""/>
          <p:cNvCxnSpPr/>
          <p:nvPr/>
        </p:nvCxnSpPr>
        <p:spPr>
          <a:xfrm>
            <a:off x="4419360" y="33523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4" name=""/>
          <p:cNvCxnSpPr>
            <a:stCxn id="641" idx="3"/>
            <a:endCxn id="642" idx="3"/>
          </p:cNvCxnSpPr>
          <p:nvPr/>
        </p:nvCxnSpPr>
        <p:spPr>
          <a:xfrm>
            <a:off x="6603480" y="1650600"/>
            <a:ext cx="2520" cy="152460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65" name=""/>
          <p:cNvSpPr/>
          <p:nvPr/>
        </p:nvSpPr>
        <p:spPr>
          <a:xfrm flipV="1">
            <a:off x="8667720" y="2285640"/>
            <a:ext cx="0" cy="160020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6603840" y="1523520"/>
            <a:ext cx="1486080" cy="22860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6686640" y="1905120"/>
            <a:ext cx="1403280" cy="106668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788000" y="2209680"/>
            <a:ext cx="3301920" cy="259092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035680" y="1981080"/>
            <a:ext cx="3054240" cy="205740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35680" y="3505320"/>
            <a:ext cx="3054240" cy="60948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5035680" y="4267080"/>
            <a:ext cx="3054240" cy="53352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696280" y="2097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218560" y="3581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78800" y="41911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669520" y="316404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82360" y="11826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282080" y="19051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034400" y="2895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55480" y="11430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706440" y="16765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55480" y="23623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981080" y="617220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14. General model for gateway address 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981080" y="617220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15. Information objects processed by the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429000" y="1981080"/>
            <a:ext cx="213372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ssage Transfer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Control Unit (A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429000" y="3124080"/>
            <a:ext cx="1066680" cy="2362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M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495680" y="3124080"/>
            <a:ext cx="1067040" cy="2362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FTN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3809880" y="28954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114800" y="28954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876920" y="28954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5181480" y="28954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37720" y="2743200"/>
            <a:ext cx="197136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S Messages including: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IPMs:  3.1.2.3.5.2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IP RNs: 3.1.2.3.5.3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IP NRNs:  3.1.2.3.5.1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non-IP messages:  3.1.2.3.5.1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bes:  3.1.2.3.5.5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eports (NDRs):  3.1.2.3.5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38080" y="4343400"/>
            <a:ext cx="1570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PMs:  3.1.2.3.4.2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PNs: 3.1.2.3.4.3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eports:  3.1.2.3.4.4 and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            3.1.2.3.5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295280" y="39625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248520" y="396252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295280" y="51055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72200" y="51055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19200" y="2971800"/>
            <a:ext cx="29545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FTN  Messages: 3.1.2.3.5.2 (exc. service msgs)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FTN Service Messages including: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acknowledgement messages: 3.1.2.3.5.3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unknown addressee messages:  3.1.2.3.5.4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other service messages:  3.1.2.3.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017760" y="4191120"/>
            <a:ext cx="2732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FTN  Messages: 3.1.2.3.4.2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FTN Service Messages including: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acknowledgement messages: 3.1.2.3.4.3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unknown addressee messages:  3.1.2.3.4.4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other service messages:  3.1.2.3.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504600" y="144792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/AMH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3429000" y="762120"/>
            <a:ext cx="213372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ssage Transfer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Control Unit (A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29000" y="1905120"/>
            <a:ext cx="106668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M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495680" y="1905120"/>
            <a:ext cx="106704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FT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3809880" y="1676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181480" y="1676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830960" y="1981080"/>
            <a:ext cx="1389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PMs:  3.1.2.3.5.2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(nominal processin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23880" y="24382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867280" y="23623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23880" y="54100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097320" y="1981080"/>
            <a:ext cx="115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FTN  Mess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04600" y="45720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/AMH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351240" y="15228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AMHS to AFTN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429000" y="3809880"/>
            <a:ext cx="213372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ssage Transfer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Control Unit (A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429000" y="4952880"/>
            <a:ext cx="1066680" cy="106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M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95680" y="4952880"/>
            <a:ext cx="1067040" cy="106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FT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114800" y="4724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876920" y="4724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211840" y="510552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P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096600" y="4800600"/>
            <a:ext cx="1806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FTN  Message: 3.1.2.3.4.2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nominal processing,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xcluding service messag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504600" y="350532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/AMH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357720" y="320040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AFTN to AMHS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867280" y="54100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81080" y="6172200"/>
            <a:ext cx="541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16. Conversion between an AMHS IPM and an AFTN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3429000" y="762120"/>
            <a:ext cx="213372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ssage Transfer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Control Unit (A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429000" y="1905120"/>
            <a:ext cx="106668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M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495680" y="1905120"/>
            <a:ext cx="106704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FT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3809880" y="1676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5181480" y="1676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30960" y="1981080"/>
            <a:ext cx="1389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P RNs:  3.1.2.3.5.3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(nominal processin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523880" y="24382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867280" y="23623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523880" y="54100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6600" y="1981080"/>
            <a:ext cx="1896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FTN  Service Message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cknowledgement messag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504600" y="45720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/AMH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351240" y="15228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AMHS to AFTN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429000" y="3809880"/>
            <a:ext cx="213372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ssage Transfer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Control Unit (A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429000" y="4952880"/>
            <a:ext cx="1066680" cy="106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M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495680" y="4952880"/>
            <a:ext cx="1067040" cy="106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FT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4114800" y="4724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4876920" y="4724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211840" y="5105520"/>
            <a:ext cx="58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P R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096960" y="4800600"/>
            <a:ext cx="202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FTN  Service Message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cknowledgement messages)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3.1.2.3.4.3 (nominal processin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04600" y="350532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/AMH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357720" y="320040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AFTN to AMHS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67280" y="54100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523880" y="617220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17. Conversion between an AMHS IP RN and an AFTN acknowledgement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3429000" y="762120"/>
            <a:ext cx="213372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ssage Transfer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Control Unit (A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429000" y="1905120"/>
            <a:ext cx="106668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M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495680" y="1905120"/>
            <a:ext cx="106704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FT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809880" y="1676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5181480" y="1676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601280" y="1752480"/>
            <a:ext cx="164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DRs:  3.1.2.3.5.4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(unrecognized-OR-name,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minal processin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523880" y="24382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867280" y="23623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523880" y="54100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19200" y="1905120"/>
            <a:ext cx="201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FTN  Service Message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unknown addressee messag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04600" y="45720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/AMH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351240" y="15228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AMHS to AFTN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29000" y="3809880"/>
            <a:ext cx="213372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ssage Transfer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Control Unit (A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429000" y="4952880"/>
            <a:ext cx="1066680" cy="106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M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495680" y="4952880"/>
            <a:ext cx="1067040" cy="1067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FT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4114800" y="4724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4876920" y="4724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095520" y="4800600"/>
            <a:ext cx="201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FTN  Service Messages: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unknown addressee messages)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.1.2.3.4.4 (nominal processin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04600" y="350532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/AMH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357720" y="3200400"/>
            <a:ext cx="22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AFTN to AMHS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867280" y="54100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525320" y="4876920"/>
            <a:ext cx="165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DR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(unrecognized-OR-nam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81080" y="6172200"/>
            <a:ext cx="541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18. Conversion between an AMHS NDR (unrecognized O/R name) and an AFTN unknown addressee servic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1447920" y="6172200"/>
            <a:ext cx="731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19. Unsuccessful conversion of incoming AMHS information objects in the 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648320" y="1981080"/>
            <a:ext cx="21333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ssage Transfer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Control Unit (A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648320" y="3124080"/>
            <a:ext cx="1066680" cy="2362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M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715000" y="3124080"/>
            <a:ext cx="1066680" cy="2362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FTN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5029200" y="28954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5334120" y="28954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514240" y="3352680"/>
            <a:ext cx="190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ome IPMs:  3.1.2.3.5.2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non-IP messages:  3.1.2.3.5.1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robes:  3.1.2.3.5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819520" y="4724280"/>
            <a:ext cx="129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eports: 3.1.2.3.5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514600" y="39625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514600" y="51055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723920" y="144792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/AMH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078640" y="838080"/>
            <a:ext cx="457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AMHS to AFTN Direction (unsuccessful convers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51000" y="6037200"/>
            <a:ext cx="557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2.  Functional view of the ATS message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1828800"/>
            <a:ext cx="3200400" cy="3800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4114800"/>
            <a:ext cx="3189240" cy="150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05120" y="3925800"/>
            <a:ext cx="3203640" cy="1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1828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971800" y="2209680"/>
            <a:ext cx="914400" cy="914400"/>
            <a:chOff x="2971800" y="2209680"/>
            <a:chExt cx="914400" cy="914400"/>
          </a:xfrm>
        </p:grpSpPr>
        <p:sp>
          <p:nvSpPr>
            <p:cNvPr id="74" name=""/>
            <p:cNvSpPr/>
            <p:nvPr/>
          </p:nvSpPr>
          <p:spPr>
            <a:xfrm>
              <a:off x="2971800" y="2209680"/>
              <a:ext cx="91440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71800" y="2819520"/>
              <a:ext cx="91440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71800" y="23623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886200" y="23623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447920" y="51814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51055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72200" y="40384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3429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37339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9810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o ATS message user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9080" y="3352680"/>
            <a:ext cx="114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S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2590920"/>
            <a:ext cx="2743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tocol for MTS or MS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can be P3 or P7 over upper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876920"/>
            <a:ext cx="1828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ces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 sub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4800600"/>
            <a:ext cx="1828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ces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 sub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259092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o other ATS message servers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r AMHS gate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0" y="190512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o ATN directory system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2971800"/>
            <a:ext cx="22096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tocol for MTA to MTA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P1 over upper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38862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 transpor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3276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182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205740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mandatory in the extended ATS message serv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8880" y="2286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4648320" y="2286000"/>
            <a:ext cx="21333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ssage Transfer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Control Unit (A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648320" y="3429000"/>
            <a:ext cx="1066680" cy="2362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M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715000" y="3429000"/>
            <a:ext cx="1066680" cy="2362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FTN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502920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14240" y="4191120"/>
            <a:ext cx="1866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ome IPMs:  3.1.2.3.5.2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ome IP RNs:  3.1.2.3.5.3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P NRNs: 3.1.2.3.5.1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ome reports:  3.1.2.3.5.1 and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                       3.1.2.3.5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514600" y="51055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876920" y="11430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4200" y="137160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/AMH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427480" y="304920"/>
            <a:ext cx="353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AMHS to AFTN Direction </a:t>
            </a:r>
            <a:br>
              <a:rPr sz="1400"/>
            </a:b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(non-delivery and out-of-line situa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486400" y="914400"/>
            <a:ext cx="99072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ol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105520" y="160020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240" y="0"/>
                </a:moveTo>
                <a:lnTo>
                  <a:pt x="0" y="240"/>
                </a:lnTo>
                <a:lnTo>
                  <a:pt x="672" y="240"/>
                </a:lnTo>
                <a:lnTo>
                  <a:pt x="86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943600" y="19810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583800" y="1600200"/>
            <a:ext cx="124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eporting of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ut-of-line situation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r of non-deliv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124080" y="61722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20. AMHS non-delivery and out-of-line sit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1447920" y="624852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21. Unsuccessful conversion of addressee indicator in incoming AFTN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286000" y="1981080"/>
            <a:ext cx="213372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ssage Transfer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Control Unit (A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86000" y="3124080"/>
            <a:ext cx="1066680" cy="2362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M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352680" y="3124080"/>
            <a:ext cx="1067040" cy="2362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FTN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3733920" y="28954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4038480" y="28954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952880" y="38862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876200" y="4572000"/>
            <a:ext cx="2010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FTN Service Messages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unknown addressee messag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886280" y="3352680"/>
            <a:ext cx="2169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ome AFTN  Messages: 3.1.2.3.4.2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excluding service message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361600" y="144792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/AMH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436120" y="533520"/>
            <a:ext cx="478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AFTN to AMHS Direction (unsuccessful conversion of </a:t>
            </a:r>
            <a:br>
              <a:rPr sz="1400"/>
            </a:b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addressee indicat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1447920" y="624852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22. Unsuccessful conversion of originator indicator in incoming AFTN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286000" y="2514600"/>
            <a:ext cx="213372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ssage Transfer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Control Unit (A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286000" y="3657600"/>
            <a:ext cx="1066680" cy="2362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M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352680" y="3657600"/>
            <a:ext cx="1067040" cy="2362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FTN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3733920" y="3429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943520" y="47242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876920" y="4191120"/>
            <a:ext cx="2169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ome AFTN  Messages: 3.1.2.3.4.2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excluding service messages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04200" y="281952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/AMH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428200" y="609480"/>
            <a:ext cx="478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AFTN to AMHS Direction (unsuccessful conversion of </a:t>
            </a:r>
            <a:br>
              <a:rPr sz="1400"/>
            </a:b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originator indicat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191120" y="152388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48120" y="1143000"/>
            <a:ext cx="99036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ol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666880" y="182880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240" y="0"/>
                </a:moveTo>
                <a:lnTo>
                  <a:pt x="0" y="240"/>
                </a:lnTo>
                <a:lnTo>
                  <a:pt x="672" y="240"/>
                </a:lnTo>
                <a:lnTo>
                  <a:pt x="86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05320" y="2209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345920" y="1752480"/>
            <a:ext cx="124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eporting of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ut-of-line situation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r of non-deliv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2286000" y="1905120"/>
            <a:ext cx="213372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essage Transfer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Control Unit (A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286000" y="3048120"/>
            <a:ext cx="1066680" cy="236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M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352680" y="3048120"/>
            <a:ext cx="1067040" cy="2361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FTN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105520" y="5334120"/>
            <a:ext cx="1676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029200" y="50292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876920" y="2819520"/>
            <a:ext cx="19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ome AFTN  Message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excluding service messages)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877280" y="4343400"/>
            <a:ext cx="2184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FTN Service Messages other than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unknown addressee message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acknowledgement messages: 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.1.2.3.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361600" y="1371600"/>
            <a:ext cx="200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/AMH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447920" y="624852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23. Out-of-line situations in relation with incoming AFTN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877280" y="3200400"/>
            <a:ext cx="2184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FTN Service Messages other than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unknown addressee message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acknowledgement messages: 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3.1.2.3.2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029200" y="32004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029200" y="388620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952880" y="510552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ome AFTN  Mess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511960" y="39956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2362320" y="533520"/>
            <a:ext cx="2057400" cy="1447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876920" y="533520"/>
            <a:ext cx="2057400" cy="1447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1752480" y="990720"/>
            <a:ext cx="914400" cy="701640"/>
            <a:chOff x="1752480" y="990720"/>
            <a:chExt cx="914400" cy="701640"/>
          </a:xfrm>
        </p:grpSpPr>
        <p:sp>
          <p:nvSpPr>
            <p:cNvPr id="838" name=""/>
            <p:cNvSpPr/>
            <p:nvPr/>
          </p:nvSpPr>
          <p:spPr>
            <a:xfrm>
              <a:off x="2006640" y="990720"/>
              <a:ext cx="660240" cy="44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752480" y="1447920"/>
              <a:ext cx="914400" cy="24444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240" y="0"/>
                  </a:moveTo>
                  <a:lnTo>
                    <a:pt x="0" y="240"/>
                  </a:lnTo>
                  <a:lnTo>
                    <a:pt x="672" y="240"/>
                  </a:lnTo>
                  <a:lnTo>
                    <a:pt x="864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4267080" y="990720"/>
            <a:ext cx="83844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6477120" y="990720"/>
            <a:ext cx="914400" cy="701640"/>
            <a:chOff x="6477120" y="990720"/>
            <a:chExt cx="914400" cy="701640"/>
          </a:xfrm>
        </p:grpSpPr>
        <p:sp>
          <p:nvSpPr>
            <p:cNvPr id="842" name=""/>
            <p:cNvSpPr/>
            <p:nvPr/>
          </p:nvSpPr>
          <p:spPr>
            <a:xfrm>
              <a:off x="6731280" y="990720"/>
              <a:ext cx="660240" cy="44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77120" y="1447920"/>
              <a:ext cx="914400" cy="24444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240" y="0"/>
                  </a:moveTo>
                  <a:lnTo>
                    <a:pt x="0" y="240"/>
                  </a:lnTo>
                  <a:lnTo>
                    <a:pt x="672" y="240"/>
                  </a:lnTo>
                  <a:lnTo>
                    <a:pt x="864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3963600" y="152280"/>
            <a:ext cx="14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MHS to AF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194720" y="609480"/>
            <a:ext cx="9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FTN/AMHS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050280" y="609480"/>
            <a:ext cx="7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M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640840" y="6094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590920" y="11430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029200" y="11430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029200" y="152388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590920" y="15238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588760" y="838080"/>
            <a:ext cx="18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. SS-message with RN re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257440" y="914400"/>
            <a:ext cx="129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. AFTN SS-mess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470640" y="762120"/>
            <a:ext cx="211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3. message received by its address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872960" y="1663560"/>
            <a:ext cx="25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4. AFTN Service Message R ddhhmm @orig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572560" y="1595520"/>
            <a:ext cx="153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5. IPM Receipt Not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281240" y="973080"/>
            <a:ext cx="79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irect user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@ori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468920" y="1066680"/>
            <a:ext cx="63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direct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438280" y="2590920"/>
            <a:ext cx="2057400" cy="1447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952880" y="2590920"/>
            <a:ext cx="2057400" cy="1447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1828800" y="3048120"/>
            <a:ext cx="914400" cy="701640"/>
            <a:chOff x="1828800" y="3048120"/>
            <a:chExt cx="914400" cy="701640"/>
          </a:xfrm>
        </p:grpSpPr>
        <p:sp>
          <p:nvSpPr>
            <p:cNvPr id="862" name=""/>
            <p:cNvSpPr/>
            <p:nvPr/>
          </p:nvSpPr>
          <p:spPr>
            <a:xfrm>
              <a:off x="2082960" y="3048120"/>
              <a:ext cx="660240" cy="44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828800" y="3505320"/>
              <a:ext cx="914400" cy="24444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240" y="0"/>
                  </a:moveTo>
                  <a:lnTo>
                    <a:pt x="0" y="240"/>
                  </a:lnTo>
                  <a:lnTo>
                    <a:pt x="672" y="240"/>
                  </a:lnTo>
                  <a:lnTo>
                    <a:pt x="864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4343400" y="3048120"/>
            <a:ext cx="83808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6553080" y="3048120"/>
            <a:ext cx="914400" cy="701640"/>
            <a:chOff x="6553080" y="3048120"/>
            <a:chExt cx="914400" cy="701640"/>
          </a:xfrm>
        </p:grpSpPr>
        <p:sp>
          <p:nvSpPr>
            <p:cNvPr id="866" name=""/>
            <p:cNvSpPr/>
            <p:nvPr/>
          </p:nvSpPr>
          <p:spPr>
            <a:xfrm>
              <a:off x="6807240" y="3048120"/>
              <a:ext cx="660240" cy="44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553080" y="3505320"/>
              <a:ext cx="914400" cy="24444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240" y="0"/>
                  </a:moveTo>
                  <a:lnTo>
                    <a:pt x="0" y="240"/>
                  </a:lnTo>
                  <a:lnTo>
                    <a:pt x="672" y="240"/>
                  </a:lnTo>
                  <a:lnTo>
                    <a:pt x="864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4039560" y="2209680"/>
            <a:ext cx="14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 to AM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270680" y="2666880"/>
            <a:ext cx="9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FTN/AMHS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6240" y="2666880"/>
            <a:ext cx="7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M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717160" y="26668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666880" y="35053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105520" y="35053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105520" y="32004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666880" y="3200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664720" y="2895480"/>
            <a:ext cx="18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. SS-message with RN re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333760" y="2971800"/>
            <a:ext cx="129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. AFTN SS-mess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949280" y="3720960"/>
            <a:ext cx="25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5. AFTN Service Message R ddhhmm @orig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17000" y="3568680"/>
            <a:ext cx="153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4. IPM Receipt Not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357560" y="3030480"/>
            <a:ext cx="79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irect 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422480" y="3124080"/>
            <a:ext cx="87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direct user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@ori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911880" y="320040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3. message received 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by its address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295280" y="4648320"/>
            <a:ext cx="2057400" cy="1447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809880" y="4648320"/>
            <a:ext cx="2057400" cy="1447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685800" y="5105520"/>
            <a:ext cx="914400" cy="701640"/>
            <a:chOff x="685800" y="5105520"/>
            <a:chExt cx="914400" cy="701640"/>
          </a:xfrm>
        </p:grpSpPr>
        <p:sp>
          <p:nvSpPr>
            <p:cNvPr id="886" name=""/>
            <p:cNvSpPr/>
            <p:nvPr/>
          </p:nvSpPr>
          <p:spPr>
            <a:xfrm>
              <a:off x="939960" y="5105520"/>
              <a:ext cx="660240" cy="44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85800" y="5562720"/>
              <a:ext cx="914400" cy="24444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240" y="0"/>
                  </a:moveTo>
                  <a:lnTo>
                    <a:pt x="0" y="240"/>
                  </a:lnTo>
                  <a:lnTo>
                    <a:pt x="672" y="240"/>
                  </a:lnTo>
                  <a:lnTo>
                    <a:pt x="864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3200400" y="5105520"/>
            <a:ext cx="83808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673440" y="4267080"/>
            <a:ext cx="21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 to AMHS to AF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127680" y="4724280"/>
            <a:ext cx="9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FTN/AMHS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497840" y="4648320"/>
            <a:ext cx="7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M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983240" y="47242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52578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523880" y="56386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960360" y="4952880"/>
            <a:ext cx="18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. SS-message with RN requ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676160" y="5029200"/>
            <a:ext cx="129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. AFTN SS-mess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665560" y="5105520"/>
            <a:ext cx="1052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4. message 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ceived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by its address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139040" y="5791320"/>
            <a:ext cx="25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7. AFTN Service Message R ddhhmm @orig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112280" y="5715000"/>
            <a:ext cx="153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. IPM Receipt Not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14560" y="5087880"/>
            <a:ext cx="869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direct user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@ori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402240" y="5257800"/>
            <a:ext cx="63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direct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248520" y="4648320"/>
            <a:ext cx="2057400" cy="1447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638680" y="5105520"/>
            <a:ext cx="83844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566320" y="4724280"/>
            <a:ext cx="9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FTN/AMHS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012440" y="47242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629040" y="5029200"/>
            <a:ext cx="129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3. AFTN SS-mess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244560" y="5778360"/>
            <a:ext cx="254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5. AFTN Service Message R ddhhmm @orig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7848720" y="5105520"/>
            <a:ext cx="914400" cy="701640"/>
            <a:chOff x="7848720" y="5105520"/>
            <a:chExt cx="914400" cy="701640"/>
          </a:xfrm>
        </p:grpSpPr>
        <p:sp>
          <p:nvSpPr>
            <p:cNvPr id="909" name=""/>
            <p:cNvSpPr/>
            <p:nvPr/>
          </p:nvSpPr>
          <p:spPr>
            <a:xfrm>
              <a:off x="8102880" y="5105520"/>
              <a:ext cx="660240" cy="44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848720" y="5562720"/>
              <a:ext cx="914400" cy="24444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240" y="0"/>
                  </a:moveTo>
                  <a:lnTo>
                    <a:pt x="0" y="240"/>
                  </a:lnTo>
                  <a:lnTo>
                    <a:pt x="672" y="240"/>
                  </a:lnTo>
                  <a:lnTo>
                    <a:pt x="864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962520" y="52578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962520" y="563868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400800" y="52578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400800" y="563868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8383320" y="4648320"/>
            <a:ext cx="63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direct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447920" y="624852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24. Acknowledgement of SS-priorit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2362320" y="533520"/>
            <a:ext cx="2057400" cy="1447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876920" y="533520"/>
            <a:ext cx="2057400" cy="1447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1752480" y="990720"/>
            <a:ext cx="914400" cy="701640"/>
            <a:chOff x="1752480" y="990720"/>
            <a:chExt cx="914400" cy="701640"/>
          </a:xfrm>
        </p:grpSpPr>
        <p:sp>
          <p:nvSpPr>
            <p:cNvPr id="920" name=""/>
            <p:cNvSpPr/>
            <p:nvPr/>
          </p:nvSpPr>
          <p:spPr>
            <a:xfrm>
              <a:off x="2006640" y="990720"/>
              <a:ext cx="660240" cy="44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752480" y="1447920"/>
              <a:ext cx="914400" cy="24444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240" y="0"/>
                  </a:moveTo>
                  <a:lnTo>
                    <a:pt x="0" y="240"/>
                  </a:lnTo>
                  <a:lnTo>
                    <a:pt x="672" y="240"/>
                  </a:lnTo>
                  <a:lnTo>
                    <a:pt x="864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4267080" y="990720"/>
            <a:ext cx="83844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963600" y="152280"/>
            <a:ext cx="14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MHS to AF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94720" y="609480"/>
            <a:ext cx="9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FTN/AMHS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50280" y="609480"/>
            <a:ext cx="7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M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640840" y="6094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590920" y="11430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590920" y="15238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282760" y="838080"/>
            <a:ext cx="2046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. Subject AMHS message to @d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027400" y="838080"/>
            <a:ext cx="152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. Subject AFTN mess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930720" y="990720"/>
            <a:ext cx="1797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3. AFTN centre unable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to forward the message due to 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@dest  being locally unknow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746240" y="166356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4. AFTN Service Message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VC ADS ddhhmm @origin UNKNOWN @d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512800" y="1663560"/>
            <a:ext cx="191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5. NDR "unrecognized O/R name"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281240" y="973080"/>
            <a:ext cx="793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irect user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@ori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438280" y="2590920"/>
            <a:ext cx="2057400" cy="1447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952880" y="2590920"/>
            <a:ext cx="2057400" cy="1447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343400" y="3048120"/>
            <a:ext cx="83808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6553080" y="3048120"/>
            <a:ext cx="914400" cy="701640"/>
            <a:chOff x="6553080" y="3048120"/>
            <a:chExt cx="914400" cy="701640"/>
          </a:xfrm>
        </p:grpSpPr>
        <p:sp>
          <p:nvSpPr>
            <p:cNvPr id="939" name=""/>
            <p:cNvSpPr/>
            <p:nvPr/>
          </p:nvSpPr>
          <p:spPr>
            <a:xfrm>
              <a:off x="6807240" y="3048120"/>
              <a:ext cx="660240" cy="44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553080" y="3505320"/>
              <a:ext cx="914400" cy="24444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240" y="0"/>
                  </a:moveTo>
                  <a:lnTo>
                    <a:pt x="0" y="240"/>
                  </a:lnTo>
                  <a:lnTo>
                    <a:pt x="672" y="240"/>
                  </a:lnTo>
                  <a:lnTo>
                    <a:pt x="864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4039560" y="2209680"/>
            <a:ext cx="14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 to AM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270680" y="2666880"/>
            <a:ext cx="9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FTN/AMHS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126240" y="2666880"/>
            <a:ext cx="7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M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17160" y="26668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105520" y="35053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105520" y="32004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422480" y="3124080"/>
            <a:ext cx="87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direct user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@ori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295280" y="4648320"/>
            <a:ext cx="2057400" cy="1447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809880" y="4648320"/>
            <a:ext cx="2057400" cy="1447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685800" y="5105520"/>
            <a:ext cx="914400" cy="701640"/>
            <a:chOff x="685800" y="5105520"/>
            <a:chExt cx="914400" cy="701640"/>
          </a:xfrm>
        </p:grpSpPr>
        <p:sp>
          <p:nvSpPr>
            <p:cNvPr id="951" name=""/>
            <p:cNvSpPr/>
            <p:nvPr/>
          </p:nvSpPr>
          <p:spPr>
            <a:xfrm>
              <a:off x="939960" y="5105520"/>
              <a:ext cx="660240" cy="44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85800" y="5562720"/>
              <a:ext cx="914400" cy="24444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240" y="0"/>
                  </a:moveTo>
                  <a:lnTo>
                    <a:pt x="0" y="240"/>
                  </a:lnTo>
                  <a:lnTo>
                    <a:pt x="672" y="240"/>
                  </a:lnTo>
                  <a:lnTo>
                    <a:pt x="864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"/>
          <p:cNvSpPr/>
          <p:nvPr/>
        </p:nvSpPr>
        <p:spPr>
          <a:xfrm>
            <a:off x="3200400" y="5105520"/>
            <a:ext cx="83808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673440" y="4267080"/>
            <a:ext cx="21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 to AMHS to AF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127680" y="4724280"/>
            <a:ext cx="9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FTN/AMHS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97840" y="4648320"/>
            <a:ext cx="7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M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83240" y="47242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523880" y="52578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523880" y="56386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14560" y="5087880"/>
            <a:ext cx="869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direct user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@ori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402240" y="5257800"/>
            <a:ext cx="63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direct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248520" y="4648320"/>
            <a:ext cx="2057400" cy="1447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638680" y="5105520"/>
            <a:ext cx="83844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566320" y="4724280"/>
            <a:ext cx="9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FTN/AMHS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012440" y="47242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962520" y="52578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962520" y="563868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248520" y="99072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876920" y="11430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876920" y="152388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101920" y="2895480"/>
            <a:ext cx="201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. Subject AFTN message to @d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435400" y="2895480"/>
            <a:ext cx="2046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. Subject AMHS message to @d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514600" y="304812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666880" y="3200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666880" y="35053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28120" y="3200400"/>
            <a:ext cx="2049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3. ATS Message Server unable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to transfer/deliver the message due 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to @dest  being locally unknow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665080" y="3657600"/>
            <a:ext cx="191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4. NDR "unrecognized O/R name"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800240" y="365760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5. AFTN Service Message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VC ADS ddhhmm @origin UNKNOWN @d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368000" y="4952880"/>
            <a:ext cx="201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. Subject AFTN message to @d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07000" y="4876920"/>
            <a:ext cx="2046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. Subject AMHS message to @d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244920" y="4952880"/>
            <a:ext cx="201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3. Subject AFTN message to @d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620120" y="510552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324480" y="563868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324480" y="52578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111880" y="5029200"/>
            <a:ext cx="1797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4. AFTN centre unable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to forward the message due to 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@dest  being locally unknow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171840" y="571500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5. AFTN Service Message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VC ADS ddhhmm @origin UNKNOWN @d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960720" y="5791320"/>
            <a:ext cx="1915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. NDR "unrecognized O/R name"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066320" y="579132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7. AFTN Service Message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VC ADS ddhhmm @origin UNKNOWN @de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219320" y="6324480"/>
            <a:ext cx="761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25. Message rejection due to the use of an unknown addressee indicator or recipient O/R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1600200" y="2057400"/>
            <a:ext cx="2895480" cy="2743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952880" y="2590920"/>
            <a:ext cx="2057400" cy="1981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838080" y="3048120"/>
            <a:ext cx="914400" cy="701640"/>
            <a:chOff x="838080" y="3048120"/>
            <a:chExt cx="914400" cy="701640"/>
          </a:xfrm>
        </p:grpSpPr>
        <p:sp>
          <p:nvSpPr>
            <p:cNvPr id="993" name=""/>
            <p:cNvSpPr/>
            <p:nvPr/>
          </p:nvSpPr>
          <p:spPr>
            <a:xfrm>
              <a:off x="1092240" y="3048120"/>
              <a:ext cx="660240" cy="44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38080" y="3505320"/>
              <a:ext cx="914400" cy="24444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240" y="0"/>
                  </a:moveTo>
                  <a:lnTo>
                    <a:pt x="0" y="240"/>
                  </a:lnTo>
                  <a:lnTo>
                    <a:pt x="672" y="240"/>
                  </a:lnTo>
                  <a:lnTo>
                    <a:pt x="864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343400" y="3048120"/>
            <a:ext cx="83808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6553080" y="3048120"/>
            <a:ext cx="914400" cy="701640"/>
            <a:chOff x="6553080" y="3048120"/>
            <a:chExt cx="914400" cy="701640"/>
          </a:xfrm>
        </p:grpSpPr>
        <p:sp>
          <p:nvSpPr>
            <p:cNvPr id="997" name=""/>
            <p:cNvSpPr/>
            <p:nvPr/>
          </p:nvSpPr>
          <p:spPr>
            <a:xfrm>
              <a:off x="6807240" y="3048120"/>
              <a:ext cx="660240" cy="44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553080" y="3505320"/>
              <a:ext cx="914400" cy="24444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240" y="0"/>
                  </a:moveTo>
                  <a:lnTo>
                    <a:pt x="0" y="240"/>
                  </a:lnTo>
                  <a:lnTo>
                    <a:pt x="672" y="240"/>
                  </a:lnTo>
                  <a:lnTo>
                    <a:pt x="864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3319920" y="1371600"/>
            <a:ext cx="366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ejection of an AFTN-to-AMHS message:</a:t>
            </a:r>
            <a:br>
              <a:rPr sz="1400"/>
            </a:b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ransfer of NDR to the control 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270680" y="2666880"/>
            <a:ext cx="92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FTN/AMHS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973960" y="2362320"/>
            <a:ext cx="70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M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717160" y="2666880"/>
            <a:ext cx="6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F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105520" y="32004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503520" y="27432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2. Converted 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subject mess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331600" y="2971800"/>
            <a:ext cx="150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1. AFTN subject mess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122640" y="3657600"/>
            <a:ext cx="134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4. Non-Delivery Re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57200" y="2438280"/>
            <a:ext cx="125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tended message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ecipient: direct or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direct 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26440" y="3124080"/>
            <a:ext cx="869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riginator: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direct 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209320" y="281952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3. message </a:t>
            </a:r>
            <a:br>
              <a:rPr sz="900"/>
            </a:b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rej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4267080" y="4572000"/>
            <a:ext cx="914400" cy="701640"/>
            <a:chOff x="4267080" y="4572000"/>
            <a:chExt cx="914400" cy="701640"/>
          </a:xfrm>
        </p:grpSpPr>
        <p:sp>
          <p:nvSpPr>
            <p:cNvPr id="1011" name=""/>
            <p:cNvSpPr/>
            <p:nvPr/>
          </p:nvSpPr>
          <p:spPr>
            <a:xfrm>
              <a:off x="4521240" y="4572000"/>
              <a:ext cx="660240" cy="44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267080" y="5029200"/>
              <a:ext cx="914400" cy="24444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240" y="0"/>
                  </a:moveTo>
                  <a:lnTo>
                    <a:pt x="0" y="240"/>
                  </a:lnTo>
                  <a:lnTo>
                    <a:pt x="672" y="240"/>
                  </a:lnTo>
                  <a:lnTo>
                    <a:pt x="864" y="0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2666880" y="2971800"/>
            <a:ext cx="7621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200400" y="35053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124080" y="3200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211840" y="3505320"/>
            <a:ext cx="100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TS Message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2895480" y="297180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971800" y="297180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886920" y="5334120"/>
            <a:ext cx="169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ateway control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572000" y="35053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952880" y="3505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952880" y="39625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219320" y="6324480"/>
            <a:ext cx="761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III-6-26. Rejection of an AFTN-to-AMHS message: Transfer of NDR to the control 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1981080" y="5410080"/>
            <a:ext cx="33048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816200" y="3200400"/>
            <a:ext cx="1485720" cy="10666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384720" y="2438280"/>
            <a:ext cx="4952880" cy="259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7" name=""/>
          <p:cNvGraphicFramePr/>
          <p:nvPr/>
        </p:nvGraphicFramePr>
        <p:xfrm>
          <a:off x="5035680" y="1066680"/>
          <a:ext cx="1409400" cy="9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5680" y="1066680"/>
                    <a:ext cx="140940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9" name=""/>
          <p:cNvSpPr/>
          <p:nvPr/>
        </p:nvSpPr>
        <p:spPr>
          <a:xfrm>
            <a:off x="5283360" y="2057400"/>
            <a:ext cx="9079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937040" y="2833560"/>
            <a:ext cx="2063880" cy="457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375080" y="3581280"/>
            <a:ext cx="1320840" cy="381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108840" y="3581280"/>
            <a:ext cx="1650960" cy="381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971800" y="3581280"/>
            <a:ext cx="907920" cy="457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c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/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990720" y="3429000"/>
            <a:ext cx="577800" cy="4572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825480" y="3657600"/>
            <a:ext cx="577800" cy="4572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60240" y="3886200"/>
            <a:ext cx="578160" cy="4572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594560" y="2743200"/>
            <a:ext cx="7430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718400" y="4343400"/>
            <a:ext cx="7430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1568520" y="3809880"/>
            <a:ext cx="14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586116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624640" y="175248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291360" y="1125360"/>
            <a:ext cx="8575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S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719040" y="1981080"/>
            <a:ext cx="7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nd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6191280" y="2133360"/>
            <a:ext cx="577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512120" y="2286000"/>
            <a:ext cx="412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312640" y="335268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937440" y="2971800"/>
            <a:ext cx="74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992520" y="3429000"/>
            <a:ext cx="4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828360" y="36576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PM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61320" y="3962520"/>
            <a:ext cx="4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355440" y="3657600"/>
            <a:ext cx="81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484240" y="4267080"/>
            <a:ext cx="83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Sub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756520" y="4343400"/>
            <a:ext cx="7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nd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3219120" y="4038480"/>
            <a:ext cx="82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613840" y="5181480"/>
            <a:ext cx="80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TN 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861160" y="5029200"/>
            <a:ext cx="164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449880" y="5826240"/>
            <a:ext cx="435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27.  The two specified positions of the CIDIN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ATN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8402760" y="60022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172280" y="2795760"/>
            <a:ext cx="3301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178760" y="2743200"/>
            <a:ext cx="2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62520" y="3728880"/>
            <a:ext cx="3301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963960" y="3747960"/>
            <a:ext cx="2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70600" y="3321000"/>
            <a:ext cx="3301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72040" y="3321000"/>
            <a:ext cx="2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273720" y="3352680"/>
            <a:ext cx="3301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249960" y="3352680"/>
            <a:ext cx="2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649920" y="4200480"/>
            <a:ext cx="33048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646680" y="4238640"/>
            <a:ext cx="2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34000" y="2546280"/>
            <a:ext cx="33012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641560" y="252108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283360" y="3962520"/>
            <a:ext cx="412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6108840" y="3886200"/>
            <a:ext cx="2476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908680" y="3276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982520" y="5410080"/>
            <a:ext cx="28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356920" y="540540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N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6" name=""/>
          <p:cNvCxnSpPr>
            <a:stCxn id="1029" idx="2"/>
            <a:endCxn id="1033" idx="3"/>
          </p:cNvCxnSpPr>
          <p:nvPr/>
        </p:nvCxnSpPr>
        <p:spPr>
          <a:xfrm rot="5400000">
            <a:off x="4174560" y="2247840"/>
            <a:ext cx="1281600" cy="18439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7" name=""/>
          <p:cNvCxnSpPr>
            <a:stCxn id="1037" idx="1"/>
            <a:endCxn id="1038" idx="1"/>
          </p:cNvCxnSpPr>
          <p:nvPr/>
        </p:nvCxnSpPr>
        <p:spPr>
          <a:xfrm flipH="1" flipV="1" rot="10800000">
            <a:off x="7594200" y="2932560"/>
            <a:ext cx="124560" cy="1600920"/>
          </a:xfrm>
          <a:prstGeom prst="curvedConnector5">
            <a:avLst>
              <a:gd name="adj1" fmla="val -184347"/>
              <a:gd name="adj2" fmla="val 50000"/>
              <a:gd name="adj3" fmla="val -184347"/>
            </a:avLst>
          </a:prstGeom>
          <a:ln w="9360">
            <a:solidFill>
              <a:srgbClr val="000000"/>
            </a:solidFill>
            <a:prstDash val="dashDot"/>
            <a:miter/>
          </a:ln>
        </p:spPr>
      </p:cxnSp>
      <p:grpSp>
        <p:nvGrpSpPr>
          <p:cNvPr id="1078" name=""/>
          <p:cNvGrpSpPr/>
          <p:nvPr/>
        </p:nvGrpSpPr>
        <p:grpSpPr>
          <a:xfrm>
            <a:off x="581040" y="4645080"/>
            <a:ext cx="761400" cy="617040"/>
            <a:chOff x="581040" y="4645080"/>
            <a:chExt cx="761400" cy="617040"/>
          </a:xfrm>
        </p:grpSpPr>
        <p:sp>
          <p:nvSpPr>
            <p:cNvPr id="1079" name=""/>
            <p:cNvSpPr/>
            <p:nvPr/>
          </p:nvSpPr>
          <p:spPr>
            <a:xfrm>
              <a:off x="581040" y="4645080"/>
              <a:ext cx="761400" cy="617040"/>
            </a:xfrm>
            <a:custGeom>
              <a:avLst/>
              <a:gdLst/>
              <a:ahLst/>
              <a:rect l="l" t="t" r="r" b="b"/>
              <a:pathLst>
                <a:path w="227" h="227">
                  <a:moveTo>
                    <a:pt x="33" y="131"/>
                  </a:moveTo>
                  <a:lnTo>
                    <a:pt x="52" y="131"/>
                  </a:lnTo>
                  <a:lnTo>
                    <a:pt x="52" y="142"/>
                  </a:lnTo>
                  <a:lnTo>
                    <a:pt x="175" y="142"/>
                  </a:lnTo>
                  <a:lnTo>
                    <a:pt x="175" y="131"/>
                  </a:lnTo>
                  <a:lnTo>
                    <a:pt x="194" y="131"/>
                  </a:lnTo>
                  <a:lnTo>
                    <a:pt x="194" y="0"/>
                  </a:lnTo>
                  <a:lnTo>
                    <a:pt x="33" y="0"/>
                  </a:lnTo>
                  <a:lnTo>
                    <a:pt x="33" y="131"/>
                  </a:lnTo>
                  <a:close/>
                  <a:moveTo>
                    <a:pt x="217" y="162"/>
                  </a:moveTo>
                  <a:lnTo>
                    <a:pt x="10" y="162"/>
                  </a:lnTo>
                  <a:lnTo>
                    <a:pt x="6" y="164"/>
                  </a:lnTo>
                  <a:lnTo>
                    <a:pt x="0" y="223"/>
                  </a:lnTo>
                  <a:lnTo>
                    <a:pt x="2" y="227"/>
                  </a:lnTo>
                  <a:lnTo>
                    <a:pt x="225" y="227"/>
                  </a:lnTo>
                  <a:lnTo>
                    <a:pt x="227" y="223"/>
                  </a:lnTo>
                  <a:lnTo>
                    <a:pt x="219" y="164"/>
                  </a:lnTo>
                  <a:lnTo>
                    <a:pt x="217" y="162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7320" y="5096160"/>
              <a:ext cx="708120" cy="155160"/>
            </a:xfrm>
            <a:custGeom>
              <a:avLst/>
              <a:gdLst/>
              <a:ahLst/>
              <a:rect l="l" t="t" r="r" b="b"/>
              <a:pathLst>
                <a:path w="211" h="57">
                  <a:moveTo>
                    <a:pt x="167" y="44"/>
                  </a:moveTo>
                  <a:lnTo>
                    <a:pt x="165" y="42"/>
                  </a:lnTo>
                  <a:lnTo>
                    <a:pt x="159" y="42"/>
                  </a:lnTo>
                  <a:lnTo>
                    <a:pt x="159" y="44"/>
                  </a:lnTo>
                  <a:lnTo>
                    <a:pt x="159" y="40"/>
                  </a:lnTo>
                  <a:lnTo>
                    <a:pt x="157" y="36"/>
                  </a:lnTo>
                  <a:lnTo>
                    <a:pt x="151" y="36"/>
                  </a:lnTo>
                  <a:lnTo>
                    <a:pt x="150" y="40"/>
                  </a:lnTo>
                  <a:lnTo>
                    <a:pt x="150" y="44"/>
                  </a:lnTo>
                  <a:lnTo>
                    <a:pt x="148" y="42"/>
                  </a:lnTo>
                  <a:lnTo>
                    <a:pt x="142" y="42"/>
                  </a:lnTo>
                  <a:lnTo>
                    <a:pt x="140" y="44"/>
                  </a:lnTo>
                  <a:lnTo>
                    <a:pt x="140" y="53"/>
                  </a:lnTo>
                  <a:lnTo>
                    <a:pt x="150" y="53"/>
                  </a:lnTo>
                  <a:lnTo>
                    <a:pt x="159" y="53"/>
                  </a:lnTo>
                  <a:lnTo>
                    <a:pt x="167" y="53"/>
                  </a:lnTo>
                  <a:lnTo>
                    <a:pt x="167" y="44"/>
                  </a:lnTo>
                  <a:close/>
                  <a:moveTo>
                    <a:pt x="196" y="19"/>
                  </a:moveTo>
                  <a:lnTo>
                    <a:pt x="194" y="17"/>
                  </a:lnTo>
                  <a:lnTo>
                    <a:pt x="188" y="17"/>
                  </a:lnTo>
                  <a:lnTo>
                    <a:pt x="188" y="19"/>
                  </a:lnTo>
                  <a:lnTo>
                    <a:pt x="186" y="17"/>
                  </a:lnTo>
                  <a:lnTo>
                    <a:pt x="180" y="17"/>
                  </a:lnTo>
                  <a:lnTo>
                    <a:pt x="178" y="19"/>
                  </a:lnTo>
                  <a:lnTo>
                    <a:pt x="176" y="17"/>
                  </a:lnTo>
                  <a:lnTo>
                    <a:pt x="171" y="17"/>
                  </a:lnTo>
                  <a:lnTo>
                    <a:pt x="169" y="19"/>
                  </a:lnTo>
                  <a:lnTo>
                    <a:pt x="169" y="53"/>
                  </a:lnTo>
                  <a:lnTo>
                    <a:pt x="207" y="53"/>
                  </a:lnTo>
                  <a:lnTo>
                    <a:pt x="205" y="19"/>
                  </a:lnTo>
                  <a:lnTo>
                    <a:pt x="203" y="17"/>
                  </a:lnTo>
                  <a:lnTo>
                    <a:pt x="198" y="17"/>
                  </a:lnTo>
                  <a:lnTo>
                    <a:pt x="196" y="19"/>
                  </a:lnTo>
                  <a:close/>
                  <a:moveTo>
                    <a:pt x="167" y="19"/>
                  </a:moveTo>
                  <a:lnTo>
                    <a:pt x="165" y="17"/>
                  </a:lnTo>
                  <a:lnTo>
                    <a:pt x="159" y="17"/>
                  </a:lnTo>
                  <a:lnTo>
                    <a:pt x="159" y="19"/>
                  </a:lnTo>
                  <a:lnTo>
                    <a:pt x="157" y="17"/>
                  </a:lnTo>
                  <a:lnTo>
                    <a:pt x="151" y="17"/>
                  </a:lnTo>
                  <a:lnTo>
                    <a:pt x="150" y="19"/>
                  </a:lnTo>
                  <a:lnTo>
                    <a:pt x="148" y="17"/>
                  </a:lnTo>
                  <a:lnTo>
                    <a:pt x="144" y="17"/>
                  </a:lnTo>
                  <a:lnTo>
                    <a:pt x="142" y="19"/>
                  </a:lnTo>
                  <a:lnTo>
                    <a:pt x="142" y="32"/>
                  </a:lnTo>
                  <a:lnTo>
                    <a:pt x="150" y="32"/>
                  </a:lnTo>
                  <a:lnTo>
                    <a:pt x="159" y="32"/>
                  </a:lnTo>
                  <a:lnTo>
                    <a:pt x="167" y="32"/>
                  </a:lnTo>
                  <a:lnTo>
                    <a:pt x="167" y="19"/>
                  </a:lnTo>
                  <a:close/>
                  <a:moveTo>
                    <a:pt x="5" y="19"/>
                  </a:moveTo>
                  <a:lnTo>
                    <a:pt x="3" y="53"/>
                  </a:lnTo>
                  <a:lnTo>
                    <a:pt x="21" y="53"/>
                  </a:lnTo>
                  <a:lnTo>
                    <a:pt x="23" y="44"/>
                  </a:lnTo>
                  <a:lnTo>
                    <a:pt x="32" y="44"/>
                  </a:lnTo>
                  <a:lnTo>
                    <a:pt x="32" y="53"/>
                  </a:lnTo>
                  <a:lnTo>
                    <a:pt x="109" y="53"/>
                  </a:lnTo>
                  <a:lnTo>
                    <a:pt x="113" y="44"/>
                  </a:lnTo>
                  <a:lnTo>
                    <a:pt x="121" y="44"/>
                  </a:lnTo>
                  <a:lnTo>
                    <a:pt x="125" y="53"/>
                  </a:lnTo>
                  <a:lnTo>
                    <a:pt x="140" y="53"/>
                  </a:lnTo>
                  <a:lnTo>
                    <a:pt x="138" y="19"/>
                  </a:lnTo>
                  <a:lnTo>
                    <a:pt x="136" y="17"/>
                  </a:lnTo>
                  <a:lnTo>
                    <a:pt x="130" y="17"/>
                  </a:lnTo>
                  <a:lnTo>
                    <a:pt x="128" y="19"/>
                  </a:lnTo>
                  <a:lnTo>
                    <a:pt x="128" y="17"/>
                  </a:lnTo>
                  <a:lnTo>
                    <a:pt x="123" y="17"/>
                  </a:lnTo>
                  <a:lnTo>
                    <a:pt x="121" y="19"/>
                  </a:lnTo>
                  <a:lnTo>
                    <a:pt x="119" y="17"/>
                  </a:lnTo>
                  <a:lnTo>
                    <a:pt x="113" y="17"/>
                  </a:lnTo>
                  <a:lnTo>
                    <a:pt x="111" y="19"/>
                  </a:lnTo>
                  <a:lnTo>
                    <a:pt x="109" y="17"/>
                  </a:lnTo>
                  <a:lnTo>
                    <a:pt x="105" y="17"/>
                  </a:lnTo>
                  <a:lnTo>
                    <a:pt x="103" y="19"/>
                  </a:lnTo>
                  <a:lnTo>
                    <a:pt x="101" y="17"/>
                  </a:lnTo>
                  <a:lnTo>
                    <a:pt x="96" y="17"/>
                  </a:lnTo>
                  <a:lnTo>
                    <a:pt x="94" y="19"/>
                  </a:lnTo>
                  <a:lnTo>
                    <a:pt x="92" y="17"/>
                  </a:lnTo>
                  <a:lnTo>
                    <a:pt x="88" y="17"/>
                  </a:lnTo>
                  <a:lnTo>
                    <a:pt x="86" y="19"/>
                  </a:lnTo>
                  <a:lnTo>
                    <a:pt x="84" y="17"/>
                  </a:lnTo>
                  <a:lnTo>
                    <a:pt x="78" y="17"/>
                  </a:lnTo>
                  <a:lnTo>
                    <a:pt x="77" y="19"/>
                  </a:lnTo>
                  <a:lnTo>
                    <a:pt x="75" y="17"/>
                  </a:lnTo>
                  <a:lnTo>
                    <a:pt x="69" y="17"/>
                  </a:lnTo>
                  <a:lnTo>
                    <a:pt x="67" y="19"/>
                  </a:lnTo>
                  <a:lnTo>
                    <a:pt x="67" y="17"/>
                  </a:lnTo>
                  <a:lnTo>
                    <a:pt x="61" y="17"/>
                  </a:lnTo>
                  <a:lnTo>
                    <a:pt x="59" y="19"/>
                  </a:lnTo>
                  <a:lnTo>
                    <a:pt x="57" y="17"/>
                  </a:lnTo>
                  <a:lnTo>
                    <a:pt x="52" y="17"/>
                  </a:lnTo>
                  <a:lnTo>
                    <a:pt x="50" y="19"/>
                  </a:lnTo>
                  <a:lnTo>
                    <a:pt x="48" y="17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17"/>
                  </a:lnTo>
                  <a:lnTo>
                    <a:pt x="34" y="17"/>
                  </a:lnTo>
                  <a:lnTo>
                    <a:pt x="32" y="19"/>
                  </a:lnTo>
                  <a:lnTo>
                    <a:pt x="30" y="17"/>
                  </a:lnTo>
                  <a:lnTo>
                    <a:pt x="25" y="17"/>
                  </a:lnTo>
                  <a:lnTo>
                    <a:pt x="25" y="19"/>
                  </a:lnTo>
                  <a:lnTo>
                    <a:pt x="23" y="17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3" y="17"/>
                  </a:lnTo>
                  <a:lnTo>
                    <a:pt x="7" y="17"/>
                  </a:lnTo>
                  <a:lnTo>
                    <a:pt x="5" y="19"/>
                  </a:lnTo>
                  <a:close/>
                  <a:moveTo>
                    <a:pt x="167" y="7"/>
                  </a:moveTo>
                  <a:lnTo>
                    <a:pt x="167" y="5"/>
                  </a:lnTo>
                  <a:lnTo>
                    <a:pt x="161" y="5"/>
                  </a:lnTo>
                  <a:lnTo>
                    <a:pt x="159" y="7"/>
                  </a:lnTo>
                  <a:lnTo>
                    <a:pt x="157" y="5"/>
                  </a:lnTo>
                  <a:lnTo>
                    <a:pt x="151" y="5"/>
                  </a:lnTo>
                  <a:lnTo>
                    <a:pt x="150" y="7"/>
                  </a:lnTo>
                  <a:lnTo>
                    <a:pt x="148" y="5"/>
                  </a:lnTo>
                  <a:lnTo>
                    <a:pt x="144" y="5"/>
                  </a:lnTo>
                  <a:lnTo>
                    <a:pt x="142" y="7"/>
                  </a:lnTo>
                  <a:lnTo>
                    <a:pt x="142" y="13"/>
                  </a:lnTo>
                  <a:lnTo>
                    <a:pt x="150" y="13"/>
                  </a:lnTo>
                  <a:lnTo>
                    <a:pt x="159" y="13"/>
                  </a:lnTo>
                  <a:lnTo>
                    <a:pt x="169" y="13"/>
                  </a:lnTo>
                  <a:lnTo>
                    <a:pt x="167" y="7"/>
                  </a:lnTo>
                  <a:close/>
                  <a:moveTo>
                    <a:pt x="17" y="13"/>
                  </a:moveTo>
                  <a:lnTo>
                    <a:pt x="15" y="7"/>
                  </a:lnTo>
                  <a:lnTo>
                    <a:pt x="15" y="7"/>
                  </a:lnTo>
                  <a:lnTo>
                    <a:pt x="13" y="5"/>
                  </a:lnTo>
                  <a:lnTo>
                    <a:pt x="9" y="5"/>
                  </a:lnTo>
                  <a:lnTo>
                    <a:pt x="7" y="7"/>
                  </a:lnTo>
                  <a:lnTo>
                    <a:pt x="7" y="13"/>
                  </a:lnTo>
                  <a:lnTo>
                    <a:pt x="15" y="13"/>
                  </a:lnTo>
                  <a:lnTo>
                    <a:pt x="17" y="13"/>
                  </a:lnTo>
                  <a:close/>
                  <a:moveTo>
                    <a:pt x="128" y="7"/>
                  </a:moveTo>
                  <a:lnTo>
                    <a:pt x="126" y="5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5"/>
                  </a:lnTo>
                  <a:lnTo>
                    <a:pt x="113" y="5"/>
                  </a:lnTo>
                  <a:lnTo>
                    <a:pt x="111" y="7"/>
                  </a:lnTo>
                  <a:lnTo>
                    <a:pt x="109" y="5"/>
                  </a:lnTo>
                  <a:lnTo>
                    <a:pt x="105" y="5"/>
                  </a:lnTo>
                  <a:lnTo>
                    <a:pt x="103" y="7"/>
                  </a:lnTo>
                  <a:lnTo>
                    <a:pt x="101" y="13"/>
                  </a:lnTo>
                  <a:lnTo>
                    <a:pt x="111" y="13"/>
                  </a:lnTo>
                  <a:lnTo>
                    <a:pt x="121" y="13"/>
                  </a:lnTo>
                  <a:lnTo>
                    <a:pt x="128" y="13"/>
                  </a:lnTo>
                  <a:lnTo>
                    <a:pt x="138" y="13"/>
                  </a:lnTo>
                  <a:lnTo>
                    <a:pt x="138" y="7"/>
                  </a:lnTo>
                  <a:lnTo>
                    <a:pt x="136" y="5"/>
                  </a:lnTo>
                  <a:lnTo>
                    <a:pt x="130" y="5"/>
                  </a:lnTo>
                  <a:lnTo>
                    <a:pt x="128" y="7"/>
                  </a:lnTo>
                  <a:close/>
                  <a:moveTo>
                    <a:pt x="90" y="7"/>
                  </a:moveTo>
                  <a:lnTo>
                    <a:pt x="88" y="5"/>
                  </a:lnTo>
                  <a:lnTo>
                    <a:pt x="82" y="5"/>
                  </a:lnTo>
                  <a:lnTo>
                    <a:pt x="80" y="7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7"/>
                  </a:lnTo>
                  <a:lnTo>
                    <a:pt x="71" y="5"/>
                  </a:lnTo>
                  <a:lnTo>
                    <a:pt x="65" y="5"/>
                  </a:lnTo>
                  <a:lnTo>
                    <a:pt x="63" y="7"/>
                  </a:lnTo>
                  <a:lnTo>
                    <a:pt x="63" y="13"/>
                  </a:lnTo>
                  <a:lnTo>
                    <a:pt x="73" y="13"/>
                  </a:lnTo>
                  <a:lnTo>
                    <a:pt x="80" y="13"/>
                  </a:lnTo>
                  <a:lnTo>
                    <a:pt x="90" y="13"/>
                  </a:lnTo>
                  <a:lnTo>
                    <a:pt x="100" y="13"/>
                  </a:lnTo>
                  <a:lnTo>
                    <a:pt x="98" y="7"/>
                  </a:lnTo>
                  <a:lnTo>
                    <a:pt x="98" y="5"/>
                  </a:lnTo>
                  <a:lnTo>
                    <a:pt x="92" y="5"/>
                  </a:lnTo>
                  <a:lnTo>
                    <a:pt x="90" y="7"/>
                  </a:lnTo>
                  <a:close/>
                  <a:moveTo>
                    <a:pt x="50" y="7"/>
                  </a:moveTo>
                  <a:lnTo>
                    <a:pt x="48" y="5"/>
                  </a:lnTo>
                  <a:lnTo>
                    <a:pt x="44" y="5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4" y="5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7" y="5"/>
                  </a:lnTo>
                  <a:lnTo>
                    <a:pt x="25" y="7"/>
                  </a:lnTo>
                  <a:lnTo>
                    <a:pt x="23" y="13"/>
                  </a:lnTo>
                  <a:lnTo>
                    <a:pt x="32" y="13"/>
                  </a:lnTo>
                  <a:lnTo>
                    <a:pt x="42" y="13"/>
                  </a:lnTo>
                  <a:lnTo>
                    <a:pt x="50" y="13"/>
                  </a:lnTo>
                  <a:lnTo>
                    <a:pt x="59" y="13"/>
                  </a:lnTo>
                  <a:lnTo>
                    <a:pt x="59" y="7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50" y="7"/>
                  </a:lnTo>
                  <a:close/>
                  <a:moveTo>
                    <a:pt x="0" y="57"/>
                  </a:moveTo>
                  <a:lnTo>
                    <a:pt x="211" y="57"/>
                  </a:lnTo>
                  <a:lnTo>
                    <a:pt x="205" y="0"/>
                  </a:lnTo>
                  <a:lnTo>
                    <a:pt x="5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42320" y="4688640"/>
              <a:ext cx="469440" cy="279720"/>
            </a:xfrm>
            <a:custGeom>
              <a:avLst/>
              <a:gdLst/>
              <a:ahLst/>
              <a:rect l="l" t="t" r="r" b="b"/>
              <a:pathLst>
                <a:path w="140" h="103">
                  <a:moveTo>
                    <a:pt x="133" y="103"/>
                  </a:moveTo>
                  <a:lnTo>
                    <a:pt x="140" y="103"/>
                  </a:lnTo>
                  <a:lnTo>
                    <a:pt x="140" y="100"/>
                  </a:lnTo>
                  <a:lnTo>
                    <a:pt x="133" y="100"/>
                  </a:lnTo>
                  <a:lnTo>
                    <a:pt x="133" y="103"/>
                  </a:lnTo>
                  <a:close/>
                  <a:moveTo>
                    <a:pt x="10" y="84"/>
                  </a:moveTo>
                  <a:lnTo>
                    <a:pt x="10" y="9"/>
                  </a:lnTo>
                  <a:lnTo>
                    <a:pt x="121" y="9"/>
                  </a:lnTo>
                  <a:lnTo>
                    <a:pt x="121" y="84"/>
                  </a:lnTo>
                  <a:lnTo>
                    <a:pt x="10" y="84"/>
                  </a:lnTo>
                  <a:close/>
                  <a:moveTo>
                    <a:pt x="4" y="90"/>
                  </a:moveTo>
                  <a:lnTo>
                    <a:pt x="127" y="90"/>
                  </a:lnTo>
                  <a:lnTo>
                    <a:pt x="127" y="3"/>
                  </a:lnTo>
                  <a:lnTo>
                    <a:pt x="131" y="3"/>
                  </a:lnTo>
                  <a:lnTo>
                    <a:pt x="131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96"/>
                  </a:lnTo>
                  <a:lnTo>
                    <a:pt x="4" y="96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ffffcc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91920" y="4979520"/>
              <a:ext cx="54000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>
            <a:off x="1073160" y="4343400"/>
            <a:ext cx="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839880" y="434988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249920" y="4605480"/>
            <a:ext cx="84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User of 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5200560" y="1371600"/>
            <a:ext cx="82548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817800" y="4095720"/>
            <a:ext cx="1162080" cy="685800"/>
          </a:xfrm>
          <a:custGeom>
            <a:avLst/>
            <a:gdLst/>
            <a:ahLst/>
            <a:rect l="l" t="t" r="r" b="b"/>
            <a:pathLst>
              <a:path w="676" h="432">
                <a:moveTo>
                  <a:pt x="0" y="215"/>
                </a:moveTo>
                <a:lnTo>
                  <a:pt x="3" y="188"/>
                </a:lnTo>
                <a:lnTo>
                  <a:pt x="10" y="160"/>
                </a:lnTo>
                <a:lnTo>
                  <a:pt x="26" y="133"/>
                </a:lnTo>
                <a:lnTo>
                  <a:pt x="44" y="108"/>
                </a:lnTo>
                <a:lnTo>
                  <a:pt x="68" y="84"/>
                </a:lnTo>
                <a:lnTo>
                  <a:pt x="99" y="63"/>
                </a:lnTo>
                <a:lnTo>
                  <a:pt x="131" y="44"/>
                </a:lnTo>
                <a:lnTo>
                  <a:pt x="167" y="28"/>
                </a:lnTo>
                <a:lnTo>
                  <a:pt x="207" y="16"/>
                </a:lnTo>
                <a:lnTo>
                  <a:pt x="250" y="8"/>
                </a:lnTo>
                <a:lnTo>
                  <a:pt x="293" y="2"/>
                </a:lnTo>
                <a:lnTo>
                  <a:pt x="337" y="0"/>
                </a:lnTo>
                <a:lnTo>
                  <a:pt x="381" y="2"/>
                </a:lnTo>
                <a:lnTo>
                  <a:pt x="424" y="8"/>
                </a:lnTo>
                <a:lnTo>
                  <a:pt x="467" y="16"/>
                </a:lnTo>
                <a:lnTo>
                  <a:pt x="506" y="28"/>
                </a:lnTo>
                <a:lnTo>
                  <a:pt x="543" y="44"/>
                </a:lnTo>
                <a:lnTo>
                  <a:pt x="576" y="63"/>
                </a:lnTo>
                <a:lnTo>
                  <a:pt x="605" y="84"/>
                </a:lnTo>
                <a:lnTo>
                  <a:pt x="630" y="108"/>
                </a:lnTo>
                <a:lnTo>
                  <a:pt x="650" y="133"/>
                </a:lnTo>
                <a:lnTo>
                  <a:pt x="663" y="160"/>
                </a:lnTo>
                <a:lnTo>
                  <a:pt x="672" y="188"/>
                </a:lnTo>
                <a:lnTo>
                  <a:pt x="676" y="215"/>
                </a:lnTo>
                <a:lnTo>
                  <a:pt x="672" y="243"/>
                </a:lnTo>
                <a:lnTo>
                  <a:pt x="663" y="271"/>
                </a:lnTo>
                <a:lnTo>
                  <a:pt x="650" y="299"/>
                </a:lnTo>
                <a:lnTo>
                  <a:pt x="630" y="324"/>
                </a:lnTo>
                <a:lnTo>
                  <a:pt x="605" y="348"/>
                </a:lnTo>
                <a:lnTo>
                  <a:pt x="576" y="370"/>
                </a:lnTo>
                <a:lnTo>
                  <a:pt x="543" y="387"/>
                </a:lnTo>
                <a:lnTo>
                  <a:pt x="506" y="403"/>
                </a:lnTo>
                <a:lnTo>
                  <a:pt x="467" y="416"/>
                </a:lnTo>
                <a:lnTo>
                  <a:pt x="424" y="425"/>
                </a:lnTo>
                <a:lnTo>
                  <a:pt x="381" y="431"/>
                </a:lnTo>
                <a:lnTo>
                  <a:pt x="337" y="432"/>
                </a:lnTo>
                <a:lnTo>
                  <a:pt x="293" y="431"/>
                </a:lnTo>
                <a:lnTo>
                  <a:pt x="250" y="425"/>
                </a:lnTo>
                <a:lnTo>
                  <a:pt x="207" y="416"/>
                </a:lnTo>
                <a:lnTo>
                  <a:pt x="167" y="403"/>
                </a:lnTo>
                <a:lnTo>
                  <a:pt x="131" y="387"/>
                </a:lnTo>
                <a:lnTo>
                  <a:pt x="99" y="370"/>
                </a:lnTo>
                <a:lnTo>
                  <a:pt x="68" y="348"/>
                </a:lnTo>
                <a:lnTo>
                  <a:pt x="44" y="324"/>
                </a:lnTo>
                <a:lnTo>
                  <a:pt x="26" y="299"/>
                </a:lnTo>
                <a:lnTo>
                  <a:pt x="10" y="271"/>
                </a:lnTo>
                <a:lnTo>
                  <a:pt x="3" y="243"/>
                </a:lnTo>
                <a:lnTo>
                  <a:pt x="0" y="215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556080" y="2654280"/>
            <a:ext cx="3100320" cy="1370160"/>
          </a:xfrm>
          <a:custGeom>
            <a:avLst/>
            <a:gdLst/>
            <a:ahLst/>
            <a:rect l="l" t="t" r="r" b="b"/>
            <a:pathLst>
              <a:path w="1802" h="863">
                <a:moveTo>
                  <a:pt x="0" y="431"/>
                </a:moveTo>
                <a:lnTo>
                  <a:pt x="3" y="396"/>
                </a:lnTo>
                <a:lnTo>
                  <a:pt x="10" y="363"/>
                </a:lnTo>
                <a:lnTo>
                  <a:pt x="26" y="327"/>
                </a:lnTo>
                <a:lnTo>
                  <a:pt x="45" y="294"/>
                </a:lnTo>
                <a:lnTo>
                  <a:pt x="71" y="262"/>
                </a:lnTo>
                <a:lnTo>
                  <a:pt x="102" y="230"/>
                </a:lnTo>
                <a:lnTo>
                  <a:pt x="138" y="201"/>
                </a:lnTo>
                <a:lnTo>
                  <a:pt x="180" y="172"/>
                </a:lnTo>
                <a:lnTo>
                  <a:pt x="225" y="145"/>
                </a:lnTo>
                <a:lnTo>
                  <a:pt x="276" y="120"/>
                </a:lnTo>
                <a:lnTo>
                  <a:pt x="331" y="97"/>
                </a:lnTo>
                <a:lnTo>
                  <a:pt x="389" y="76"/>
                </a:lnTo>
                <a:lnTo>
                  <a:pt x="450" y="58"/>
                </a:lnTo>
                <a:lnTo>
                  <a:pt x="514" y="41"/>
                </a:lnTo>
                <a:lnTo>
                  <a:pt x="581" y="27"/>
                </a:lnTo>
                <a:lnTo>
                  <a:pt x="650" y="16"/>
                </a:lnTo>
                <a:lnTo>
                  <a:pt x="720" y="9"/>
                </a:lnTo>
                <a:lnTo>
                  <a:pt x="791" y="3"/>
                </a:lnTo>
                <a:lnTo>
                  <a:pt x="865" y="0"/>
                </a:lnTo>
                <a:lnTo>
                  <a:pt x="936" y="0"/>
                </a:lnTo>
                <a:lnTo>
                  <a:pt x="1008" y="3"/>
                </a:lnTo>
                <a:lnTo>
                  <a:pt x="1080" y="9"/>
                </a:lnTo>
                <a:lnTo>
                  <a:pt x="1152" y="16"/>
                </a:lnTo>
                <a:lnTo>
                  <a:pt x="1220" y="27"/>
                </a:lnTo>
                <a:lnTo>
                  <a:pt x="1286" y="41"/>
                </a:lnTo>
                <a:lnTo>
                  <a:pt x="1351" y="58"/>
                </a:lnTo>
                <a:lnTo>
                  <a:pt x="1412" y="76"/>
                </a:lnTo>
                <a:lnTo>
                  <a:pt x="1470" y="97"/>
                </a:lnTo>
                <a:lnTo>
                  <a:pt x="1524" y="120"/>
                </a:lnTo>
                <a:lnTo>
                  <a:pt x="1574" y="145"/>
                </a:lnTo>
                <a:lnTo>
                  <a:pt x="1620" y="172"/>
                </a:lnTo>
                <a:lnTo>
                  <a:pt x="1661" y="201"/>
                </a:lnTo>
                <a:lnTo>
                  <a:pt x="1698" y="230"/>
                </a:lnTo>
                <a:lnTo>
                  <a:pt x="1730" y="262"/>
                </a:lnTo>
                <a:lnTo>
                  <a:pt x="1754" y="294"/>
                </a:lnTo>
                <a:lnTo>
                  <a:pt x="1776" y="327"/>
                </a:lnTo>
                <a:lnTo>
                  <a:pt x="1789" y="363"/>
                </a:lnTo>
                <a:lnTo>
                  <a:pt x="1799" y="396"/>
                </a:lnTo>
                <a:lnTo>
                  <a:pt x="1802" y="431"/>
                </a:lnTo>
                <a:lnTo>
                  <a:pt x="1799" y="466"/>
                </a:lnTo>
                <a:lnTo>
                  <a:pt x="1789" y="500"/>
                </a:lnTo>
                <a:lnTo>
                  <a:pt x="1776" y="535"/>
                </a:lnTo>
                <a:lnTo>
                  <a:pt x="1754" y="568"/>
                </a:lnTo>
                <a:lnTo>
                  <a:pt x="1730" y="600"/>
                </a:lnTo>
                <a:lnTo>
                  <a:pt x="1698" y="632"/>
                </a:lnTo>
                <a:lnTo>
                  <a:pt x="1661" y="661"/>
                </a:lnTo>
                <a:lnTo>
                  <a:pt x="1620" y="690"/>
                </a:lnTo>
                <a:lnTo>
                  <a:pt x="1574" y="718"/>
                </a:lnTo>
                <a:lnTo>
                  <a:pt x="1524" y="742"/>
                </a:lnTo>
                <a:lnTo>
                  <a:pt x="1470" y="765"/>
                </a:lnTo>
                <a:lnTo>
                  <a:pt x="1412" y="786"/>
                </a:lnTo>
                <a:lnTo>
                  <a:pt x="1351" y="805"/>
                </a:lnTo>
                <a:lnTo>
                  <a:pt x="1286" y="822"/>
                </a:lnTo>
                <a:lnTo>
                  <a:pt x="1220" y="835"/>
                </a:lnTo>
                <a:lnTo>
                  <a:pt x="1152" y="846"/>
                </a:lnTo>
                <a:lnTo>
                  <a:pt x="1080" y="854"/>
                </a:lnTo>
                <a:lnTo>
                  <a:pt x="1008" y="860"/>
                </a:lnTo>
                <a:lnTo>
                  <a:pt x="936" y="863"/>
                </a:lnTo>
                <a:lnTo>
                  <a:pt x="865" y="863"/>
                </a:lnTo>
                <a:lnTo>
                  <a:pt x="791" y="860"/>
                </a:lnTo>
                <a:lnTo>
                  <a:pt x="720" y="854"/>
                </a:lnTo>
                <a:lnTo>
                  <a:pt x="650" y="846"/>
                </a:lnTo>
                <a:lnTo>
                  <a:pt x="581" y="835"/>
                </a:lnTo>
                <a:lnTo>
                  <a:pt x="514" y="822"/>
                </a:lnTo>
                <a:lnTo>
                  <a:pt x="450" y="805"/>
                </a:lnTo>
                <a:lnTo>
                  <a:pt x="389" y="786"/>
                </a:lnTo>
                <a:lnTo>
                  <a:pt x="331" y="765"/>
                </a:lnTo>
                <a:lnTo>
                  <a:pt x="276" y="742"/>
                </a:lnTo>
                <a:lnTo>
                  <a:pt x="225" y="718"/>
                </a:lnTo>
                <a:lnTo>
                  <a:pt x="180" y="690"/>
                </a:lnTo>
                <a:lnTo>
                  <a:pt x="138" y="661"/>
                </a:lnTo>
                <a:lnTo>
                  <a:pt x="102" y="632"/>
                </a:lnTo>
                <a:lnTo>
                  <a:pt x="71" y="600"/>
                </a:lnTo>
                <a:lnTo>
                  <a:pt x="45" y="568"/>
                </a:lnTo>
                <a:lnTo>
                  <a:pt x="26" y="535"/>
                </a:lnTo>
                <a:lnTo>
                  <a:pt x="10" y="500"/>
                </a:lnTo>
                <a:lnTo>
                  <a:pt x="3" y="466"/>
                </a:lnTo>
                <a:lnTo>
                  <a:pt x="0" y="43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773600" y="3116160"/>
            <a:ext cx="76212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825440" y="3119400"/>
            <a:ext cx="653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246480" y="3260880"/>
            <a:ext cx="466560" cy="430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076400" y="2867040"/>
            <a:ext cx="620640" cy="574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266840" y="2905200"/>
            <a:ext cx="24120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274400" y="2909880"/>
            <a:ext cx="22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922320" y="3075120"/>
            <a:ext cx="620640" cy="573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068480" y="3112920"/>
            <a:ext cx="36972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099800" y="3117960"/>
            <a:ext cx="30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OP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221440" y="1455840"/>
            <a:ext cx="736560" cy="677880"/>
          </a:xfrm>
          <a:custGeom>
            <a:avLst/>
            <a:gdLst/>
            <a:ahLst/>
            <a:rect l="l" t="t" r="r" b="b"/>
            <a:pathLst>
              <a:path w="428" h="427">
                <a:moveTo>
                  <a:pt x="62" y="247"/>
                </a:moveTo>
                <a:lnTo>
                  <a:pt x="100" y="247"/>
                </a:lnTo>
                <a:lnTo>
                  <a:pt x="100" y="267"/>
                </a:lnTo>
                <a:lnTo>
                  <a:pt x="329" y="267"/>
                </a:lnTo>
                <a:lnTo>
                  <a:pt x="329" y="247"/>
                </a:lnTo>
                <a:lnTo>
                  <a:pt x="367" y="247"/>
                </a:lnTo>
                <a:lnTo>
                  <a:pt x="367" y="0"/>
                </a:lnTo>
                <a:lnTo>
                  <a:pt x="62" y="0"/>
                </a:lnTo>
                <a:lnTo>
                  <a:pt x="62" y="247"/>
                </a:lnTo>
                <a:lnTo>
                  <a:pt x="62" y="247"/>
                </a:lnTo>
                <a:close/>
                <a:moveTo>
                  <a:pt x="409" y="305"/>
                </a:moveTo>
                <a:lnTo>
                  <a:pt x="19" y="305"/>
                </a:lnTo>
                <a:lnTo>
                  <a:pt x="14" y="306"/>
                </a:lnTo>
                <a:lnTo>
                  <a:pt x="13" y="309"/>
                </a:lnTo>
                <a:lnTo>
                  <a:pt x="0" y="422"/>
                </a:lnTo>
                <a:lnTo>
                  <a:pt x="0" y="425"/>
                </a:lnTo>
                <a:lnTo>
                  <a:pt x="4" y="427"/>
                </a:lnTo>
                <a:lnTo>
                  <a:pt x="423" y="427"/>
                </a:lnTo>
                <a:lnTo>
                  <a:pt x="428" y="425"/>
                </a:lnTo>
                <a:lnTo>
                  <a:pt x="428" y="422"/>
                </a:lnTo>
                <a:lnTo>
                  <a:pt x="414" y="309"/>
                </a:lnTo>
                <a:lnTo>
                  <a:pt x="412" y="306"/>
                </a:lnTo>
                <a:lnTo>
                  <a:pt x="409" y="305"/>
                </a:lnTo>
                <a:lnTo>
                  <a:pt x="409" y="305"/>
                </a:lnTo>
                <a:close/>
              </a:path>
            </a:pathLst>
          </a:custGeom>
          <a:solidFill>
            <a:srgbClr val="ff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392800" y="1847880"/>
            <a:ext cx="393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245200" y="1952640"/>
            <a:ext cx="689040" cy="168120"/>
          </a:xfrm>
          <a:custGeom>
            <a:avLst/>
            <a:gdLst/>
            <a:ahLst/>
            <a:rect l="l" t="t" r="r" b="b"/>
            <a:pathLst>
              <a:path w="400" h="106">
                <a:moveTo>
                  <a:pt x="316" y="82"/>
                </a:moveTo>
                <a:lnTo>
                  <a:pt x="313" y="77"/>
                </a:lnTo>
                <a:lnTo>
                  <a:pt x="304" y="77"/>
                </a:lnTo>
                <a:lnTo>
                  <a:pt x="299" y="82"/>
                </a:lnTo>
                <a:lnTo>
                  <a:pt x="299" y="73"/>
                </a:lnTo>
                <a:lnTo>
                  <a:pt x="298" y="70"/>
                </a:lnTo>
                <a:lnTo>
                  <a:pt x="287" y="70"/>
                </a:lnTo>
                <a:lnTo>
                  <a:pt x="284" y="73"/>
                </a:lnTo>
                <a:lnTo>
                  <a:pt x="284" y="82"/>
                </a:lnTo>
                <a:lnTo>
                  <a:pt x="279" y="77"/>
                </a:lnTo>
                <a:lnTo>
                  <a:pt x="270" y="77"/>
                </a:lnTo>
                <a:lnTo>
                  <a:pt x="267" y="82"/>
                </a:lnTo>
                <a:lnTo>
                  <a:pt x="267" y="99"/>
                </a:lnTo>
                <a:lnTo>
                  <a:pt x="284" y="99"/>
                </a:lnTo>
                <a:lnTo>
                  <a:pt x="301" y="99"/>
                </a:lnTo>
                <a:lnTo>
                  <a:pt x="318" y="99"/>
                </a:lnTo>
                <a:lnTo>
                  <a:pt x="316" y="82"/>
                </a:lnTo>
                <a:lnTo>
                  <a:pt x="316" y="82"/>
                </a:lnTo>
                <a:close/>
                <a:moveTo>
                  <a:pt x="371" y="35"/>
                </a:moveTo>
                <a:lnTo>
                  <a:pt x="368" y="30"/>
                </a:lnTo>
                <a:lnTo>
                  <a:pt x="357" y="30"/>
                </a:lnTo>
                <a:lnTo>
                  <a:pt x="354" y="35"/>
                </a:lnTo>
                <a:lnTo>
                  <a:pt x="351" y="30"/>
                </a:lnTo>
                <a:lnTo>
                  <a:pt x="340" y="30"/>
                </a:lnTo>
                <a:lnTo>
                  <a:pt x="337" y="35"/>
                </a:lnTo>
                <a:lnTo>
                  <a:pt x="334" y="30"/>
                </a:lnTo>
                <a:lnTo>
                  <a:pt x="325" y="30"/>
                </a:lnTo>
                <a:lnTo>
                  <a:pt x="321" y="35"/>
                </a:lnTo>
                <a:lnTo>
                  <a:pt x="322" y="99"/>
                </a:lnTo>
                <a:lnTo>
                  <a:pt x="392" y="99"/>
                </a:lnTo>
                <a:lnTo>
                  <a:pt x="388" y="36"/>
                </a:lnTo>
                <a:lnTo>
                  <a:pt x="385" y="30"/>
                </a:lnTo>
                <a:lnTo>
                  <a:pt x="374" y="30"/>
                </a:lnTo>
                <a:lnTo>
                  <a:pt x="371" y="35"/>
                </a:lnTo>
                <a:lnTo>
                  <a:pt x="371" y="35"/>
                </a:lnTo>
                <a:close/>
                <a:moveTo>
                  <a:pt x="316" y="35"/>
                </a:moveTo>
                <a:lnTo>
                  <a:pt x="313" y="30"/>
                </a:lnTo>
                <a:lnTo>
                  <a:pt x="304" y="30"/>
                </a:lnTo>
                <a:lnTo>
                  <a:pt x="301" y="35"/>
                </a:lnTo>
                <a:lnTo>
                  <a:pt x="298" y="30"/>
                </a:lnTo>
                <a:lnTo>
                  <a:pt x="287" y="30"/>
                </a:lnTo>
                <a:lnTo>
                  <a:pt x="284" y="35"/>
                </a:lnTo>
                <a:lnTo>
                  <a:pt x="281" y="30"/>
                </a:lnTo>
                <a:lnTo>
                  <a:pt x="272" y="30"/>
                </a:lnTo>
                <a:lnTo>
                  <a:pt x="269" y="35"/>
                </a:lnTo>
                <a:lnTo>
                  <a:pt x="267" y="59"/>
                </a:lnTo>
                <a:lnTo>
                  <a:pt x="284" y="59"/>
                </a:lnTo>
                <a:lnTo>
                  <a:pt x="301" y="59"/>
                </a:lnTo>
                <a:lnTo>
                  <a:pt x="318" y="59"/>
                </a:lnTo>
                <a:lnTo>
                  <a:pt x="316" y="35"/>
                </a:lnTo>
                <a:lnTo>
                  <a:pt x="316" y="35"/>
                </a:lnTo>
                <a:close/>
                <a:moveTo>
                  <a:pt x="14" y="35"/>
                </a:moveTo>
                <a:lnTo>
                  <a:pt x="6" y="99"/>
                </a:lnTo>
                <a:lnTo>
                  <a:pt x="43" y="99"/>
                </a:lnTo>
                <a:lnTo>
                  <a:pt x="44" y="82"/>
                </a:lnTo>
                <a:lnTo>
                  <a:pt x="61" y="82"/>
                </a:lnTo>
                <a:lnTo>
                  <a:pt x="64" y="99"/>
                </a:lnTo>
                <a:lnTo>
                  <a:pt x="208" y="99"/>
                </a:lnTo>
                <a:lnTo>
                  <a:pt x="214" y="83"/>
                </a:lnTo>
                <a:lnTo>
                  <a:pt x="229" y="83"/>
                </a:lnTo>
                <a:lnTo>
                  <a:pt x="235" y="99"/>
                </a:lnTo>
                <a:lnTo>
                  <a:pt x="264" y="99"/>
                </a:lnTo>
                <a:lnTo>
                  <a:pt x="263" y="35"/>
                </a:lnTo>
                <a:lnTo>
                  <a:pt x="258" y="30"/>
                </a:lnTo>
                <a:lnTo>
                  <a:pt x="249" y="30"/>
                </a:lnTo>
                <a:lnTo>
                  <a:pt x="246" y="35"/>
                </a:lnTo>
                <a:lnTo>
                  <a:pt x="243" y="30"/>
                </a:lnTo>
                <a:lnTo>
                  <a:pt x="232" y="30"/>
                </a:lnTo>
                <a:lnTo>
                  <a:pt x="229" y="35"/>
                </a:lnTo>
                <a:lnTo>
                  <a:pt x="226" y="30"/>
                </a:lnTo>
                <a:lnTo>
                  <a:pt x="215" y="30"/>
                </a:lnTo>
                <a:lnTo>
                  <a:pt x="212" y="35"/>
                </a:lnTo>
                <a:lnTo>
                  <a:pt x="209" y="30"/>
                </a:lnTo>
                <a:lnTo>
                  <a:pt x="199" y="30"/>
                </a:lnTo>
                <a:lnTo>
                  <a:pt x="196" y="35"/>
                </a:lnTo>
                <a:lnTo>
                  <a:pt x="192" y="30"/>
                </a:lnTo>
                <a:lnTo>
                  <a:pt x="182" y="30"/>
                </a:lnTo>
                <a:lnTo>
                  <a:pt x="179" y="35"/>
                </a:lnTo>
                <a:lnTo>
                  <a:pt x="176" y="30"/>
                </a:lnTo>
                <a:lnTo>
                  <a:pt x="167" y="30"/>
                </a:lnTo>
                <a:lnTo>
                  <a:pt x="162" y="35"/>
                </a:lnTo>
                <a:lnTo>
                  <a:pt x="159" y="30"/>
                </a:lnTo>
                <a:lnTo>
                  <a:pt x="150" y="30"/>
                </a:lnTo>
                <a:lnTo>
                  <a:pt x="147" y="35"/>
                </a:lnTo>
                <a:lnTo>
                  <a:pt x="142" y="30"/>
                </a:lnTo>
                <a:lnTo>
                  <a:pt x="133" y="30"/>
                </a:lnTo>
                <a:lnTo>
                  <a:pt x="130" y="35"/>
                </a:lnTo>
                <a:lnTo>
                  <a:pt x="127" y="30"/>
                </a:lnTo>
                <a:lnTo>
                  <a:pt x="116" y="30"/>
                </a:lnTo>
                <a:lnTo>
                  <a:pt x="113" y="35"/>
                </a:lnTo>
                <a:lnTo>
                  <a:pt x="110" y="30"/>
                </a:lnTo>
                <a:lnTo>
                  <a:pt x="99" y="30"/>
                </a:lnTo>
                <a:lnTo>
                  <a:pt x="96" y="35"/>
                </a:lnTo>
                <a:lnTo>
                  <a:pt x="93" y="30"/>
                </a:lnTo>
                <a:lnTo>
                  <a:pt x="83" y="30"/>
                </a:lnTo>
                <a:lnTo>
                  <a:pt x="80" y="35"/>
                </a:lnTo>
                <a:lnTo>
                  <a:pt x="76" y="30"/>
                </a:lnTo>
                <a:lnTo>
                  <a:pt x="66" y="30"/>
                </a:lnTo>
                <a:lnTo>
                  <a:pt x="63" y="35"/>
                </a:lnTo>
                <a:lnTo>
                  <a:pt x="60" y="30"/>
                </a:lnTo>
                <a:lnTo>
                  <a:pt x="51" y="30"/>
                </a:lnTo>
                <a:lnTo>
                  <a:pt x="46" y="35"/>
                </a:lnTo>
                <a:lnTo>
                  <a:pt x="43" y="30"/>
                </a:lnTo>
                <a:lnTo>
                  <a:pt x="34" y="30"/>
                </a:lnTo>
                <a:lnTo>
                  <a:pt x="29" y="35"/>
                </a:lnTo>
                <a:lnTo>
                  <a:pt x="26" y="30"/>
                </a:lnTo>
                <a:lnTo>
                  <a:pt x="17" y="30"/>
                </a:lnTo>
                <a:lnTo>
                  <a:pt x="14" y="35"/>
                </a:lnTo>
                <a:lnTo>
                  <a:pt x="14" y="35"/>
                </a:lnTo>
                <a:close/>
                <a:moveTo>
                  <a:pt x="318" y="13"/>
                </a:moveTo>
                <a:lnTo>
                  <a:pt x="315" y="9"/>
                </a:lnTo>
                <a:lnTo>
                  <a:pt x="305" y="9"/>
                </a:lnTo>
                <a:lnTo>
                  <a:pt x="301" y="13"/>
                </a:lnTo>
                <a:lnTo>
                  <a:pt x="298" y="9"/>
                </a:lnTo>
                <a:lnTo>
                  <a:pt x="289" y="9"/>
                </a:lnTo>
                <a:lnTo>
                  <a:pt x="284" y="13"/>
                </a:lnTo>
                <a:lnTo>
                  <a:pt x="281" y="9"/>
                </a:lnTo>
                <a:lnTo>
                  <a:pt x="272" y="9"/>
                </a:lnTo>
                <a:lnTo>
                  <a:pt x="269" y="13"/>
                </a:lnTo>
                <a:lnTo>
                  <a:pt x="267" y="25"/>
                </a:lnTo>
                <a:lnTo>
                  <a:pt x="284" y="25"/>
                </a:lnTo>
                <a:lnTo>
                  <a:pt x="301" y="25"/>
                </a:lnTo>
                <a:lnTo>
                  <a:pt x="318" y="25"/>
                </a:lnTo>
                <a:lnTo>
                  <a:pt x="318" y="13"/>
                </a:lnTo>
                <a:lnTo>
                  <a:pt x="318" y="13"/>
                </a:lnTo>
                <a:close/>
                <a:moveTo>
                  <a:pt x="32" y="25"/>
                </a:moveTo>
                <a:lnTo>
                  <a:pt x="32" y="13"/>
                </a:lnTo>
                <a:lnTo>
                  <a:pt x="31" y="13"/>
                </a:lnTo>
                <a:lnTo>
                  <a:pt x="28" y="9"/>
                </a:lnTo>
                <a:lnTo>
                  <a:pt x="19" y="9"/>
                </a:lnTo>
                <a:lnTo>
                  <a:pt x="15" y="13"/>
                </a:lnTo>
                <a:lnTo>
                  <a:pt x="14" y="25"/>
                </a:lnTo>
                <a:lnTo>
                  <a:pt x="31" y="25"/>
                </a:lnTo>
                <a:lnTo>
                  <a:pt x="32" y="25"/>
                </a:lnTo>
                <a:lnTo>
                  <a:pt x="32" y="25"/>
                </a:lnTo>
                <a:close/>
                <a:moveTo>
                  <a:pt x="246" y="13"/>
                </a:moveTo>
                <a:lnTo>
                  <a:pt x="241" y="9"/>
                </a:lnTo>
                <a:lnTo>
                  <a:pt x="232" y="9"/>
                </a:lnTo>
                <a:lnTo>
                  <a:pt x="229" y="13"/>
                </a:lnTo>
                <a:lnTo>
                  <a:pt x="225" y="9"/>
                </a:lnTo>
                <a:lnTo>
                  <a:pt x="215" y="9"/>
                </a:lnTo>
                <a:lnTo>
                  <a:pt x="212" y="13"/>
                </a:lnTo>
                <a:lnTo>
                  <a:pt x="209" y="9"/>
                </a:lnTo>
                <a:lnTo>
                  <a:pt x="199" y="9"/>
                </a:lnTo>
                <a:lnTo>
                  <a:pt x="196" y="13"/>
                </a:lnTo>
                <a:lnTo>
                  <a:pt x="194" y="25"/>
                </a:lnTo>
                <a:lnTo>
                  <a:pt x="212" y="25"/>
                </a:lnTo>
                <a:lnTo>
                  <a:pt x="229" y="25"/>
                </a:lnTo>
                <a:lnTo>
                  <a:pt x="246" y="25"/>
                </a:lnTo>
                <a:lnTo>
                  <a:pt x="263" y="25"/>
                </a:lnTo>
                <a:lnTo>
                  <a:pt x="261" y="13"/>
                </a:lnTo>
                <a:lnTo>
                  <a:pt x="258" y="9"/>
                </a:lnTo>
                <a:lnTo>
                  <a:pt x="249" y="9"/>
                </a:lnTo>
                <a:lnTo>
                  <a:pt x="246" y="13"/>
                </a:lnTo>
                <a:lnTo>
                  <a:pt x="246" y="13"/>
                </a:lnTo>
                <a:close/>
                <a:moveTo>
                  <a:pt x="171" y="13"/>
                </a:moveTo>
                <a:lnTo>
                  <a:pt x="168" y="9"/>
                </a:lnTo>
                <a:lnTo>
                  <a:pt x="157" y="9"/>
                </a:lnTo>
                <a:lnTo>
                  <a:pt x="154" y="13"/>
                </a:lnTo>
                <a:lnTo>
                  <a:pt x="151" y="9"/>
                </a:lnTo>
                <a:lnTo>
                  <a:pt x="141" y="9"/>
                </a:lnTo>
                <a:lnTo>
                  <a:pt x="138" y="13"/>
                </a:lnTo>
                <a:lnTo>
                  <a:pt x="134" y="9"/>
                </a:lnTo>
                <a:lnTo>
                  <a:pt x="124" y="9"/>
                </a:lnTo>
                <a:lnTo>
                  <a:pt x="121" y="13"/>
                </a:lnTo>
                <a:lnTo>
                  <a:pt x="121" y="25"/>
                </a:lnTo>
                <a:lnTo>
                  <a:pt x="138" y="25"/>
                </a:lnTo>
                <a:lnTo>
                  <a:pt x="154" y="25"/>
                </a:lnTo>
                <a:lnTo>
                  <a:pt x="171" y="25"/>
                </a:lnTo>
                <a:lnTo>
                  <a:pt x="188" y="25"/>
                </a:lnTo>
                <a:lnTo>
                  <a:pt x="188" y="13"/>
                </a:lnTo>
                <a:lnTo>
                  <a:pt x="183" y="9"/>
                </a:lnTo>
                <a:lnTo>
                  <a:pt x="174" y="9"/>
                </a:lnTo>
                <a:lnTo>
                  <a:pt x="171" y="13"/>
                </a:lnTo>
                <a:lnTo>
                  <a:pt x="171" y="13"/>
                </a:lnTo>
                <a:close/>
                <a:moveTo>
                  <a:pt x="96" y="13"/>
                </a:moveTo>
                <a:lnTo>
                  <a:pt x="93" y="9"/>
                </a:lnTo>
                <a:lnTo>
                  <a:pt x="84" y="9"/>
                </a:lnTo>
                <a:lnTo>
                  <a:pt x="80" y="13"/>
                </a:lnTo>
                <a:lnTo>
                  <a:pt x="76" y="9"/>
                </a:lnTo>
                <a:lnTo>
                  <a:pt x="67" y="9"/>
                </a:lnTo>
                <a:lnTo>
                  <a:pt x="63" y="13"/>
                </a:lnTo>
                <a:lnTo>
                  <a:pt x="60" y="9"/>
                </a:lnTo>
                <a:lnTo>
                  <a:pt x="51" y="9"/>
                </a:lnTo>
                <a:lnTo>
                  <a:pt x="48" y="13"/>
                </a:lnTo>
                <a:lnTo>
                  <a:pt x="46" y="25"/>
                </a:lnTo>
                <a:lnTo>
                  <a:pt x="63" y="25"/>
                </a:lnTo>
                <a:lnTo>
                  <a:pt x="80" y="25"/>
                </a:lnTo>
                <a:lnTo>
                  <a:pt x="96" y="25"/>
                </a:lnTo>
                <a:lnTo>
                  <a:pt x="115" y="25"/>
                </a:lnTo>
                <a:lnTo>
                  <a:pt x="113" y="13"/>
                </a:lnTo>
                <a:lnTo>
                  <a:pt x="110" y="9"/>
                </a:lnTo>
                <a:lnTo>
                  <a:pt x="99" y="9"/>
                </a:lnTo>
                <a:lnTo>
                  <a:pt x="96" y="13"/>
                </a:lnTo>
                <a:lnTo>
                  <a:pt x="96" y="13"/>
                </a:lnTo>
                <a:close/>
                <a:moveTo>
                  <a:pt x="0" y="106"/>
                </a:moveTo>
                <a:lnTo>
                  <a:pt x="400" y="106"/>
                </a:lnTo>
                <a:lnTo>
                  <a:pt x="389" y="0"/>
                </a:lnTo>
                <a:lnTo>
                  <a:pt x="11" y="0"/>
                </a:lnTo>
                <a:lnTo>
                  <a:pt x="0" y="106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373720" y="1498680"/>
            <a:ext cx="463680" cy="312480"/>
          </a:xfrm>
          <a:custGeom>
            <a:avLst/>
            <a:gdLst/>
            <a:ahLst/>
            <a:rect l="l" t="t" r="r" b="b"/>
            <a:pathLst>
              <a:path w="269" h="197">
                <a:moveTo>
                  <a:pt x="253" y="197"/>
                </a:moveTo>
                <a:lnTo>
                  <a:pt x="269" y="197"/>
                </a:lnTo>
                <a:lnTo>
                  <a:pt x="269" y="193"/>
                </a:lnTo>
                <a:lnTo>
                  <a:pt x="253" y="193"/>
                </a:lnTo>
                <a:lnTo>
                  <a:pt x="253" y="197"/>
                </a:lnTo>
                <a:lnTo>
                  <a:pt x="253" y="197"/>
                </a:lnTo>
                <a:close/>
                <a:moveTo>
                  <a:pt x="20" y="164"/>
                </a:moveTo>
                <a:lnTo>
                  <a:pt x="20" y="20"/>
                </a:lnTo>
                <a:lnTo>
                  <a:pt x="230" y="20"/>
                </a:lnTo>
                <a:lnTo>
                  <a:pt x="230" y="164"/>
                </a:lnTo>
                <a:lnTo>
                  <a:pt x="20" y="164"/>
                </a:lnTo>
                <a:lnTo>
                  <a:pt x="20" y="164"/>
                </a:lnTo>
                <a:close/>
                <a:moveTo>
                  <a:pt x="11" y="173"/>
                </a:moveTo>
                <a:lnTo>
                  <a:pt x="240" y="173"/>
                </a:lnTo>
                <a:lnTo>
                  <a:pt x="240" y="11"/>
                </a:lnTo>
                <a:lnTo>
                  <a:pt x="249" y="11"/>
                </a:lnTo>
                <a:lnTo>
                  <a:pt x="249" y="0"/>
                </a:lnTo>
                <a:lnTo>
                  <a:pt x="0" y="0"/>
                </a:lnTo>
                <a:lnTo>
                  <a:pt x="0" y="10"/>
                </a:lnTo>
                <a:lnTo>
                  <a:pt x="0" y="182"/>
                </a:lnTo>
                <a:lnTo>
                  <a:pt x="11" y="182"/>
                </a:lnTo>
                <a:lnTo>
                  <a:pt x="11" y="173"/>
                </a:lnTo>
                <a:lnTo>
                  <a:pt x="11" y="173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327640" y="1825560"/>
            <a:ext cx="5256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5459400" y="1825560"/>
            <a:ext cx="1440" cy="22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V="1">
            <a:off x="5589720" y="1825560"/>
            <a:ext cx="1440" cy="22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66800" y="3297240"/>
            <a:ext cx="620640" cy="573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957240" y="3454560"/>
            <a:ext cx="28260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986040" y="345924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084400" y="3011400"/>
            <a:ext cx="1162080" cy="714600"/>
          </a:xfrm>
          <a:custGeom>
            <a:avLst/>
            <a:gdLst/>
            <a:ahLst/>
            <a:rect l="l" t="t" r="r" b="b"/>
            <a:pathLst>
              <a:path w="676" h="450">
                <a:moveTo>
                  <a:pt x="0" y="224"/>
                </a:moveTo>
                <a:lnTo>
                  <a:pt x="3" y="196"/>
                </a:lnTo>
                <a:lnTo>
                  <a:pt x="10" y="167"/>
                </a:lnTo>
                <a:lnTo>
                  <a:pt x="26" y="139"/>
                </a:lnTo>
                <a:lnTo>
                  <a:pt x="44" y="112"/>
                </a:lnTo>
                <a:lnTo>
                  <a:pt x="68" y="87"/>
                </a:lnTo>
                <a:lnTo>
                  <a:pt x="99" y="66"/>
                </a:lnTo>
                <a:lnTo>
                  <a:pt x="131" y="46"/>
                </a:lnTo>
                <a:lnTo>
                  <a:pt x="167" y="29"/>
                </a:lnTo>
                <a:lnTo>
                  <a:pt x="207" y="17"/>
                </a:lnTo>
                <a:lnTo>
                  <a:pt x="250" y="8"/>
                </a:lnTo>
                <a:lnTo>
                  <a:pt x="293" y="2"/>
                </a:lnTo>
                <a:lnTo>
                  <a:pt x="337" y="0"/>
                </a:lnTo>
                <a:lnTo>
                  <a:pt x="381" y="2"/>
                </a:lnTo>
                <a:lnTo>
                  <a:pt x="424" y="8"/>
                </a:lnTo>
                <a:lnTo>
                  <a:pt x="467" y="17"/>
                </a:lnTo>
                <a:lnTo>
                  <a:pt x="506" y="29"/>
                </a:lnTo>
                <a:lnTo>
                  <a:pt x="543" y="46"/>
                </a:lnTo>
                <a:lnTo>
                  <a:pt x="576" y="66"/>
                </a:lnTo>
                <a:lnTo>
                  <a:pt x="605" y="87"/>
                </a:lnTo>
                <a:lnTo>
                  <a:pt x="630" y="112"/>
                </a:lnTo>
                <a:lnTo>
                  <a:pt x="650" y="139"/>
                </a:lnTo>
                <a:lnTo>
                  <a:pt x="663" y="167"/>
                </a:lnTo>
                <a:lnTo>
                  <a:pt x="672" y="196"/>
                </a:lnTo>
                <a:lnTo>
                  <a:pt x="676" y="224"/>
                </a:lnTo>
                <a:lnTo>
                  <a:pt x="672" y="253"/>
                </a:lnTo>
                <a:lnTo>
                  <a:pt x="663" y="282"/>
                </a:lnTo>
                <a:lnTo>
                  <a:pt x="650" y="311"/>
                </a:lnTo>
                <a:lnTo>
                  <a:pt x="630" y="337"/>
                </a:lnTo>
                <a:lnTo>
                  <a:pt x="605" y="362"/>
                </a:lnTo>
                <a:lnTo>
                  <a:pt x="576" y="385"/>
                </a:lnTo>
                <a:lnTo>
                  <a:pt x="543" y="403"/>
                </a:lnTo>
                <a:lnTo>
                  <a:pt x="506" y="420"/>
                </a:lnTo>
                <a:lnTo>
                  <a:pt x="467" y="433"/>
                </a:lnTo>
                <a:lnTo>
                  <a:pt x="424" y="443"/>
                </a:lnTo>
                <a:lnTo>
                  <a:pt x="381" y="449"/>
                </a:lnTo>
                <a:lnTo>
                  <a:pt x="337" y="450"/>
                </a:lnTo>
                <a:lnTo>
                  <a:pt x="293" y="449"/>
                </a:lnTo>
                <a:lnTo>
                  <a:pt x="250" y="443"/>
                </a:lnTo>
                <a:lnTo>
                  <a:pt x="207" y="433"/>
                </a:lnTo>
                <a:lnTo>
                  <a:pt x="167" y="420"/>
                </a:lnTo>
                <a:lnTo>
                  <a:pt x="131" y="403"/>
                </a:lnTo>
                <a:lnTo>
                  <a:pt x="99" y="385"/>
                </a:lnTo>
                <a:lnTo>
                  <a:pt x="68" y="362"/>
                </a:lnTo>
                <a:lnTo>
                  <a:pt x="44" y="337"/>
                </a:lnTo>
                <a:lnTo>
                  <a:pt x="26" y="311"/>
                </a:lnTo>
                <a:lnTo>
                  <a:pt x="10" y="282"/>
                </a:lnTo>
                <a:lnTo>
                  <a:pt x="3" y="253"/>
                </a:lnTo>
                <a:lnTo>
                  <a:pt x="0" y="22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516040" y="3071880"/>
            <a:ext cx="360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553480" y="3075120"/>
            <a:ext cx="28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946920" y="3041640"/>
            <a:ext cx="1162080" cy="712800"/>
          </a:xfrm>
          <a:custGeom>
            <a:avLst/>
            <a:gdLst/>
            <a:ahLst/>
            <a:rect l="l" t="t" r="r" b="b"/>
            <a:pathLst>
              <a:path w="676" h="449">
                <a:moveTo>
                  <a:pt x="0" y="224"/>
                </a:moveTo>
                <a:lnTo>
                  <a:pt x="3" y="195"/>
                </a:lnTo>
                <a:lnTo>
                  <a:pt x="12" y="166"/>
                </a:lnTo>
                <a:lnTo>
                  <a:pt x="26" y="138"/>
                </a:lnTo>
                <a:lnTo>
                  <a:pt x="46" y="112"/>
                </a:lnTo>
                <a:lnTo>
                  <a:pt x="70" y="87"/>
                </a:lnTo>
                <a:lnTo>
                  <a:pt x="99" y="65"/>
                </a:lnTo>
                <a:lnTo>
                  <a:pt x="133" y="45"/>
                </a:lnTo>
                <a:lnTo>
                  <a:pt x="169" y="29"/>
                </a:lnTo>
                <a:lnTo>
                  <a:pt x="209" y="16"/>
                </a:lnTo>
                <a:lnTo>
                  <a:pt x="250" y="7"/>
                </a:lnTo>
                <a:lnTo>
                  <a:pt x="294" y="1"/>
                </a:lnTo>
                <a:lnTo>
                  <a:pt x="339" y="0"/>
                </a:lnTo>
                <a:lnTo>
                  <a:pt x="383" y="1"/>
                </a:lnTo>
                <a:lnTo>
                  <a:pt x="426" y="7"/>
                </a:lnTo>
                <a:lnTo>
                  <a:pt x="468" y="16"/>
                </a:lnTo>
                <a:lnTo>
                  <a:pt x="508" y="29"/>
                </a:lnTo>
                <a:lnTo>
                  <a:pt x="545" y="45"/>
                </a:lnTo>
                <a:lnTo>
                  <a:pt x="577" y="65"/>
                </a:lnTo>
                <a:lnTo>
                  <a:pt x="606" y="87"/>
                </a:lnTo>
                <a:lnTo>
                  <a:pt x="632" y="112"/>
                </a:lnTo>
                <a:lnTo>
                  <a:pt x="650" y="138"/>
                </a:lnTo>
                <a:lnTo>
                  <a:pt x="665" y="166"/>
                </a:lnTo>
                <a:lnTo>
                  <a:pt x="673" y="195"/>
                </a:lnTo>
                <a:lnTo>
                  <a:pt x="676" y="224"/>
                </a:lnTo>
                <a:lnTo>
                  <a:pt x="673" y="254"/>
                </a:lnTo>
                <a:lnTo>
                  <a:pt x="665" y="283"/>
                </a:lnTo>
                <a:lnTo>
                  <a:pt x="650" y="311"/>
                </a:lnTo>
                <a:lnTo>
                  <a:pt x="632" y="337"/>
                </a:lnTo>
                <a:lnTo>
                  <a:pt x="606" y="361"/>
                </a:lnTo>
                <a:lnTo>
                  <a:pt x="577" y="384"/>
                </a:lnTo>
                <a:lnTo>
                  <a:pt x="545" y="402"/>
                </a:lnTo>
                <a:lnTo>
                  <a:pt x="508" y="419"/>
                </a:lnTo>
                <a:lnTo>
                  <a:pt x="468" y="433"/>
                </a:lnTo>
                <a:lnTo>
                  <a:pt x="426" y="442"/>
                </a:lnTo>
                <a:lnTo>
                  <a:pt x="383" y="448"/>
                </a:lnTo>
                <a:lnTo>
                  <a:pt x="339" y="449"/>
                </a:lnTo>
                <a:lnTo>
                  <a:pt x="294" y="448"/>
                </a:lnTo>
                <a:lnTo>
                  <a:pt x="250" y="442"/>
                </a:lnTo>
                <a:lnTo>
                  <a:pt x="209" y="433"/>
                </a:lnTo>
                <a:lnTo>
                  <a:pt x="169" y="419"/>
                </a:lnTo>
                <a:lnTo>
                  <a:pt x="133" y="402"/>
                </a:lnTo>
                <a:lnTo>
                  <a:pt x="99" y="384"/>
                </a:lnTo>
                <a:lnTo>
                  <a:pt x="70" y="361"/>
                </a:lnTo>
                <a:lnTo>
                  <a:pt x="46" y="337"/>
                </a:lnTo>
                <a:lnTo>
                  <a:pt x="26" y="311"/>
                </a:lnTo>
                <a:lnTo>
                  <a:pt x="12" y="283"/>
                </a:lnTo>
                <a:lnTo>
                  <a:pt x="3" y="254"/>
                </a:lnTo>
                <a:lnTo>
                  <a:pt x="0" y="224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381800" y="3100320"/>
            <a:ext cx="360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418880" y="3103560"/>
            <a:ext cx="28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2827440" y="4629240"/>
            <a:ext cx="737640" cy="681120"/>
            <a:chOff x="2827440" y="4629240"/>
            <a:chExt cx="737640" cy="681120"/>
          </a:xfrm>
        </p:grpSpPr>
        <p:sp>
          <p:nvSpPr>
            <p:cNvPr id="1115" name=""/>
            <p:cNvSpPr/>
            <p:nvPr/>
          </p:nvSpPr>
          <p:spPr>
            <a:xfrm>
              <a:off x="2827440" y="4629240"/>
              <a:ext cx="737640" cy="681120"/>
            </a:xfrm>
            <a:custGeom>
              <a:avLst/>
              <a:gdLst/>
              <a:ahLst/>
              <a:rect l="l" t="t" r="r" b="b"/>
              <a:pathLst>
                <a:path w="429" h="429">
                  <a:moveTo>
                    <a:pt x="61" y="249"/>
                  </a:moveTo>
                  <a:lnTo>
                    <a:pt x="100" y="249"/>
                  </a:lnTo>
                  <a:lnTo>
                    <a:pt x="100" y="268"/>
                  </a:lnTo>
                  <a:lnTo>
                    <a:pt x="330" y="268"/>
                  </a:lnTo>
                  <a:lnTo>
                    <a:pt x="330" y="249"/>
                  </a:lnTo>
                  <a:lnTo>
                    <a:pt x="368" y="249"/>
                  </a:lnTo>
                  <a:lnTo>
                    <a:pt x="368" y="0"/>
                  </a:lnTo>
                  <a:lnTo>
                    <a:pt x="61" y="0"/>
                  </a:lnTo>
                  <a:lnTo>
                    <a:pt x="61" y="249"/>
                  </a:lnTo>
                  <a:lnTo>
                    <a:pt x="61" y="249"/>
                  </a:lnTo>
                  <a:close/>
                  <a:moveTo>
                    <a:pt x="411" y="307"/>
                  </a:moveTo>
                  <a:lnTo>
                    <a:pt x="19" y="307"/>
                  </a:lnTo>
                  <a:lnTo>
                    <a:pt x="16" y="308"/>
                  </a:lnTo>
                  <a:lnTo>
                    <a:pt x="14" y="311"/>
                  </a:lnTo>
                  <a:lnTo>
                    <a:pt x="0" y="424"/>
                  </a:lnTo>
                  <a:lnTo>
                    <a:pt x="2" y="427"/>
                  </a:lnTo>
                  <a:lnTo>
                    <a:pt x="5" y="429"/>
                  </a:lnTo>
                  <a:lnTo>
                    <a:pt x="425" y="429"/>
                  </a:lnTo>
                  <a:lnTo>
                    <a:pt x="428" y="427"/>
                  </a:lnTo>
                  <a:lnTo>
                    <a:pt x="429" y="424"/>
                  </a:lnTo>
                  <a:lnTo>
                    <a:pt x="415" y="311"/>
                  </a:lnTo>
                  <a:lnTo>
                    <a:pt x="414" y="308"/>
                  </a:lnTo>
                  <a:lnTo>
                    <a:pt x="411" y="307"/>
                  </a:lnTo>
                  <a:lnTo>
                    <a:pt x="411" y="307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999520" y="5024520"/>
              <a:ext cx="395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851200" y="5127480"/>
              <a:ext cx="690120" cy="169920"/>
            </a:xfrm>
            <a:custGeom>
              <a:avLst/>
              <a:gdLst/>
              <a:ahLst/>
              <a:rect l="l" t="t" r="r" b="b"/>
              <a:pathLst>
                <a:path w="401" h="107">
                  <a:moveTo>
                    <a:pt x="317" y="81"/>
                  </a:moveTo>
                  <a:lnTo>
                    <a:pt x="314" y="78"/>
                  </a:lnTo>
                  <a:lnTo>
                    <a:pt x="305" y="78"/>
                  </a:lnTo>
                  <a:lnTo>
                    <a:pt x="301" y="82"/>
                  </a:lnTo>
                  <a:lnTo>
                    <a:pt x="301" y="73"/>
                  </a:lnTo>
                  <a:lnTo>
                    <a:pt x="298" y="69"/>
                  </a:lnTo>
                  <a:lnTo>
                    <a:pt x="287" y="69"/>
                  </a:lnTo>
                  <a:lnTo>
                    <a:pt x="284" y="73"/>
                  </a:lnTo>
                  <a:lnTo>
                    <a:pt x="284" y="82"/>
                  </a:lnTo>
                  <a:lnTo>
                    <a:pt x="281" y="78"/>
                  </a:lnTo>
                  <a:lnTo>
                    <a:pt x="272" y="78"/>
                  </a:lnTo>
                  <a:lnTo>
                    <a:pt x="269" y="81"/>
                  </a:lnTo>
                  <a:lnTo>
                    <a:pt x="269" y="99"/>
                  </a:lnTo>
                  <a:lnTo>
                    <a:pt x="285" y="99"/>
                  </a:lnTo>
                  <a:lnTo>
                    <a:pt x="302" y="99"/>
                  </a:lnTo>
                  <a:lnTo>
                    <a:pt x="319" y="99"/>
                  </a:lnTo>
                  <a:lnTo>
                    <a:pt x="317" y="81"/>
                  </a:lnTo>
                  <a:lnTo>
                    <a:pt x="317" y="81"/>
                  </a:lnTo>
                  <a:close/>
                  <a:moveTo>
                    <a:pt x="372" y="35"/>
                  </a:moveTo>
                  <a:lnTo>
                    <a:pt x="369" y="31"/>
                  </a:lnTo>
                  <a:lnTo>
                    <a:pt x="359" y="31"/>
                  </a:lnTo>
                  <a:lnTo>
                    <a:pt x="356" y="35"/>
                  </a:lnTo>
                  <a:lnTo>
                    <a:pt x="353" y="31"/>
                  </a:lnTo>
                  <a:lnTo>
                    <a:pt x="342" y="31"/>
                  </a:lnTo>
                  <a:lnTo>
                    <a:pt x="339" y="35"/>
                  </a:lnTo>
                  <a:lnTo>
                    <a:pt x="336" y="31"/>
                  </a:lnTo>
                  <a:lnTo>
                    <a:pt x="325" y="31"/>
                  </a:lnTo>
                  <a:lnTo>
                    <a:pt x="322" y="35"/>
                  </a:lnTo>
                  <a:lnTo>
                    <a:pt x="322" y="99"/>
                  </a:lnTo>
                  <a:lnTo>
                    <a:pt x="394" y="99"/>
                  </a:lnTo>
                  <a:lnTo>
                    <a:pt x="389" y="35"/>
                  </a:lnTo>
                  <a:lnTo>
                    <a:pt x="385" y="31"/>
                  </a:lnTo>
                  <a:lnTo>
                    <a:pt x="375" y="31"/>
                  </a:lnTo>
                  <a:lnTo>
                    <a:pt x="372" y="35"/>
                  </a:lnTo>
                  <a:lnTo>
                    <a:pt x="372" y="35"/>
                  </a:lnTo>
                  <a:close/>
                  <a:moveTo>
                    <a:pt x="317" y="35"/>
                  </a:moveTo>
                  <a:lnTo>
                    <a:pt x="314" y="31"/>
                  </a:lnTo>
                  <a:lnTo>
                    <a:pt x="305" y="31"/>
                  </a:lnTo>
                  <a:lnTo>
                    <a:pt x="301" y="35"/>
                  </a:lnTo>
                  <a:lnTo>
                    <a:pt x="298" y="31"/>
                  </a:lnTo>
                  <a:lnTo>
                    <a:pt x="288" y="31"/>
                  </a:lnTo>
                  <a:lnTo>
                    <a:pt x="285" y="35"/>
                  </a:lnTo>
                  <a:lnTo>
                    <a:pt x="282" y="31"/>
                  </a:lnTo>
                  <a:lnTo>
                    <a:pt x="272" y="31"/>
                  </a:lnTo>
                  <a:lnTo>
                    <a:pt x="269" y="35"/>
                  </a:lnTo>
                  <a:lnTo>
                    <a:pt x="269" y="60"/>
                  </a:lnTo>
                  <a:lnTo>
                    <a:pt x="285" y="60"/>
                  </a:lnTo>
                  <a:lnTo>
                    <a:pt x="301" y="60"/>
                  </a:lnTo>
                  <a:lnTo>
                    <a:pt x="319" y="60"/>
                  </a:lnTo>
                  <a:lnTo>
                    <a:pt x="317" y="35"/>
                  </a:lnTo>
                  <a:lnTo>
                    <a:pt x="317" y="35"/>
                  </a:lnTo>
                  <a:close/>
                  <a:moveTo>
                    <a:pt x="14" y="35"/>
                  </a:moveTo>
                  <a:lnTo>
                    <a:pt x="8" y="99"/>
                  </a:lnTo>
                  <a:lnTo>
                    <a:pt x="43" y="99"/>
                  </a:lnTo>
                  <a:lnTo>
                    <a:pt x="46" y="81"/>
                  </a:lnTo>
                  <a:lnTo>
                    <a:pt x="63" y="81"/>
                  </a:lnTo>
                  <a:lnTo>
                    <a:pt x="66" y="99"/>
                  </a:lnTo>
                  <a:lnTo>
                    <a:pt x="208" y="99"/>
                  </a:lnTo>
                  <a:lnTo>
                    <a:pt x="215" y="84"/>
                  </a:lnTo>
                  <a:lnTo>
                    <a:pt x="229" y="84"/>
                  </a:lnTo>
                  <a:lnTo>
                    <a:pt x="237" y="99"/>
                  </a:lnTo>
                  <a:lnTo>
                    <a:pt x="266" y="99"/>
                  </a:lnTo>
                  <a:lnTo>
                    <a:pt x="263" y="35"/>
                  </a:lnTo>
                  <a:lnTo>
                    <a:pt x="259" y="31"/>
                  </a:lnTo>
                  <a:lnTo>
                    <a:pt x="250" y="31"/>
                  </a:lnTo>
                  <a:lnTo>
                    <a:pt x="246" y="35"/>
                  </a:lnTo>
                  <a:lnTo>
                    <a:pt x="243" y="31"/>
                  </a:lnTo>
                  <a:lnTo>
                    <a:pt x="234" y="31"/>
                  </a:lnTo>
                  <a:lnTo>
                    <a:pt x="231" y="35"/>
                  </a:lnTo>
                  <a:lnTo>
                    <a:pt x="226" y="31"/>
                  </a:lnTo>
                  <a:lnTo>
                    <a:pt x="217" y="31"/>
                  </a:lnTo>
                  <a:lnTo>
                    <a:pt x="214" y="35"/>
                  </a:lnTo>
                  <a:lnTo>
                    <a:pt x="211" y="31"/>
                  </a:lnTo>
                  <a:lnTo>
                    <a:pt x="200" y="31"/>
                  </a:lnTo>
                  <a:lnTo>
                    <a:pt x="197" y="35"/>
                  </a:lnTo>
                  <a:lnTo>
                    <a:pt x="194" y="31"/>
                  </a:lnTo>
                  <a:lnTo>
                    <a:pt x="183" y="31"/>
                  </a:lnTo>
                  <a:lnTo>
                    <a:pt x="180" y="35"/>
                  </a:lnTo>
                  <a:lnTo>
                    <a:pt x="177" y="31"/>
                  </a:lnTo>
                  <a:lnTo>
                    <a:pt x="166" y="31"/>
                  </a:lnTo>
                  <a:lnTo>
                    <a:pt x="163" y="35"/>
                  </a:lnTo>
                  <a:lnTo>
                    <a:pt x="160" y="31"/>
                  </a:lnTo>
                  <a:lnTo>
                    <a:pt x="150" y="31"/>
                  </a:lnTo>
                  <a:lnTo>
                    <a:pt x="147" y="35"/>
                  </a:lnTo>
                  <a:lnTo>
                    <a:pt x="144" y="31"/>
                  </a:lnTo>
                  <a:lnTo>
                    <a:pt x="134" y="31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118" y="31"/>
                  </a:lnTo>
                  <a:lnTo>
                    <a:pt x="115" y="35"/>
                  </a:lnTo>
                  <a:lnTo>
                    <a:pt x="110" y="31"/>
                  </a:lnTo>
                  <a:lnTo>
                    <a:pt x="101" y="31"/>
                  </a:lnTo>
                  <a:lnTo>
                    <a:pt x="98" y="35"/>
                  </a:lnTo>
                  <a:lnTo>
                    <a:pt x="93" y="31"/>
                  </a:lnTo>
                  <a:lnTo>
                    <a:pt x="84" y="31"/>
                  </a:lnTo>
                  <a:lnTo>
                    <a:pt x="81" y="35"/>
                  </a:lnTo>
                  <a:lnTo>
                    <a:pt x="78" y="31"/>
                  </a:lnTo>
                  <a:lnTo>
                    <a:pt x="67" y="31"/>
                  </a:lnTo>
                  <a:lnTo>
                    <a:pt x="64" y="35"/>
                  </a:lnTo>
                  <a:lnTo>
                    <a:pt x="61" y="31"/>
                  </a:lnTo>
                  <a:lnTo>
                    <a:pt x="50" y="31"/>
                  </a:lnTo>
                  <a:lnTo>
                    <a:pt x="47" y="35"/>
                  </a:lnTo>
                  <a:lnTo>
                    <a:pt x="44" y="31"/>
                  </a:lnTo>
                  <a:lnTo>
                    <a:pt x="34" y="31"/>
                  </a:lnTo>
                  <a:lnTo>
                    <a:pt x="31" y="35"/>
                  </a:lnTo>
                  <a:lnTo>
                    <a:pt x="28" y="31"/>
                  </a:lnTo>
                  <a:lnTo>
                    <a:pt x="17" y="31"/>
                  </a:lnTo>
                  <a:lnTo>
                    <a:pt x="14" y="35"/>
                  </a:lnTo>
                  <a:lnTo>
                    <a:pt x="14" y="35"/>
                  </a:lnTo>
                  <a:close/>
                  <a:moveTo>
                    <a:pt x="319" y="12"/>
                  </a:moveTo>
                  <a:lnTo>
                    <a:pt x="316" y="8"/>
                  </a:lnTo>
                  <a:lnTo>
                    <a:pt x="305" y="8"/>
                  </a:lnTo>
                  <a:lnTo>
                    <a:pt x="302" y="12"/>
                  </a:lnTo>
                  <a:lnTo>
                    <a:pt x="299" y="8"/>
                  </a:lnTo>
                  <a:lnTo>
                    <a:pt x="288" y="8"/>
                  </a:lnTo>
                  <a:lnTo>
                    <a:pt x="285" y="12"/>
                  </a:lnTo>
                  <a:lnTo>
                    <a:pt x="282" y="8"/>
                  </a:lnTo>
                  <a:lnTo>
                    <a:pt x="272" y="8"/>
                  </a:lnTo>
                  <a:lnTo>
                    <a:pt x="269" y="12"/>
                  </a:lnTo>
                  <a:lnTo>
                    <a:pt x="269" y="26"/>
                  </a:lnTo>
                  <a:lnTo>
                    <a:pt x="285" y="26"/>
                  </a:lnTo>
                  <a:lnTo>
                    <a:pt x="302" y="26"/>
                  </a:lnTo>
                  <a:lnTo>
                    <a:pt x="319" y="26"/>
                  </a:lnTo>
                  <a:lnTo>
                    <a:pt x="319" y="12"/>
                  </a:lnTo>
                  <a:lnTo>
                    <a:pt x="319" y="12"/>
                  </a:lnTo>
                  <a:close/>
                  <a:moveTo>
                    <a:pt x="34" y="26"/>
                  </a:moveTo>
                  <a:lnTo>
                    <a:pt x="32" y="12"/>
                  </a:lnTo>
                  <a:lnTo>
                    <a:pt x="29" y="8"/>
                  </a:lnTo>
                  <a:lnTo>
                    <a:pt x="18" y="8"/>
                  </a:lnTo>
                  <a:lnTo>
                    <a:pt x="15" y="12"/>
                  </a:lnTo>
                  <a:lnTo>
                    <a:pt x="15" y="26"/>
                  </a:lnTo>
                  <a:lnTo>
                    <a:pt x="32" y="26"/>
                  </a:lnTo>
                  <a:lnTo>
                    <a:pt x="34" y="26"/>
                  </a:lnTo>
                  <a:lnTo>
                    <a:pt x="34" y="26"/>
                  </a:lnTo>
                  <a:close/>
                  <a:moveTo>
                    <a:pt x="246" y="12"/>
                  </a:moveTo>
                  <a:lnTo>
                    <a:pt x="243" y="8"/>
                  </a:lnTo>
                  <a:lnTo>
                    <a:pt x="234" y="8"/>
                  </a:lnTo>
                  <a:lnTo>
                    <a:pt x="229" y="12"/>
                  </a:lnTo>
                  <a:lnTo>
                    <a:pt x="226" y="8"/>
                  </a:lnTo>
                  <a:lnTo>
                    <a:pt x="217" y="8"/>
                  </a:lnTo>
                  <a:lnTo>
                    <a:pt x="212" y="12"/>
                  </a:lnTo>
                  <a:lnTo>
                    <a:pt x="209" y="8"/>
                  </a:lnTo>
                  <a:lnTo>
                    <a:pt x="200" y="8"/>
                  </a:lnTo>
                  <a:lnTo>
                    <a:pt x="197" y="12"/>
                  </a:lnTo>
                  <a:lnTo>
                    <a:pt x="195" y="26"/>
                  </a:lnTo>
                  <a:lnTo>
                    <a:pt x="212" y="26"/>
                  </a:lnTo>
                  <a:lnTo>
                    <a:pt x="229" y="26"/>
                  </a:lnTo>
                  <a:lnTo>
                    <a:pt x="246" y="26"/>
                  </a:lnTo>
                  <a:lnTo>
                    <a:pt x="263" y="26"/>
                  </a:lnTo>
                  <a:lnTo>
                    <a:pt x="263" y="12"/>
                  </a:lnTo>
                  <a:lnTo>
                    <a:pt x="259" y="8"/>
                  </a:lnTo>
                  <a:lnTo>
                    <a:pt x="249" y="8"/>
                  </a:lnTo>
                  <a:lnTo>
                    <a:pt x="246" y="12"/>
                  </a:lnTo>
                  <a:lnTo>
                    <a:pt x="246" y="12"/>
                  </a:lnTo>
                  <a:close/>
                  <a:moveTo>
                    <a:pt x="171" y="12"/>
                  </a:moveTo>
                  <a:lnTo>
                    <a:pt x="168" y="8"/>
                  </a:lnTo>
                  <a:lnTo>
                    <a:pt x="159" y="8"/>
                  </a:lnTo>
                  <a:lnTo>
                    <a:pt x="156" y="12"/>
                  </a:lnTo>
                  <a:lnTo>
                    <a:pt x="151" y="8"/>
                  </a:lnTo>
                  <a:lnTo>
                    <a:pt x="142" y="8"/>
                  </a:lnTo>
                  <a:lnTo>
                    <a:pt x="139" y="12"/>
                  </a:lnTo>
                  <a:lnTo>
                    <a:pt x="136" y="8"/>
                  </a:lnTo>
                  <a:lnTo>
                    <a:pt x="125" y="8"/>
                  </a:lnTo>
                  <a:lnTo>
                    <a:pt x="122" y="12"/>
                  </a:lnTo>
                  <a:lnTo>
                    <a:pt x="121" y="26"/>
                  </a:lnTo>
                  <a:lnTo>
                    <a:pt x="139" y="26"/>
                  </a:lnTo>
                  <a:lnTo>
                    <a:pt x="156" y="26"/>
                  </a:lnTo>
                  <a:lnTo>
                    <a:pt x="171" y="26"/>
                  </a:lnTo>
                  <a:lnTo>
                    <a:pt x="189" y="26"/>
                  </a:lnTo>
                  <a:lnTo>
                    <a:pt x="188" y="12"/>
                  </a:lnTo>
                  <a:lnTo>
                    <a:pt x="185" y="8"/>
                  </a:lnTo>
                  <a:lnTo>
                    <a:pt x="176" y="8"/>
                  </a:lnTo>
                  <a:lnTo>
                    <a:pt x="171" y="12"/>
                  </a:lnTo>
                  <a:lnTo>
                    <a:pt x="171" y="12"/>
                  </a:lnTo>
                  <a:close/>
                  <a:moveTo>
                    <a:pt x="98" y="12"/>
                  </a:moveTo>
                  <a:lnTo>
                    <a:pt x="95" y="8"/>
                  </a:lnTo>
                  <a:lnTo>
                    <a:pt x="84" y="8"/>
                  </a:lnTo>
                  <a:lnTo>
                    <a:pt x="81" y="12"/>
                  </a:lnTo>
                  <a:lnTo>
                    <a:pt x="78" y="8"/>
                  </a:lnTo>
                  <a:lnTo>
                    <a:pt x="67" y="8"/>
                  </a:lnTo>
                  <a:lnTo>
                    <a:pt x="64" y="12"/>
                  </a:lnTo>
                  <a:lnTo>
                    <a:pt x="61" y="8"/>
                  </a:lnTo>
                  <a:lnTo>
                    <a:pt x="50" y="8"/>
                  </a:lnTo>
                  <a:lnTo>
                    <a:pt x="47" y="12"/>
                  </a:lnTo>
                  <a:lnTo>
                    <a:pt x="47" y="26"/>
                  </a:lnTo>
                  <a:lnTo>
                    <a:pt x="64" y="26"/>
                  </a:lnTo>
                  <a:lnTo>
                    <a:pt x="81" y="26"/>
                  </a:lnTo>
                  <a:lnTo>
                    <a:pt x="98" y="26"/>
                  </a:lnTo>
                  <a:lnTo>
                    <a:pt x="115" y="26"/>
                  </a:lnTo>
                  <a:lnTo>
                    <a:pt x="115" y="12"/>
                  </a:lnTo>
                  <a:lnTo>
                    <a:pt x="111" y="8"/>
                  </a:lnTo>
                  <a:lnTo>
                    <a:pt x="101" y="8"/>
                  </a:lnTo>
                  <a:lnTo>
                    <a:pt x="98" y="12"/>
                  </a:lnTo>
                  <a:lnTo>
                    <a:pt x="98" y="12"/>
                  </a:lnTo>
                  <a:close/>
                  <a:moveTo>
                    <a:pt x="0" y="107"/>
                  </a:moveTo>
                  <a:lnTo>
                    <a:pt x="401" y="107"/>
                  </a:lnTo>
                  <a:lnTo>
                    <a:pt x="391" y="0"/>
                  </a:lnTo>
                  <a:lnTo>
                    <a:pt x="11" y="0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981880" y="4675320"/>
              <a:ext cx="462960" cy="309600"/>
            </a:xfrm>
            <a:custGeom>
              <a:avLst/>
              <a:gdLst/>
              <a:ahLst/>
              <a:rect l="l" t="t" r="r" b="b"/>
              <a:pathLst>
                <a:path w="269" h="195">
                  <a:moveTo>
                    <a:pt x="254" y="195"/>
                  </a:moveTo>
                  <a:lnTo>
                    <a:pt x="269" y="195"/>
                  </a:lnTo>
                  <a:lnTo>
                    <a:pt x="269" y="191"/>
                  </a:lnTo>
                  <a:lnTo>
                    <a:pt x="254" y="191"/>
                  </a:lnTo>
                  <a:lnTo>
                    <a:pt x="254" y="195"/>
                  </a:lnTo>
                  <a:lnTo>
                    <a:pt x="254" y="195"/>
                  </a:lnTo>
                  <a:close/>
                  <a:moveTo>
                    <a:pt x="20" y="163"/>
                  </a:moveTo>
                  <a:lnTo>
                    <a:pt x="20" y="20"/>
                  </a:lnTo>
                  <a:lnTo>
                    <a:pt x="229" y="20"/>
                  </a:lnTo>
                  <a:lnTo>
                    <a:pt x="229" y="163"/>
                  </a:lnTo>
                  <a:lnTo>
                    <a:pt x="20" y="163"/>
                  </a:lnTo>
                  <a:lnTo>
                    <a:pt x="20" y="163"/>
                  </a:lnTo>
                  <a:close/>
                  <a:moveTo>
                    <a:pt x="10" y="172"/>
                  </a:moveTo>
                  <a:lnTo>
                    <a:pt x="240" y="172"/>
                  </a:lnTo>
                  <a:lnTo>
                    <a:pt x="240" y="9"/>
                  </a:lnTo>
                  <a:lnTo>
                    <a:pt x="249" y="9"/>
                  </a:lnTo>
                  <a:lnTo>
                    <a:pt x="24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81"/>
                  </a:lnTo>
                  <a:lnTo>
                    <a:pt x="10" y="181"/>
                  </a:lnTo>
                  <a:lnTo>
                    <a:pt x="10" y="172"/>
                  </a:lnTo>
                  <a:lnTo>
                    <a:pt x="10" y="1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932200" y="5002200"/>
              <a:ext cx="5277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3064680" y="500220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3198960" y="5002200"/>
              <a:ext cx="14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3168720" y="3189240"/>
            <a:ext cx="465120" cy="43200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561000" y="3290760"/>
            <a:ext cx="466920" cy="430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481800" y="3219480"/>
            <a:ext cx="466560" cy="43020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233960" y="1504800"/>
            <a:ext cx="906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269600" y="150804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T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03240" y="1508040"/>
            <a:ext cx="19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750560" y="1508040"/>
            <a:ext cx="39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24840" y="166068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(AMH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8798040" y="2525760"/>
            <a:ext cx="3063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8835840" y="2529000"/>
            <a:ext cx="28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8651880" y="2646360"/>
            <a:ext cx="67464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8674920" y="2649600"/>
            <a:ext cx="62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157560" y="3867120"/>
            <a:ext cx="73008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211560" y="3870360"/>
            <a:ext cx="67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 / 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240000" y="4019400"/>
            <a:ext cx="46188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255480" y="40226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541920" y="3867120"/>
            <a:ext cx="73044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595920" y="3870360"/>
            <a:ext cx="67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 / 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624720" y="4019400"/>
            <a:ext cx="46188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640200" y="402264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767800" y="2898720"/>
            <a:ext cx="620640" cy="573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8958240" y="2935440"/>
            <a:ext cx="241200" cy="1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8965800" y="2940120"/>
            <a:ext cx="22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8612280" y="3103560"/>
            <a:ext cx="620640" cy="573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8758080" y="3143160"/>
            <a:ext cx="3700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8790120" y="3147840"/>
            <a:ext cx="30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OP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8458200" y="3327480"/>
            <a:ext cx="620640" cy="571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8648640" y="3484440"/>
            <a:ext cx="28260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8677440" y="34894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166840" y="5619600"/>
            <a:ext cx="5613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238480" y="5776920"/>
            <a:ext cx="557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28.  Traffic flows supported by the CIDIN/AMHS Gatewa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928800" y="2419200"/>
            <a:ext cx="87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249920" y="2468520"/>
            <a:ext cx="28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050840" y="2620800"/>
            <a:ext cx="62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836720" y="3359160"/>
            <a:ext cx="6438600" cy="101520"/>
            <a:chOff x="1836720" y="3359160"/>
            <a:chExt cx="6438600" cy="101520"/>
          </a:xfrm>
        </p:grpSpPr>
        <p:sp>
          <p:nvSpPr>
            <p:cNvPr id="1157" name=""/>
            <p:cNvSpPr/>
            <p:nvPr/>
          </p:nvSpPr>
          <p:spPr>
            <a:xfrm>
              <a:off x="1906920" y="3409920"/>
              <a:ext cx="6297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836720" y="3359160"/>
              <a:ext cx="10620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62" y="0"/>
                  </a:moveTo>
                  <a:lnTo>
                    <a:pt x="0" y="32"/>
                  </a:lnTo>
                  <a:lnTo>
                    <a:pt x="62" y="63"/>
                  </a:lnTo>
                  <a:lnTo>
                    <a:pt x="43" y="3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168760" y="3360600"/>
              <a:ext cx="10656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0" y="63"/>
                  </a:moveTo>
                  <a:lnTo>
                    <a:pt x="62" y="31"/>
                  </a:lnTo>
                  <a:lnTo>
                    <a:pt x="0" y="0"/>
                  </a:lnTo>
                  <a:lnTo>
                    <a:pt x="19" y="31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1836720" y="3206880"/>
            <a:ext cx="1485720" cy="99720"/>
            <a:chOff x="1836720" y="3206880"/>
            <a:chExt cx="1485720" cy="99720"/>
          </a:xfrm>
        </p:grpSpPr>
        <p:sp>
          <p:nvSpPr>
            <p:cNvPr id="1161" name=""/>
            <p:cNvSpPr/>
            <p:nvPr/>
          </p:nvSpPr>
          <p:spPr>
            <a:xfrm>
              <a:off x="1906920" y="3257640"/>
              <a:ext cx="1415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836720" y="3206880"/>
              <a:ext cx="106200" cy="9972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62" y="0"/>
                  </a:moveTo>
                  <a:lnTo>
                    <a:pt x="0" y="32"/>
                  </a:lnTo>
                  <a:lnTo>
                    <a:pt x="62" y="63"/>
                  </a:lnTo>
                  <a:lnTo>
                    <a:pt x="43" y="3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3322800" y="2181240"/>
            <a:ext cx="2202840" cy="1076400"/>
            <a:chOff x="3322800" y="2181240"/>
            <a:chExt cx="2202840" cy="1076400"/>
          </a:xfrm>
        </p:grpSpPr>
        <p:sp>
          <p:nvSpPr>
            <p:cNvPr id="1164" name=""/>
            <p:cNvSpPr/>
            <p:nvPr/>
          </p:nvSpPr>
          <p:spPr>
            <a:xfrm>
              <a:off x="3322800" y="2276640"/>
              <a:ext cx="2148120" cy="981000"/>
            </a:xfrm>
            <a:custGeom>
              <a:avLst/>
              <a:gdLst/>
              <a:ahLst/>
              <a:rect l="l" t="t" r="r" b="b"/>
              <a:pathLst>
                <a:path w="1249" h="618">
                  <a:moveTo>
                    <a:pt x="0" y="618"/>
                  </a:moveTo>
                  <a:lnTo>
                    <a:pt x="61" y="617"/>
                  </a:lnTo>
                  <a:lnTo>
                    <a:pt x="121" y="615"/>
                  </a:lnTo>
                  <a:lnTo>
                    <a:pt x="181" y="611"/>
                  </a:lnTo>
                  <a:lnTo>
                    <a:pt x="239" y="606"/>
                  </a:lnTo>
                  <a:lnTo>
                    <a:pt x="297" y="599"/>
                  </a:lnTo>
                  <a:lnTo>
                    <a:pt x="354" y="591"/>
                  </a:lnTo>
                  <a:lnTo>
                    <a:pt x="409" y="581"/>
                  </a:lnTo>
                  <a:lnTo>
                    <a:pt x="464" y="570"/>
                  </a:lnTo>
                  <a:lnTo>
                    <a:pt x="517" y="558"/>
                  </a:lnTo>
                  <a:lnTo>
                    <a:pt x="568" y="544"/>
                  </a:lnTo>
                  <a:lnTo>
                    <a:pt x="619" y="530"/>
                  </a:lnTo>
                  <a:lnTo>
                    <a:pt x="668" y="514"/>
                  </a:lnTo>
                  <a:lnTo>
                    <a:pt x="716" y="497"/>
                  </a:lnTo>
                  <a:lnTo>
                    <a:pt x="762" y="478"/>
                  </a:lnTo>
                  <a:lnTo>
                    <a:pt x="806" y="459"/>
                  </a:lnTo>
                  <a:lnTo>
                    <a:pt x="849" y="439"/>
                  </a:lnTo>
                  <a:lnTo>
                    <a:pt x="890" y="417"/>
                  </a:lnTo>
                  <a:lnTo>
                    <a:pt x="929" y="395"/>
                  </a:lnTo>
                  <a:lnTo>
                    <a:pt x="966" y="372"/>
                  </a:lnTo>
                  <a:lnTo>
                    <a:pt x="1001" y="348"/>
                  </a:lnTo>
                  <a:lnTo>
                    <a:pt x="1035" y="323"/>
                  </a:lnTo>
                  <a:lnTo>
                    <a:pt x="1066" y="297"/>
                  </a:lnTo>
                  <a:lnTo>
                    <a:pt x="1095" y="270"/>
                  </a:lnTo>
                  <a:lnTo>
                    <a:pt x="1122" y="243"/>
                  </a:lnTo>
                  <a:lnTo>
                    <a:pt x="1147" y="214"/>
                  </a:lnTo>
                  <a:lnTo>
                    <a:pt x="1169" y="186"/>
                  </a:lnTo>
                  <a:lnTo>
                    <a:pt x="1189" y="156"/>
                  </a:lnTo>
                  <a:lnTo>
                    <a:pt x="1206" y="126"/>
                  </a:lnTo>
                  <a:lnTo>
                    <a:pt x="1221" y="95"/>
                  </a:lnTo>
                  <a:lnTo>
                    <a:pt x="1233" y="64"/>
                  </a:lnTo>
                  <a:lnTo>
                    <a:pt x="1242" y="32"/>
                  </a:lnTo>
                  <a:lnTo>
                    <a:pt x="124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417640" y="2181240"/>
              <a:ext cx="10800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64"/>
                  </a:moveTo>
                  <a:lnTo>
                    <a:pt x="36" y="0"/>
                  </a:lnTo>
                  <a:lnTo>
                    <a:pt x="0" y="59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4395960" y="3867120"/>
            <a:ext cx="466560" cy="43200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7" name=""/>
          <p:cNvGrpSpPr/>
          <p:nvPr/>
        </p:nvGrpSpPr>
        <p:grpSpPr>
          <a:xfrm>
            <a:off x="1836720" y="3511440"/>
            <a:ext cx="2558880" cy="100080"/>
            <a:chOff x="1836720" y="3511440"/>
            <a:chExt cx="2558880" cy="100080"/>
          </a:xfrm>
        </p:grpSpPr>
        <p:sp>
          <p:nvSpPr>
            <p:cNvPr id="1168" name=""/>
            <p:cNvSpPr/>
            <p:nvPr/>
          </p:nvSpPr>
          <p:spPr>
            <a:xfrm>
              <a:off x="1906920" y="3562200"/>
              <a:ext cx="2488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836720" y="3511440"/>
              <a:ext cx="106200" cy="1000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62" y="0"/>
                  </a:moveTo>
                  <a:lnTo>
                    <a:pt x="0" y="32"/>
                  </a:lnTo>
                  <a:lnTo>
                    <a:pt x="62" y="63"/>
                  </a:lnTo>
                  <a:lnTo>
                    <a:pt x="43" y="32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3560760" y="4019400"/>
            <a:ext cx="1082160" cy="804960"/>
            <a:chOff x="3560760" y="4019400"/>
            <a:chExt cx="1082160" cy="804960"/>
          </a:xfrm>
        </p:grpSpPr>
        <p:sp>
          <p:nvSpPr>
            <p:cNvPr id="1171" name=""/>
            <p:cNvSpPr/>
            <p:nvPr/>
          </p:nvSpPr>
          <p:spPr>
            <a:xfrm flipH="1">
              <a:off x="3614040" y="4019400"/>
              <a:ext cx="102888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560760" y="4722840"/>
              <a:ext cx="116640" cy="101520"/>
            </a:xfrm>
            <a:custGeom>
              <a:avLst/>
              <a:gdLst/>
              <a:ahLst/>
              <a:rect l="l" t="t" r="r" b="b"/>
              <a:pathLst>
                <a:path w="68" h="64">
                  <a:moveTo>
                    <a:pt x="28" y="0"/>
                  </a:moveTo>
                  <a:lnTo>
                    <a:pt x="0" y="64"/>
                  </a:lnTo>
                  <a:lnTo>
                    <a:pt x="68" y="49"/>
                  </a:lnTo>
                  <a:lnTo>
                    <a:pt x="33" y="3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5551560" y="4552920"/>
            <a:ext cx="737640" cy="681120"/>
            <a:chOff x="5551560" y="4552920"/>
            <a:chExt cx="737640" cy="681120"/>
          </a:xfrm>
        </p:grpSpPr>
        <p:sp>
          <p:nvSpPr>
            <p:cNvPr id="1174" name=""/>
            <p:cNvSpPr/>
            <p:nvPr/>
          </p:nvSpPr>
          <p:spPr>
            <a:xfrm>
              <a:off x="5551560" y="4552920"/>
              <a:ext cx="737640" cy="681120"/>
            </a:xfrm>
            <a:custGeom>
              <a:avLst/>
              <a:gdLst/>
              <a:ahLst/>
              <a:rect l="l" t="t" r="r" b="b"/>
              <a:pathLst>
                <a:path w="429" h="429">
                  <a:moveTo>
                    <a:pt x="61" y="249"/>
                  </a:moveTo>
                  <a:lnTo>
                    <a:pt x="100" y="249"/>
                  </a:lnTo>
                  <a:lnTo>
                    <a:pt x="100" y="268"/>
                  </a:lnTo>
                  <a:lnTo>
                    <a:pt x="330" y="268"/>
                  </a:lnTo>
                  <a:lnTo>
                    <a:pt x="330" y="249"/>
                  </a:lnTo>
                  <a:lnTo>
                    <a:pt x="368" y="249"/>
                  </a:lnTo>
                  <a:lnTo>
                    <a:pt x="368" y="0"/>
                  </a:lnTo>
                  <a:lnTo>
                    <a:pt x="61" y="0"/>
                  </a:lnTo>
                  <a:lnTo>
                    <a:pt x="61" y="249"/>
                  </a:lnTo>
                  <a:lnTo>
                    <a:pt x="61" y="249"/>
                  </a:lnTo>
                  <a:close/>
                  <a:moveTo>
                    <a:pt x="411" y="307"/>
                  </a:moveTo>
                  <a:lnTo>
                    <a:pt x="19" y="307"/>
                  </a:lnTo>
                  <a:lnTo>
                    <a:pt x="16" y="308"/>
                  </a:lnTo>
                  <a:lnTo>
                    <a:pt x="14" y="311"/>
                  </a:lnTo>
                  <a:lnTo>
                    <a:pt x="0" y="424"/>
                  </a:lnTo>
                  <a:lnTo>
                    <a:pt x="2" y="427"/>
                  </a:lnTo>
                  <a:lnTo>
                    <a:pt x="5" y="429"/>
                  </a:lnTo>
                  <a:lnTo>
                    <a:pt x="425" y="429"/>
                  </a:lnTo>
                  <a:lnTo>
                    <a:pt x="428" y="427"/>
                  </a:lnTo>
                  <a:lnTo>
                    <a:pt x="429" y="424"/>
                  </a:lnTo>
                  <a:lnTo>
                    <a:pt x="415" y="311"/>
                  </a:lnTo>
                  <a:lnTo>
                    <a:pt x="414" y="308"/>
                  </a:lnTo>
                  <a:lnTo>
                    <a:pt x="411" y="307"/>
                  </a:lnTo>
                  <a:lnTo>
                    <a:pt x="411" y="307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723640" y="4948200"/>
              <a:ext cx="395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575320" y="5051520"/>
              <a:ext cx="690120" cy="169920"/>
            </a:xfrm>
            <a:custGeom>
              <a:avLst/>
              <a:gdLst/>
              <a:ahLst/>
              <a:rect l="l" t="t" r="r" b="b"/>
              <a:pathLst>
                <a:path w="401" h="107">
                  <a:moveTo>
                    <a:pt x="317" y="81"/>
                  </a:moveTo>
                  <a:lnTo>
                    <a:pt x="314" y="78"/>
                  </a:lnTo>
                  <a:lnTo>
                    <a:pt x="305" y="78"/>
                  </a:lnTo>
                  <a:lnTo>
                    <a:pt x="301" y="82"/>
                  </a:lnTo>
                  <a:lnTo>
                    <a:pt x="301" y="73"/>
                  </a:lnTo>
                  <a:lnTo>
                    <a:pt x="298" y="69"/>
                  </a:lnTo>
                  <a:lnTo>
                    <a:pt x="287" y="69"/>
                  </a:lnTo>
                  <a:lnTo>
                    <a:pt x="284" y="73"/>
                  </a:lnTo>
                  <a:lnTo>
                    <a:pt x="284" y="82"/>
                  </a:lnTo>
                  <a:lnTo>
                    <a:pt x="281" y="78"/>
                  </a:lnTo>
                  <a:lnTo>
                    <a:pt x="272" y="78"/>
                  </a:lnTo>
                  <a:lnTo>
                    <a:pt x="269" y="81"/>
                  </a:lnTo>
                  <a:lnTo>
                    <a:pt x="269" y="99"/>
                  </a:lnTo>
                  <a:lnTo>
                    <a:pt x="285" y="99"/>
                  </a:lnTo>
                  <a:lnTo>
                    <a:pt x="302" y="99"/>
                  </a:lnTo>
                  <a:lnTo>
                    <a:pt x="319" y="99"/>
                  </a:lnTo>
                  <a:lnTo>
                    <a:pt x="317" y="81"/>
                  </a:lnTo>
                  <a:lnTo>
                    <a:pt x="317" y="81"/>
                  </a:lnTo>
                  <a:close/>
                  <a:moveTo>
                    <a:pt x="372" y="35"/>
                  </a:moveTo>
                  <a:lnTo>
                    <a:pt x="369" y="31"/>
                  </a:lnTo>
                  <a:lnTo>
                    <a:pt x="359" y="31"/>
                  </a:lnTo>
                  <a:lnTo>
                    <a:pt x="356" y="35"/>
                  </a:lnTo>
                  <a:lnTo>
                    <a:pt x="353" y="31"/>
                  </a:lnTo>
                  <a:lnTo>
                    <a:pt x="342" y="31"/>
                  </a:lnTo>
                  <a:lnTo>
                    <a:pt x="339" y="35"/>
                  </a:lnTo>
                  <a:lnTo>
                    <a:pt x="336" y="31"/>
                  </a:lnTo>
                  <a:lnTo>
                    <a:pt x="325" y="31"/>
                  </a:lnTo>
                  <a:lnTo>
                    <a:pt x="322" y="35"/>
                  </a:lnTo>
                  <a:lnTo>
                    <a:pt x="322" y="99"/>
                  </a:lnTo>
                  <a:lnTo>
                    <a:pt x="394" y="99"/>
                  </a:lnTo>
                  <a:lnTo>
                    <a:pt x="389" y="35"/>
                  </a:lnTo>
                  <a:lnTo>
                    <a:pt x="385" y="31"/>
                  </a:lnTo>
                  <a:lnTo>
                    <a:pt x="375" y="31"/>
                  </a:lnTo>
                  <a:lnTo>
                    <a:pt x="372" y="35"/>
                  </a:lnTo>
                  <a:lnTo>
                    <a:pt x="372" y="35"/>
                  </a:lnTo>
                  <a:close/>
                  <a:moveTo>
                    <a:pt x="317" y="35"/>
                  </a:moveTo>
                  <a:lnTo>
                    <a:pt x="314" y="31"/>
                  </a:lnTo>
                  <a:lnTo>
                    <a:pt x="305" y="31"/>
                  </a:lnTo>
                  <a:lnTo>
                    <a:pt x="301" y="35"/>
                  </a:lnTo>
                  <a:lnTo>
                    <a:pt x="298" y="31"/>
                  </a:lnTo>
                  <a:lnTo>
                    <a:pt x="288" y="31"/>
                  </a:lnTo>
                  <a:lnTo>
                    <a:pt x="285" y="35"/>
                  </a:lnTo>
                  <a:lnTo>
                    <a:pt x="282" y="31"/>
                  </a:lnTo>
                  <a:lnTo>
                    <a:pt x="272" y="31"/>
                  </a:lnTo>
                  <a:lnTo>
                    <a:pt x="269" y="35"/>
                  </a:lnTo>
                  <a:lnTo>
                    <a:pt x="269" y="60"/>
                  </a:lnTo>
                  <a:lnTo>
                    <a:pt x="285" y="60"/>
                  </a:lnTo>
                  <a:lnTo>
                    <a:pt x="301" y="60"/>
                  </a:lnTo>
                  <a:lnTo>
                    <a:pt x="319" y="60"/>
                  </a:lnTo>
                  <a:lnTo>
                    <a:pt x="317" y="35"/>
                  </a:lnTo>
                  <a:lnTo>
                    <a:pt x="317" y="35"/>
                  </a:lnTo>
                  <a:close/>
                  <a:moveTo>
                    <a:pt x="14" y="35"/>
                  </a:moveTo>
                  <a:lnTo>
                    <a:pt x="8" y="99"/>
                  </a:lnTo>
                  <a:lnTo>
                    <a:pt x="43" y="99"/>
                  </a:lnTo>
                  <a:lnTo>
                    <a:pt x="46" y="81"/>
                  </a:lnTo>
                  <a:lnTo>
                    <a:pt x="63" y="81"/>
                  </a:lnTo>
                  <a:lnTo>
                    <a:pt x="66" y="99"/>
                  </a:lnTo>
                  <a:lnTo>
                    <a:pt x="208" y="99"/>
                  </a:lnTo>
                  <a:lnTo>
                    <a:pt x="215" y="84"/>
                  </a:lnTo>
                  <a:lnTo>
                    <a:pt x="229" y="84"/>
                  </a:lnTo>
                  <a:lnTo>
                    <a:pt x="237" y="99"/>
                  </a:lnTo>
                  <a:lnTo>
                    <a:pt x="266" y="99"/>
                  </a:lnTo>
                  <a:lnTo>
                    <a:pt x="263" y="35"/>
                  </a:lnTo>
                  <a:lnTo>
                    <a:pt x="259" y="31"/>
                  </a:lnTo>
                  <a:lnTo>
                    <a:pt x="250" y="31"/>
                  </a:lnTo>
                  <a:lnTo>
                    <a:pt x="246" y="35"/>
                  </a:lnTo>
                  <a:lnTo>
                    <a:pt x="243" y="31"/>
                  </a:lnTo>
                  <a:lnTo>
                    <a:pt x="234" y="31"/>
                  </a:lnTo>
                  <a:lnTo>
                    <a:pt x="231" y="35"/>
                  </a:lnTo>
                  <a:lnTo>
                    <a:pt x="226" y="31"/>
                  </a:lnTo>
                  <a:lnTo>
                    <a:pt x="217" y="31"/>
                  </a:lnTo>
                  <a:lnTo>
                    <a:pt x="214" y="35"/>
                  </a:lnTo>
                  <a:lnTo>
                    <a:pt x="211" y="31"/>
                  </a:lnTo>
                  <a:lnTo>
                    <a:pt x="200" y="31"/>
                  </a:lnTo>
                  <a:lnTo>
                    <a:pt x="197" y="35"/>
                  </a:lnTo>
                  <a:lnTo>
                    <a:pt x="194" y="31"/>
                  </a:lnTo>
                  <a:lnTo>
                    <a:pt x="183" y="31"/>
                  </a:lnTo>
                  <a:lnTo>
                    <a:pt x="180" y="35"/>
                  </a:lnTo>
                  <a:lnTo>
                    <a:pt x="177" y="31"/>
                  </a:lnTo>
                  <a:lnTo>
                    <a:pt x="166" y="31"/>
                  </a:lnTo>
                  <a:lnTo>
                    <a:pt x="163" y="35"/>
                  </a:lnTo>
                  <a:lnTo>
                    <a:pt x="160" y="31"/>
                  </a:lnTo>
                  <a:lnTo>
                    <a:pt x="150" y="31"/>
                  </a:lnTo>
                  <a:lnTo>
                    <a:pt x="147" y="35"/>
                  </a:lnTo>
                  <a:lnTo>
                    <a:pt x="144" y="31"/>
                  </a:lnTo>
                  <a:lnTo>
                    <a:pt x="134" y="31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118" y="31"/>
                  </a:lnTo>
                  <a:lnTo>
                    <a:pt x="115" y="35"/>
                  </a:lnTo>
                  <a:lnTo>
                    <a:pt x="110" y="31"/>
                  </a:lnTo>
                  <a:lnTo>
                    <a:pt x="101" y="31"/>
                  </a:lnTo>
                  <a:lnTo>
                    <a:pt x="98" y="35"/>
                  </a:lnTo>
                  <a:lnTo>
                    <a:pt x="93" y="31"/>
                  </a:lnTo>
                  <a:lnTo>
                    <a:pt x="84" y="31"/>
                  </a:lnTo>
                  <a:lnTo>
                    <a:pt x="81" y="35"/>
                  </a:lnTo>
                  <a:lnTo>
                    <a:pt x="78" y="31"/>
                  </a:lnTo>
                  <a:lnTo>
                    <a:pt x="67" y="31"/>
                  </a:lnTo>
                  <a:lnTo>
                    <a:pt x="64" y="35"/>
                  </a:lnTo>
                  <a:lnTo>
                    <a:pt x="61" y="31"/>
                  </a:lnTo>
                  <a:lnTo>
                    <a:pt x="50" y="31"/>
                  </a:lnTo>
                  <a:lnTo>
                    <a:pt x="47" y="35"/>
                  </a:lnTo>
                  <a:lnTo>
                    <a:pt x="44" y="31"/>
                  </a:lnTo>
                  <a:lnTo>
                    <a:pt x="34" y="31"/>
                  </a:lnTo>
                  <a:lnTo>
                    <a:pt x="31" y="35"/>
                  </a:lnTo>
                  <a:lnTo>
                    <a:pt x="28" y="31"/>
                  </a:lnTo>
                  <a:lnTo>
                    <a:pt x="17" y="31"/>
                  </a:lnTo>
                  <a:lnTo>
                    <a:pt x="14" y="35"/>
                  </a:lnTo>
                  <a:lnTo>
                    <a:pt x="14" y="35"/>
                  </a:lnTo>
                  <a:close/>
                  <a:moveTo>
                    <a:pt x="319" y="12"/>
                  </a:moveTo>
                  <a:lnTo>
                    <a:pt x="316" y="8"/>
                  </a:lnTo>
                  <a:lnTo>
                    <a:pt x="305" y="8"/>
                  </a:lnTo>
                  <a:lnTo>
                    <a:pt x="302" y="12"/>
                  </a:lnTo>
                  <a:lnTo>
                    <a:pt x="299" y="8"/>
                  </a:lnTo>
                  <a:lnTo>
                    <a:pt x="288" y="8"/>
                  </a:lnTo>
                  <a:lnTo>
                    <a:pt x="285" y="12"/>
                  </a:lnTo>
                  <a:lnTo>
                    <a:pt x="282" y="8"/>
                  </a:lnTo>
                  <a:lnTo>
                    <a:pt x="272" y="8"/>
                  </a:lnTo>
                  <a:lnTo>
                    <a:pt x="269" y="12"/>
                  </a:lnTo>
                  <a:lnTo>
                    <a:pt x="269" y="26"/>
                  </a:lnTo>
                  <a:lnTo>
                    <a:pt x="285" y="26"/>
                  </a:lnTo>
                  <a:lnTo>
                    <a:pt x="302" y="26"/>
                  </a:lnTo>
                  <a:lnTo>
                    <a:pt x="319" y="26"/>
                  </a:lnTo>
                  <a:lnTo>
                    <a:pt x="319" y="12"/>
                  </a:lnTo>
                  <a:lnTo>
                    <a:pt x="319" y="12"/>
                  </a:lnTo>
                  <a:close/>
                  <a:moveTo>
                    <a:pt x="34" y="26"/>
                  </a:moveTo>
                  <a:lnTo>
                    <a:pt x="32" y="12"/>
                  </a:lnTo>
                  <a:lnTo>
                    <a:pt x="29" y="8"/>
                  </a:lnTo>
                  <a:lnTo>
                    <a:pt x="18" y="8"/>
                  </a:lnTo>
                  <a:lnTo>
                    <a:pt x="15" y="12"/>
                  </a:lnTo>
                  <a:lnTo>
                    <a:pt x="15" y="26"/>
                  </a:lnTo>
                  <a:lnTo>
                    <a:pt x="32" y="26"/>
                  </a:lnTo>
                  <a:lnTo>
                    <a:pt x="34" y="26"/>
                  </a:lnTo>
                  <a:lnTo>
                    <a:pt x="34" y="26"/>
                  </a:lnTo>
                  <a:close/>
                  <a:moveTo>
                    <a:pt x="246" y="12"/>
                  </a:moveTo>
                  <a:lnTo>
                    <a:pt x="243" y="8"/>
                  </a:lnTo>
                  <a:lnTo>
                    <a:pt x="234" y="8"/>
                  </a:lnTo>
                  <a:lnTo>
                    <a:pt x="229" y="12"/>
                  </a:lnTo>
                  <a:lnTo>
                    <a:pt x="226" y="8"/>
                  </a:lnTo>
                  <a:lnTo>
                    <a:pt x="217" y="8"/>
                  </a:lnTo>
                  <a:lnTo>
                    <a:pt x="212" y="12"/>
                  </a:lnTo>
                  <a:lnTo>
                    <a:pt x="209" y="8"/>
                  </a:lnTo>
                  <a:lnTo>
                    <a:pt x="200" y="8"/>
                  </a:lnTo>
                  <a:lnTo>
                    <a:pt x="197" y="12"/>
                  </a:lnTo>
                  <a:lnTo>
                    <a:pt x="195" y="26"/>
                  </a:lnTo>
                  <a:lnTo>
                    <a:pt x="212" y="26"/>
                  </a:lnTo>
                  <a:lnTo>
                    <a:pt x="229" y="26"/>
                  </a:lnTo>
                  <a:lnTo>
                    <a:pt x="246" y="26"/>
                  </a:lnTo>
                  <a:lnTo>
                    <a:pt x="263" y="26"/>
                  </a:lnTo>
                  <a:lnTo>
                    <a:pt x="263" y="12"/>
                  </a:lnTo>
                  <a:lnTo>
                    <a:pt x="259" y="8"/>
                  </a:lnTo>
                  <a:lnTo>
                    <a:pt x="249" y="8"/>
                  </a:lnTo>
                  <a:lnTo>
                    <a:pt x="246" y="12"/>
                  </a:lnTo>
                  <a:lnTo>
                    <a:pt x="246" y="12"/>
                  </a:lnTo>
                  <a:close/>
                  <a:moveTo>
                    <a:pt x="171" y="12"/>
                  </a:moveTo>
                  <a:lnTo>
                    <a:pt x="168" y="8"/>
                  </a:lnTo>
                  <a:lnTo>
                    <a:pt x="159" y="8"/>
                  </a:lnTo>
                  <a:lnTo>
                    <a:pt x="156" y="12"/>
                  </a:lnTo>
                  <a:lnTo>
                    <a:pt x="151" y="8"/>
                  </a:lnTo>
                  <a:lnTo>
                    <a:pt x="142" y="8"/>
                  </a:lnTo>
                  <a:lnTo>
                    <a:pt x="139" y="12"/>
                  </a:lnTo>
                  <a:lnTo>
                    <a:pt x="136" y="8"/>
                  </a:lnTo>
                  <a:lnTo>
                    <a:pt x="125" y="8"/>
                  </a:lnTo>
                  <a:lnTo>
                    <a:pt x="122" y="12"/>
                  </a:lnTo>
                  <a:lnTo>
                    <a:pt x="121" y="26"/>
                  </a:lnTo>
                  <a:lnTo>
                    <a:pt x="139" y="26"/>
                  </a:lnTo>
                  <a:lnTo>
                    <a:pt x="156" y="26"/>
                  </a:lnTo>
                  <a:lnTo>
                    <a:pt x="171" y="26"/>
                  </a:lnTo>
                  <a:lnTo>
                    <a:pt x="189" y="26"/>
                  </a:lnTo>
                  <a:lnTo>
                    <a:pt x="188" y="12"/>
                  </a:lnTo>
                  <a:lnTo>
                    <a:pt x="185" y="8"/>
                  </a:lnTo>
                  <a:lnTo>
                    <a:pt x="176" y="8"/>
                  </a:lnTo>
                  <a:lnTo>
                    <a:pt x="171" y="12"/>
                  </a:lnTo>
                  <a:lnTo>
                    <a:pt x="171" y="12"/>
                  </a:lnTo>
                  <a:close/>
                  <a:moveTo>
                    <a:pt x="98" y="12"/>
                  </a:moveTo>
                  <a:lnTo>
                    <a:pt x="95" y="8"/>
                  </a:lnTo>
                  <a:lnTo>
                    <a:pt x="84" y="8"/>
                  </a:lnTo>
                  <a:lnTo>
                    <a:pt x="81" y="12"/>
                  </a:lnTo>
                  <a:lnTo>
                    <a:pt x="78" y="8"/>
                  </a:lnTo>
                  <a:lnTo>
                    <a:pt x="67" y="8"/>
                  </a:lnTo>
                  <a:lnTo>
                    <a:pt x="64" y="12"/>
                  </a:lnTo>
                  <a:lnTo>
                    <a:pt x="61" y="8"/>
                  </a:lnTo>
                  <a:lnTo>
                    <a:pt x="50" y="8"/>
                  </a:lnTo>
                  <a:lnTo>
                    <a:pt x="47" y="12"/>
                  </a:lnTo>
                  <a:lnTo>
                    <a:pt x="47" y="26"/>
                  </a:lnTo>
                  <a:lnTo>
                    <a:pt x="64" y="26"/>
                  </a:lnTo>
                  <a:lnTo>
                    <a:pt x="81" y="26"/>
                  </a:lnTo>
                  <a:lnTo>
                    <a:pt x="98" y="26"/>
                  </a:lnTo>
                  <a:lnTo>
                    <a:pt x="115" y="26"/>
                  </a:lnTo>
                  <a:lnTo>
                    <a:pt x="115" y="12"/>
                  </a:lnTo>
                  <a:lnTo>
                    <a:pt x="111" y="8"/>
                  </a:lnTo>
                  <a:lnTo>
                    <a:pt x="101" y="8"/>
                  </a:lnTo>
                  <a:lnTo>
                    <a:pt x="98" y="12"/>
                  </a:lnTo>
                  <a:lnTo>
                    <a:pt x="98" y="12"/>
                  </a:lnTo>
                  <a:close/>
                  <a:moveTo>
                    <a:pt x="0" y="107"/>
                  </a:moveTo>
                  <a:lnTo>
                    <a:pt x="401" y="107"/>
                  </a:lnTo>
                  <a:lnTo>
                    <a:pt x="391" y="0"/>
                  </a:lnTo>
                  <a:lnTo>
                    <a:pt x="11" y="0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706000" y="4599000"/>
              <a:ext cx="462960" cy="309600"/>
            </a:xfrm>
            <a:custGeom>
              <a:avLst/>
              <a:gdLst/>
              <a:ahLst/>
              <a:rect l="l" t="t" r="r" b="b"/>
              <a:pathLst>
                <a:path w="269" h="195">
                  <a:moveTo>
                    <a:pt x="254" y="195"/>
                  </a:moveTo>
                  <a:lnTo>
                    <a:pt x="269" y="195"/>
                  </a:lnTo>
                  <a:lnTo>
                    <a:pt x="269" y="191"/>
                  </a:lnTo>
                  <a:lnTo>
                    <a:pt x="254" y="191"/>
                  </a:lnTo>
                  <a:lnTo>
                    <a:pt x="254" y="195"/>
                  </a:lnTo>
                  <a:lnTo>
                    <a:pt x="254" y="195"/>
                  </a:lnTo>
                  <a:close/>
                  <a:moveTo>
                    <a:pt x="20" y="163"/>
                  </a:moveTo>
                  <a:lnTo>
                    <a:pt x="20" y="20"/>
                  </a:lnTo>
                  <a:lnTo>
                    <a:pt x="229" y="20"/>
                  </a:lnTo>
                  <a:lnTo>
                    <a:pt x="229" y="163"/>
                  </a:lnTo>
                  <a:lnTo>
                    <a:pt x="20" y="163"/>
                  </a:lnTo>
                  <a:lnTo>
                    <a:pt x="20" y="163"/>
                  </a:lnTo>
                  <a:close/>
                  <a:moveTo>
                    <a:pt x="10" y="172"/>
                  </a:moveTo>
                  <a:lnTo>
                    <a:pt x="240" y="172"/>
                  </a:lnTo>
                  <a:lnTo>
                    <a:pt x="240" y="9"/>
                  </a:lnTo>
                  <a:lnTo>
                    <a:pt x="249" y="9"/>
                  </a:lnTo>
                  <a:lnTo>
                    <a:pt x="24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81"/>
                  </a:lnTo>
                  <a:lnTo>
                    <a:pt x="10" y="181"/>
                  </a:lnTo>
                  <a:lnTo>
                    <a:pt x="10" y="172"/>
                  </a:lnTo>
                  <a:lnTo>
                    <a:pt x="10" y="1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656320" y="4925880"/>
              <a:ext cx="527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5788800" y="492588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5923080" y="4925880"/>
              <a:ext cx="14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5796000" y="2181240"/>
            <a:ext cx="109080" cy="2133720"/>
            <a:chOff x="5796000" y="2181240"/>
            <a:chExt cx="109080" cy="2133720"/>
          </a:xfrm>
        </p:grpSpPr>
        <p:sp>
          <p:nvSpPr>
            <p:cNvPr id="1182" name=""/>
            <p:cNvSpPr/>
            <p:nvPr/>
          </p:nvSpPr>
          <p:spPr>
            <a:xfrm>
              <a:off x="5845320" y="224172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4"/>
                  </a:moveTo>
                  <a:lnTo>
                    <a:pt x="6" y="3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845320" y="230832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845320" y="234648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845320" y="241308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845320" y="245124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845320" y="251784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845320" y="255600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845320" y="262260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845320" y="266076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845320" y="272736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845320" y="276552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845320" y="283212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845320" y="287028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845320" y="293688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845320" y="297504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845320" y="304164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845320" y="307980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845320" y="314640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845320" y="318456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845320" y="325116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845320" y="328932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845320" y="335592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845320" y="339408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845320" y="346068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845320" y="349884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845320" y="356544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845320" y="360360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845320" y="367020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845320" y="370836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845320" y="377496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845320" y="381312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845320" y="387972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845320" y="3917880"/>
              <a:ext cx="10080" cy="475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845320" y="398448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845320" y="4022640"/>
              <a:ext cx="1008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845320" y="408924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845320" y="4127400"/>
              <a:ext cx="10080" cy="4788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5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845320" y="4194000"/>
              <a:ext cx="1008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6" y="9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45320" y="4232160"/>
              <a:ext cx="1008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797440" y="2181240"/>
              <a:ext cx="107640" cy="982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63" y="62"/>
                  </a:moveTo>
                  <a:lnTo>
                    <a:pt x="31" y="0"/>
                  </a:lnTo>
                  <a:lnTo>
                    <a:pt x="0" y="62"/>
                  </a:lnTo>
                  <a:lnTo>
                    <a:pt x="31" y="43"/>
                  </a:lnTo>
                  <a:lnTo>
                    <a:pt x="63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96000" y="4216320"/>
              <a:ext cx="107640" cy="9864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0" y="0"/>
                  </a:moveTo>
                  <a:lnTo>
                    <a:pt x="32" y="62"/>
                  </a:lnTo>
                  <a:lnTo>
                    <a:pt x="63" y="0"/>
                  </a:lnTo>
                  <a:lnTo>
                    <a:pt x="32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3" name=""/>
          <p:cNvSpPr/>
          <p:nvPr/>
        </p:nvSpPr>
        <p:spPr>
          <a:xfrm>
            <a:off x="2249640" y="4629240"/>
            <a:ext cx="58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427840" y="4678200"/>
            <a:ext cx="27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389680" y="4830840"/>
            <a:ext cx="35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735360" y="4629240"/>
            <a:ext cx="3016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864600" y="4678200"/>
            <a:ext cx="9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211800" y="4629240"/>
            <a:ext cx="1106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347520" y="4678200"/>
            <a:ext cx="24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T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581880" y="4678200"/>
            <a:ext cx="226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857280" y="467820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602040" y="483084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(AMH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81040" y="4459320"/>
            <a:ext cx="121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98760" y="5086440"/>
            <a:ext cx="12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1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846000" y="5086440"/>
            <a:ext cx="53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Only for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10640" y="5238720"/>
            <a:ext cx="42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IDI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175400" y="5238720"/>
            <a:ext cx="508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13160" y="53910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“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FTN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8520" y="401940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960440" y="40687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/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024160" y="422100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395960" y="3562200"/>
            <a:ext cx="582480" cy="457200"/>
          </a:xfrm>
          <a:custGeom>
            <a:avLst/>
            <a:gdLst/>
            <a:ahLst/>
            <a:rect l="l" t="t" r="r" b="b"/>
            <a:pathLst>
              <a:path w="339" h="288">
                <a:moveTo>
                  <a:pt x="144" y="288"/>
                </a:moveTo>
                <a:lnTo>
                  <a:pt x="184" y="261"/>
                </a:lnTo>
                <a:lnTo>
                  <a:pt x="223" y="234"/>
                </a:lnTo>
                <a:lnTo>
                  <a:pt x="241" y="221"/>
                </a:lnTo>
                <a:lnTo>
                  <a:pt x="259" y="208"/>
                </a:lnTo>
                <a:lnTo>
                  <a:pt x="275" y="196"/>
                </a:lnTo>
                <a:lnTo>
                  <a:pt x="290" y="183"/>
                </a:lnTo>
                <a:lnTo>
                  <a:pt x="303" y="171"/>
                </a:lnTo>
                <a:lnTo>
                  <a:pt x="314" y="159"/>
                </a:lnTo>
                <a:lnTo>
                  <a:pt x="324" y="147"/>
                </a:lnTo>
                <a:lnTo>
                  <a:pt x="331" y="136"/>
                </a:lnTo>
                <a:lnTo>
                  <a:pt x="336" y="125"/>
                </a:lnTo>
                <a:lnTo>
                  <a:pt x="339" y="115"/>
                </a:lnTo>
                <a:lnTo>
                  <a:pt x="339" y="105"/>
                </a:lnTo>
                <a:lnTo>
                  <a:pt x="336" y="96"/>
                </a:lnTo>
                <a:lnTo>
                  <a:pt x="330" y="87"/>
                </a:lnTo>
                <a:lnTo>
                  <a:pt x="321" y="79"/>
                </a:lnTo>
                <a:lnTo>
                  <a:pt x="309" y="71"/>
                </a:lnTo>
                <a:lnTo>
                  <a:pt x="295" y="64"/>
                </a:lnTo>
                <a:lnTo>
                  <a:pt x="279" y="57"/>
                </a:lnTo>
                <a:lnTo>
                  <a:pt x="260" y="51"/>
                </a:lnTo>
                <a:lnTo>
                  <a:pt x="240" y="45"/>
                </a:lnTo>
                <a:lnTo>
                  <a:pt x="218" y="39"/>
                </a:lnTo>
                <a:lnTo>
                  <a:pt x="194" y="34"/>
                </a:lnTo>
                <a:lnTo>
                  <a:pt x="169" y="28"/>
                </a:lnTo>
                <a:lnTo>
                  <a:pt x="142" y="23"/>
                </a:lnTo>
                <a:lnTo>
                  <a:pt x="115" y="18"/>
                </a:lnTo>
                <a:lnTo>
                  <a:pt x="58" y="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213080" y="4307040"/>
            <a:ext cx="5000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350240" y="4356000"/>
            <a:ext cx="27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728640" y="4197240"/>
            <a:ext cx="738000" cy="681120"/>
            <a:chOff x="728640" y="4197240"/>
            <a:chExt cx="738000" cy="681120"/>
          </a:xfrm>
        </p:grpSpPr>
        <p:sp>
          <p:nvSpPr>
            <p:cNvPr id="1246" name=""/>
            <p:cNvSpPr/>
            <p:nvPr/>
          </p:nvSpPr>
          <p:spPr>
            <a:xfrm>
              <a:off x="728640" y="4197240"/>
              <a:ext cx="738000" cy="681120"/>
            </a:xfrm>
            <a:custGeom>
              <a:avLst/>
              <a:gdLst/>
              <a:ahLst/>
              <a:rect l="l" t="t" r="r" b="b"/>
              <a:pathLst>
                <a:path w="429" h="429">
                  <a:moveTo>
                    <a:pt x="61" y="249"/>
                  </a:moveTo>
                  <a:lnTo>
                    <a:pt x="100" y="249"/>
                  </a:lnTo>
                  <a:lnTo>
                    <a:pt x="100" y="268"/>
                  </a:lnTo>
                  <a:lnTo>
                    <a:pt x="330" y="268"/>
                  </a:lnTo>
                  <a:lnTo>
                    <a:pt x="330" y="249"/>
                  </a:lnTo>
                  <a:lnTo>
                    <a:pt x="368" y="249"/>
                  </a:lnTo>
                  <a:lnTo>
                    <a:pt x="368" y="0"/>
                  </a:lnTo>
                  <a:lnTo>
                    <a:pt x="61" y="0"/>
                  </a:lnTo>
                  <a:lnTo>
                    <a:pt x="61" y="249"/>
                  </a:lnTo>
                  <a:lnTo>
                    <a:pt x="61" y="249"/>
                  </a:lnTo>
                  <a:close/>
                  <a:moveTo>
                    <a:pt x="411" y="307"/>
                  </a:moveTo>
                  <a:lnTo>
                    <a:pt x="19" y="307"/>
                  </a:lnTo>
                  <a:lnTo>
                    <a:pt x="16" y="308"/>
                  </a:lnTo>
                  <a:lnTo>
                    <a:pt x="14" y="311"/>
                  </a:lnTo>
                  <a:lnTo>
                    <a:pt x="0" y="424"/>
                  </a:lnTo>
                  <a:lnTo>
                    <a:pt x="2" y="427"/>
                  </a:lnTo>
                  <a:lnTo>
                    <a:pt x="5" y="429"/>
                  </a:lnTo>
                  <a:lnTo>
                    <a:pt x="425" y="429"/>
                  </a:lnTo>
                  <a:lnTo>
                    <a:pt x="428" y="427"/>
                  </a:lnTo>
                  <a:lnTo>
                    <a:pt x="429" y="424"/>
                  </a:lnTo>
                  <a:lnTo>
                    <a:pt x="415" y="311"/>
                  </a:lnTo>
                  <a:lnTo>
                    <a:pt x="414" y="308"/>
                  </a:lnTo>
                  <a:lnTo>
                    <a:pt x="411" y="307"/>
                  </a:lnTo>
                  <a:lnTo>
                    <a:pt x="411" y="307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900720" y="4592520"/>
              <a:ext cx="3956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52400" y="4695480"/>
              <a:ext cx="690480" cy="169920"/>
            </a:xfrm>
            <a:custGeom>
              <a:avLst/>
              <a:gdLst/>
              <a:ahLst/>
              <a:rect l="l" t="t" r="r" b="b"/>
              <a:pathLst>
                <a:path w="401" h="107">
                  <a:moveTo>
                    <a:pt x="317" y="81"/>
                  </a:moveTo>
                  <a:lnTo>
                    <a:pt x="314" y="78"/>
                  </a:lnTo>
                  <a:lnTo>
                    <a:pt x="305" y="78"/>
                  </a:lnTo>
                  <a:lnTo>
                    <a:pt x="301" y="82"/>
                  </a:lnTo>
                  <a:lnTo>
                    <a:pt x="301" y="73"/>
                  </a:lnTo>
                  <a:lnTo>
                    <a:pt x="298" y="69"/>
                  </a:lnTo>
                  <a:lnTo>
                    <a:pt x="287" y="69"/>
                  </a:lnTo>
                  <a:lnTo>
                    <a:pt x="284" y="73"/>
                  </a:lnTo>
                  <a:lnTo>
                    <a:pt x="284" y="82"/>
                  </a:lnTo>
                  <a:lnTo>
                    <a:pt x="281" y="78"/>
                  </a:lnTo>
                  <a:lnTo>
                    <a:pt x="272" y="78"/>
                  </a:lnTo>
                  <a:lnTo>
                    <a:pt x="269" y="81"/>
                  </a:lnTo>
                  <a:lnTo>
                    <a:pt x="269" y="99"/>
                  </a:lnTo>
                  <a:lnTo>
                    <a:pt x="285" y="99"/>
                  </a:lnTo>
                  <a:lnTo>
                    <a:pt x="302" y="99"/>
                  </a:lnTo>
                  <a:lnTo>
                    <a:pt x="319" y="99"/>
                  </a:lnTo>
                  <a:lnTo>
                    <a:pt x="317" y="81"/>
                  </a:lnTo>
                  <a:lnTo>
                    <a:pt x="317" y="81"/>
                  </a:lnTo>
                  <a:close/>
                  <a:moveTo>
                    <a:pt x="372" y="35"/>
                  </a:moveTo>
                  <a:lnTo>
                    <a:pt x="369" y="31"/>
                  </a:lnTo>
                  <a:lnTo>
                    <a:pt x="359" y="31"/>
                  </a:lnTo>
                  <a:lnTo>
                    <a:pt x="356" y="35"/>
                  </a:lnTo>
                  <a:lnTo>
                    <a:pt x="353" y="31"/>
                  </a:lnTo>
                  <a:lnTo>
                    <a:pt x="342" y="31"/>
                  </a:lnTo>
                  <a:lnTo>
                    <a:pt x="339" y="35"/>
                  </a:lnTo>
                  <a:lnTo>
                    <a:pt x="336" y="31"/>
                  </a:lnTo>
                  <a:lnTo>
                    <a:pt x="325" y="31"/>
                  </a:lnTo>
                  <a:lnTo>
                    <a:pt x="322" y="35"/>
                  </a:lnTo>
                  <a:lnTo>
                    <a:pt x="322" y="99"/>
                  </a:lnTo>
                  <a:lnTo>
                    <a:pt x="394" y="99"/>
                  </a:lnTo>
                  <a:lnTo>
                    <a:pt x="389" y="35"/>
                  </a:lnTo>
                  <a:lnTo>
                    <a:pt x="385" y="31"/>
                  </a:lnTo>
                  <a:lnTo>
                    <a:pt x="375" y="31"/>
                  </a:lnTo>
                  <a:lnTo>
                    <a:pt x="372" y="35"/>
                  </a:lnTo>
                  <a:lnTo>
                    <a:pt x="372" y="35"/>
                  </a:lnTo>
                  <a:close/>
                  <a:moveTo>
                    <a:pt x="317" y="35"/>
                  </a:moveTo>
                  <a:lnTo>
                    <a:pt x="314" y="31"/>
                  </a:lnTo>
                  <a:lnTo>
                    <a:pt x="305" y="31"/>
                  </a:lnTo>
                  <a:lnTo>
                    <a:pt x="301" y="35"/>
                  </a:lnTo>
                  <a:lnTo>
                    <a:pt x="298" y="31"/>
                  </a:lnTo>
                  <a:lnTo>
                    <a:pt x="288" y="31"/>
                  </a:lnTo>
                  <a:lnTo>
                    <a:pt x="285" y="35"/>
                  </a:lnTo>
                  <a:lnTo>
                    <a:pt x="282" y="31"/>
                  </a:lnTo>
                  <a:lnTo>
                    <a:pt x="272" y="31"/>
                  </a:lnTo>
                  <a:lnTo>
                    <a:pt x="269" y="35"/>
                  </a:lnTo>
                  <a:lnTo>
                    <a:pt x="269" y="60"/>
                  </a:lnTo>
                  <a:lnTo>
                    <a:pt x="285" y="60"/>
                  </a:lnTo>
                  <a:lnTo>
                    <a:pt x="301" y="60"/>
                  </a:lnTo>
                  <a:lnTo>
                    <a:pt x="319" y="60"/>
                  </a:lnTo>
                  <a:lnTo>
                    <a:pt x="317" y="35"/>
                  </a:lnTo>
                  <a:lnTo>
                    <a:pt x="317" y="35"/>
                  </a:lnTo>
                  <a:close/>
                  <a:moveTo>
                    <a:pt x="14" y="35"/>
                  </a:moveTo>
                  <a:lnTo>
                    <a:pt x="8" y="99"/>
                  </a:lnTo>
                  <a:lnTo>
                    <a:pt x="43" y="99"/>
                  </a:lnTo>
                  <a:lnTo>
                    <a:pt x="46" y="81"/>
                  </a:lnTo>
                  <a:lnTo>
                    <a:pt x="63" y="81"/>
                  </a:lnTo>
                  <a:lnTo>
                    <a:pt x="66" y="99"/>
                  </a:lnTo>
                  <a:lnTo>
                    <a:pt x="208" y="99"/>
                  </a:lnTo>
                  <a:lnTo>
                    <a:pt x="215" y="84"/>
                  </a:lnTo>
                  <a:lnTo>
                    <a:pt x="229" y="84"/>
                  </a:lnTo>
                  <a:lnTo>
                    <a:pt x="237" y="99"/>
                  </a:lnTo>
                  <a:lnTo>
                    <a:pt x="266" y="99"/>
                  </a:lnTo>
                  <a:lnTo>
                    <a:pt x="263" y="35"/>
                  </a:lnTo>
                  <a:lnTo>
                    <a:pt x="259" y="31"/>
                  </a:lnTo>
                  <a:lnTo>
                    <a:pt x="250" y="31"/>
                  </a:lnTo>
                  <a:lnTo>
                    <a:pt x="246" y="35"/>
                  </a:lnTo>
                  <a:lnTo>
                    <a:pt x="243" y="31"/>
                  </a:lnTo>
                  <a:lnTo>
                    <a:pt x="234" y="31"/>
                  </a:lnTo>
                  <a:lnTo>
                    <a:pt x="231" y="35"/>
                  </a:lnTo>
                  <a:lnTo>
                    <a:pt x="226" y="31"/>
                  </a:lnTo>
                  <a:lnTo>
                    <a:pt x="217" y="31"/>
                  </a:lnTo>
                  <a:lnTo>
                    <a:pt x="214" y="35"/>
                  </a:lnTo>
                  <a:lnTo>
                    <a:pt x="211" y="31"/>
                  </a:lnTo>
                  <a:lnTo>
                    <a:pt x="200" y="31"/>
                  </a:lnTo>
                  <a:lnTo>
                    <a:pt x="197" y="35"/>
                  </a:lnTo>
                  <a:lnTo>
                    <a:pt x="194" y="31"/>
                  </a:lnTo>
                  <a:lnTo>
                    <a:pt x="183" y="31"/>
                  </a:lnTo>
                  <a:lnTo>
                    <a:pt x="180" y="35"/>
                  </a:lnTo>
                  <a:lnTo>
                    <a:pt x="177" y="31"/>
                  </a:lnTo>
                  <a:lnTo>
                    <a:pt x="166" y="31"/>
                  </a:lnTo>
                  <a:lnTo>
                    <a:pt x="163" y="35"/>
                  </a:lnTo>
                  <a:lnTo>
                    <a:pt x="160" y="31"/>
                  </a:lnTo>
                  <a:lnTo>
                    <a:pt x="150" y="31"/>
                  </a:lnTo>
                  <a:lnTo>
                    <a:pt x="147" y="35"/>
                  </a:lnTo>
                  <a:lnTo>
                    <a:pt x="144" y="31"/>
                  </a:lnTo>
                  <a:lnTo>
                    <a:pt x="134" y="31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118" y="31"/>
                  </a:lnTo>
                  <a:lnTo>
                    <a:pt x="115" y="35"/>
                  </a:lnTo>
                  <a:lnTo>
                    <a:pt x="110" y="31"/>
                  </a:lnTo>
                  <a:lnTo>
                    <a:pt x="101" y="31"/>
                  </a:lnTo>
                  <a:lnTo>
                    <a:pt x="98" y="35"/>
                  </a:lnTo>
                  <a:lnTo>
                    <a:pt x="93" y="31"/>
                  </a:lnTo>
                  <a:lnTo>
                    <a:pt x="84" y="31"/>
                  </a:lnTo>
                  <a:lnTo>
                    <a:pt x="81" y="35"/>
                  </a:lnTo>
                  <a:lnTo>
                    <a:pt x="78" y="31"/>
                  </a:lnTo>
                  <a:lnTo>
                    <a:pt x="67" y="31"/>
                  </a:lnTo>
                  <a:lnTo>
                    <a:pt x="64" y="35"/>
                  </a:lnTo>
                  <a:lnTo>
                    <a:pt x="61" y="31"/>
                  </a:lnTo>
                  <a:lnTo>
                    <a:pt x="50" y="31"/>
                  </a:lnTo>
                  <a:lnTo>
                    <a:pt x="47" y="35"/>
                  </a:lnTo>
                  <a:lnTo>
                    <a:pt x="44" y="31"/>
                  </a:lnTo>
                  <a:lnTo>
                    <a:pt x="34" y="31"/>
                  </a:lnTo>
                  <a:lnTo>
                    <a:pt x="31" y="35"/>
                  </a:lnTo>
                  <a:lnTo>
                    <a:pt x="28" y="31"/>
                  </a:lnTo>
                  <a:lnTo>
                    <a:pt x="17" y="31"/>
                  </a:lnTo>
                  <a:lnTo>
                    <a:pt x="14" y="35"/>
                  </a:lnTo>
                  <a:lnTo>
                    <a:pt x="14" y="35"/>
                  </a:lnTo>
                  <a:close/>
                  <a:moveTo>
                    <a:pt x="319" y="12"/>
                  </a:moveTo>
                  <a:lnTo>
                    <a:pt x="316" y="8"/>
                  </a:lnTo>
                  <a:lnTo>
                    <a:pt x="305" y="8"/>
                  </a:lnTo>
                  <a:lnTo>
                    <a:pt x="302" y="12"/>
                  </a:lnTo>
                  <a:lnTo>
                    <a:pt x="299" y="8"/>
                  </a:lnTo>
                  <a:lnTo>
                    <a:pt x="288" y="8"/>
                  </a:lnTo>
                  <a:lnTo>
                    <a:pt x="285" y="12"/>
                  </a:lnTo>
                  <a:lnTo>
                    <a:pt x="282" y="8"/>
                  </a:lnTo>
                  <a:lnTo>
                    <a:pt x="272" y="8"/>
                  </a:lnTo>
                  <a:lnTo>
                    <a:pt x="269" y="12"/>
                  </a:lnTo>
                  <a:lnTo>
                    <a:pt x="269" y="26"/>
                  </a:lnTo>
                  <a:lnTo>
                    <a:pt x="285" y="26"/>
                  </a:lnTo>
                  <a:lnTo>
                    <a:pt x="302" y="26"/>
                  </a:lnTo>
                  <a:lnTo>
                    <a:pt x="319" y="26"/>
                  </a:lnTo>
                  <a:lnTo>
                    <a:pt x="319" y="12"/>
                  </a:lnTo>
                  <a:lnTo>
                    <a:pt x="319" y="12"/>
                  </a:lnTo>
                  <a:close/>
                  <a:moveTo>
                    <a:pt x="34" y="26"/>
                  </a:moveTo>
                  <a:lnTo>
                    <a:pt x="32" y="12"/>
                  </a:lnTo>
                  <a:lnTo>
                    <a:pt x="29" y="8"/>
                  </a:lnTo>
                  <a:lnTo>
                    <a:pt x="18" y="8"/>
                  </a:lnTo>
                  <a:lnTo>
                    <a:pt x="15" y="12"/>
                  </a:lnTo>
                  <a:lnTo>
                    <a:pt x="15" y="26"/>
                  </a:lnTo>
                  <a:lnTo>
                    <a:pt x="32" y="26"/>
                  </a:lnTo>
                  <a:lnTo>
                    <a:pt x="34" y="26"/>
                  </a:lnTo>
                  <a:lnTo>
                    <a:pt x="34" y="26"/>
                  </a:lnTo>
                  <a:close/>
                  <a:moveTo>
                    <a:pt x="246" y="12"/>
                  </a:moveTo>
                  <a:lnTo>
                    <a:pt x="243" y="8"/>
                  </a:lnTo>
                  <a:lnTo>
                    <a:pt x="234" y="8"/>
                  </a:lnTo>
                  <a:lnTo>
                    <a:pt x="229" y="12"/>
                  </a:lnTo>
                  <a:lnTo>
                    <a:pt x="226" y="8"/>
                  </a:lnTo>
                  <a:lnTo>
                    <a:pt x="217" y="8"/>
                  </a:lnTo>
                  <a:lnTo>
                    <a:pt x="212" y="12"/>
                  </a:lnTo>
                  <a:lnTo>
                    <a:pt x="209" y="8"/>
                  </a:lnTo>
                  <a:lnTo>
                    <a:pt x="200" y="8"/>
                  </a:lnTo>
                  <a:lnTo>
                    <a:pt x="197" y="12"/>
                  </a:lnTo>
                  <a:lnTo>
                    <a:pt x="195" y="26"/>
                  </a:lnTo>
                  <a:lnTo>
                    <a:pt x="212" y="26"/>
                  </a:lnTo>
                  <a:lnTo>
                    <a:pt x="229" y="26"/>
                  </a:lnTo>
                  <a:lnTo>
                    <a:pt x="246" y="26"/>
                  </a:lnTo>
                  <a:lnTo>
                    <a:pt x="263" y="26"/>
                  </a:lnTo>
                  <a:lnTo>
                    <a:pt x="263" y="12"/>
                  </a:lnTo>
                  <a:lnTo>
                    <a:pt x="259" y="8"/>
                  </a:lnTo>
                  <a:lnTo>
                    <a:pt x="249" y="8"/>
                  </a:lnTo>
                  <a:lnTo>
                    <a:pt x="246" y="12"/>
                  </a:lnTo>
                  <a:lnTo>
                    <a:pt x="246" y="12"/>
                  </a:lnTo>
                  <a:close/>
                  <a:moveTo>
                    <a:pt x="171" y="12"/>
                  </a:moveTo>
                  <a:lnTo>
                    <a:pt x="168" y="8"/>
                  </a:lnTo>
                  <a:lnTo>
                    <a:pt x="159" y="8"/>
                  </a:lnTo>
                  <a:lnTo>
                    <a:pt x="156" y="12"/>
                  </a:lnTo>
                  <a:lnTo>
                    <a:pt x="151" y="8"/>
                  </a:lnTo>
                  <a:lnTo>
                    <a:pt x="142" y="8"/>
                  </a:lnTo>
                  <a:lnTo>
                    <a:pt x="139" y="12"/>
                  </a:lnTo>
                  <a:lnTo>
                    <a:pt x="136" y="8"/>
                  </a:lnTo>
                  <a:lnTo>
                    <a:pt x="125" y="8"/>
                  </a:lnTo>
                  <a:lnTo>
                    <a:pt x="122" y="12"/>
                  </a:lnTo>
                  <a:lnTo>
                    <a:pt x="121" y="26"/>
                  </a:lnTo>
                  <a:lnTo>
                    <a:pt x="139" y="26"/>
                  </a:lnTo>
                  <a:lnTo>
                    <a:pt x="156" y="26"/>
                  </a:lnTo>
                  <a:lnTo>
                    <a:pt x="171" y="26"/>
                  </a:lnTo>
                  <a:lnTo>
                    <a:pt x="189" y="26"/>
                  </a:lnTo>
                  <a:lnTo>
                    <a:pt x="188" y="12"/>
                  </a:lnTo>
                  <a:lnTo>
                    <a:pt x="185" y="8"/>
                  </a:lnTo>
                  <a:lnTo>
                    <a:pt x="176" y="8"/>
                  </a:lnTo>
                  <a:lnTo>
                    <a:pt x="171" y="12"/>
                  </a:lnTo>
                  <a:lnTo>
                    <a:pt x="171" y="12"/>
                  </a:lnTo>
                  <a:close/>
                  <a:moveTo>
                    <a:pt x="98" y="12"/>
                  </a:moveTo>
                  <a:lnTo>
                    <a:pt x="95" y="8"/>
                  </a:lnTo>
                  <a:lnTo>
                    <a:pt x="84" y="8"/>
                  </a:lnTo>
                  <a:lnTo>
                    <a:pt x="81" y="12"/>
                  </a:lnTo>
                  <a:lnTo>
                    <a:pt x="78" y="8"/>
                  </a:lnTo>
                  <a:lnTo>
                    <a:pt x="67" y="8"/>
                  </a:lnTo>
                  <a:lnTo>
                    <a:pt x="64" y="12"/>
                  </a:lnTo>
                  <a:lnTo>
                    <a:pt x="61" y="8"/>
                  </a:lnTo>
                  <a:lnTo>
                    <a:pt x="50" y="8"/>
                  </a:lnTo>
                  <a:lnTo>
                    <a:pt x="47" y="12"/>
                  </a:lnTo>
                  <a:lnTo>
                    <a:pt x="47" y="26"/>
                  </a:lnTo>
                  <a:lnTo>
                    <a:pt x="64" y="26"/>
                  </a:lnTo>
                  <a:lnTo>
                    <a:pt x="81" y="26"/>
                  </a:lnTo>
                  <a:lnTo>
                    <a:pt x="98" y="26"/>
                  </a:lnTo>
                  <a:lnTo>
                    <a:pt x="115" y="26"/>
                  </a:lnTo>
                  <a:lnTo>
                    <a:pt x="115" y="12"/>
                  </a:lnTo>
                  <a:lnTo>
                    <a:pt x="111" y="8"/>
                  </a:lnTo>
                  <a:lnTo>
                    <a:pt x="101" y="8"/>
                  </a:lnTo>
                  <a:lnTo>
                    <a:pt x="98" y="12"/>
                  </a:lnTo>
                  <a:lnTo>
                    <a:pt x="98" y="12"/>
                  </a:lnTo>
                  <a:close/>
                  <a:moveTo>
                    <a:pt x="0" y="107"/>
                  </a:moveTo>
                  <a:lnTo>
                    <a:pt x="401" y="107"/>
                  </a:lnTo>
                  <a:lnTo>
                    <a:pt x="391" y="0"/>
                  </a:lnTo>
                  <a:lnTo>
                    <a:pt x="11" y="0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883080" y="4243320"/>
              <a:ext cx="463320" cy="309600"/>
            </a:xfrm>
            <a:custGeom>
              <a:avLst/>
              <a:gdLst/>
              <a:ahLst/>
              <a:rect l="l" t="t" r="r" b="b"/>
              <a:pathLst>
                <a:path w="269" h="195">
                  <a:moveTo>
                    <a:pt x="254" y="195"/>
                  </a:moveTo>
                  <a:lnTo>
                    <a:pt x="269" y="195"/>
                  </a:lnTo>
                  <a:lnTo>
                    <a:pt x="269" y="191"/>
                  </a:lnTo>
                  <a:lnTo>
                    <a:pt x="254" y="191"/>
                  </a:lnTo>
                  <a:lnTo>
                    <a:pt x="254" y="195"/>
                  </a:lnTo>
                  <a:lnTo>
                    <a:pt x="254" y="195"/>
                  </a:lnTo>
                  <a:close/>
                  <a:moveTo>
                    <a:pt x="20" y="163"/>
                  </a:moveTo>
                  <a:lnTo>
                    <a:pt x="20" y="20"/>
                  </a:lnTo>
                  <a:lnTo>
                    <a:pt x="229" y="20"/>
                  </a:lnTo>
                  <a:lnTo>
                    <a:pt x="229" y="163"/>
                  </a:lnTo>
                  <a:lnTo>
                    <a:pt x="20" y="163"/>
                  </a:lnTo>
                  <a:lnTo>
                    <a:pt x="20" y="163"/>
                  </a:lnTo>
                  <a:close/>
                  <a:moveTo>
                    <a:pt x="10" y="172"/>
                  </a:moveTo>
                  <a:lnTo>
                    <a:pt x="240" y="172"/>
                  </a:lnTo>
                  <a:lnTo>
                    <a:pt x="240" y="9"/>
                  </a:lnTo>
                  <a:lnTo>
                    <a:pt x="249" y="9"/>
                  </a:lnTo>
                  <a:lnTo>
                    <a:pt x="24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81"/>
                  </a:lnTo>
                  <a:lnTo>
                    <a:pt x="10" y="181"/>
                  </a:lnTo>
                  <a:lnTo>
                    <a:pt x="10" y="172"/>
                  </a:lnTo>
                  <a:lnTo>
                    <a:pt x="10" y="1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833400" y="4570200"/>
              <a:ext cx="528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965880" y="457020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1100160" y="4570200"/>
              <a:ext cx="14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1217520" y="38736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955800" y="3867120"/>
            <a:ext cx="0" cy="324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405080" y="4205160"/>
            <a:ext cx="106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User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8373960" y="4213080"/>
            <a:ext cx="738000" cy="681120"/>
            <a:chOff x="8373960" y="4213080"/>
            <a:chExt cx="738000" cy="681120"/>
          </a:xfrm>
        </p:grpSpPr>
        <p:sp>
          <p:nvSpPr>
            <p:cNvPr id="1257" name=""/>
            <p:cNvSpPr/>
            <p:nvPr/>
          </p:nvSpPr>
          <p:spPr>
            <a:xfrm>
              <a:off x="8373960" y="4213080"/>
              <a:ext cx="738000" cy="681120"/>
            </a:xfrm>
            <a:custGeom>
              <a:avLst/>
              <a:gdLst/>
              <a:ahLst/>
              <a:rect l="l" t="t" r="r" b="b"/>
              <a:pathLst>
                <a:path w="429" h="429">
                  <a:moveTo>
                    <a:pt x="61" y="249"/>
                  </a:moveTo>
                  <a:lnTo>
                    <a:pt x="100" y="249"/>
                  </a:lnTo>
                  <a:lnTo>
                    <a:pt x="100" y="268"/>
                  </a:lnTo>
                  <a:lnTo>
                    <a:pt x="330" y="268"/>
                  </a:lnTo>
                  <a:lnTo>
                    <a:pt x="330" y="249"/>
                  </a:lnTo>
                  <a:lnTo>
                    <a:pt x="368" y="249"/>
                  </a:lnTo>
                  <a:lnTo>
                    <a:pt x="368" y="0"/>
                  </a:lnTo>
                  <a:lnTo>
                    <a:pt x="61" y="0"/>
                  </a:lnTo>
                  <a:lnTo>
                    <a:pt x="61" y="249"/>
                  </a:lnTo>
                  <a:lnTo>
                    <a:pt x="61" y="249"/>
                  </a:lnTo>
                  <a:close/>
                  <a:moveTo>
                    <a:pt x="411" y="307"/>
                  </a:moveTo>
                  <a:lnTo>
                    <a:pt x="19" y="307"/>
                  </a:lnTo>
                  <a:lnTo>
                    <a:pt x="16" y="308"/>
                  </a:lnTo>
                  <a:lnTo>
                    <a:pt x="14" y="311"/>
                  </a:lnTo>
                  <a:lnTo>
                    <a:pt x="0" y="424"/>
                  </a:lnTo>
                  <a:lnTo>
                    <a:pt x="2" y="427"/>
                  </a:lnTo>
                  <a:lnTo>
                    <a:pt x="5" y="429"/>
                  </a:lnTo>
                  <a:lnTo>
                    <a:pt x="425" y="429"/>
                  </a:lnTo>
                  <a:lnTo>
                    <a:pt x="428" y="427"/>
                  </a:lnTo>
                  <a:lnTo>
                    <a:pt x="429" y="424"/>
                  </a:lnTo>
                  <a:lnTo>
                    <a:pt x="415" y="311"/>
                  </a:lnTo>
                  <a:lnTo>
                    <a:pt x="414" y="308"/>
                  </a:lnTo>
                  <a:lnTo>
                    <a:pt x="411" y="307"/>
                  </a:lnTo>
                  <a:lnTo>
                    <a:pt x="411" y="307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546040" y="4608360"/>
              <a:ext cx="395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397720" y="4711680"/>
              <a:ext cx="690480" cy="169920"/>
            </a:xfrm>
            <a:custGeom>
              <a:avLst/>
              <a:gdLst/>
              <a:ahLst/>
              <a:rect l="l" t="t" r="r" b="b"/>
              <a:pathLst>
                <a:path w="401" h="107">
                  <a:moveTo>
                    <a:pt x="317" y="81"/>
                  </a:moveTo>
                  <a:lnTo>
                    <a:pt x="314" y="78"/>
                  </a:lnTo>
                  <a:lnTo>
                    <a:pt x="305" y="78"/>
                  </a:lnTo>
                  <a:lnTo>
                    <a:pt x="301" y="82"/>
                  </a:lnTo>
                  <a:lnTo>
                    <a:pt x="301" y="73"/>
                  </a:lnTo>
                  <a:lnTo>
                    <a:pt x="298" y="69"/>
                  </a:lnTo>
                  <a:lnTo>
                    <a:pt x="287" y="69"/>
                  </a:lnTo>
                  <a:lnTo>
                    <a:pt x="284" y="73"/>
                  </a:lnTo>
                  <a:lnTo>
                    <a:pt x="284" y="82"/>
                  </a:lnTo>
                  <a:lnTo>
                    <a:pt x="281" y="78"/>
                  </a:lnTo>
                  <a:lnTo>
                    <a:pt x="272" y="78"/>
                  </a:lnTo>
                  <a:lnTo>
                    <a:pt x="269" y="81"/>
                  </a:lnTo>
                  <a:lnTo>
                    <a:pt x="269" y="99"/>
                  </a:lnTo>
                  <a:lnTo>
                    <a:pt x="285" y="99"/>
                  </a:lnTo>
                  <a:lnTo>
                    <a:pt x="302" y="99"/>
                  </a:lnTo>
                  <a:lnTo>
                    <a:pt x="319" y="99"/>
                  </a:lnTo>
                  <a:lnTo>
                    <a:pt x="317" y="81"/>
                  </a:lnTo>
                  <a:lnTo>
                    <a:pt x="317" y="81"/>
                  </a:lnTo>
                  <a:close/>
                  <a:moveTo>
                    <a:pt x="372" y="35"/>
                  </a:moveTo>
                  <a:lnTo>
                    <a:pt x="369" y="31"/>
                  </a:lnTo>
                  <a:lnTo>
                    <a:pt x="359" y="31"/>
                  </a:lnTo>
                  <a:lnTo>
                    <a:pt x="356" y="35"/>
                  </a:lnTo>
                  <a:lnTo>
                    <a:pt x="353" y="31"/>
                  </a:lnTo>
                  <a:lnTo>
                    <a:pt x="342" y="31"/>
                  </a:lnTo>
                  <a:lnTo>
                    <a:pt x="339" y="35"/>
                  </a:lnTo>
                  <a:lnTo>
                    <a:pt x="336" y="31"/>
                  </a:lnTo>
                  <a:lnTo>
                    <a:pt x="325" y="31"/>
                  </a:lnTo>
                  <a:lnTo>
                    <a:pt x="322" y="35"/>
                  </a:lnTo>
                  <a:lnTo>
                    <a:pt x="322" y="99"/>
                  </a:lnTo>
                  <a:lnTo>
                    <a:pt x="394" y="99"/>
                  </a:lnTo>
                  <a:lnTo>
                    <a:pt x="389" y="35"/>
                  </a:lnTo>
                  <a:lnTo>
                    <a:pt x="385" y="31"/>
                  </a:lnTo>
                  <a:lnTo>
                    <a:pt x="375" y="31"/>
                  </a:lnTo>
                  <a:lnTo>
                    <a:pt x="372" y="35"/>
                  </a:lnTo>
                  <a:lnTo>
                    <a:pt x="372" y="35"/>
                  </a:lnTo>
                  <a:close/>
                  <a:moveTo>
                    <a:pt x="317" y="35"/>
                  </a:moveTo>
                  <a:lnTo>
                    <a:pt x="314" y="31"/>
                  </a:lnTo>
                  <a:lnTo>
                    <a:pt x="305" y="31"/>
                  </a:lnTo>
                  <a:lnTo>
                    <a:pt x="301" y="35"/>
                  </a:lnTo>
                  <a:lnTo>
                    <a:pt x="298" y="31"/>
                  </a:lnTo>
                  <a:lnTo>
                    <a:pt x="288" y="31"/>
                  </a:lnTo>
                  <a:lnTo>
                    <a:pt x="285" y="35"/>
                  </a:lnTo>
                  <a:lnTo>
                    <a:pt x="282" y="31"/>
                  </a:lnTo>
                  <a:lnTo>
                    <a:pt x="272" y="31"/>
                  </a:lnTo>
                  <a:lnTo>
                    <a:pt x="269" y="35"/>
                  </a:lnTo>
                  <a:lnTo>
                    <a:pt x="269" y="60"/>
                  </a:lnTo>
                  <a:lnTo>
                    <a:pt x="285" y="60"/>
                  </a:lnTo>
                  <a:lnTo>
                    <a:pt x="301" y="60"/>
                  </a:lnTo>
                  <a:lnTo>
                    <a:pt x="319" y="60"/>
                  </a:lnTo>
                  <a:lnTo>
                    <a:pt x="317" y="35"/>
                  </a:lnTo>
                  <a:lnTo>
                    <a:pt x="317" y="35"/>
                  </a:lnTo>
                  <a:close/>
                  <a:moveTo>
                    <a:pt x="14" y="35"/>
                  </a:moveTo>
                  <a:lnTo>
                    <a:pt x="8" y="99"/>
                  </a:lnTo>
                  <a:lnTo>
                    <a:pt x="43" y="99"/>
                  </a:lnTo>
                  <a:lnTo>
                    <a:pt x="46" y="81"/>
                  </a:lnTo>
                  <a:lnTo>
                    <a:pt x="63" y="81"/>
                  </a:lnTo>
                  <a:lnTo>
                    <a:pt x="66" y="99"/>
                  </a:lnTo>
                  <a:lnTo>
                    <a:pt x="208" y="99"/>
                  </a:lnTo>
                  <a:lnTo>
                    <a:pt x="215" y="84"/>
                  </a:lnTo>
                  <a:lnTo>
                    <a:pt x="229" y="84"/>
                  </a:lnTo>
                  <a:lnTo>
                    <a:pt x="237" y="99"/>
                  </a:lnTo>
                  <a:lnTo>
                    <a:pt x="266" y="99"/>
                  </a:lnTo>
                  <a:lnTo>
                    <a:pt x="263" y="35"/>
                  </a:lnTo>
                  <a:lnTo>
                    <a:pt x="259" y="31"/>
                  </a:lnTo>
                  <a:lnTo>
                    <a:pt x="250" y="31"/>
                  </a:lnTo>
                  <a:lnTo>
                    <a:pt x="246" y="35"/>
                  </a:lnTo>
                  <a:lnTo>
                    <a:pt x="243" y="31"/>
                  </a:lnTo>
                  <a:lnTo>
                    <a:pt x="234" y="31"/>
                  </a:lnTo>
                  <a:lnTo>
                    <a:pt x="231" y="35"/>
                  </a:lnTo>
                  <a:lnTo>
                    <a:pt x="226" y="31"/>
                  </a:lnTo>
                  <a:lnTo>
                    <a:pt x="217" y="31"/>
                  </a:lnTo>
                  <a:lnTo>
                    <a:pt x="214" y="35"/>
                  </a:lnTo>
                  <a:lnTo>
                    <a:pt x="211" y="31"/>
                  </a:lnTo>
                  <a:lnTo>
                    <a:pt x="200" y="31"/>
                  </a:lnTo>
                  <a:lnTo>
                    <a:pt x="197" y="35"/>
                  </a:lnTo>
                  <a:lnTo>
                    <a:pt x="194" y="31"/>
                  </a:lnTo>
                  <a:lnTo>
                    <a:pt x="183" y="31"/>
                  </a:lnTo>
                  <a:lnTo>
                    <a:pt x="180" y="35"/>
                  </a:lnTo>
                  <a:lnTo>
                    <a:pt x="177" y="31"/>
                  </a:lnTo>
                  <a:lnTo>
                    <a:pt x="166" y="31"/>
                  </a:lnTo>
                  <a:lnTo>
                    <a:pt x="163" y="35"/>
                  </a:lnTo>
                  <a:lnTo>
                    <a:pt x="160" y="31"/>
                  </a:lnTo>
                  <a:lnTo>
                    <a:pt x="150" y="31"/>
                  </a:lnTo>
                  <a:lnTo>
                    <a:pt x="147" y="35"/>
                  </a:lnTo>
                  <a:lnTo>
                    <a:pt x="144" y="31"/>
                  </a:lnTo>
                  <a:lnTo>
                    <a:pt x="134" y="31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118" y="31"/>
                  </a:lnTo>
                  <a:lnTo>
                    <a:pt x="115" y="35"/>
                  </a:lnTo>
                  <a:lnTo>
                    <a:pt x="110" y="31"/>
                  </a:lnTo>
                  <a:lnTo>
                    <a:pt x="101" y="31"/>
                  </a:lnTo>
                  <a:lnTo>
                    <a:pt x="98" y="35"/>
                  </a:lnTo>
                  <a:lnTo>
                    <a:pt x="93" y="31"/>
                  </a:lnTo>
                  <a:lnTo>
                    <a:pt x="84" y="31"/>
                  </a:lnTo>
                  <a:lnTo>
                    <a:pt x="81" y="35"/>
                  </a:lnTo>
                  <a:lnTo>
                    <a:pt x="78" y="31"/>
                  </a:lnTo>
                  <a:lnTo>
                    <a:pt x="67" y="31"/>
                  </a:lnTo>
                  <a:lnTo>
                    <a:pt x="64" y="35"/>
                  </a:lnTo>
                  <a:lnTo>
                    <a:pt x="61" y="31"/>
                  </a:lnTo>
                  <a:lnTo>
                    <a:pt x="50" y="31"/>
                  </a:lnTo>
                  <a:lnTo>
                    <a:pt x="47" y="35"/>
                  </a:lnTo>
                  <a:lnTo>
                    <a:pt x="44" y="31"/>
                  </a:lnTo>
                  <a:lnTo>
                    <a:pt x="34" y="31"/>
                  </a:lnTo>
                  <a:lnTo>
                    <a:pt x="31" y="35"/>
                  </a:lnTo>
                  <a:lnTo>
                    <a:pt x="28" y="31"/>
                  </a:lnTo>
                  <a:lnTo>
                    <a:pt x="17" y="31"/>
                  </a:lnTo>
                  <a:lnTo>
                    <a:pt x="14" y="35"/>
                  </a:lnTo>
                  <a:lnTo>
                    <a:pt x="14" y="35"/>
                  </a:lnTo>
                  <a:close/>
                  <a:moveTo>
                    <a:pt x="319" y="12"/>
                  </a:moveTo>
                  <a:lnTo>
                    <a:pt x="316" y="8"/>
                  </a:lnTo>
                  <a:lnTo>
                    <a:pt x="305" y="8"/>
                  </a:lnTo>
                  <a:lnTo>
                    <a:pt x="302" y="12"/>
                  </a:lnTo>
                  <a:lnTo>
                    <a:pt x="299" y="8"/>
                  </a:lnTo>
                  <a:lnTo>
                    <a:pt x="288" y="8"/>
                  </a:lnTo>
                  <a:lnTo>
                    <a:pt x="285" y="12"/>
                  </a:lnTo>
                  <a:lnTo>
                    <a:pt x="282" y="8"/>
                  </a:lnTo>
                  <a:lnTo>
                    <a:pt x="272" y="8"/>
                  </a:lnTo>
                  <a:lnTo>
                    <a:pt x="269" y="12"/>
                  </a:lnTo>
                  <a:lnTo>
                    <a:pt x="269" y="26"/>
                  </a:lnTo>
                  <a:lnTo>
                    <a:pt x="285" y="26"/>
                  </a:lnTo>
                  <a:lnTo>
                    <a:pt x="302" y="26"/>
                  </a:lnTo>
                  <a:lnTo>
                    <a:pt x="319" y="26"/>
                  </a:lnTo>
                  <a:lnTo>
                    <a:pt x="319" y="12"/>
                  </a:lnTo>
                  <a:lnTo>
                    <a:pt x="319" y="12"/>
                  </a:lnTo>
                  <a:close/>
                  <a:moveTo>
                    <a:pt x="34" y="26"/>
                  </a:moveTo>
                  <a:lnTo>
                    <a:pt x="32" y="12"/>
                  </a:lnTo>
                  <a:lnTo>
                    <a:pt x="29" y="8"/>
                  </a:lnTo>
                  <a:lnTo>
                    <a:pt x="18" y="8"/>
                  </a:lnTo>
                  <a:lnTo>
                    <a:pt x="15" y="12"/>
                  </a:lnTo>
                  <a:lnTo>
                    <a:pt x="15" y="26"/>
                  </a:lnTo>
                  <a:lnTo>
                    <a:pt x="32" y="26"/>
                  </a:lnTo>
                  <a:lnTo>
                    <a:pt x="34" y="26"/>
                  </a:lnTo>
                  <a:lnTo>
                    <a:pt x="34" y="26"/>
                  </a:lnTo>
                  <a:close/>
                  <a:moveTo>
                    <a:pt x="246" y="12"/>
                  </a:moveTo>
                  <a:lnTo>
                    <a:pt x="243" y="8"/>
                  </a:lnTo>
                  <a:lnTo>
                    <a:pt x="234" y="8"/>
                  </a:lnTo>
                  <a:lnTo>
                    <a:pt x="229" y="12"/>
                  </a:lnTo>
                  <a:lnTo>
                    <a:pt x="226" y="8"/>
                  </a:lnTo>
                  <a:lnTo>
                    <a:pt x="217" y="8"/>
                  </a:lnTo>
                  <a:lnTo>
                    <a:pt x="212" y="12"/>
                  </a:lnTo>
                  <a:lnTo>
                    <a:pt x="209" y="8"/>
                  </a:lnTo>
                  <a:lnTo>
                    <a:pt x="200" y="8"/>
                  </a:lnTo>
                  <a:lnTo>
                    <a:pt x="197" y="12"/>
                  </a:lnTo>
                  <a:lnTo>
                    <a:pt x="195" y="26"/>
                  </a:lnTo>
                  <a:lnTo>
                    <a:pt x="212" y="26"/>
                  </a:lnTo>
                  <a:lnTo>
                    <a:pt x="229" y="26"/>
                  </a:lnTo>
                  <a:lnTo>
                    <a:pt x="246" y="26"/>
                  </a:lnTo>
                  <a:lnTo>
                    <a:pt x="263" y="26"/>
                  </a:lnTo>
                  <a:lnTo>
                    <a:pt x="263" y="12"/>
                  </a:lnTo>
                  <a:lnTo>
                    <a:pt x="259" y="8"/>
                  </a:lnTo>
                  <a:lnTo>
                    <a:pt x="249" y="8"/>
                  </a:lnTo>
                  <a:lnTo>
                    <a:pt x="246" y="12"/>
                  </a:lnTo>
                  <a:lnTo>
                    <a:pt x="246" y="12"/>
                  </a:lnTo>
                  <a:close/>
                  <a:moveTo>
                    <a:pt x="171" y="12"/>
                  </a:moveTo>
                  <a:lnTo>
                    <a:pt x="168" y="8"/>
                  </a:lnTo>
                  <a:lnTo>
                    <a:pt x="159" y="8"/>
                  </a:lnTo>
                  <a:lnTo>
                    <a:pt x="156" y="12"/>
                  </a:lnTo>
                  <a:lnTo>
                    <a:pt x="151" y="8"/>
                  </a:lnTo>
                  <a:lnTo>
                    <a:pt x="142" y="8"/>
                  </a:lnTo>
                  <a:lnTo>
                    <a:pt x="139" y="12"/>
                  </a:lnTo>
                  <a:lnTo>
                    <a:pt x="136" y="8"/>
                  </a:lnTo>
                  <a:lnTo>
                    <a:pt x="125" y="8"/>
                  </a:lnTo>
                  <a:lnTo>
                    <a:pt x="122" y="12"/>
                  </a:lnTo>
                  <a:lnTo>
                    <a:pt x="121" y="26"/>
                  </a:lnTo>
                  <a:lnTo>
                    <a:pt x="139" y="26"/>
                  </a:lnTo>
                  <a:lnTo>
                    <a:pt x="156" y="26"/>
                  </a:lnTo>
                  <a:lnTo>
                    <a:pt x="171" y="26"/>
                  </a:lnTo>
                  <a:lnTo>
                    <a:pt x="189" y="26"/>
                  </a:lnTo>
                  <a:lnTo>
                    <a:pt x="188" y="12"/>
                  </a:lnTo>
                  <a:lnTo>
                    <a:pt x="185" y="8"/>
                  </a:lnTo>
                  <a:lnTo>
                    <a:pt x="176" y="8"/>
                  </a:lnTo>
                  <a:lnTo>
                    <a:pt x="171" y="12"/>
                  </a:lnTo>
                  <a:lnTo>
                    <a:pt x="171" y="12"/>
                  </a:lnTo>
                  <a:close/>
                  <a:moveTo>
                    <a:pt x="98" y="12"/>
                  </a:moveTo>
                  <a:lnTo>
                    <a:pt x="95" y="8"/>
                  </a:lnTo>
                  <a:lnTo>
                    <a:pt x="84" y="8"/>
                  </a:lnTo>
                  <a:lnTo>
                    <a:pt x="81" y="12"/>
                  </a:lnTo>
                  <a:lnTo>
                    <a:pt x="78" y="8"/>
                  </a:lnTo>
                  <a:lnTo>
                    <a:pt x="67" y="8"/>
                  </a:lnTo>
                  <a:lnTo>
                    <a:pt x="64" y="12"/>
                  </a:lnTo>
                  <a:lnTo>
                    <a:pt x="61" y="8"/>
                  </a:lnTo>
                  <a:lnTo>
                    <a:pt x="50" y="8"/>
                  </a:lnTo>
                  <a:lnTo>
                    <a:pt x="47" y="12"/>
                  </a:lnTo>
                  <a:lnTo>
                    <a:pt x="47" y="26"/>
                  </a:lnTo>
                  <a:lnTo>
                    <a:pt x="64" y="26"/>
                  </a:lnTo>
                  <a:lnTo>
                    <a:pt x="81" y="26"/>
                  </a:lnTo>
                  <a:lnTo>
                    <a:pt x="98" y="26"/>
                  </a:lnTo>
                  <a:lnTo>
                    <a:pt x="115" y="26"/>
                  </a:lnTo>
                  <a:lnTo>
                    <a:pt x="115" y="12"/>
                  </a:lnTo>
                  <a:lnTo>
                    <a:pt x="111" y="8"/>
                  </a:lnTo>
                  <a:lnTo>
                    <a:pt x="101" y="8"/>
                  </a:lnTo>
                  <a:lnTo>
                    <a:pt x="98" y="12"/>
                  </a:lnTo>
                  <a:lnTo>
                    <a:pt x="98" y="12"/>
                  </a:lnTo>
                  <a:close/>
                  <a:moveTo>
                    <a:pt x="0" y="107"/>
                  </a:moveTo>
                  <a:lnTo>
                    <a:pt x="401" y="107"/>
                  </a:lnTo>
                  <a:lnTo>
                    <a:pt x="391" y="0"/>
                  </a:lnTo>
                  <a:lnTo>
                    <a:pt x="11" y="0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8528400" y="4259160"/>
              <a:ext cx="463320" cy="309600"/>
            </a:xfrm>
            <a:custGeom>
              <a:avLst/>
              <a:gdLst/>
              <a:ahLst/>
              <a:rect l="l" t="t" r="r" b="b"/>
              <a:pathLst>
                <a:path w="269" h="195">
                  <a:moveTo>
                    <a:pt x="254" y="195"/>
                  </a:moveTo>
                  <a:lnTo>
                    <a:pt x="269" y="195"/>
                  </a:lnTo>
                  <a:lnTo>
                    <a:pt x="269" y="191"/>
                  </a:lnTo>
                  <a:lnTo>
                    <a:pt x="254" y="191"/>
                  </a:lnTo>
                  <a:lnTo>
                    <a:pt x="254" y="195"/>
                  </a:lnTo>
                  <a:lnTo>
                    <a:pt x="254" y="195"/>
                  </a:lnTo>
                  <a:close/>
                  <a:moveTo>
                    <a:pt x="20" y="163"/>
                  </a:moveTo>
                  <a:lnTo>
                    <a:pt x="20" y="20"/>
                  </a:lnTo>
                  <a:lnTo>
                    <a:pt x="229" y="20"/>
                  </a:lnTo>
                  <a:lnTo>
                    <a:pt x="229" y="163"/>
                  </a:lnTo>
                  <a:lnTo>
                    <a:pt x="20" y="163"/>
                  </a:lnTo>
                  <a:lnTo>
                    <a:pt x="20" y="163"/>
                  </a:lnTo>
                  <a:close/>
                  <a:moveTo>
                    <a:pt x="10" y="172"/>
                  </a:moveTo>
                  <a:lnTo>
                    <a:pt x="240" y="172"/>
                  </a:lnTo>
                  <a:lnTo>
                    <a:pt x="240" y="9"/>
                  </a:lnTo>
                  <a:lnTo>
                    <a:pt x="249" y="9"/>
                  </a:lnTo>
                  <a:lnTo>
                    <a:pt x="24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81"/>
                  </a:lnTo>
                  <a:lnTo>
                    <a:pt x="10" y="181"/>
                  </a:lnTo>
                  <a:lnTo>
                    <a:pt x="10" y="172"/>
                  </a:lnTo>
                  <a:lnTo>
                    <a:pt x="10" y="17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478720" y="4586040"/>
              <a:ext cx="528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8611200" y="458604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8745480" y="4586040"/>
              <a:ext cx="14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4" name=""/>
          <p:cNvSpPr/>
          <p:nvPr/>
        </p:nvSpPr>
        <p:spPr>
          <a:xfrm>
            <a:off x="8667720" y="3905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901000" y="389268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9157680" y="4176720"/>
            <a:ext cx="74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User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311560" y="1600200"/>
            <a:ext cx="907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264440" y="1600200"/>
            <a:ext cx="9079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889360" y="2514600"/>
            <a:ext cx="907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N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686640" y="2514600"/>
            <a:ext cx="9079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N 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394000" y="4724280"/>
            <a:ext cx="82548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429680" y="4724280"/>
            <a:ext cx="82548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889360" y="3429000"/>
            <a:ext cx="48704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4" name=""/>
          <p:cNvCxnSpPr>
            <a:stCxn id="1273" idx="1"/>
            <a:endCxn id="1273" idx="7"/>
          </p:cNvCxnSpPr>
          <p:nvPr/>
        </p:nvCxnSpPr>
        <p:spPr>
          <a:xfrm flipH="1" rot="16200000">
            <a:off x="5323680" y="1829520"/>
            <a:ext cx="2160" cy="3445560"/>
          </a:xfrm>
          <a:prstGeom prst="curvedConnector5">
            <a:avLst>
              <a:gd name="adj1" fmla="val -22100000"/>
              <a:gd name="adj2" fmla="val 50000"/>
              <a:gd name="adj3" fmla="val -22100000"/>
            </a:avLst>
          </a:prstGeom>
          <a:ln w="9360">
            <a:solidFill>
              <a:srgbClr val="000000"/>
            </a:solidFill>
            <a:prstDash val="dashDot"/>
            <a:miter/>
          </a:ln>
        </p:spPr>
      </p:cxnSp>
      <p:sp>
        <p:nvSpPr>
          <p:cNvPr id="1275" name=""/>
          <p:cNvSpPr/>
          <p:nvPr/>
        </p:nvSpPr>
        <p:spPr>
          <a:xfrm flipH="1">
            <a:off x="7016400" y="2895480"/>
            <a:ext cx="165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301920" y="2895480"/>
            <a:ext cx="32076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806560" y="2209680"/>
            <a:ext cx="495360" cy="304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7181640" y="2209680"/>
            <a:ext cx="547560" cy="304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9" name=""/>
          <p:cNvCxnSpPr>
            <a:stCxn id="1273" idx="3"/>
            <a:endCxn id="1273" idx="5"/>
          </p:cNvCxnSpPr>
          <p:nvPr/>
        </p:nvCxnSpPr>
        <p:spPr>
          <a:xfrm flipH="1" rot="16200000">
            <a:off x="5322960" y="2423160"/>
            <a:ext cx="2160" cy="3445560"/>
          </a:xfrm>
          <a:prstGeom prst="curvedConnector5">
            <a:avLst>
              <a:gd name="adj1" fmla="val 22100000"/>
              <a:gd name="adj2" fmla="val 50000"/>
              <a:gd name="adj3" fmla="val 22100000"/>
            </a:avLst>
          </a:prstGeom>
          <a:ln w="9360">
            <a:solidFill>
              <a:srgbClr val="000000"/>
            </a:solidFill>
            <a:prstDash val="dashDot"/>
            <a:miter/>
          </a:ln>
        </p:spPr>
      </p:cxnSp>
      <p:sp>
        <p:nvSpPr>
          <p:cNvPr id="1280" name=""/>
          <p:cNvSpPr/>
          <p:nvPr/>
        </p:nvSpPr>
        <p:spPr>
          <a:xfrm flipH="1">
            <a:off x="2806200" y="4114800"/>
            <a:ext cx="825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016760" y="4114800"/>
            <a:ext cx="825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486080" y="914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4860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4860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486080" y="5105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155600" y="571500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2394000" y="5181480"/>
            <a:ext cx="247680" cy="381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971800" y="5181480"/>
            <a:ext cx="247680" cy="381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7512120" y="5181480"/>
            <a:ext cx="164880" cy="381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007480" y="5181480"/>
            <a:ext cx="247680" cy="3812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932400" y="4707000"/>
            <a:ext cx="111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ommunications </a:t>
            </a:r>
            <a:r>
              <a:rPr b="1" lang="de-DE" sz="1000" spc="-1" strike="noStrike" baseline="30000">
                <a:solidFill>
                  <a:srgbClr val="000000"/>
                </a:solidFill>
                <a:latin typeface="Arial Narrow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155600" y="3962520"/>
            <a:ext cx="66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155600" y="3505320"/>
            <a:ext cx="66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228760" y="5410080"/>
            <a:ext cx="1201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To 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compon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308360" y="5486400"/>
            <a:ext cx="1113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To 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compon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581920" y="4724280"/>
            <a:ext cx="50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617600" y="4724280"/>
            <a:ext cx="509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612320" y="3733920"/>
            <a:ext cx="16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PSN (X.25)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889360" y="449568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264440" y="4419720"/>
            <a:ext cx="41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719840" y="4249800"/>
            <a:ext cx="150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ccess at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X.25 packet Protocol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934320" y="3200400"/>
            <a:ext cx="41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703280" y="3030480"/>
            <a:ext cx="101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N Sub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ference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948600" y="2133720"/>
            <a:ext cx="102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N/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ommun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238400" y="914400"/>
            <a:ext cx="49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2806560" y="1066680"/>
            <a:ext cx="41292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 flipV="1">
            <a:off x="2311200" y="1066680"/>
            <a:ext cx="33012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194200" y="609480"/>
            <a:ext cx="115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To 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MHS Compon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7842240" y="1066680"/>
            <a:ext cx="24768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 flipV="1">
            <a:off x="7264080" y="1066680"/>
            <a:ext cx="330120" cy="533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064640" y="609480"/>
            <a:ext cx="115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To oth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MHS Compon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01920" y="320040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780000" y="6053040"/>
            <a:ext cx="428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29. Shared use of a PSN infrastructur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CIDIN and ATN/AMHS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875880" y="5773680"/>
            <a:ext cx="1715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1) Out of scope of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technical provisions for A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51000" y="6037200"/>
            <a:ext cx="557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3.  Functional view of the AFTN/AMH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51814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51055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162920" y="40384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37339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72400" y="2286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4876920"/>
            <a:ext cx="1828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ces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F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4800600"/>
            <a:ext cx="1828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ces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 sub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19051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o ATN directory system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2895480"/>
            <a:ext cx="25146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tocol for MTA to MTA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P1 over upper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38862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 transpor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1828800"/>
            <a:ext cx="4952880" cy="3809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4114800"/>
            <a:ext cx="28195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2819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41911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FTN procedure handler 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(AFTN compon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32767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TA (ATN Compon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182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205740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mandatory in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extended ATS message serv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39625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28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1828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2133720"/>
            <a:ext cx="29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essage transfer and control unit (A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1523880"/>
            <a:ext cx="5410080" cy="4343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304920"/>
            <a:ext cx="10666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990720"/>
            <a:ext cx="1371600" cy="228600"/>
          </a:xfrm>
          <a:prstGeom prst="flowChartInputOutpu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1219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7360" y="457200"/>
            <a:ext cx="77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ntrol 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5" name=""/>
          <p:cNvGrpSpPr/>
          <p:nvPr/>
        </p:nvGrpSpPr>
        <p:grpSpPr>
          <a:xfrm>
            <a:off x="330120" y="2971800"/>
            <a:ext cx="911160" cy="416160"/>
            <a:chOff x="330120" y="2971800"/>
            <a:chExt cx="911160" cy="416160"/>
          </a:xfrm>
        </p:grpSpPr>
        <p:pic>
          <p:nvPicPr>
            <p:cNvPr id="1316" name="" descr=""/>
            <p:cNvPicPr/>
            <p:nvPr/>
          </p:nvPicPr>
          <p:blipFill>
            <a:blip r:embed="rId1"/>
            <a:stretch/>
          </p:blipFill>
          <p:spPr>
            <a:xfrm>
              <a:off x="400320" y="2971800"/>
              <a:ext cx="7707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7" name=""/>
            <p:cNvSpPr/>
            <p:nvPr/>
          </p:nvSpPr>
          <p:spPr>
            <a:xfrm>
              <a:off x="330120" y="2979360"/>
              <a:ext cx="911160" cy="4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T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3056040" y="3295800"/>
            <a:ext cx="3798720" cy="3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027240" y="4102200"/>
            <a:ext cx="3575160" cy="2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054240" y="2438280"/>
            <a:ext cx="3560760" cy="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762200" y="1003320"/>
            <a:ext cx="1869840" cy="3398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568520" y="1066680"/>
            <a:ext cx="2154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Control Position</a:t>
            </a: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1744560" y="2133720"/>
            <a:ext cx="1320840" cy="2209320"/>
            <a:chOff x="1744560" y="2133720"/>
            <a:chExt cx="1320840" cy="2209320"/>
          </a:xfrm>
        </p:grpSpPr>
        <p:sp>
          <p:nvSpPr>
            <p:cNvPr id="1324" name=""/>
            <p:cNvSpPr/>
            <p:nvPr/>
          </p:nvSpPr>
          <p:spPr>
            <a:xfrm>
              <a:off x="1749960" y="2133720"/>
              <a:ext cx="1310400" cy="22093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744560" y="2343600"/>
              <a:ext cx="1320840" cy="10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ompon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6" name=""/>
          <p:cNvSpPr/>
          <p:nvPr/>
        </p:nvSpPr>
        <p:spPr>
          <a:xfrm>
            <a:off x="1569960" y="838080"/>
            <a:ext cx="6645240" cy="459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7" name="" descr=""/>
          <p:cNvPicPr/>
          <p:nvPr/>
        </p:nvPicPr>
        <p:blipFill>
          <a:blip r:embed="rId2"/>
          <a:stretch/>
        </p:blipFill>
        <p:spPr>
          <a:xfrm>
            <a:off x="1198440" y="2597040"/>
            <a:ext cx="427320" cy="230400"/>
          </a:xfrm>
          <a:prstGeom prst="rect">
            <a:avLst/>
          </a:prstGeom>
          <a:ln w="0">
            <a:noFill/>
          </a:ln>
        </p:spPr>
      </p:pic>
      <p:sp>
        <p:nvSpPr>
          <p:cNvPr id="1328" name=""/>
          <p:cNvSpPr/>
          <p:nvPr/>
        </p:nvSpPr>
        <p:spPr>
          <a:xfrm>
            <a:off x="155520" y="2590920"/>
            <a:ext cx="387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412920" y="2529000"/>
            <a:ext cx="831600" cy="368280"/>
            <a:chOff x="412920" y="2529000"/>
            <a:chExt cx="831600" cy="368280"/>
          </a:xfrm>
        </p:grpSpPr>
        <p:pic>
          <p:nvPicPr>
            <p:cNvPr id="1330" name="" descr=""/>
            <p:cNvPicPr/>
            <p:nvPr/>
          </p:nvPicPr>
          <p:blipFill>
            <a:blip r:embed="rId3"/>
            <a:stretch/>
          </p:blipFill>
          <p:spPr>
            <a:xfrm>
              <a:off x="412920" y="2529000"/>
              <a:ext cx="77652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1" name=""/>
            <p:cNvSpPr/>
            <p:nvPr/>
          </p:nvSpPr>
          <p:spPr>
            <a:xfrm>
              <a:off x="457560" y="2576520"/>
              <a:ext cx="786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CIDIN/AMH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3916440" y="2119320"/>
            <a:ext cx="1611360" cy="587520"/>
            <a:chOff x="3916440" y="2119320"/>
            <a:chExt cx="1611360" cy="587520"/>
          </a:xfrm>
        </p:grpSpPr>
        <p:sp>
          <p:nvSpPr>
            <p:cNvPr id="1333" name=""/>
            <p:cNvSpPr/>
            <p:nvPr/>
          </p:nvSpPr>
          <p:spPr>
            <a:xfrm>
              <a:off x="4066200" y="2119320"/>
              <a:ext cx="1310760" cy="587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916440" y="2125440"/>
              <a:ext cx="16113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IDIN (AFTN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TC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MCF =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3797280" y="2971800"/>
            <a:ext cx="1816200" cy="590040"/>
            <a:chOff x="3797280" y="2971800"/>
            <a:chExt cx="1816200" cy="590040"/>
          </a:xfrm>
        </p:grpSpPr>
        <p:sp>
          <p:nvSpPr>
            <p:cNvPr id="1336" name=""/>
            <p:cNvSpPr/>
            <p:nvPr/>
          </p:nvSpPr>
          <p:spPr>
            <a:xfrm>
              <a:off x="4050360" y="2974680"/>
              <a:ext cx="1310400" cy="587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797280" y="2971800"/>
              <a:ext cx="181620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IDIN (OPMET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TC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MCF =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8" name=""/>
          <p:cNvGrpSpPr/>
          <p:nvPr/>
        </p:nvGrpSpPr>
        <p:grpSpPr>
          <a:xfrm>
            <a:off x="3962520" y="3809880"/>
            <a:ext cx="1473120" cy="635040"/>
            <a:chOff x="3962520" y="3809880"/>
            <a:chExt cx="1473120" cy="635040"/>
          </a:xfrm>
        </p:grpSpPr>
        <p:sp>
          <p:nvSpPr>
            <p:cNvPr id="1339" name=""/>
            <p:cNvSpPr/>
            <p:nvPr/>
          </p:nvSpPr>
          <p:spPr>
            <a:xfrm>
              <a:off x="4044240" y="3857400"/>
              <a:ext cx="1310040" cy="587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962520" y="3809880"/>
              <a:ext cx="14731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IDIN (OPMS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TC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MCF =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1" name=""/>
          <p:cNvGrpSpPr/>
          <p:nvPr/>
        </p:nvGrpSpPr>
        <p:grpSpPr>
          <a:xfrm>
            <a:off x="2724120" y="4648320"/>
            <a:ext cx="1397160" cy="587160"/>
            <a:chOff x="2724120" y="4648320"/>
            <a:chExt cx="1397160" cy="587160"/>
          </a:xfrm>
        </p:grpSpPr>
        <p:sp>
          <p:nvSpPr>
            <p:cNvPr id="1342" name=""/>
            <p:cNvSpPr/>
            <p:nvPr/>
          </p:nvSpPr>
          <p:spPr>
            <a:xfrm>
              <a:off x="2791440" y="4648320"/>
              <a:ext cx="1311120" cy="587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24120" y="4687560"/>
              <a:ext cx="139716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ansfer-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ISO/IEC 10021-4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5365800" y="4648320"/>
            <a:ext cx="1320840" cy="587160"/>
            <a:chOff x="5365800" y="4648320"/>
            <a:chExt cx="1320840" cy="587160"/>
          </a:xfrm>
        </p:grpSpPr>
        <p:sp>
          <p:nvSpPr>
            <p:cNvPr id="1345" name=""/>
            <p:cNvSpPr/>
            <p:nvPr/>
          </p:nvSpPr>
          <p:spPr>
            <a:xfrm>
              <a:off x="5371200" y="4648320"/>
              <a:ext cx="1310400" cy="587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65800" y="4688280"/>
              <a:ext cx="1320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IDI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7" name=""/>
          <p:cNvSpPr/>
          <p:nvPr/>
        </p:nvSpPr>
        <p:spPr>
          <a:xfrm>
            <a:off x="6521400" y="1676520"/>
            <a:ext cx="1604880" cy="2882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6643800" y="2057400"/>
            <a:ext cx="1320840" cy="2286000"/>
            <a:chOff x="6643800" y="2057400"/>
            <a:chExt cx="1320840" cy="2286000"/>
          </a:xfrm>
        </p:grpSpPr>
        <p:sp>
          <p:nvSpPr>
            <p:cNvPr id="1349" name=""/>
            <p:cNvSpPr/>
            <p:nvPr/>
          </p:nvSpPr>
          <p:spPr>
            <a:xfrm>
              <a:off x="6649920" y="2057400"/>
              <a:ext cx="1310400" cy="22860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643800" y="2974680"/>
              <a:ext cx="132084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ID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1" name=""/>
          <p:cNvSpPr/>
          <p:nvPr/>
        </p:nvSpPr>
        <p:spPr>
          <a:xfrm>
            <a:off x="6605640" y="1952640"/>
            <a:ext cx="1320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2" name=""/>
          <p:cNvGrpSpPr/>
          <p:nvPr/>
        </p:nvGrpSpPr>
        <p:grpSpPr>
          <a:xfrm>
            <a:off x="8667720" y="2448000"/>
            <a:ext cx="990720" cy="520560"/>
            <a:chOff x="8667720" y="2448000"/>
            <a:chExt cx="990720" cy="520560"/>
          </a:xfrm>
        </p:grpSpPr>
        <p:sp>
          <p:nvSpPr>
            <p:cNvPr id="1353" name=""/>
            <p:cNvSpPr/>
            <p:nvPr/>
          </p:nvSpPr>
          <p:spPr>
            <a:xfrm>
              <a:off x="8708760" y="2448000"/>
              <a:ext cx="907920" cy="5205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8667720" y="2479680"/>
              <a:ext cx="990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IDIN Cent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55" name="" descr=""/>
          <p:cNvPicPr/>
          <p:nvPr/>
        </p:nvPicPr>
        <p:blipFill>
          <a:blip r:embed="rId4"/>
          <a:stretch/>
        </p:blipFill>
        <p:spPr>
          <a:xfrm>
            <a:off x="8159760" y="2610000"/>
            <a:ext cx="426960" cy="230040"/>
          </a:xfrm>
          <a:prstGeom prst="rect">
            <a:avLst/>
          </a:prstGeom>
          <a:ln w="0">
            <a:noFill/>
          </a:ln>
        </p:spPr>
      </p:pic>
      <p:sp>
        <p:nvSpPr>
          <p:cNvPr id="1356" name=""/>
          <p:cNvSpPr/>
          <p:nvPr/>
        </p:nvSpPr>
        <p:spPr>
          <a:xfrm>
            <a:off x="210960" y="3505320"/>
            <a:ext cx="112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1) Only for the s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type of 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219480" y="5791320"/>
            <a:ext cx="389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Figure III-6-30.  Functional view of the CIDIN/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62520" y="990720"/>
            <a:ext cx="1869840" cy="339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742440" y="1752480"/>
            <a:ext cx="126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IDIN 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293000" y="1066680"/>
            <a:ext cx="122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Directory User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1" name=""/>
          <p:cNvGrpSpPr/>
          <p:nvPr/>
        </p:nvGrpSpPr>
        <p:grpSpPr>
          <a:xfrm>
            <a:off x="4457880" y="152280"/>
            <a:ext cx="990360" cy="520920"/>
            <a:chOff x="4457880" y="152280"/>
            <a:chExt cx="990360" cy="520920"/>
          </a:xfrm>
        </p:grpSpPr>
        <p:sp>
          <p:nvSpPr>
            <p:cNvPr id="1362" name=""/>
            <p:cNvSpPr/>
            <p:nvPr/>
          </p:nvSpPr>
          <p:spPr>
            <a:xfrm>
              <a:off x="4498920" y="152280"/>
              <a:ext cx="907560" cy="520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457880" y="183960"/>
              <a:ext cx="990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Directo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412920" y="2057400"/>
            <a:ext cx="831600" cy="368280"/>
            <a:chOff x="412920" y="2057400"/>
            <a:chExt cx="831600" cy="368280"/>
          </a:xfrm>
        </p:grpSpPr>
        <p:pic>
          <p:nvPicPr>
            <p:cNvPr id="1365" name="" descr=""/>
            <p:cNvPicPr/>
            <p:nvPr/>
          </p:nvPicPr>
          <p:blipFill>
            <a:blip r:embed="rId5"/>
            <a:stretch/>
          </p:blipFill>
          <p:spPr>
            <a:xfrm>
              <a:off x="412920" y="2057400"/>
              <a:ext cx="77652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6" name=""/>
            <p:cNvSpPr/>
            <p:nvPr/>
          </p:nvSpPr>
          <p:spPr>
            <a:xfrm>
              <a:off x="457560" y="2104920"/>
              <a:ext cx="7869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AFTN/AMH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7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218160" y="4038480"/>
            <a:ext cx="127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2) Only for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IDIN (AFTN) 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840200" y="590400"/>
            <a:ext cx="247680" cy="304920"/>
          </a:xfrm>
          <a:prstGeom prst="upDownArrow">
            <a:avLst>
              <a:gd name="adj1" fmla="val 50000"/>
              <a:gd name="adj2" fmla="val 2450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60920" y="2039760"/>
            <a:ext cx="2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46716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46716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467160" y="3809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9436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943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943600" y="3809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"/>
          <p:cNvSpPr/>
          <p:nvPr/>
        </p:nvSpPr>
        <p:spPr>
          <a:xfrm>
            <a:off x="4127400" y="762120"/>
            <a:ext cx="1650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898640" y="1828800"/>
            <a:ext cx="1650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238400" y="2590920"/>
            <a:ext cx="123804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054240" y="2590920"/>
            <a:ext cx="123840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705200" y="2590920"/>
            <a:ext cx="1486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nagement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099200" y="2590920"/>
            <a:ext cx="1486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nagement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2" name=""/>
          <p:cNvCxnSpPr>
            <a:stCxn id="1377" idx="0"/>
            <a:endCxn id="1381" idx="0"/>
          </p:cNvCxnSpPr>
          <p:nvPr/>
        </p:nvCxnSpPr>
        <p:spPr>
          <a:xfrm flipH="1" rot="16200000">
            <a:off x="4901760" y="-350280"/>
            <a:ext cx="762840" cy="5118840"/>
          </a:xfrm>
          <a:prstGeom prst="bentConnector3">
            <a:avLst>
              <a:gd name="adj1" fmla="val -2998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83" name=""/>
          <p:cNvSpPr/>
          <p:nvPr/>
        </p:nvSpPr>
        <p:spPr>
          <a:xfrm>
            <a:off x="4952880" y="121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43040" y="3505320"/>
            <a:ext cx="9903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898640" y="3505320"/>
            <a:ext cx="907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ervice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759800" y="3505320"/>
            <a:ext cx="825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nqui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s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375080" y="3505320"/>
            <a:ext cx="1073160" cy="406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perator Mes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sage Ex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530680" y="3505320"/>
            <a:ext cx="1238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ff-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anagement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851520" y="3505320"/>
            <a:ext cx="825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cknow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led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8750160" y="3505320"/>
            <a:ext cx="825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C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rr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467160" y="4267080"/>
            <a:ext cx="10731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pet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2" name=""/>
          <p:cNvCxnSpPr>
            <a:endCxn id="1391" idx="0"/>
          </p:cNvCxnSpPr>
          <p:nvPr/>
        </p:nvCxnSpPr>
        <p:spPr>
          <a:xfrm flipH="1" rot="16200000">
            <a:off x="2821680" y="3085200"/>
            <a:ext cx="2160" cy="236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93" name=""/>
          <p:cNvSpPr/>
          <p:nvPr/>
        </p:nvSpPr>
        <p:spPr>
          <a:xfrm>
            <a:off x="231156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55888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5" name=""/>
          <p:cNvCxnSpPr>
            <a:stCxn id="1378" idx="0"/>
            <a:endCxn id="1380" idx="0"/>
          </p:cNvCxnSpPr>
          <p:nvPr/>
        </p:nvCxnSpPr>
        <p:spPr>
          <a:xfrm flipH="1" rot="16200000">
            <a:off x="3642840" y="784800"/>
            <a:ext cx="19800" cy="3591720"/>
          </a:xfrm>
          <a:prstGeom prst="bentConnector3">
            <a:avLst>
              <a:gd name="adj1" fmla="val -11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96" name=""/>
          <p:cNvSpPr/>
          <p:nvPr/>
        </p:nvSpPr>
        <p:spPr>
          <a:xfrm>
            <a:off x="2724120" y="2286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7" name=""/>
          <p:cNvCxnSpPr>
            <a:stCxn id="1384" idx="0"/>
            <a:endCxn id="1385" idx="0"/>
          </p:cNvCxnSpPr>
          <p:nvPr/>
        </p:nvCxnSpPr>
        <p:spPr>
          <a:xfrm flipH="1" rot="16200000">
            <a:off x="1794600" y="2948760"/>
            <a:ext cx="2160" cy="1114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98" name=""/>
          <p:cNvSpPr/>
          <p:nvPr/>
        </p:nvSpPr>
        <p:spPr>
          <a:xfrm>
            <a:off x="1816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63204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44824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1" name=""/>
          <p:cNvCxnSpPr>
            <a:stCxn id="1389" idx="0"/>
            <a:endCxn id="1390" idx="0"/>
          </p:cNvCxnSpPr>
          <p:nvPr/>
        </p:nvCxnSpPr>
        <p:spPr>
          <a:xfrm flipH="1" rot="16200000">
            <a:off x="8213040" y="2556360"/>
            <a:ext cx="2160" cy="18993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02" name=""/>
          <p:cNvSpPr/>
          <p:nvPr/>
        </p:nvSpPr>
        <p:spPr>
          <a:xfrm>
            <a:off x="784224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817236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505040" y="609480"/>
            <a:ext cx="108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IDIN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811240" y="1582560"/>
            <a:ext cx="50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 =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993320" y="23623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63204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224080" y="2362320"/>
            <a:ext cx="59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CF =2                                          =3                                                      = 1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                              MT =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301920" y="2666880"/>
            <a:ext cx="60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PM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952880" y="1219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1" name=""/>
          <p:cNvCxnSpPr>
            <a:stCxn id="1387" idx="0"/>
            <a:endCxn id="1400" idx="0"/>
          </p:cNvCxnSpPr>
          <p:nvPr/>
        </p:nvCxnSpPr>
        <p:spPr>
          <a:xfrm flipH="1" flipV="1" rot="5400000">
            <a:off x="5074920" y="3112920"/>
            <a:ext cx="210240" cy="536760"/>
          </a:xfrm>
          <a:prstGeom prst="bentConnector3">
            <a:avLst>
              <a:gd name="adj1" fmla="val 452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2" name=""/>
          <p:cNvCxnSpPr/>
          <p:nvPr/>
        </p:nvCxnSpPr>
        <p:spPr>
          <a:xfrm>
            <a:off x="5028840" y="3390480"/>
            <a:ext cx="470520" cy="127800"/>
          </a:xfrm>
          <a:prstGeom prst="bentConnector3">
            <a:avLst>
              <a:gd name="adj1" fmla="val 10000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13" name=""/>
          <p:cNvSpPr/>
          <p:nvPr/>
        </p:nvSpPr>
        <p:spPr>
          <a:xfrm>
            <a:off x="7486560" y="3259080"/>
            <a:ext cx="200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NMF = 3          =4                              =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25480" y="5029200"/>
            <a:ext cx="14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82548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851560" y="4876920"/>
            <a:ext cx="111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457880" y="50292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43896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851520" y="5029200"/>
            <a:ext cx="57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85152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65400" y="4876920"/>
            <a:ext cx="128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Transport 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8915400" y="5029200"/>
            <a:ext cx="66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957564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412280" y="5316480"/>
            <a:ext cx="609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 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418400" y="5697360"/>
            <a:ext cx="74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from 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995640" y="5595840"/>
            <a:ext cx="432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31. CIDIN messages exchanged betwee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CIDIN Component and MT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43040" y="3733920"/>
            <a:ext cx="1648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rot="5328000">
            <a:off x="749160" y="3498840"/>
            <a:ext cx="152280" cy="1648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054240" y="3505320"/>
            <a:ext cx="107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PM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rot="5328000">
            <a:off x="4416120" y="3530160"/>
            <a:ext cx="152280" cy="1652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rot="5328000">
            <a:off x="3060360" y="3498480"/>
            <a:ext cx="152280" cy="1652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054240" y="3733920"/>
            <a:ext cx="16524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rot="5328000">
            <a:off x="6857640" y="3498480"/>
            <a:ext cx="152280" cy="1652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rot="5328000">
            <a:off x="7765920" y="3498840"/>
            <a:ext cx="152280" cy="1648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rot="5328000">
            <a:off x="8756280" y="3498480"/>
            <a:ext cx="152280" cy="1652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743040" y="5257800"/>
            <a:ext cx="577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rot="5328000">
            <a:off x="749160" y="5251320"/>
            <a:ext cx="152280" cy="1648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43040" y="5715000"/>
            <a:ext cx="577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rot="5328000">
            <a:off x="749160" y="5708520"/>
            <a:ext cx="152280" cy="1648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743040" y="5943600"/>
            <a:ext cx="16488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825480" y="42670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cknowledge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ent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825480" y="4495680"/>
            <a:ext cx="165240" cy="1526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rot="5328000">
            <a:off x="831240" y="4260600"/>
            <a:ext cx="152640" cy="1652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981080" y="4267080"/>
            <a:ext cx="1238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Unknown address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Indic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981080" y="4495680"/>
            <a:ext cx="165240" cy="1526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rot="5328000">
            <a:off x="1986840" y="4260600"/>
            <a:ext cx="152640" cy="1652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rot="5328000">
            <a:off x="3473280" y="4260600"/>
            <a:ext cx="152640" cy="1648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068560" y="3030480"/>
            <a:ext cx="48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967200" y="3030480"/>
            <a:ext cx="48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041080" y="3944880"/>
            <a:ext cx="50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410000" y="3733920"/>
            <a:ext cx="165240" cy="1522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2" name=""/>
          <p:cNvGraphicFramePr/>
          <p:nvPr/>
        </p:nvGraphicFramePr>
        <p:xfrm>
          <a:off x="749160" y="303120"/>
          <a:ext cx="8256600" cy="49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303120"/>
                    <a:ext cx="8256600" cy="49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4" name=""/>
          <p:cNvSpPr/>
          <p:nvPr/>
        </p:nvSpPr>
        <p:spPr>
          <a:xfrm>
            <a:off x="2476440" y="5638680"/>
            <a:ext cx="47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32.  Use of transport service primi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907920" y="1371600"/>
            <a:ext cx="8089920" cy="3886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292640" y="304920"/>
            <a:ext cx="11556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Dire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146320" y="1600200"/>
            <a:ext cx="132084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ccess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MHS Direc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127400" y="1600200"/>
            <a:ext cx="148608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DUA 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476360" y="2314440"/>
            <a:ext cx="1486080" cy="457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d5d5d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320840" y="3137040"/>
            <a:ext cx="13208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dashDot"/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228760" y="4191120"/>
            <a:ext cx="1320840" cy="761760"/>
          </a:xfrm>
          <a:prstGeom prst="rect">
            <a:avLst/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375080" y="4038480"/>
            <a:ext cx="1320840" cy="762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ff99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210200" y="4191120"/>
            <a:ext cx="1320480" cy="761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ff99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521400" y="4140360"/>
            <a:ext cx="1320840" cy="7617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943600" y="2209680"/>
            <a:ext cx="1403280" cy="38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934240" y="3429000"/>
            <a:ext cx="140328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dashDot"/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78800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2971440" y="2057400"/>
            <a:ext cx="1733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2889360" y="2057400"/>
            <a:ext cx="189864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635200" y="3340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806560" y="2057400"/>
            <a:ext cx="9493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902120" y="206676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4890960" y="2438280"/>
            <a:ext cx="105264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911840" y="2990880"/>
            <a:ext cx="1031760" cy="59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311560" y="4343400"/>
            <a:ext cx="1049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153840" y="2190600"/>
            <a:ext cx="1047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Level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cipient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691160" y="965160"/>
            <a:ext cx="330120" cy="609480"/>
          </a:xfrm>
          <a:prstGeom prst="upDownArrow">
            <a:avLst>
              <a:gd name="adj1" fmla="val 50000"/>
              <a:gd name="adj2" fmla="val 3675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163640" y="1523880"/>
            <a:ext cx="14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CIDIN/AMHS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971800" y="5486400"/>
            <a:ext cx="471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33.  Use of the ATN Directory by components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CIDIN/AMHS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907920" y="5410080"/>
            <a:ext cx="330480" cy="152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907920" y="5638680"/>
            <a:ext cx="330480" cy="152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290240" y="5400720"/>
            <a:ext cx="1223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Mandatory requir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303200" y="5614920"/>
            <a:ext cx="96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Recommend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964120" y="2743200"/>
            <a:ext cx="1382760" cy="504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4946760" y="2971440"/>
            <a:ext cx="99684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907920" y="5867280"/>
            <a:ext cx="330480" cy="152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313280" y="5811840"/>
            <a:ext cx="118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Implementation mat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981800" y="2363760"/>
            <a:ext cx="592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541160" y="3192480"/>
            <a:ext cx="8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L-Expan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175440" y="2725560"/>
            <a:ext cx="100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trieval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User Certific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(Securi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271920" y="3382920"/>
            <a:ext cx="81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ddre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onvers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4292640" y="838080"/>
            <a:ext cx="1403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8385120" y="5079960"/>
            <a:ext cx="1397160" cy="6476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311720" y="1676520"/>
            <a:ext cx="1403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457880" y="3200400"/>
            <a:ext cx="1320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403280" y="1066680"/>
            <a:ext cx="288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695920" y="990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695920" y="106668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778360" y="1828800"/>
            <a:ext cx="2394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1389240" y="2437920"/>
            <a:ext cx="678312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851520" y="4572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054240" y="533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367640" y="185760"/>
            <a:ext cx="151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. Nomi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510200" y="515880"/>
            <a:ext cx="1032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ATN  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MHS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622760" y="38088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MT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081920" y="200160"/>
            <a:ext cx="110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CIDIN Compo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937200" y="782640"/>
            <a:ext cx="162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Information msg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737600" y="2109960"/>
            <a:ext cx="84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 3.1.2.4.3.2.1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778360" y="3276720"/>
            <a:ext cx="1960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7745400" y="3162240"/>
            <a:ext cx="2476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1" name=""/>
          <p:cNvCxnSpPr/>
          <p:nvPr/>
        </p:nvCxnSpPr>
        <p:spPr>
          <a:xfrm>
            <a:off x="5333760" y="3428640"/>
            <a:ext cx="1981800" cy="229320"/>
          </a:xfrm>
          <a:prstGeom prst="bentConnector3">
            <a:avLst>
              <a:gd name="adj1" fmla="val 281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2" name=""/>
          <p:cNvCxnSpPr/>
          <p:nvPr/>
        </p:nvCxnSpPr>
        <p:spPr>
          <a:xfrm rot="10800000">
            <a:off x="1586880" y="4247280"/>
            <a:ext cx="2832840" cy="80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3" name=""/>
          <p:cNvCxnSpPr/>
          <p:nvPr/>
        </p:nvCxnSpPr>
        <p:spPr>
          <a:xfrm flipV="1" rot="10800000">
            <a:off x="1599480" y="4437720"/>
            <a:ext cx="2791440" cy="114840"/>
          </a:xfrm>
          <a:prstGeom prst="bentConnector3">
            <a:avLst>
              <a:gd name="adj1" fmla="val 499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4" name=""/>
          <p:cNvSpPr/>
          <p:nvPr/>
        </p:nvSpPr>
        <p:spPr>
          <a:xfrm>
            <a:off x="5778360" y="43434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7786800" y="4216320"/>
            <a:ext cx="2476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6" name=""/>
          <p:cNvCxnSpPr/>
          <p:nvPr/>
        </p:nvCxnSpPr>
        <p:spPr>
          <a:xfrm rot="10800000">
            <a:off x="1573920" y="5139720"/>
            <a:ext cx="2832840" cy="79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7" name=""/>
          <p:cNvCxnSpPr/>
          <p:nvPr/>
        </p:nvCxnSpPr>
        <p:spPr>
          <a:xfrm flipV="1" rot="10800000">
            <a:off x="1599480" y="5333040"/>
            <a:ext cx="2791440" cy="114840"/>
          </a:xfrm>
          <a:prstGeom prst="bentConnector3">
            <a:avLst>
              <a:gd name="adj1" fmla="val 499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8" name=""/>
          <p:cNvSpPr/>
          <p:nvPr/>
        </p:nvSpPr>
        <p:spPr>
          <a:xfrm>
            <a:off x="5778360" y="5276880"/>
            <a:ext cx="2455920" cy="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457880" y="4191120"/>
            <a:ext cx="1320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457880" y="5105520"/>
            <a:ext cx="1320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054240" y="3276720"/>
            <a:ext cx="0" cy="255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51520" y="3200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403280" y="3879720"/>
            <a:ext cx="68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400040" y="4861080"/>
            <a:ext cx="682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403280" y="5867280"/>
            <a:ext cx="67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190560" y="303048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3b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924960" y="2801880"/>
            <a:ext cx="168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issing CIDIN netw. ack.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3.2.2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052760" y="3373560"/>
            <a:ext cx="133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information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668120" y="3595680"/>
            <a:ext cx="91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3.1.2.4.3.2.2c)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996920" y="4014720"/>
            <a:ext cx="7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 N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996200" y="4281480"/>
            <a:ext cx="6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 I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647880" y="403848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4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670200" y="4255920"/>
            <a:ext cx="28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659400" y="445932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4b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805640" y="463068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3.1.2.4.3.2.2d)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025680" y="406548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3b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932880" y="3881520"/>
            <a:ext cx="168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issing CIDIN netw. ack.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3.2.2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990440" y="4878360"/>
            <a:ext cx="73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 N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996200" y="5164200"/>
            <a:ext cx="6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 I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643200" y="5138640"/>
            <a:ext cx="28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631320" y="489744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4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3631680" y="539280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4b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107760" y="493560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3c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802040" y="5500800"/>
            <a:ext cx="8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3.1.2.4.3.2.5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6978240" y="4846680"/>
            <a:ext cx="125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MCF error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2.1.3b)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369800" y="285264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b. Out-of-line sit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784680" y="6078600"/>
            <a:ext cx="3774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Figure III-6-34.  Handling of CIDIN service confirmations f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Times New Roman"/>
              </a:rPr>
              <a:t>sent 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CIDIN information mess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299040" y="744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023160" y="744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2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025320" y="150660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3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148880" y="1447920"/>
            <a:ext cx="126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netw. ack.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2.1.3.a)/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2" name=""/>
          <p:cNvCxnSpPr>
            <a:stCxn id="1492" idx="2"/>
          </p:cNvCxnSpPr>
          <p:nvPr/>
        </p:nvCxnSpPr>
        <p:spPr>
          <a:xfrm rot="5400000">
            <a:off x="3564720" y="18720"/>
            <a:ext cx="229320" cy="2629800"/>
          </a:xfrm>
          <a:prstGeom prst="bent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553" name=""/>
          <p:cNvSpPr/>
          <p:nvPr/>
        </p:nvSpPr>
        <p:spPr>
          <a:xfrm>
            <a:off x="2258640" y="1143000"/>
            <a:ext cx="66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 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2874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4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243880" y="143028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(on reques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5793840" y="10936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3.1.2.4.2.3.1.b)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8461080" y="5119560"/>
            <a:ext cx="13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x/ Reference to cla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in Doc. 9705, SV II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[x] Sequence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640400" y="833400"/>
            <a:ext cx="75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757760" y="1747800"/>
            <a:ext cx="59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Log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674600" y="3182760"/>
            <a:ext cx="8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Use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secondary 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739760" y="4183200"/>
            <a:ext cx="75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NDR or I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720680" y="5097600"/>
            <a:ext cx="75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NDR or I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3632040" y="1219320"/>
            <a:ext cx="1320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302840" y="457200"/>
            <a:ext cx="151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. Nominal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H="1">
            <a:off x="1485720" y="1371600"/>
            <a:ext cx="214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952880" y="1371600"/>
            <a:ext cx="313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7" name=""/>
          <p:cNvCxnSpPr>
            <a:stCxn id="1563" idx="2"/>
          </p:cNvCxnSpPr>
          <p:nvPr/>
        </p:nvCxnSpPr>
        <p:spPr>
          <a:xfrm flipH="1" rot="16200000">
            <a:off x="5929920" y="-38520"/>
            <a:ext cx="229320" cy="3506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8" name=""/>
          <p:cNvSpPr/>
          <p:nvPr/>
        </p:nvSpPr>
        <p:spPr>
          <a:xfrm>
            <a:off x="1238400" y="2209680"/>
            <a:ext cx="701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806560" y="1066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943600" y="990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632040" y="3124080"/>
            <a:ext cx="13208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952880" y="3276720"/>
            <a:ext cx="3302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3" name=""/>
          <p:cNvCxnSpPr>
            <a:stCxn id="1571" idx="2"/>
          </p:cNvCxnSpPr>
          <p:nvPr/>
        </p:nvCxnSpPr>
        <p:spPr>
          <a:xfrm flipH="1" rot="16200000">
            <a:off x="5549760" y="2247480"/>
            <a:ext cx="229320" cy="274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4" name=""/>
          <p:cNvSpPr/>
          <p:nvPr/>
        </p:nvSpPr>
        <p:spPr>
          <a:xfrm>
            <a:off x="1238400" y="4267080"/>
            <a:ext cx="709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806560" y="29718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943600" y="29718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26444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6686640" y="4876920"/>
            <a:ext cx="1320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9" name=""/>
          <p:cNvCxnSpPr>
            <a:stCxn id="1578" idx="0"/>
          </p:cNvCxnSpPr>
          <p:nvPr/>
        </p:nvCxnSpPr>
        <p:spPr>
          <a:xfrm flipH="1" flipV="1" rot="5400000">
            <a:off x="7651440" y="4190400"/>
            <a:ext cx="381960" cy="991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80" name=""/>
          <p:cNvCxnSpPr/>
          <p:nvPr/>
        </p:nvCxnSpPr>
        <p:spPr>
          <a:xfrm flipH="1" rot="16200000">
            <a:off x="7162560" y="4876200"/>
            <a:ext cx="229320" cy="991440"/>
          </a:xfrm>
          <a:prstGeom prst="bentConnector3">
            <a:avLst>
              <a:gd name="adj1" fmla="val 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1" name=""/>
          <p:cNvSpPr/>
          <p:nvPr/>
        </p:nvSpPr>
        <p:spPr>
          <a:xfrm>
            <a:off x="1238400" y="5867280"/>
            <a:ext cx="71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279440" y="762120"/>
            <a:ext cx="100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ATN 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MHS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657480" y="762120"/>
            <a:ext cx="133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CIDIN 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information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051360" y="1049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3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051440" y="744480"/>
            <a:ext cx="53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MT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362920" y="1049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850120" y="1378080"/>
            <a:ext cx="77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/3.1.2.4.2.3.1b)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365080" y="158256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2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676920" y="1420920"/>
            <a:ext cx="12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netw. ack.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2.1.7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05000" y="2438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b. Out-of-line sit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805440" y="2954160"/>
            <a:ext cx="133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information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492440" y="3801960"/>
            <a:ext cx="8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3.1.2.4.3.2.8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301800" y="3868560"/>
            <a:ext cx="202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Suppression of CIDIN netw. ack.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2.1.8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309720" y="5468760"/>
            <a:ext cx="125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MCF error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3.1.2.4.2.1.5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486840" y="4249800"/>
            <a:ext cx="168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information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220920" y="6002280"/>
            <a:ext cx="3584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Figure III-6-35. Handling of CIDIN service confirmations f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u="sng">
                <a:solidFill>
                  <a:srgbClr val="000000"/>
                </a:solidFill>
                <a:uFillTx/>
                <a:latin typeface="Times New Roman"/>
              </a:rPr>
              <a:t>received 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CIDIN information mess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362920" y="3030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365080" y="3487680"/>
            <a:ext cx="3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2b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8004240" y="44784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1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8002440" y="5562720"/>
            <a:ext cx="36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[2c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344840" y="1798560"/>
            <a:ext cx="19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385880" y="1855800"/>
            <a:ext cx="8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/3.1.2.4.3.2.8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8469360" y="4768920"/>
            <a:ext cx="1396800" cy="6476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8545320" y="4808520"/>
            <a:ext cx="131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/x/ Reference to clau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in Doc. 9705, SV II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[x] Sequence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654360" y="1220760"/>
            <a:ext cx="126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essage Acceptance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867120" y="320184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No Accep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978960" y="4878360"/>
            <a:ext cx="691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CF no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suppor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8" name=""/>
          <p:cNvGraphicFramePr/>
          <p:nvPr/>
        </p:nvGraphicFramePr>
        <p:xfrm>
          <a:off x="1374840" y="1600200"/>
          <a:ext cx="1297080" cy="10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1600200"/>
                    <a:ext cx="129708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0" name=""/>
          <p:cNvGraphicFramePr/>
          <p:nvPr/>
        </p:nvGraphicFramePr>
        <p:xfrm>
          <a:off x="7070760" y="1600200"/>
          <a:ext cx="1297080" cy="10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70760" y="1600200"/>
                    <a:ext cx="129708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2" name=""/>
          <p:cNvGraphicFramePr/>
          <p:nvPr/>
        </p:nvGraphicFramePr>
        <p:xfrm>
          <a:off x="1292400" y="4038480"/>
          <a:ext cx="1296720" cy="100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2400" y="4038480"/>
                    <a:ext cx="129672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4" name=""/>
          <p:cNvGraphicFramePr/>
          <p:nvPr/>
        </p:nvGraphicFramePr>
        <p:xfrm>
          <a:off x="7153200" y="4038480"/>
          <a:ext cx="1297080" cy="1005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53200" y="4038480"/>
                    <a:ext cx="129708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6" name=""/>
          <p:cNvSpPr/>
          <p:nvPr/>
        </p:nvSpPr>
        <p:spPr>
          <a:xfrm>
            <a:off x="3219480" y="4114800"/>
            <a:ext cx="99072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283360" y="4114800"/>
            <a:ext cx="990360" cy="6094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220400" y="990720"/>
            <a:ext cx="161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)  Native AFTN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311560" y="1828800"/>
            <a:ext cx="51181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088520" y="152388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-M {Ad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8022240" y="1676520"/>
            <a:ext cx="3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605960" y="2438280"/>
            <a:ext cx="869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rigin 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227000" y="2438280"/>
            <a:ext cx="113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estination 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221480" y="3429000"/>
            <a:ext cx="162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b)  AFTN/CIDIN Environ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898640" y="38862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89864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561760" y="3767040"/>
            <a:ext cx="4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054240" y="38862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735360" y="3800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879720" y="3886200"/>
            <a:ext cx="57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543920" y="376092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952880" y="388620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77836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5861160" y="3886200"/>
            <a:ext cx="74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31200" y="3772080"/>
            <a:ext cx="4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7099200" y="3886200"/>
            <a:ext cx="66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775980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29264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356520" y="4343400"/>
            <a:ext cx="11556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2876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338200" y="409104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-M {Ad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434680" y="4325760"/>
            <a:ext cx="52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(AFT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425400" y="4267080"/>
            <a:ext cx="64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d </a:t>
            </a:r>
            <a:r>
              <a:rPr b="1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A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4272120" y="4071960"/>
            <a:ext cx="102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-M {Ax, Ad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458760" y="409716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-M {Ad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8087400" y="4097160"/>
            <a:ext cx="3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474920" y="4800600"/>
            <a:ext cx="869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rigin 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344400" y="4789440"/>
            <a:ext cx="80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ntry 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416200" y="4782960"/>
            <a:ext cx="72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xit 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196760" y="4782960"/>
            <a:ext cx="113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estination 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37040" y="5715000"/>
            <a:ext cx="451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36a). Handling of recipient‘s address in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combined AFTN/CIDIN/AMHS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2" name=""/>
          <p:cNvGraphicFramePr/>
          <p:nvPr/>
        </p:nvGraphicFramePr>
        <p:xfrm>
          <a:off x="6445080" y="1639800"/>
          <a:ext cx="1733760" cy="12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5080" y="1639800"/>
                    <a:ext cx="173376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4" name=""/>
          <p:cNvSpPr/>
          <p:nvPr/>
        </p:nvSpPr>
        <p:spPr>
          <a:xfrm>
            <a:off x="4805280" y="1763640"/>
            <a:ext cx="990720" cy="48276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5" name=""/>
          <p:cNvGraphicFramePr/>
          <p:nvPr/>
        </p:nvGraphicFramePr>
        <p:xfrm>
          <a:off x="392040" y="1676520"/>
          <a:ext cx="1527120" cy="118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040" y="1676520"/>
                    <a:ext cx="152712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7" name=""/>
          <p:cNvSpPr/>
          <p:nvPr/>
        </p:nvSpPr>
        <p:spPr>
          <a:xfrm>
            <a:off x="2394000" y="1781280"/>
            <a:ext cx="990720" cy="501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906480" y="838080"/>
            <a:ext cx="197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)  AFTN/CIDIN/AMHS Environment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1155600" y="1523880"/>
            <a:ext cx="18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986200" y="1600200"/>
            <a:ext cx="72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817440" y="144792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162080" y="1606680"/>
            <a:ext cx="53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1729800" y="1479600"/>
            <a:ext cx="4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181240" y="1606680"/>
            <a:ext cx="679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930400" y="1535040"/>
            <a:ext cx="18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292640" y="1600200"/>
            <a:ext cx="82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289480" y="1486080"/>
            <a:ext cx="1800" cy="15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372280" y="160164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966640" y="144792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438960" y="1600200"/>
            <a:ext cx="82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343640" y="1506600"/>
            <a:ext cx="180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486080" y="2057400"/>
            <a:ext cx="9079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467160" y="2057400"/>
            <a:ext cx="1044360" cy="1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292640" y="205740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784840" y="2021040"/>
            <a:ext cx="1174680" cy="1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440720" y="1828800"/>
            <a:ext cx="8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-M {Ad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493440" y="179244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-M {Ax,Ad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990400" y="177336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-M {MF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000400" y="1868400"/>
            <a:ext cx="62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d </a:t>
            </a: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M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2598120" y="1905120"/>
            <a:ext cx="61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d </a:t>
            </a:r>
            <a:r>
              <a:rPr b="1" lang="de-DE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97680" y="2514600"/>
            <a:ext cx="869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rigin 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476080" y="2344680"/>
            <a:ext cx="80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ntry 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994640" y="2325600"/>
            <a:ext cx="7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/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049520" y="255420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cip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682760" y="17748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01560" y="3192480"/>
            <a:ext cx="80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 Narrow"/>
              </a:rPr>
              <a:t>Legen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28920" y="3411360"/>
            <a:ext cx="1756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      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x     CIDIN exit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d     AFTN destination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F    AMHS recipient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2641680" y="4572000"/>
            <a:ext cx="479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36b).  Handling of recipient‘s address in a 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AFTN/CIDIN/AMHS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558720" y="3552840"/>
            <a:ext cx="1395360" cy="511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12920" y="3552840"/>
            <a:ext cx="1542960" cy="512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000240" y="2787480"/>
            <a:ext cx="1484280" cy="5130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081240" y="4200480"/>
            <a:ext cx="1484280" cy="512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5530680" y="1511280"/>
            <a:ext cx="1221120" cy="511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5530680" y="2276640"/>
            <a:ext cx="1221120" cy="512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710480" y="1339920"/>
            <a:ext cx="1655640" cy="221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710480" y="1339920"/>
            <a:ext cx="1657440" cy="2214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702560" y="4116240"/>
            <a:ext cx="1744560" cy="679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702560" y="4116240"/>
            <a:ext cx="1746360" cy="681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957320" y="3084480"/>
            <a:ext cx="952560" cy="674640"/>
          </a:xfrm>
          <a:custGeom>
            <a:avLst/>
            <a:gdLst/>
            <a:ahLst/>
            <a:rect l="l" t="t" r="r" b="b"/>
            <a:pathLst>
              <a:path w="554" h="425">
                <a:moveTo>
                  <a:pt x="554" y="0"/>
                </a:moveTo>
                <a:lnTo>
                  <a:pt x="326" y="0"/>
                </a:lnTo>
                <a:lnTo>
                  <a:pt x="316" y="1"/>
                </a:lnTo>
                <a:lnTo>
                  <a:pt x="305" y="5"/>
                </a:lnTo>
                <a:lnTo>
                  <a:pt x="297" y="12"/>
                </a:lnTo>
                <a:lnTo>
                  <a:pt x="291" y="21"/>
                </a:lnTo>
                <a:lnTo>
                  <a:pt x="287" y="32"/>
                </a:lnTo>
                <a:lnTo>
                  <a:pt x="286" y="42"/>
                </a:lnTo>
                <a:lnTo>
                  <a:pt x="286" y="213"/>
                </a:lnTo>
                <a:lnTo>
                  <a:pt x="286" y="383"/>
                </a:lnTo>
                <a:lnTo>
                  <a:pt x="284" y="394"/>
                </a:lnTo>
                <a:lnTo>
                  <a:pt x="280" y="404"/>
                </a:lnTo>
                <a:lnTo>
                  <a:pt x="274" y="413"/>
                </a:lnTo>
                <a:lnTo>
                  <a:pt x="265" y="420"/>
                </a:lnTo>
                <a:lnTo>
                  <a:pt x="256" y="424"/>
                </a:lnTo>
                <a:lnTo>
                  <a:pt x="245" y="425"/>
                </a:lnTo>
                <a:lnTo>
                  <a:pt x="0" y="42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908440" y="3046320"/>
            <a:ext cx="61920" cy="60480"/>
          </a:xfrm>
          <a:custGeom>
            <a:avLst/>
            <a:gdLst/>
            <a:ahLst/>
            <a:rect l="l" t="t" r="r" b="b"/>
            <a:pathLst>
              <a:path w="36" h="38">
                <a:moveTo>
                  <a:pt x="0" y="0"/>
                </a:moveTo>
                <a:lnTo>
                  <a:pt x="36" y="19"/>
                </a:lnTo>
                <a:lnTo>
                  <a:pt x="0" y="3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1954080" y="3936960"/>
            <a:ext cx="1074960" cy="519120"/>
          </a:xfrm>
          <a:custGeom>
            <a:avLst/>
            <a:gdLst/>
            <a:ahLst/>
            <a:rect l="l" t="t" r="r" b="b"/>
            <a:pathLst>
              <a:path w="625" h="327">
                <a:moveTo>
                  <a:pt x="0" y="0"/>
                </a:moveTo>
                <a:lnTo>
                  <a:pt x="288" y="0"/>
                </a:lnTo>
                <a:lnTo>
                  <a:pt x="298" y="1"/>
                </a:lnTo>
                <a:lnTo>
                  <a:pt x="308" y="5"/>
                </a:lnTo>
                <a:lnTo>
                  <a:pt x="317" y="12"/>
                </a:lnTo>
                <a:lnTo>
                  <a:pt x="324" y="22"/>
                </a:lnTo>
                <a:lnTo>
                  <a:pt x="328" y="32"/>
                </a:lnTo>
                <a:lnTo>
                  <a:pt x="329" y="42"/>
                </a:lnTo>
                <a:lnTo>
                  <a:pt x="329" y="163"/>
                </a:lnTo>
                <a:lnTo>
                  <a:pt x="329" y="284"/>
                </a:lnTo>
                <a:lnTo>
                  <a:pt x="330" y="295"/>
                </a:lnTo>
                <a:lnTo>
                  <a:pt x="334" y="306"/>
                </a:lnTo>
                <a:lnTo>
                  <a:pt x="341" y="314"/>
                </a:lnTo>
                <a:lnTo>
                  <a:pt x="349" y="321"/>
                </a:lnTo>
                <a:lnTo>
                  <a:pt x="359" y="326"/>
                </a:lnTo>
                <a:lnTo>
                  <a:pt x="369" y="327"/>
                </a:lnTo>
                <a:lnTo>
                  <a:pt x="625" y="32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019320" y="4425840"/>
            <a:ext cx="61920" cy="60480"/>
          </a:xfrm>
          <a:custGeom>
            <a:avLst/>
            <a:gdLst/>
            <a:ahLst/>
            <a:rect l="l" t="t" r="r" b="b"/>
            <a:pathLst>
              <a:path w="36" h="38">
                <a:moveTo>
                  <a:pt x="0" y="0"/>
                </a:moveTo>
                <a:lnTo>
                  <a:pt x="36" y="19"/>
                </a:lnTo>
                <a:lnTo>
                  <a:pt x="0" y="3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564080" y="4456080"/>
            <a:ext cx="30798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7635960" y="4422600"/>
            <a:ext cx="66600" cy="66960"/>
          </a:xfrm>
          <a:custGeom>
            <a:avLst/>
            <a:gdLst/>
            <a:ahLst/>
            <a:rect l="l" t="t" r="r" b="b"/>
            <a:pathLst>
              <a:path w="39" h="42">
                <a:moveTo>
                  <a:pt x="0" y="0"/>
                </a:moveTo>
                <a:lnTo>
                  <a:pt x="39" y="21"/>
                </a:lnTo>
                <a:lnTo>
                  <a:pt x="0" y="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483080" y="3170160"/>
            <a:ext cx="3171960" cy="212760"/>
          </a:xfrm>
          <a:custGeom>
            <a:avLst/>
            <a:gdLst/>
            <a:ahLst/>
            <a:rect l="l" t="t" r="r" b="b"/>
            <a:pathLst>
              <a:path w="1844" h="134">
                <a:moveTo>
                  <a:pt x="0" y="0"/>
                </a:moveTo>
                <a:lnTo>
                  <a:pt x="424" y="0"/>
                </a:lnTo>
                <a:lnTo>
                  <a:pt x="434" y="1"/>
                </a:lnTo>
                <a:lnTo>
                  <a:pt x="443" y="6"/>
                </a:lnTo>
                <a:lnTo>
                  <a:pt x="450" y="14"/>
                </a:lnTo>
                <a:lnTo>
                  <a:pt x="455" y="23"/>
                </a:lnTo>
                <a:lnTo>
                  <a:pt x="456" y="33"/>
                </a:lnTo>
                <a:lnTo>
                  <a:pt x="456" y="67"/>
                </a:lnTo>
                <a:lnTo>
                  <a:pt x="456" y="91"/>
                </a:lnTo>
                <a:lnTo>
                  <a:pt x="457" y="102"/>
                </a:lnTo>
                <a:lnTo>
                  <a:pt x="462" y="112"/>
                </a:lnTo>
                <a:lnTo>
                  <a:pt x="468" y="121"/>
                </a:lnTo>
                <a:lnTo>
                  <a:pt x="476" y="129"/>
                </a:lnTo>
                <a:lnTo>
                  <a:pt x="486" y="132"/>
                </a:lnTo>
                <a:lnTo>
                  <a:pt x="497" y="134"/>
                </a:lnTo>
                <a:lnTo>
                  <a:pt x="1844" y="13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648560" y="3352680"/>
            <a:ext cx="61920" cy="60480"/>
          </a:xfrm>
          <a:custGeom>
            <a:avLst/>
            <a:gdLst/>
            <a:ahLst/>
            <a:rect l="l" t="t" r="r" b="b"/>
            <a:pathLst>
              <a:path w="36" h="38">
                <a:moveTo>
                  <a:pt x="0" y="0"/>
                </a:moveTo>
                <a:lnTo>
                  <a:pt x="36" y="19"/>
                </a:lnTo>
                <a:lnTo>
                  <a:pt x="0" y="3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488280" y="2583000"/>
            <a:ext cx="1161720" cy="460080"/>
          </a:xfrm>
          <a:custGeom>
            <a:avLst/>
            <a:gdLst/>
            <a:ahLst/>
            <a:rect l="l" t="t" r="r" b="b"/>
            <a:pathLst>
              <a:path w="675" h="290">
                <a:moveTo>
                  <a:pt x="675" y="0"/>
                </a:moveTo>
                <a:lnTo>
                  <a:pt x="394" y="0"/>
                </a:lnTo>
                <a:lnTo>
                  <a:pt x="384" y="2"/>
                </a:lnTo>
                <a:lnTo>
                  <a:pt x="374" y="5"/>
                </a:lnTo>
                <a:lnTo>
                  <a:pt x="365" y="13"/>
                </a:lnTo>
                <a:lnTo>
                  <a:pt x="359" y="22"/>
                </a:lnTo>
                <a:lnTo>
                  <a:pt x="355" y="32"/>
                </a:lnTo>
                <a:lnTo>
                  <a:pt x="354" y="43"/>
                </a:lnTo>
                <a:lnTo>
                  <a:pt x="354" y="144"/>
                </a:lnTo>
                <a:lnTo>
                  <a:pt x="354" y="247"/>
                </a:lnTo>
                <a:lnTo>
                  <a:pt x="352" y="258"/>
                </a:lnTo>
                <a:lnTo>
                  <a:pt x="348" y="268"/>
                </a:lnTo>
                <a:lnTo>
                  <a:pt x="342" y="277"/>
                </a:lnTo>
                <a:lnTo>
                  <a:pt x="333" y="283"/>
                </a:lnTo>
                <a:lnTo>
                  <a:pt x="323" y="288"/>
                </a:lnTo>
                <a:lnTo>
                  <a:pt x="313" y="290"/>
                </a:lnTo>
                <a:lnTo>
                  <a:pt x="0" y="29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7640640" y="2552760"/>
            <a:ext cx="61920" cy="60120"/>
          </a:xfrm>
          <a:custGeom>
            <a:avLst/>
            <a:gdLst/>
            <a:ahLst/>
            <a:rect l="l" t="t" r="r" b="b"/>
            <a:pathLst>
              <a:path w="36" h="38">
                <a:moveTo>
                  <a:pt x="0" y="0"/>
                </a:moveTo>
                <a:lnTo>
                  <a:pt x="36" y="19"/>
                </a:lnTo>
                <a:lnTo>
                  <a:pt x="0" y="3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483080" y="2914560"/>
            <a:ext cx="2005200" cy="128520"/>
          </a:xfrm>
          <a:custGeom>
            <a:avLst/>
            <a:gdLst/>
            <a:ahLst/>
            <a:rect l="l" t="t" r="r" b="b"/>
            <a:pathLst>
              <a:path w="1166" h="81">
                <a:moveTo>
                  <a:pt x="0" y="0"/>
                </a:moveTo>
                <a:lnTo>
                  <a:pt x="538" y="0"/>
                </a:lnTo>
                <a:lnTo>
                  <a:pt x="546" y="2"/>
                </a:lnTo>
                <a:lnTo>
                  <a:pt x="552" y="6"/>
                </a:lnTo>
                <a:lnTo>
                  <a:pt x="556" y="13"/>
                </a:lnTo>
                <a:lnTo>
                  <a:pt x="557" y="20"/>
                </a:lnTo>
                <a:lnTo>
                  <a:pt x="557" y="41"/>
                </a:lnTo>
                <a:lnTo>
                  <a:pt x="559" y="51"/>
                </a:lnTo>
                <a:lnTo>
                  <a:pt x="562" y="61"/>
                </a:lnTo>
                <a:lnTo>
                  <a:pt x="568" y="69"/>
                </a:lnTo>
                <a:lnTo>
                  <a:pt x="577" y="75"/>
                </a:lnTo>
                <a:lnTo>
                  <a:pt x="585" y="79"/>
                </a:lnTo>
                <a:lnTo>
                  <a:pt x="596" y="81"/>
                </a:lnTo>
                <a:lnTo>
                  <a:pt x="1166" y="8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750000" y="1851120"/>
            <a:ext cx="9018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640640" y="1817640"/>
            <a:ext cx="69840" cy="66600"/>
          </a:xfrm>
          <a:custGeom>
            <a:avLst/>
            <a:gdLst/>
            <a:ahLst/>
            <a:rect l="l" t="t" r="r" b="b"/>
            <a:pathLst>
              <a:path w="40" h="42">
                <a:moveTo>
                  <a:pt x="0" y="0"/>
                </a:moveTo>
                <a:lnTo>
                  <a:pt x="40" y="21"/>
                </a:lnTo>
                <a:lnTo>
                  <a:pt x="0" y="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7710480" y="2108160"/>
            <a:ext cx="217440" cy="849240"/>
          </a:xfrm>
          <a:custGeom>
            <a:avLst/>
            <a:gdLst/>
            <a:ahLst/>
            <a:rect l="l" t="t" r="r" b="b"/>
            <a:pathLst>
              <a:path w="127" h="535">
                <a:moveTo>
                  <a:pt x="127" y="535"/>
                </a:moveTo>
                <a:lnTo>
                  <a:pt x="111" y="534"/>
                </a:lnTo>
                <a:lnTo>
                  <a:pt x="97" y="531"/>
                </a:lnTo>
                <a:lnTo>
                  <a:pt x="84" y="523"/>
                </a:lnTo>
                <a:lnTo>
                  <a:pt x="72" y="513"/>
                </a:lnTo>
                <a:lnTo>
                  <a:pt x="63" y="502"/>
                </a:lnTo>
                <a:lnTo>
                  <a:pt x="63" y="300"/>
                </a:lnTo>
                <a:lnTo>
                  <a:pt x="53" y="289"/>
                </a:lnTo>
                <a:lnTo>
                  <a:pt x="42" y="279"/>
                </a:lnTo>
                <a:lnTo>
                  <a:pt x="28" y="273"/>
                </a:lnTo>
                <a:lnTo>
                  <a:pt x="14" y="268"/>
                </a:lnTo>
                <a:lnTo>
                  <a:pt x="0" y="267"/>
                </a:lnTo>
                <a:lnTo>
                  <a:pt x="14" y="266"/>
                </a:lnTo>
                <a:lnTo>
                  <a:pt x="28" y="261"/>
                </a:lnTo>
                <a:lnTo>
                  <a:pt x="42" y="255"/>
                </a:lnTo>
                <a:lnTo>
                  <a:pt x="53" y="245"/>
                </a:lnTo>
                <a:lnTo>
                  <a:pt x="63" y="234"/>
                </a:lnTo>
                <a:lnTo>
                  <a:pt x="63" y="33"/>
                </a:lnTo>
                <a:lnTo>
                  <a:pt x="72" y="20"/>
                </a:lnTo>
                <a:lnTo>
                  <a:pt x="84" y="11"/>
                </a:lnTo>
                <a:lnTo>
                  <a:pt x="97" y="3"/>
                </a:lnTo>
                <a:lnTo>
                  <a:pt x="111" y="0"/>
                </a:lnTo>
                <a:lnTo>
                  <a:pt x="127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7974000" y="2166840"/>
            <a:ext cx="13320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7980120" y="2171880"/>
            <a:ext cx="11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8102520" y="2243160"/>
            <a:ext cx="7164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8119440" y="2246400"/>
            <a:ext cx="35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8043840" y="2309760"/>
            <a:ext cx="795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8067600" y="2314440"/>
            <a:ext cx="2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7972560" y="2598840"/>
            <a:ext cx="13320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7978680" y="2603520"/>
            <a:ext cx="11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8101080" y="2676600"/>
            <a:ext cx="7452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8118000" y="2679840"/>
            <a:ext cx="3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886960" y="2106720"/>
            <a:ext cx="217440" cy="849240"/>
          </a:xfrm>
          <a:custGeom>
            <a:avLst/>
            <a:gdLst/>
            <a:ahLst/>
            <a:rect l="l" t="t" r="r" b="b"/>
            <a:pathLst>
              <a:path w="127" h="535">
                <a:moveTo>
                  <a:pt x="0" y="0"/>
                </a:moveTo>
                <a:lnTo>
                  <a:pt x="15" y="1"/>
                </a:lnTo>
                <a:lnTo>
                  <a:pt x="29" y="4"/>
                </a:lnTo>
                <a:lnTo>
                  <a:pt x="43" y="12"/>
                </a:lnTo>
                <a:lnTo>
                  <a:pt x="54" y="22"/>
                </a:lnTo>
                <a:lnTo>
                  <a:pt x="63" y="34"/>
                </a:lnTo>
                <a:lnTo>
                  <a:pt x="63" y="235"/>
                </a:lnTo>
                <a:lnTo>
                  <a:pt x="73" y="246"/>
                </a:lnTo>
                <a:lnTo>
                  <a:pt x="85" y="256"/>
                </a:lnTo>
                <a:lnTo>
                  <a:pt x="98" y="262"/>
                </a:lnTo>
                <a:lnTo>
                  <a:pt x="112" y="267"/>
                </a:lnTo>
                <a:lnTo>
                  <a:pt x="127" y="267"/>
                </a:lnTo>
                <a:lnTo>
                  <a:pt x="112" y="269"/>
                </a:lnTo>
                <a:lnTo>
                  <a:pt x="98" y="274"/>
                </a:lnTo>
                <a:lnTo>
                  <a:pt x="85" y="280"/>
                </a:lnTo>
                <a:lnTo>
                  <a:pt x="73" y="290"/>
                </a:lnTo>
                <a:lnTo>
                  <a:pt x="63" y="301"/>
                </a:lnTo>
                <a:lnTo>
                  <a:pt x="63" y="503"/>
                </a:lnTo>
                <a:lnTo>
                  <a:pt x="54" y="514"/>
                </a:lnTo>
                <a:lnTo>
                  <a:pt x="43" y="524"/>
                </a:lnTo>
                <a:lnTo>
                  <a:pt x="29" y="532"/>
                </a:lnTo>
                <a:lnTo>
                  <a:pt x="15" y="535"/>
                </a:lnTo>
                <a:lnTo>
                  <a:pt x="0" y="53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8145360" y="2108160"/>
            <a:ext cx="87480" cy="338040"/>
          </a:xfrm>
          <a:custGeom>
            <a:avLst/>
            <a:gdLst/>
            <a:ahLst/>
            <a:rect l="l" t="t" r="r" b="b"/>
            <a:pathLst>
              <a:path w="51" h="213">
                <a:moveTo>
                  <a:pt x="51" y="213"/>
                </a:moveTo>
                <a:lnTo>
                  <a:pt x="44" y="213"/>
                </a:lnTo>
                <a:lnTo>
                  <a:pt x="36" y="211"/>
                </a:lnTo>
                <a:lnTo>
                  <a:pt x="30" y="206"/>
                </a:lnTo>
                <a:lnTo>
                  <a:pt x="26" y="201"/>
                </a:lnTo>
                <a:lnTo>
                  <a:pt x="26" y="120"/>
                </a:lnTo>
                <a:lnTo>
                  <a:pt x="19" y="112"/>
                </a:lnTo>
                <a:lnTo>
                  <a:pt x="9" y="108"/>
                </a:lnTo>
                <a:lnTo>
                  <a:pt x="0" y="106"/>
                </a:lnTo>
                <a:lnTo>
                  <a:pt x="9" y="105"/>
                </a:lnTo>
                <a:lnTo>
                  <a:pt x="19" y="100"/>
                </a:lnTo>
                <a:lnTo>
                  <a:pt x="26" y="93"/>
                </a:lnTo>
                <a:lnTo>
                  <a:pt x="26" y="13"/>
                </a:lnTo>
                <a:lnTo>
                  <a:pt x="30" y="6"/>
                </a:lnTo>
                <a:lnTo>
                  <a:pt x="36" y="2"/>
                </a:lnTo>
                <a:lnTo>
                  <a:pt x="44" y="0"/>
                </a:lnTo>
                <a:lnTo>
                  <a:pt x="51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8237520" y="2155680"/>
            <a:ext cx="1634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8266680" y="2162160"/>
            <a:ext cx="125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8358120" y="2216160"/>
            <a:ext cx="10152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8375760" y="2220840"/>
            <a:ext cx="70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8427960" y="2155680"/>
            <a:ext cx="2444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8460720" y="2162160"/>
            <a:ext cx="21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..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8632800" y="2216160"/>
            <a:ext cx="98280" cy="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8650440" y="2220840"/>
            <a:ext cx="676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8756640" y="2114640"/>
            <a:ext cx="87480" cy="339480"/>
          </a:xfrm>
          <a:custGeom>
            <a:avLst/>
            <a:gdLst/>
            <a:ahLst/>
            <a:rect l="l" t="t" r="r" b="b"/>
            <a:pathLst>
              <a:path w="50" h="214">
                <a:moveTo>
                  <a:pt x="0" y="214"/>
                </a:moveTo>
                <a:lnTo>
                  <a:pt x="7" y="214"/>
                </a:lnTo>
                <a:lnTo>
                  <a:pt x="14" y="211"/>
                </a:lnTo>
                <a:lnTo>
                  <a:pt x="20" y="207"/>
                </a:lnTo>
                <a:lnTo>
                  <a:pt x="25" y="201"/>
                </a:lnTo>
                <a:lnTo>
                  <a:pt x="25" y="121"/>
                </a:lnTo>
                <a:lnTo>
                  <a:pt x="31" y="113"/>
                </a:lnTo>
                <a:lnTo>
                  <a:pt x="40" y="109"/>
                </a:lnTo>
                <a:lnTo>
                  <a:pt x="50" y="107"/>
                </a:lnTo>
                <a:lnTo>
                  <a:pt x="40" y="105"/>
                </a:lnTo>
                <a:lnTo>
                  <a:pt x="31" y="101"/>
                </a:lnTo>
                <a:lnTo>
                  <a:pt x="25" y="93"/>
                </a:lnTo>
                <a:lnTo>
                  <a:pt x="25" y="14"/>
                </a:lnTo>
                <a:lnTo>
                  <a:pt x="20" y="7"/>
                </a:lnTo>
                <a:lnTo>
                  <a:pt x="14" y="3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8145360" y="2532240"/>
            <a:ext cx="87480" cy="341280"/>
          </a:xfrm>
          <a:custGeom>
            <a:avLst/>
            <a:gdLst/>
            <a:ahLst/>
            <a:rect l="l" t="t" r="r" b="b"/>
            <a:pathLst>
              <a:path w="51" h="215">
                <a:moveTo>
                  <a:pt x="51" y="215"/>
                </a:moveTo>
                <a:lnTo>
                  <a:pt x="44" y="214"/>
                </a:lnTo>
                <a:lnTo>
                  <a:pt x="36" y="211"/>
                </a:lnTo>
                <a:lnTo>
                  <a:pt x="30" y="207"/>
                </a:lnTo>
                <a:lnTo>
                  <a:pt x="26" y="201"/>
                </a:lnTo>
                <a:lnTo>
                  <a:pt x="26" y="120"/>
                </a:lnTo>
                <a:lnTo>
                  <a:pt x="19" y="113"/>
                </a:lnTo>
                <a:lnTo>
                  <a:pt x="9" y="108"/>
                </a:lnTo>
                <a:lnTo>
                  <a:pt x="0" y="107"/>
                </a:lnTo>
                <a:lnTo>
                  <a:pt x="9" y="106"/>
                </a:lnTo>
                <a:lnTo>
                  <a:pt x="19" y="101"/>
                </a:lnTo>
                <a:lnTo>
                  <a:pt x="26" y="94"/>
                </a:lnTo>
                <a:lnTo>
                  <a:pt x="26" y="13"/>
                </a:lnTo>
                <a:lnTo>
                  <a:pt x="30" y="8"/>
                </a:lnTo>
                <a:lnTo>
                  <a:pt x="36" y="3"/>
                </a:lnTo>
                <a:lnTo>
                  <a:pt x="44" y="0"/>
                </a:lnTo>
                <a:lnTo>
                  <a:pt x="51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8237520" y="2581200"/>
            <a:ext cx="1634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8266680" y="2587680"/>
            <a:ext cx="125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8358120" y="2641680"/>
            <a:ext cx="101520" cy="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8375040" y="2646360"/>
            <a:ext cx="70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8427960" y="2581200"/>
            <a:ext cx="2444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8460720" y="2587680"/>
            <a:ext cx="21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..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8632800" y="2641680"/>
            <a:ext cx="55440" cy="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8634960" y="2646360"/>
            <a:ext cx="4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Arial"/>
              </a:rPr>
              <a:t>n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8756640" y="2532240"/>
            <a:ext cx="87480" cy="341280"/>
          </a:xfrm>
          <a:custGeom>
            <a:avLst/>
            <a:gdLst/>
            <a:ahLst/>
            <a:rect l="l" t="t" r="r" b="b"/>
            <a:pathLst>
              <a:path w="50" h="215">
                <a:moveTo>
                  <a:pt x="0" y="215"/>
                </a:moveTo>
                <a:lnTo>
                  <a:pt x="7" y="214"/>
                </a:lnTo>
                <a:lnTo>
                  <a:pt x="14" y="211"/>
                </a:lnTo>
                <a:lnTo>
                  <a:pt x="20" y="207"/>
                </a:lnTo>
                <a:lnTo>
                  <a:pt x="25" y="201"/>
                </a:lnTo>
                <a:lnTo>
                  <a:pt x="25" y="120"/>
                </a:lnTo>
                <a:lnTo>
                  <a:pt x="31" y="113"/>
                </a:lnTo>
                <a:lnTo>
                  <a:pt x="40" y="108"/>
                </a:lnTo>
                <a:lnTo>
                  <a:pt x="50" y="107"/>
                </a:lnTo>
                <a:lnTo>
                  <a:pt x="40" y="106"/>
                </a:lnTo>
                <a:lnTo>
                  <a:pt x="31" y="101"/>
                </a:lnTo>
                <a:lnTo>
                  <a:pt x="25" y="94"/>
                </a:lnTo>
                <a:lnTo>
                  <a:pt x="25" y="13"/>
                </a:lnTo>
                <a:lnTo>
                  <a:pt x="20" y="8"/>
                </a:lnTo>
                <a:lnTo>
                  <a:pt x="14" y="3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996160" y="1582560"/>
            <a:ext cx="4204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6013080" y="1587600"/>
            <a:ext cx="384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958000" y="1727280"/>
            <a:ext cx="546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001200" y="1731960"/>
            <a:ext cx="45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Parame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432480" y="1314360"/>
            <a:ext cx="393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474240" y="131904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ID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280200" y="2063880"/>
            <a:ext cx="6969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331680" y="2068560"/>
            <a:ext cx="59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CIDIN (AFT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5996160" y="2309760"/>
            <a:ext cx="4172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010200" y="2314440"/>
            <a:ext cx="38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Mapp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5846760" y="2598840"/>
            <a:ext cx="70956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875920" y="2603520"/>
            <a:ext cx="12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001920" y="2603520"/>
            <a:ext cx="53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842240" y="4535640"/>
            <a:ext cx="13176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847640" y="4540320"/>
            <a:ext cx="11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7970760" y="4611600"/>
            <a:ext cx="7308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988760" y="4614840"/>
            <a:ext cx="35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8008920" y="4535640"/>
            <a:ext cx="21600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8034840" y="4540320"/>
            <a:ext cx="78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8096760" y="4540320"/>
            <a:ext cx="11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8221680" y="4611600"/>
            <a:ext cx="7632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8239320" y="4614840"/>
            <a:ext cx="3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8047080" y="3255840"/>
            <a:ext cx="94752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8081640" y="3260880"/>
            <a:ext cx="87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Originator Indica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8432640" y="3817800"/>
            <a:ext cx="8668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8470440" y="3822840"/>
            <a:ext cx="309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CIDIN (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8776440" y="3822840"/>
            <a:ext cx="174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n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8995320" y="382284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AFT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8499600" y="873000"/>
            <a:ext cx="6969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8550360" y="878040"/>
            <a:ext cx="59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CIDIN (AFT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053040" y="2703600"/>
            <a:ext cx="2016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246720" y="2670120"/>
            <a:ext cx="68400" cy="66600"/>
          </a:xfrm>
          <a:custGeom>
            <a:avLst/>
            <a:gdLst/>
            <a:ahLst/>
            <a:rect l="l" t="t" r="r" b="b"/>
            <a:pathLst>
              <a:path w="40" h="42">
                <a:moveTo>
                  <a:pt x="0" y="0"/>
                </a:moveTo>
                <a:lnTo>
                  <a:pt x="40" y="21"/>
                </a:lnTo>
                <a:lnTo>
                  <a:pt x="0" y="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919680" y="2506680"/>
            <a:ext cx="649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967200" y="2511360"/>
            <a:ext cx="550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MHS/AFT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268800" y="2822400"/>
            <a:ext cx="9968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307320" y="2827440"/>
            <a:ext cx="918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Address Conver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425760" y="3110040"/>
            <a:ext cx="725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471840" y="3114720"/>
            <a:ext cx="6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MF              A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611520" y="3213000"/>
            <a:ext cx="2016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803760" y="3179880"/>
            <a:ext cx="69840" cy="66600"/>
          </a:xfrm>
          <a:custGeom>
            <a:avLst/>
            <a:gdLst/>
            <a:ahLst/>
            <a:rect l="l" t="t" r="r" b="b"/>
            <a:pathLst>
              <a:path w="40" h="42">
                <a:moveTo>
                  <a:pt x="0" y="0"/>
                </a:moveTo>
                <a:lnTo>
                  <a:pt x="40" y="21"/>
                </a:lnTo>
                <a:lnTo>
                  <a:pt x="0" y="4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693960" y="3919680"/>
            <a:ext cx="83196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730680" y="3924360"/>
            <a:ext cx="30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MHS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027680" y="3924360"/>
            <a:ext cx="18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 Narrow"/>
              </a:rPr>
              <a:t>N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255200" y="392436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AFT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147840" y="430380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286080" y="4352760"/>
            <a:ext cx="101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ddress 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417840" y="4505400"/>
            <a:ext cx="18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606480" y="4505400"/>
            <a:ext cx="29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643200" y="4505400"/>
            <a:ext cx="20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832200" y="4505400"/>
            <a:ext cx="16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027680" y="4505400"/>
            <a:ext cx="29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4036680" y="4505400"/>
            <a:ext cx="16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1530360" y="2398680"/>
            <a:ext cx="90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657080" y="2452680"/>
            <a:ext cx="65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Use of 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809360" y="263520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AFT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1430280" y="3219480"/>
            <a:ext cx="533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1542600" y="326880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457200" y="3618000"/>
            <a:ext cx="15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579240" y="3666960"/>
            <a:ext cx="53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riginat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1167120" y="3666960"/>
            <a:ext cx="18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F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350360" y="3666960"/>
            <a:ext cx="41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73840" y="3819600"/>
            <a:ext cx="47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cip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1095480" y="3819600"/>
            <a:ext cx="21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F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308960" y="3819600"/>
            <a:ext cx="41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1775160" y="3819600"/>
            <a:ext cx="18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(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1117440" y="4608360"/>
            <a:ext cx="12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1243440" y="4662360"/>
            <a:ext cx="24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530720" y="4662360"/>
            <a:ext cx="4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555920" y="4662360"/>
            <a:ext cx="36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us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973520" y="4662360"/>
            <a:ext cx="3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987200" y="4662360"/>
            <a:ext cx="23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387800" y="4844880"/>
            <a:ext cx="4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408680" y="4844880"/>
            <a:ext cx="243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712520" y="484488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-AFT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522360" y="5403960"/>
            <a:ext cx="154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673200" y="5457960"/>
            <a:ext cx="44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Leg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80400" y="5635800"/>
            <a:ext cx="852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d    Destin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1552680" y="5635800"/>
            <a:ext cx="39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28560" y="5788080"/>
            <a:ext cx="16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38080" y="5788080"/>
            <a:ext cx="39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1250280" y="5788080"/>
            <a:ext cx="68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ntry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628560" y="5940360"/>
            <a:ext cx="16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x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826200" y="5940360"/>
            <a:ext cx="8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922320" y="5940360"/>
            <a:ext cx="90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exit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328920" y="5784840"/>
            <a:ext cx="49626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371760" y="5886360"/>
            <a:ext cx="499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37.  Translation from MF-addresses into CIDIN addres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6751800" y="2367000"/>
            <a:ext cx="969480" cy="65160"/>
            <a:chOff x="6751800" y="2367000"/>
            <a:chExt cx="969480" cy="65160"/>
          </a:xfrm>
        </p:grpSpPr>
        <p:sp>
          <p:nvSpPr>
            <p:cNvPr id="1831" name=""/>
            <p:cNvSpPr/>
            <p:nvPr/>
          </p:nvSpPr>
          <p:spPr>
            <a:xfrm flipV="1">
              <a:off x="6751800" y="2398680"/>
              <a:ext cx="9039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652520" y="2367000"/>
              <a:ext cx="68760" cy="651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41"/>
                  </a:moveTo>
                  <a:lnTo>
                    <a:pt x="40" y="20"/>
                  </a:lnTo>
                  <a:lnTo>
                    <a:pt x="0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3" name=""/>
          <p:cNvGrpSpPr/>
          <p:nvPr/>
        </p:nvGrpSpPr>
        <p:grpSpPr>
          <a:xfrm>
            <a:off x="3581280" y="4551480"/>
            <a:ext cx="247320" cy="64800"/>
            <a:chOff x="3581280" y="4551480"/>
            <a:chExt cx="247320" cy="64800"/>
          </a:xfrm>
        </p:grpSpPr>
        <p:sp>
          <p:nvSpPr>
            <p:cNvPr id="1834" name=""/>
            <p:cNvSpPr/>
            <p:nvPr/>
          </p:nvSpPr>
          <p:spPr>
            <a:xfrm>
              <a:off x="3581280" y="4583160"/>
              <a:ext cx="18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760200" y="4551480"/>
              <a:ext cx="68400" cy="6480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0" y="41"/>
                  </a:moveTo>
                  <a:lnTo>
                    <a:pt x="40" y="20"/>
                  </a:lnTo>
                  <a:lnTo>
                    <a:pt x="0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6" name=""/>
          <p:cNvSpPr/>
          <p:nvPr/>
        </p:nvSpPr>
        <p:spPr>
          <a:xfrm>
            <a:off x="7745400" y="428616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850160" y="4335480"/>
            <a:ext cx="133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667400" y="2627280"/>
            <a:ext cx="48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803840" y="267660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d(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7043760" y="2152800"/>
            <a:ext cx="5443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7172280" y="220176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7210440" y="2201760"/>
            <a:ext cx="133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7379280" y="22017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(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7824960" y="1731960"/>
            <a:ext cx="34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7929360" y="1781280"/>
            <a:ext cx="133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5079960" y="2779560"/>
            <a:ext cx="165240" cy="127080"/>
          </a:xfrm>
          <a:custGeom>
            <a:avLst/>
            <a:gdLst/>
            <a:ahLst/>
            <a:rect l="l" t="t" r="r" b="b"/>
            <a:pathLst>
              <a:path w="96" h="80">
                <a:moveTo>
                  <a:pt x="0" y="80"/>
                </a:moveTo>
                <a:lnTo>
                  <a:pt x="19" y="78"/>
                </a:lnTo>
                <a:lnTo>
                  <a:pt x="37" y="74"/>
                </a:lnTo>
                <a:lnTo>
                  <a:pt x="54" y="66"/>
                </a:lnTo>
                <a:lnTo>
                  <a:pt x="68" y="57"/>
                </a:lnTo>
                <a:lnTo>
                  <a:pt x="80" y="45"/>
                </a:lnTo>
                <a:lnTo>
                  <a:pt x="88" y="31"/>
                </a:lnTo>
                <a:lnTo>
                  <a:pt x="94" y="16"/>
                </a:lnTo>
                <a:lnTo>
                  <a:pt x="96" y="8"/>
                </a:lnTo>
                <a:lnTo>
                  <a:pt x="9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7" name=""/>
          <p:cNvGrpSpPr/>
          <p:nvPr/>
        </p:nvGrpSpPr>
        <p:grpSpPr>
          <a:xfrm>
            <a:off x="5246640" y="2579760"/>
            <a:ext cx="275760" cy="199800"/>
            <a:chOff x="5246640" y="2579760"/>
            <a:chExt cx="275760" cy="199800"/>
          </a:xfrm>
        </p:grpSpPr>
        <p:sp>
          <p:nvSpPr>
            <p:cNvPr id="1848" name=""/>
            <p:cNvSpPr/>
            <p:nvPr/>
          </p:nvSpPr>
          <p:spPr>
            <a:xfrm>
              <a:off x="5246640" y="2629080"/>
              <a:ext cx="210240" cy="150480"/>
            </a:xfrm>
            <a:custGeom>
              <a:avLst/>
              <a:gdLst/>
              <a:ahLst/>
              <a:rect l="l" t="t" r="r" b="b"/>
              <a:pathLst>
                <a:path w="122" h="95">
                  <a:moveTo>
                    <a:pt x="122" y="0"/>
                  </a:moveTo>
                  <a:lnTo>
                    <a:pt x="122" y="0"/>
                  </a:lnTo>
                  <a:lnTo>
                    <a:pt x="120" y="0"/>
                  </a:lnTo>
                  <a:lnTo>
                    <a:pt x="95" y="4"/>
                  </a:lnTo>
                  <a:lnTo>
                    <a:pt x="72" y="11"/>
                  </a:lnTo>
                  <a:lnTo>
                    <a:pt x="52" y="21"/>
                  </a:lnTo>
                  <a:lnTo>
                    <a:pt x="34" y="32"/>
                  </a:lnTo>
                  <a:lnTo>
                    <a:pt x="20" y="46"/>
                  </a:lnTo>
                  <a:lnTo>
                    <a:pt x="14" y="53"/>
                  </a:lnTo>
                  <a:lnTo>
                    <a:pt x="9" y="61"/>
                  </a:lnTo>
                  <a:lnTo>
                    <a:pt x="5" y="69"/>
                  </a:lnTo>
                  <a:lnTo>
                    <a:pt x="2" y="77"/>
                  </a:lnTo>
                  <a:lnTo>
                    <a:pt x="1" y="86"/>
                  </a:lnTo>
                  <a:lnTo>
                    <a:pt x="0" y="9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453280" y="2579760"/>
              <a:ext cx="69120" cy="10008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0" y="63"/>
                  </a:moveTo>
                  <a:lnTo>
                    <a:pt x="40" y="31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"/>
          <p:cNvSpPr/>
          <p:nvPr/>
        </p:nvSpPr>
        <p:spPr>
          <a:xfrm>
            <a:off x="6108840" y="2209680"/>
            <a:ext cx="907920" cy="2171880"/>
          </a:xfrm>
          <a:custGeom>
            <a:avLst/>
            <a:gdLst>
              <a:gd name="textAreaLeft" fmla="*/ 0 w 907920"/>
              <a:gd name="textAreaRight" fmla="*/ 327960 w 907920"/>
              <a:gd name="textAreaTop" fmla="*/ 56520 h 2171880"/>
              <a:gd name="textAreaBottom" fmla="*/ 2115360 h 217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37"/>
                </a:lnTo>
                <a:cubicBezTo>
                  <a:pt x="10800" y="10137"/>
                  <a:pt x="16200" y="11037"/>
                  <a:pt x="21600" y="11037"/>
                </a:cubicBezTo>
                <a:cubicBezTo>
                  <a:pt x="16200" y="11037"/>
                  <a:pt x="10800" y="11937"/>
                  <a:pt x="10800" y="1283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108840" y="2514600"/>
            <a:ext cx="618840" cy="2209680"/>
          </a:xfrm>
          <a:custGeom>
            <a:avLst/>
            <a:gdLst>
              <a:gd name="textAreaLeft" fmla="*/ 0 w 618840"/>
              <a:gd name="textAreaRight" fmla="*/ 223560 w 6188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59"/>
                </a:lnTo>
                <a:cubicBezTo>
                  <a:pt x="10800" y="10459"/>
                  <a:pt x="16200" y="11359"/>
                  <a:pt x="21600" y="11359"/>
                </a:cubicBezTo>
                <a:cubicBezTo>
                  <a:pt x="16200" y="11359"/>
                  <a:pt x="10800" y="12259"/>
                  <a:pt x="10800" y="1315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650960" y="1752480"/>
            <a:ext cx="173376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1733400" y="3962520"/>
            <a:ext cx="17337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7182000" y="2971800"/>
            <a:ext cx="22287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540320" y="1905120"/>
            <a:ext cx="15685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ddress 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F           M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540320" y="4114800"/>
            <a:ext cx="15685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ddress 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e, A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 Narrow"/>
              </a:rPr>
              <a:t>x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            M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384720" y="220968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384720" y="251460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467160" y="441972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467160" y="472428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79680" y="2090880"/>
            <a:ext cx="83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Use of 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(AFT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443160" y="4376880"/>
            <a:ext cx="110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Non-use of 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(Non-AFT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107440" y="12952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IDIN (AFT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3562560" y="1811160"/>
            <a:ext cx="68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rigin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Indic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651840" y="25909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d(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794760" y="4097160"/>
            <a:ext cx="313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798720" y="447840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x(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664520" y="1447920"/>
            <a:ext cx="9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FTN/AM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5145120" y="24130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2036880" y="3581280"/>
            <a:ext cx="125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CIDIN (Non-AFT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759200" y="3733920"/>
            <a:ext cx="119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Non-AFTN/AM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289480" y="462924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7930800" y="217188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52880" y="5291280"/>
            <a:ext cx="146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Leg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d     Destination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e     CIDIN entry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x     CIDIN exit 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054240" y="5562720"/>
            <a:ext cx="493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38. Translation from CIDIN addresses into MF-addr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751800" y="4859280"/>
            <a:ext cx="199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738840" y="3676680"/>
            <a:ext cx="49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7023240" y="3327480"/>
            <a:ext cx="1825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859040" y="1862280"/>
            <a:ext cx="13874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Originator Ind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x{Ad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...Ad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 Narrow"/>
              </a:rPr>
              <a:t>k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2144520" y="4157640"/>
            <a:ext cx="76032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Ax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...Ax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 Narrow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7472880" y="3205080"/>
            <a:ext cx="172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Originator MF-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Recipient MF-Address(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51000" y="6037200"/>
            <a:ext cx="557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4.  Functional view of the CIDIN/AMHS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51814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51055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7238520" y="45720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37339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6080" y="22860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4876920"/>
            <a:ext cx="1828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ces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ID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4800600"/>
            <a:ext cx="1828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cces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 sub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2895480"/>
            <a:ext cx="25146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tocol for MTA to MTA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P1 over upper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472428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28195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41911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IDIN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733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TA (ATN Compon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182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D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205740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mandatory in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extended ATS message serv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572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1523880"/>
            <a:ext cx="5410080" cy="4343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1828800"/>
            <a:ext cx="10666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9760" y="1828800"/>
            <a:ext cx="77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ntrol 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2819520"/>
            <a:ext cx="1981080" cy="2819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819520"/>
            <a:ext cx="1523880" cy="2819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752480"/>
            <a:ext cx="1523880" cy="990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581280" y="2666880"/>
            <a:ext cx="1146600" cy="685800"/>
            <a:chOff x="3581280" y="2666880"/>
            <a:chExt cx="1146600" cy="685800"/>
          </a:xfrm>
        </p:grpSpPr>
        <p:sp>
          <p:nvSpPr>
            <p:cNvPr id="147" name=""/>
            <p:cNvSpPr/>
            <p:nvPr/>
          </p:nvSpPr>
          <p:spPr>
            <a:xfrm>
              <a:off x="3581280" y="2666880"/>
              <a:ext cx="114300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84160" y="2819520"/>
              <a:ext cx="1143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IDIN (AFTN)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TC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581280" y="4343400"/>
            <a:ext cx="11430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IDIN (OPMSG)</a:t>
            </a:r>
            <a:br>
              <a:rPr sz="1200"/>
            </a:b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507840" y="3505320"/>
            <a:ext cx="1280880" cy="685800"/>
            <a:chOff x="3507840" y="3505320"/>
            <a:chExt cx="1280880" cy="685800"/>
          </a:xfrm>
        </p:grpSpPr>
        <p:sp>
          <p:nvSpPr>
            <p:cNvPr id="151" name=""/>
            <p:cNvSpPr/>
            <p:nvPr/>
          </p:nvSpPr>
          <p:spPr>
            <a:xfrm>
              <a:off x="3581280" y="3505320"/>
              <a:ext cx="114300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07840" y="3581280"/>
              <a:ext cx="128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IDIN (OPMET)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TC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001000" y="44197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 transpor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19051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o ATN directory system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4419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4419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"/>
          <p:cNvSpPr/>
          <p:nvPr/>
        </p:nvSpPr>
        <p:spPr>
          <a:xfrm>
            <a:off x="7924680" y="1905120"/>
            <a:ext cx="74304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60240" y="1676520"/>
            <a:ext cx="1816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AFTN-Priority-Indic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60240" y="2590920"/>
            <a:ext cx="1816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CIDIN-Message-Prio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749160" y="4575240"/>
            <a:ext cx="1816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CIDIN-Message Prio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4044960" y="1371600"/>
            <a:ext cx="1650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4044960" y="2362320"/>
            <a:ext cx="16509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7099200" y="1600200"/>
            <a:ext cx="1816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AFTN-Priority-Indic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4044960" y="1650960"/>
            <a:ext cx="1650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030560" y="2616120"/>
            <a:ext cx="165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4044960" y="4343400"/>
            <a:ext cx="16509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4044960" y="4622760"/>
            <a:ext cx="165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686640" y="2590920"/>
            <a:ext cx="107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700680" y="279396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8240760" y="2590920"/>
            <a:ext cx="125244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8245440" y="2809800"/>
            <a:ext cx="123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8255160" y="3352680"/>
            <a:ext cx="125244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8269200" y="3581280"/>
            <a:ext cx="123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476440" y="182880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724120" y="1828800"/>
            <a:ext cx="907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632040" y="2743200"/>
            <a:ext cx="41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476440" y="274320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V="1">
            <a:off x="2724120" y="1828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3714840" y="182880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5695920" y="27432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flipV="1">
            <a:off x="6273720" y="1828800"/>
            <a:ext cx="4953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769080" y="182880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5675400" y="1819440"/>
            <a:ext cx="82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 flipH="1">
            <a:off x="7264080" y="1905120"/>
            <a:ext cx="577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8089920" y="1905120"/>
            <a:ext cx="825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182000" y="4572000"/>
            <a:ext cx="1815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6769080" y="5562720"/>
            <a:ext cx="107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6783480" y="576576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8323200" y="5562720"/>
            <a:ext cx="125244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8337600" y="5791320"/>
            <a:ext cx="123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H="1">
            <a:off x="7346520" y="4876920"/>
            <a:ext cx="577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8172360" y="4876920"/>
            <a:ext cx="825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556000" y="4749840"/>
            <a:ext cx="149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5695920" y="4762440"/>
            <a:ext cx="148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300560" y="1403280"/>
            <a:ext cx="120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Packet 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4419000" y="167652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Message-Prio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4870440" y="1905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4426560" y="2351160"/>
            <a:ext cx="97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User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4215600" y="2617920"/>
            <a:ext cx="133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AFTN-Priority-Indic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4304520" y="4373640"/>
            <a:ext cx="120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Packet 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4335480" y="4648320"/>
            <a:ext cx="101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Message Prio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7402680" y="4572000"/>
            <a:ext cx="133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CIDIN-Message-Prio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367080" y="5850000"/>
            <a:ext cx="200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090920" y="555480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7042680" y="5715000"/>
            <a:ext cx="54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Prio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 flipH="1">
            <a:off x="6438600" y="1752480"/>
            <a:ext cx="82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035480" y="259092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980760" y="2752560"/>
            <a:ext cx="54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Prio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8224200" y="2590920"/>
            <a:ext cx="125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S-Message-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8380440" y="3352680"/>
            <a:ext cx="97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IPM-Header-Ex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8452080" y="350532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Preced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8598240" y="2057400"/>
            <a:ext cx="2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8763480" y="3048120"/>
            <a:ext cx="27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6716160" y="3259080"/>
            <a:ext cx="118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1)  Basic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2)  Extended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8462880" y="5562720"/>
            <a:ext cx="97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IPM-Header-Ex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8493120" y="576252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Preced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2889360" y="6095880"/>
            <a:ext cx="434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39.  Priority mappings CIDIN to AM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12920" y="1219320"/>
            <a:ext cx="9080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219480" y="9144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6108840" y="939960"/>
            <a:ext cx="0" cy="5105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412920" y="4114800"/>
            <a:ext cx="9080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1109520" y="87156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CIDIN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4095000" y="914400"/>
            <a:ext cx="113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IDIN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6813720" y="87156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DIN/AMHS / 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613480" y="457200"/>
            <a:ext cx="107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5798880" y="496800"/>
            <a:ext cx="74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-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rame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19040" y="12524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48840" y="4148280"/>
            <a:ext cx="79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Non-AF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8216640" y="2771640"/>
            <a:ext cx="126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ATS-Message-Prio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"/>
          <p:cNvSpPr/>
          <p:nvPr/>
        </p:nvSpPr>
        <p:spPr>
          <a:xfrm>
            <a:off x="660240" y="1143000"/>
            <a:ext cx="990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8667720" y="990720"/>
            <a:ext cx="9907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77800" y="5343480"/>
            <a:ext cx="908280" cy="5335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2641680" y="533520"/>
            <a:ext cx="1155600" cy="60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641680" y="1371600"/>
            <a:ext cx="1155600" cy="60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558880" y="5334120"/>
            <a:ext cx="1238400" cy="60948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375080" y="1295280"/>
            <a:ext cx="577800" cy="3733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1816200" y="2676600"/>
            <a:ext cx="57780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1898640" y="5191200"/>
            <a:ext cx="49536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12920" y="5419800"/>
            <a:ext cx="990360" cy="4590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724120" y="609480"/>
            <a:ext cx="990720" cy="4590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724120" y="1447920"/>
            <a:ext cx="990720" cy="4590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tend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5365800" y="1905120"/>
            <a:ext cx="1403280" cy="259056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7264440" y="1295280"/>
            <a:ext cx="577800" cy="3657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8502480" y="1066680"/>
            <a:ext cx="1073160" cy="4590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8502480" y="1981080"/>
            <a:ext cx="107316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IDI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en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8502480" y="2819520"/>
            <a:ext cx="1073160" cy="4590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PMET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8502480" y="3657600"/>
            <a:ext cx="1073160" cy="64152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IDIN OPMSG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530680" y="3657600"/>
            <a:ext cx="1073160" cy="641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DIN OPMS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530680" y="2870280"/>
            <a:ext cx="1073160" cy="45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M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5530680" y="1981080"/>
            <a:ext cx="1073160" cy="459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2641680" y="2565360"/>
            <a:ext cx="1073160" cy="459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2641680" y="3276720"/>
            <a:ext cx="1073160" cy="45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M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2641680" y="4038480"/>
            <a:ext cx="1073160" cy="641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DIN OPMS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292640" y="315432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182000" y="315432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D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1816200" y="3581280"/>
            <a:ext cx="74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D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1816200" y="541008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724120" y="228600"/>
            <a:ext cx="14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MHS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3879720" y="762120"/>
            <a:ext cx="107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95360" y="1219320"/>
            <a:ext cx="1073160" cy="459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12920" y="4200480"/>
            <a:ext cx="990360" cy="61128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IDIN OPMSG</a:t>
            </a:r>
            <a:br>
              <a:rPr sz="1200"/>
            </a:b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12920" y="3286080"/>
            <a:ext cx="1073160" cy="4590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PMET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412920" y="2514600"/>
            <a:ext cx="1073160" cy="459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IDI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en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2394000" y="5029200"/>
            <a:ext cx="20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FTN/AMHS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1403280" y="571500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1320840" y="4495680"/>
            <a:ext cx="90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907920" y="1828800"/>
            <a:ext cx="90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2228760" y="2133720"/>
            <a:ext cx="247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therCIDIN/AMHS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77800" y="685800"/>
            <a:ext cx="17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FTN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1256400" y="3710160"/>
            <a:ext cx="40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200560" y="1371600"/>
            <a:ext cx="189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IDIN/AMHS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7924680" y="3962520"/>
            <a:ext cx="99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Ax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9080640" y="152388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8089920" y="2209680"/>
            <a:ext cx="66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7924680" y="3184560"/>
            <a:ext cx="6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8255160" y="609480"/>
            <a:ext cx="165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FTN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90792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486080" y="3657600"/>
            <a:ext cx="8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V="1">
            <a:off x="1403280" y="4495680"/>
            <a:ext cx="247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403280" y="56386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394000" y="56386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3714840" y="56386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flipH="1">
            <a:off x="3962160" y="4800600"/>
            <a:ext cx="577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V="1">
            <a:off x="3714840" y="4266720"/>
            <a:ext cx="7430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flipV="1">
            <a:off x="3714840" y="3429000"/>
            <a:ext cx="660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 flipV="1">
            <a:off x="3714840" y="2666880"/>
            <a:ext cx="660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3797280" y="17524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3714840" y="914400"/>
            <a:ext cx="330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311560" y="4267080"/>
            <a:ext cx="330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 flipV="1">
            <a:off x="2311560" y="2742840"/>
            <a:ext cx="3301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394000" y="342900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 flipH="1">
            <a:off x="4952520" y="22860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4952520" y="32004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4952520" y="403848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603840" y="2209680"/>
            <a:ext cx="33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603840" y="3124080"/>
            <a:ext cx="66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6603840" y="3962520"/>
            <a:ext cx="66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908064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7842240" y="3124080"/>
            <a:ext cx="41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7842240" y="3962520"/>
            <a:ext cx="41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842240" y="2209680"/>
            <a:ext cx="41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851520" y="2209680"/>
            <a:ext cx="4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2558880" y="2438280"/>
            <a:ext cx="1238400" cy="2362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952880" y="5105520"/>
            <a:ext cx="4127760" cy="120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Legend: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mponent visible to CIDIN/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Component not visible to CIDIN/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MF, Ax, Ae, Ad user addresses in their native environ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Type of  user 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5118120" y="5410080"/>
            <a:ext cx="3301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5108400" y="5657760"/>
            <a:ext cx="330480" cy="76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2558880" y="6507000"/>
            <a:ext cx="734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40.   System components visible to the CIDIN / AMHS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049280" y="49053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4049280" y="9428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8754480" y="14763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724200" y="2719440"/>
            <a:ext cx="1807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6856560" y="28224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957920" y="2898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8094960" y="2771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4760" y="30765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1491120" y="32288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912240" y="20098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4957200" y="1908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6855840" y="18572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1490400" y="52862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879720" y="1447920"/>
            <a:ext cx="82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8094240" y="18572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6888600" y="367812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714840" y="2719440"/>
            <a:ext cx="19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4955040" y="373680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8092080" y="361008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964320" y="406728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884040" y="23907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1487880" y="412740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1486080" y="2752560"/>
            <a:ext cx="412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90792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1650960" y="56386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flipV="1">
            <a:off x="1650960" y="4429080"/>
            <a:ext cx="247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 flipV="1">
            <a:off x="1568520" y="3581280"/>
            <a:ext cx="247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044960" y="1752480"/>
            <a:ext cx="4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044960" y="1143000"/>
            <a:ext cx="4953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934320" y="220968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8255160" y="2209680"/>
            <a:ext cx="24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908064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8255160" y="3124080"/>
            <a:ext cx="24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8255160" y="3962520"/>
            <a:ext cx="24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4952880" y="441972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6769080" y="441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2641680" y="5410080"/>
            <a:ext cx="10731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2394000" y="35812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834280" y="548640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044600" y="178920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"/>
          <p:cNvSpPr/>
          <p:nvPr/>
        </p:nvSpPr>
        <p:spPr>
          <a:xfrm>
            <a:off x="976320" y="1854360"/>
            <a:ext cx="10605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as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TS Messa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1017720" y="3263760"/>
            <a:ext cx="1060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xten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S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2544840" y="1536840"/>
            <a:ext cx="8398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Text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6329520" y="1562040"/>
            <a:ext cx="8380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Text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4471920" y="1917720"/>
            <a:ext cx="94932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4457880" y="2924280"/>
            <a:ext cx="94932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per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4464000" y="3914640"/>
            <a:ext cx="94932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PM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095560" y="4311720"/>
            <a:ext cx="8380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Text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019320" y="4317840"/>
            <a:ext cx="8398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Bin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7945560" y="1889280"/>
            <a:ext cx="10587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7939080" y="2854440"/>
            <a:ext cx="10587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perat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7956720" y="3787920"/>
            <a:ext cx="10587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OPM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5902200" y="4708440"/>
            <a:ext cx="8398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Text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6907320" y="4708440"/>
            <a:ext cx="8380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Bin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 flipH="1">
            <a:off x="2503440" y="3943440"/>
            <a:ext cx="44784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2957400" y="3936960"/>
            <a:ext cx="52416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 flipV="1">
            <a:off x="2028960" y="2063520"/>
            <a:ext cx="241452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 flipH="1">
            <a:off x="2077560" y="2063880"/>
            <a:ext cx="2379960" cy="147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flipV="1">
            <a:off x="2077920" y="3111480"/>
            <a:ext cx="2394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2084400" y="3543480"/>
            <a:ext cx="2387520" cy="60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127400" y="1533600"/>
            <a:ext cx="1641600" cy="3238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6718320" y="187632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5407200" y="2152800"/>
            <a:ext cx="253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5418000" y="3124080"/>
            <a:ext cx="251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5418000" y="4133880"/>
            <a:ext cx="253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6831000" y="4029120"/>
            <a:ext cx="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6305400" y="4257720"/>
            <a:ext cx="52560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831000" y="4257720"/>
            <a:ext cx="54756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874440" y="1144440"/>
            <a:ext cx="154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Level of AMHS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4363200" y="1170000"/>
            <a:ext cx="154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CIDIN / AMHS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4702680" y="1589040"/>
            <a:ext cx="48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4730760" y="2617920"/>
            <a:ext cx="48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4730760" y="3621240"/>
            <a:ext cx="48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7948440" y="119556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CIDIN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057480" y="5398920"/>
            <a:ext cx="475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41. Interoperability between CIDIN application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AMHS service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 flipH="1">
            <a:off x="2950920" y="1866960"/>
            <a:ext cx="1116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 flipH="1">
            <a:off x="2957400" y="3625920"/>
            <a:ext cx="7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0" name=""/>
          <p:cNvGraphicFramePr/>
          <p:nvPr/>
        </p:nvGraphicFramePr>
        <p:xfrm>
          <a:off x="2565360" y="4191120"/>
          <a:ext cx="1297080" cy="10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5360" y="4191120"/>
                    <a:ext cx="129708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2" name=""/>
          <p:cNvGraphicFramePr/>
          <p:nvPr/>
        </p:nvGraphicFramePr>
        <p:xfrm>
          <a:off x="2305080" y="609480"/>
          <a:ext cx="1733400" cy="12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5080" y="609480"/>
                    <a:ext cx="173340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4" name=""/>
          <p:cNvSpPr/>
          <p:nvPr/>
        </p:nvSpPr>
        <p:spPr>
          <a:xfrm>
            <a:off x="5695920" y="2438280"/>
            <a:ext cx="990720" cy="457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2779560" y="1746360"/>
            <a:ext cx="82548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sg.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907920" y="1828800"/>
            <a:ext cx="82548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(AFT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733400" y="2362320"/>
            <a:ext cx="990720" cy="457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809880" y="2400480"/>
            <a:ext cx="990720" cy="457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99ff66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724120" y="3276720"/>
            <a:ext cx="990720" cy="457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99ff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FTN/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705200" y="3276720"/>
            <a:ext cx="990720" cy="4572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99ff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FTN/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1" name=""/>
          <p:cNvGraphicFramePr/>
          <p:nvPr/>
        </p:nvGraphicFramePr>
        <p:xfrm>
          <a:off x="7400880" y="2362320"/>
          <a:ext cx="1297080" cy="10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00880" y="2362320"/>
                    <a:ext cx="129708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3" name=""/>
          <p:cNvSpPr/>
          <p:nvPr/>
        </p:nvSpPr>
        <p:spPr>
          <a:xfrm>
            <a:off x="318456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4" name=""/>
          <p:cNvCxnSpPr>
            <a:stCxn id="2115" idx="2"/>
          </p:cNvCxnSpPr>
          <p:nvPr/>
        </p:nvCxnSpPr>
        <p:spPr>
          <a:xfrm flipH="1" rot="16200000">
            <a:off x="3201120" y="2117520"/>
            <a:ext cx="1378800" cy="13978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</a:ln>
        </p:spPr>
      </p:cxnSp>
      <p:sp>
        <p:nvSpPr>
          <p:cNvPr id="2125" name=""/>
          <p:cNvSpPr/>
          <p:nvPr/>
        </p:nvSpPr>
        <p:spPr>
          <a:xfrm>
            <a:off x="3467160" y="259092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3219480" y="2743200"/>
            <a:ext cx="11548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3219480" y="37339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33847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 flipH="1" flipV="1">
            <a:off x="3384720" y="2284920"/>
            <a:ext cx="16416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6769080" y="259092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5695920" y="3505320"/>
            <a:ext cx="9079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 flipV="1">
            <a:off x="6026040" y="2894760"/>
            <a:ext cx="11556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 flipV="1">
            <a:off x="7182000" y="2819520"/>
            <a:ext cx="82440" cy="380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 flipH="1">
            <a:off x="7264440" y="2590920"/>
            <a:ext cx="494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788000" y="2590920"/>
            <a:ext cx="9079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23840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flipH="1" flipV="1">
            <a:off x="1238400" y="2361600"/>
            <a:ext cx="3290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403280" y="266688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840040" y="30492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MHS 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159200" y="26496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825920" y="2387520"/>
            <a:ext cx="7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/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332160" y="230508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2747880" y="243828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5038920" y="231948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7102440" y="2344680"/>
            <a:ext cx="45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7648200" y="3124080"/>
            <a:ext cx="80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AFTN 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2747880" y="29718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3821040" y="3429000"/>
            <a:ext cx="4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3322800" y="3886200"/>
            <a:ext cx="45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6276960" y="3487680"/>
            <a:ext cx="45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759400" y="4952880"/>
            <a:ext cx="84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 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2971800" y="5486400"/>
            <a:ext cx="54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42.   Interoperability requirements for the CIDIN/AMHS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2724120" y="266688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3907080" y="2430360"/>
            <a:ext cx="7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/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5965200" y="2487600"/>
            <a:ext cx="528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 Narrow"/>
              </a:rPr>
              <a:t>(AFT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"/>
          <p:cNvSpPr/>
          <p:nvPr/>
        </p:nvSpPr>
        <p:spPr>
          <a:xfrm>
            <a:off x="1733400" y="1457280"/>
            <a:ext cx="23115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568520" y="1676520"/>
            <a:ext cx="22287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816200" y="1066680"/>
            <a:ext cx="181584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2035800" y="1066680"/>
            <a:ext cx="126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essage Priority (M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816200" y="1752480"/>
            <a:ext cx="181584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xit Address (A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816200" y="2209680"/>
            <a:ext cx="1815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898640" y="3276720"/>
            <a:ext cx="181620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ntry Address (A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863720" y="4151160"/>
            <a:ext cx="181620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Priority Indic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857240" y="4462560"/>
            <a:ext cx="181620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Filing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1863720" y="4761000"/>
            <a:ext cx="181620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riginator Indic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1863720" y="5065560"/>
            <a:ext cx="181620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ptional Heading Infor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1863720" y="5370480"/>
            <a:ext cx="181620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273720" y="1066680"/>
            <a:ext cx="18162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Message Priority (MP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6273720" y="1981080"/>
            <a:ext cx="181620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xit Address (Ax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6273720" y="2286000"/>
            <a:ext cx="181620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Destination Address (A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6273720" y="3276720"/>
            <a:ext cx="181620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Entry Address (A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191280" y="4343400"/>
            <a:ext cx="181620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User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733400" y="2362320"/>
            <a:ext cx="181620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Destination Address (A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3927600" y="4151160"/>
            <a:ext cx="164880" cy="1600200"/>
          </a:xfrm>
          <a:custGeom>
            <a:avLst/>
            <a:gdLst>
              <a:gd name="textAreaLeft" fmla="*/ 0 w 164880"/>
              <a:gd name="textAreaRight" fmla="*/ 59400 w 1648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2829"/>
                </a:lnTo>
                <a:cubicBezTo>
                  <a:pt x="10800" y="3729"/>
                  <a:pt x="16200" y="4629"/>
                  <a:pt x="21600" y="4629"/>
                </a:cubicBezTo>
                <a:cubicBezTo>
                  <a:pt x="16200" y="4629"/>
                  <a:pt x="10800" y="5529"/>
                  <a:pt x="10800" y="642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4210200" y="4495680"/>
            <a:ext cx="1815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4210200" y="2286000"/>
            <a:ext cx="1815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4210200" y="3429000"/>
            <a:ext cx="1815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4210200" y="1219320"/>
            <a:ext cx="1815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5118120" y="8380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272400" y="2390760"/>
            <a:ext cx="23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 Narrow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2041560" y="2982960"/>
            <a:ext cx="135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CIDIN Transport 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031120" y="3886200"/>
            <a:ext cx="124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CIDIN User Data Fi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448880" y="5087880"/>
            <a:ext cx="1431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 baseline="30000">
                <a:solidFill>
                  <a:srgbClr val="000000"/>
                </a:solidFill>
                <a:latin typeface="Arial Narrow"/>
              </a:rPr>
              <a:t>1)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Component of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FTN message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7777440" y="4419720"/>
            <a:ext cx="23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 Narrow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7860240" y="2362320"/>
            <a:ext cx="23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 Narrow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890640" y="1430280"/>
            <a:ext cx="638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x (</a:t>
            </a:r>
            <a:r>
              <a:rPr b="1" lang="de-DE" sz="1000" spc="-1" strike="noStrike" u="sng">
                <a:solidFill>
                  <a:srgbClr val="000000"/>
                </a:solidFill>
                <a:uFillTx/>
                <a:latin typeface="Arial Narrow"/>
              </a:rPr>
              <a:t>&lt;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1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x 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911160" y="241452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d 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2030400" y="762120"/>
            <a:ext cx="120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CIDIN Packet 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4350960" y="457200"/>
            <a:ext cx="145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Component / 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731600" y="380880"/>
            <a:ext cx="188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 Narrow"/>
              </a:rPr>
              <a:t>CIDIN Messag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6273720" y="380880"/>
            <a:ext cx="187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T-Message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2971800" y="6172200"/>
            <a:ext cx="555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43.  Relationship betweeen CIDIN message component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T-Message paramaters for CIDIN/AFTN-AMHS conver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1424160" y="1562040"/>
            <a:ext cx="30312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327320" y="1866960"/>
            <a:ext cx="488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1320840" y="252720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846000" y="2162160"/>
            <a:ext cx="8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d (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Narrow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15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1403280" y="2286000"/>
            <a:ext cx="42696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3402360" y="4191120"/>
            <a:ext cx="23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 Narrow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3405600" y="4478400"/>
            <a:ext cx="23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 Narrow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405600" y="4751280"/>
            <a:ext cx="23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 Narrow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420000" y="5075280"/>
            <a:ext cx="23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 Narrow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413520" y="5373720"/>
            <a:ext cx="23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000000"/>
                </a:solidFill>
                <a:latin typeface="Arial Narrow"/>
              </a:rPr>
              <a:t>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"/>
          <p:cNvSpPr/>
          <p:nvPr/>
        </p:nvSpPr>
        <p:spPr>
          <a:xfrm>
            <a:off x="495360" y="1066680"/>
            <a:ext cx="743040" cy="2895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816200" y="2514600"/>
            <a:ext cx="990360" cy="550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Generation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of  MT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054240" y="2514600"/>
            <a:ext cx="990720" cy="550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of  RN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613480" y="2514600"/>
            <a:ext cx="990360" cy="550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Initial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Processing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4375080" y="1371600"/>
            <a:ext cx="990720" cy="550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of  IPM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4292640" y="3429000"/>
            <a:ext cx="990720" cy="5223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Generation of  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7346880" y="838080"/>
            <a:ext cx="763560" cy="40068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50000">
                <a:srgbClr val="ffffff"/>
              </a:gs>
              <a:gs pos="100000">
                <a:srgbClr val="99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FTN SV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UNKNOWN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5613480" y="3429000"/>
            <a:ext cx="990360" cy="3985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Initial Processing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5613480" y="4648320"/>
            <a:ext cx="990360" cy="40068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50000">
                <a:srgbClr val="ffffff"/>
              </a:gs>
              <a:gs pos="100000">
                <a:srgbClr val="99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Ini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Process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6769080" y="5486400"/>
            <a:ext cx="1052640" cy="3373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50000">
                <a:srgbClr val="ffffff"/>
              </a:gs>
              <a:gs pos="100000">
                <a:srgbClr val="99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Generation of CIDIN/AFTN 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8502480" y="685800"/>
            <a:ext cx="660600" cy="5555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Compo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n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5624640" y="1371600"/>
            <a:ext cx="990360" cy="4590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Use of CIDIN/AFTN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054240" y="1371600"/>
            <a:ext cx="990720" cy="550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of  MTE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6191280" y="4343400"/>
            <a:ext cx="825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Disca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6686640" y="4495680"/>
            <a:ext cx="825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FTN SV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EQ RPT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 flipH="1">
            <a:off x="6603840" y="495288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5448240" y="4419720"/>
            <a:ext cx="49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V="1">
            <a:off x="5861160" y="4343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1238400" y="106668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(IP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1238400" y="320040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e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(ND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1217520" y="220032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(IPN/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1320840" y="2743200"/>
            <a:ext cx="412560" cy="152280"/>
          </a:xfrm>
          <a:prstGeom prst="leftArrow">
            <a:avLst>
              <a:gd name="adj1" fmla="val 50000"/>
              <a:gd name="adj2" fmla="val 677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1320840" y="1600200"/>
            <a:ext cx="412560" cy="152280"/>
          </a:xfrm>
          <a:prstGeom prst="leftArrow">
            <a:avLst>
              <a:gd name="adj1" fmla="val 50000"/>
              <a:gd name="adj2" fmla="val 677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1320840" y="3809880"/>
            <a:ext cx="412560" cy="152640"/>
          </a:xfrm>
          <a:prstGeom prst="leftArrow">
            <a:avLst>
              <a:gd name="adj1" fmla="val 50000"/>
              <a:gd name="adj2" fmla="val 675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8007480" y="3048120"/>
            <a:ext cx="412560" cy="152280"/>
          </a:xfrm>
          <a:prstGeom prst="leftArrow">
            <a:avLst>
              <a:gd name="adj1" fmla="val 50000"/>
              <a:gd name="adj2" fmla="val 677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8121600" y="990720"/>
            <a:ext cx="330120" cy="152280"/>
          </a:xfrm>
          <a:prstGeom prst="rightArrow">
            <a:avLst>
              <a:gd name="adj1" fmla="val 50000"/>
              <a:gd name="adj2" fmla="val 541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 flipH="1">
            <a:off x="2806560" y="281952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 flipH="1">
            <a:off x="4044960" y="281952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 flipH="1" flipV="1">
            <a:off x="5344920" y="2809440"/>
            <a:ext cx="26820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1568520" y="380880"/>
            <a:ext cx="6700680" cy="6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3054240" y="15228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IDIN (AFTN) 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 flipH="1">
            <a:off x="5365800" y="167652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 flipH="1">
            <a:off x="4044600" y="167652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 flipV="1">
            <a:off x="586116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H="1">
            <a:off x="6603840" y="160020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 flipV="1">
            <a:off x="586116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 flipV="1">
            <a:off x="4788000" y="2209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 flipH="1">
            <a:off x="6603840" y="281952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H="1">
            <a:off x="6603840" y="380988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 flipH="1">
            <a:off x="5283000" y="380988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8089920" y="5791320"/>
            <a:ext cx="412560" cy="152280"/>
          </a:xfrm>
          <a:prstGeom prst="rightArrow">
            <a:avLst>
              <a:gd name="adj1" fmla="val 50000"/>
              <a:gd name="adj2" fmla="val 677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6108840" y="5105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6108840" y="5867280"/>
            <a:ext cx="66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610884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635652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 flipH="1">
            <a:off x="6603840" y="1828800"/>
            <a:ext cx="33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693432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 flipH="1">
            <a:off x="6356160" y="32004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35652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6356520" y="228600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561960" y="4200480"/>
            <a:ext cx="2714760" cy="1473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165240" y="5943600"/>
            <a:ext cx="693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44. Organisation of SARPs clauses for the CIDIN (AFTN)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to AMHS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5943600" y="4343400"/>
            <a:ext cx="82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 flipH="1">
            <a:off x="6190920" y="4343400"/>
            <a:ext cx="82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 flipH="1">
            <a:off x="6025680" y="449568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603840" y="3429000"/>
            <a:ext cx="82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FTN SVC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“UNKNOWN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6603840" y="2514600"/>
            <a:ext cx="82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FTN SVC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“ACK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9343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8007480" y="2666880"/>
            <a:ext cx="74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T-Ms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Ind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120720" y="32130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4375080" y="2286000"/>
            <a:ext cx="57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6120720" y="228456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5613480" y="2286000"/>
            <a:ext cx="57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6686640" y="1066680"/>
            <a:ext cx="660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 Narrow"/>
              </a:rPr>
              <a:t>CUD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FTN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 flipV="1">
            <a:off x="63565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6356520" y="990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8007480" y="5486400"/>
            <a:ext cx="74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T-Ms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Request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544360" y="91296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4292640" y="2514600"/>
            <a:ext cx="1073160" cy="5857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Use o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CIDIN/ AFT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ck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524880" y="1676520"/>
            <a:ext cx="718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A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0" y="2743200"/>
            <a:ext cx="412920" cy="152280"/>
          </a:xfrm>
          <a:prstGeom prst="leftArrow">
            <a:avLst>
              <a:gd name="adj1" fmla="val 50000"/>
              <a:gd name="adj2" fmla="val 677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22680" y="2157480"/>
            <a:ext cx="54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Messag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e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8027640" y="68580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T-Ms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Req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7346880" y="1371600"/>
            <a:ext cx="660600" cy="3657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7451640" y="2362320"/>
            <a:ext cx="50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Identifi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c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of CUD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Cont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9245520" y="3048120"/>
            <a:ext cx="412920" cy="152280"/>
          </a:xfrm>
          <a:prstGeom prst="leftRightArrow">
            <a:avLst>
              <a:gd name="adj1" fmla="val 50000"/>
              <a:gd name="adj2" fmla="val 53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9188640" y="2590920"/>
            <a:ext cx="60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7419600" y="1746360"/>
            <a:ext cx="5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395120" y="3689280"/>
            <a:ext cx="6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Acknow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led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of recei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CIDIN ms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034480" y="3809880"/>
            <a:ext cx="453960" cy="152640"/>
          </a:xfrm>
          <a:prstGeom prst="rightArrow">
            <a:avLst>
              <a:gd name="adj1" fmla="val 50000"/>
              <a:gd name="adj2" fmla="val 74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8004960" y="35053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T-Ms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 Narrow"/>
              </a:rPr>
              <a:t>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36480" y="4268880"/>
            <a:ext cx="261468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Legen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P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ontrol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TE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essage Tranfer Envel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SVC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Service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UDF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IDIN User Data Fi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1)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IPM  with AFTN SVC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"/>
          <p:cNvSpPr/>
          <p:nvPr/>
        </p:nvSpPr>
        <p:spPr>
          <a:xfrm>
            <a:off x="1916280" y="1541520"/>
            <a:ext cx="99036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4062240" y="1541520"/>
            <a:ext cx="9907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796000" y="1541520"/>
            <a:ext cx="99072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2028240" y="1617840"/>
            <a:ext cx="67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User Ms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9" name=""/>
          <p:cNvGraphicFramePr/>
          <p:nvPr/>
        </p:nvGraphicFramePr>
        <p:xfrm>
          <a:off x="466560" y="2438280"/>
          <a:ext cx="1297080" cy="10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438280"/>
                    <a:ext cx="129708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1" name=""/>
          <p:cNvSpPr/>
          <p:nvPr/>
        </p:nvSpPr>
        <p:spPr>
          <a:xfrm>
            <a:off x="3243240" y="2436840"/>
            <a:ext cx="825480" cy="6094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ffff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5141880" y="2430360"/>
            <a:ext cx="825480" cy="6098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99"/>
              </a:gs>
            </a:gsLst>
            <a:lin ang="13500000"/>
          </a:gra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7777080" y="2455920"/>
            <a:ext cx="908280" cy="6094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00cc99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7791480" y="3592440"/>
            <a:ext cx="949320" cy="6098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cc99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1744560" y="3402000"/>
            <a:ext cx="82548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6" name=""/>
          <p:cNvGraphicFramePr/>
          <p:nvPr/>
        </p:nvGraphicFramePr>
        <p:xfrm>
          <a:off x="7446960" y="1389240"/>
          <a:ext cx="1409760" cy="98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46960" y="1389240"/>
                    <a:ext cx="140976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8" name=""/>
          <p:cNvSpPr/>
          <p:nvPr/>
        </p:nvSpPr>
        <p:spPr>
          <a:xfrm>
            <a:off x="2576520" y="4437000"/>
            <a:ext cx="825480" cy="5335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402000" y="3675240"/>
            <a:ext cx="907920" cy="5331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1379520" y="2792520"/>
            <a:ext cx="18572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2411280" y="20750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916280" y="2798640"/>
            <a:ext cx="0" cy="61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2989440" y="3998880"/>
            <a:ext cx="41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062240" y="260820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4062240" y="279864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557600" y="2075040"/>
            <a:ext cx="0" cy="72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5961240" y="2697120"/>
            <a:ext cx="181584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8" name=""/>
          <p:cNvCxnSpPr/>
          <p:nvPr/>
        </p:nvCxnSpPr>
        <p:spPr>
          <a:xfrm flipV="1">
            <a:off x="6035760" y="1617120"/>
            <a:ext cx="1242000" cy="1067400"/>
          </a:xfrm>
          <a:prstGeom prst="curvedConnector5">
            <a:avLst>
              <a:gd name="adj1" fmla="val 44737"/>
              <a:gd name="adj2" fmla="val 50000"/>
              <a:gd name="adj3" fmla="val 44737"/>
            </a:avLst>
          </a:prstGeom>
          <a:ln w="9360">
            <a:solidFill>
              <a:srgbClr val="000000"/>
            </a:solidFill>
            <a:prstDash val="dashDot"/>
            <a:miter/>
            <a:tailEnd len="lg" type="stealth" w="med"/>
          </a:ln>
        </p:spPr>
      </p:cxnSp>
      <p:cxnSp>
        <p:nvCxnSpPr>
          <p:cNvPr id="2309" name=""/>
          <p:cNvCxnSpPr/>
          <p:nvPr/>
        </p:nvCxnSpPr>
        <p:spPr>
          <a:xfrm>
            <a:off x="6035400" y="2684160"/>
            <a:ext cx="1197360" cy="1175400"/>
          </a:xfrm>
          <a:prstGeom prst="curvedConnector5">
            <a:avLst>
              <a:gd name="adj1" fmla="val 43097"/>
              <a:gd name="adj2" fmla="val 50000"/>
              <a:gd name="adj3" fmla="val 43097"/>
            </a:avLst>
          </a:prstGeom>
          <a:ln w="9360">
            <a:solidFill>
              <a:srgbClr val="000000"/>
            </a:solidFill>
            <a:prstDash val="dashDot"/>
            <a:miter/>
            <a:tailEnd len="lg" type="stealth" w="med"/>
          </a:ln>
        </p:spPr>
      </p:cxnSp>
      <p:sp>
        <p:nvSpPr>
          <p:cNvPr id="2310" name=""/>
          <p:cNvSpPr/>
          <p:nvPr/>
        </p:nvSpPr>
        <p:spPr>
          <a:xfrm>
            <a:off x="6291360" y="2075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6249960" y="2658960"/>
            <a:ext cx="8244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 flipV="1">
            <a:off x="1379520" y="2607840"/>
            <a:ext cx="1857240" cy="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2376360" y="2544840"/>
            <a:ext cx="8280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1881360" y="2773440"/>
            <a:ext cx="82440" cy="759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4475160" y="2532240"/>
            <a:ext cx="165240" cy="30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2948040" y="3941640"/>
            <a:ext cx="82440" cy="763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1834560" y="932040"/>
            <a:ext cx="45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128480" y="9144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6293520" y="91296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 flipH="1">
            <a:off x="1090440" y="1055520"/>
            <a:ext cx="74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1038240" y="1008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255760" y="1065240"/>
            <a:ext cx="119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3567240" y="1008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4608360" y="1046160"/>
            <a:ext cx="70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548320" y="103680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5413320" y="10080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6869160" y="1027080"/>
            <a:ext cx="10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1251000" y="3675240"/>
            <a:ext cx="29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1582200" y="1693800"/>
            <a:ext cx="29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4176720" y="1541520"/>
            <a:ext cx="75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5837040" y="1617840"/>
            <a:ext cx="98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/Re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8587440" y="144792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MHS 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7733520" y="2608200"/>
            <a:ext cx="94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Other CIDIN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7812000" y="3675240"/>
            <a:ext cx="79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FTN/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660240" y="3200400"/>
            <a:ext cx="91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FTN S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1764720" y="3376440"/>
            <a:ext cx="75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Repet. Re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1482120" y="3354480"/>
            <a:ext cx="29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4392720" y="3827520"/>
            <a:ext cx="30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1693800" y="3675240"/>
            <a:ext cx="62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1585800" y="3598920"/>
            <a:ext cx="82548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1697040" y="3675240"/>
            <a:ext cx="62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2609640" y="4513320"/>
            <a:ext cx="781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AF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OM 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3359160" y="3751200"/>
            <a:ext cx="95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Unknown Add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Indic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4206240" y="2363760"/>
            <a:ext cx="29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484440" y="2468520"/>
            <a:ext cx="247680" cy="2286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3486240" y="2475000"/>
            <a:ext cx="25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438880" y="2792520"/>
            <a:ext cx="247680" cy="2286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3498840" y="2779560"/>
            <a:ext cx="247680" cy="2286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5438880" y="2494080"/>
            <a:ext cx="247680" cy="2286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4475160" y="2760840"/>
            <a:ext cx="80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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459760" y="1617840"/>
            <a:ext cx="296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311400" y="5087880"/>
            <a:ext cx="1279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 Narrow"/>
              </a:rPr>
              <a:t>Legen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:    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Encapsu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D:    Decapsual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T:    Trans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R:    Message repet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3548160" y="5410080"/>
            <a:ext cx="362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Figure III-6-45.  Flow of AFTN servic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and related AMHS Messages/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2989440" y="277956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3189240" y="3124080"/>
            <a:ext cx="97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 Entry/Ex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2906640" y="169380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5175360" y="3124080"/>
            <a:ext cx="79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CIDIN/AM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638520" y="105552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"/>
          <p:cNvSpPr/>
          <p:nvPr/>
        </p:nvSpPr>
        <p:spPr>
          <a:xfrm>
            <a:off x="550800" y="1892160"/>
            <a:ext cx="619200" cy="295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A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2930400" y="1066680"/>
            <a:ext cx="990720" cy="6112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rocessing</a:t>
            </a:r>
            <a:br>
              <a:rPr sz="10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1852560" y="4400640"/>
            <a:ext cx="412920" cy="152280"/>
          </a:xfrm>
          <a:prstGeom prst="leftArrow">
            <a:avLst>
              <a:gd name="adj1" fmla="val 50000"/>
              <a:gd name="adj2" fmla="val 677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1568520" y="380880"/>
            <a:ext cx="6527880" cy="12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3054240" y="15228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IDIN (AFTN) MTC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6264360" y="3781440"/>
            <a:ext cx="3219480" cy="1168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1712880" y="5533920"/>
            <a:ext cx="693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46.  Organisation of SARPs clauses for the AMHS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to CIDIN (AFTN) 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21600" y="2798640"/>
            <a:ext cx="56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Re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781280" y="1079640"/>
            <a:ext cx="592200" cy="29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dent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f 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8353440" y="1095480"/>
            <a:ext cx="706320" cy="21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82440" y="3314880"/>
            <a:ext cx="330480" cy="164880"/>
          </a:xfrm>
          <a:prstGeom prst="leftRightArrow">
            <a:avLst>
              <a:gd name="adj1" fmla="val 50000"/>
              <a:gd name="adj2" fmla="val 39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1238400" y="2438280"/>
            <a:ext cx="350640" cy="146160"/>
          </a:xfrm>
          <a:prstGeom prst="rightArrow">
            <a:avLst>
              <a:gd name="adj1" fmla="val 50000"/>
              <a:gd name="adj2" fmla="val 599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1181880" y="1981080"/>
            <a:ext cx="64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 flipV="1">
            <a:off x="1898640" y="83808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 flipV="1">
            <a:off x="2228760" y="83808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2373480" y="1365120"/>
            <a:ext cx="5569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2414160" y="99072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(IP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378160" y="210024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414160" y="175248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(IPN/R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2373480" y="2928960"/>
            <a:ext cx="552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461680" y="25732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Re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(ND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2368440" y="368604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2439360" y="3444840"/>
            <a:ext cx="42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Prob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1838160" y="4572000"/>
            <a:ext cx="50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DR/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1706040" y="57168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995840" y="57168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 flipV="1">
            <a:off x="3405240" y="80928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192840" y="57168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2921040" y="1852560"/>
            <a:ext cx="990720" cy="5806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rocessing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2914560" y="2652840"/>
            <a:ext cx="990720" cy="5806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rocessing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2925720" y="3438360"/>
            <a:ext cx="990720" cy="611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rocessing 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robe</a:t>
            </a:r>
            <a:br>
              <a:rPr sz="10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2930400" y="4272120"/>
            <a:ext cx="990720" cy="580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Generation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Reports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 flipV="1">
            <a:off x="3132000" y="1719360"/>
            <a:ext cx="5040" cy="1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 flipV="1">
            <a:off x="3668760" y="1709280"/>
            <a:ext cx="4680" cy="1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2820240" y="167652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738960" y="167652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 flipV="1">
            <a:off x="3389400" y="2495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074400" y="243828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3389400" y="405756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583800" y="403848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DR or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 flipH="1">
            <a:off x="3916440" y="4576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4397400" y="444492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DR or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4210200" y="1066680"/>
            <a:ext cx="1056960" cy="6001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IDIN/AF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4230720" y="1881360"/>
            <a:ext cx="1057320" cy="5997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IDIN/AF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ACK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 flipV="1">
            <a:off x="4700520" y="2514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4353840" y="248436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214880" y="2671920"/>
            <a:ext cx="1058760" cy="5997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IDIN/AF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UNKNOWN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3895560" y="2952720"/>
            <a:ext cx="29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4008600" y="294804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 flipV="1">
            <a:off x="3994200" y="3529080"/>
            <a:ext cx="46836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4505040" y="341136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nly if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(unrecognized -OR-nam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5526000" y="1076400"/>
            <a:ext cx="1057320" cy="6001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Us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 flipV="1">
            <a:off x="3916440" y="1380960"/>
            <a:ext cx="30960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5257800" y="136692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5535720" y="1881360"/>
            <a:ext cx="1058760" cy="5997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Us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RN Fiel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3905280" y="211464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5278320" y="21430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5541840" y="2676600"/>
            <a:ext cx="1057320" cy="6001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Use of R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and Cont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arame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5267160" y="2952720"/>
            <a:ext cx="2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6846840" y="1095480"/>
            <a:ext cx="1057320" cy="6001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Us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M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arame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6842160" y="1871640"/>
            <a:ext cx="1057320" cy="6001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Us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M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arame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6578640" y="137160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6588000" y="2147760"/>
            <a:ext cx="2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7981920" y="2157480"/>
            <a:ext cx="236520" cy="104760"/>
          </a:xfrm>
          <a:prstGeom prst="rightArrow">
            <a:avLst>
              <a:gd name="adj1" fmla="val 50000"/>
              <a:gd name="adj2" fmla="val 564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7885800" y="1835280"/>
            <a:ext cx="5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T-Ms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Req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8365680" y="1835280"/>
            <a:ext cx="6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9158400" y="2166840"/>
            <a:ext cx="236520" cy="104760"/>
          </a:xfrm>
          <a:prstGeom prst="rightArrow">
            <a:avLst>
              <a:gd name="adj1" fmla="val 50000"/>
              <a:gd name="adj2" fmla="val 564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9099720" y="1735200"/>
            <a:ext cx="64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7988400" y="2925720"/>
            <a:ext cx="237960" cy="104760"/>
          </a:xfrm>
          <a:prstGeom prst="rightArrow">
            <a:avLst>
              <a:gd name="adj1" fmla="val 50000"/>
              <a:gd name="adj2" fmla="val 567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8002440" y="1332000"/>
            <a:ext cx="236520" cy="104760"/>
          </a:xfrm>
          <a:prstGeom prst="rightArrow">
            <a:avLst>
              <a:gd name="adj1" fmla="val 50000"/>
              <a:gd name="adj2" fmla="val 564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 flipV="1">
            <a:off x="4732200" y="81576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 flipV="1">
            <a:off x="6060960" y="82188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 flipV="1">
            <a:off x="7043760" y="84096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 flipH="1" flipV="1">
            <a:off x="7559640" y="920880"/>
            <a:ext cx="792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492800" y="55872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5884920" y="5652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6802920" y="565200"/>
            <a:ext cx="51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7351560" y="69840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1811520" y="147960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6583680" y="3906720"/>
            <a:ext cx="23965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Legen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P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ontrol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RTE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Report Transfer Envel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TE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essage Transfer Envel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"/>
          <p:cNvSpPr/>
          <p:nvPr/>
        </p:nvSpPr>
        <p:spPr>
          <a:xfrm>
            <a:off x="2655720" y="1384200"/>
            <a:ext cx="990720" cy="520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 flipV="1">
            <a:off x="2255760" y="901440"/>
            <a:ext cx="5692680" cy="21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1406520" y="4124160"/>
            <a:ext cx="3219480" cy="1168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1300320" y="5826240"/>
            <a:ext cx="693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47.   Organisation of SARPs clauses for the CIDIN (OPMET)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to AMHS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1090440" y="1371600"/>
            <a:ext cx="870120" cy="2324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A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8250120" y="1419120"/>
            <a:ext cx="774720" cy="21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3935520" y="1384200"/>
            <a:ext cx="1057320" cy="511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5249880" y="1393920"/>
            <a:ext cx="1058760" cy="5047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Use of CIDIN/OP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Message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9086040" y="1487520"/>
            <a:ext cx="64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929280" y="1393920"/>
            <a:ext cx="809640" cy="21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4093200" y="50976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IDIN (OPMET) 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2862000" y="146700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f M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4128120" y="146700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f I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 flipH="1">
            <a:off x="6287760" y="165096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 flipH="1">
            <a:off x="4946760" y="16257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 flipH="1">
            <a:off x="3632040" y="1631880"/>
            <a:ext cx="30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V="1">
            <a:off x="5772240" y="114912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2064960" y="1092240"/>
            <a:ext cx="53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(IP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577800" y="1587600"/>
            <a:ext cx="406440" cy="158760"/>
          </a:xfrm>
          <a:prstGeom prst="leftArrow">
            <a:avLst>
              <a:gd name="adj1" fmla="val 50000"/>
              <a:gd name="adj2" fmla="val 640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524160" y="116208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5327640" y="11430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343920" y="1092240"/>
            <a:ext cx="53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 Narrow"/>
              </a:rPr>
              <a:t>CUD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OP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 flipV="1">
            <a:off x="7291440" y="11494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7143840" y="94608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012080" y="182880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6870600" y="2800440"/>
            <a:ext cx="92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Acknowled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f recei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IDIN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7835760" y="1955880"/>
            <a:ext cx="289080" cy="133200"/>
          </a:xfrm>
          <a:prstGeom prst="leftArrow">
            <a:avLst>
              <a:gd name="adj1" fmla="val 50000"/>
              <a:gd name="adj2" fmla="val 542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7679880" y="1593720"/>
            <a:ext cx="5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T-Ms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d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7827840" y="3098880"/>
            <a:ext cx="351000" cy="145800"/>
          </a:xfrm>
          <a:prstGeom prst="rightArrow">
            <a:avLst>
              <a:gd name="adj1" fmla="val 50000"/>
              <a:gd name="adj2" fmla="val 601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7678440" y="27241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T-Ms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8319600" y="2216160"/>
            <a:ext cx="6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IDI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9169560" y="1968480"/>
            <a:ext cx="288720" cy="133200"/>
          </a:xfrm>
          <a:prstGeom prst="leftArrow">
            <a:avLst>
              <a:gd name="adj1" fmla="val 50000"/>
              <a:gd name="adj2" fmla="val 541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9156600" y="3143160"/>
            <a:ext cx="351000" cy="146160"/>
          </a:xfrm>
          <a:prstGeom prst="rightArrow">
            <a:avLst>
              <a:gd name="adj1" fmla="val 50000"/>
              <a:gd name="adj2" fmla="val 600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8845920" y="2692440"/>
            <a:ext cx="111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Acknowledgemen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Mes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2084400" y="1606680"/>
            <a:ext cx="406440" cy="158760"/>
          </a:xfrm>
          <a:prstGeom prst="leftArrow">
            <a:avLst>
              <a:gd name="adj1" fmla="val 50000"/>
              <a:gd name="adj2" fmla="val 640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1764000" y="4230720"/>
            <a:ext cx="23965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Legen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P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ontrol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TE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essage Transfer Envel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UDF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IDIN User Data Fi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"/>
          <p:cNvSpPr/>
          <p:nvPr/>
        </p:nvSpPr>
        <p:spPr>
          <a:xfrm>
            <a:off x="2874960" y="1384200"/>
            <a:ext cx="990720" cy="520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 flipV="1">
            <a:off x="1479600" y="901440"/>
            <a:ext cx="6761160" cy="12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6043680" y="3886200"/>
            <a:ext cx="3219480" cy="1168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1300320" y="5826240"/>
            <a:ext cx="693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48.   Organisation of SARPs clauses for the AMHS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to CIDIN (OPMET)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1771560" y="1384200"/>
            <a:ext cx="663840" cy="2597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8318520" y="1393920"/>
            <a:ext cx="776160" cy="1190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4154400" y="1384200"/>
            <a:ext cx="1059120" cy="511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5470560" y="1393920"/>
            <a:ext cx="1057320" cy="5047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Use o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PM El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9133920" y="1442880"/>
            <a:ext cx="64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 Narrow"/>
              </a:rPr>
              <a:t>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4093200" y="50976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IDIN (OPMET) 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3081240" y="146700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rocess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4214160" y="146700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Generation CIDIN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OPMET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 flipH="1">
            <a:off x="3852720" y="1631880"/>
            <a:ext cx="30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452680" y="4645080"/>
            <a:ext cx="333360" cy="158760"/>
          </a:xfrm>
          <a:prstGeom prst="leftArrow">
            <a:avLst>
              <a:gd name="adj1" fmla="val 50000"/>
              <a:gd name="adj2" fmla="val 524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8395560" y="1765440"/>
            <a:ext cx="6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IDI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9272520" y="1949400"/>
            <a:ext cx="351000" cy="146160"/>
          </a:xfrm>
          <a:prstGeom prst="rightArrow">
            <a:avLst>
              <a:gd name="adj1" fmla="val 50000"/>
              <a:gd name="adj2" fmla="val 600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6818400" y="1406520"/>
            <a:ext cx="1058760" cy="4921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Use o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MTE Parame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601560" y="2654280"/>
            <a:ext cx="636840" cy="2324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A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862360" y="2108160"/>
            <a:ext cx="990360" cy="520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2874960" y="2895480"/>
            <a:ext cx="990720" cy="520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2889360" y="3683160"/>
            <a:ext cx="990360" cy="520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903400" y="4470480"/>
            <a:ext cx="990720" cy="520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00160" y="3759120"/>
            <a:ext cx="322200" cy="127080"/>
          </a:xfrm>
          <a:prstGeom prst="leftRightArrow">
            <a:avLst>
              <a:gd name="adj1" fmla="val 50000"/>
              <a:gd name="adj2" fmla="val 504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104040" y="3162240"/>
            <a:ext cx="56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Re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1389240" y="3016080"/>
            <a:ext cx="338040" cy="152640"/>
          </a:xfrm>
          <a:prstGeom prst="rightArrow">
            <a:avLst>
              <a:gd name="adj1" fmla="val 50000"/>
              <a:gd name="adj2" fmla="val 553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1181880" y="2590920"/>
            <a:ext cx="64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2333520" y="4857840"/>
            <a:ext cx="50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DR/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1809360" y="173988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Fun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1768320" y="2552760"/>
            <a:ext cx="70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dent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f 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2435400" y="167652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2441520" y="2349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2449440" y="31305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2441520" y="38926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2984400" y="2241720"/>
            <a:ext cx="78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No Con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998440" y="3054240"/>
            <a:ext cx="78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No Con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2909880" y="378468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rocessing 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rob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047400" y="455940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Generation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Re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 flipV="1">
            <a:off x="3336840" y="1980720"/>
            <a:ext cx="648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2982240" y="189864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988720" y="266688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390840" y="420372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3424320" y="421020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DR or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2404800" y="133344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(IP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2414160" y="195588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(IP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2437560" y="27496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Re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(ND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439360" y="3600360"/>
            <a:ext cx="42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Prob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 flipV="1">
            <a:off x="3328920" y="1162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 flipV="1">
            <a:off x="1933560" y="1162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V="1">
            <a:off x="2255760" y="11682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771200" y="93996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1923840" y="939960"/>
            <a:ext cx="62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 flipV="1">
            <a:off x="4664160" y="11556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3073680" y="95256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4415040" y="95868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 flipV="1">
            <a:off x="5985000" y="11746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5830200" y="98424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214960" y="1644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 flipV="1">
            <a:off x="7051680" y="11239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flipV="1">
            <a:off x="7547040" y="12319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6815520" y="95868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7333920" y="102888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931160" y="1574640"/>
            <a:ext cx="330120" cy="140040"/>
          </a:xfrm>
          <a:prstGeom prst="rightArrow">
            <a:avLst>
              <a:gd name="adj1" fmla="val 50000"/>
              <a:gd name="adj2" fmla="val 589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7836480" y="1295280"/>
            <a:ext cx="5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T-Ms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Req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 flipH="1">
            <a:off x="3879720" y="47242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525200" y="461016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DR or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 flipV="1">
            <a:off x="3328920" y="271764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6372360" y="4021200"/>
            <a:ext cx="25354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Legen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P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ontrol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TE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essage Transfer Envel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1)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UDF = CIDIN User Data Fi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133720" y="6172200"/>
            <a:ext cx="557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5.  Examples of AMHS message fl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1905120"/>
            <a:ext cx="6096240" cy="335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048120"/>
            <a:ext cx="12952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3276720"/>
            <a:ext cx="533520" cy="533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3276720"/>
            <a:ext cx="533520" cy="533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3048120"/>
            <a:ext cx="12952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91520" y="3276720"/>
            <a:ext cx="533160" cy="53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01000" y="3276720"/>
            <a:ext cx="533520" cy="533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4876920"/>
            <a:ext cx="533520" cy="533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5029200"/>
            <a:ext cx="533160" cy="533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1752480"/>
            <a:ext cx="533520" cy="53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1600200"/>
            <a:ext cx="533520" cy="533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4495680"/>
            <a:ext cx="533520" cy="533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1219320"/>
            <a:ext cx="533520" cy="5331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4800600"/>
            <a:ext cx="533160" cy="533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1905120"/>
            <a:ext cx="533160" cy="5331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5029200"/>
            <a:ext cx="533520" cy="5335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1600200"/>
            <a:ext cx="533520" cy="5335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38098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 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4960" y="4013280"/>
            <a:ext cx="170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FTN/AMHS 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2320" y="5562720"/>
            <a:ext cx="163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S Messag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5800" y="5410080"/>
            <a:ext cx="163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S Messag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6440" y="1295280"/>
            <a:ext cx="194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S Message User Agent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co-locat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0560" y="1447920"/>
            <a:ext cx="194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S Message User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5812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09480" y="914400"/>
            <a:ext cx="2667240" cy="2438280"/>
            <a:chOff x="609480" y="914400"/>
            <a:chExt cx="2667240" cy="2438280"/>
          </a:xfrm>
        </p:grpSpPr>
        <p:sp>
          <p:nvSpPr>
            <p:cNvPr id="187" name=""/>
            <p:cNvSpPr/>
            <p:nvPr/>
          </p:nvSpPr>
          <p:spPr>
            <a:xfrm>
              <a:off x="609480" y="335268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438280" y="2209320"/>
              <a:ext cx="83844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276720" y="91440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286000" y="990720"/>
            <a:ext cx="1219320" cy="4419360"/>
            <a:chOff x="2286000" y="990720"/>
            <a:chExt cx="1219320" cy="4419360"/>
          </a:xfrm>
        </p:grpSpPr>
        <p:sp>
          <p:nvSpPr>
            <p:cNvPr id="191" name=""/>
            <p:cNvSpPr/>
            <p:nvPr/>
          </p:nvSpPr>
          <p:spPr>
            <a:xfrm flipV="1">
              <a:off x="2286000" y="49528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86000" y="4952880"/>
              <a:ext cx="121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505320" y="990720"/>
              <a:ext cx="0" cy="396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333760" y="4647960"/>
            <a:ext cx="990720" cy="609480"/>
            <a:chOff x="5333760" y="4647960"/>
            <a:chExt cx="990720" cy="609480"/>
          </a:xfrm>
        </p:grpSpPr>
        <p:sp>
          <p:nvSpPr>
            <p:cNvPr id="195" name=""/>
            <p:cNvSpPr/>
            <p:nvPr/>
          </p:nvSpPr>
          <p:spPr>
            <a:xfrm flipV="1">
              <a:off x="6324480" y="464796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333760" y="4648320"/>
              <a:ext cx="9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34120" y="464832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657600" y="1981080"/>
            <a:ext cx="1828800" cy="3200400"/>
            <a:chOff x="3657600" y="1981080"/>
            <a:chExt cx="1828800" cy="3200400"/>
          </a:xfrm>
        </p:grpSpPr>
        <p:sp>
          <p:nvSpPr>
            <p:cNvPr id="199" name=""/>
            <p:cNvSpPr/>
            <p:nvPr/>
          </p:nvSpPr>
          <p:spPr>
            <a:xfrm flipH="1">
              <a:off x="4495320" y="518148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657600" y="4952520"/>
              <a:ext cx="83808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657600" y="2133360"/>
              <a:ext cx="0" cy="2819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657600" y="1981080"/>
              <a:ext cx="182880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495680" y="3733560"/>
            <a:ext cx="4572000" cy="1447560"/>
            <a:chOff x="4495680" y="3733560"/>
            <a:chExt cx="4572000" cy="1447560"/>
          </a:xfrm>
        </p:grpSpPr>
        <p:sp>
          <p:nvSpPr>
            <p:cNvPr id="204" name=""/>
            <p:cNvSpPr/>
            <p:nvPr/>
          </p:nvSpPr>
          <p:spPr>
            <a:xfrm flipV="1">
              <a:off x="4495680" y="3733560"/>
              <a:ext cx="1447920" cy="14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3600" y="3733920"/>
              <a:ext cx="3124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562720" y="1752120"/>
            <a:ext cx="1371600" cy="838800"/>
            <a:chOff x="5562720" y="1752120"/>
            <a:chExt cx="1371600" cy="838800"/>
          </a:xfrm>
        </p:grpSpPr>
        <p:sp>
          <p:nvSpPr>
            <p:cNvPr id="207" name=""/>
            <p:cNvSpPr/>
            <p:nvPr/>
          </p:nvSpPr>
          <p:spPr>
            <a:xfrm>
              <a:off x="5562720" y="1981080"/>
              <a:ext cx="0" cy="60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62720" y="25909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934320" y="1752120"/>
              <a:ext cx="0" cy="83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"/>
          <p:cNvSpPr/>
          <p:nvPr/>
        </p:nvSpPr>
        <p:spPr>
          <a:xfrm>
            <a:off x="2655720" y="1384200"/>
            <a:ext cx="990720" cy="520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 flipV="1">
            <a:off x="1925640" y="901440"/>
            <a:ext cx="5724360" cy="12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2425680" y="3578400"/>
            <a:ext cx="3219480" cy="13968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1093680" y="5356080"/>
            <a:ext cx="693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49.   Organisation of SARPs clauses for the CIDIN (OPMSG)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to AMHS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1090440" y="1371600"/>
            <a:ext cx="870120" cy="2324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A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8250120" y="1419120"/>
            <a:ext cx="774720" cy="21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3935520" y="1384200"/>
            <a:ext cx="1057320" cy="511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5249880" y="1393920"/>
            <a:ext cx="1058760" cy="5047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Use of CIDIN/OPM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Message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9079200" y="1474920"/>
            <a:ext cx="64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6929280" y="1393920"/>
            <a:ext cx="809640" cy="21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099680" y="509760"/>
            <a:ext cx="166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IDIN (OPMSG)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2862000" y="146700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f M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4128120" y="146700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f IP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 flipH="1">
            <a:off x="6287760" y="165096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 flipH="1">
            <a:off x="4946760" y="16257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 flipH="1">
            <a:off x="3632040" y="1631880"/>
            <a:ext cx="30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2131920" y="1600200"/>
            <a:ext cx="406440" cy="158760"/>
          </a:xfrm>
          <a:prstGeom prst="leftArrow">
            <a:avLst>
              <a:gd name="adj1" fmla="val 50000"/>
              <a:gd name="adj2" fmla="val 640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 flipV="1">
            <a:off x="5772240" y="114912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2064960" y="1092240"/>
            <a:ext cx="53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(IP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550800" y="1587600"/>
            <a:ext cx="405000" cy="158760"/>
          </a:xfrm>
          <a:prstGeom prst="leftArrow">
            <a:avLst>
              <a:gd name="adj1" fmla="val 50000"/>
              <a:gd name="adj2" fmla="val 637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62240" y="114300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5327640" y="11430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6343560" y="1092240"/>
            <a:ext cx="53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 Narrow"/>
              </a:rPr>
              <a:t>CUD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OPM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 flipV="1">
            <a:off x="7291440" y="11494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7143840" y="94608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7012080" y="182880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6870600" y="2800440"/>
            <a:ext cx="92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Acknowled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f recei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IDIN 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7835760" y="1955880"/>
            <a:ext cx="289080" cy="133200"/>
          </a:xfrm>
          <a:prstGeom prst="leftArrow">
            <a:avLst>
              <a:gd name="adj1" fmla="val 50000"/>
              <a:gd name="adj2" fmla="val 542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7679880" y="1593720"/>
            <a:ext cx="5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T-Ms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d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7827840" y="3098880"/>
            <a:ext cx="351000" cy="145800"/>
          </a:xfrm>
          <a:prstGeom prst="rightArrow">
            <a:avLst>
              <a:gd name="adj1" fmla="val 50000"/>
              <a:gd name="adj2" fmla="val 601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7678440" y="27241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T-Ms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8319600" y="2216160"/>
            <a:ext cx="6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IDI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9183600" y="1968480"/>
            <a:ext cx="289080" cy="133200"/>
          </a:xfrm>
          <a:prstGeom prst="leftArrow">
            <a:avLst>
              <a:gd name="adj1" fmla="val 50000"/>
              <a:gd name="adj2" fmla="val 542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9190080" y="3111480"/>
            <a:ext cx="350640" cy="146160"/>
          </a:xfrm>
          <a:prstGeom prst="rightArrow">
            <a:avLst>
              <a:gd name="adj1" fmla="val 50000"/>
              <a:gd name="adj2" fmla="val 599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8853840" y="2679840"/>
            <a:ext cx="106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Acknowled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Mes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822400" y="3621240"/>
            <a:ext cx="239400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Legen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P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ontrol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TE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essage Transfer Envel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UDF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IDIN User Data Fi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OPMSG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IDIN Operator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"/>
          <p:cNvSpPr/>
          <p:nvPr/>
        </p:nvSpPr>
        <p:spPr>
          <a:xfrm>
            <a:off x="2944800" y="1384200"/>
            <a:ext cx="990720" cy="520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 flipV="1">
            <a:off x="1554120" y="901440"/>
            <a:ext cx="6783480" cy="12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5878440" y="4022640"/>
            <a:ext cx="3219480" cy="1397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1355760" y="5813280"/>
            <a:ext cx="693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50.   Organisation of SARPs clauses for AMHS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to CIDIN (OPMSG) 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1765440" y="1409760"/>
            <a:ext cx="690480" cy="2539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8386920" y="1419120"/>
            <a:ext cx="776160" cy="1470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4224240" y="1384200"/>
            <a:ext cx="1057320" cy="511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5538960" y="1393920"/>
            <a:ext cx="1058760" cy="5047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Use o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PM Eleme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9236880" y="1512720"/>
            <a:ext cx="642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ID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 Narrow"/>
              </a:rPr>
              <a:t>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231800" y="509760"/>
            <a:ext cx="149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IDIN (OPMSG) MT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3151080" y="1397160"/>
            <a:ext cx="63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rocess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4335480" y="14670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IDIN / OPMS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8457480" y="1905120"/>
            <a:ext cx="6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IDI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9383760" y="1968480"/>
            <a:ext cx="350640" cy="146160"/>
          </a:xfrm>
          <a:prstGeom prst="rightArrow">
            <a:avLst>
              <a:gd name="adj1" fmla="val 50000"/>
              <a:gd name="adj2" fmla="val 599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6851520" y="1397160"/>
            <a:ext cx="1057320" cy="5108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77880" y="2666880"/>
            <a:ext cx="677880" cy="2324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AT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2944800" y="2082960"/>
            <a:ext cx="990720" cy="520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2944800" y="2781360"/>
            <a:ext cx="990720" cy="520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2944800" y="3479760"/>
            <a:ext cx="990720" cy="520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2944800" y="4178160"/>
            <a:ext cx="990720" cy="5508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1444680" y="3181320"/>
            <a:ext cx="282600" cy="120600"/>
          </a:xfrm>
          <a:prstGeom prst="rightArrow">
            <a:avLst>
              <a:gd name="adj1" fmla="val 50000"/>
              <a:gd name="adj2" fmla="val 585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1845720" y="170820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Contr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 u="sng">
                <a:solidFill>
                  <a:srgbClr val="000000"/>
                </a:solidFill>
                <a:uFillTx/>
                <a:latin typeface="Arial Narrow"/>
              </a:rPr>
              <a:t>Fun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1768320" y="2470320"/>
            <a:ext cx="70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dent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f 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247680" y="3835440"/>
            <a:ext cx="336600" cy="120600"/>
          </a:xfrm>
          <a:prstGeom prst="leftRightArrow">
            <a:avLst>
              <a:gd name="adj1" fmla="val 50000"/>
              <a:gd name="adj2" fmla="val 555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92160" y="3314880"/>
            <a:ext cx="56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Re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2401560" y="4546440"/>
            <a:ext cx="50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DR/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2462040" y="1676520"/>
            <a:ext cx="48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2455920" y="233676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2455920" y="304164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2455920" y="368316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 flipH="1" flipV="1">
            <a:off x="3398760" y="1943280"/>
            <a:ext cx="6480" cy="1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 flipH="1" flipV="1">
            <a:off x="3398760" y="2660400"/>
            <a:ext cx="648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2425320" y="128268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(IP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2410920" y="1943280"/>
            <a:ext cx="5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(IP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2465640" y="26542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Re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(ND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2453760" y="3409920"/>
            <a:ext cx="42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Prob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3106080" y="188604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3046320" y="2203560"/>
            <a:ext cx="78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No Con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3087360" y="2946240"/>
            <a:ext cx="78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No Con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2992680" y="3594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rocessing AM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Prob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3111480" y="430524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Gen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of Re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3112560" y="258444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3390840" y="400068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 flipH="1">
            <a:off x="3956040" y="4489560"/>
            <a:ext cx="55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3452040" y="399420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DR or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4497480" y="4356000"/>
            <a:ext cx="785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DR or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 flipV="1">
            <a:off x="3419640" y="117468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4732200" y="116208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 flipV="1">
            <a:off x="6046920" y="11811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 flipV="1">
            <a:off x="7037280" y="112392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 flipV="1">
            <a:off x="7608960" y="119988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3941640" y="1619280"/>
            <a:ext cx="29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6964560" y="1492200"/>
            <a:ext cx="8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Us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MTE Parame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3154680" y="93348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4518360" y="95868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5898600" y="97776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6788520" y="933480"/>
            <a:ext cx="53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N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739584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Init. D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8007480" y="1606680"/>
            <a:ext cx="274680" cy="114120"/>
          </a:xfrm>
          <a:prstGeom prst="rightArrow">
            <a:avLst>
              <a:gd name="adj1" fmla="val 50000"/>
              <a:gd name="adj2" fmla="val 601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7862040" y="1295280"/>
            <a:ext cx="5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T-Ms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 Narrow"/>
              </a:rPr>
              <a:t>Req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5276880" y="1625760"/>
            <a:ext cx="26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6597720" y="1650960"/>
            <a:ext cx="26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2421000" y="4400640"/>
            <a:ext cx="379440" cy="139680"/>
          </a:xfrm>
          <a:prstGeom prst="leftArrow">
            <a:avLst>
              <a:gd name="adj1" fmla="val 50000"/>
              <a:gd name="adj2" fmla="val 679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6210360" y="4078440"/>
            <a:ext cx="2535480" cy="13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 Narrow"/>
              </a:rPr>
              <a:t>Legend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P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ontrol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TE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Message Transfer Envel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OPMSG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IDIN Operator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1)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 Narrow"/>
              </a:rPr>
              <a:t>CDUF = CIDIN User Data Fi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0" y="304920"/>
            <a:ext cx="2190600" cy="563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ddress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ublication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86600" y="304920"/>
            <a:ext cx="2133720" cy="5638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CAO Registration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nd Public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914400"/>
            <a:ext cx="12956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irectory-based distributed 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ublication ser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38760" y="2819520"/>
            <a:ext cx="140976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irectory-based distributed address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ublication ser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7920" y="304920"/>
            <a:ext cx="24382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2960" y="38088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tate / ATSO1 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80440" y="1600200"/>
            <a:ext cx="11556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CAO Published AMHS MD and addressing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480440" y="3886200"/>
            <a:ext cx="11556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CAO Registry of AMHS MDs  and addressing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2" idx="3"/>
            <a:endCxn id="213" idx="3"/>
          </p:cNvCxnSpPr>
          <p:nvPr/>
        </p:nvCxnSpPr>
        <p:spPr>
          <a:xfrm>
            <a:off x="6248520" y="1193760"/>
            <a:ext cx="2160" cy="1905840"/>
          </a:xfrm>
          <a:prstGeom prst="curvedConnector5">
            <a:avLst>
              <a:gd name="adj1" fmla="val 14400000"/>
              <a:gd name="adj2" fmla="val 49990"/>
              <a:gd name="adj3" fmla="val 14400000"/>
            </a:avLst>
          </a:prstGeom>
          <a:ln w="93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 flipV="1">
            <a:off x="8058240" y="2285640"/>
            <a:ext cx="0" cy="160020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6172200" y="1371600"/>
            <a:ext cx="1308240" cy="38088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076440" y="1905120"/>
            <a:ext cx="1403640" cy="106668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886200" y="2209680"/>
            <a:ext cx="3594240" cy="2971800"/>
          </a:xfrm>
          <a:prstGeom prst="line">
            <a:avLst/>
          </a:prstGeom>
          <a:ln w="936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1600200"/>
            <a:ext cx="3594240" cy="243828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9880" y="3505320"/>
            <a:ext cx="3670560" cy="60948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886200" y="4266720"/>
            <a:ext cx="3594240" cy="129564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67720" y="2097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90000" y="3581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3040" y="457200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40960" y="316404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04640" y="12952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53880" y="19051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6200" y="289548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26920" y="114300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77880" y="167652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14800" y="2819520"/>
            <a:ext cx="3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3880" y="6400800"/>
            <a:ext cx="655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6.  General model for distribution of AMHS addressing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762120"/>
            <a:ext cx="12193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FTN or CIDIN)/ 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133360" y="1270080"/>
            <a:ext cx="381240" cy="533160"/>
            <a:chOff x="2133360" y="1270080"/>
            <a:chExt cx="381240" cy="533160"/>
          </a:xfrm>
        </p:grpSpPr>
        <p:grpSp>
          <p:nvGrpSpPr>
            <p:cNvPr id="239" name=""/>
            <p:cNvGrpSpPr/>
            <p:nvPr/>
          </p:nvGrpSpPr>
          <p:grpSpPr>
            <a:xfrm>
              <a:off x="2202840" y="1384200"/>
              <a:ext cx="311760" cy="228600"/>
              <a:chOff x="2202840" y="1384200"/>
              <a:chExt cx="311760" cy="228600"/>
            </a:xfrm>
          </p:grpSpPr>
          <p:sp>
            <p:nvSpPr>
              <p:cNvPr id="240" name=""/>
              <p:cNvSpPr/>
              <p:nvPr/>
            </p:nvSpPr>
            <p:spPr>
              <a:xfrm>
                <a:off x="2306520" y="1384200"/>
                <a:ext cx="20772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02840" y="1536480"/>
                <a:ext cx="31176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133360" y="1270080"/>
              <a:ext cx="242640" cy="533160"/>
              <a:chOff x="2133360" y="1270080"/>
              <a:chExt cx="242640" cy="533160"/>
            </a:xfrm>
          </p:grpSpPr>
          <p:sp>
            <p:nvSpPr>
              <p:cNvPr id="243" name=""/>
              <p:cNvSpPr/>
              <p:nvPr/>
            </p:nvSpPr>
            <p:spPr>
              <a:xfrm>
                <a:off x="2168280" y="1270080"/>
                <a:ext cx="1382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4" name=""/>
              <p:cNvCxnSpPr>
                <a:stCxn id="243" idx="4"/>
              </p:cNvCxnSpPr>
              <p:nvPr/>
            </p:nvCxnSpPr>
            <p:spPr>
              <a:xfrm>
                <a:off x="2237040" y="142200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45" name=""/>
              <p:cNvCxnSpPr>
                <a:stCxn id="243" idx="4"/>
              </p:cNvCxnSpPr>
              <p:nvPr/>
            </p:nvCxnSpPr>
            <p:spPr>
              <a:xfrm>
                <a:off x="2237400" y="1422000"/>
                <a:ext cx="138960" cy="114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46" name=""/>
              <p:cNvCxnSpPr>
                <a:stCxn id="243" idx="4"/>
              </p:cNvCxnSpPr>
              <p:nvPr/>
            </p:nvCxnSpPr>
            <p:spPr>
              <a:xfrm flipH="1">
                <a:off x="2133360" y="1422000"/>
                <a:ext cx="104400" cy="114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47" name=""/>
              <p:cNvCxnSpPr/>
              <p:nvPr/>
            </p:nvCxnSpPr>
            <p:spPr>
              <a:xfrm flipH="1">
                <a:off x="2167920" y="165060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48" name=""/>
              <p:cNvCxnSpPr/>
              <p:nvPr/>
            </p:nvCxnSpPr>
            <p:spPr>
              <a:xfrm>
                <a:off x="2237400" y="1650600"/>
                <a:ext cx="10440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49" name=""/>
          <p:cNvGrpSpPr/>
          <p:nvPr/>
        </p:nvGrpSpPr>
        <p:grpSpPr>
          <a:xfrm>
            <a:off x="2590560" y="1270080"/>
            <a:ext cx="381240" cy="533160"/>
            <a:chOff x="2590560" y="1270080"/>
            <a:chExt cx="381240" cy="533160"/>
          </a:xfrm>
        </p:grpSpPr>
        <p:grpSp>
          <p:nvGrpSpPr>
            <p:cNvPr id="250" name=""/>
            <p:cNvGrpSpPr/>
            <p:nvPr/>
          </p:nvGrpSpPr>
          <p:grpSpPr>
            <a:xfrm>
              <a:off x="2660040" y="1384200"/>
              <a:ext cx="311760" cy="228600"/>
              <a:chOff x="2660040" y="1384200"/>
              <a:chExt cx="311760" cy="228600"/>
            </a:xfrm>
          </p:grpSpPr>
          <p:sp>
            <p:nvSpPr>
              <p:cNvPr id="251" name=""/>
              <p:cNvSpPr/>
              <p:nvPr/>
            </p:nvSpPr>
            <p:spPr>
              <a:xfrm>
                <a:off x="2763720" y="1384200"/>
                <a:ext cx="20772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60040" y="1536480"/>
                <a:ext cx="31176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2590560" y="1270080"/>
              <a:ext cx="242640" cy="533160"/>
              <a:chOff x="2590560" y="1270080"/>
              <a:chExt cx="242640" cy="533160"/>
            </a:xfrm>
          </p:grpSpPr>
          <p:sp>
            <p:nvSpPr>
              <p:cNvPr id="254" name=""/>
              <p:cNvSpPr/>
              <p:nvPr/>
            </p:nvSpPr>
            <p:spPr>
              <a:xfrm>
                <a:off x="2625480" y="1270080"/>
                <a:ext cx="1382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5" name=""/>
              <p:cNvCxnSpPr>
                <a:stCxn id="254" idx="4"/>
              </p:cNvCxnSpPr>
              <p:nvPr/>
            </p:nvCxnSpPr>
            <p:spPr>
              <a:xfrm>
                <a:off x="2694240" y="142200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6" name=""/>
              <p:cNvCxnSpPr>
                <a:stCxn id="254" idx="4"/>
              </p:cNvCxnSpPr>
              <p:nvPr/>
            </p:nvCxnSpPr>
            <p:spPr>
              <a:xfrm>
                <a:off x="2694600" y="1422000"/>
                <a:ext cx="138960" cy="114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7" name=""/>
              <p:cNvCxnSpPr>
                <a:stCxn id="254" idx="4"/>
              </p:cNvCxnSpPr>
              <p:nvPr/>
            </p:nvCxnSpPr>
            <p:spPr>
              <a:xfrm flipH="1">
                <a:off x="2590560" y="1422000"/>
                <a:ext cx="104400" cy="114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8" name=""/>
              <p:cNvCxnSpPr/>
              <p:nvPr/>
            </p:nvCxnSpPr>
            <p:spPr>
              <a:xfrm flipH="1">
                <a:off x="2625120" y="165060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59" name=""/>
              <p:cNvCxnSpPr/>
              <p:nvPr/>
            </p:nvCxnSpPr>
            <p:spPr>
              <a:xfrm>
                <a:off x="2694600" y="1650600"/>
                <a:ext cx="10440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260" name=""/>
          <p:cNvSpPr/>
          <p:nvPr/>
        </p:nvSpPr>
        <p:spPr>
          <a:xfrm>
            <a:off x="1447920" y="2438280"/>
            <a:ext cx="24382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02960" y="2514600"/>
            <a:ext cx="165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tate / ATSO2 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81080" y="2895480"/>
            <a:ext cx="12193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FTN or CIDIN)/ 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133360" y="3403440"/>
            <a:ext cx="381240" cy="533160"/>
            <a:chOff x="2133360" y="3403440"/>
            <a:chExt cx="381240" cy="533160"/>
          </a:xfrm>
        </p:grpSpPr>
        <p:grpSp>
          <p:nvGrpSpPr>
            <p:cNvPr id="264" name=""/>
            <p:cNvGrpSpPr/>
            <p:nvPr/>
          </p:nvGrpSpPr>
          <p:grpSpPr>
            <a:xfrm>
              <a:off x="2202840" y="3517560"/>
              <a:ext cx="311760" cy="228600"/>
              <a:chOff x="2202840" y="3517560"/>
              <a:chExt cx="311760" cy="228600"/>
            </a:xfrm>
          </p:grpSpPr>
          <p:sp>
            <p:nvSpPr>
              <p:cNvPr id="265" name=""/>
              <p:cNvSpPr/>
              <p:nvPr/>
            </p:nvSpPr>
            <p:spPr>
              <a:xfrm>
                <a:off x="2306520" y="3517560"/>
                <a:ext cx="20772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02840" y="3669840"/>
                <a:ext cx="31176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2133360" y="3403440"/>
              <a:ext cx="242640" cy="533160"/>
              <a:chOff x="2133360" y="3403440"/>
              <a:chExt cx="242640" cy="533160"/>
            </a:xfrm>
          </p:grpSpPr>
          <p:sp>
            <p:nvSpPr>
              <p:cNvPr id="268" name=""/>
              <p:cNvSpPr/>
              <p:nvPr/>
            </p:nvSpPr>
            <p:spPr>
              <a:xfrm>
                <a:off x="2168280" y="3403440"/>
                <a:ext cx="1382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9" name=""/>
              <p:cNvCxnSpPr>
                <a:stCxn id="268" idx="4"/>
              </p:cNvCxnSpPr>
              <p:nvPr/>
            </p:nvCxnSpPr>
            <p:spPr>
              <a:xfrm>
                <a:off x="2237040" y="35553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70" name=""/>
              <p:cNvCxnSpPr>
                <a:stCxn id="268" idx="4"/>
              </p:cNvCxnSpPr>
              <p:nvPr/>
            </p:nvCxnSpPr>
            <p:spPr>
              <a:xfrm>
                <a:off x="2237400" y="3555360"/>
                <a:ext cx="138960" cy="114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71" name=""/>
              <p:cNvCxnSpPr>
                <a:stCxn id="268" idx="4"/>
              </p:cNvCxnSpPr>
              <p:nvPr/>
            </p:nvCxnSpPr>
            <p:spPr>
              <a:xfrm flipH="1">
                <a:off x="2133360" y="3555360"/>
                <a:ext cx="104400" cy="114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72" name=""/>
              <p:cNvCxnSpPr/>
              <p:nvPr/>
            </p:nvCxnSpPr>
            <p:spPr>
              <a:xfrm flipH="1">
                <a:off x="2167920" y="378396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73" name=""/>
              <p:cNvCxnSpPr/>
              <p:nvPr/>
            </p:nvCxnSpPr>
            <p:spPr>
              <a:xfrm>
                <a:off x="2237400" y="3783960"/>
                <a:ext cx="10440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74" name=""/>
          <p:cNvGrpSpPr/>
          <p:nvPr/>
        </p:nvGrpSpPr>
        <p:grpSpPr>
          <a:xfrm>
            <a:off x="2590560" y="3403440"/>
            <a:ext cx="381240" cy="533160"/>
            <a:chOff x="2590560" y="3403440"/>
            <a:chExt cx="381240" cy="533160"/>
          </a:xfrm>
        </p:grpSpPr>
        <p:grpSp>
          <p:nvGrpSpPr>
            <p:cNvPr id="275" name=""/>
            <p:cNvGrpSpPr/>
            <p:nvPr/>
          </p:nvGrpSpPr>
          <p:grpSpPr>
            <a:xfrm>
              <a:off x="2660040" y="3517560"/>
              <a:ext cx="311760" cy="228600"/>
              <a:chOff x="2660040" y="3517560"/>
              <a:chExt cx="311760" cy="228600"/>
            </a:xfrm>
          </p:grpSpPr>
          <p:sp>
            <p:nvSpPr>
              <p:cNvPr id="276" name=""/>
              <p:cNvSpPr/>
              <p:nvPr/>
            </p:nvSpPr>
            <p:spPr>
              <a:xfrm>
                <a:off x="2763720" y="3517560"/>
                <a:ext cx="20772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660040" y="3669840"/>
                <a:ext cx="31176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590560" y="3403440"/>
              <a:ext cx="242640" cy="533160"/>
              <a:chOff x="2590560" y="3403440"/>
              <a:chExt cx="242640" cy="533160"/>
            </a:xfrm>
          </p:grpSpPr>
          <p:sp>
            <p:nvSpPr>
              <p:cNvPr id="279" name=""/>
              <p:cNvSpPr/>
              <p:nvPr/>
            </p:nvSpPr>
            <p:spPr>
              <a:xfrm>
                <a:off x="2625480" y="3403440"/>
                <a:ext cx="1382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0" name=""/>
              <p:cNvCxnSpPr>
                <a:stCxn id="279" idx="4"/>
              </p:cNvCxnSpPr>
              <p:nvPr/>
            </p:nvCxnSpPr>
            <p:spPr>
              <a:xfrm>
                <a:off x="2694240" y="35553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1" name=""/>
              <p:cNvCxnSpPr>
                <a:stCxn id="279" idx="4"/>
              </p:cNvCxnSpPr>
              <p:nvPr/>
            </p:nvCxnSpPr>
            <p:spPr>
              <a:xfrm>
                <a:off x="2694600" y="3555360"/>
                <a:ext cx="138960" cy="114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2" name=""/>
              <p:cNvCxnSpPr>
                <a:stCxn id="279" idx="4"/>
              </p:cNvCxnSpPr>
              <p:nvPr/>
            </p:nvCxnSpPr>
            <p:spPr>
              <a:xfrm flipH="1">
                <a:off x="2590560" y="3555360"/>
                <a:ext cx="104400" cy="114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3" name=""/>
              <p:cNvCxnSpPr/>
              <p:nvPr/>
            </p:nvCxnSpPr>
            <p:spPr>
              <a:xfrm flipH="1">
                <a:off x="2625120" y="378396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84" name=""/>
              <p:cNvCxnSpPr/>
              <p:nvPr/>
            </p:nvCxnSpPr>
            <p:spPr>
              <a:xfrm>
                <a:off x="2694600" y="3783960"/>
                <a:ext cx="10440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285" name=""/>
          <p:cNvSpPr/>
          <p:nvPr/>
        </p:nvSpPr>
        <p:spPr>
          <a:xfrm>
            <a:off x="1447920" y="4495680"/>
            <a:ext cx="24382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18840" y="4572000"/>
            <a:ext cx="233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tate / ATSO3 MD (without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 Directo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5029200"/>
            <a:ext cx="121932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(AFTN or CIDIN)/ AMHS Gate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133360" y="5486400"/>
            <a:ext cx="381240" cy="533160"/>
            <a:chOff x="2133360" y="5486400"/>
            <a:chExt cx="381240" cy="533160"/>
          </a:xfrm>
        </p:grpSpPr>
        <p:grpSp>
          <p:nvGrpSpPr>
            <p:cNvPr id="289" name=""/>
            <p:cNvGrpSpPr/>
            <p:nvPr/>
          </p:nvGrpSpPr>
          <p:grpSpPr>
            <a:xfrm>
              <a:off x="2202840" y="5600520"/>
              <a:ext cx="311760" cy="228600"/>
              <a:chOff x="2202840" y="5600520"/>
              <a:chExt cx="311760" cy="228600"/>
            </a:xfrm>
          </p:grpSpPr>
          <p:sp>
            <p:nvSpPr>
              <p:cNvPr id="290" name=""/>
              <p:cNvSpPr/>
              <p:nvPr/>
            </p:nvSpPr>
            <p:spPr>
              <a:xfrm>
                <a:off x="2306520" y="5600520"/>
                <a:ext cx="20772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02840" y="5752800"/>
                <a:ext cx="31176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2133360" y="5486400"/>
              <a:ext cx="242640" cy="533160"/>
              <a:chOff x="2133360" y="5486400"/>
              <a:chExt cx="242640" cy="533160"/>
            </a:xfrm>
          </p:grpSpPr>
          <p:sp>
            <p:nvSpPr>
              <p:cNvPr id="293" name=""/>
              <p:cNvSpPr/>
              <p:nvPr/>
            </p:nvSpPr>
            <p:spPr>
              <a:xfrm>
                <a:off x="2168280" y="5486400"/>
                <a:ext cx="1382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94" name=""/>
              <p:cNvCxnSpPr>
                <a:stCxn id="293" idx="4"/>
              </p:cNvCxnSpPr>
              <p:nvPr/>
            </p:nvCxnSpPr>
            <p:spPr>
              <a:xfrm>
                <a:off x="2237040" y="56383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5" name=""/>
              <p:cNvCxnSpPr>
                <a:stCxn id="293" idx="4"/>
              </p:cNvCxnSpPr>
              <p:nvPr/>
            </p:nvCxnSpPr>
            <p:spPr>
              <a:xfrm>
                <a:off x="2237400" y="5638320"/>
                <a:ext cx="138960" cy="114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6" name=""/>
              <p:cNvCxnSpPr>
                <a:stCxn id="293" idx="4"/>
              </p:cNvCxnSpPr>
              <p:nvPr/>
            </p:nvCxnSpPr>
            <p:spPr>
              <a:xfrm flipH="1">
                <a:off x="2133360" y="5638320"/>
                <a:ext cx="104400" cy="114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7" name=""/>
              <p:cNvCxnSpPr/>
              <p:nvPr/>
            </p:nvCxnSpPr>
            <p:spPr>
              <a:xfrm flipH="1">
                <a:off x="2167920" y="586692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8" name=""/>
              <p:cNvCxnSpPr/>
              <p:nvPr/>
            </p:nvCxnSpPr>
            <p:spPr>
              <a:xfrm>
                <a:off x="2237400" y="5866920"/>
                <a:ext cx="10440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grpSp>
        <p:nvGrpSpPr>
          <p:cNvPr id="299" name=""/>
          <p:cNvGrpSpPr/>
          <p:nvPr/>
        </p:nvGrpSpPr>
        <p:grpSpPr>
          <a:xfrm>
            <a:off x="2590560" y="5486400"/>
            <a:ext cx="381240" cy="533160"/>
            <a:chOff x="2590560" y="5486400"/>
            <a:chExt cx="381240" cy="533160"/>
          </a:xfrm>
        </p:grpSpPr>
        <p:grpSp>
          <p:nvGrpSpPr>
            <p:cNvPr id="300" name=""/>
            <p:cNvGrpSpPr/>
            <p:nvPr/>
          </p:nvGrpSpPr>
          <p:grpSpPr>
            <a:xfrm>
              <a:off x="2660040" y="5600520"/>
              <a:ext cx="311760" cy="228600"/>
              <a:chOff x="2660040" y="5600520"/>
              <a:chExt cx="311760" cy="228600"/>
            </a:xfrm>
          </p:grpSpPr>
          <p:sp>
            <p:nvSpPr>
              <p:cNvPr id="301" name=""/>
              <p:cNvSpPr/>
              <p:nvPr/>
            </p:nvSpPr>
            <p:spPr>
              <a:xfrm>
                <a:off x="2763720" y="5600520"/>
                <a:ext cx="20772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60040" y="5752800"/>
                <a:ext cx="311760" cy="76320"/>
              </a:xfrm>
              <a:custGeom>
                <a:avLst/>
                <a:gdLst/>
                <a:ahLst/>
                <a:rect l="l" t="t" r="r" b="b"/>
                <a:pathLst>
                  <a:path w="432" h="96">
                    <a:moveTo>
                      <a:pt x="144" y="0"/>
                    </a:moveTo>
                    <a:lnTo>
                      <a:pt x="0" y="96"/>
                    </a:lnTo>
                    <a:lnTo>
                      <a:pt x="288" y="96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2590560" y="5486400"/>
              <a:ext cx="242640" cy="533160"/>
              <a:chOff x="2590560" y="5486400"/>
              <a:chExt cx="242640" cy="533160"/>
            </a:xfrm>
          </p:grpSpPr>
          <p:sp>
            <p:nvSpPr>
              <p:cNvPr id="304" name=""/>
              <p:cNvSpPr/>
              <p:nvPr/>
            </p:nvSpPr>
            <p:spPr>
              <a:xfrm>
                <a:off x="2625480" y="5486400"/>
                <a:ext cx="1382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5" name=""/>
              <p:cNvCxnSpPr>
                <a:stCxn id="304" idx="4"/>
              </p:cNvCxnSpPr>
              <p:nvPr/>
            </p:nvCxnSpPr>
            <p:spPr>
              <a:xfrm>
                <a:off x="2694240" y="56383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06" name=""/>
              <p:cNvCxnSpPr>
                <a:stCxn id="304" idx="4"/>
              </p:cNvCxnSpPr>
              <p:nvPr/>
            </p:nvCxnSpPr>
            <p:spPr>
              <a:xfrm>
                <a:off x="2694600" y="5638320"/>
                <a:ext cx="138960" cy="114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07" name=""/>
              <p:cNvCxnSpPr>
                <a:stCxn id="304" idx="4"/>
              </p:cNvCxnSpPr>
              <p:nvPr/>
            </p:nvCxnSpPr>
            <p:spPr>
              <a:xfrm flipH="1">
                <a:off x="2590560" y="5638320"/>
                <a:ext cx="104400" cy="114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08" name=""/>
              <p:cNvCxnSpPr/>
              <p:nvPr/>
            </p:nvCxnSpPr>
            <p:spPr>
              <a:xfrm flipH="1">
                <a:off x="2625120" y="5866920"/>
                <a:ext cx="6984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09" name=""/>
              <p:cNvCxnSpPr/>
              <p:nvPr/>
            </p:nvCxnSpPr>
            <p:spPr>
              <a:xfrm>
                <a:off x="2694600" y="5866920"/>
                <a:ext cx="104400" cy="15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cxnSp>
        <p:nvCxnSpPr>
          <p:cNvPr id="310" name=""/>
          <p:cNvCxnSpPr>
            <a:endCxn id="237" idx="3"/>
          </p:cNvCxnSpPr>
          <p:nvPr/>
        </p:nvCxnSpPr>
        <p:spPr>
          <a:xfrm flipH="1" flipV="1">
            <a:off x="3200040" y="964440"/>
            <a:ext cx="1753200" cy="15300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endCxn id="251" idx="3"/>
          </p:cNvCxnSpPr>
          <p:nvPr/>
        </p:nvCxnSpPr>
        <p:spPr>
          <a:xfrm flipH="1">
            <a:off x="2971080" y="1143000"/>
            <a:ext cx="1981800" cy="31788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endCxn id="262" idx="3"/>
          </p:cNvCxnSpPr>
          <p:nvPr/>
        </p:nvCxnSpPr>
        <p:spPr>
          <a:xfrm flipH="1" flipV="1">
            <a:off x="3199680" y="3098880"/>
            <a:ext cx="1677240" cy="17820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endCxn id="276" idx="3"/>
          </p:cNvCxnSpPr>
          <p:nvPr/>
        </p:nvCxnSpPr>
        <p:spPr>
          <a:xfrm flipH="1">
            <a:off x="2971440" y="3276720"/>
            <a:ext cx="1905840" cy="31788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658680" y="711360"/>
            <a:ext cx="107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MHS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rectory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685800"/>
            <a:ext cx="12956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981080" y="2286000"/>
            <a:ext cx="838080" cy="312840"/>
            <a:chOff x="1981080" y="2286000"/>
            <a:chExt cx="838080" cy="312840"/>
          </a:xfrm>
        </p:grpSpPr>
        <p:sp>
          <p:nvSpPr>
            <p:cNvPr id="317" name=""/>
            <p:cNvSpPr/>
            <p:nvPr/>
          </p:nvSpPr>
          <p:spPr>
            <a:xfrm>
              <a:off x="2044080" y="2322360"/>
              <a:ext cx="64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81080" y="2286000"/>
              <a:ext cx="83808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029200" y="2133720"/>
            <a:ext cx="1082520" cy="496800"/>
            <a:chOff x="5029200" y="2133720"/>
            <a:chExt cx="1082520" cy="496800"/>
          </a:xfrm>
        </p:grpSpPr>
        <p:sp>
          <p:nvSpPr>
            <p:cNvPr id="320" name=""/>
            <p:cNvSpPr/>
            <p:nvPr/>
          </p:nvSpPr>
          <p:spPr>
            <a:xfrm>
              <a:off x="5109120" y="2235240"/>
              <a:ext cx="94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organ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29200" y="2133720"/>
              <a:ext cx="1082520" cy="496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514600" y="4800600"/>
            <a:ext cx="1600200" cy="579240"/>
            <a:chOff x="2514600" y="4800600"/>
            <a:chExt cx="1600200" cy="579240"/>
          </a:xfrm>
        </p:grpSpPr>
        <p:sp>
          <p:nvSpPr>
            <p:cNvPr id="323" name=""/>
            <p:cNvSpPr/>
            <p:nvPr/>
          </p:nvSpPr>
          <p:spPr>
            <a:xfrm>
              <a:off x="2669760" y="4876560"/>
              <a:ext cx="106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tn-Amhs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14600" y="4800600"/>
              <a:ext cx="1600200" cy="579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581280" y="3200400"/>
            <a:ext cx="1524240" cy="380880"/>
            <a:chOff x="3581280" y="3200400"/>
            <a:chExt cx="1524240" cy="380880"/>
          </a:xfrm>
        </p:grpSpPr>
        <p:sp>
          <p:nvSpPr>
            <p:cNvPr id="326" name=""/>
            <p:cNvSpPr/>
            <p:nvPr/>
          </p:nvSpPr>
          <p:spPr>
            <a:xfrm>
              <a:off x="3646440" y="3236760"/>
              <a:ext cx="121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tn-Organiz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81280" y="3200400"/>
              <a:ext cx="152424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705720" y="3733920"/>
            <a:ext cx="1295280" cy="380880"/>
            <a:chOff x="6705720" y="3733920"/>
            <a:chExt cx="1295280" cy="380880"/>
          </a:xfrm>
        </p:grpSpPr>
        <p:sp>
          <p:nvSpPr>
            <p:cNvPr id="329" name=""/>
            <p:cNvSpPr/>
            <p:nvPr/>
          </p:nvSpPr>
          <p:spPr>
            <a:xfrm>
              <a:off x="6767280" y="3770280"/>
              <a:ext cx="102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tn-AmhsM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05720" y="3733920"/>
              <a:ext cx="12952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1" name=""/>
          <p:cNvCxnSpPr>
            <a:stCxn id="315" idx="3"/>
            <a:endCxn id="318" idx="7"/>
          </p:cNvCxnSpPr>
          <p:nvPr/>
        </p:nvCxnSpPr>
        <p:spPr>
          <a:xfrm flipH="1">
            <a:off x="2696760" y="1206360"/>
            <a:ext cx="1073520" cy="11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>
            <a:stCxn id="315" idx="5"/>
            <a:endCxn id="321" idx="0"/>
          </p:cNvCxnSpPr>
          <p:nvPr/>
        </p:nvCxnSpPr>
        <p:spPr>
          <a:xfrm>
            <a:off x="4687920" y="1206360"/>
            <a:ext cx="883440" cy="92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"/>
          <p:cNvCxnSpPr>
            <a:stCxn id="317" idx="2"/>
            <a:endCxn id="327" idx="1"/>
          </p:cNvCxnSpPr>
          <p:nvPr/>
        </p:nvCxnSpPr>
        <p:spPr>
          <a:xfrm>
            <a:off x="2366640" y="2597040"/>
            <a:ext cx="1438920" cy="65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4" name=""/>
          <p:cNvCxnSpPr>
            <a:stCxn id="327" idx="4"/>
            <a:endCxn id="324" idx="0"/>
          </p:cNvCxnSpPr>
          <p:nvPr/>
        </p:nvCxnSpPr>
        <p:spPr>
          <a:xfrm flipH="1">
            <a:off x="3314520" y="3580920"/>
            <a:ext cx="102888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5" name=""/>
          <p:cNvCxnSpPr>
            <a:stCxn id="321" idx="4"/>
            <a:endCxn id="327" idx="0"/>
          </p:cNvCxnSpPr>
          <p:nvPr/>
        </p:nvCxnSpPr>
        <p:spPr>
          <a:xfrm flipH="1">
            <a:off x="4342680" y="2630160"/>
            <a:ext cx="1227960" cy="57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" name=""/>
          <p:cNvCxnSpPr>
            <a:stCxn id="321" idx="5"/>
            <a:endCxn id="330" idx="0"/>
          </p:cNvCxnSpPr>
          <p:nvPr/>
        </p:nvCxnSpPr>
        <p:spPr>
          <a:xfrm>
            <a:off x="5952960" y="2557440"/>
            <a:ext cx="1400760" cy="117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37" name=""/>
          <p:cNvGrpSpPr/>
          <p:nvPr/>
        </p:nvGrpSpPr>
        <p:grpSpPr>
          <a:xfrm>
            <a:off x="4572000" y="4800600"/>
            <a:ext cx="2135160" cy="609480"/>
            <a:chOff x="4572000" y="4800600"/>
            <a:chExt cx="2135160" cy="609480"/>
          </a:xfrm>
        </p:grpSpPr>
        <p:sp>
          <p:nvSpPr>
            <p:cNvPr id="338" name=""/>
            <p:cNvSpPr/>
            <p:nvPr/>
          </p:nvSpPr>
          <p:spPr>
            <a:xfrm>
              <a:off x="4625280" y="4956120"/>
              <a:ext cx="175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tn-AmhsDistribution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72000" y="4800600"/>
              <a:ext cx="213516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0" name=""/>
          <p:cNvCxnSpPr>
            <a:stCxn id="327" idx="4"/>
            <a:endCxn id="339" idx="0"/>
          </p:cNvCxnSpPr>
          <p:nvPr/>
        </p:nvCxnSpPr>
        <p:spPr>
          <a:xfrm>
            <a:off x="4343040" y="3580920"/>
            <a:ext cx="12978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1818000" y="5994360"/>
            <a:ext cx="68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Figure III-6-7.  ATN simplified DIT structure in support of AMHS address conversio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797280" y="380880"/>
            <a:ext cx="1733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MHS Directory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65440" y="1139760"/>
            <a:ext cx="7948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=N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95120" y="1252440"/>
            <a:ext cx="581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=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67560" y="1176480"/>
            <a:ext cx="5832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=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63400" y="1252440"/>
            <a:ext cx="1169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=Euro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27760" y="1176480"/>
            <a:ext cx="16574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=ICAO-MD-Reg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55600" y="3505320"/>
            <a:ext cx="15336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=LF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tn-Facility=LF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27880" y="2971800"/>
            <a:ext cx="770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=LF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003200" y="2971800"/>
            <a:ext cx="8038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=LFQ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10400" y="3429000"/>
            <a:ext cx="8038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=EB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03360" y="4267080"/>
            <a:ext cx="3868920" cy="51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N=EBBDZMF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mhs-or-address=/C=XX/A=ICAO/P=CFMU/O=EBBD/OU=EBBD/CN=EBBDZMF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F-address=EBBDZMF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2600" y="2514600"/>
            <a:ext cx="846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=EG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2320" y="5257800"/>
            <a:ext cx="374688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N=LFCIZPZ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mhs-or-address=/C=XX/A=ICAO/P=France/O=LFBO/OU=LFCI/CN=LFCIZPZ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F-address=LFCIZPZ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cidin-mc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x-or-primary-Ax-addr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x-second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4280" y="8967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08720" y="104940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981880" y="97308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48720" y="99072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90400" y="91440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14640" y="3124080"/>
            <a:ext cx="1287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N= C=FR;O=LFC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3280" y="4800600"/>
            <a:ext cx="217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AmhsUser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N= C=FR;O=LFCI;CN=LFCIZPZ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70600" y="3809880"/>
            <a:ext cx="281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AmhsUser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N= O=Eurocontrol;O=EBBD;CN=EBBDZMF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159400" y="1676520"/>
            <a:ext cx="153396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N=CF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global-domain-identifier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C=XX/A=ICAO/P=CFM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icao-country-code=EBB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mhsMD-namingcontext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"O=Eurocontrol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mhs-addr-scheme=ca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994160" y="2895480"/>
            <a:ext cx="153396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N=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global-domain-identifier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/C=XX/A=ICAO/P=Fr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icao-country-code=L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mhsMD-namingcontext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"C=FR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n-amhs-addr-scheme=ca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5" name=""/>
          <p:cNvCxnSpPr>
            <a:stCxn id="342" idx="2"/>
            <a:endCxn id="355" idx="2"/>
          </p:cNvCxnSpPr>
          <p:nvPr/>
        </p:nvCxnSpPr>
        <p:spPr>
          <a:xfrm flipH="1">
            <a:off x="1212120" y="847800"/>
            <a:ext cx="345204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342" idx="2"/>
            <a:endCxn id="344" idx="0"/>
          </p:cNvCxnSpPr>
          <p:nvPr/>
        </p:nvCxnSpPr>
        <p:spPr>
          <a:xfrm flipH="1">
            <a:off x="2285640" y="847800"/>
            <a:ext cx="2378880" cy="405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7" name=""/>
          <p:cNvCxnSpPr>
            <a:stCxn id="342" idx="2"/>
            <a:endCxn id="345" idx="0"/>
          </p:cNvCxnSpPr>
          <p:nvPr/>
        </p:nvCxnSpPr>
        <p:spPr>
          <a:xfrm flipH="1">
            <a:off x="3358440" y="847440"/>
            <a:ext cx="130572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342" idx="2"/>
            <a:endCxn id="346" idx="0"/>
          </p:cNvCxnSpPr>
          <p:nvPr/>
        </p:nvCxnSpPr>
        <p:spPr>
          <a:xfrm>
            <a:off x="4663800" y="847800"/>
            <a:ext cx="84600" cy="405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9" name=""/>
          <p:cNvSpPr/>
          <p:nvPr/>
        </p:nvSpPr>
        <p:spPr>
          <a:xfrm>
            <a:off x="4622760" y="838080"/>
            <a:ext cx="107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622760" y="838080"/>
            <a:ext cx="14860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>
            <a:stCxn id="370" idx="0"/>
            <a:endCxn id="347" idx="0"/>
          </p:cNvCxnSpPr>
          <p:nvPr/>
        </p:nvCxnSpPr>
        <p:spPr>
          <a:xfrm>
            <a:off x="4622400" y="838080"/>
            <a:ext cx="3034440" cy="339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43" idx="2"/>
            <a:endCxn id="353" idx="0"/>
          </p:cNvCxnSpPr>
          <p:nvPr/>
        </p:nvCxnSpPr>
        <p:spPr>
          <a:xfrm flipH="1">
            <a:off x="796680" y="1423800"/>
            <a:ext cx="467280" cy="109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3" name=""/>
          <p:cNvSpPr/>
          <p:nvPr/>
        </p:nvSpPr>
        <p:spPr>
          <a:xfrm>
            <a:off x="213480" y="228600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44" idx="2"/>
            <a:endCxn id="348" idx="0"/>
          </p:cNvCxnSpPr>
          <p:nvPr/>
        </p:nvCxnSpPr>
        <p:spPr>
          <a:xfrm flipH="1">
            <a:off x="1922040" y="1536840"/>
            <a:ext cx="364320" cy="1969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44" idx="2"/>
            <a:endCxn id="349" idx="0"/>
          </p:cNvCxnSpPr>
          <p:nvPr/>
        </p:nvCxnSpPr>
        <p:spPr>
          <a:xfrm>
            <a:off x="2285640" y="1536840"/>
            <a:ext cx="1027800" cy="143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44" idx="2"/>
            <a:endCxn id="350" idx="0"/>
          </p:cNvCxnSpPr>
          <p:nvPr/>
        </p:nvCxnSpPr>
        <p:spPr>
          <a:xfrm>
            <a:off x="2285640" y="1536840"/>
            <a:ext cx="2120040" cy="143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47" idx="2"/>
            <a:endCxn id="363" idx="1"/>
          </p:cNvCxnSpPr>
          <p:nvPr/>
        </p:nvCxnSpPr>
        <p:spPr>
          <a:xfrm flipH="1" rot="16200000">
            <a:off x="7510320" y="1605960"/>
            <a:ext cx="726120" cy="4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47" idx="2"/>
            <a:endCxn id="364" idx="1"/>
          </p:cNvCxnSpPr>
          <p:nvPr/>
        </p:nvCxnSpPr>
        <p:spPr>
          <a:xfrm flipH="1" rot="16200000">
            <a:off x="6817320" y="2298600"/>
            <a:ext cx="1945440" cy="26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9" name=""/>
          <p:cNvSpPr/>
          <p:nvPr/>
        </p:nvSpPr>
        <p:spPr>
          <a:xfrm>
            <a:off x="1898640" y="3962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6580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137040" y="1447920"/>
            <a:ext cx="164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301920" y="1447920"/>
            <a:ext cx="165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01920" y="1447920"/>
            <a:ext cx="577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214120" y="266688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Amhs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131680" y="144792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Amhs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46" idx="2"/>
            <a:endCxn id="351" idx="0"/>
          </p:cNvCxnSpPr>
          <p:nvPr/>
        </p:nvCxnSpPr>
        <p:spPr>
          <a:xfrm>
            <a:off x="4748040" y="1536840"/>
            <a:ext cx="565920" cy="18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7" name=""/>
          <p:cNvSpPr/>
          <p:nvPr/>
        </p:nvSpPr>
        <p:spPr>
          <a:xfrm flipH="1">
            <a:off x="577440" y="2819520"/>
            <a:ext cx="165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43040" y="2819520"/>
            <a:ext cx="164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3053880" y="3276720"/>
            <a:ext cx="165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19480" y="3276720"/>
            <a:ext cx="165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044960" y="3276720"/>
            <a:ext cx="2476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92640" y="3276720"/>
            <a:ext cx="165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73600" y="949320"/>
            <a:ext cx="4554360" cy="4116240"/>
          </a:xfrm>
          <a:custGeom>
            <a:avLst/>
            <a:gdLst/>
            <a:ahLst/>
            <a:rect l="l" t="t" r="r" b="b"/>
            <a:pathLst>
              <a:path w="2649" h="2593">
                <a:moveTo>
                  <a:pt x="502" y="11"/>
                </a:moveTo>
                <a:cubicBezTo>
                  <a:pt x="397" y="37"/>
                  <a:pt x="556" y="0"/>
                  <a:pt x="311" y="29"/>
                </a:cubicBezTo>
                <a:cubicBezTo>
                  <a:pt x="286" y="32"/>
                  <a:pt x="239" y="47"/>
                  <a:pt x="239" y="47"/>
                </a:cubicBezTo>
                <a:cubicBezTo>
                  <a:pt x="212" y="66"/>
                  <a:pt x="184" y="75"/>
                  <a:pt x="157" y="93"/>
                </a:cubicBezTo>
                <a:cubicBezTo>
                  <a:pt x="109" y="164"/>
                  <a:pt x="127" y="127"/>
                  <a:pt x="102" y="202"/>
                </a:cubicBezTo>
                <a:cubicBezTo>
                  <a:pt x="99" y="211"/>
                  <a:pt x="93" y="229"/>
                  <a:pt x="93" y="229"/>
                </a:cubicBezTo>
                <a:cubicBezTo>
                  <a:pt x="101" y="355"/>
                  <a:pt x="95" y="392"/>
                  <a:pt x="157" y="484"/>
                </a:cubicBezTo>
                <a:cubicBezTo>
                  <a:pt x="165" y="496"/>
                  <a:pt x="175" y="508"/>
                  <a:pt x="184" y="520"/>
                </a:cubicBezTo>
                <a:cubicBezTo>
                  <a:pt x="196" y="538"/>
                  <a:pt x="220" y="575"/>
                  <a:pt x="220" y="575"/>
                </a:cubicBezTo>
                <a:cubicBezTo>
                  <a:pt x="240" y="647"/>
                  <a:pt x="285" y="732"/>
                  <a:pt x="339" y="784"/>
                </a:cubicBezTo>
                <a:cubicBezTo>
                  <a:pt x="360" y="825"/>
                  <a:pt x="384" y="869"/>
                  <a:pt x="402" y="911"/>
                </a:cubicBezTo>
                <a:cubicBezTo>
                  <a:pt x="435" y="986"/>
                  <a:pt x="401" y="948"/>
                  <a:pt x="439" y="984"/>
                </a:cubicBezTo>
                <a:cubicBezTo>
                  <a:pt x="463" y="1055"/>
                  <a:pt x="430" y="964"/>
                  <a:pt x="466" y="1038"/>
                </a:cubicBezTo>
                <a:cubicBezTo>
                  <a:pt x="473" y="1052"/>
                  <a:pt x="480" y="1089"/>
                  <a:pt x="484" y="1102"/>
                </a:cubicBezTo>
                <a:cubicBezTo>
                  <a:pt x="505" y="1172"/>
                  <a:pt x="530" y="1240"/>
                  <a:pt x="548" y="1311"/>
                </a:cubicBezTo>
                <a:cubicBezTo>
                  <a:pt x="543" y="1446"/>
                  <a:pt x="582" y="1647"/>
                  <a:pt x="411" y="1702"/>
                </a:cubicBezTo>
                <a:cubicBezTo>
                  <a:pt x="334" y="1753"/>
                  <a:pt x="268" y="1767"/>
                  <a:pt x="175" y="1775"/>
                </a:cubicBezTo>
                <a:cubicBezTo>
                  <a:pt x="129" y="1790"/>
                  <a:pt x="86" y="1829"/>
                  <a:pt x="66" y="1875"/>
                </a:cubicBezTo>
                <a:cubicBezTo>
                  <a:pt x="47" y="1917"/>
                  <a:pt x="46" y="1947"/>
                  <a:pt x="20" y="1984"/>
                </a:cubicBezTo>
                <a:cubicBezTo>
                  <a:pt x="0" y="2064"/>
                  <a:pt x="2" y="2046"/>
                  <a:pt x="2" y="2184"/>
                </a:cubicBezTo>
                <a:cubicBezTo>
                  <a:pt x="2" y="2272"/>
                  <a:pt x="0" y="2361"/>
                  <a:pt x="11" y="2448"/>
                </a:cubicBezTo>
                <a:cubicBezTo>
                  <a:pt x="12" y="2453"/>
                  <a:pt x="94" y="2506"/>
                  <a:pt x="102" y="2511"/>
                </a:cubicBezTo>
                <a:cubicBezTo>
                  <a:pt x="198" y="2565"/>
                  <a:pt x="341" y="2570"/>
                  <a:pt x="448" y="2575"/>
                </a:cubicBezTo>
                <a:cubicBezTo>
                  <a:pt x="527" y="2579"/>
                  <a:pt x="605" y="2581"/>
                  <a:pt x="684" y="2584"/>
                </a:cubicBezTo>
                <a:cubicBezTo>
                  <a:pt x="787" y="2587"/>
                  <a:pt x="890" y="2590"/>
                  <a:pt x="993" y="2593"/>
                </a:cubicBezTo>
                <a:cubicBezTo>
                  <a:pt x="1384" y="2590"/>
                  <a:pt x="1775" y="2592"/>
                  <a:pt x="2166" y="2584"/>
                </a:cubicBezTo>
                <a:cubicBezTo>
                  <a:pt x="2235" y="2583"/>
                  <a:pt x="2315" y="2545"/>
                  <a:pt x="2384" y="2539"/>
                </a:cubicBezTo>
                <a:cubicBezTo>
                  <a:pt x="2427" y="2494"/>
                  <a:pt x="2374" y="2544"/>
                  <a:pt x="2429" y="2511"/>
                </a:cubicBezTo>
                <a:cubicBezTo>
                  <a:pt x="2467" y="2488"/>
                  <a:pt x="2510" y="2456"/>
                  <a:pt x="2538" y="2420"/>
                </a:cubicBezTo>
                <a:cubicBezTo>
                  <a:pt x="2556" y="2396"/>
                  <a:pt x="2593" y="2348"/>
                  <a:pt x="2593" y="2348"/>
                </a:cubicBezTo>
                <a:cubicBezTo>
                  <a:pt x="2606" y="2246"/>
                  <a:pt x="2649" y="2105"/>
                  <a:pt x="2547" y="2039"/>
                </a:cubicBezTo>
                <a:cubicBezTo>
                  <a:pt x="2478" y="1932"/>
                  <a:pt x="2292" y="1927"/>
                  <a:pt x="2184" y="1920"/>
                </a:cubicBezTo>
                <a:cubicBezTo>
                  <a:pt x="2097" y="1908"/>
                  <a:pt x="2006" y="1894"/>
                  <a:pt x="1920" y="1875"/>
                </a:cubicBezTo>
                <a:cubicBezTo>
                  <a:pt x="1883" y="1867"/>
                  <a:pt x="1811" y="1848"/>
                  <a:pt x="1811" y="1848"/>
                </a:cubicBezTo>
                <a:cubicBezTo>
                  <a:pt x="1773" y="1822"/>
                  <a:pt x="1736" y="1825"/>
                  <a:pt x="1693" y="1811"/>
                </a:cubicBezTo>
                <a:cubicBezTo>
                  <a:pt x="1501" y="1748"/>
                  <a:pt x="1632" y="1782"/>
                  <a:pt x="1493" y="1748"/>
                </a:cubicBezTo>
                <a:cubicBezTo>
                  <a:pt x="1436" y="1688"/>
                  <a:pt x="1539" y="1789"/>
                  <a:pt x="1420" y="1720"/>
                </a:cubicBezTo>
                <a:cubicBezTo>
                  <a:pt x="1398" y="1707"/>
                  <a:pt x="1385" y="1682"/>
                  <a:pt x="1366" y="1666"/>
                </a:cubicBezTo>
                <a:cubicBezTo>
                  <a:pt x="1346" y="1649"/>
                  <a:pt x="1302" y="1620"/>
                  <a:pt x="1302" y="1620"/>
                </a:cubicBezTo>
                <a:cubicBezTo>
                  <a:pt x="1291" y="1598"/>
                  <a:pt x="1272" y="1580"/>
                  <a:pt x="1266" y="1557"/>
                </a:cubicBezTo>
                <a:cubicBezTo>
                  <a:pt x="1236" y="1446"/>
                  <a:pt x="1238" y="1324"/>
                  <a:pt x="1211" y="1211"/>
                </a:cubicBezTo>
                <a:cubicBezTo>
                  <a:pt x="1207" y="1092"/>
                  <a:pt x="1229" y="878"/>
                  <a:pt x="1148" y="757"/>
                </a:cubicBezTo>
                <a:cubicBezTo>
                  <a:pt x="1133" y="697"/>
                  <a:pt x="1111" y="648"/>
                  <a:pt x="1084" y="593"/>
                </a:cubicBezTo>
                <a:cubicBezTo>
                  <a:pt x="1067" y="558"/>
                  <a:pt x="1061" y="513"/>
                  <a:pt x="1048" y="475"/>
                </a:cubicBezTo>
                <a:cubicBezTo>
                  <a:pt x="1008" y="354"/>
                  <a:pt x="943" y="240"/>
                  <a:pt x="848" y="157"/>
                </a:cubicBezTo>
                <a:cubicBezTo>
                  <a:pt x="828" y="139"/>
                  <a:pt x="803" y="105"/>
                  <a:pt x="775" y="93"/>
                </a:cubicBezTo>
                <a:cubicBezTo>
                  <a:pt x="755" y="84"/>
                  <a:pt x="731" y="84"/>
                  <a:pt x="711" y="75"/>
                </a:cubicBezTo>
                <a:cubicBezTo>
                  <a:pt x="644" y="47"/>
                  <a:pt x="573" y="28"/>
                  <a:pt x="502" y="1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521400" y="677880"/>
            <a:ext cx="3313080" cy="3546360"/>
          </a:xfrm>
          <a:custGeom>
            <a:avLst/>
            <a:gdLst/>
            <a:ahLst/>
            <a:rect l="l" t="t" r="r" b="b"/>
            <a:pathLst>
              <a:path w="1926" h="2234">
                <a:moveTo>
                  <a:pt x="517" y="0"/>
                </a:moveTo>
                <a:cubicBezTo>
                  <a:pt x="378" y="27"/>
                  <a:pt x="457" y="16"/>
                  <a:pt x="280" y="28"/>
                </a:cubicBezTo>
                <a:cubicBezTo>
                  <a:pt x="259" y="31"/>
                  <a:pt x="237" y="31"/>
                  <a:pt x="217" y="37"/>
                </a:cubicBezTo>
                <a:cubicBezTo>
                  <a:pt x="171" y="51"/>
                  <a:pt x="161" y="103"/>
                  <a:pt x="117" y="118"/>
                </a:cubicBezTo>
                <a:cubicBezTo>
                  <a:pt x="105" y="156"/>
                  <a:pt x="76" y="183"/>
                  <a:pt x="53" y="218"/>
                </a:cubicBezTo>
                <a:cubicBezTo>
                  <a:pt x="47" y="227"/>
                  <a:pt x="35" y="246"/>
                  <a:pt x="35" y="246"/>
                </a:cubicBezTo>
                <a:cubicBezTo>
                  <a:pt x="10" y="348"/>
                  <a:pt x="19" y="294"/>
                  <a:pt x="8" y="409"/>
                </a:cubicBezTo>
                <a:cubicBezTo>
                  <a:pt x="15" y="600"/>
                  <a:pt x="0" y="814"/>
                  <a:pt x="89" y="991"/>
                </a:cubicBezTo>
                <a:cubicBezTo>
                  <a:pt x="98" y="1026"/>
                  <a:pt x="115" y="1048"/>
                  <a:pt x="126" y="1082"/>
                </a:cubicBezTo>
                <a:cubicBezTo>
                  <a:pt x="136" y="1143"/>
                  <a:pt x="157" y="1177"/>
                  <a:pt x="189" y="1228"/>
                </a:cubicBezTo>
                <a:cubicBezTo>
                  <a:pt x="228" y="1289"/>
                  <a:pt x="264" y="1358"/>
                  <a:pt x="317" y="1409"/>
                </a:cubicBezTo>
                <a:cubicBezTo>
                  <a:pt x="336" y="1449"/>
                  <a:pt x="363" y="1474"/>
                  <a:pt x="389" y="1509"/>
                </a:cubicBezTo>
                <a:cubicBezTo>
                  <a:pt x="403" y="1554"/>
                  <a:pt x="441" y="1583"/>
                  <a:pt x="471" y="1619"/>
                </a:cubicBezTo>
                <a:cubicBezTo>
                  <a:pt x="508" y="1663"/>
                  <a:pt x="539" y="1704"/>
                  <a:pt x="580" y="1746"/>
                </a:cubicBezTo>
                <a:cubicBezTo>
                  <a:pt x="684" y="1852"/>
                  <a:pt x="569" y="1766"/>
                  <a:pt x="644" y="1819"/>
                </a:cubicBezTo>
                <a:cubicBezTo>
                  <a:pt x="678" y="1870"/>
                  <a:pt x="720" y="1930"/>
                  <a:pt x="771" y="1964"/>
                </a:cubicBezTo>
                <a:cubicBezTo>
                  <a:pt x="791" y="1993"/>
                  <a:pt x="806" y="2008"/>
                  <a:pt x="835" y="2028"/>
                </a:cubicBezTo>
                <a:cubicBezTo>
                  <a:pt x="874" y="2087"/>
                  <a:pt x="829" y="2030"/>
                  <a:pt x="880" y="2064"/>
                </a:cubicBezTo>
                <a:cubicBezTo>
                  <a:pt x="948" y="2109"/>
                  <a:pt x="871" y="2079"/>
                  <a:pt x="935" y="2100"/>
                </a:cubicBezTo>
                <a:cubicBezTo>
                  <a:pt x="975" y="2142"/>
                  <a:pt x="1102" y="2166"/>
                  <a:pt x="1162" y="2173"/>
                </a:cubicBezTo>
                <a:cubicBezTo>
                  <a:pt x="1220" y="2180"/>
                  <a:pt x="1335" y="2191"/>
                  <a:pt x="1335" y="2191"/>
                </a:cubicBezTo>
                <a:cubicBezTo>
                  <a:pt x="1479" y="2187"/>
                  <a:pt x="1626" y="2234"/>
                  <a:pt x="1744" y="2155"/>
                </a:cubicBezTo>
                <a:cubicBezTo>
                  <a:pt x="1783" y="2096"/>
                  <a:pt x="1804" y="2040"/>
                  <a:pt x="1826" y="1973"/>
                </a:cubicBezTo>
                <a:cubicBezTo>
                  <a:pt x="1833" y="1921"/>
                  <a:pt x="1846" y="1871"/>
                  <a:pt x="1853" y="1819"/>
                </a:cubicBezTo>
                <a:cubicBezTo>
                  <a:pt x="1865" y="1725"/>
                  <a:pt x="1866" y="1630"/>
                  <a:pt x="1889" y="1537"/>
                </a:cubicBezTo>
                <a:cubicBezTo>
                  <a:pt x="1901" y="1430"/>
                  <a:pt x="1918" y="1326"/>
                  <a:pt x="1926" y="1219"/>
                </a:cubicBezTo>
                <a:cubicBezTo>
                  <a:pt x="1923" y="1025"/>
                  <a:pt x="1925" y="831"/>
                  <a:pt x="1916" y="637"/>
                </a:cubicBezTo>
                <a:cubicBezTo>
                  <a:pt x="1915" y="618"/>
                  <a:pt x="1902" y="601"/>
                  <a:pt x="1898" y="582"/>
                </a:cubicBezTo>
                <a:cubicBezTo>
                  <a:pt x="1869" y="436"/>
                  <a:pt x="1804" y="313"/>
                  <a:pt x="1689" y="218"/>
                </a:cubicBezTo>
                <a:cubicBezTo>
                  <a:pt x="1655" y="190"/>
                  <a:pt x="1608" y="170"/>
                  <a:pt x="1571" y="146"/>
                </a:cubicBezTo>
                <a:cubicBezTo>
                  <a:pt x="1547" y="130"/>
                  <a:pt x="1513" y="134"/>
                  <a:pt x="1489" y="118"/>
                </a:cubicBezTo>
                <a:cubicBezTo>
                  <a:pt x="1463" y="100"/>
                  <a:pt x="1431" y="76"/>
                  <a:pt x="1398" y="73"/>
                </a:cubicBezTo>
                <a:cubicBezTo>
                  <a:pt x="1220" y="55"/>
                  <a:pt x="1040" y="59"/>
                  <a:pt x="862" y="37"/>
                </a:cubicBezTo>
                <a:cubicBezTo>
                  <a:pt x="741" y="5"/>
                  <a:pt x="650" y="0"/>
                  <a:pt x="517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30600" y="836640"/>
            <a:ext cx="1412640" cy="1386000"/>
          </a:xfrm>
          <a:custGeom>
            <a:avLst/>
            <a:gdLst/>
            <a:ahLst/>
            <a:rect l="l" t="t" r="r" b="b"/>
            <a:pathLst>
              <a:path w="821" h="873">
                <a:moveTo>
                  <a:pt x="330" y="0"/>
                </a:moveTo>
                <a:cubicBezTo>
                  <a:pt x="278" y="10"/>
                  <a:pt x="251" y="21"/>
                  <a:pt x="212" y="55"/>
                </a:cubicBezTo>
                <a:cubicBezTo>
                  <a:pt x="196" y="69"/>
                  <a:pt x="166" y="100"/>
                  <a:pt x="166" y="100"/>
                </a:cubicBezTo>
                <a:cubicBezTo>
                  <a:pt x="149" y="152"/>
                  <a:pt x="164" y="122"/>
                  <a:pt x="103" y="182"/>
                </a:cubicBezTo>
                <a:cubicBezTo>
                  <a:pt x="94" y="191"/>
                  <a:pt x="75" y="209"/>
                  <a:pt x="75" y="209"/>
                </a:cubicBezTo>
                <a:cubicBezTo>
                  <a:pt x="72" y="221"/>
                  <a:pt x="70" y="234"/>
                  <a:pt x="66" y="246"/>
                </a:cubicBezTo>
                <a:cubicBezTo>
                  <a:pt x="61" y="264"/>
                  <a:pt x="48" y="300"/>
                  <a:pt x="48" y="300"/>
                </a:cubicBezTo>
                <a:cubicBezTo>
                  <a:pt x="50" y="355"/>
                  <a:pt x="0" y="682"/>
                  <a:pt x="139" y="728"/>
                </a:cubicBezTo>
                <a:cubicBezTo>
                  <a:pt x="223" y="812"/>
                  <a:pt x="321" y="837"/>
                  <a:pt x="430" y="873"/>
                </a:cubicBezTo>
                <a:cubicBezTo>
                  <a:pt x="503" y="870"/>
                  <a:pt x="576" y="872"/>
                  <a:pt x="648" y="864"/>
                </a:cubicBezTo>
                <a:cubicBezTo>
                  <a:pt x="681" y="860"/>
                  <a:pt x="725" y="805"/>
                  <a:pt x="739" y="791"/>
                </a:cubicBezTo>
                <a:cubicBezTo>
                  <a:pt x="748" y="782"/>
                  <a:pt x="766" y="764"/>
                  <a:pt x="766" y="764"/>
                </a:cubicBezTo>
                <a:cubicBezTo>
                  <a:pt x="794" y="590"/>
                  <a:pt x="754" y="802"/>
                  <a:pt x="794" y="673"/>
                </a:cubicBezTo>
                <a:cubicBezTo>
                  <a:pt x="810" y="620"/>
                  <a:pt x="808" y="563"/>
                  <a:pt x="821" y="509"/>
                </a:cubicBezTo>
                <a:cubicBezTo>
                  <a:pt x="818" y="446"/>
                  <a:pt x="819" y="382"/>
                  <a:pt x="812" y="319"/>
                </a:cubicBezTo>
                <a:cubicBezTo>
                  <a:pt x="807" y="276"/>
                  <a:pt x="764" y="241"/>
                  <a:pt x="739" y="209"/>
                </a:cubicBezTo>
                <a:cubicBezTo>
                  <a:pt x="685" y="140"/>
                  <a:pt x="636" y="97"/>
                  <a:pt x="575" y="37"/>
                </a:cubicBezTo>
                <a:cubicBezTo>
                  <a:pt x="561" y="24"/>
                  <a:pt x="540" y="22"/>
                  <a:pt x="521" y="18"/>
                </a:cubicBezTo>
                <a:cubicBezTo>
                  <a:pt x="453" y="2"/>
                  <a:pt x="402" y="0"/>
                  <a:pt x="330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3440" y="907920"/>
            <a:ext cx="4146480" cy="5615280"/>
          </a:xfrm>
          <a:custGeom>
            <a:avLst/>
            <a:gdLst/>
            <a:ahLst/>
            <a:rect l="l" t="t" r="r" b="b"/>
            <a:pathLst>
              <a:path w="2411" h="3537">
                <a:moveTo>
                  <a:pt x="1175" y="1"/>
                </a:moveTo>
                <a:cubicBezTo>
                  <a:pt x="1084" y="9"/>
                  <a:pt x="1057" y="14"/>
                  <a:pt x="984" y="55"/>
                </a:cubicBezTo>
                <a:cubicBezTo>
                  <a:pt x="956" y="71"/>
                  <a:pt x="912" y="119"/>
                  <a:pt x="912" y="119"/>
                </a:cubicBezTo>
                <a:cubicBezTo>
                  <a:pt x="892" y="174"/>
                  <a:pt x="917" y="121"/>
                  <a:pt x="875" y="164"/>
                </a:cubicBezTo>
                <a:cubicBezTo>
                  <a:pt x="850" y="190"/>
                  <a:pt x="825" y="226"/>
                  <a:pt x="802" y="255"/>
                </a:cubicBezTo>
                <a:cubicBezTo>
                  <a:pt x="791" y="289"/>
                  <a:pt x="770" y="313"/>
                  <a:pt x="757" y="346"/>
                </a:cubicBezTo>
                <a:cubicBezTo>
                  <a:pt x="734" y="404"/>
                  <a:pt x="716" y="468"/>
                  <a:pt x="702" y="528"/>
                </a:cubicBezTo>
                <a:cubicBezTo>
                  <a:pt x="679" y="625"/>
                  <a:pt x="658" y="800"/>
                  <a:pt x="602" y="883"/>
                </a:cubicBezTo>
                <a:cubicBezTo>
                  <a:pt x="599" y="907"/>
                  <a:pt x="599" y="932"/>
                  <a:pt x="593" y="955"/>
                </a:cubicBezTo>
                <a:cubicBezTo>
                  <a:pt x="590" y="966"/>
                  <a:pt x="579" y="973"/>
                  <a:pt x="575" y="983"/>
                </a:cubicBezTo>
                <a:cubicBezTo>
                  <a:pt x="570" y="994"/>
                  <a:pt x="569" y="1007"/>
                  <a:pt x="566" y="1019"/>
                </a:cubicBezTo>
                <a:cubicBezTo>
                  <a:pt x="557" y="1133"/>
                  <a:pt x="531" y="1213"/>
                  <a:pt x="502" y="1319"/>
                </a:cubicBezTo>
                <a:cubicBezTo>
                  <a:pt x="496" y="1365"/>
                  <a:pt x="491" y="1411"/>
                  <a:pt x="475" y="1455"/>
                </a:cubicBezTo>
                <a:cubicBezTo>
                  <a:pt x="454" y="1511"/>
                  <a:pt x="412" y="1553"/>
                  <a:pt x="393" y="1610"/>
                </a:cubicBezTo>
                <a:cubicBezTo>
                  <a:pt x="384" y="1663"/>
                  <a:pt x="369" y="1710"/>
                  <a:pt x="339" y="1755"/>
                </a:cubicBezTo>
                <a:cubicBezTo>
                  <a:pt x="327" y="1792"/>
                  <a:pt x="315" y="1829"/>
                  <a:pt x="302" y="1865"/>
                </a:cubicBezTo>
                <a:cubicBezTo>
                  <a:pt x="298" y="1875"/>
                  <a:pt x="288" y="1882"/>
                  <a:pt x="284" y="1892"/>
                </a:cubicBezTo>
                <a:cubicBezTo>
                  <a:pt x="266" y="1933"/>
                  <a:pt x="263" y="1965"/>
                  <a:pt x="239" y="2001"/>
                </a:cubicBezTo>
                <a:cubicBezTo>
                  <a:pt x="224" y="2062"/>
                  <a:pt x="190" y="2109"/>
                  <a:pt x="166" y="2165"/>
                </a:cubicBezTo>
                <a:cubicBezTo>
                  <a:pt x="125" y="2259"/>
                  <a:pt x="170" y="2186"/>
                  <a:pt x="130" y="2246"/>
                </a:cubicBezTo>
                <a:cubicBezTo>
                  <a:pt x="110" y="2328"/>
                  <a:pt x="120" y="2295"/>
                  <a:pt x="103" y="2346"/>
                </a:cubicBezTo>
                <a:cubicBezTo>
                  <a:pt x="94" y="2407"/>
                  <a:pt x="76" y="2435"/>
                  <a:pt x="57" y="2492"/>
                </a:cubicBezTo>
                <a:cubicBezTo>
                  <a:pt x="43" y="2536"/>
                  <a:pt x="37" y="2583"/>
                  <a:pt x="30" y="2628"/>
                </a:cubicBezTo>
                <a:cubicBezTo>
                  <a:pt x="24" y="2777"/>
                  <a:pt x="13" y="2917"/>
                  <a:pt x="3" y="3065"/>
                </a:cubicBezTo>
                <a:cubicBezTo>
                  <a:pt x="6" y="3135"/>
                  <a:pt x="0" y="3205"/>
                  <a:pt x="12" y="3274"/>
                </a:cubicBezTo>
                <a:cubicBezTo>
                  <a:pt x="19" y="3313"/>
                  <a:pt x="85" y="3374"/>
                  <a:pt x="112" y="3401"/>
                </a:cubicBezTo>
                <a:cubicBezTo>
                  <a:pt x="120" y="3409"/>
                  <a:pt x="122" y="3421"/>
                  <a:pt x="130" y="3428"/>
                </a:cubicBezTo>
                <a:cubicBezTo>
                  <a:pt x="198" y="3489"/>
                  <a:pt x="306" y="3520"/>
                  <a:pt x="393" y="3537"/>
                </a:cubicBezTo>
                <a:cubicBezTo>
                  <a:pt x="751" y="3532"/>
                  <a:pt x="1038" y="3525"/>
                  <a:pt x="1375" y="3501"/>
                </a:cubicBezTo>
                <a:cubicBezTo>
                  <a:pt x="1437" y="3480"/>
                  <a:pt x="1362" y="3503"/>
                  <a:pt x="1475" y="3483"/>
                </a:cubicBezTo>
                <a:cubicBezTo>
                  <a:pt x="1552" y="3469"/>
                  <a:pt x="1626" y="3438"/>
                  <a:pt x="1702" y="3419"/>
                </a:cubicBezTo>
                <a:cubicBezTo>
                  <a:pt x="1748" y="3375"/>
                  <a:pt x="1690" y="3425"/>
                  <a:pt x="1748" y="3392"/>
                </a:cubicBezTo>
                <a:cubicBezTo>
                  <a:pt x="1777" y="3375"/>
                  <a:pt x="1797" y="3350"/>
                  <a:pt x="1821" y="3328"/>
                </a:cubicBezTo>
                <a:cubicBezTo>
                  <a:pt x="1837" y="3281"/>
                  <a:pt x="1864" y="3237"/>
                  <a:pt x="1884" y="3192"/>
                </a:cubicBezTo>
                <a:cubicBezTo>
                  <a:pt x="1901" y="3154"/>
                  <a:pt x="1901" y="3137"/>
                  <a:pt x="1911" y="3101"/>
                </a:cubicBezTo>
                <a:cubicBezTo>
                  <a:pt x="1914" y="3092"/>
                  <a:pt x="1917" y="3083"/>
                  <a:pt x="1920" y="3074"/>
                </a:cubicBezTo>
                <a:cubicBezTo>
                  <a:pt x="1927" y="3050"/>
                  <a:pt x="1933" y="3025"/>
                  <a:pt x="1939" y="3001"/>
                </a:cubicBezTo>
                <a:cubicBezTo>
                  <a:pt x="1942" y="2989"/>
                  <a:pt x="1948" y="2965"/>
                  <a:pt x="1948" y="2965"/>
                </a:cubicBezTo>
                <a:cubicBezTo>
                  <a:pt x="1970" y="2790"/>
                  <a:pt x="1996" y="2613"/>
                  <a:pt x="2011" y="2437"/>
                </a:cubicBezTo>
                <a:cubicBezTo>
                  <a:pt x="2020" y="2334"/>
                  <a:pt x="2030" y="2231"/>
                  <a:pt x="2039" y="2128"/>
                </a:cubicBezTo>
                <a:cubicBezTo>
                  <a:pt x="2039" y="2125"/>
                  <a:pt x="2045" y="2026"/>
                  <a:pt x="2057" y="2001"/>
                </a:cubicBezTo>
                <a:cubicBezTo>
                  <a:pt x="2077" y="1961"/>
                  <a:pt x="2113" y="1902"/>
                  <a:pt x="2139" y="1865"/>
                </a:cubicBezTo>
                <a:cubicBezTo>
                  <a:pt x="2160" y="1800"/>
                  <a:pt x="2146" y="1826"/>
                  <a:pt x="2175" y="1783"/>
                </a:cubicBezTo>
                <a:cubicBezTo>
                  <a:pt x="2203" y="1696"/>
                  <a:pt x="2273" y="1642"/>
                  <a:pt x="2330" y="1574"/>
                </a:cubicBezTo>
                <a:cubicBezTo>
                  <a:pt x="2374" y="1521"/>
                  <a:pt x="2395" y="1448"/>
                  <a:pt x="2411" y="1383"/>
                </a:cubicBezTo>
                <a:cubicBezTo>
                  <a:pt x="2408" y="1331"/>
                  <a:pt x="2410" y="1279"/>
                  <a:pt x="2402" y="1228"/>
                </a:cubicBezTo>
                <a:cubicBezTo>
                  <a:pt x="2398" y="1198"/>
                  <a:pt x="2353" y="1156"/>
                  <a:pt x="2339" y="1128"/>
                </a:cubicBezTo>
                <a:cubicBezTo>
                  <a:pt x="2314" y="1077"/>
                  <a:pt x="2286" y="1034"/>
                  <a:pt x="2248" y="992"/>
                </a:cubicBezTo>
                <a:cubicBezTo>
                  <a:pt x="2231" y="973"/>
                  <a:pt x="2219" y="941"/>
                  <a:pt x="2193" y="937"/>
                </a:cubicBezTo>
                <a:cubicBezTo>
                  <a:pt x="2175" y="934"/>
                  <a:pt x="2157" y="931"/>
                  <a:pt x="2139" y="928"/>
                </a:cubicBezTo>
                <a:cubicBezTo>
                  <a:pt x="2029" y="857"/>
                  <a:pt x="1884" y="864"/>
                  <a:pt x="1757" y="855"/>
                </a:cubicBezTo>
                <a:cubicBezTo>
                  <a:pt x="1687" y="844"/>
                  <a:pt x="1618" y="835"/>
                  <a:pt x="1548" y="828"/>
                </a:cubicBezTo>
                <a:cubicBezTo>
                  <a:pt x="1499" y="812"/>
                  <a:pt x="1451" y="799"/>
                  <a:pt x="1402" y="783"/>
                </a:cubicBezTo>
                <a:cubicBezTo>
                  <a:pt x="1363" y="743"/>
                  <a:pt x="1346" y="723"/>
                  <a:pt x="1321" y="674"/>
                </a:cubicBezTo>
                <a:cubicBezTo>
                  <a:pt x="1324" y="507"/>
                  <a:pt x="1330" y="341"/>
                  <a:pt x="1330" y="174"/>
                </a:cubicBezTo>
                <a:cubicBezTo>
                  <a:pt x="1330" y="147"/>
                  <a:pt x="1332" y="117"/>
                  <a:pt x="1321" y="92"/>
                </a:cubicBezTo>
                <a:cubicBezTo>
                  <a:pt x="1306" y="58"/>
                  <a:pt x="1253" y="33"/>
                  <a:pt x="1221" y="19"/>
                </a:cubicBezTo>
                <a:cubicBezTo>
                  <a:pt x="1178" y="0"/>
                  <a:pt x="1144" y="1"/>
                  <a:pt x="1175" y="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1240" y="719280"/>
            <a:ext cx="1658880" cy="2957400"/>
          </a:xfrm>
          <a:custGeom>
            <a:avLst/>
            <a:gdLst/>
            <a:ahLst/>
            <a:rect l="l" t="t" r="r" b="b"/>
            <a:pathLst>
              <a:path w="964" h="1863">
                <a:moveTo>
                  <a:pt x="417" y="65"/>
                </a:moveTo>
                <a:cubicBezTo>
                  <a:pt x="312" y="99"/>
                  <a:pt x="246" y="205"/>
                  <a:pt x="190" y="293"/>
                </a:cubicBezTo>
                <a:cubicBezTo>
                  <a:pt x="164" y="333"/>
                  <a:pt x="156" y="394"/>
                  <a:pt x="126" y="438"/>
                </a:cubicBezTo>
                <a:cubicBezTo>
                  <a:pt x="116" y="477"/>
                  <a:pt x="111" y="517"/>
                  <a:pt x="99" y="556"/>
                </a:cubicBezTo>
                <a:cubicBezTo>
                  <a:pt x="81" y="616"/>
                  <a:pt x="54" y="676"/>
                  <a:pt x="44" y="738"/>
                </a:cubicBezTo>
                <a:cubicBezTo>
                  <a:pt x="37" y="780"/>
                  <a:pt x="26" y="865"/>
                  <a:pt x="26" y="865"/>
                </a:cubicBezTo>
                <a:cubicBezTo>
                  <a:pt x="20" y="1059"/>
                  <a:pt x="0" y="1272"/>
                  <a:pt x="35" y="1465"/>
                </a:cubicBezTo>
                <a:cubicBezTo>
                  <a:pt x="48" y="1537"/>
                  <a:pt x="56" y="1613"/>
                  <a:pt x="99" y="1674"/>
                </a:cubicBezTo>
                <a:cubicBezTo>
                  <a:pt x="117" y="1731"/>
                  <a:pt x="169" y="1783"/>
                  <a:pt x="226" y="1802"/>
                </a:cubicBezTo>
                <a:cubicBezTo>
                  <a:pt x="287" y="1863"/>
                  <a:pt x="358" y="1834"/>
                  <a:pt x="444" y="1829"/>
                </a:cubicBezTo>
                <a:cubicBezTo>
                  <a:pt x="546" y="1795"/>
                  <a:pt x="542" y="1749"/>
                  <a:pt x="599" y="1674"/>
                </a:cubicBezTo>
                <a:cubicBezTo>
                  <a:pt x="611" y="1639"/>
                  <a:pt x="628" y="1600"/>
                  <a:pt x="653" y="1574"/>
                </a:cubicBezTo>
                <a:cubicBezTo>
                  <a:pt x="672" y="1516"/>
                  <a:pt x="698" y="1461"/>
                  <a:pt x="717" y="1402"/>
                </a:cubicBezTo>
                <a:cubicBezTo>
                  <a:pt x="746" y="1313"/>
                  <a:pt x="767" y="1220"/>
                  <a:pt x="789" y="1129"/>
                </a:cubicBezTo>
                <a:cubicBezTo>
                  <a:pt x="815" y="1018"/>
                  <a:pt x="826" y="902"/>
                  <a:pt x="862" y="793"/>
                </a:cubicBezTo>
                <a:cubicBezTo>
                  <a:pt x="870" y="737"/>
                  <a:pt x="884" y="691"/>
                  <a:pt x="899" y="638"/>
                </a:cubicBezTo>
                <a:cubicBezTo>
                  <a:pt x="906" y="614"/>
                  <a:pt x="911" y="589"/>
                  <a:pt x="917" y="565"/>
                </a:cubicBezTo>
                <a:cubicBezTo>
                  <a:pt x="920" y="553"/>
                  <a:pt x="926" y="529"/>
                  <a:pt x="926" y="529"/>
                </a:cubicBezTo>
                <a:cubicBezTo>
                  <a:pt x="934" y="437"/>
                  <a:pt x="949" y="347"/>
                  <a:pt x="962" y="256"/>
                </a:cubicBezTo>
                <a:cubicBezTo>
                  <a:pt x="959" y="198"/>
                  <a:pt x="964" y="140"/>
                  <a:pt x="953" y="83"/>
                </a:cubicBezTo>
                <a:cubicBezTo>
                  <a:pt x="949" y="61"/>
                  <a:pt x="875" y="51"/>
                  <a:pt x="862" y="47"/>
                </a:cubicBezTo>
                <a:cubicBezTo>
                  <a:pt x="791" y="27"/>
                  <a:pt x="717" y="12"/>
                  <a:pt x="644" y="2"/>
                </a:cubicBezTo>
                <a:cubicBezTo>
                  <a:pt x="592" y="5"/>
                  <a:pt x="540" y="0"/>
                  <a:pt x="489" y="11"/>
                </a:cubicBezTo>
                <a:cubicBezTo>
                  <a:pt x="468" y="16"/>
                  <a:pt x="453" y="35"/>
                  <a:pt x="435" y="47"/>
                </a:cubicBezTo>
                <a:cubicBezTo>
                  <a:pt x="406" y="67"/>
                  <a:pt x="397" y="65"/>
                  <a:pt x="417" y="65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2360" y="15350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S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22160" y="16002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SA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414240" y="152388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SA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515600" y="25146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S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944920" y="30492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S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944920" y="60948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S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944920" y="9144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SA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944920" y="121932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SA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77000" y="243828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77000" y="2819520"/>
            <a:ext cx="33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67720" y="266688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01480" y="3124080"/>
            <a:ext cx="11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tn-Organis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26040" y="6400800"/>
            <a:ext cx="73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Figure III-6-8.  Example of ATN Directory contents in support of AMHS address conversio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286000" y="3049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400800" y="3049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29200" y="3049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57600" y="3049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657600" y="12952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00800" y="7621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7621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0" y="12952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29200" y="17524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57600" y="2209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84560" y="3200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399360" y="3200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7760" y="3200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56160" y="3200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56160" y="41911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MS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9936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MS 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776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MS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4560" y="41911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MS 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27760" y="46483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MS 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656160" y="510552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PMS 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971800" y="533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43400" y="533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15000" y="533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356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34196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97036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90920" y="762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6072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8912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62520" y="762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34120" y="1219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3232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6252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07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89120" y="4648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89120" y="57913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6703920" y="41144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6072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232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7672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992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4832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7492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4652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01812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362320" y="990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733920" y="990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733920" y="1981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05520" y="1523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73212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0372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3212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36052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50640" y="22860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93840" y="22860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345920" y="22860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669400" y="762120"/>
            <a:ext cx="60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12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41000" y="762120"/>
            <a:ext cx="60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12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41000" y="1752480"/>
            <a:ext cx="60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13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412600" y="1219320"/>
            <a:ext cx="60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13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48840" y="31240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344480" y="31240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792040" y="312408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96760" y="556272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744280" y="3657600"/>
            <a:ext cx="60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3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5880" y="3657600"/>
            <a:ext cx="60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3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91840" y="4648320"/>
            <a:ext cx="60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4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411160" y="4114800"/>
            <a:ext cx="60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4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MH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69280" y="2666880"/>
            <a:ext cx="32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MH1n profiles specified in ISO/IEC 106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21560" y="5791320"/>
            <a:ext cx="32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MH2n profiles specified in ISO/IEC 120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6324480"/>
            <a:ext cx="557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Figure III-6-9.  Applicability of AMH 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07:18:23Z</dcterms:created>
  <dc:creator>Spaerke-Ingrid</dc:creator>
  <dc:description/>
  <dc:language>en-US</dc:language>
  <cp:lastModifiedBy>VACHER Jean-Marc</cp:lastModifiedBy>
  <cp:lastPrinted>2002-07-18T16:00:57Z</cp:lastPrinted>
  <dcterms:modified xsi:type="dcterms:W3CDTF">2002-09-05T15:00:07Z</dcterms:modified>
  <cp:revision>182</cp:revision>
  <dc:subject/>
  <dc:title>Kein Folientitel</dc:title>
</cp:coreProperties>
</file>