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AD61-102E-4E05-A050-9CB596971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5497-F399-4900-B2E9-09A31466E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3616-B3F9-4F5C-85B3-712B9DB44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7F8E-9CAD-4B6F-9447-D51FD12F0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9451-756A-4508-8159-1E71724C5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586C-DDBB-4270-8A78-6AA13D3BF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18E5-A600-421E-8DE6-EAFA0E0CD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7DC8-750A-494C-9843-F42291EBD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0268-2C19-4FFF-8A38-FB3141ED1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8A56-FDE0-4A85-9BEC-6082AA0B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F14F-B02D-4970-827C-A311ED28E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086D-60BF-4567-BE07-6AAC0363F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949A7-FF09-4314-A7F6-17B5F0AF65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Add Encryption to AT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hn Kelsey, Certicom, Dec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tting it into the System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 Der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use infrastructure for deriving MAC keys: K[e] for aircraft app W, ground app 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DF(Z;len;0x02||mech||W||Y||X||l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 = static shared secret between aircraft and ground application entity 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ch = encryption mechanism negoti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,Y = ID st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 = nonrepeating value for this CMA s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n = key length for this encryption mechan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tting it into the System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 Derivation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, X, W, and Y are all available from MAC key deri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n and mech are available from encryption mechanism negot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tting it into the System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cryption as an Abstract F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ic way to consider encry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ncrypt(mech,key,count,sender,dat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ch from mechanism nego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 from key deri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nt, sender from current MAC compu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t of system doesn't care what mechanism is used or how it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tting it into the System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der of Oper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fic order of operations for this syst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, do any non-crypto processing to data, e.g., compres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, do encryp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, do MACing or sign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s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i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sy resistance to reaction and chosen ciphertext att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prove MAC/signature equally secure vs existential forg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tting it into the System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der of Operations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ction Attack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 altered ciphertext and observe re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com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osen Ciphertext Atta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razwyck's result from Crypto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ature forgery by changing keys/con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erson/Needham result fro Crypto 199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nonrepudiation needed here--signatures are for immediate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tting it into the System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der of Operation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message can be encrypted/decrypted in only one way, given counter and existing key and mechanis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can forge signature/MAC because of encryption, you can find some signature/MAC forgeries using same att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documen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ydraft1.tx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more detai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tting it into the System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ound-to-Ground Mess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 G-G messages assume no con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er must know whether receiver can accept encrypted messag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ded attributes in certifica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ine database of ground entity preferenc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tting it into the System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ound-to-Ground Messages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er makes head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er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r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rives key (next sli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rypts message under key (default mech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s ciphertext and se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tting it into the System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ound-to-Ground Message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DF(Z;len;0x02||mech||SID||RID||Rnd||l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 = static shared secret from ECDH for sender and recei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ch = default encryption mechan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D, RID =sender ID, receiver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nd = 128-bit random number from previous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n = length of key for this mechan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So F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know how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est encry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gotiate mechan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rive k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e encryption, authentication, and other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rypt ground-to-ground messag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 of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 and Requireme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tting Encryption into th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fics of Encryption Mechanis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cryption Mechanis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data expan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understood security 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of standard mechanisms wherever 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cryption Mechanism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oosing Cip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 lengths should be at least 100 b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ES, 3DES, IDEA, Blowfish, RC4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phers should be well-analyzed standa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ES, 3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data expan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ock ciphers in CFB or OFB m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nt modes (CBC with ciphertext steal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am cip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cryption Mechanism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ock Ciphers and Chaining Mo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ck ciphers are used in chaining mo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standard modes (CFB,OFB) have no data expanison; these are the right ones for this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standard modes available, but why use the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cryption Mechanism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ipher Feedback (CF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encryption is used; faster for Rijndael/A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 size feedback is possible; we use full block feedba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ata expa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chaining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4495680"/>
            <a:ext cx="1600200" cy="1600200"/>
          </a:xfrm>
          <a:custGeom>
            <a:avLst/>
            <a:gdLst/>
            <a:ahLst/>
            <a:rect l="l" t="t" r="r" b="b"/>
            <a:pathLst>
              <a:path w="960" h="912">
                <a:moveTo>
                  <a:pt x="0" y="912"/>
                </a:moveTo>
                <a:lnTo>
                  <a:pt x="290" y="912"/>
                </a:lnTo>
                <a:lnTo>
                  <a:pt x="290" y="0"/>
                </a:lnTo>
                <a:lnTo>
                  <a:pt x="96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14600" y="4433760"/>
            <a:ext cx="533520" cy="198720"/>
          </a:xfrm>
          <a:prstGeom prst="rect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43200" y="5805360"/>
            <a:ext cx="533160" cy="198720"/>
          </a:xfrm>
          <a:prstGeom prst="rect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666880" y="5791320"/>
            <a:ext cx="228600" cy="21744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76360" y="59119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81360" y="557676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476440" y="4952880"/>
            <a:ext cx="609840" cy="594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781360" y="6033960"/>
            <a:ext cx="0" cy="24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81360" y="4648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14600" y="6362640"/>
            <a:ext cx="533520" cy="198360"/>
          </a:xfrm>
          <a:prstGeom prst="rect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305240" y="5791320"/>
            <a:ext cx="228600" cy="21744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419720" y="557676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14800" y="4952880"/>
            <a:ext cx="609480" cy="594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19720" y="6033960"/>
            <a:ext cx="0" cy="24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4495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52960" y="6362640"/>
            <a:ext cx="533520" cy="198360"/>
          </a:xfrm>
          <a:prstGeom prst="rect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05320" y="5791320"/>
            <a:ext cx="533160" cy="198360"/>
          </a:xfrm>
          <a:prstGeom prst="rect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038480" y="58975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4495680"/>
            <a:ext cx="1676160" cy="1600200"/>
          </a:xfrm>
          <a:custGeom>
            <a:avLst/>
            <a:gdLst/>
            <a:ahLst/>
            <a:rect l="l" t="t" r="r" b="b"/>
            <a:pathLst>
              <a:path w="960" h="912">
                <a:moveTo>
                  <a:pt x="0" y="912"/>
                </a:moveTo>
                <a:lnTo>
                  <a:pt x="290" y="912"/>
                </a:lnTo>
                <a:lnTo>
                  <a:pt x="290" y="0"/>
                </a:lnTo>
                <a:lnTo>
                  <a:pt x="96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981760" y="5791320"/>
            <a:ext cx="228600" cy="21744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5880" y="557676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791320" y="4952880"/>
            <a:ext cx="609480" cy="594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6033960"/>
            <a:ext cx="0" cy="24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5880" y="4495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829480" y="6362640"/>
            <a:ext cx="533160" cy="198360"/>
          </a:xfrm>
          <a:prstGeom prst="rect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81480" y="5791320"/>
            <a:ext cx="533520" cy="198360"/>
          </a:xfrm>
          <a:prstGeom prst="rect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15000" y="58975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cryption Mechanism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FB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there are two equal ciphertext blocks with full-block CFB-mode, C[j]=C[k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[j+1] = P[j+1] xor E(C[j]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[k+1] = P[k+1] xor E(C[k]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: Change keys before internal collisions like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locks enced with same key, prob of collision is low (about 1/32000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cryption Mechanism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put Feedback (OF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ing a stream cipher with a block cip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encryption is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edback is independent of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 Propagation -&gt;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NON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4038480"/>
            <a:ext cx="1600200" cy="1143000"/>
          </a:xfrm>
          <a:custGeom>
            <a:avLst/>
            <a:gdLst/>
            <a:ahLst/>
            <a:rect l="l" t="t" r="r" b="b"/>
            <a:pathLst>
              <a:path w="960" h="912">
                <a:moveTo>
                  <a:pt x="0" y="912"/>
                </a:moveTo>
                <a:lnTo>
                  <a:pt x="290" y="912"/>
                </a:lnTo>
                <a:lnTo>
                  <a:pt x="290" y="0"/>
                </a:lnTo>
                <a:lnTo>
                  <a:pt x="96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90920" y="3976560"/>
            <a:ext cx="533160" cy="198720"/>
          </a:xfrm>
          <a:prstGeom prst="rect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19160" y="5348160"/>
            <a:ext cx="533520" cy="198720"/>
          </a:xfrm>
          <a:prstGeom prst="rect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743200" y="5334120"/>
            <a:ext cx="228600" cy="21744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52680" y="5454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57680" y="511956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52760" y="4495680"/>
            <a:ext cx="609480" cy="594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57680" y="5576760"/>
            <a:ext cx="0" cy="24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57680" y="4191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90920" y="5905440"/>
            <a:ext cx="533160" cy="198360"/>
          </a:xfrm>
          <a:prstGeom prst="rect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381560" y="5334120"/>
            <a:ext cx="228600" cy="21744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95680" y="511956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91120" y="4495680"/>
            <a:ext cx="609480" cy="594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495680" y="5576760"/>
            <a:ext cx="0" cy="24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495680" y="4038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229280" y="5905440"/>
            <a:ext cx="533160" cy="198360"/>
          </a:xfrm>
          <a:prstGeom prst="rect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81280" y="5334120"/>
            <a:ext cx="533520" cy="198360"/>
          </a:xfrm>
          <a:prstGeom prst="rect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114800" y="54403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95680" y="4038480"/>
            <a:ext cx="1676520" cy="1143000"/>
          </a:xfrm>
          <a:custGeom>
            <a:avLst/>
            <a:gdLst/>
            <a:ahLst/>
            <a:rect l="l" t="t" r="r" b="b"/>
            <a:pathLst>
              <a:path w="960" h="912">
                <a:moveTo>
                  <a:pt x="0" y="912"/>
                </a:moveTo>
                <a:lnTo>
                  <a:pt x="290" y="912"/>
                </a:lnTo>
                <a:lnTo>
                  <a:pt x="290" y="0"/>
                </a:lnTo>
                <a:lnTo>
                  <a:pt x="96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58080" y="5334120"/>
            <a:ext cx="228600" cy="21744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172200" y="511956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4495680"/>
            <a:ext cx="609840" cy="594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172200" y="5576760"/>
            <a:ext cx="0" cy="24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4038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05440" y="5905440"/>
            <a:ext cx="533520" cy="198360"/>
          </a:xfrm>
          <a:prstGeom prst="rect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257800" y="5334120"/>
            <a:ext cx="533520" cy="198360"/>
          </a:xfrm>
          <a:prstGeom prst="rect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91320" y="54403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cryption Mechanism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B Mode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V1 == IV2 leads to identical keystream for two messages (easy to avoi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V1 = KS2 (collision with keystream block) leads to identical keystream (hard to avoi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ssages sent, prob of such a collision is very low (&lt;1/1000000000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collision is much more dangerous--leaks about half of message, not just one blo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cryption Mechanism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oosing Block Cip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ES and 3DES are well underst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ts of public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ts of experience analyzing block cip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ts of experience using block cip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block ciphers can be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at least 48 bit bl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at least 100 bit 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cryption Mechanism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bstract Encryption F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rypt(mech;key;count;senderID;dat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chanisms must support thi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ure encry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 count or sender changes message even if data is equal for two such messa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expansion of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cryption Mechanism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Chaining Modes and IV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ining modes (CFB,OFB) need IV s to be sec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V = S||C||00.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= 0x00 for aircraft-sent message, 0x01 for ground-sent mes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= 16-bit counter (e.g., Coun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U,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0..0 = binary zero pad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 and 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al: Add encryption support to ATN with minimal imp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ttle extra bandwidth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exible (w.r.t. national policies on crypt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w changes to overall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cryption Mechanism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Chaining Modes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are these acceptable IV 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ment: IV s must never repeat for same 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nter and sender byte guarantee th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other requirements for IV 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cryption Mechanism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mmended Mechanis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ES-128-CF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-key triple-DES-CF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mmend AES-128 as defaul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cryption Mechanism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vea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triple-DES, if count of messages goes very high (e.g.,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start expecting small leaks of plaintex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modes must be used with MACs or signatures; they provide no guarantee of authentic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cryption Mechanism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know how to make encryption mechanisms with all our required propert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data expan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s-ba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have recommended two specific mechanisms, AES-128-CFB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DES-112-CF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tting it into the System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fit encryption into system, we need to know how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est encry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gotiate encryption mechanis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rive k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rypt mess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encryption with MACs/signa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encryption on ground-to-ground mess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tting it into the System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questing Encry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Required variab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tional values for requesting encry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mechanism as requesting authentication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M logon requ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M contact requ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M forward requ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s? (CM server facility quer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tting it into the System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gotiating Enc. Mechanis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many encryption mechanisms; need way to negotiate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: Make ground CM responsible for deciding which mechanisms are us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use bandwidth to negotiate with ground ent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pply national policies w.r.t. cryptograp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tting it into the System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gotiating Enc. Mechanisms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possible ways for CM ground entity to deci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M logon request contains list of up to 8 supported encryption mechanisms from aircra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M can negotiate with ground entities for encryption mechanis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M can look up preferences in tab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M can check extended attributes of certificates (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tting it into the System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gotiating Enc. Mechanism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 works the same way regardless of how CM makes deci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one default encryption mechanism, always suppor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need one default for "null encryption" to signal no encryption suppo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encryption mechanisms have no data expansion and acceptable level of secur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tting it into the System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gotiating Enc. Mechanisms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M-logon-response (and similar messages) contains indication of encryption mechanism for each application reques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s one byte per application in bandwid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cost in bandwidth for encryption support is kept very low: 8 bytes + 1 byte per application reques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ll encryption indicator byte signals no encryption support for that applic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0T16:54:20Z</dcterms:created>
  <dc:creator>jkelsey</dc:creator>
  <dc:description/>
  <dc:language>en-US</dc:language>
  <cp:lastModifiedBy>jkelsey</cp:lastModifiedBy>
  <dcterms:modified xsi:type="dcterms:W3CDTF">2001-12-20T18:15:04Z</dcterms:modified>
  <cp:revision>10</cp:revision>
  <dc:subject/>
  <dc:title>How to Add Encryption to ATN</dc:title>
</cp:coreProperties>
</file>